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_rels/notesSlide52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E43FA-9182-4B49-91A8-80C672182F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lides are just a graphical representation of the contents in the firewall-seen.html FA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time will be spent on figuring out the meanings of these 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s out the full information of the machine, from computer name to platform to key to monitor resolution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ine if the user is working on encrypted files on the file server. Logging the keystrokes still gets the user all the information, though it may not be formatted we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cker can forward attacks through the system into the corporation, including reconnaissance like port scanning or direct attacks.The redirector allows a compromised desktop to attack othe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 can find and read any file, including those on mapped (shared) dri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lup logins including VPN passwo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s a number of ways to install into the system and can “morph” in order to avoid scanners (it can be recompiled to avoid detection by anti-virus apps) and allows for random port start.  Also send email notification every time compromised desktop starts 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ck recap of the OSI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A561-A701-4754-9C97-1ABB6077B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1E76-0F1C-4648-AFBD-7108DDE99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507C-11D0-457E-A74F-5E7614217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BDEF-35DD-4820-BBAC-B7289BC9A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DEAF-9B2D-4717-8026-226BC0C88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AC91-8C4C-49FF-9ED8-C3C26A273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427F-CAE3-48B8-95F4-4CDE602C1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599C-AEB4-4889-B8F2-1237EE058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5DFD-E9A8-481A-9630-DF83EB509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2DC0-6FD2-4543-BAE8-AF78C573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ADAD-6ADD-4360-BBD5-BC473B6C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F0C0-B50B-4BEA-9EEF-A6CD6E6B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663F5-3355-43AB-AF04-BDC55954DD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robertgraham.com/pubs/firewall-seen.html" TargetMode="External"/><Relationship Id="rId2" Type="http://schemas.openxmlformats.org/officeDocument/2006/relationships/hyperlink" Target="http://www.robertgraham.com/slides/first2k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isi.edu/in-notes/iana/assignments/port-numbers" TargetMode="External"/><Relationship Id="rId2" Type="http://schemas.openxmlformats.org/officeDocument/2006/relationships/hyperlink" Target="http://www.isi.edu/in-notes/iana/assignments/port-numbers" TargetMode="External"/><Relationship Id="rId3" Type="http://schemas.openxmlformats.org/officeDocument/2006/relationships/hyperlink" Target="http://www.isi.edu/in-notes/iana/assignments/port-numbers" TargetMode="External"/><Relationship Id="rId4" Type="http://schemas.openxmlformats.org/officeDocument/2006/relationships/hyperlink" Target="http://www.isi.edu/in-notes/iana/assignments/port-numbers" TargetMode="External"/><Relationship Id="rId5" Type="http://schemas.openxmlformats.org/officeDocument/2006/relationships/hyperlink" Target="http://www.isi.edu/in-notes/iana/assignments/port-numbers" TargetMode="External"/><Relationship Id="rId6" Type="http://schemas.openxmlformats.org/officeDocument/2006/relationships/hyperlink" Target="http://www.isi.edu/in-notes/iana/assignments/port-numbers" TargetMode="External"/><Relationship Id="rId7" Type="http://schemas.openxmlformats.org/officeDocument/2006/relationships/hyperlink" Target="http://www.isi.edu/in-notes/iana/assignments/port-numbers" TargetMode="External"/><Relationship Id="rId8" Type="http://schemas.openxmlformats.org/officeDocument/2006/relationships/hyperlink" Target="http://advice.networkice.com/advice/Exploits/Ports/" TargetMode="External"/><Relationship Id="rId9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ewall Foren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phering firewall logs in order to figure out what is going 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74B6-1F4C-4F80-AD8D-8EC9C74E22A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SI 7-Layer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200400" y="1600200"/>
            <a:ext cx="1600200" cy="3657600"/>
            <a:chOff x="3200400" y="1600200"/>
            <a:chExt cx="1600200" cy="3657600"/>
          </a:xfrm>
        </p:grpSpPr>
        <p:sp>
          <p:nvSpPr>
            <p:cNvPr id="115" name=""/>
            <p:cNvSpPr/>
            <p:nvPr/>
          </p:nvSpPr>
          <p:spPr>
            <a:xfrm>
              <a:off x="3200400" y="1600200"/>
              <a:ext cx="1600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200400" y="160020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Arial"/>
                </a:rPr>
                <a:t>Appl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200400" y="2133720"/>
              <a:ext cx="1600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200400" y="2666880"/>
              <a:ext cx="1600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200400" y="3200400"/>
              <a:ext cx="1600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200400" y="3733920"/>
              <a:ext cx="1600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00400" y="4267080"/>
              <a:ext cx="1600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200400" y="4800600"/>
              <a:ext cx="1600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200400" y="320040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200400" y="373392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200400" y="480060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Arial"/>
                </a:rPr>
                <a:t>Phys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00400" y="42670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ata Li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00400" y="2133720"/>
              <a:ext cx="16002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808080"/>
                  </a:solidFill>
                  <a:latin typeface="Arial"/>
                </a:rPr>
                <a:t>Presentatio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200400" y="26668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Arial"/>
                </a:rPr>
                <a:t>Ses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457200" y="5867280"/>
            <a:ext cx="8153280" cy="459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Jul 23 18:10:09 gandalf kernel: Packet log: input DENY eth1 PROTO=17 10.10.0.9:137 209.31.36.212:137 L=78 S=0x00 I=1109 F=0x0000 T=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1981080"/>
            <a:ext cx="2541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c = 10.10.0.9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st =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09.31.36.212</a:t>
            </a:r>
            <a:br>
              <a:rPr sz="22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 = 17 (TCP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Length = 78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 = 1109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g/flags = 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TL = 1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57440" y="4800600"/>
            <a:ext cx="20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apter = eth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00600" y="44956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4800600" y="274284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2362320" y="411480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33760" y="2362320"/>
            <a:ext cx="262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c port = 137 (nbt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st port = 137 (nbt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0294-8EE1-4950-830A-B0160EEAB62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iffer packet cap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5867280"/>
            <a:ext cx="8153280" cy="459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Jul 23 18:10:09 gandalf kernel: Packet log: input DENY eth1 PROTO=17 10.10.0.9:137 209.31.36.212:137 L=78 S=0x00 I=1109 F=0x0000 T=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1752480"/>
            <a:ext cx="746784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0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0 D0 B7 58 92 A1 00 40 05 A4 79 32 08 0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45 0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..X...@..y2..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0  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00 4E 04 55 00 00 80 11 36 44 0A 0A 00 09 D1 1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.N.U....6D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0  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24 D4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0 89 00 89 00 3A EF B5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D0 72 00 00 00 01 $......:...r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30  00 00 00 00 00 00 20 43 4B 41 41 41 41 41 41 41 .......CKAAAAAA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40  41 41 41 41 41 41 41 41 41 41 41 41 41 41 41 41 AAAAAAAAAAAAAAA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50  41 41 41 41 41 41 41 00 00 21 00 01             AAAAAAA..!..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533520" y="3657240"/>
            <a:ext cx="30456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920" y="5257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6934320" y="3657240"/>
            <a:ext cx="30456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60160" y="525780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C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3200040" y="37339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3120" y="4267080"/>
            <a:ext cx="293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 dum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hex-digits == 1-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FBF6-A143-4C0D-8713-283B673BFFC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iffer #2: Just h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5867280"/>
            <a:ext cx="8153280" cy="459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Jul 23 18:10:09 gandalf kernel: Packet log: input DENY eth1 PROTO=17 10.10.0.9:137 209.31.36.212:137 L=78 S=0x00 I=1109 F=0x0000 T=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1752480"/>
            <a:ext cx="746784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0 D0 B7 58 92 A1 00 40 05 A4 79 32 08 0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45 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00 4E 04 55 00 00 80 11 36 44 0A 0A 00 09 D1 1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24 D4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0 89 00 89 00 3A EF B5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D0 72 00 00 00 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0 00 00 00 00 00 20 43 4B 41 41 41 41 41 41 4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41 41 41 41 41 41 41 41 41 41 41 41 41 41 41 4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41 41 41 41 41 41 41 00 00 21 00 01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D61A-70D0-4B17-B612-AD4D64AE1E8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iffer #3: OSI breakdow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5867280"/>
            <a:ext cx="8153280" cy="459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Jul 23 18:10:09 gandalf kernel: Packet log: input DENY eth1 PROTO=17 10.10.0.9:137 209.31.36.212:137 L=78 S=0x00 I=1109 F=0x0000 T=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1752480"/>
            <a:ext cx="746784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0 D0 B7 58 92 A1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therne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0 40 05 A4 79 32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8 0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45 0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00 4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 header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04 55 00 00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80 11 36 44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0A 0A 00 09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D1 1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24 D4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0 89 00 89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P heade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0 3A EF B5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0 72 00 00 00 01 00 00 00 00 00 00 20 43 4B 41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41 41 41 41 41 41 41 41 41 41 41 41 41 41 41 41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41 41 41 41 41 41 41 41 41 41 41 41 41 00 00 21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0 01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7C5A-C500-486E-9D73-D98019449CA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5334120" y="3733920"/>
            <a:ext cx="2057400" cy="2209680"/>
          </a:xfrm>
          <a:prstGeom prst="line">
            <a:avLst/>
          </a:prstGeom>
          <a:ln cap="rnd" w="7632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0" y="5791320"/>
            <a:ext cx="990720" cy="3808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505320"/>
            <a:ext cx="1676520" cy="457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2666880"/>
            <a:ext cx="4038840" cy="1067040"/>
          </a:xfrm>
          <a:prstGeom prst="line">
            <a:avLst/>
          </a:prstGeom>
          <a:ln cap="rnd" w="7632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iffer #4: IP breakdow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5867280"/>
            <a:ext cx="8153280" cy="459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Jul 23 18:10:09 gandalf kernel: Packet log: input DENY eth1 PROTO=17 10.10.0.9:137 209.31.36.212:137 L=78 S=0x00 I=1109 F=0x0000 T=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05120" y="1981080"/>
            <a:ext cx="670536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                   1                   2                   3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0 1 2 3 4 5 6 7 8 9 0 1 2 3 4 5 6 7 8 9 0 1 2 3 4 5 6 7 8 9 0 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+-+-+-+-+-+-+-+-+-+-+-+-+-+-+-+-+-+-+-+-+-+-+-+-+-+-+-+-+-+-+-+-+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|Version|  IHL  |Type of Service|          Total Length         |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+-+-+-+-+-+-+-+-+-+-+-+-+-+-+-+-+-+-+-+-+-+-+-+-+-+-+-+-+-+-+-+-+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|         Identification        |Flags|      Fragment Offset    |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+-+-+-+-+-+-+-+-+-+-+-+-+-+-+-+-+-+-+-+-+-+-+-+-+-+-+-+-+-+-+-+-+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|  Time to Live |    Protocol   |         Header Checksum       |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+-+-+-+-+-+-+-+-+-+-+-+-+-+-+-+-+-+-+-+-+-+-+-+-+-+-+-+-+-+-+-+-+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|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ource Addres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         |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+-+-+-+-+-+-+-+-+-+-+-+-+-+-+-+-+-+-+-+-+-+-+-+-+-+-+-+-+-+-+-+-+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|                    Destination Address                        |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+-+-+-+-+-+-+-+-+-+-+-+-+-+-+-+-+-+-+-+-+-+-+-+-+-+-+-+-+-+-+-+-+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2362320"/>
            <a:ext cx="1523880" cy="3808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1752480"/>
            <a:ext cx="15238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45 0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00 4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04 55 00 00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80 11 36 44 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0A 0A 00 09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D1 1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24 D4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6672-29A5-44FC-8FDF-0741FD7FD51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SI Network Layer: 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5867280"/>
            <a:ext cx="8153280" cy="459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Jul 23 18:10:09 gandalf kernel: Packet log: input DENY eth1 PROTO=17 10.10.0.9:137 209.31.36.212:137 L=78 S=0x00 I=1109 F=0x0000 T=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1752480"/>
            <a:ext cx="8153280" cy="38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0                   1                   2                   3  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0 1 2 3 4 5 6 7 8 9 0 1 2 3 4 5 6 7 8 9 0 1 2 3 4 5 6 7 8 9 0 1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+-+-+-+-+-+-+-+-+-+-+-+-+-+-+-+-+-+-+-+-+-+-+-+-+-+-+-+-+-+-+-+-+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|Version|  IHL  |Type of Service|          </a:t>
            </a:r>
            <a:r>
              <a:rPr b="1" i="1" lang="en-US" sz="1500" spc="-1" strike="noStrike">
                <a:solidFill>
                  <a:srgbClr val="000000"/>
                </a:solidFill>
                <a:latin typeface="Courier New"/>
              </a:rPr>
              <a:t>Total Length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|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+-+-+-+-+-+-+-+-+-+-+-+-+-+-+-+-+-+-+-+-+-+-+-+-+-+-+-+-+-+-+-+-+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|         </a:t>
            </a:r>
            <a:r>
              <a:rPr b="1" i="1" lang="en-US" sz="1500" spc="-1" strike="noStrike">
                <a:solidFill>
                  <a:srgbClr val="000000"/>
                </a:solidFill>
                <a:latin typeface="Courier New"/>
              </a:rPr>
              <a:t>Identification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|</a:t>
            </a:r>
            <a:r>
              <a:rPr b="1" i="1" lang="en-US" sz="1500" spc="-1" strike="noStrike">
                <a:solidFill>
                  <a:srgbClr val="000000"/>
                </a:solidFill>
                <a:latin typeface="Courier New"/>
              </a:rPr>
              <a:t>Flags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|      </a:t>
            </a:r>
            <a:r>
              <a:rPr b="1" i="1" lang="en-US" sz="1500" spc="-1" strike="noStrike">
                <a:solidFill>
                  <a:srgbClr val="000000"/>
                </a:solidFill>
                <a:latin typeface="Courier New"/>
              </a:rPr>
              <a:t>Fragment Offset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|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+-+-+-+-+-+-+-+-+-+-+-+-+-+-+-+-+-+-+-+-+-+-+-+-+-+-+-+-+-+-+-+-+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|  </a:t>
            </a:r>
            <a:r>
              <a:rPr b="1" i="1" lang="en-US" sz="1500" spc="-1" strike="noStrike">
                <a:solidFill>
                  <a:srgbClr val="000000"/>
                </a:solidFill>
                <a:latin typeface="Courier New"/>
              </a:rPr>
              <a:t>Time to Liv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|    </a:t>
            </a:r>
            <a:r>
              <a:rPr b="1" i="1" lang="en-US" sz="1500" spc="-1" strike="noStrike">
                <a:solidFill>
                  <a:srgbClr val="000000"/>
                </a:solidFill>
                <a:latin typeface="Courier New"/>
              </a:rPr>
              <a:t>Protocol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|         Header Checksum       |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+-+-+-+-+-+-+-+-+-+-+-+-+-+-+-+-+-+-+-+-+-+-+-+-+-+-+-+-+-+-+-+-+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|                       </a:t>
            </a:r>
            <a:r>
              <a:rPr b="1" i="1" lang="en-US" sz="1500" spc="-1" strike="noStrike">
                <a:solidFill>
                  <a:srgbClr val="000000"/>
                </a:solidFill>
                <a:latin typeface="Courier New"/>
              </a:rPr>
              <a:t>Source Address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          |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+-+-+-+-+-+-+-+-+-+-+-+-+-+-+-+-+-+-+-+-+-+-+-+-+-+-+-+-+-+-+-+-+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|                    </a:t>
            </a:r>
            <a:r>
              <a:rPr b="1" i="1" lang="en-US" sz="1500" spc="-1" strike="noStrike">
                <a:solidFill>
                  <a:srgbClr val="000000"/>
                </a:solidFill>
                <a:latin typeface="Courier New"/>
              </a:rPr>
              <a:t>Destination Address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        |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+-+-+-+-+-+-+-+-+-+-+-+-+-+-+-+-+-+-+-+-+-+-+-+-+-+-+-+-+-+-+-+-+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|                    Options                    |    Padding    |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+-+-+-+-+-+-+-+-+-+-+-+-+-+-+-+-+-+-+-+-+-+-+-+-+-+-+-+-+-+-+-+-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45520" y="1447920"/>
            <a:ext cx="128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FC 79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FE54-F5B9-4145-BF9B-73169D6D466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SI Network Layer: ICM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5867280"/>
            <a:ext cx="8153280" cy="459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Jul 23 18:10:09 gandalf kernel: Packet log: input DENY eth1 PROTO=17 10.10.0.9:137 209.31.36.212:137 L=78 S=0x00 I=1109 F=0x0000 T=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1752480"/>
            <a:ext cx="815328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0                   1                   2                   3  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0 1 2 3 4 5 6 7 8 9 0 1 2 3 4 5 6 7 8 9 0 1 2 3 4 5 6 7 8 9 0 1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+-+-+-+-+-+-+-+-+-+-+-+-+-+-+-+-+-+-+-+-+-+-+-+-+-+-+-+-+-+-+-+-+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|     Type      |       Code    |            Checksum           |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+-+-+-+-+-+-+-+-+-+-+-+-+-+-+-+-+-+-+-+-+-+-+-+-+-+-+-+-+-+-+-+-+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|                                                               |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+-+-+-+-+-+-+-+-+-+-+-+-+-+-+-+-+-+-+-+-+-+-+-+-+-+-+-+-+-+-+-+-+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45520" y="1447920"/>
            <a:ext cx="128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FC 7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98560" y="3394080"/>
            <a:ext cx="68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data follows, depending upon type and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, a ping (type=8) will contain a data field of opaqu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DB03-6E0E-46BA-8B34-EE8B038161C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SI Transport Layer: TC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5867280"/>
            <a:ext cx="8153280" cy="459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Jul 23 18:10:09 gandalf kernel: Packet log: input DENY eth1 PROTO=17 10.10.0.9:137 209.31.36.212:137 L=78 S=0x00 I=1109 F=0x0000 T=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1752480"/>
            <a:ext cx="815328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                   1                   2                   3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0 1 2 3 4 5 6 7 8 9 0 1 2 3 4 5 6 7 8 9 0 1 2 3 4 5 6 7 8 9 0 1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+-+-+-+-+-+-+-+-+-+-+-+-+-+-+-+-+-+-+-+-+-+-+-+-+-+-+-+-+-+-+-+-+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|          </a:t>
            </a: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Source Por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|       </a:t>
            </a: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Destination Por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|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+-+-+-+-+-+-+-+-+-+-+-+-+-+-+-+-+-+-+-+-+-+-+-+-+-+-+-+-+-+-+-+-+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|                        Sequence Number                        |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+-+-+-+-+-+-+-+-+-+-+-+-+-+-+-+-+-+-+-+-+-+-+-+-+-+-+-+-+-+-+-+-+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|                    Acknowledgment Number                      |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+-+-+-+-+-+-+-+-+-+-+-+-+-+-+-+-+-+-+-+-+-+-+-+-+-+-+-+-+-+-+-+-+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|  Data |           |</a:t>
            </a: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U|A|P|R|S|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                               |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| Offset| Reserved  |</a:t>
            </a: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R|C|S|S|Y|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            Window             |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|       |           |</a:t>
            </a: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G|K|H|T|N|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                               |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+-+-+-+-+-+-+-+-+-+-+-+-+-+-+-+-+-+-+-+-+-+-+-+-+-+-+-+-+-+-+-+-+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|           Checksum            |         Urgent Pointer        |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+-+-+-+-+-+-+-+-+-+-+-+-+-+-+-+-+-+-+-+-+-+-+-+-+-+-+-+-+-+-+-+-+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|                    Options                    |    Padding    |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+-+-+-+-+-+-+-+-+-+-+-+-+-+-+-+-+-+-+-+-+-+-+-+-+-+-+-+-+-+-+-+-+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45520" y="1447920"/>
            <a:ext cx="128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2201-DEE0-4A7C-88C0-B6275F52FEB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SI Transport Layer: UD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5867280"/>
            <a:ext cx="8153280" cy="459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Jul 23 18:10:09 gandalf kernel: Packet log: input DENY eth1 PROTO=17 10.10.0.9:137 209.31.36.212:137 L=78 S=0x00 I=1109 F=0x0000 T=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1752480"/>
            <a:ext cx="8153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                   1                   2                   3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0 1 2 3 4 5 6 7 8 9 0 1 2 3 4 5 6 7 8 9 0 1 2 3 4 5 6 7 8 9 0 1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+-+-+-+-+-+-+-+-+-+-+-+-+-+-+-+-+-+-+-+-+-+-+-+-+-+-+-+-+-+-+-+-+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|          </a:t>
            </a: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Source Por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|       </a:t>
            </a: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Destination Por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|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+-+-+-+-+-+-+-+-+-+-+-+-+-+-+-+-+-+-+-+-+-+-+-+-+-+-+-+-+-+-+-+-+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|            Length             |           Checksum            |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+-+-+-+-+-+-+-+-+-+-+-+-+-+-+-+-+-+-+-+-+-+-+-+-+-+-+-+-+-+-+-+-+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A4D8-C137-46A9-990F-659ADD71D04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S vs. Firew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ew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passes the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ports and 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picious looking packets regardless of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patterns all throughout the packet and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 are normal, so IDS is noisier, especially outside a firew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427F-7127-4381-8ADA-A34470917CD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ewall forensics FA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st FAQ at:</a:t>
            </a:r>
            <a:br>
              <a:rPr sz="3200"/>
            </a:br>
            <a:r>
              <a:rPr b="0" lang="en-US" sz="2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robertgraham.com/pubs/firewall-seen.htm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slides at:</a:t>
            </a:r>
            <a:br>
              <a:rPr sz="3200"/>
            </a:b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robertgraham.com/slides/first2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slides are just a guided presentation of the FA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D33B-7E8A-4089-BC05-4240451064B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&amp;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stions from 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types of firewalls do you use (ipchains, Checkpoint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o uses sniffe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o uses ID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other techniques (e.g. honeypots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FC38-10A5-4DA7-AB34-41C58B9AA65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&amp;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E2AA-7823-4F7D-80E9-43046E68ED2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dern No. 20"/>
              </a:rPr>
              <a:t>§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1 Destination P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ost important indicator of what’s going 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DCD4-A0AF-4AEC-A103-CD58C82ACA1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icial</a:t>
            </a:r>
            <a:br>
              <a:rPr sz="3200"/>
            </a:b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ftp://ftp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isi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edu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/in-notes/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iana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/assignments/port-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ficial list inaccurate more often than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rehensive</a:t>
            </a:r>
            <a:br>
              <a:rPr sz="2400"/>
            </a:b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http://advice.networkice.com/advice/Exploits/Port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a lot of info on what ports are being used in the real world, often with hyperlinks to relevant tex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13D0-61D5-47CB-A999-AE562C48308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 flipH="1">
            <a:off x="1523880" y="3429000"/>
            <a:ext cx="196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rt 7 Smurf/Fragg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352680" y="1981080"/>
            <a:ext cx="2742480" cy="2662920"/>
            <a:chOff x="3352680" y="1981080"/>
            <a:chExt cx="2742480" cy="2662920"/>
          </a:xfrm>
        </p:grpSpPr>
        <p:sp>
          <p:nvSpPr>
            <p:cNvPr id="189" name=""/>
            <p:cNvSpPr/>
            <p:nvPr/>
          </p:nvSpPr>
          <p:spPr>
            <a:xfrm>
              <a:off x="4635360" y="203688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112360" y="236592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272560" y="302832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98240" y="356724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49600" y="374688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901320" y="374688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492360" y="341352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352680" y="302832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558600" y="245592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015440" y="198108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804120" y="2512080"/>
              <a:ext cx="1959840" cy="1870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5935680" y="3594240"/>
            <a:ext cx="127620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4x0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219320" y="2400480"/>
            <a:ext cx="609480" cy="2057400"/>
            <a:chOff x="1219320" y="2400480"/>
            <a:chExt cx="609480" cy="2057400"/>
          </a:xfrm>
        </p:grpSpPr>
        <p:sp>
          <p:nvSpPr>
            <p:cNvPr id="202" name=""/>
            <p:cNvSpPr/>
            <p:nvPr/>
          </p:nvSpPr>
          <p:spPr>
            <a:xfrm>
              <a:off x="1523880" y="2700360"/>
              <a:ext cx="0" cy="158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219320" y="2982960"/>
              <a:ext cx="609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19320" y="3578400"/>
              <a:ext cx="609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19320" y="4089600"/>
              <a:ext cx="609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219320" y="2400480"/>
              <a:ext cx="609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4176000" y="30592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464080" y="4446720"/>
            <a:ext cx="29941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OCR A Extended"/>
              </a:rPr>
              <a:t>ping 192.0.2.2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OCR A Extended"/>
              </a:rPr>
              <a:t>Or UDP port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OCR A Extended"/>
              </a:rPr>
              <a:t>Or other UDP 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OCR A Extended"/>
              </a:rPr>
              <a:t>Spoof vict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2922480" y="3429000"/>
            <a:ext cx="2898720" cy="95400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2800" y="4522680"/>
            <a:ext cx="3116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er uses MAC address FF:FF:FF:FF:FF:FF for IP address 192.0.2.2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2351160" y="3097080"/>
            <a:ext cx="566640" cy="663480"/>
            <a:chOff x="2351160" y="3097080"/>
            <a:chExt cx="566640" cy="663480"/>
          </a:xfrm>
        </p:grpSpPr>
        <p:sp>
          <p:nvSpPr>
            <p:cNvPr id="212" name=""/>
            <p:cNvSpPr/>
            <p:nvPr/>
          </p:nvSpPr>
          <p:spPr>
            <a:xfrm>
              <a:off x="2351160" y="3097080"/>
              <a:ext cx="566640" cy="663480"/>
            </a:xfrm>
            <a:prstGeom prst="diamond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41520" y="3182760"/>
              <a:ext cx="383760" cy="49068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490680"/>
                <a:gd name="textAreaBottom" fmla="*/ 491040 h 49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873000" y="1569960"/>
            <a:ext cx="191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net = 192.0.2.x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1960560" y="3359160"/>
            <a:ext cx="48096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562720" y="1905120"/>
            <a:ext cx="12762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t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1905120" y="2133360"/>
            <a:ext cx="3657600" cy="53316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1905120" y="2286000"/>
            <a:ext cx="3809880" cy="83808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2438280"/>
            <a:ext cx="3886200" cy="152424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1905120" y="2438280"/>
            <a:ext cx="4419360" cy="198144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2FFD-AED6-4FDA-9615-94A39404AD3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rt 21 FT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rez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test for read/write dir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u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ffer overfl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compress at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nner che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18880" y="5243400"/>
            <a:ext cx="842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20 rh5.robertgraham.com FTP server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ersion wu-2.4.2-academ[BETA-15](1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at Nov 1 03:08:32 EST 1997) read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8AEA-C01A-44E0-AB48-83621448A28F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rt 23 Tel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pping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sco routers, APC UPSs, Ascend dial-ups, Solaris servers, Ethernet switche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king for crackable ac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91320" y="4952880"/>
            <a:ext cx="4584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d Hat Linux release 5.0 (Hurrican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Kernel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2.0.31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on an i486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ogi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E680-0245-4319-A904-A47BAE00DBB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 flipH="1">
            <a:off x="1310760" y="342900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rts 67,68 BOOTP,DHC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2187720" y="2036880"/>
            <a:ext cx="4212000" cy="2662920"/>
            <a:chOff x="2187720" y="2036880"/>
            <a:chExt cx="4212000" cy="2662920"/>
          </a:xfrm>
        </p:grpSpPr>
        <p:sp>
          <p:nvSpPr>
            <p:cNvPr id="231" name=""/>
            <p:cNvSpPr/>
            <p:nvPr/>
          </p:nvSpPr>
          <p:spPr>
            <a:xfrm>
              <a:off x="4158000" y="2092680"/>
              <a:ext cx="1263600" cy="897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90240" y="2421720"/>
              <a:ext cx="1263600" cy="897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136120" y="3084120"/>
              <a:ext cx="1263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715280" y="3622680"/>
              <a:ext cx="1263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872160" y="3802680"/>
              <a:ext cx="1263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030480" y="3802680"/>
              <a:ext cx="1263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402640" y="3469320"/>
              <a:ext cx="1263600" cy="897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187720" y="3084120"/>
              <a:ext cx="1263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504160" y="2511720"/>
              <a:ext cx="1263600" cy="897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205440" y="2036880"/>
              <a:ext cx="1263600" cy="897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881080" y="2567520"/>
              <a:ext cx="3009960" cy="18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762520" y="3949560"/>
            <a:ext cx="12765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1447920" y="3083040"/>
            <a:ext cx="566640" cy="663480"/>
            <a:chOff x="1447920" y="3083040"/>
            <a:chExt cx="566640" cy="663480"/>
          </a:xfrm>
        </p:grpSpPr>
        <p:sp>
          <p:nvSpPr>
            <p:cNvPr id="244" name=""/>
            <p:cNvSpPr/>
            <p:nvPr/>
          </p:nvSpPr>
          <p:spPr>
            <a:xfrm>
              <a:off x="1447920" y="3083040"/>
              <a:ext cx="566640" cy="663480"/>
            </a:xfrm>
            <a:prstGeom prst="diamond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538280" y="3168720"/>
              <a:ext cx="383760" cy="49068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490680"/>
                <a:gd name="textAreaBottom" fmla="*/ 491040 h 49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457200" y="1523880"/>
            <a:ext cx="19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le-mode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me 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442800" y="3233880"/>
            <a:ext cx="868320" cy="512640"/>
            <a:chOff x="442800" y="3233880"/>
            <a:chExt cx="868320" cy="512640"/>
          </a:xfrm>
        </p:grpSpPr>
        <p:sp>
          <p:nvSpPr>
            <p:cNvPr id="248" name=""/>
            <p:cNvSpPr/>
            <p:nvPr/>
          </p:nvSpPr>
          <p:spPr>
            <a:xfrm>
              <a:off x="1006560" y="367344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42800" y="3233880"/>
              <a:ext cx="716040" cy="512640"/>
            </a:xfrm>
            <a:prstGeom prst="upArrow">
              <a:avLst>
                <a:gd name="adj1" fmla="val 79398"/>
                <a:gd name="adj2" fmla="val 26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438120" y="3870360"/>
            <a:ext cx="868320" cy="512640"/>
            <a:chOff x="438120" y="3870360"/>
            <a:chExt cx="868320" cy="512640"/>
          </a:xfrm>
        </p:grpSpPr>
        <p:sp>
          <p:nvSpPr>
            <p:cNvPr id="251" name=""/>
            <p:cNvSpPr/>
            <p:nvPr/>
          </p:nvSpPr>
          <p:spPr>
            <a:xfrm>
              <a:off x="1001880" y="43099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8120" y="3870360"/>
              <a:ext cx="716040" cy="512640"/>
            </a:xfrm>
            <a:prstGeom prst="upArrow">
              <a:avLst>
                <a:gd name="adj1" fmla="val 79398"/>
                <a:gd name="adj2" fmla="val 26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442800" y="4465800"/>
            <a:ext cx="868320" cy="512640"/>
            <a:chOff x="442800" y="4465800"/>
            <a:chExt cx="868320" cy="512640"/>
          </a:xfrm>
        </p:grpSpPr>
        <p:sp>
          <p:nvSpPr>
            <p:cNvPr id="254" name=""/>
            <p:cNvSpPr/>
            <p:nvPr/>
          </p:nvSpPr>
          <p:spPr>
            <a:xfrm>
              <a:off x="1006560" y="49053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2800" y="4465800"/>
              <a:ext cx="716040" cy="512640"/>
            </a:xfrm>
            <a:prstGeom prst="upArrow">
              <a:avLst>
                <a:gd name="adj1" fmla="val 79398"/>
                <a:gd name="adj2" fmla="val 26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438120" y="5105520"/>
            <a:ext cx="868320" cy="512640"/>
            <a:chOff x="438120" y="5105520"/>
            <a:chExt cx="868320" cy="512640"/>
          </a:xfrm>
        </p:grpSpPr>
        <p:sp>
          <p:nvSpPr>
            <p:cNvPr id="257" name=""/>
            <p:cNvSpPr/>
            <p:nvPr/>
          </p:nvSpPr>
          <p:spPr>
            <a:xfrm>
              <a:off x="1001880" y="55450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38120" y="5105520"/>
              <a:ext cx="716040" cy="512640"/>
            </a:xfrm>
            <a:prstGeom prst="upArrow">
              <a:avLst>
                <a:gd name="adj1" fmla="val 79398"/>
                <a:gd name="adj2" fmla="val 26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442800" y="2622600"/>
            <a:ext cx="868320" cy="512640"/>
            <a:chOff x="442800" y="2622600"/>
            <a:chExt cx="868320" cy="512640"/>
          </a:xfrm>
        </p:grpSpPr>
        <p:sp>
          <p:nvSpPr>
            <p:cNvPr id="260" name=""/>
            <p:cNvSpPr/>
            <p:nvPr/>
          </p:nvSpPr>
          <p:spPr>
            <a:xfrm>
              <a:off x="1006560" y="30621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42800" y="2622600"/>
              <a:ext cx="716040" cy="512640"/>
            </a:xfrm>
            <a:prstGeom prst="upArrow">
              <a:avLst>
                <a:gd name="adj1" fmla="val 79398"/>
                <a:gd name="adj2" fmla="val 26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438120" y="2027160"/>
            <a:ext cx="868320" cy="512640"/>
            <a:chOff x="438120" y="2027160"/>
            <a:chExt cx="868320" cy="512640"/>
          </a:xfrm>
        </p:grpSpPr>
        <p:sp>
          <p:nvSpPr>
            <p:cNvPr id="263" name=""/>
            <p:cNvSpPr/>
            <p:nvPr/>
          </p:nvSpPr>
          <p:spPr>
            <a:xfrm>
              <a:off x="1001880" y="24667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38120" y="2027160"/>
              <a:ext cx="716040" cy="512640"/>
            </a:xfrm>
            <a:prstGeom prst="upArrow">
              <a:avLst>
                <a:gd name="adj1" fmla="val 79398"/>
                <a:gd name="adj2" fmla="val 26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1306440" y="2467080"/>
            <a:ext cx="0" cy="307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28800" y="4572000"/>
            <a:ext cx="550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DSL, cable-modems, users share a single virtual Ethernet where broadcasts are s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DE15-7B86-4E8E-B4B0-63F77DCB3B9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rt 111/135 portmapp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962520" y="1981080"/>
            <a:ext cx="2742480" cy="2662920"/>
            <a:chOff x="3962520" y="1981080"/>
            <a:chExt cx="2742480" cy="2662920"/>
          </a:xfrm>
        </p:grpSpPr>
        <p:sp>
          <p:nvSpPr>
            <p:cNvPr id="269" name=""/>
            <p:cNvSpPr/>
            <p:nvPr/>
          </p:nvSpPr>
          <p:spPr>
            <a:xfrm>
              <a:off x="5245200" y="203688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722200" y="236592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882400" y="302832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608080" y="356724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059440" y="374688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11160" y="374688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102200" y="341352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962520" y="302832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168440" y="245592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625280" y="198108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413960" y="2512080"/>
              <a:ext cx="1959840" cy="1870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609480" y="1600200"/>
            <a:ext cx="2210040" cy="3886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676520" y="1981080"/>
            <a:ext cx="1218960" cy="457200"/>
            <a:chOff x="1676520" y="1981080"/>
            <a:chExt cx="1218960" cy="457200"/>
          </a:xfrm>
        </p:grpSpPr>
        <p:sp>
          <p:nvSpPr>
            <p:cNvPr id="282" name=""/>
            <p:cNvSpPr/>
            <p:nvPr/>
          </p:nvSpPr>
          <p:spPr>
            <a:xfrm>
              <a:off x="1676520" y="1981080"/>
              <a:ext cx="121896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676520" y="198108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ortm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1676520" y="2895480"/>
            <a:ext cx="1218960" cy="457200"/>
            <a:chOff x="1676520" y="2895480"/>
            <a:chExt cx="1218960" cy="457200"/>
          </a:xfrm>
        </p:grpSpPr>
        <p:sp>
          <p:nvSpPr>
            <p:cNvPr id="285" name=""/>
            <p:cNvSpPr/>
            <p:nvPr/>
          </p:nvSpPr>
          <p:spPr>
            <a:xfrm>
              <a:off x="1676520" y="2895480"/>
              <a:ext cx="121896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676520" y="289548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f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1676520" y="3505320"/>
            <a:ext cx="1218960" cy="457200"/>
            <a:chOff x="1676520" y="3505320"/>
            <a:chExt cx="1218960" cy="457200"/>
          </a:xfrm>
        </p:grpSpPr>
        <p:sp>
          <p:nvSpPr>
            <p:cNvPr id="288" name=""/>
            <p:cNvSpPr/>
            <p:nvPr/>
          </p:nvSpPr>
          <p:spPr>
            <a:xfrm>
              <a:off x="1676520" y="3505320"/>
              <a:ext cx="121896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676520" y="350532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ount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1676520" y="4114800"/>
            <a:ext cx="1218960" cy="457200"/>
            <a:chOff x="1676520" y="4114800"/>
            <a:chExt cx="1218960" cy="457200"/>
          </a:xfrm>
        </p:grpSpPr>
        <p:sp>
          <p:nvSpPr>
            <p:cNvPr id="291" name=""/>
            <p:cNvSpPr/>
            <p:nvPr/>
          </p:nvSpPr>
          <p:spPr>
            <a:xfrm>
              <a:off x="1676520" y="4114800"/>
              <a:ext cx="121896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676520" y="411480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ms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1676520" y="4800600"/>
            <a:ext cx="1218960" cy="457200"/>
            <a:chOff x="1676520" y="4800600"/>
            <a:chExt cx="1218960" cy="457200"/>
          </a:xfrm>
        </p:grpSpPr>
        <p:sp>
          <p:nvSpPr>
            <p:cNvPr id="294" name=""/>
            <p:cNvSpPr/>
            <p:nvPr/>
          </p:nvSpPr>
          <p:spPr>
            <a:xfrm>
              <a:off x="1676520" y="4800600"/>
              <a:ext cx="121896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676520" y="480060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tyd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2819520" y="19051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819520" y="28195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4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819520" y="342900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819520" y="40384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28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819520" y="46483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28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629400" y="3048120"/>
            <a:ext cx="127620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4x0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rot="871200">
            <a:off x="3580920" y="2286000"/>
            <a:ext cx="262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OCR A Extended"/>
              </a:rPr>
              <a:t>Where is cms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 flipV="1">
            <a:off x="2895480" y="2209680"/>
            <a:ext cx="373392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2895480" y="2361960"/>
            <a:ext cx="3733920" cy="9903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rot="871200">
            <a:off x="3428640" y="2895480"/>
            <a:ext cx="262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’s at port 328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2895480" y="3581280"/>
            <a:ext cx="373392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rot="20891400">
            <a:off x="4648320" y="3657240"/>
            <a:ext cx="262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OCR A Extended"/>
              </a:rPr>
              <a:t>Exploit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733920" y="472428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cker is looking for a specific service to exploit, or dump all mappings to find any service that might be exploi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2B3A-0F62-4854-AFD8-9B1A3F75D8A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 flipH="1">
            <a:off x="1523880" y="3429000"/>
            <a:ext cx="196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rt 113 identd/au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3352680" y="1981080"/>
            <a:ext cx="2742480" cy="2662920"/>
            <a:chOff x="3352680" y="1981080"/>
            <a:chExt cx="2742480" cy="2662920"/>
          </a:xfrm>
        </p:grpSpPr>
        <p:sp>
          <p:nvSpPr>
            <p:cNvPr id="312" name=""/>
            <p:cNvSpPr/>
            <p:nvPr/>
          </p:nvSpPr>
          <p:spPr>
            <a:xfrm>
              <a:off x="4635360" y="203688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12360" y="236592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272560" y="302832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998240" y="356724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449600" y="374688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901320" y="374688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492360" y="341352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352680" y="302832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558600" y="245592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015440" y="198108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4120" y="2512080"/>
              <a:ext cx="1959840" cy="1870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5935680" y="3038400"/>
            <a:ext cx="12762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2361960" y="3232080"/>
            <a:ext cx="648000" cy="380880"/>
            <a:chOff x="2361960" y="3232080"/>
            <a:chExt cx="648000" cy="380880"/>
          </a:xfrm>
        </p:grpSpPr>
        <p:sp>
          <p:nvSpPr>
            <p:cNvPr id="325" name=""/>
            <p:cNvSpPr/>
            <p:nvPr/>
          </p:nvSpPr>
          <p:spPr>
            <a:xfrm rot="16200000">
              <a:off x="2661480" y="3264480"/>
              <a:ext cx="380880" cy="316080"/>
            </a:xfrm>
            <a:custGeom>
              <a:avLst/>
              <a:gdLst>
                <a:gd name="textAreaLeft" fmla="*/ 83520 w 380880"/>
                <a:gd name="textAreaRight" fmla="*/ 297360 w 380880"/>
                <a:gd name="textAreaTop" fmla="*/ 69480 h 316080"/>
                <a:gd name="textAreaBottom" fmla="*/ 246600 h 31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 rot="5400000">
              <a:off x="2328840" y="3264480"/>
              <a:ext cx="380880" cy="315720"/>
            </a:xfrm>
            <a:custGeom>
              <a:avLst/>
              <a:gdLst>
                <a:gd name="textAreaLeft" fmla="*/ 83520 w 380880"/>
                <a:gd name="textAreaRight" fmla="*/ 297360 w 380880"/>
                <a:gd name="textAreaTop" fmla="*/ 69480 h 315720"/>
                <a:gd name="textAreaBottom" fmla="*/ 246240 h 31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1219320" y="2400480"/>
            <a:ext cx="609480" cy="2057400"/>
            <a:chOff x="1219320" y="2400480"/>
            <a:chExt cx="609480" cy="2057400"/>
          </a:xfrm>
        </p:grpSpPr>
        <p:sp>
          <p:nvSpPr>
            <p:cNvPr id="328" name=""/>
            <p:cNvSpPr/>
            <p:nvPr/>
          </p:nvSpPr>
          <p:spPr>
            <a:xfrm>
              <a:off x="1523880" y="2700360"/>
              <a:ext cx="0" cy="158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219320" y="2982960"/>
              <a:ext cx="609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219320" y="3578400"/>
              <a:ext cx="609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219320" y="4089600"/>
              <a:ext cx="609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19320" y="2400480"/>
              <a:ext cx="609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4176000" y="30592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67040" y="2513160"/>
            <a:ext cx="3870360" cy="718920"/>
          </a:xfrm>
          <a:prstGeom prst="line">
            <a:avLst/>
          </a:prstGeom>
          <a:ln cap="rnd" w="316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 flipV="1">
            <a:off x="1907640" y="2700360"/>
            <a:ext cx="3883320" cy="728640"/>
          </a:xfrm>
          <a:prstGeom prst="line">
            <a:avLst/>
          </a:prstGeom>
          <a:ln cap="rnd" w="316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85800" y="4648320"/>
            <a:ext cx="7788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contacts e-mail server on port 110,143,25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order to log the connection, the e-mail server connects back to port 113. Usually allows access regardless if this succeeds, but it slows down e-mail transfer if blocked by firew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2E26-B46A-4E6A-98EA-B492D85413E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you will get out of th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~70% of the entries you see in your firewall reject lo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s for figuring out the other 3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understanding of what hackers are up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4377-E11C-43DD-9637-07B03DF20DF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 flipH="1">
            <a:off x="1523880" y="3429000"/>
            <a:ext cx="196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rt 139 NetB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3352680" y="1981080"/>
            <a:ext cx="2742480" cy="2662920"/>
            <a:chOff x="3352680" y="1981080"/>
            <a:chExt cx="2742480" cy="2662920"/>
          </a:xfrm>
        </p:grpSpPr>
        <p:sp>
          <p:nvSpPr>
            <p:cNvPr id="340" name=""/>
            <p:cNvSpPr/>
            <p:nvPr/>
          </p:nvSpPr>
          <p:spPr>
            <a:xfrm>
              <a:off x="4635360" y="203688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112360" y="236592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272560" y="302832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998240" y="356724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449600" y="374688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901320" y="374688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492360" y="341352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352680" y="302832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558600" y="245592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015440" y="198108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804120" y="2512080"/>
              <a:ext cx="1959840" cy="1870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935680" y="3038400"/>
            <a:ext cx="1276200" cy="7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Win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695560" y="3735360"/>
            <a:ext cx="1909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olve IP w/D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olve IP w/NetB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2361960" y="3232080"/>
            <a:ext cx="648000" cy="380880"/>
            <a:chOff x="2361960" y="3232080"/>
            <a:chExt cx="648000" cy="380880"/>
          </a:xfrm>
        </p:grpSpPr>
        <p:sp>
          <p:nvSpPr>
            <p:cNvPr id="354" name=""/>
            <p:cNvSpPr/>
            <p:nvPr/>
          </p:nvSpPr>
          <p:spPr>
            <a:xfrm rot="16200000">
              <a:off x="2661480" y="3264480"/>
              <a:ext cx="380880" cy="316080"/>
            </a:xfrm>
            <a:custGeom>
              <a:avLst/>
              <a:gdLst>
                <a:gd name="textAreaLeft" fmla="*/ 83520 w 380880"/>
                <a:gd name="textAreaRight" fmla="*/ 297360 w 380880"/>
                <a:gd name="textAreaTop" fmla="*/ 69480 h 316080"/>
                <a:gd name="textAreaBottom" fmla="*/ 246600 h 31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 rot="5400000">
              <a:off x="2328840" y="3264480"/>
              <a:ext cx="380880" cy="315720"/>
            </a:xfrm>
            <a:custGeom>
              <a:avLst/>
              <a:gdLst>
                <a:gd name="textAreaLeft" fmla="*/ 83520 w 380880"/>
                <a:gd name="textAreaRight" fmla="*/ 297360 w 380880"/>
                <a:gd name="textAreaTop" fmla="*/ 69480 h 315720"/>
                <a:gd name="textAreaBottom" fmla="*/ 246240 h 31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1219320" y="2400480"/>
            <a:ext cx="609480" cy="2057400"/>
            <a:chOff x="1219320" y="2400480"/>
            <a:chExt cx="609480" cy="2057400"/>
          </a:xfrm>
        </p:grpSpPr>
        <p:sp>
          <p:nvSpPr>
            <p:cNvPr id="357" name=""/>
            <p:cNvSpPr/>
            <p:nvPr/>
          </p:nvSpPr>
          <p:spPr>
            <a:xfrm>
              <a:off x="1523880" y="2700360"/>
              <a:ext cx="0" cy="158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219320" y="2982960"/>
              <a:ext cx="609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219320" y="3578400"/>
              <a:ext cx="609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219320" y="4089600"/>
              <a:ext cx="609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219320" y="2400480"/>
              <a:ext cx="609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4176000" y="30592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362320" y="3892680"/>
            <a:ext cx="811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967040" y="2513160"/>
            <a:ext cx="3870360" cy="718920"/>
          </a:xfrm>
          <a:prstGeom prst="line">
            <a:avLst/>
          </a:prstGeom>
          <a:ln cap="rnd" w="316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 flipV="1">
            <a:off x="3173400" y="4089240"/>
            <a:ext cx="2664000" cy="376560"/>
          </a:xfrm>
          <a:prstGeom prst="line">
            <a:avLst/>
          </a:prstGeom>
          <a:ln cap="rnd" w="316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 flipV="1">
            <a:off x="1907640" y="2700000"/>
            <a:ext cx="3791160" cy="2252520"/>
          </a:xfrm>
          <a:prstGeom prst="line">
            <a:avLst/>
          </a:prstGeom>
          <a:ln cap="rnd" w="316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87BC-5DCB-46A8-A258-86E575204895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rts 109, 110, 14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P and I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 based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on with username/pass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ffer overflows in many, many serv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970F-8887-4F20-8832-C2E9E2FF391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rt 139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dern No. 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dern No. 20"/>
              </a:rPr>
              <a:t>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 key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don’t have to be running windows your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e f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utilities that auto-resolve (ping, trace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T web servers (e.g. I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file analyzers (e.g. WebTren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al firewalls (e.g. BlackICE Defend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 appear due to failure of D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6C8D-94E7-4C46-8654-C8B4AE1FA77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 flipH="1">
            <a:off x="1310760" y="342900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rt 1080 SO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2187720" y="2036880"/>
            <a:ext cx="4212000" cy="2662920"/>
            <a:chOff x="2187720" y="2036880"/>
            <a:chExt cx="4212000" cy="2662920"/>
          </a:xfrm>
        </p:grpSpPr>
        <p:sp>
          <p:nvSpPr>
            <p:cNvPr id="374" name=""/>
            <p:cNvSpPr/>
            <p:nvPr/>
          </p:nvSpPr>
          <p:spPr>
            <a:xfrm>
              <a:off x="4158000" y="2092680"/>
              <a:ext cx="1263600" cy="897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90240" y="2421720"/>
              <a:ext cx="1263600" cy="897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136120" y="3084120"/>
              <a:ext cx="1263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715280" y="3622680"/>
              <a:ext cx="1263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872160" y="3802680"/>
              <a:ext cx="1263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030480" y="3802680"/>
              <a:ext cx="1263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402640" y="3469320"/>
              <a:ext cx="1263600" cy="897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87720" y="3084120"/>
              <a:ext cx="1263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504160" y="2511720"/>
              <a:ext cx="1263600" cy="897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205440" y="2036880"/>
              <a:ext cx="1263600" cy="897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881080" y="2567520"/>
              <a:ext cx="3009960" cy="18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5762520" y="3949560"/>
            <a:ext cx="127656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4x0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154560" y="4611600"/>
            <a:ext cx="2108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OCR A Extended"/>
              </a:rPr>
              <a:t>IRC war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OCR A Extended"/>
              </a:rPr>
              <a:t>Online game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OCR A Extended"/>
              </a:rPr>
              <a:t>Trojan sc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1447920" y="3083040"/>
            <a:ext cx="566640" cy="663480"/>
            <a:chOff x="1447920" y="3083040"/>
            <a:chExt cx="566640" cy="663480"/>
          </a:xfrm>
        </p:grpSpPr>
        <p:sp>
          <p:nvSpPr>
            <p:cNvPr id="388" name=""/>
            <p:cNvSpPr/>
            <p:nvPr/>
          </p:nvSpPr>
          <p:spPr>
            <a:xfrm>
              <a:off x="1447920" y="3083040"/>
              <a:ext cx="566640" cy="663480"/>
            </a:xfrm>
            <a:prstGeom prst="diamond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538280" y="3168720"/>
              <a:ext cx="383760" cy="49068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490680"/>
                <a:gd name="textAreaBottom" fmla="*/ 491040 h 49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457200" y="1523880"/>
            <a:ext cx="19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le-mode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me 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442800" y="3233880"/>
            <a:ext cx="868320" cy="512640"/>
            <a:chOff x="442800" y="3233880"/>
            <a:chExt cx="868320" cy="512640"/>
          </a:xfrm>
        </p:grpSpPr>
        <p:sp>
          <p:nvSpPr>
            <p:cNvPr id="392" name=""/>
            <p:cNvSpPr/>
            <p:nvPr/>
          </p:nvSpPr>
          <p:spPr>
            <a:xfrm>
              <a:off x="1006560" y="367344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2800" y="3233880"/>
              <a:ext cx="716040" cy="512640"/>
            </a:xfrm>
            <a:prstGeom prst="upArrow">
              <a:avLst>
                <a:gd name="adj1" fmla="val 79398"/>
                <a:gd name="adj2" fmla="val 26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438120" y="3870360"/>
            <a:ext cx="868320" cy="512640"/>
            <a:chOff x="438120" y="3870360"/>
            <a:chExt cx="868320" cy="512640"/>
          </a:xfrm>
        </p:grpSpPr>
        <p:sp>
          <p:nvSpPr>
            <p:cNvPr id="395" name=""/>
            <p:cNvSpPr/>
            <p:nvPr/>
          </p:nvSpPr>
          <p:spPr>
            <a:xfrm>
              <a:off x="1001880" y="43099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38120" y="3870360"/>
              <a:ext cx="716040" cy="512640"/>
            </a:xfrm>
            <a:prstGeom prst="upArrow">
              <a:avLst>
                <a:gd name="adj1" fmla="val 79398"/>
                <a:gd name="adj2" fmla="val 26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442800" y="4465800"/>
            <a:ext cx="868320" cy="512640"/>
            <a:chOff x="442800" y="4465800"/>
            <a:chExt cx="868320" cy="512640"/>
          </a:xfrm>
        </p:grpSpPr>
        <p:sp>
          <p:nvSpPr>
            <p:cNvPr id="398" name=""/>
            <p:cNvSpPr/>
            <p:nvPr/>
          </p:nvSpPr>
          <p:spPr>
            <a:xfrm>
              <a:off x="1006560" y="49053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42800" y="4465800"/>
              <a:ext cx="716040" cy="512640"/>
            </a:xfrm>
            <a:prstGeom prst="upArrow">
              <a:avLst>
                <a:gd name="adj1" fmla="val 79398"/>
                <a:gd name="adj2" fmla="val 26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438120" y="5105520"/>
            <a:ext cx="868320" cy="512640"/>
            <a:chOff x="438120" y="5105520"/>
            <a:chExt cx="868320" cy="512640"/>
          </a:xfrm>
        </p:grpSpPr>
        <p:sp>
          <p:nvSpPr>
            <p:cNvPr id="401" name=""/>
            <p:cNvSpPr/>
            <p:nvPr/>
          </p:nvSpPr>
          <p:spPr>
            <a:xfrm>
              <a:off x="1001880" y="55450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38120" y="5105520"/>
              <a:ext cx="716040" cy="512640"/>
            </a:xfrm>
            <a:prstGeom prst="upArrow">
              <a:avLst>
                <a:gd name="adj1" fmla="val 79398"/>
                <a:gd name="adj2" fmla="val 26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442800" y="2622600"/>
            <a:ext cx="868320" cy="512640"/>
            <a:chOff x="442800" y="2622600"/>
            <a:chExt cx="868320" cy="512640"/>
          </a:xfrm>
        </p:grpSpPr>
        <p:sp>
          <p:nvSpPr>
            <p:cNvPr id="404" name=""/>
            <p:cNvSpPr/>
            <p:nvPr/>
          </p:nvSpPr>
          <p:spPr>
            <a:xfrm>
              <a:off x="1006560" y="30621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42800" y="2622600"/>
              <a:ext cx="716040" cy="512640"/>
            </a:xfrm>
            <a:prstGeom prst="upArrow">
              <a:avLst>
                <a:gd name="adj1" fmla="val 79398"/>
                <a:gd name="adj2" fmla="val 26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438120" y="2027160"/>
            <a:ext cx="868320" cy="512640"/>
            <a:chOff x="438120" y="2027160"/>
            <a:chExt cx="868320" cy="512640"/>
          </a:xfrm>
        </p:grpSpPr>
        <p:sp>
          <p:nvSpPr>
            <p:cNvPr id="407" name=""/>
            <p:cNvSpPr/>
            <p:nvPr/>
          </p:nvSpPr>
          <p:spPr>
            <a:xfrm>
              <a:off x="1001880" y="24667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38120" y="2027160"/>
              <a:ext cx="716040" cy="512640"/>
            </a:xfrm>
            <a:prstGeom prst="upArrow">
              <a:avLst>
                <a:gd name="adj1" fmla="val 79398"/>
                <a:gd name="adj2" fmla="val 26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1306440" y="2467080"/>
            <a:ext cx="0" cy="307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38280" y="3349800"/>
            <a:ext cx="46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cks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243160" y="4438800"/>
            <a:ext cx="12762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t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137200" y="2027160"/>
            <a:ext cx="1276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aho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1001880" y="2091960"/>
            <a:ext cx="4135320" cy="1257480"/>
          </a:xfrm>
          <a:prstGeom prst="line">
            <a:avLst/>
          </a:prstGeom>
          <a:ln cap="rnd" w="158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65200" y="3284640"/>
            <a:ext cx="5226120" cy="1211040"/>
          </a:xfrm>
          <a:custGeom>
            <a:avLst/>
            <a:gdLst/>
            <a:ahLst/>
            <a:rect l="l" t="t" r="r" b="b"/>
            <a:pathLst>
              <a:path w="3292" h="763">
                <a:moveTo>
                  <a:pt x="3292" y="667"/>
                </a:moveTo>
                <a:cubicBezTo>
                  <a:pt x="2787" y="566"/>
                  <a:pt x="807" y="145"/>
                  <a:pt x="260" y="61"/>
                </a:cubicBezTo>
                <a:cubicBezTo>
                  <a:pt x="260" y="61"/>
                  <a:pt x="0" y="0"/>
                  <a:pt x="6" y="161"/>
                </a:cubicBezTo>
                <a:cubicBezTo>
                  <a:pt x="12" y="322"/>
                  <a:pt x="79" y="249"/>
                  <a:pt x="287" y="289"/>
                </a:cubicBezTo>
                <a:cubicBezTo>
                  <a:pt x="495" y="329"/>
                  <a:pt x="956" y="664"/>
                  <a:pt x="1132" y="763"/>
                </a:cubicBezTo>
              </a:path>
            </a:pathLst>
          </a:custGeom>
          <a:noFill/>
          <a:ln w="31680">
            <a:solidFill>
              <a:srgbClr val="000000"/>
            </a:solidFill>
            <a:prstDash val="sysDot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432080" y="4842000"/>
            <a:ext cx="4359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ttack on IRC server tunneled within SOCKS on the way to the bounce machine, who then creates the real IRC connection to ser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rot="671400">
            <a:off x="2755440" y="3363840"/>
            <a:ext cx="167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ks(</a:t>
            </a:r>
            <a:r>
              <a:rPr b="1" lang="en-US" sz="2400" spc="-1" strike="noStrike">
                <a:solidFill>
                  <a:srgbClr val="000000"/>
                </a:solidFill>
                <a:latin typeface="Westminster"/>
              </a:rPr>
              <a:t>IR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rot="1846800">
            <a:off x="1463040" y="4114440"/>
            <a:ext cx="69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estminster"/>
              </a:rPr>
              <a:t>I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209680" y="4419720"/>
            <a:ext cx="4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66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553080" y="1600200"/>
            <a:ext cx="1463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CKS user continues to surf net unaware that this is going 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A2BD-D6FD-4866-820D-5D9B28444D8F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rt 3128 squ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4267080" y="2036880"/>
            <a:ext cx="3123720" cy="2991600"/>
            <a:chOff x="4267080" y="2036880"/>
            <a:chExt cx="3123720" cy="2991600"/>
          </a:xfrm>
        </p:grpSpPr>
        <p:sp>
          <p:nvSpPr>
            <p:cNvPr id="422" name=""/>
            <p:cNvSpPr/>
            <p:nvPr/>
          </p:nvSpPr>
          <p:spPr>
            <a:xfrm>
              <a:off x="5728320" y="2099520"/>
              <a:ext cx="937080" cy="100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271200" y="2469240"/>
              <a:ext cx="937080" cy="100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453720" y="3213360"/>
              <a:ext cx="937080" cy="100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141600" y="3818520"/>
              <a:ext cx="937080" cy="100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516280" y="4020480"/>
              <a:ext cx="937080" cy="100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892040" y="4020480"/>
              <a:ext cx="937080" cy="100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426200" y="3646080"/>
              <a:ext cx="937080" cy="100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267080" y="3213360"/>
              <a:ext cx="937080" cy="100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501440" y="2570400"/>
              <a:ext cx="937080" cy="100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022000" y="2036880"/>
              <a:ext cx="937080" cy="100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781160" y="2633040"/>
              <a:ext cx="2232360" cy="2100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6781680" y="4495680"/>
            <a:ext cx="127656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4x0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705720" y="2133720"/>
            <a:ext cx="1276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aho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644400" y="2543040"/>
            <a:ext cx="609480" cy="2057400"/>
            <a:chOff x="644400" y="2543040"/>
            <a:chExt cx="609480" cy="2057400"/>
          </a:xfrm>
        </p:grpSpPr>
        <p:sp>
          <p:nvSpPr>
            <p:cNvPr id="436" name=""/>
            <p:cNvSpPr/>
            <p:nvPr/>
          </p:nvSpPr>
          <p:spPr>
            <a:xfrm>
              <a:off x="948960" y="2842920"/>
              <a:ext cx="0" cy="158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4400" y="3125520"/>
              <a:ext cx="609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44400" y="3720960"/>
              <a:ext cx="609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44400" y="4232160"/>
              <a:ext cx="609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44400" y="2543040"/>
              <a:ext cx="609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1" name=""/>
          <p:cNvSpPr/>
          <p:nvPr/>
        </p:nvSpPr>
        <p:spPr>
          <a:xfrm>
            <a:off x="1304640" y="3200400"/>
            <a:ext cx="24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ttp://yahoo.com/index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3920" y="3200400"/>
            <a:ext cx="685800" cy="685800"/>
          </a:xfrm>
          <a:prstGeom prst="flowChartInputOutpu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066680" y="3581280"/>
            <a:ext cx="2743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4343400" y="2514240"/>
            <a:ext cx="2971800" cy="1066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rot="20424600">
            <a:off x="5033880" y="274320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/index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114800" y="2590920"/>
            <a:ext cx="3581280" cy="2133360"/>
          </a:xfrm>
          <a:custGeom>
            <a:avLst/>
            <a:gdLst/>
            <a:ahLst/>
            <a:rect l="l" t="t" r="r" b="b"/>
            <a:pathLst>
              <a:path w="2256" h="1344">
                <a:moveTo>
                  <a:pt x="1680" y="1344"/>
                </a:moveTo>
                <a:cubicBezTo>
                  <a:pt x="1416" y="1248"/>
                  <a:pt x="0" y="992"/>
                  <a:pt x="96" y="768"/>
                </a:cubicBezTo>
                <a:cubicBezTo>
                  <a:pt x="192" y="544"/>
                  <a:pt x="1806" y="160"/>
                  <a:pt x="2256" y="0"/>
                </a:cubicBezTo>
              </a:path>
            </a:pathLst>
          </a:custGeom>
          <a:noFill/>
          <a:ln w="5400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584360" y="4384800"/>
            <a:ext cx="2911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cker wants to forward all his requests through your prox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400800" y="5181480"/>
            <a:ext cx="2108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OCR A Extended"/>
              </a:rPr>
              <a:t>scan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OCR A Extended"/>
              </a:rPr>
              <a:t>attack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OCR A Extended"/>
              </a:rPr>
              <a:t>anonym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BB60-FB8C-4A6E-932E-195138CBE99E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rt 1524 ingreslo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of many typical ports on UN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cker breaks into machine, then creates a “root shell” listening at a port, then connects to the po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compromise the machine on a public port like 110/POP, the attempt to connect on this po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561C-120A-4B00-9C30-A24D28DB209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 flipH="1">
            <a:off x="1523880" y="3429000"/>
            <a:ext cx="196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rt 6970 RealAud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3352680" y="1981080"/>
            <a:ext cx="2742480" cy="2662920"/>
            <a:chOff x="3352680" y="1981080"/>
            <a:chExt cx="2742480" cy="2662920"/>
          </a:xfrm>
        </p:grpSpPr>
        <p:sp>
          <p:nvSpPr>
            <p:cNvPr id="454" name=""/>
            <p:cNvSpPr/>
            <p:nvPr/>
          </p:nvSpPr>
          <p:spPr>
            <a:xfrm>
              <a:off x="4635360" y="203688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112360" y="236592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272560" y="302832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998240" y="356724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49600" y="374688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901320" y="374688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492360" y="341352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352680" y="302832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558600" y="245592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015440" y="198108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804120" y="2512080"/>
              <a:ext cx="1959840" cy="1870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5715000" y="3048120"/>
            <a:ext cx="127620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2361960" y="3232080"/>
            <a:ext cx="648000" cy="380880"/>
            <a:chOff x="2361960" y="3232080"/>
            <a:chExt cx="648000" cy="380880"/>
          </a:xfrm>
        </p:grpSpPr>
        <p:sp>
          <p:nvSpPr>
            <p:cNvPr id="467" name=""/>
            <p:cNvSpPr/>
            <p:nvPr/>
          </p:nvSpPr>
          <p:spPr>
            <a:xfrm rot="16200000">
              <a:off x="2661480" y="3264480"/>
              <a:ext cx="380880" cy="316080"/>
            </a:xfrm>
            <a:custGeom>
              <a:avLst/>
              <a:gdLst>
                <a:gd name="textAreaLeft" fmla="*/ 83520 w 380880"/>
                <a:gd name="textAreaRight" fmla="*/ 297360 w 380880"/>
                <a:gd name="textAreaTop" fmla="*/ 69480 h 316080"/>
                <a:gd name="textAreaBottom" fmla="*/ 246600 h 31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 rot="5400000">
              <a:off x="2328840" y="3264480"/>
              <a:ext cx="380880" cy="315720"/>
            </a:xfrm>
            <a:custGeom>
              <a:avLst/>
              <a:gdLst>
                <a:gd name="textAreaLeft" fmla="*/ 83520 w 380880"/>
                <a:gd name="textAreaRight" fmla="*/ 297360 w 380880"/>
                <a:gd name="textAreaTop" fmla="*/ 69480 h 315720"/>
                <a:gd name="textAreaBottom" fmla="*/ 246240 h 31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1219320" y="2400480"/>
            <a:ext cx="609480" cy="2057400"/>
            <a:chOff x="1219320" y="2400480"/>
            <a:chExt cx="609480" cy="2057400"/>
          </a:xfrm>
        </p:grpSpPr>
        <p:sp>
          <p:nvSpPr>
            <p:cNvPr id="470" name=""/>
            <p:cNvSpPr/>
            <p:nvPr/>
          </p:nvSpPr>
          <p:spPr>
            <a:xfrm>
              <a:off x="1523880" y="2700360"/>
              <a:ext cx="0" cy="158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219320" y="2982960"/>
              <a:ext cx="609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219320" y="3578400"/>
              <a:ext cx="609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219320" y="4089600"/>
              <a:ext cx="609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219320" y="2400480"/>
              <a:ext cx="609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5" name=""/>
          <p:cNvSpPr/>
          <p:nvPr/>
        </p:nvSpPr>
        <p:spPr>
          <a:xfrm>
            <a:off x="1981080" y="3124080"/>
            <a:ext cx="3733920" cy="0"/>
          </a:xfrm>
          <a:prstGeom prst="line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79320" y="5299200"/>
            <a:ext cx="619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goes to server (url = pnm://server/foo.rm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 creates a real-time stream of UDP p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362320" y="2514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going T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2971800" y="3276720"/>
            <a:ext cx="2743200" cy="0"/>
          </a:xfrm>
          <a:prstGeom prst="line">
            <a:avLst/>
          </a:prstGeom>
          <a:ln cap="rnd" w="5400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124080" y="33526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UDP st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ED86-2B18-4B78-967F-64B6B7F055D3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 flipH="1">
            <a:off x="1310760" y="342900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rt 5632 pcANYW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2187720" y="2036880"/>
            <a:ext cx="4440600" cy="2229480"/>
            <a:chOff x="2187720" y="2036880"/>
            <a:chExt cx="4440600" cy="2229480"/>
          </a:xfrm>
        </p:grpSpPr>
        <p:sp>
          <p:nvSpPr>
            <p:cNvPr id="483" name=""/>
            <p:cNvSpPr/>
            <p:nvPr/>
          </p:nvSpPr>
          <p:spPr>
            <a:xfrm>
              <a:off x="4264920" y="2083680"/>
              <a:ext cx="1332360" cy="752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037120" y="2359080"/>
              <a:ext cx="1332360" cy="752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295960" y="2913840"/>
              <a:ext cx="1332360" cy="75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852440" y="3364560"/>
              <a:ext cx="1332360" cy="75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963600" y="3515040"/>
              <a:ext cx="1332360" cy="75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076200" y="3515040"/>
              <a:ext cx="1332360" cy="75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414160" y="3236040"/>
              <a:ext cx="1332360" cy="752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187720" y="2913840"/>
              <a:ext cx="1332360" cy="75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521080" y="2434320"/>
              <a:ext cx="1332360" cy="752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260880" y="2036880"/>
              <a:ext cx="1332360" cy="752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918880" y="2481120"/>
              <a:ext cx="3173400" cy="1565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4" name=""/>
          <p:cNvSpPr/>
          <p:nvPr/>
        </p:nvSpPr>
        <p:spPr>
          <a:xfrm>
            <a:off x="5762520" y="3949560"/>
            <a:ext cx="127656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4x0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154560" y="4611600"/>
            <a:ext cx="210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OCR A Extended"/>
              </a:rPr>
              <a:t>pcANYWHERE s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1447920" y="3083040"/>
            <a:ext cx="566640" cy="663480"/>
            <a:chOff x="1447920" y="3083040"/>
            <a:chExt cx="566640" cy="663480"/>
          </a:xfrm>
        </p:grpSpPr>
        <p:sp>
          <p:nvSpPr>
            <p:cNvPr id="497" name=""/>
            <p:cNvSpPr/>
            <p:nvPr/>
          </p:nvSpPr>
          <p:spPr>
            <a:xfrm>
              <a:off x="1447920" y="3083040"/>
              <a:ext cx="566640" cy="663480"/>
            </a:xfrm>
            <a:prstGeom prst="diamond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538280" y="3168720"/>
              <a:ext cx="383760" cy="49068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490680"/>
                <a:gd name="textAreaBottom" fmla="*/ 491040 h 49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457200" y="1523880"/>
            <a:ext cx="19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le-mode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me 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442800" y="3233880"/>
            <a:ext cx="868320" cy="512640"/>
            <a:chOff x="442800" y="3233880"/>
            <a:chExt cx="868320" cy="512640"/>
          </a:xfrm>
        </p:grpSpPr>
        <p:sp>
          <p:nvSpPr>
            <p:cNvPr id="501" name=""/>
            <p:cNvSpPr/>
            <p:nvPr/>
          </p:nvSpPr>
          <p:spPr>
            <a:xfrm>
              <a:off x="1006560" y="367344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42800" y="3233880"/>
              <a:ext cx="716040" cy="512640"/>
            </a:xfrm>
            <a:prstGeom prst="upArrow">
              <a:avLst>
                <a:gd name="adj1" fmla="val 79398"/>
                <a:gd name="adj2" fmla="val 26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438120" y="3870360"/>
            <a:ext cx="868320" cy="512640"/>
            <a:chOff x="438120" y="3870360"/>
            <a:chExt cx="868320" cy="512640"/>
          </a:xfrm>
        </p:grpSpPr>
        <p:sp>
          <p:nvSpPr>
            <p:cNvPr id="504" name=""/>
            <p:cNvSpPr/>
            <p:nvPr/>
          </p:nvSpPr>
          <p:spPr>
            <a:xfrm>
              <a:off x="1001880" y="43099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38120" y="3870360"/>
              <a:ext cx="716040" cy="512640"/>
            </a:xfrm>
            <a:prstGeom prst="upArrow">
              <a:avLst>
                <a:gd name="adj1" fmla="val 79398"/>
                <a:gd name="adj2" fmla="val 26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442800" y="4465800"/>
            <a:ext cx="868320" cy="512640"/>
            <a:chOff x="442800" y="4465800"/>
            <a:chExt cx="868320" cy="512640"/>
          </a:xfrm>
        </p:grpSpPr>
        <p:sp>
          <p:nvSpPr>
            <p:cNvPr id="507" name=""/>
            <p:cNvSpPr/>
            <p:nvPr/>
          </p:nvSpPr>
          <p:spPr>
            <a:xfrm>
              <a:off x="1006560" y="49053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42800" y="4465800"/>
              <a:ext cx="716040" cy="512640"/>
            </a:xfrm>
            <a:prstGeom prst="upArrow">
              <a:avLst>
                <a:gd name="adj1" fmla="val 79398"/>
                <a:gd name="adj2" fmla="val 26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438120" y="5105520"/>
            <a:ext cx="868320" cy="512640"/>
            <a:chOff x="438120" y="5105520"/>
            <a:chExt cx="868320" cy="512640"/>
          </a:xfrm>
        </p:grpSpPr>
        <p:sp>
          <p:nvSpPr>
            <p:cNvPr id="510" name=""/>
            <p:cNvSpPr/>
            <p:nvPr/>
          </p:nvSpPr>
          <p:spPr>
            <a:xfrm>
              <a:off x="1001880" y="55450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38120" y="5105520"/>
              <a:ext cx="716040" cy="512640"/>
            </a:xfrm>
            <a:prstGeom prst="upArrow">
              <a:avLst>
                <a:gd name="adj1" fmla="val 79398"/>
                <a:gd name="adj2" fmla="val 26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442800" y="2622600"/>
            <a:ext cx="868320" cy="512640"/>
            <a:chOff x="442800" y="2622600"/>
            <a:chExt cx="868320" cy="512640"/>
          </a:xfrm>
        </p:grpSpPr>
        <p:sp>
          <p:nvSpPr>
            <p:cNvPr id="513" name=""/>
            <p:cNvSpPr/>
            <p:nvPr/>
          </p:nvSpPr>
          <p:spPr>
            <a:xfrm>
              <a:off x="1006560" y="30621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42800" y="2622600"/>
              <a:ext cx="716040" cy="512640"/>
            </a:xfrm>
            <a:prstGeom prst="upArrow">
              <a:avLst>
                <a:gd name="adj1" fmla="val 79398"/>
                <a:gd name="adj2" fmla="val 26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438120" y="2027160"/>
            <a:ext cx="868320" cy="512640"/>
            <a:chOff x="438120" y="2027160"/>
            <a:chExt cx="868320" cy="512640"/>
          </a:xfrm>
        </p:grpSpPr>
        <p:sp>
          <p:nvSpPr>
            <p:cNvPr id="516" name=""/>
            <p:cNvSpPr/>
            <p:nvPr/>
          </p:nvSpPr>
          <p:spPr>
            <a:xfrm>
              <a:off x="1001880" y="24667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38120" y="2027160"/>
              <a:ext cx="716040" cy="512640"/>
            </a:xfrm>
            <a:prstGeom prst="upArrow">
              <a:avLst>
                <a:gd name="adj1" fmla="val 79398"/>
                <a:gd name="adj2" fmla="val 26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8" name=""/>
          <p:cNvSpPr/>
          <p:nvPr/>
        </p:nvSpPr>
        <p:spPr>
          <a:xfrm>
            <a:off x="1306440" y="2467080"/>
            <a:ext cx="0" cy="307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985680" y="3583080"/>
            <a:ext cx="551160" cy="685800"/>
          </a:xfrm>
          <a:custGeom>
            <a:avLst/>
            <a:gdLst/>
            <a:ahLst/>
            <a:rect l="l" t="t" r="r" b="b"/>
            <a:pathLst>
              <a:path w="347" h="432">
                <a:moveTo>
                  <a:pt x="0" y="0"/>
                </a:moveTo>
                <a:cubicBezTo>
                  <a:pt x="58" y="24"/>
                  <a:pt x="347" y="71"/>
                  <a:pt x="347" y="143"/>
                </a:cubicBezTo>
                <a:cubicBezTo>
                  <a:pt x="347" y="215"/>
                  <a:pt x="72" y="372"/>
                  <a:pt x="0" y="432"/>
                </a:cubicBezTo>
              </a:path>
            </a:pathLst>
          </a:cu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914400" y="3581280"/>
            <a:ext cx="927000" cy="1143000"/>
          </a:xfrm>
          <a:custGeom>
            <a:avLst/>
            <a:gdLst/>
            <a:ahLst/>
            <a:rect l="l" t="t" r="r" b="b"/>
            <a:pathLst>
              <a:path w="584" h="720">
                <a:moveTo>
                  <a:pt x="48" y="0"/>
                </a:moveTo>
                <a:cubicBezTo>
                  <a:pt x="136" y="40"/>
                  <a:pt x="584" y="120"/>
                  <a:pt x="576" y="240"/>
                </a:cubicBezTo>
                <a:cubicBezTo>
                  <a:pt x="568" y="360"/>
                  <a:pt x="120" y="620"/>
                  <a:pt x="0" y="720"/>
                </a:cubicBezTo>
              </a:path>
            </a:pathLst>
          </a:cu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914400" y="3581280"/>
            <a:ext cx="1320840" cy="1752840"/>
          </a:xfrm>
          <a:custGeom>
            <a:avLst/>
            <a:gdLst/>
            <a:ahLst/>
            <a:rect l="l" t="t" r="r" b="b"/>
            <a:pathLst>
              <a:path w="832" h="1104">
                <a:moveTo>
                  <a:pt x="0" y="0"/>
                </a:moveTo>
                <a:cubicBezTo>
                  <a:pt x="136" y="56"/>
                  <a:pt x="800" y="152"/>
                  <a:pt x="816" y="336"/>
                </a:cubicBezTo>
                <a:cubicBezTo>
                  <a:pt x="832" y="520"/>
                  <a:pt x="246" y="944"/>
                  <a:pt x="96" y="1104"/>
                </a:cubicBezTo>
              </a:path>
            </a:pathLst>
          </a:cu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914400" y="2895480"/>
            <a:ext cx="546120" cy="685800"/>
          </a:xfrm>
          <a:custGeom>
            <a:avLst/>
            <a:gdLst/>
            <a:ahLst/>
            <a:rect l="l" t="t" r="r" b="b"/>
            <a:pathLst>
              <a:path w="344" h="432">
                <a:moveTo>
                  <a:pt x="0" y="432"/>
                </a:moveTo>
                <a:cubicBezTo>
                  <a:pt x="56" y="392"/>
                  <a:pt x="328" y="264"/>
                  <a:pt x="336" y="192"/>
                </a:cubicBezTo>
                <a:cubicBezTo>
                  <a:pt x="344" y="120"/>
                  <a:pt x="108" y="40"/>
                  <a:pt x="48" y="0"/>
                </a:cubicBezTo>
              </a:path>
            </a:pathLst>
          </a:cu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838080" y="2362320"/>
            <a:ext cx="939960" cy="1218960"/>
          </a:xfrm>
          <a:custGeom>
            <a:avLst/>
            <a:gdLst/>
            <a:ahLst/>
            <a:rect l="l" t="t" r="r" b="b"/>
            <a:pathLst>
              <a:path w="592" h="768">
                <a:moveTo>
                  <a:pt x="0" y="768"/>
                </a:moveTo>
                <a:cubicBezTo>
                  <a:pt x="96" y="704"/>
                  <a:pt x="560" y="512"/>
                  <a:pt x="576" y="384"/>
                </a:cubicBezTo>
                <a:cubicBezTo>
                  <a:pt x="592" y="256"/>
                  <a:pt x="196" y="80"/>
                  <a:pt x="96" y="0"/>
                </a:cubicBezTo>
              </a:path>
            </a:pathLst>
          </a:cu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57080" y="3500280"/>
            <a:ext cx="228600" cy="155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914400" y="3263760"/>
            <a:ext cx="4876920" cy="851040"/>
          </a:xfrm>
          <a:custGeom>
            <a:avLst/>
            <a:gdLst/>
            <a:ahLst/>
            <a:rect l="l" t="t" r="r" b="b"/>
            <a:pathLst>
              <a:path w="3072" h="536">
                <a:moveTo>
                  <a:pt x="3072" y="488"/>
                </a:moveTo>
                <a:cubicBezTo>
                  <a:pt x="2888" y="408"/>
                  <a:pt x="2480" y="0"/>
                  <a:pt x="1968" y="8"/>
                </a:cubicBezTo>
                <a:cubicBezTo>
                  <a:pt x="1456" y="16"/>
                  <a:pt x="410" y="426"/>
                  <a:pt x="0" y="536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600200" y="480060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 users unintentionally scan their neighb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ckers scan people intention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F17A-71C8-44FA-8A78-E2C60B857DB4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rt 13223 PowW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2187720" y="2036880"/>
            <a:ext cx="4212000" cy="2662920"/>
            <a:chOff x="2187720" y="2036880"/>
            <a:chExt cx="4212000" cy="2662920"/>
          </a:xfrm>
        </p:grpSpPr>
        <p:sp>
          <p:nvSpPr>
            <p:cNvPr id="529" name=""/>
            <p:cNvSpPr/>
            <p:nvPr/>
          </p:nvSpPr>
          <p:spPr>
            <a:xfrm>
              <a:off x="4158000" y="2092680"/>
              <a:ext cx="1263600" cy="897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890240" y="2421720"/>
              <a:ext cx="1263600" cy="897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136120" y="3084120"/>
              <a:ext cx="1263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715280" y="3622680"/>
              <a:ext cx="1263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872160" y="3802680"/>
              <a:ext cx="1263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030480" y="3802680"/>
              <a:ext cx="1263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402640" y="3469320"/>
              <a:ext cx="1263600" cy="897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187720" y="3084120"/>
              <a:ext cx="1263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504160" y="2511720"/>
              <a:ext cx="1263600" cy="897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205440" y="2036880"/>
              <a:ext cx="1263600" cy="897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881080" y="2567520"/>
              <a:ext cx="3009960" cy="18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457200" y="1523880"/>
            <a:ext cx="19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al-up 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838080" y="297180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42800" y="3233880"/>
            <a:ext cx="716040" cy="512640"/>
          </a:xfrm>
          <a:prstGeom prst="upArrow">
            <a:avLst>
              <a:gd name="adj1" fmla="val 79398"/>
              <a:gd name="adj2" fmla="val 2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38120" y="3870360"/>
            <a:ext cx="716040" cy="512640"/>
          </a:xfrm>
          <a:prstGeom prst="upArrow">
            <a:avLst>
              <a:gd name="adj1" fmla="val 79398"/>
              <a:gd name="adj2" fmla="val 2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42800" y="4465800"/>
            <a:ext cx="716040" cy="512640"/>
          </a:xfrm>
          <a:prstGeom prst="upArrow">
            <a:avLst>
              <a:gd name="adj1" fmla="val 79398"/>
              <a:gd name="adj2" fmla="val 2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38120" y="5105520"/>
            <a:ext cx="716040" cy="512640"/>
          </a:xfrm>
          <a:prstGeom prst="upArrow">
            <a:avLst>
              <a:gd name="adj1" fmla="val 79398"/>
              <a:gd name="adj2" fmla="val 2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38120" y="2027160"/>
            <a:ext cx="716040" cy="513000"/>
          </a:xfrm>
          <a:prstGeom prst="upArrow">
            <a:avLst>
              <a:gd name="adj1" fmla="val 79398"/>
              <a:gd name="adj2" fmla="val 2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1752480" y="3276720"/>
            <a:ext cx="533520" cy="533160"/>
            <a:chOff x="1752480" y="3276720"/>
            <a:chExt cx="533520" cy="533160"/>
          </a:xfrm>
        </p:grpSpPr>
        <p:sp>
          <p:nvSpPr>
            <p:cNvPr id="548" name=""/>
            <p:cNvSpPr/>
            <p:nvPr/>
          </p:nvSpPr>
          <p:spPr>
            <a:xfrm>
              <a:off x="1752480" y="3276720"/>
              <a:ext cx="533520" cy="533160"/>
            </a:xfrm>
            <a:prstGeom prst="hexagon">
              <a:avLst>
                <a:gd name="adj" fmla="val 25017"/>
                <a:gd name="vf" fmla="val 11547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793160" y="3321000"/>
              <a:ext cx="451800" cy="44424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444240"/>
                <a:gd name="textAreaBottom" fmla="*/ 444600 h 44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0" name=""/>
          <p:cNvSpPr/>
          <p:nvPr/>
        </p:nvSpPr>
        <p:spPr>
          <a:xfrm>
            <a:off x="533520" y="4495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029200" y="1905120"/>
            <a:ext cx="716040" cy="512640"/>
          </a:xfrm>
          <a:prstGeom prst="upArrow">
            <a:avLst>
              <a:gd name="adj1" fmla="val 79398"/>
              <a:gd name="adj2" fmla="val 26875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867280" y="2819520"/>
            <a:ext cx="716040" cy="512640"/>
          </a:xfrm>
          <a:prstGeom prst="upArrow">
            <a:avLst>
              <a:gd name="adj1" fmla="val 79398"/>
              <a:gd name="adj2" fmla="val 26875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715000" y="3886200"/>
            <a:ext cx="716040" cy="512640"/>
          </a:xfrm>
          <a:prstGeom prst="upArrow">
            <a:avLst>
              <a:gd name="adj1" fmla="val 79398"/>
              <a:gd name="adj2" fmla="val 26875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57080" y="2211480"/>
            <a:ext cx="4570560" cy="1485720"/>
          </a:xfrm>
          <a:custGeom>
            <a:avLst/>
            <a:gdLst/>
            <a:ahLst/>
            <a:rect l="l" t="t" r="r" b="b"/>
            <a:pathLst>
              <a:path w="2879" h="936">
                <a:moveTo>
                  <a:pt x="2879" y="0"/>
                </a:moveTo>
                <a:cubicBezTo>
                  <a:pt x="2527" y="144"/>
                  <a:pt x="1248" y="792"/>
                  <a:pt x="768" y="864"/>
                </a:cubicBezTo>
                <a:cubicBezTo>
                  <a:pt x="288" y="936"/>
                  <a:pt x="160" y="522"/>
                  <a:pt x="0" y="432"/>
                </a:cubicBezTo>
              </a:path>
            </a:pathLst>
          </a:custGeom>
          <a:noFill/>
          <a:ln cap="rnd" w="5400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62120" y="2971800"/>
            <a:ext cx="5410080" cy="635040"/>
          </a:xfrm>
          <a:custGeom>
            <a:avLst/>
            <a:gdLst/>
            <a:ahLst/>
            <a:rect l="l" t="t" r="r" b="b"/>
            <a:pathLst>
              <a:path w="3408" h="400">
                <a:moveTo>
                  <a:pt x="3408" y="96"/>
                </a:moveTo>
                <a:cubicBezTo>
                  <a:pt x="2968" y="144"/>
                  <a:pt x="1336" y="400"/>
                  <a:pt x="768" y="384"/>
                </a:cubicBezTo>
                <a:cubicBezTo>
                  <a:pt x="200" y="368"/>
                  <a:pt x="160" y="80"/>
                  <a:pt x="0" y="0"/>
                </a:cubicBezTo>
              </a:path>
            </a:pathLst>
          </a:custGeom>
          <a:noFill/>
          <a:ln cap="rnd" w="5400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62120" y="3048120"/>
            <a:ext cx="5257800" cy="1143000"/>
          </a:xfrm>
          <a:custGeom>
            <a:avLst/>
            <a:gdLst/>
            <a:ahLst/>
            <a:rect l="l" t="t" r="r" b="b"/>
            <a:pathLst>
              <a:path w="3312" h="720">
                <a:moveTo>
                  <a:pt x="3312" y="720"/>
                </a:moveTo>
                <a:cubicBezTo>
                  <a:pt x="2896" y="672"/>
                  <a:pt x="1368" y="552"/>
                  <a:pt x="816" y="432"/>
                </a:cubicBezTo>
                <a:cubicBezTo>
                  <a:pt x="264" y="312"/>
                  <a:pt x="170" y="90"/>
                  <a:pt x="0" y="0"/>
                </a:cubicBezTo>
              </a:path>
            </a:pathLst>
          </a:custGeom>
          <a:noFill/>
          <a:ln cap="rnd" w="5400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42800" y="2622600"/>
            <a:ext cx="716040" cy="512640"/>
          </a:xfrm>
          <a:prstGeom prst="upArrow">
            <a:avLst>
              <a:gd name="adj1" fmla="val 79398"/>
              <a:gd name="adj2" fmla="val 26875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33520" y="27432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095880" y="2209680"/>
            <a:ext cx="191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Wow 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F561-AFCC-4E7B-97BB-8617B62BF69A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rt 13223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2187720" y="2036880"/>
            <a:ext cx="4212000" cy="2662920"/>
            <a:chOff x="2187720" y="2036880"/>
            <a:chExt cx="4212000" cy="2662920"/>
          </a:xfrm>
        </p:grpSpPr>
        <p:sp>
          <p:nvSpPr>
            <p:cNvPr id="562" name=""/>
            <p:cNvSpPr/>
            <p:nvPr/>
          </p:nvSpPr>
          <p:spPr>
            <a:xfrm>
              <a:off x="4158000" y="2092680"/>
              <a:ext cx="1263600" cy="897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890240" y="2421720"/>
              <a:ext cx="1263600" cy="897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136120" y="3084120"/>
              <a:ext cx="1263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715280" y="3622680"/>
              <a:ext cx="1263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872160" y="3802680"/>
              <a:ext cx="1263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030480" y="3802680"/>
              <a:ext cx="1263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402640" y="3469320"/>
              <a:ext cx="1263600" cy="897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187720" y="3084120"/>
              <a:ext cx="1263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504160" y="2511720"/>
              <a:ext cx="1263600" cy="897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205440" y="2036880"/>
              <a:ext cx="1263600" cy="897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881080" y="2567520"/>
              <a:ext cx="3009960" cy="18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3" name=""/>
          <p:cNvSpPr/>
          <p:nvPr/>
        </p:nvSpPr>
        <p:spPr>
          <a:xfrm>
            <a:off x="457200" y="1523880"/>
            <a:ext cx="19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al-up 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762120" y="3580920"/>
            <a:ext cx="12189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42800" y="3233880"/>
            <a:ext cx="716040" cy="512640"/>
          </a:xfrm>
          <a:prstGeom prst="upArrow">
            <a:avLst>
              <a:gd name="adj1" fmla="val 79398"/>
              <a:gd name="adj2" fmla="val 2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38120" y="3870360"/>
            <a:ext cx="716040" cy="512640"/>
          </a:xfrm>
          <a:prstGeom prst="upArrow">
            <a:avLst>
              <a:gd name="adj1" fmla="val 79398"/>
              <a:gd name="adj2" fmla="val 2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2800" y="4465800"/>
            <a:ext cx="716040" cy="512640"/>
          </a:xfrm>
          <a:prstGeom prst="upArrow">
            <a:avLst>
              <a:gd name="adj1" fmla="val 79398"/>
              <a:gd name="adj2" fmla="val 2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38120" y="5105520"/>
            <a:ext cx="716040" cy="512640"/>
          </a:xfrm>
          <a:prstGeom prst="upArrow">
            <a:avLst>
              <a:gd name="adj1" fmla="val 79398"/>
              <a:gd name="adj2" fmla="val 2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38120" y="2027160"/>
            <a:ext cx="716040" cy="513000"/>
          </a:xfrm>
          <a:prstGeom prst="upArrow">
            <a:avLst>
              <a:gd name="adj1" fmla="val 79398"/>
              <a:gd name="adj2" fmla="val 2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1752480" y="3276720"/>
            <a:ext cx="533520" cy="533160"/>
            <a:chOff x="1752480" y="3276720"/>
            <a:chExt cx="533520" cy="533160"/>
          </a:xfrm>
        </p:grpSpPr>
        <p:sp>
          <p:nvSpPr>
            <p:cNvPr id="581" name=""/>
            <p:cNvSpPr/>
            <p:nvPr/>
          </p:nvSpPr>
          <p:spPr>
            <a:xfrm>
              <a:off x="1752480" y="3276720"/>
              <a:ext cx="533520" cy="533160"/>
            </a:xfrm>
            <a:prstGeom prst="hexagon">
              <a:avLst>
                <a:gd name="adj" fmla="val 25017"/>
                <a:gd name="vf" fmla="val 11547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793160" y="3321000"/>
              <a:ext cx="451800" cy="44424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444240"/>
                <a:gd name="textAreaBottom" fmla="*/ 444600 h 44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533520" y="4495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029200" y="1905120"/>
            <a:ext cx="716040" cy="512640"/>
          </a:xfrm>
          <a:prstGeom prst="upArrow">
            <a:avLst>
              <a:gd name="adj1" fmla="val 79398"/>
              <a:gd name="adj2" fmla="val 26875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867280" y="2819520"/>
            <a:ext cx="716040" cy="512640"/>
          </a:xfrm>
          <a:prstGeom prst="upArrow">
            <a:avLst>
              <a:gd name="adj1" fmla="val 79398"/>
              <a:gd name="adj2" fmla="val 26875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715000" y="3886200"/>
            <a:ext cx="716040" cy="512640"/>
          </a:xfrm>
          <a:prstGeom prst="upArrow">
            <a:avLst>
              <a:gd name="adj1" fmla="val 79398"/>
              <a:gd name="adj2" fmla="val 26875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38080" y="2211480"/>
            <a:ext cx="4489560" cy="2144520"/>
          </a:xfrm>
          <a:custGeom>
            <a:avLst/>
            <a:gdLst/>
            <a:ahLst/>
            <a:rect l="l" t="t" r="r" b="b"/>
            <a:pathLst>
              <a:path w="2828" h="1351">
                <a:moveTo>
                  <a:pt x="2828" y="0"/>
                </a:moveTo>
                <a:cubicBezTo>
                  <a:pt x="2466" y="125"/>
                  <a:pt x="1127" y="526"/>
                  <a:pt x="656" y="751"/>
                </a:cubicBezTo>
                <a:cubicBezTo>
                  <a:pt x="176" y="823"/>
                  <a:pt x="137" y="1226"/>
                  <a:pt x="0" y="1351"/>
                </a:cubicBezTo>
              </a:path>
            </a:pathLst>
          </a:custGeom>
          <a:noFill/>
          <a:ln cap="rnd" w="5400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901800" y="3124080"/>
            <a:ext cx="5270400" cy="1282680"/>
          </a:xfrm>
          <a:custGeom>
            <a:avLst/>
            <a:gdLst/>
            <a:ahLst/>
            <a:rect l="l" t="t" r="r" b="b"/>
            <a:pathLst>
              <a:path w="3320" h="808">
                <a:moveTo>
                  <a:pt x="3320" y="0"/>
                </a:moveTo>
                <a:cubicBezTo>
                  <a:pt x="2880" y="48"/>
                  <a:pt x="1233" y="153"/>
                  <a:pt x="680" y="288"/>
                </a:cubicBezTo>
                <a:cubicBezTo>
                  <a:pt x="112" y="272"/>
                  <a:pt x="142" y="700"/>
                  <a:pt x="0" y="808"/>
                </a:cubicBezTo>
              </a:path>
            </a:pathLst>
          </a:custGeom>
          <a:noFill/>
          <a:ln cap="rnd" w="5400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015920" y="3543480"/>
            <a:ext cx="5004000" cy="888840"/>
          </a:xfrm>
          <a:custGeom>
            <a:avLst/>
            <a:gdLst/>
            <a:ahLst/>
            <a:rect l="l" t="t" r="r" b="b"/>
            <a:pathLst>
              <a:path w="3152" h="560">
                <a:moveTo>
                  <a:pt x="3152" y="408"/>
                </a:moveTo>
                <a:cubicBezTo>
                  <a:pt x="2736" y="360"/>
                  <a:pt x="1181" y="95"/>
                  <a:pt x="656" y="120"/>
                </a:cubicBezTo>
                <a:cubicBezTo>
                  <a:pt x="104" y="0"/>
                  <a:pt x="137" y="468"/>
                  <a:pt x="0" y="560"/>
                </a:cubicBezTo>
              </a:path>
            </a:pathLst>
          </a:custGeom>
          <a:noFill/>
          <a:ln cap="rnd" w="5400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42800" y="2622600"/>
            <a:ext cx="716040" cy="512640"/>
          </a:xfrm>
          <a:prstGeom prst="upArrow">
            <a:avLst>
              <a:gd name="adj1" fmla="val 79398"/>
              <a:gd name="adj2" fmla="val 2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33520" y="27432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095880" y="2209680"/>
            <a:ext cx="191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Wow 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508040" y="4613400"/>
            <a:ext cx="6340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A hangs up, releases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B dials up, and is assigned A’s old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Wow users try to reconnect to A, thereby flooding B with conn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3E2F-FFD6-4A1E-B5DC-C13CD9B1FC18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:30am – 12:30 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ext around firew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I model, sniffers, packet headers, 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rt gu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cket 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yond the real meaning of these fiel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&amp;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073C-3458-4DC3-8C8C-F78D4307B2E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 flipH="1">
            <a:off x="949320" y="3567240"/>
            <a:ext cx="196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rt 33460 tracerou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1981080" y="1500120"/>
            <a:ext cx="4775760" cy="4442040"/>
            <a:chOff x="1981080" y="1500120"/>
            <a:chExt cx="4775760" cy="4442040"/>
          </a:xfrm>
        </p:grpSpPr>
        <p:sp>
          <p:nvSpPr>
            <p:cNvPr id="597" name=""/>
            <p:cNvSpPr/>
            <p:nvPr/>
          </p:nvSpPr>
          <p:spPr>
            <a:xfrm>
              <a:off x="4214880" y="1593360"/>
              <a:ext cx="1432800" cy="1497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045400" y="2142360"/>
              <a:ext cx="1432800" cy="1497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324040" y="3247200"/>
              <a:ext cx="1432800" cy="149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846680" y="4145760"/>
              <a:ext cx="1432800" cy="149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891240" y="4445640"/>
              <a:ext cx="1432800" cy="149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936520" y="4445640"/>
              <a:ext cx="1432800" cy="149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224440" y="3889440"/>
              <a:ext cx="1432800" cy="1497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981080" y="3247200"/>
              <a:ext cx="1432800" cy="149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339640" y="2292120"/>
              <a:ext cx="1432800" cy="1497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135240" y="1500120"/>
              <a:ext cx="1432800" cy="1497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767320" y="2385720"/>
              <a:ext cx="3412800" cy="3119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>
            <a:off x="6478560" y="4908600"/>
            <a:ext cx="127620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4x0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644400" y="2543040"/>
            <a:ext cx="609480" cy="2057400"/>
            <a:chOff x="644400" y="2543040"/>
            <a:chExt cx="609480" cy="2057400"/>
          </a:xfrm>
        </p:grpSpPr>
        <p:sp>
          <p:nvSpPr>
            <p:cNvPr id="610" name=""/>
            <p:cNvSpPr/>
            <p:nvPr/>
          </p:nvSpPr>
          <p:spPr>
            <a:xfrm>
              <a:off x="948960" y="2842920"/>
              <a:ext cx="0" cy="158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44400" y="3125520"/>
              <a:ext cx="609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..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44400" y="3720960"/>
              <a:ext cx="609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..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44400" y="4232160"/>
              <a:ext cx="609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..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44400" y="2543040"/>
              <a:ext cx="609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..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5745240" y="5576760"/>
            <a:ext cx="31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OCR A Extended"/>
              </a:rPr>
              <a:t>traceroute 192.0.2.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6240600" y="4059360"/>
            <a:ext cx="474480" cy="387360"/>
            <a:chOff x="6240600" y="4059360"/>
            <a:chExt cx="474480" cy="387360"/>
          </a:xfrm>
        </p:grpSpPr>
        <p:sp>
          <p:nvSpPr>
            <p:cNvPr id="617" name=""/>
            <p:cNvSpPr/>
            <p:nvPr/>
          </p:nvSpPr>
          <p:spPr>
            <a:xfrm>
              <a:off x="6240600" y="4059360"/>
              <a:ext cx="474480" cy="387360"/>
            </a:xfrm>
            <a:prstGeom prst="diamond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316200" y="4109400"/>
              <a:ext cx="321480" cy="286560"/>
            </a:xfrm>
            <a:custGeom>
              <a:avLst/>
              <a:gdLst>
                <a:gd name="textAreaLeft" fmla="*/ 0 w 321480"/>
                <a:gd name="textAreaRight" fmla="*/ 321840 w 321480"/>
                <a:gd name="textAreaTop" fmla="*/ 0 h 286560"/>
                <a:gd name="textAreaBottom" fmla="*/ 286560 h 28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1312560" y="3376440"/>
            <a:ext cx="648000" cy="380880"/>
            <a:chOff x="1312560" y="3376440"/>
            <a:chExt cx="648000" cy="380880"/>
          </a:xfrm>
        </p:grpSpPr>
        <p:sp>
          <p:nvSpPr>
            <p:cNvPr id="620" name=""/>
            <p:cNvSpPr/>
            <p:nvPr/>
          </p:nvSpPr>
          <p:spPr>
            <a:xfrm rot="16200000">
              <a:off x="1612080" y="3408840"/>
              <a:ext cx="380880" cy="316080"/>
            </a:xfrm>
            <a:custGeom>
              <a:avLst/>
              <a:gdLst>
                <a:gd name="textAreaLeft" fmla="*/ 83520 w 380880"/>
                <a:gd name="textAreaRight" fmla="*/ 297360 w 380880"/>
                <a:gd name="textAreaTop" fmla="*/ 69480 h 316080"/>
                <a:gd name="textAreaBottom" fmla="*/ 246600 h 31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 rot="5400000">
              <a:off x="1279440" y="3408840"/>
              <a:ext cx="380880" cy="315720"/>
            </a:xfrm>
            <a:custGeom>
              <a:avLst/>
              <a:gdLst>
                <a:gd name="textAreaLeft" fmla="*/ 83520 w 380880"/>
                <a:gd name="textAreaRight" fmla="*/ 297360 w 380880"/>
                <a:gd name="textAreaTop" fmla="*/ 69480 h 315720"/>
                <a:gd name="textAreaBottom" fmla="*/ 246240 h 31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2660760" y="3235320"/>
            <a:ext cx="474480" cy="387360"/>
            <a:chOff x="2660760" y="3235320"/>
            <a:chExt cx="474480" cy="387360"/>
          </a:xfrm>
        </p:grpSpPr>
        <p:sp>
          <p:nvSpPr>
            <p:cNvPr id="623" name=""/>
            <p:cNvSpPr/>
            <p:nvPr/>
          </p:nvSpPr>
          <p:spPr>
            <a:xfrm>
              <a:off x="2660760" y="3235320"/>
              <a:ext cx="474480" cy="387360"/>
            </a:xfrm>
            <a:prstGeom prst="diamond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736360" y="3285360"/>
              <a:ext cx="321480" cy="286560"/>
            </a:xfrm>
            <a:custGeom>
              <a:avLst/>
              <a:gdLst>
                <a:gd name="textAreaLeft" fmla="*/ 0 w 321480"/>
                <a:gd name="textAreaRight" fmla="*/ 321840 w 321480"/>
                <a:gd name="textAreaTop" fmla="*/ 0 h 286560"/>
                <a:gd name="textAreaBottom" fmla="*/ 286560 h 28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3419640" y="2803680"/>
            <a:ext cx="474480" cy="387360"/>
            <a:chOff x="3419640" y="2803680"/>
            <a:chExt cx="474480" cy="387360"/>
          </a:xfrm>
        </p:grpSpPr>
        <p:sp>
          <p:nvSpPr>
            <p:cNvPr id="626" name=""/>
            <p:cNvSpPr/>
            <p:nvPr/>
          </p:nvSpPr>
          <p:spPr>
            <a:xfrm>
              <a:off x="3419640" y="2803680"/>
              <a:ext cx="474480" cy="387360"/>
            </a:xfrm>
            <a:prstGeom prst="diamond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495240" y="2853720"/>
              <a:ext cx="321480" cy="286560"/>
            </a:xfrm>
            <a:custGeom>
              <a:avLst/>
              <a:gdLst>
                <a:gd name="textAreaLeft" fmla="*/ 0 w 321480"/>
                <a:gd name="textAreaRight" fmla="*/ 321840 w 321480"/>
                <a:gd name="textAreaTop" fmla="*/ 0 h 286560"/>
                <a:gd name="textAreaBottom" fmla="*/ 286560 h 28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3495600" y="3816360"/>
            <a:ext cx="474840" cy="387360"/>
            <a:chOff x="3495600" y="3816360"/>
            <a:chExt cx="474840" cy="387360"/>
          </a:xfrm>
        </p:grpSpPr>
        <p:sp>
          <p:nvSpPr>
            <p:cNvPr id="629" name=""/>
            <p:cNvSpPr/>
            <p:nvPr/>
          </p:nvSpPr>
          <p:spPr>
            <a:xfrm>
              <a:off x="3495600" y="3816360"/>
              <a:ext cx="474840" cy="387360"/>
            </a:xfrm>
            <a:prstGeom prst="diamond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571560" y="3866400"/>
              <a:ext cx="321480" cy="286560"/>
            </a:xfrm>
            <a:custGeom>
              <a:avLst/>
              <a:gdLst>
                <a:gd name="textAreaLeft" fmla="*/ 0 w 321480"/>
                <a:gd name="textAreaRight" fmla="*/ 321840 w 321480"/>
                <a:gd name="textAreaTop" fmla="*/ 0 h 286560"/>
                <a:gd name="textAreaBottom" fmla="*/ 286560 h 28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4568760" y="4521240"/>
            <a:ext cx="474840" cy="387360"/>
            <a:chOff x="4568760" y="4521240"/>
            <a:chExt cx="474840" cy="387360"/>
          </a:xfrm>
        </p:grpSpPr>
        <p:sp>
          <p:nvSpPr>
            <p:cNvPr id="632" name=""/>
            <p:cNvSpPr/>
            <p:nvPr/>
          </p:nvSpPr>
          <p:spPr>
            <a:xfrm>
              <a:off x="4568760" y="4521240"/>
              <a:ext cx="474840" cy="387360"/>
            </a:xfrm>
            <a:prstGeom prst="diamond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644720" y="4571280"/>
              <a:ext cx="321480" cy="286560"/>
            </a:xfrm>
            <a:custGeom>
              <a:avLst/>
              <a:gdLst>
                <a:gd name="textAreaLeft" fmla="*/ 0 w 321480"/>
                <a:gd name="textAreaRight" fmla="*/ 321840 w 321480"/>
                <a:gd name="textAreaTop" fmla="*/ 0 h 286560"/>
                <a:gd name="textAreaBottom" fmla="*/ 286560 h 28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5173560" y="3597120"/>
            <a:ext cx="474840" cy="387360"/>
            <a:chOff x="5173560" y="3597120"/>
            <a:chExt cx="474840" cy="387360"/>
          </a:xfrm>
        </p:grpSpPr>
        <p:sp>
          <p:nvSpPr>
            <p:cNvPr id="635" name=""/>
            <p:cNvSpPr/>
            <p:nvPr/>
          </p:nvSpPr>
          <p:spPr>
            <a:xfrm>
              <a:off x="5173560" y="3597120"/>
              <a:ext cx="474840" cy="387360"/>
            </a:xfrm>
            <a:prstGeom prst="diamond">
              <a:avLst/>
            </a:prstGeom>
            <a:blipFill rotWithShape="0">
              <a:blip r:embed="rId1"/>
              <a:srcRect/>
              <a:tile tx="0" ty="0" sx="100000" sy="100000" algn="ctr"/>
            </a:blip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249880" y="3648240"/>
              <a:ext cx="320760" cy="285480"/>
            </a:xfrm>
            <a:custGeom>
              <a:avLst/>
              <a:gdLst>
                <a:gd name="textAreaLeft" fmla="*/ 0 w 320760"/>
                <a:gd name="textAreaRight" fmla="*/ 321120 w 32076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 flipH="1">
            <a:off x="2000160" y="3433680"/>
            <a:ext cx="67968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3073320" y="3092400"/>
            <a:ext cx="417600" cy="19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H="1" flipV="1">
            <a:off x="3657600" y="3190680"/>
            <a:ext cx="46080" cy="62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H="1" flipV="1">
            <a:off x="3838680" y="4211280"/>
            <a:ext cx="752400" cy="46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 flipV="1">
            <a:off x="6637320" y="4395600"/>
            <a:ext cx="357120" cy="46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H="1">
            <a:off x="5046840" y="4341960"/>
            <a:ext cx="119376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3078000" y="3137040"/>
            <a:ext cx="41760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H="1" flipV="1">
            <a:off x="3703680" y="3190680"/>
            <a:ext cx="46080" cy="62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H="1" flipV="1">
            <a:off x="3611520" y="3190680"/>
            <a:ext cx="46080" cy="62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 flipV="1">
            <a:off x="3894120" y="4135320"/>
            <a:ext cx="752400" cy="462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H="1" flipV="1">
            <a:off x="3819600" y="4163760"/>
            <a:ext cx="752400" cy="46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 flipV="1">
            <a:off x="3838680" y="4146120"/>
            <a:ext cx="752400" cy="46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H="1">
            <a:off x="5046840" y="4341960"/>
            <a:ext cx="119376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5051520" y="4367160"/>
            <a:ext cx="119376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5051520" y="4395960"/>
            <a:ext cx="119376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5051520" y="4417920"/>
            <a:ext cx="119376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5051520" y="4446720"/>
            <a:ext cx="119376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 flipV="1">
            <a:off x="6637320" y="4365360"/>
            <a:ext cx="357120" cy="46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H="1" flipV="1">
            <a:off x="6578640" y="4441680"/>
            <a:ext cx="357120" cy="462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637320" y="4290840"/>
            <a:ext cx="357120" cy="462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H="1" flipV="1">
            <a:off x="6637320" y="4262040"/>
            <a:ext cx="357120" cy="46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H="1" flipV="1">
            <a:off x="6578640" y="4395600"/>
            <a:ext cx="357120" cy="46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4214880" y="3286080"/>
            <a:ext cx="474480" cy="387360"/>
            <a:chOff x="4214880" y="3286080"/>
            <a:chExt cx="474480" cy="387360"/>
          </a:xfrm>
        </p:grpSpPr>
        <p:sp>
          <p:nvSpPr>
            <p:cNvPr id="660" name=""/>
            <p:cNvSpPr/>
            <p:nvPr/>
          </p:nvSpPr>
          <p:spPr>
            <a:xfrm>
              <a:off x="4214880" y="3286080"/>
              <a:ext cx="474480" cy="387360"/>
            </a:xfrm>
            <a:prstGeom prst="diamond">
              <a:avLst/>
            </a:prstGeom>
            <a:blipFill rotWithShape="0">
              <a:blip r:embed="rId2"/>
              <a:srcRect/>
              <a:tile tx="0" ty="0" sx="100000" sy="100000" algn="ctr"/>
            </a:blip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290840" y="3337200"/>
              <a:ext cx="320400" cy="28548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5051520" y="2703600"/>
            <a:ext cx="474480" cy="387360"/>
            <a:chOff x="5051520" y="2703600"/>
            <a:chExt cx="474480" cy="387360"/>
          </a:xfrm>
        </p:grpSpPr>
        <p:sp>
          <p:nvSpPr>
            <p:cNvPr id="663" name=""/>
            <p:cNvSpPr/>
            <p:nvPr/>
          </p:nvSpPr>
          <p:spPr>
            <a:xfrm>
              <a:off x="5051520" y="2703600"/>
              <a:ext cx="474480" cy="387360"/>
            </a:xfrm>
            <a:prstGeom prst="diamond">
              <a:avLst/>
            </a:prstGeom>
            <a:blipFill rotWithShape="0">
              <a:blip r:embed="rId3"/>
              <a:srcRect/>
              <a:tile tx="0" ty="0" sx="100000" sy="100000" algn="ctr"/>
            </a:blip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27480" y="2754720"/>
              <a:ext cx="320400" cy="28548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4052880" y="2316240"/>
            <a:ext cx="474840" cy="387360"/>
            <a:chOff x="4052880" y="2316240"/>
            <a:chExt cx="474840" cy="387360"/>
          </a:xfrm>
        </p:grpSpPr>
        <p:sp>
          <p:nvSpPr>
            <p:cNvPr id="666" name=""/>
            <p:cNvSpPr/>
            <p:nvPr/>
          </p:nvSpPr>
          <p:spPr>
            <a:xfrm>
              <a:off x="4052880" y="2316240"/>
              <a:ext cx="474840" cy="387360"/>
            </a:xfrm>
            <a:prstGeom prst="diamond">
              <a:avLst/>
            </a:prstGeom>
            <a:blipFill rotWithShape="0">
              <a:blip r:embed="rId4"/>
              <a:srcRect/>
              <a:tile tx="0" ty="0" sx="100000" sy="100000" algn="ctr"/>
            </a:blip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129200" y="2367360"/>
              <a:ext cx="320760" cy="285480"/>
            </a:xfrm>
            <a:custGeom>
              <a:avLst/>
              <a:gdLst>
                <a:gd name="textAreaLeft" fmla="*/ 0 w 320760"/>
                <a:gd name="textAreaRight" fmla="*/ 321120 w 32076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2736720" y="4172040"/>
            <a:ext cx="474840" cy="387360"/>
            <a:chOff x="2736720" y="4172040"/>
            <a:chExt cx="474840" cy="387360"/>
          </a:xfrm>
        </p:grpSpPr>
        <p:sp>
          <p:nvSpPr>
            <p:cNvPr id="669" name=""/>
            <p:cNvSpPr/>
            <p:nvPr/>
          </p:nvSpPr>
          <p:spPr>
            <a:xfrm>
              <a:off x="2736720" y="4172040"/>
              <a:ext cx="474840" cy="387360"/>
            </a:xfrm>
            <a:prstGeom prst="diamond">
              <a:avLst/>
            </a:prstGeom>
            <a:blipFill rotWithShape="0">
              <a:blip r:embed="rId5"/>
              <a:srcRect/>
              <a:tile tx="0" ty="0" sx="100000" sy="100000" algn="ctr"/>
            </a:blip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813040" y="4223160"/>
              <a:ext cx="320760" cy="285480"/>
            </a:xfrm>
            <a:custGeom>
              <a:avLst/>
              <a:gdLst>
                <a:gd name="textAreaLeft" fmla="*/ 0 w 320760"/>
                <a:gd name="textAreaRight" fmla="*/ 321120 w 32076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3414600" y="4714920"/>
            <a:ext cx="474840" cy="387360"/>
            <a:chOff x="3414600" y="4714920"/>
            <a:chExt cx="474840" cy="387360"/>
          </a:xfrm>
        </p:grpSpPr>
        <p:sp>
          <p:nvSpPr>
            <p:cNvPr id="672" name=""/>
            <p:cNvSpPr/>
            <p:nvPr/>
          </p:nvSpPr>
          <p:spPr>
            <a:xfrm>
              <a:off x="3414600" y="4714920"/>
              <a:ext cx="474840" cy="387360"/>
            </a:xfrm>
            <a:prstGeom prst="diamond">
              <a:avLst/>
            </a:prstGeom>
            <a:blipFill rotWithShape="0">
              <a:blip r:embed="rId6"/>
              <a:srcRect/>
              <a:tile tx="0" ty="0" sx="100000" sy="100000" algn="ctr"/>
            </a:blip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490920" y="4766040"/>
              <a:ext cx="320760" cy="285480"/>
            </a:xfrm>
            <a:custGeom>
              <a:avLst/>
              <a:gdLst>
                <a:gd name="textAreaLeft" fmla="*/ 0 w 320760"/>
                <a:gd name="textAreaRight" fmla="*/ 321120 w 32076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4527720" y="5189400"/>
            <a:ext cx="474480" cy="387360"/>
            <a:chOff x="4527720" y="5189400"/>
            <a:chExt cx="474480" cy="387360"/>
          </a:xfrm>
        </p:grpSpPr>
        <p:sp>
          <p:nvSpPr>
            <p:cNvPr id="675" name=""/>
            <p:cNvSpPr/>
            <p:nvPr/>
          </p:nvSpPr>
          <p:spPr>
            <a:xfrm>
              <a:off x="4527720" y="5189400"/>
              <a:ext cx="474480" cy="387360"/>
            </a:xfrm>
            <a:prstGeom prst="diamond">
              <a:avLst/>
            </a:prstGeom>
            <a:blipFill rotWithShape="0">
              <a:blip r:embed="rId7"/>
              <a:srcRect/>
              <a:tile tx="0" ty="0" sx="100000" sy="100000" algn="ctr"/>
            </a:blip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603680" y="5240520"/>
              <a:ext cx="320400" cy="28548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7" name=""/>
          <p:cNvSpPr/>
          <p:nvPr/>
        </p:nvSpPr>
        <p:spPr>
          <a:xfrm flipH="1" flipV="1">
            <a:off x="6535800" y="4446360"/>
            <a:ext cx="357120" cy="46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5051520" y="4471920"/>
            <a:ext cx="119376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 flipV="1">
            <a:off x="3914280" y="4109760"/>
            <a:ext cx="752760" cy="46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 flipV="1">
            <a:off x="3747960" y="3190680"/>
            <a:ext cx="46080" cy="62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3133800" y="3149640"/>
            <a:ext cx="41760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2000160" y="3414600"/>
            <a:ext cx="67968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H="1" flipV="1">
            <a:off x="1253880" y="3286080"/>
            <a:ext cx="215640" cy="14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27240" y="4648320"/>
            <a:ext cx="3344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ewall se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ird TT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CMP TTL exc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ports around 334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68D7-CD05-487B-ACED-1699435A7100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&amp;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there ports that people have seen on their firewall that you would like discuss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F947-9BF5-4CB6-9EB7-7A63A516CC4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dern No. 20"/>
              </a:rPr>
              <a:t>§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2 Source p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ually, ports are random and are meaningl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, the pattern can indicate the source of the atta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use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77AE-A008-46A6-8F8C-7000709DC99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 flipH="1">
            <a:off x="1523880" y="3429000"/>
            <a:ext cx="196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rt 20 FT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3352680" y="1981080"/>
            <a:ext cx="2742480" cy="2662920"/>
            <a:chOff x="3352680" y="1981080"/>
            <a:chExt cx="2742480" cy="2662920"/>
          </a:xfrm>
        </p:grpSpPr>
        <p:sp>
          <p:nvSpPr>
            <p:cNvPr id="692" name=""/>
            <p:cNvSpPr/>
            <p:nvPr/>
          </p:nvSpPr>
          <p:spPr>
            <a:xfrm>
              <a:off x="4635360" y="203688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112360" y="236592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272560" y="302832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998240" y="356724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449600" y="374688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01320" y="374688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492360" y="341352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352680" y="302832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558600" y="245592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015440" y="198108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804120" y="2512080"/>
              <a:ext cx="1959840" cy="1870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3" name=""/>
          <p:cNvSpPr/>
          <p:nvPr/>
        </p:nvSpPr>
        <p:spPr>
          <a:xfrm>
            <a:off x="5715000" y="3048120"/>
            <a:ext cx="127620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4" name=""/>
          <p:cNvGrpSpPr/>
          <p:nvPr/>
        </p:nvGrpSpPr>
        <p:grpSpPr>
          <a:xfrm>
            <a:off x="2361960" y="3232080"/>
            <a:ext cx="648000" cy="380880"/>
            <a:chOff x="2361960" y="3232080"/>
            <a:chExt cx="648000" cy="380880"/>
          </a:xfrm>
        </p:grpSpPr>
        <p:sp>
          <p:nvSpPr>
            <p:cNvPr id="705" name=""/>
            <p:cNvSpPr/>
            <p:nvPr/>
          </p:nvSpPr>
          <p:spPr>
            <a:xfrm rot="16200000">
              <a:off x="2661480" y="3264480"/>
              <a:ext cx="380880" cy="316080"/>
            </a:xfrm>
            <a:custGeom>
              <a:avLst/>
              <a:gdLst>
                <a:gd name="textAreaLeft" fmla="*/ 83520 w 380880"/>
                <a:gd name="textAreaRight" fmla="*/ 297360 w 380880"/>
                <a:gd name="textAreaTop" fmla="*/ 69480 h 316080"/>
                <a:gd name="textAreaBottom" fmla="*/ 246600 h 31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 rot="5400000">
              <a:off x="2328840" y="3264480"/>
              <a:ext cx="380880" cy="315720"/>
            </a:xfrm>
            <a:custGeom>
              <a:avLst/>
              <a:gdLst>
                <a:gd name="textAreaLeft" fmla="*/ 83520 w 380880"/>
                <a:gd name="textAreaRight" fmla="*/ 297360 w 380880"/>
                <a:gd name="textAreaTop" fmla="*/ 69480 h 315720"/>
                <a:gd name="textAreaBottom" fmla="*/ 246240 h 31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1219320" y="2400480"/>
            <a:ext cx="609480" cy="2057400"/>
            <a:chOff x="1219320" y="2400480"/>
            <a:chExt cx="609480" cy="2057400"/>
          </a:xfrm>
        </p:grpSpPr>
        <p:sp>
          <p:nvSpPr>
            <p:cNvPr id="708" name=""/>
            <p:cNvSpPr/>
            <p:nvPr/>
          </p:nvSpPr>
          <p:spPr>
            <a:xfrm>
              <a:off x="1523880" y="2700360"/>
              <a:ext cx="0" cy="158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982960"/>
              <a:ext cx="609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219320" y="3578400"/>
              <a:ext cx="609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219320" y="4089600"/>
              <a:ext cx="609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219320" y="2400480"/>
              <a:ext cx="609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3" name=""/>
          <p:cNvSpPr/>
          <p:nvPr/>
        </p:nvSpPr>
        <p:spPr>
          <a:xfrm>
            <a:off x="1981080" y="3124080"/>
            <a:ext cx="3733920" cy="0"/>
          </a:xfrm>
          <a:prstGeom prst="line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87240" y="5299200"/>
            <a:ext cx="761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TP client programs open a port for the server to connect to, then tell the server this port using the “PORT” comm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362320" y="25146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PORT 192,0,2,73,4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2971800" y="3276720"/>
            <a:ext cx="2743200" cy="0"/>
          </a:xfrm>
          <a:prstGeom prst="line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124080" y="335268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on to client in order to send the requested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2741-5DED-48DA-B6A9-3DDDFE4759BF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 flipH="1">
            <a:off x="1523880" y="3429000"/>
            <a:ext cx="196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rt 20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3352680" y="1981080"/>
            <a:ext cx="2742480" cy="2662920"/>
            <a:chOff x="3352680" y="1981080"/>
            <a:chExt cx="2742480" cy="2662920"/>
          </a:xfrm>
        </p:grpSpPr>
        <p:sp>
          <p:nvSpPr>
            <p:cNvPr id="721" name=""/>
            <p:cNvSpPr/>
            <p:nvPr/>
          </p:nvSpPr>
          <p:spPr>
            <a:xfrm>
              <a:off x="4635360" y="203688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112360" y="236592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272560" y="302832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998240" y="356724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449600" y="374688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901320" y="374688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492360" y="341352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352680" y="302832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558600" y="245592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015440" y="198108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804120" y="2512080"/>
              <a:ext cx="1959840" cy="1870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2" name=""/>
          <p:cNvSpPr/>
          <p:nvPr/>
        </p:nvSpPr>
        <p:spPr>
          <a:xfrm>
            <a:off x="5715000" y="3048120"/>
            <a:ext cx="127620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2361960" y="3232080"/>
            <a:ext cx="648000" cy="380880"/>
            <a:chOff x="2361960" y="3232080"/>
            <a:chExt cx="648000" cy="380880"/>
          </a:xfrm>
        </p:grpSpPr>
        <p:sp>
          <p:nvSpPr>
            <p:cNvPr id="734" name=""/>
            <p:cNvSpPr/>
            <p:nvPr/>
          </p:nvSpPr>
          <p:spPr>
            <a:xfrm rot="16200000">
              <a:off x="2661480" y="3264480"/>
              <a:ext cx="380880" cy="316080"/>
            </a:xfrm>
            <a:custGeom>
              <a:avLst/>
              <a:gdLst>
                <a:gd name="textAreaLeft" fmla="*/ 83520 w 380880"/>
                <a:gd name="textAreaRight" fmla="*/ 297360 w 380880"/>
                <a:gd name="textAreaTop" fmla="*/ 69480 h 316080"/>
                <a:gd name="textAreaBottom" fmla="*/ 246600 h 31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 rot="5400000">
              <a:off x="2328840" y="3264480"/>
              <a:ext cx="380880" cy="315720"/>
            </a:xfrm>
            <a:custGeom>
              <a:avLst/>
              <a:gdLst>
                <a:gd name="textAreaLeft" fmla="*/ 83520 w 380880"/>
                <a:gd name="textAreaRight" fmla="*/ 297360 w 380880"/>
                <a:gd name="textAreaTop" fmla="*/ 69480 h 315720"/>
                <a:gd name="textAreaBottom" fmla="*/ 246240 h 31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6" name=""/>
          <p:cNvGrpSpPr/>
          <p:nvPr/>
        </p:nvGrpSpPr>
        <p:grpSpPr>
          <a:xfrm>
            <a:off x="1219320" y="2400480"/>
            <a:ext cx="609480" cy="2057400"/>
            <a:chOff x="1219320" y="2400480"/>
            <a:chExt cx="609480" cy="2057400"/>
          </a:xfrm>
        </p:grpSpPr>
        <p:sp>
          <p:nvSpPr>
            <p:cNvPr id="737" name=""/>
            <p:cNvSpPr/>
            <p:nvPr/>
          </p:nvSpPr>
          <p:spPr>
            <a:xfrm>
              <a:off x="1523880" y="2700360"/>
              <a:ext cx="0" cy="158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219320" y="2982960"/>
              <a:ext cx="609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219320" y="3578400"/>
              <a:ext cx="609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219320" y="4089600"/>
              <a:ext cx="609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219320" y="2400480"/>
              <a:ext cx="609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2" name=""/>
          <p:cNvSpPr/>
          <p:nvPr/>
        </p:nvSpPr>
        <p:spPr>
          <a:xfrm>
            <a:off x="1981080" y="3124080"/>
            <a:ext cx="3733920" cy="0"/>
          </a:xfrm>
          <a:prstGeom prst="line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85800" y="4876920"/>
            <a:ext cx="761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browsers use PASV mode instead, which passes through firewalls. Some FTP clients cannot support PASV mode, such as Windows FTP command-lin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286000" y="25909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PAS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981080" y="3276720"/>
            <a:ext cx="3733920" cy="0"/>
          </a:xfrm>
          <a:prstGeom prst="line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124080" y="335268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PASV, server tells client another port to connect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44E5-4A0D-4A8A-AA56-71D382A4BAEF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/>
          <p:nvPr/>
        </p:nvSpPr>
        <p:spPr>
          <a:xfrm flipH="1">
            <a:off x="1523880" y="3429000"/>
            <a:ext cx="196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rt 53 D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9" name=""/>
          <p:cNvGrpSpPr/>
          <p:nvPr/>
        </p:nvGrpSpPr>
        <p:grpSpPr>
          <a:xfrm>
            <a:off x="3352680" y="1981080"/>
            <a:ext cx="2742480" cy="2662920"/>
            <a:chOff x="3352680" y="1981080"/>
            <a:chExt cx="2742480" cy="2662920"/>
          </a:xfrm>
        </p:grpSpPr>
        <p:sp>
          <p:nvSpPr>
            <p:cNvPr id="750" name=""/>
            <p:cNvSpPr/>
            <p:nvPr/>
          </p:nvSpPr>
          <p:spPr>
            <a:xfrm>
              <a:off x="4635360" y="203688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112360" y="236592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272560" y="302832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998240" y="356724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449600" y="374688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901320" y="374688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492360" y="341352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352680" y="302832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558600" y="245592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015440" y="198108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804120" y="2512080"/>
              <a:ext cx="1959840" cy="1870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1" name=""/>
          <p:cNvGrpSpPr/>
          <p:nvPr/>
        </p:nvGrpSpPr>
        <p:grpSpPr>
          <a:xfrm>
            <a:off x="2361960" y="3232080"/>
            <a:ext cx="648000" cy="380880"/>
            <a:chOff x="2361960" y="3232080"/>
            <a:chExt cx="648000" cy="380880"/>
          </a:xfrm>
        </p:grpSpPr>
        <p:sp>
          <p:nvSpPr>
            <p:cNvPr id="762" name=""/>
            <p:cNvSpPr/>
            <p:nvPr/>
          </p:nvSpPr>
          <p:spPr>
            <a:xfrm rot="16200000">
              <a:off x="2661480" y="3264480"/>
              <a:ext cx="380880" cy="316080"/>
            </a:xfrm>
            <a:custGeom>
              <a:avLst/>
              <a:gdLst>
                <a:gd name="textAreaLeft" fmla="*/ 83520 w 380880"/>
                <a:gd name="textAreaRight" fmla="*/ 297360 w 380880"/>
                <a:gd name="textAreaTop" fmla="*/ 69480 h 316080"/>
                <a:gd name="textAreaBottom" fmla="*/ 246600 h 31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 rot="5400000">
              <a:off x="2328840" y="3264480"/>
              <a:ext cx="380880" cy="315720"/>
            </a:xfrm>
            <a:custGeom>
              <a:avLst/>
              <a:gdLst>
                <a:gd name="textAreaLeft" fmla="*/ 83520 w 380880"/>
                <a:gd name="textAreaRight" fmla="*/ 297360 w 380880"/>
                <a:gd name="textAreaTop" fmla="*/ 69480 h 315720"/>
                <a:gd name="textAreaBottom" fmla="*/ 246240 h 31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4" name=""/>
          <p:cNvGrpSpPr/>
          <p:nvPr/>
        </p:nvGrpSpPr>
        <p:grpSpPr>
          <a:xfrm>
            <a:off x="1219320" y="2400480"/>
            <a:ext cx="609480" cy="2057400"/>
            <a:chOff x="1219320" y="2400480"/>
            <a:chExt cx="609480" cy="2057400"/>
          </a:xfrm>
        </p:grpSpPr>
        <p:sp>
          <p:nvSpPr>
            <p:cNvPr id="765" name=""/>
            <p:cNvSpPr/>
            <p:nvPr/>
          </p:nvSpPr>
          <p:spPr>
            <a:xfrm>
              <a:off x="1523880" y="2700360"/>
              <a:ext cx="0" cy="158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219320" y="2982960"/>
              <a:ext cx="609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219320" y="3578400"/>
              <a:ext cx="609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219320" y="4089600"/>
              <a:ext cx="609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219320" y="2400480"/>
              <a:ext cx="609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457200" y="4952880"/>
            <a:ext cx="59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less packet filters allow any packet with source address of 53 in order to allow for D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990720" y="1523880"/>
            <a:ext cx="259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PT src=53 to receive DNS rep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762520" y="3949560"/>
            <a:ext cx="127656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4x0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154560" y="4611600"/>
            <a:ext cx="2108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OCR A Extended"/>
              </a:rPr>
              <a:t>Sends all packet w/ src=5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572000" y="1752480"/>
            <a:ext cx="12762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828800" y="2133720"/>
            <a:ext cx="2743200" cy="1447560"/>
          </a:xfrm>
          <a:custGeom>
            <a:avLst/>
            <a:gdLst/>
            <a:ahLst/>
            <a:rect l="l" t="t" r="r" b="b"/>
            <a:pathLst>
              <a:path w="1728" h="912">
                <a:moveTo>
                  <a:pt x="0" y="720"/>
                </a:moveTo>
                <a:cubicBezTo>
                  <a:pt x="88" y="744"/>
                  <a:pt x="176" y="912"/>
                  <a:pt x="528" y="864"/>
                </a:cubicBezTo>
                <a:cubicBezTo>
                  <a:pt x="880" y="816"/>
                  <a:pt x="1478" y="180"/>
                  <a:pt x="1728" y="0"/>
                </a:cubicBezTo>
              </a:path>
            </a:pathLst>
          </a:custGeom>
          <a:noFill/>
          <a:ln w="540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828800" y="1905120"/>
            <a:ext cx="2743200" cy="1447560"/>
          </a:xfrm>
          <a:custGeom>
            <a:avLst/>
            <a:gdLst/>
            <a:ahLst/>
            <a:rect l="l" t="t" r="r" b="b"/>
            <a:pathLst>
              <a:path w="1728" h="912">
                <a:moveTo>
                  <a:pt x="0" y="720"/>
                </a:moveTo>
                <a:cubicBezTo>
                  <a:pt x="88" y="744"/>
                  <a:pt x="176" y="912"/>
                  <a:pt x="528" y="864"/>
                </a:cubicBezTo>
                <a:cubicBezTo>
                  <a:pt x="880" y="816"/>
                  <a:pt x="1478" y="180"/>
                  <a:pt x="1728" y="0"/>
                </a:cubicBezTo>
              </a:path>
            </a:pathLst>
          </a:custGeom>
          <a:noFill/>
          <a:ln w="54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 flipV="1">
            <a:off x="1523880" y="3352680"/>
            <a:ext cx="4572000" cy="1524240"/>
          </a:xfrm>
          <a:prstGeom prst="line">
            <a:avLst/>
          </a:prstGeom>
          <a:ln cap="rnd" w="5400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AD11-6A6D-487A-A6AF-61ED1F73891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rt 61000 IP Masquer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3733920" y="2057400"/>
            <a:ext cx="2742480" cy="2662920"/>
            <a:chOff x="3733920" y="2057400"/>
            <a:chExt cx="2742480" cy="2662920"/>
          </a:xfrm>
        </p:grpSpPr>
        <p:sp>
          <p:nvSpPr>
            <p:cNvPr id="780" name=""/>
            <p:cNvSpPr/>
            <p:nvPr/>
          </p:nvSpPr>
          <p:spPr>
            <a:xfrm>
              <a:off x="5016600" y="211320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493600" y="244224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653800" y="310464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379480" y="364356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830840" y="382320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282560" y="382320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73600" y="348984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733920" y="310464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939840" y="253224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396680" y="205740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185360" y="2588400"/>
              <a:ext cx="1959840" cy="1870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1" name=""/>
          <p:cNvSpPr/>
          <p:nvPr/>
        </p:nvSpPr>
        <p:spPr>
          <a:xfrm>
            <a:off x="6553080" y="3048120"/>
            <a:ext cx="127656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2" name=""/>
          <p:cNvGrpSpPr/>
          <p:nvPr/>
        </p:nvGrpSpPr>
        <p:grpSpPr>
          <a:xfrm>
            <a:off x="838080" y="2362320"/>
            <a:ext cx="609480" cy="2057400"/>
            <a:chOff x="838080" y="2362320"/>
            <a:chExt cx="609480" cy="2057400"/>
          </a:xfrm>
        </p:grpSpPr>
        <p:sp>
          <p:nvSpPr>
            <p:cNvPr id="793" name=""/>
            <p:cNvSpPr/>
            <p:nvPr/>
          </p:nvSpPr>
          <p:spPr>
            <a:xfrm>
              <a:off x="1142640" y="2662200"/>
              <a:ext cx="0" cy="158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838080" y="2944800"/>
              <a:ext cx="609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838080" y="3540240"/>
              <a:ext cx="609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838080" y="4051440"/>
              <a:ext cx="609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838080" y="2362320"/>
              <a:ext cx="609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8" name=""/>
          <p:cNvSpPr/>
          <p:nvPr/>
        </p:nvSpPr>
        <p:spPr>
          <a:xfrm>
            <a:off x="1600200" y="3352680"/>
            <a:ext cx="4952880" cy="0"/>
          </a:xfrm>
          <a:prstGeom prst="line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87240" y="5299200"/>
            <a:ext cx="761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s are assigned “private” addresses, the NAT changes the source address to be that of the NAT; also changes source ports to above 61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57200" y="16765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2.168.x.x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.x.x.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200400" y="3124080"/>
            <a:ext cx="609480" cy="53352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276720" y="35812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98.231.1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1B3A-E4CC-4F2F-96E1-D971051E99E7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dern No. 20"/>
              </a:rPr>
              <a:t>§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4 Windows Troj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% chance that a port probe you’ve never seen before is from somebody scanning for a Windows remote admin trojan like Back Orif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 trojan to IRC/usenet/chatrooms/mass-emai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n net for infected 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0832-B44B-45E8-8B33-8F66C9A8D04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7: Get PC Inf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6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8088120" cy="549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D47D-8169-4ACB-B51C-F068D87702E0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7: Keylogger/Redirec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8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4305240" cy="3810240"/>
          </a:xfrm>
          <a:prstGeom prst="rect">
            <a:avLst/>
          </a:prstGeom>
          <a:ln w="0">
            <a:noFill/>
          </a:ln>
        </p:spPr>
      </p:pic>
      <p:pic>
        <p:nvPicPr>
          <p:cNvPr id="809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267080" cy="3810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60C6-AD24-4A2A-9001-C53D605261D1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[CONTEXT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 switc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I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w packets from sniff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C46B-59B3-4D42-A45F-D558D29C178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7: Find F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1" name="" descr=""/>
          <p:cNvPicPr/>
          <p:nvPr/>
        </p:nvPicPr>
        <p:blipFill>
          <a:blip r:embed="rId1"/>
          <a:stretch/>
        </p:blipFill>
        <p:spPr>
          <a:xfrm>
            <a:off x="303120" y="1600200"/>
            <a:ext cx="4046760" cy="5029200"/>
          </a:xfrm>
          <a:prstGeom prst="rect">
            <a:avLst/>
          </a:prstGeom>
          <a:ln w="0">
            <a:noFill/>
          </a:ln>
        </p:spPr>
      </p:pic>
      <p:pic>
        <p:nvPicPr>
          <p:cNvPr id="812" name="" descr=""/>
          <p:cNvPicPr/>
          <p:nvPr/>
        </p:nvPicPr>
        <p:blipFill>
          <a:blip r:embed="rId2"/>
          <a:stretch/>
        </p:blipFill>
        <p:spPr>
          <a:xfrm>
            <a:off x="4419720" y="1600200"/>
            <a:ext cx="449568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4410-AA0E-41B7-A02F-33E599A7E996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7: Read Pass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4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4114800" cy="4190760"/>
          </a:xfrm>
          <a:prstGeom prst="rect">
            <a:avLst/>
          </a:prstGeom>
          <a:ln w="0">
            <a:noFill/>
          </a:ln>
        </p:spPr>
      </p:pic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87656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-site cached passw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alup logi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main log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ows 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re passw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sniff network passw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1979-7546-416A-A0D1-00C4647328E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7: Tracking Mobile Mach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7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6477120" cy="4495680"/>
          </a:xfrm>
          <a:prstGeom prst="rect">
            <a:avLst/>
          </a:prstGeom>
          <a:ln w="0">
            <a:noFill/>
          </a:ln>
        </p:spPr>
      </p:pic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7009920" y="1904760"/>
            <a:ext cx="2133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ontact hacker every time user logs in; Allows hacker to find mobile noteboo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0B87-E063-46ED-B3CF-7E2743F8974C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7: Other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creen cap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control over mouse and keyboard to insert attack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.e. when user steps away from desk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load further programs to system and run th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C800-2D3C-4F0E-BCE6-7F0BE47C55E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 estimate that there are at least 10,000 hackers who play with these troj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35D3-B86F-48B6-8FA7-6CD97CACF889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dern No. 20"/>
              </a:rPr>
              <a:t>§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13 Trapping the hack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deciphering persistent sc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 a sniffer to capture the pac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netcat to accept the TCP conn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NAT to shunt to honeypot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C1D0-BA67-4722-ABD5-03E86A31DE5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&amp;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people found trojans in their network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E630-2C64-4846-8AC5-1D308F671B1F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dern No. 20"/>
              </a:rPr>
              <a:t>§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ICM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CMP is not a transport protoc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trojans/rootkits can car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’t break in directly with IC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CMP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rol-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hackers can reset some 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ive D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firewalls map type/code to src/dst 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st saves on log format; they aren’t rel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9E98-9022-4C48-ADE9-F460A6A1DDA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"/>
          <p:cNvSpPr/>
          <p:nvPr/>
        </p:nvSpPr>
        <p:spPr>
          <a:xfrm flipH="1">
            <a:off x="1523880" y="3429000"/>
            <a:ext cx="196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 0 Echo Rep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1" name=""/>
          <p:cNvGrpSpPr/>
          <p:nvPr/>
        </p:nvGrpSpPr>
        <p:grpSpPr>
          <a:xfrm>
            <a:off x="3352680" y="1981080"/>
            <a:ext cx="2742480" cy="2662920"/>
            <a:chOff x="3352680" y="1981080"/>
            <a:chExt cx="2742480" cy="2662920"/>
          </a:xfrm>
        </p:grpSpPr>
        <p:sp>
          <p:nvSpPr>
            <p:cNvPr id="832" name=""/>
            <p:cNvSpPr/>
            <p:nvPr/>
          </p:nvSpPr>
          <p:spPr>
            <a:xfrm>
              <a:off x="4635360" y="203688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112360" y="236592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272560" y="302832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998240" y="356724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449600" y="374688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901320" y="374688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492360" y="341352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352680" y="302832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558600" y="245592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015440" y="198108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804120" y="2512080"/>
              <a:ext cx="1959840" cy="1870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"/>
          <p:cNvGrpSpPr/>
          <p:nvPr/>
        </p:nvGrpSpPr>
        <p:grpSpPr>
          <a:xfrm>
            <a:off x="2361960" y="3232080"/>
            <a:ext cx="648000" cy="380880"/>
            <a:chOff x="2361960" y="3232080"/>
            <a:chExt cx="648000" cy="380880"/>
          </a:xfrm>
        </p:grpSpPr>
        <p:sp>
          <p:nvSpPr>
            <p:cNvPr id="844" name=""/>
            <p:cNvSpPr/>
            <p:nvPr/>
          </p:nvSpPr>
          <p:spPr>
            <a:xfrm rot="16200000">
              <a:off x="2661480" y="3264480"/>
              <a:ext cx="380880" cy="316080"/>
            </a:xfrm>
            <a:custGeom>
              <a:avLst/>
              <a:gdLst>
                <a:gd name="textAreaLeft" fmla="*/ 83520 w 380880"/>
                <a:gd name="textAreaRight" fmla="*/ 297360 w 380880"/>
                <a:gd name="textAreaTop" fmla="*/ 69480 h 316080"/>
                <a:gd name="textAreaBottom" fmla="*/ 246600 h 31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 rot="5400000">
              <a:off x="2328840" y="3264480"/>
              <a:ext cx="380880" cy="315720"/>
            </a:xfrm>
            <a:custGeom>
              <a:avLst/>
              <a:gdLst>
                <a:gd name="textAreaLeft" fmla="*/ 83520 w 380880"/>
                <a:gd name="textAreaRight" fmla="*/ 297360 w 380880"/>
                <a:gd name="textAreaTop" fmla="*/ 69480 h 315720"/>
                <a:gd name="textAreaBottom" fmla="*/ 246240 h 31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6" name=""/>
          <p:cNvSpPr/>
          <p:nvPr/>
        </p:nvSpPr>
        <p:spPr>
          <a:xfrm>
            <a:off x="1523880" y="2700360"/>
            <a:ext cx="0" cy="15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219320" y="2982960"/>
            <a:ext cx="60948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219320" y="3578400"/>
            <a:ext cx="6094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219320" y="4089240"/>
            <a:ext cx="6094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219320" y="2400480"/>
            <a:ext cx="6094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971800" y="556272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walls often accept ping rep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762520" y="3949560"/>
            <a:ext cx="127656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4x0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6154560" y="4611600"/>
            <a:ext cx="2532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OCR A Extended"/>
              </a:rPr>
              <a:t>Sends ping reply with command in data f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572000" y="1752480"/>
            <a:ext cx="12762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t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H="1" flipV="1">
            <a:off x="1523880" y="3352680"/>
            <a:ext cx="4572000" cy="1524240"/>
          </a:xfrm>
          <a:prstGeom prst="line">
            <a:avLst/>
          </a:prstGeom>
          <a:ln cap="rnd" w="5400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33520" y="4724280"/>
            <a:ext cx="2590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st compromised with DDoS tools like Trin00/TF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V="1">
            <a:off x="685800" y="3276720"/>
            <a:ext cx="5335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V="1">
            <a:off x="1905120" y="1828440"/>
            <a:ext cx="2666880" cy="1219320"/>
          </a:xfrm>
          <a:prstGeom prst="line">
            <a:avLst/>
          </a:prstGeom>
          <a:ln cap="rnd" w="5400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V="1">
            <a:off x="1905120" y="1905120"/>
            <a:ext cx="2666880" cy="1218960"/>
          </a:xfrm>
          <a:prstGeom prst="line">
            <a:avLst/>
          </a:prstGeom>
          <a:ln cap="rnd" w="5400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V="1">
            <a:off x="1905120" y="1980720"/>
            <a:ext cx="2666880" cy="1219320"/>
          </a:xfrm>
          <a:prstGeom prst="line">
            <a:avLst/>
          </a:prstGeom>
          <a:ln cap="rnd" w="5400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flipV="1">
            <a:off x="1905120" y="2057040"/>
            <a:ext cx="2666880" cy="1219320"/>
          </a:xfrm>
          <a:prstGeom prst="line">
            <a:avLst/>
          </a:prstGeom>
          <a:ln cap="rnd" w="5400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H="1" flipV="1">
            <a:off x="2895480" y="3657240"/>
            <a:ext cx="60984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943600" y="1447920"/>
            <a:ext cx="2532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OCR A Extended"/>
              </a:rPr>
              <a:t>Victim is flooded from this and other DDoS mach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3745-07BB-4751-8D81-FCEBEB7CD3AE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 3 Destination Unreach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ins copy of the original packet that went in the opposite dir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ewalls don’t log it; so you should probably use a sniffer if you see these on an ongoing basis and need to figure out what they me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1BE8-C46C-4C5F-974F-EE396552F9E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ization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cation is broken down into packets. A firewall log entry represents a single pack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886200"/>
            <a:ext cx="7772400" cy="228600"/>
          </a:xfrm>
          <a:prstGeom prst="rightArrow">
            <a:avLst>
              <a:gd name="adj1" fmla="val 50000"/>
              <a:gd name="adj2" fmla="val 110343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4724280"/>
            <a:ext cx="7772400" cy="228600"/>
          </a:xfrm>
          <a:prstGeom prst="rightArrow">
            <a:avLst>
              <a:gd name="adj1" fmla="val 50000"/>
              <a:gd name="adj2" fmla="val 110343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43000" y="4724280"/>
            <a:ext cx="304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4724280"/>
            <a:ext cx="304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4724280"/>
            <a:ext cx="304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4724280"/>
            <a:ext cx="304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4724280"/>
            <a:ext cx="304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76920" y="4724280"/>
            <a:ext cx="304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4120" y="4724280"/>
            <a:ext cx="304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5880" y="4724280"/>
            <a:ext cx="304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781680" y="4724280"/>
            <a:ext cx="304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848720" y="4724280"/>
            <a:ext cx="304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4360" y="3544920"/>
            <a:ext cx="577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looks to us as a smooth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91840" y="4267080"/>
            <a:ext cx="51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wire, it is a stream of p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1980720" y="487692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5410080"/>
            <a:ext cx="8153280" cy="459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Jul 23 18:10:09 gandalf kernel: Packet log: input DENY eth1 PROTO=17 10.10.0.9:137 209.31.36.212:137 L=78 S=0x00 I=1109 F=0x0000 T=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62520" y="487692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666880" y="487692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487692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28640" y="48769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9880" y="48769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E61B-F329-4839-8D18-54E8F1590DD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 3 code 3 Port Unreach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oy UDP sc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le D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-response D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tBIOS/Windows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route when it reaches the 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A417-7465-4D79-9957-3BD25A2BDF45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 3 code 4 Frag err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of path MTU disco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gmentation better handled at TCP l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s DF on all pac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routers must fragment, informs TCP to lower its packet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internal links have small packet s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ne ICMP you need to allow throug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7ED0-5544-4794-A9B4-E5BE6F29CDB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 8 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ng requ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ite normal, bu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ng sweeps heavily used to map the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yload often impor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niffer or IDS to track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55F8-16E0-4183-BCE3-9534AD284CBC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"/>
          <p:cNvSpPr/>
          <p:nvPr/>
        </p:nvSpPr>
        <p:spPr>
          <a:xfrm flipH="1">
            <a:off x="949320" y="3567240"/>
            <a:ext cx="196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dern No. 20"/>
              </a:rPr>
              <a:t>§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1 Source Rou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4" name=""/>
          <p:cNvGrpSpPr/>
          <p:nvPr/>
        </p:nvGrpSpPr>
        <p:grpSpPr>
          <a:xfrm>
            <a:off x="1981080" y="1500120"/>
            <a:ext cx="4775760" cy="4442040"/>
            <a:chOff x="1981080" y="1500120"/>
            <a:chExt cx="4775760" cy="4442040"/>
          </a:xfrm>
        </p:grpSpPr>
        <p:sp>
          <p:nvSpPr>
            <p:cNvPr id="875" name=""/>
            <p:cNvSpPr/>
            <p:nvPr/>
          </p:nvSpPr>
          <p:spPr>
            <a:xfrm>
              <a:off x="4214880" y="1593360"/>
              <a:ext cx="1432800" cy="1497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045400" y="2142360"/>
              <a:ext cx="1432800" cy="1497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324040" y="3247200"/>
              <a:ext cx="1432800" cy="149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846680" y="4145760"/>
              <a:ext cx="1432800" cy="149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891240" y="4445640"/>
              <a:ext cx="1432800" cy="149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936520" y="4445640"/>
              <a:ext cx="1432800" cy="149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224440" y="3889440"/>
              <a:ext cx="1432800" cy="1497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981080" y="3247200"/>
              <a:ext cx="1432800" cy="149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339640" y="2292120"/>
              <a:ext cx="1432800" cy="1497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135240" y="1500120"/>
              <a:ext cx="1432800" cy="1497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767320" y="2385720"/>
              <a:ext cx="3412800" cy="3119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6" name=""/>
          <p:cNvSpPr/>
          <p:nvPr/>
        </p:nvSpPr>
        <p:spPr>
          <a:xfrm>
            <a:off x="6478560" y="4908600"/>
            <a:ext cx="12762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644400" y="2543040"/>
            <a:ext cx="609480" cy="2057400"/>
            <a:chOff x="644400" y="2543040"/>
            <a:chExt cx="609480" cy="2057400"/>
          </a:xfrm>
        </p:grpSpPr>
        <p:sp>
          <p:nvSpPr>
            <p:cNvPr id="888" name=""/>
            <p:cNvSpPr/>
            <p:nvPr/>
          </p:nvSpPr>
          <p:spPr>
            <a:xfrm>
              <a:off x="948960" y="2842920"/>
              <a:ext cx="0" cy="158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44400" y="3125520"/>
              <a:ext cx="609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..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44400" y="3720960"/>
              <a:ext cx="609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..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44400" y="4232160"/>
              <a:ext cx="609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..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44400" y="2543040"/>
              <a:ext cx="609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..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3" name=""/>
          <p:cNvGrpSpPr/>
          <p:nvPr/>
        </p:nvGrpSpPr>
        <p:grpSpPr>
          <a:xfrm>
            <a:off x="6240600" y="4059360"/>
            <a:ext cx="474480" cy="387360"/>
            <a:chOff x="6240600" y="4059360"/>
            <a:chExt cx="474480" cy="387360"/>
          </a:xfrm>
        </p:grpSpPr>
        <p:sp>
          <p:nvSpPr>
            <p:cNvPr id="894" name=""/>
            <p:cNvSpPr/>
            <p:nvPr/>
          </p:nvSpPr>
          <p:spPr>
            <a:xfrm>
              <a:off x="6240600" y="4059360"/>
              <a:ext cx="474480" cy="387360"/>
            </a:xfrm>
            <a:prstGeom prst="diamond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316200" y="4109400"/>
              <a:ext cx="321480" cy="286560"/>
            </a:xfrm>
            <a:custGeom>
              <a:avLst/>
              <a:gdLst>
                <a:gd name="textAreaLeft" fmla="*/ 0 w 321480"/>
                <a:gd name="textAreaRight" fmla="*/ 321840 w 321480"/>
                <a:gd name="textAreaTop" fmla="*/ 0 h 286560"/>
                <a:gd name="textAreaBottom" fmla="*/ 286560 h 28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6" name=""/>
          <p:cNvGrpSpPr/>
          <p:nvPr/>
        </p:nvGrpSpPr>
        <p:grpSpPr>
          <a:xfrm>
            <a:off x="1312560" y="3376440"/>
            <a:ext cx="648000" cy="380880"/>
            <a:chOff x="1312560" y="3376440"/>
            <a:chExt cx="648000" cy="380880"/>
          </a:xfrm>
        </p:grpSpPr>
        <p:sp>
          <p:nvSpPr>
            <p:cNvPr id="897" name=""/>
            <p:cNvSpPr/>
            <p:nvPr/>
          </p:nvSpPr>
          <p:spPr>
            <a:xfrm rot="16200000">
              <a:off x="1612080" y="3408840"/>
              <a:ext cx="380880" cy="316080"/>
            </a:xfrm>
            <a:custGeom>
              <a:avLst/>
              <a:gdLst>
                <a:gd name="textAreaLeft" fmla="*/ 83520 w 380880"/>
                <a:gd name="textAreaRight" fmla="*/ 297360 w 380880"/>
                <a:gd name="textAreaTop" fmla="*/ 69480 h 316080"/>
                <a:gd name="textAreaBottom" fmla="*/ 246600 h 31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 rot="5400000">
              <a:off x="1279440" y="3408840"/>
              <a:ext cx="380880" cy="315720"/>
            </a:xfrm>
            <a:custGeom>
              <a:avLst/>
              <a:gdLst>
                <a:gd name="textAreaLeft" fmla="*/ 83520 w 380880"/>
                <a:gd name="textAreaRight" fmla="*/ 297360 w 380880"/>
                <a:gd name="textAreaTop" fmla="*/ 69480 h 315720"/>
                <a:gd name="textAreaBottom" fmla="*/ 246240 h 31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9" name=""/>
          <p:cNvGrpSpPr/>
          <p:nvPr/>
        </p:nvGrpSpPr>
        <p:grpSpPr>
          <a:xfrm>
            <a:off x="2660760" y="3235320"/>
            <a:ext cx="474480" cy="387360"/>
            <a:chOff x="2660760" y="3235320"/>
            <a:chExt cx="474480" cy="387360"/>
          </a:xfrm>
        </p:grpSpPr>
        <p:sp>
          <p:nvSpPr>
            <p:cNvPr id="900" name=""/>
            <p:cNvSpPr/>
            <p:nvPr/>
          </p:nvSpPr>
          <p:spPr>
            <a:xfrm>
              <a:off x="2660760" y="3235320"/>
              <a:ext cx="474480" cy="387360"/>
            </a:xfrm>
            <a:prstGeom prst="diamond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736360" y="3285360"/>
              <a:ext cx="321480" cy="286560"/>
            </a:xfrm>
            <a:custGeom>
              <a:avLst/>
              <a:gdLst>
                <a:gd name="textAreaLeft" fmla="*/ 0 w 321480"/>
                <a:gd name="textAreaRight" fmla="*/ 321840 w 321480"/>
                <a:gd name="textAreaTop" fmla="*/ 0 h 286560"/>
                <a:gd name="textAreaBottom" fmla="*/ 286560 h 28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2" name=""/>
          <p:cNvGrpSpPr/>
          <p:nvPr/>
        </p:nvGrpSpPr>
        <p:grpSpPr>
          <a:xfrm>
            <a:off x="3419640" y="2803680"/>
            <a:ext cx="474480" cy="387360"/>
            <a:chOff x="3419640" y="2803680"/>
            <a:chExt cx="474480" cy="387360"/>
          </a:xfrm>
        </p:grpSpPr>
        <p:sp>
          <p:nvSpPr>
            <p:cNvPr id="903" name=""/>
            <p:cNvSpPr/>
            <p:nvPr/>
          </p:nvSpPr>
          <p:spPr>
            <a:xfrm>
              <a:off x="3419640" y="2803680"/>
              <a:ext cx="474480" cy="387360"/>
            </a:xfrm>
            <a:prstGeom prst="diamond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495240" y="2853720"/>
              <a:ext cx="321480" cy="286560"/>
            </a:xfrm>
            <a:custGeom>
              <a:avLst/>
              <a:gdLst>
                <a:gd name="textAreaLeft" fmla="*/ 0 w 321480"/>
                <a:gd name="textAreaRight" fmla="*/ 321840 w 321480"/>
                <a:gd name="textAreaTop" fmla="*/ 0 h 286560"/>
                <a:gd name="textAreaBottom" fmla="*/ 286560 h 28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5" name=""/>
          <p:cNvGrpSpPr/>
          <p:nvPr/>
        </p:nvGrpSpPr>
        <p:grpSpPr>
          <a:xfrm>
            <a:off x="3495600" y="3816360"/>
            <a:ext cx="474840" cy="387360"/>
            <a:chOff x="3495600" y="3816360"/>
            <a:chExt cx="474840" cy="387360"/>
          </a:xfrm>
        </p:grpSpPr>
        <p:sp>
          <p:nvSpPr>
            <p:cNvPr id="906" name=""/>
            <p:cNvSpPr/>
            <p:nvPr/>
          </p:nvSpPr>
          <p:spPr>
            <a:xfrm>
              <a:off x="3495600" y="3816360"/>
              <a:ext cx="474840" cy="387360"/>
            </a:xfrm>
            <a:prstGeom prst="diamond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571560" y="3866400"/>
              <a:ext cx="321480" cy="286560"/>
            </a:xfrm>
            <a:custGeom>
              <a:avLst/>
              <a:gdLst>
                <a:gd name="textAreaLeft" fmla="*/ 0 w 321480"/>
                <a:gd name="textAreaRight" fmla="*/ 321840 w 321480"/>
                <a:gd name="textAreaTop" fmla="*/ 0 h 286560"/>
                <a:gd name="textAreaBottom" fmla="*/ 286560 h 28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4568760" y="4521240"/>
            <a:ext cx="474840" cy="387360"/>
            <a:chOff x="4568760" y="4521240"/>
            <a:chExt cx="474840" cy="387360"/>
          </a:xfrm>
        </p:grpSpPr>
        <p:sp>
          <p:nvSpPr>
            <p:cNvPr id="909" name=""/>
            <p:cNvSpPr/>
            <p:nvPr/>
          </p:nvSpPr>
          <p:spPr>
            <a:xfrm>
              <a:off x="4568760" y="4521240"/>
              <a:ext cx="474840" cy="387360"/>
            </a:xfrm>
            <a:prstGeom prst="diamond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644720" y="4571280"/>
              <a:ext cx="321480" cy="286560"/>
            </a:xfrm>
            <a:custGeom>
              <a:avLst/>
              <a:gdLst>
                <a:gd name="textAreaLeft" fmla="*/ 0 w 321480"/>
                <a:gd name="textAreaRight" fmla="*/ 321840 w 321480"/>
                <a:gd name="textAreaTop" fmla="*/ 0 h 286560"/>
                <a:gd name="textAreaBottom" fmla="*/ 286560 h 28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5173560" y="3597120"/>
            <a:ext cx="474840" cy="387360"/>
            <a:chOff x="5173560" y="3597120"/>
            <a:chExt cx="474840" cy="387360"/>
          </a:xfrm>
        </p:grpSpPr>
        <p:sp>
          <p:nvSpPr>
            <p:cNvPr id="912" name=""/>
            <p:cNvSpPr/>
            <p:nvPr/>
          </p:nvSpPr>
          <p:spPr>
            <a:xfrm>
              <a:off x="5173560" y="3597120"/>
              <a:ext cx="474840" cy="387360"/>
            </a:xfrm>
            <a:prstGeom prst="diamond">
              <a:avLst/>
            </a:prstGeom>
            <a:blipFill rotWithShape="0">
              <a:blip r:embed="rId1"/>
              <a:srcRect/>
              <a:tile tx="0" ty="0" sx="100000" sy="100000" algn="ctr"/>
            </a:blip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249880" y="3648240"/>
              <a:ext cx="320760" cy="285480"/>
            </a:xfrm>
            <a:custGeom>
              <a:avLst/>
              <a:gdLst>
                <a:gd name="textAreaLeft" fmla="*/ 0 w 320760"/>
                <a:gd name="textAreaRight" fmla="*/ 321120 w 32076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4" name=""/>
          <p:cNvSpPr/>
          <p:nvPr/>
        </p:nvSpPr>
        <p:spPr>
          <a:xfrm flipH="1">
            <a:off x="2000160" y="3433680"/>
            <a:ext cx="67968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H="1">
            <a:off x="3073320" y="3092400"/>
            <a:ext cx="417600" cy="19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 flipH="1" flipV="1">
            <a:off x="3809880" y="31237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flipH="1" flipV="1">
            <a:off x="5638320" y="3809520"/>
            <a:ext cx="7621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H="1" flipV="1">
            <a:off x="4723920" y="3505320"/>
            <a:ext cx="600120" cy="156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flipH="1" flipV="1">
            <a:off x="6578640" y="4441680"/>
            <a:ext cx="357120" cy="462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0" name=""/>
          <p:cNvGrpSpPr/>
          <p:nvPr/>
        </p:nvGrpSpPr>
        <p:grpSpPr>
          <a:xfrm>
            <a:off x="4214880" y="3286080"/>
            <a:ext cx="474480" cy="387360"/>
            <a:chOff x="4214880" y="3286080"/>
            <a:chExt cx="474480" cy="387360"/>
          </a:xfrm>
        </p:grpSpPr>
        <p:sp>
          <p:nvSpPr>
            <p:cNvPr id="921" name=""/>
            <p:cNvSpPr/>
            <p:nvPr/>
          </p:nvSpPr>
          <p:spPr>
            <a:xfrm>
              <a:off x="4214880" y="3286080"/>
              <a:ext cx="474480" cy="387360"/>
            </a:xfrm>
            <a:prstGeom prst="diamond">
              <a:avLst/>
            </a:prstGeom>
            <a:blipFill rotWithShape="0">
              <a:blip r:embed="rId2"/>
              <a:srcRect/>
              <a:tile tx="0" ty="0" sx="100000" sy="100000" algn="ctr"/>
            </a:blip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290840" y="3337200"/>
              <a:ext cx="320400" cy="28548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3" name=""/>
          <p:cNvGrpSpPr/>
          <p:nvPr/>
        </p:nvGrpSpPr>
        <p:grpSpPr>
          <a:xfrm>
            <a:off x="5051520" y="2703600"/>
            <a:ext cx="474480" cy="387360"/>
            <a:chOff x="5051520" y="2703600"/>
            <a:chExt cx="474480" cy="387360"/>
          </a:xfrm>
        </p:grpSpPr>
        <p:sp>
          <p:nvSpPr>
            <p:cNvPr id="924" name=""/>
            <p:cNvSpPr/>
            <p:nvPr/>
          </p:nvSpPr>
          <p:spPr>
            <a:xfrm>
              <a:off x="5051520" y="2703600"/>
              <a:ext cx="474480" cy="387360"/>
            </a:xfrm>
            <a:prstGeom prst="diamond">
              <a:avLst/>
            </a:prstGeom>
            <a:blipFill rotWithShape="0">
              <a:blip r:embed="rId3"/>
              <a:srcRect/>
              <a:tile tx="0" ty="0" sx="100000" sy="100000" algn="ctr"/>
            </a:blip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127480" y="2754720"/>
              <a:ext cx="320400" cy="28548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6" name=""/>
          <p:cNvGrpSpPr/>
          <p:nvPr/>
        </p:nvGrpSpPr>
        <p:grpSpPr>
          <a:xfrm>
            <a:off x="4052880" y="2316240"/>
            <a:ext cx="474840" cy="387360"/>
            <a:chOff x="4052880" y="2316240"/>
            <a:chExt cx="474840" cy="387360"/>
          </a:xfrm>
        </p:grpSpPr>
        <p:sp>
          <p:nvSpPr>
            <p:cNvPr id="927" name=""/>
            <p:cNvSpPr/>
            <p:nvPr/>
          </p:nvSpPr>
          <p:spPr>
            <a:xfrm>
              <a:off x="4052880" y="2316240"/>
              <a:ext cx="474840" cy="387360"/>
            </a:xfrm>
            <a:prstGeom prst="diamond">
              <a:avLst/>
            </a:prstGeom>
            <a:blipFill rotWithShape="0">
              <a:blip r:embed="rId4"/>
              <a:srcRect/>
              <a:tile tx="0" ty="0" sx="100000" sy="100000" algn="ctr"/>
            </a:blip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129200" y="2367360"/>
              <a:ext cx="320760" cy="285480"/>
            </a:xfrm>
            <a:custGeom>
              <a:avLst/>
              <a:gdLst>
                <a:gd name="textAreaLeft" fmla="*/ 0 w 320760"/>
                <a:gd name="textAreaRight" fmla="*/ 321120 w 32076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9" name=""/>
          <p:cNvGrpSpPr/>
          <p:nvPr/>
        </p:nvGrpSpPr>
        <p:grpSpPr>
          <a:xfrm>
            <a:off x="2736720" y="4172040"/>
            <a:ext cx="474840" cy="387360"/>
            <a:chOff x="2736720" y="4172040"/>
            <a:chExt cx="474840" cy="387360"/>
          </a:xfrm>
        </p:grpSpPr>
        <p:sp>
          <p:nvSpPr>
            <p:cNvPr id="930" name=""/>
            <p:cNvSpPr/>
            <p:nvPr/>
          </p:nvSpPr>
          <p:spPr>
            <a:xfrm>
              <a:off x="2736720" y="4172040"/>
              <a:ext cx="474840" cy="387360"/>
            </a:xfrm>
            <a:prstGeom prst="diamond">
              <a:avLst/>
            </a:prstGeom>
            <a:blipFill rotWithShape="0">
              <a:blip r:embed="rId5"/>
              <a:srcRect/>
              <a:tile tx="0" ty="0" sx="100000" sy="100000" algn="ctr"/>
            </a:blip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813040" y="4223160"/>
              <a:ext cx="320760" cy="285480"/>
            </a:xfrm>
            <a:custGeom>
              <a:avLst/>
              <a:gdLst>
                <a:gd name="textAreaLeft" fmla="*/ 0 w 320760"/>
                <a:gd name="textAreaRight" fmla="*/ 321120 w 32076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2" name=""/>
          <p:cNvGrpSpPr/>
          <p:nvPr/>
        </p:nvGrpSpPr>
        <p:grpSpPr>
          <a:xfrm>
            <a:off x="3414600" y="4714920"/>
            <a:ext cx="474840" cy="387360"/>
            <a:chOff x="3414600" y="4714920"/>
            <a:chExt cx="474840" cy="387360"/>
          </a:xfrm>
        </p:grpSpPr>
        <p:sp>
          <p:nvSpPr>
            <p:cNvPr id="933" name=""/>
            <p:cNvSpPr/>
            <p:nvPr/>
          </p:nvSpPr>
          <p:spPr>
            <a:xfrm>
              <a:off x="3414600" y="4714920"/>
              <a:ext cx="474840" cy="387360"/>
            </a:xfrm>
            <a:prstGeom prst="diamond">
              <a:avLst/>
            </a:prstGeom>
            <a:blipFill rotWithShape="0">
              <a:blip r:embed="rId6"/>
              <a:srcRect/>
              <a:tile tx="0" ty="0" sx="100000" sy="100000" algn="ctr"/>
            </a:blip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490920" y="4766040"/>
              <a:ext cx="320760" cy="285480"/>
            </a:xfrm>
            <a:custGeom>
              <a:avLst/>
              <a:gdLst>
                <a:gd name="textAreaLeft" fmla="*/ 0 w 320760"/>
                <a:gd name="textAreaRight" fmla="*/ 321120 w 32076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5" name=""/>
          <p:cNvGrpSpPr/>
          <p:nvPr/>
        </p:nvGrpSpPr>
        <p:grpSpPr>
          <a:xfrm>
            <a:off x="4527720" y="5189400"/>
            <a:ext cx="474480" cy="387360"/>
            <a:chOff x="4527720" y="5189400"/>
            <a:chExt cx="474480" cy="387360"/>
          </a:xfrm>
        </p:grpSpPr>
        <p:sp>
          <p:nvSpPr>
            <p:cNvPr id="936" name=""/>
            <p:cNvSpPr/>
            <p:nvPr/>
          </p:nvSpPr>
          <p:spPr>
            <a:xfrm>
              <a:off x="4527720" y="5189400"/>
              <a:ext cx="474480" cy="387360"/>
            </a:xfrm>
            <a:prstGeom prst="diamond">
              <a:avLst/>
            </a:prstGeom>
            <a:blipFill rotWithShape="0">
              <a:blip r:embed="rId7"/>
              <a:srcRect/>
              <a:tile tx="0" ty="0" sx="100000" sy="100000" algn="ctr"/>
            </a:blip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603680" y="5240520"/>
              <a:ext cx="320400" cy="28548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8" name=""/>
          <p:cNvSpPr/>
          <p:nvPr/>
        </p:nvSpPr>
        <p:spPr>
          <a:xfrm flipH="1" flipV="1">
            <a:off x="1253880" y="3286080"/>
            <a:ext cx="215640" cy="14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25440" y="4648320"/>
            <a:ext cx="3484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specifies route the packet should take by listing the routers along the 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355B-8A86-463B-99FE-E8C2BCE3C08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"/>
          <p:cNvSpPr/>
          <p:nvPr/>
        </p:nvSpPr>
        <p:spPr>
          <a:xfrm>
            <a:off x="685800" y="1905120"/>
            <a:ext cx="0" cy="259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dern No. 20"/>
              </a:rPr>
              <a:t>§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1 Source Rou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1981080" y="1500120"/>
            <a:ext cx="4775760" cy="4442040"/>
            <a:chOff x="1981080" y="1500120"/>
            <a:chExt cx="4775760" cy="4442040"/>
          </a:xfrm>
        </p:grpSpPr>
        <p:sp>
          <p:nvSpPr>
            <p:cNvPr id="943" name=""/>
            <p:cNvSpPr/>
            <p:nvPr/>
          </p:nvSpPr>
          <p:spPr>
            <a:xfrm>
              <a:off x="4214880" y="1593360"/>
              <a:ext cx="1432800" cy="1497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045400" y="2142360"/>
              <a:ext cx="1432800" cy="1497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324040" y="3247200"/>
              <a:ext cx="1432800" cy="149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846680" y="4145760"/>
              <a:ext cx="1432800" cy="149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891240" y="4445640"/>
              <a:ext cx="1432800" cy="149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936520" y="4445640"/>
              <a:ext cx="1432800" cy="149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224440" y="3889440"/>
              <a:ext cx="1432800" cy="1497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981080" y="3247200"/>
              <a:ext cx="1432800" cy="149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339640" y="2292120"/>
              <a:ext cx="1432800" cy="1497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135240" y="1500120"/>
              <a:ext cx="1432800" cy="1497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767320" y="2385720"/>
              <a:ext cx="3412800" cy="3119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4" name=""/>
          <p:cNvSpPr/>
          <p:nvPr/>
        </p:nvSpPr>
        <p:spPr>
          <a:xfrm>
            <a:off x="6478560" y="4908600"/>
            <a:ext cx="12762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4x0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1447920" y="3733920"/>
            <a:ext cx="685440" cy="533160"/>
            <a:chOff x="1447920" y="3733920"/>
            <a:chExt cx="685440" cy="533160"/>
          </a:xfrm>
        </p:grpSpPr>
        <p:sp>
          <p:nvSpPr>
            <p:cNvPr id="956" name=""/>
            <p:cNvSpPr/>
            <p:nvPr/>
          </p:nvSpPr>
          <p:spPr>
            <a:xfrm>
              <a:off x="1447920" y="3733920"/>
              <a:ext cx="685440" cy="533160"/>
            </a:xfrm>
            <a:prstGeom prst="diamond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557360" y="3802680"/>
              <a:ext cx="464400" cy="39420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394200"/>
                <a:gd name="textAreaBottom" fmla="*/ 394560 h 39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8" name=""/>
          <p:cNvSpPr/>
          <p:nvPr/>
        </p:nvSpPr>
        <p:spPr>
          <a:xfrm flipV="1">
            <a:off x="2514600" y="4571640"/>
            <a:ext cx="1600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990720" y="2209680"/>
            <a:ext cx="12762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1.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990720" y="3048120"/>
            <a:ext cx="609480" cy="53316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H="1">
            <a:off x="685440" y="2438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H="1">
            <a:off x="68544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H="1">
            <a:off x="68544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759240" y="3581280"/>
            <a:ext cx="99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3.23.45.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913320" y="2895480"/>
            <a:ext cx="73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.2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130840" y="4114800"/>
            <a:ext cx="99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3.23.45.6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5394240" y="1793880"/>
            <a:ext cx="306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ly, 10.x.x.x is not reachable from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791320" y="556272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CR A Extended"/>
              </a:rPr>
              <a:t>Send to 10.1.2.3 through 63.23.45.6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9" name=""/>
          <p:cNvGrpSpPr/>
          <p:nvPr/>
        </p:nvGrpSpPr>
        <p:grpSpPr>
          <a:xfrm>
            <a:off x="4038480" y="4191120"/>
            <a:ext cx="685440" cy="533160"/>
            <a:chOff x="4038480" y="4191120"/>
            <a:chExt cx="685440" cy="533160"/>
          </a:xfrm>
        </p:grpSpPr>
        <p:sp>
          <p:nvSpPr>
            <p:cNvPr id="970" name=""/>
            <p:cNvSpPr/>
            <p:nvPr/>
          </p:nvSpPr>
          <p:spPr>
            <a:xfrm>
              <a:off x="4038480" y="4191120"/>
              <a:ext cx="685440" cy="533160"/>
            </a:xfrm>
            <a:prstGeom prst="diamond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147920" y="4259880"/>
              <a:ext cx="464400" cy="39420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394200"/>
                <a:gd name="textAreaBottom" fmla="*/ 394560 h 39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2" name=""/>
          <p:cNvSpPr/>
          <p:nvPr/>
        </p:nvSpPr>
        <p:spPr>
          <a:xfrm>
            <a:off x="228600" y="5181480"/>
            <a:ext cx="443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mediate routers do not know how to route to 10.x.x.x, but they do know how to get to 63.x.x.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80880" y="2514600"/>
            <a:ext cx="6096240" cy="2666880"/>
          </a:xfrm>
          <a:custGeom>
            <a:avLst/>
            <a:gdLst/>
            <a:ahLst/>
            <a:rect l="l" t="t" r="r" b="b"/>
            <a:pathLst>
              <a:path w="3840" h="1680">
                <a:moveTo>
                  <a:pt x="3840" y="1680"/>
                </a:moveTo>
                <a:lnTo>
                  <a:pt x="864" y="960"/>
                </a:lnTo>
                <a:lnTo>
                  <a:pt x="0" y="912"/>
                </a:lnTo>
                <a:lnTo>
                  <a:pt x="0" y="48"/>
                </a:lnTo>
                <a:lnTo>
                  <a:pt x="384" y="0"/>
                </a:lnTo>
              </a:path>
            </a:pathLst>
          </a:custGeom>
          <a:noFill/>
          <a:ln cap="rnd" w="5400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A2BB-5955-42EA-9C64-9B2D1AD52A2C}" type="slidenum">
              <a:t>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dern No. 20"/>
              </a:rPr>
              <a:t>§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x Addr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5.255.255.255 broadc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9.254.x.x are Windows failed DHC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7.x.x.x are “localhost”, should never appear on the w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2.0.2.x are for “exampl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.0.0.0 sometimes comes from hack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CB0E-D5E2-48E1-A478-6D200E33A05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dern No. 20"/>
              </a:rPr>
              <a:t>§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x Addr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.x.x.x, 192.168.x.x.x, 172.16.x.x-172.31.x.x are “local”: internet routers refuse to route th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never see this as a destination coming in from the Internet, unless you are on a VLAN like DSL or cable-mod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will sometimes see these as source addresses when doing a tracero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2354-F3E2-4889-A998-227FD3BCE07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dern No. 20"/>
              </a:rPr>
              <a:t>§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x Addr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4.x.x.x is from a cable mod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9.x.x.x, 63.x.x.x, 216.x.x.x are newer CIDR allo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will see a lot from these ranges just for normal 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FB47-31E1-421E-A209-85863A2EA4C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"/>
          <p:cNvSpPr/>
          <p:nvPr/>
        </p:nvSpPr>
        <p:spPr>
          <a:xfrm flipH="1">
            <a:off x="1523880" y="3429000"/>
            <a:ext cx="196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dern No. 20"/>
              </a:rPr>
              <a:t>§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9 Decoy sc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2" name=""/>
          <p:cNvGrpSpPr/>
          <p:nvPr/>
        </p:nvGrpSpPr>
        <p:grpSpPr>
          <a:xfrm>
            <a:off x="3352680" y="1981080"/>
            <a:ext cx="2742480" cy="2662920"/>
            <a:chOff x="3352680" y="1981080"/>
            <a:chExt cx="2742480" cy="2662920"/>
          </a:xfrm>
        </p:grpSpPr>
        <p:sp>
          <p:nvSpPr>
            <p:cNvPr id="983" name=""/>
            <p:cNvSpPr/>
            <p:nvPr/>
          </p:nvSpPr>
          <p:spPr>
            <a:xfrm>
              <a:off x="4635360" y="203688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112360" y="236592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272560" y="302832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998240" y="356724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449600" y="374688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901320" y="374688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492360" y="341352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352680" y="302832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558600" y="245592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015440" y="198108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804120" y="2512080"/>
              <a:ext cx="1959840" cy="1870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4" name=""/>
          <p:cNvGrpSpPr/>
          <p:nvPr/>
        </p:nvGrpSpPr>
        <p:grpSpPr>
          <a:xfrm>
            <a:off x="2361960" y="3232080"/>
            <a:ext cx="648000" cy="380880"/>
            <a:chOff x="2361960" y="3232080"/>
            <a:chExt cx="648000" cy="380880"/>
          </a:xfrm>
        </p:grpSpPr>
        <p:sp>
          <p:nvSpPr>
            <p:cNvPr id="995" name=""/>
            <p:cNvSpPr/>
            <p:nvPr/>
          </p:nvSpPr>
          <p:spPr>
            <a:xfrm rot="16200000">
              <a:off x="2661480" y="3264480"/>
              <a:ext cx="380880" cy="316080"/>
            </a:xfrm>
            <a:custGeom>
              <a:avLst/>
              <a:gdLst>
                <a:gd name="textAreaLeft" fmla="*/ 83520 w 380880"/>
                <a:gd name="textAreaRight" fmla="*/ 297360 w 380880"/>
                <a:gd name="textAreaTop" fmla="*/ 69480 h 316080"/>
                <a:gd name="textAreaBottom" fmla="*/ 246600 h 31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H="1" rot="5400000">
              <a:off x="2328840" y="3264480"/>
              <a:ext cx="380880" cy="315720"/>
            </a:xfrm>
            <a:custGeom>
              <a:avLst/>
              <a:gdLst>
                <a:gd name="textAreaLeft" fmla="*/ 83520 w 380880"/>
                <a:gd name="textAreaRight" fmla="*/ 297360 w 380880"/>
                <a:gd name="textAreaTop" fmla="*/ 69480 h 315720"/>
                <a:gd name="textAreaBottom" fmla="*/ 246240 h 31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7" name=""/>
          <p:cNvSpPr/>
          <p:nvPr/>
        </p:nvSpPr>
        <p:spPr>
          <a:xfrm>
            <a:off x="1523880" y="2700360"/>
            <a:ext cx="0" cy="15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1219320" y="2982960"/>
            <a:ext cx="6094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1219320" y="3578400"/>
            <a:ext cx="6094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1219320" y="4089240"/>
            <a:ext cx="6094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1219320" y="2400480"/>
            <a:ext cx="6094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5762520" y="3949560"/>
            <a:ext cx="127656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4x0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6154560" y="4611600"/>
            <a:ext cx="2532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OCR A Extended"/>
              </a:rPr>
              <a:t>Spoofs own address to hide among many other addr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572000" y="1752480"/>
            <a:ext cx="12762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t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 flipV="1">
            <a:off x="3429000" y="2057400"/>
            <a:ext cx="1143000" cy="457200"/>
          </a:xfrm>
          <a:prstGeom prst="line">
            <a:avLst/>
          </a:prstGeom>
          <a:ln cap="rnd" w="5400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533520" y="4724280"/>
            <a:ext cx="2590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 see replies back from victim back to many of your mach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V="1">
            <a:off x="3352680" y="1828800"/>
            <a:ext cx="1219320" cy="380880"/>
          </a:xfrm>
          <a:prstGeom prst="line">
            <a:avLst/>
          </a:prstGeom>
          <a:ln cap="rnd" w="5400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V="1">
            <a:off x="4800600" y="2209320"/>
            <a:ext cx="228600" cy="838440"/>
          </a:xfrm>
          <a:prstGeom prst="line">
            <a:avLst/>
          </a:prstGeom>
          <a:ln cap="rnd" w="5400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V="1">
            <a:off x="5410080" y="2285640"/>
            <a:ext cx="0" cy="762120"/>
          </a:xfrm>
          <a:prstGeom prst="line">
            <a:avLst/>
          </a:prstGeom>
          <a:ln cap="rnd" w="5400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5943600" y="1447920"/>
            <a:ext cx="2532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OCR A Extended"/>
              </a:rPr>
              <a:t>Victim sees requests from all over net and replies to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 flipV="1">
            <a:off x="4267080" y="2209320"/>
            <a:ext cx="457200" cy="762120"/>
          </a:xfrm>
          <a:prstGeom prst="line">
            <a:avLst/>
          </a:prstGeom>
          <a:ln cap="rnd" w="5400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H="1" flipV="1">
            <a:off x="5638680" y="2209320"/>
            <a:ext cx="457200" cy="1752840"/>
          </a:xfrm>
          <a:prstGeom prst="line">
            <a:avLst/>
          </a:prstGeom>
          <a:ln cap="rnd" w="5400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1905120" y="1905120"/>
            <a:ext cx="2666880" cy="8380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1828800" y="2133360"/>
            <a:ext cx="2743200" cy="1143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V="1">
            <a:off x="4343400" y="2209320"/>
            <a:ext cx="457200" cy="7621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4876920" y="2209320"/>
            <a:ext cx="228600" cy="838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5486400" y="228564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H="1" flipV="1">
            <a:off x="5715000" y="2209320"/>
            <a:ext cx="457200" cy="175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7466-C8A6-434C-A35E-4D33191085D5}" type="slidenum">
              <a:t>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"/>
          <p:cNvSpPr/>
          <p:nvPr/>
        </p:nvSpPr>
        <p:spPr>
          <a:xfrm flipH="1">
            <a:off x="1523880" y="3429000"/>
            <a:ext cx="196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dern No. 20"/>
              </a:rPr>
              <a:t>§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2 Strobe/scan/n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3352680" y="1981080"/>
            <a:ext cx="2742480" cy="2662920"/>
            <a:chOff x="3352680" y="1981080"/>
            <a:chExt cx="2742480" cy="2662920"/>
          </a:xfrm>
        </p:grpSpPr>
        <p:sp>
          <p:nvSpPr>
            <p:cNvPr id="1022" name=""/>
            <p:cNvSpPr/>
            <p:nvPr/>
          </p:nvSpPr>
          <p:spPr>
            <a:xfrm>
              <a:off x="4635360" y="203688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112360" y="236592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272560" y="302832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998240" y="356724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449600" y="374688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901320" y="374688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3492360" y="341352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3352680" y="3028320"/>
              <a:ext cx="822600" cy="89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3558600" y="245592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015440" y="1981080"/>
              <a:ext cx="822600" cy="89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804120" y="2512080"/>
              <a:ext cx="1959840" cy="1870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3" name=""/>
          <p:cNvSpPr/>
          <p:nvPr/>
        </p:nvSpPr>
        <p:spPr>
          <a:xfrm>
            <a:off x="5764320" y="3925800"/>
            <a:ext cx="127620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4x0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4" name=""/>
          <p:cNvGrpSpPr/>
          <p:nvPr/>
        </p:nvGrpSpPr>
        <p:grpSpPr>
          <a:xfrm>
            <a:off x="2361960" y="3232080"/>
            <a:ext cx="648000" cy="380880"/>
            <a:chOff x="2361960" y="3232080"/>
            <a:chExt cx="648000" cy="380880"/>
          </a:xfrm>
        </p:grpSpPr>
        <p:sp>
          <p:nvSpPr>
            <p:cNvPr id="1035" name=""/>
            <p:cNvSpPr/>
            <p:nvPr/>
          </p:nvSpPr>
          <p:spPr>
            <a:xfrm rot="16200000">
              <a:off x="2661480" y="3264480"/>
              <a:ext cx="380880" cy="316080"/>
            </a:xfrm>
            <a:custGeom>
              <a:avLst/>
              <a:gdLst>
                <a:gd name="textAreaLeft" fmla="*/ 83520 w 380880"/>
                <a:gd name="textAreaRight" fmla="*/ 297360 w 380880"/>
                <a:gd name="textAreaTop" fmla="*/ 69480 h 316080"/>
                <a:gd name="textAreaBottom" fmla="*/ 246600 h 31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H="1" rot="5400000">
              <a:off x="2328840" y="3264480"/>
              <a:ext cx="380880" cy="315720"/>
            </a:xfrm>
            <a:custGeom>
              <a:avLst/>
              <a:gdLst>
                <a:gd name="textAreaLeft" fmla="*/ 83520 w 380880"/>
                <a:gd name="textAreaRight" fmla="*/ 297360 w 380880"/>
                <a:gd name="textAreaTop" fmla="*/ 69480 h 315720"/>
                <a:gd name="textAreaBottom" fmla="*/ 246240 h 31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7" name=""/>
          <p:cNvGrpSpPr/>
          <p:nvPr/>
        </p:nvGrpSpPr>
        <p:grpSpPr>
          <a:xfrm>
            <a:off x="1219320" y="2400480"/>
            <a:ext cx="609480" cy="2057400"/>
            <a:chOff x="1219320" y="2400480"/>
            <a:chExt cx="609480" cy="2057400"/>
          </a:xfrm>
        </p:grpSpPr>
        <p:sp>
          <p:nvSpPr>
            <p:cNvPr id="1038" name=""/>
            <p:cNvSpPr/>
            <p:nvPr/>
          </p:nvSpPr>
          <p:spPr>
            <a:xfrm>
              <a:off x="1523880" y="2700360"/>
              <a:ext cx="0" cy="158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219320" y="2982960"/>
              <a:ext cx="609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219320" y="3578400"/>
              <a:ext cx="609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219320" y="4089600"/>
              <a:ext cx="609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219320" y="2400480"/>
              <a:ext cx="609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3" name=""/>
          <p:cNvSpPr/>
          <p:nvPr/>
        </p:nvSpPr>
        <p:spPr>
          <a:xfrm>
            <a:off x="4176000" y="30592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5459400" y="4645080"/>
            <a:ext cx="299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OCR A Extended"/>
              </a:rPr>
              <a:t>sscan 192.0.2.2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H="1" flipV="1">
            <a:off x="1828440" y="3925800"/>
            <a:ext cx="3630600" cy="719280"/>
          </a:xfrm>
          <a:prstGeom prst="line">
            <a:avLst/>
          </a:prstGeom>
          <a:ln cap="rnd" w="316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89040" y="5299200"/>
            <a:ext cx="673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s for some well known ports on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2 23 25 53 79 110 111 143 1114 2766 6000 313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1F4C-899D-4DB6-87D8-57A8472293C0}" type="slidenum">
              <a:t>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this me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only get a small glimpse into the big pi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 to act as detectives reconstructing the crime from a limited number of c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on’t always be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A439-76FB-4C04-BB48-287B545C7E7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&amp;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F6A0-811D-4AE3-92A3-C142FD50B1B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TTP logon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0" name="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6419880" cy="4152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0B9A-98E1-4605-A98B-A1C3C5F6EC68}" type="slidenum">
              <a:t>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ding H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an numbers are usually base-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12345678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x is base-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1234567890abcde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4-bit number has 16-comb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8-bit byte has two 4-bit nu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D256-8243-4977-AA05-6C0A5CF7987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x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457200" y="1905120"/>
            <a:ext cx="746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  1  2  3  4  5  6  7  8  9 10 11 12 13 14 15 16 17 18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57200" y="2362320"/>
            <a:ext cx="746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  1  2  3  4  5  6  7  8  9  a  b  c  d  e  f 10 11 12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609480" y="320040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816840" y="3699000"/>
            <a:ext cx="470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mother calculates her age in h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5 = 48 (I.e. 3*16) +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go 37 (hex) years 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9520-2210-4026-9E77-586FF982C855}" type="slidenum">
              <a:t>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x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380880" y="1905120"/>
            <a:ext cx="746784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0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0 D0 B7 58 92 A1 00 40 05 A4 79 32 08 0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45 0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..X...@..y2..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0  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00 4E 04 55 00 00 80 11 36 44 0A 0A 00 09 D1 1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.N.U....6D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0  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24 D4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0 89 00 89 00 3A EF B5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D0 72 00 00 00 01 $......:...r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30  00 00 00 00 00 00 20 43 4B 41 41 41 41 41 41 41 .......CKAAAAAA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40  41 41 41 41 41 41 41 41 41 41 41 41 41 41 41 41 AAAAAAAAAAAAAAA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50  41 41 41 41 41 41 41 00 00 21 00 01             AAAAAAA..!..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962520" y="2209680"/>
            <a:ext cx="1371600" cy="304920"/>
          </a:xfrm>
          <a:prstGeom prst="ellipse">
            <a:avLst/>
          </a:prstGeom>
          <a:noFill/>
          <a:ln cap="rnd" w="540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898560" y="4384800"/>
            <a:ext cx="588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are pretty easy to read. Above, the 4 bytes 0a 0a 00 09 you can read as 10.10.0.9 (it’s the location of the IP addr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535B-13BF-416D-A9CC-E16C5F627020}" type="slidenum">
              <a:t>7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d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ans read from right to le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3 is hundred-twenty-three, not three-hundred-one (32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rs can read numbers in either dir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a byte-by-byte ba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71DA-BDBA-4369-B61C-8E2255809AEC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x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80880" y="1905120"/>
            <a:ext cx="746784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0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0 D0 B7 58 92 A1 00 40 05 A4 79 32 08 0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45 0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..X...@..y2..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0  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00 4E 04 55 00 00 80 11 36 44 0A 0A 00 09 D1 1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.N.U....6D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0  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24 D4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0 89 00 89 00 3A EF B5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D0 72 00 00 00 01 $......:...r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30  00 00 00 00 00 00 20 43 4B 41 41 41 41 41 41 41 .......CKAAAAAA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40  41 41 41 41 41 41 41 41 41 41 41 41 41 41 41 41 AAAAAAAAAAAAAAA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50  41 41 41 41 41 41 41 00 00 21 00 01             AAAAAAA..!..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1371600" y="2209680"/>
            <a:ext cx="990720" cy="381240"/>
          </a:xfrm>
          <a:prstGeom prst="ellipse">
            <a:avLst/>
          </a:prstGeom>
          <a:noFill/>
          <a:ln cap="rnd" w="540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69960" y="4079880"/>
            <a:ext cx="437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4 55 = 4*256 + 5*16 + 5 = 1109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85440" y="4876920"/>
            <a:ext cx="56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4 55 = 5*4096 + 5*256 + 0*16 + 4 = 2167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CBE8-E934-45F2-AD05-AC710A4CBDF3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P ID fiel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80880" y="1752480"/>
            <a:ext cx="8153640" cy="13716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Jul 23 18:10:09 gandalf kernel: Packet log: input DENY eth1 PROTO=17 10.10.0.9:137 209.31.36.212:137 L=78 S=0x00 I=1109 F=0x0000 T=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Jul 23 18:10:13 gandalf kernel: Packet log: input DENY eth1 PROTO=17 10.10.0.9:137 209.31.36.212:137 L=78 S=0x00 I=1365 F=0x0000 T=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Jul 23 18:10:23 gandalf kernel: Packet log: input DENY eth1 PROTO=17 10.10.0.9:137 209.31.36.212:137 L=78 S=0x00 I=1621 F=0x0000 T=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517680" y="3394080"/>
            <a:ext cx="7483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ce that the numbers increase by 256 each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hex sequence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4 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5 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6 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ndicates the packets were sent by a Windows machine, which bytes swaps many fiel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F914-76B6-4205-BF51-5BB367305FE0}" type="slidenum">
              <a:t>7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TL fiel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TL field is decremented by 1 by each router (occasionally by more on slow link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chines start with 255, 128, or 64. Thus, a TL of 110 indicates the packet came from 18 hops a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kewise, bizarre TTLs indicate possible spoofin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AF86-CC46-48AE-938B-7D70A2782B7A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&amp;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F16B-9DF7-4983-8A4D-4B5C6E76A688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firewalls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657600" y="2590560"/>
            <a:ext cx="1751400" cy="989640"/>
            <a:chOff x="3657600" y="2590560"/>
            <a:chExt cx="1751400" cy="989640"/>
          </a:xfrm>
        </p:grpSpPr>
        <p:sp>
          <p:nvSpPr>
            <p:cNvPr id="85" name=""/>
            <p:cNvSpPr/>
            <p:nvPr/>
          </p:nvSpPr>
          <p:spPr>
            <a:xfrm rot="16200000">
              <a:off x="4486680" y="2657880"/>
              <a:ext cx="989640" cy="854640"/>
            </a:xfrm>
            <a:custGeom>
              <a:avLst/>
              <a:gdLst>
                <a:gd name="textAreaLeft" fmla="*/ 217440 w 989640"/>
                <a:gd name="textAreaRight" fmla="*/ 772200 w 989640"/>
                <a:gd name="textAreaTop" fmla="*/ 187920 h 854640"/>
                <a:gd name="textAreaBottom" fmla="*/ 666720 h 85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rot="5400000">
              <a:off x="3589560" y="2658240"/>
              <a:ext cx="989640" cy="853920"/>
            </a:xfrm>
            <a:custGeom>
              <a:avLst/>
              <a:gdLst>
                <a:gd name="textAreaLeft" fmla="*/ 217440 w 989640"/>
                <a:gd name="textAreaRight" fmla="*/ 772200 w 989640"/>
                <a:gd name="textAreaTop" fmla="*/ 187560 h 853920"/>
                <a:gd name="textAreaBottom" fmla="*/ 666360 h 853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1905120" y="3200400"/>
            <a:ext cx="5181480" cy="0"/>
          </a:xfrm>
          <a:prstGeom prst="line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904760" y="2971800"/>
            <a:ext cx="5181480" cy="0"/>
          </a:xfrm>
          <a:prstGeom prst="line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00600" y="1981080"/>
            <a:ext cx="2286000" cy="685800"/>
          </a:xfrm>
          <a:custGeom>
            <a:avLst/>
            <a:gdLst/>
            <a:ahLst/>
            <a:rect l="l" t="t" r="r" b="b"/>
            <a:pathLst>
              <a:path w="1440" h="432">
                <a:moveTo>
                  <a:pt x="1440" y="432"/>
                </a:moveTo>
                <a:lnTo>
                  <a:pt x="0" y="432"/>
                </a:lnTo>
                <a:lnTo>
                  <a:pt x="432" y="0"/>
                </a:lnTo>
              </a:path>
            </a:pathLst>
          </a:custGeom>
          <a:noFill/>
          <a:ln w="4752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1905120" y="3504960"/>
            <a:ext cx="2286000" cy="685800"/>
          </a:xfrm>
          <a:custGeom>
            <a:avLst/>
            <a:gdLst/>
            <a:ahLst/>
            <a:rect l="l" t="t" r="r" b="b"/>
            <a:pathLst>
              <a:path w="1440" h="432">
                <a:moveTo>
                  <a:pt x="1440" y="432"/>
                </a:moveTo>
                <a:lnTo>
                  <a:pt x="0" y="432"/>
                </a:lnTo>
                <a:lnTo>
                  <a:pt x="432" y="0"/>
                </a:lnTo>
              </a:path>
            </a:pathLst>
          </a:custGeom>
          <a:noFill/>
          <a:ln w="4752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4495680"/>
            <a:ext cx="693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s that pass rules are allowed in, packets that don’t match the rules are rejected. We generally are interested in looking at the reject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DB64-C6A1-4E63-A0F4-178BB1D9DA5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[FIN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C233-BBA5-46FF-94BF-DF13D34E3CE3}" type="slidenum">
              <a:t>8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p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ime, go back and discuss ones that were skipped ov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 SM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mmes hunting for you, missing M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8 Linuxcon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43/500 SSL/Ips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19 NN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@Home scans their custo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FC21-E783-4292-8A3C-173D8606C3FC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p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N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ke pcANYWHERE, heavily scanned for by hackers but also done inadvert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77/513 xdmcp/rwh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 UNIX broadca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6F90-119E-40B5-AE38-F11BDE46291E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SI 7-Layer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990720" y="1676520"/>
            <a:ext cx="1600200" cy="3657600"/>
            <a:chOff x="990720" y="1676520"/>
            <a:chExt cx="1600200" cy="3657600"/>
          </a:xfrm>
        </p:grpSpPr>
        <p:sp>
          <p:nvSpPr>
            <p:cNvPr id="94" name=""/>
            <p:cNvSpPr/>
            <p:nvPr/>
          </p:nvSpPr>
          <p:spPr>
            <a:xfrm>
              <a:off x="990720" y="1676520"/>
              <a:ext cx="1600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90720" y="167652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Arial"/>
                </a:rPr>
                <a:t>Appl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990720" y="2210040"/>
              <a:ext cx="1600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90720" y="2743200"/>
              <a:ext cx="1600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3276720"/>
              <a:ext cx="1600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990720" y="3810240"/>
              <a:ext cx="1600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990720" y="4343400"/>
              <a:ext cx="1600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0720" y="4876920"/>
              <a:ext cx="1600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90720" y="327672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90720" y="381024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90720" y="487692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Arial"/>
                </a:rPr>
                <a:t>Phys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90720" y="434340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ata Li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90720" y="2210040"/>
              <a:ext cx="16002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808080"/>
                  </a:solidFill>
                  <a:latin typeface="Arial"/>
                </a:rPr>
                <a:t>Presentatio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90720" y="274320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Arial"/>
                </a:rPr>
                <a:t>Ses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816640" y="3809880"/>
            <a:ext cx="39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s data between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15200" y="3276720"/>
            <a:ext cx="42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s data between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17360" y="4343400"/>
            <a:ext cx="34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s data to the next 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17720" y="4876920"/>
            <a:ext cx="297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s data to the w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17720" y="1676520"/>
            <a:ext cx="22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s th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 2000 Firewall Forensics by Robert Grah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8795-B7A1-4131-81D3-C8ED57220D7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4T21:55:09Z</dcterms:created>
  <dc:creator>RobertGraham.com</dc:creator>
  <dc:description/>
  <dc:language>en-US</dc:language>
  <cp:lastModifiedBy>Joe Farinella</cp:lastModifiedBy>
  <dcterms:modified xsi:type="dcterms:W3CDTF">2000-06-26T05:18:44Z</dcterms:modified>
  <cp:revision>35</cp:revision>
  <dc:subject/>
  <dc:title>FIRST2k - Firewall Forensics</dc:title>
</cp:coreProperties>
</file>