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189D-1E73-4E17-BF8E-F05867F19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D12D-CD50-456C-A657-7AA8DFD54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097C-7F07-435A-88CD-93A72B01D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9792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1076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9792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1076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442C-CC06-4A8A-9005-71BED4041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520" y="72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9FFD-53E7-4FEB-AE36-4270D3B08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9792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1076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79792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1076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09D7-8DF3-40A3-8B15-31AF8B114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FC3B-5253-4A9E-82B8-F379C36EC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B7E1-61EB-4EF1-AEBF-4E8FF9F93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72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598E-22C0-4A6B-BB8D-4C9EC0347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9F61-4182-4D0F-BB65-C91F08895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F909-6699-4753-9A79-717BD7AAD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9F08-BB6A-4CA9-AA19-D276EF6BC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5880" y="643860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0" y="6451200"/>
            <a:ext cx="56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A6FE-10F2-4A7C-B82C-E1F54563AE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final%20template%20red%20text%20bar%20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ETS%20template%20NEW%20copy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1080" y="1904760"/>
            <a:ext cx="647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1904760"/>
            <a:ext cx="647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c1c"/>
                </a:solidFill>
                <a:latin typeface="Arial"/>
              </a:rPr>
              <a:t>Remote Administration of Microsoft Windows NT</a:t>
            </a:r>
            <a:endParaRPr b="0" lang="en-US" sz="36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981080" y="335268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Microsoft NT Resource K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Malmbe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rn 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the Schedule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erver Mana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Resource Kit Ut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 with common accou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may be sharing more than you intend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 5.0 and Windows 2000 change in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must visit the system once to set up to run commands from remote with a domain accou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emote creation of Servic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files to remote b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ervice Control Utility (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to create the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egistry editor to fix 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ither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erver Manag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start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Using the Schedule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\\computername time “\\server\share\path\comm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O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\\computername delay “\\server\share\path\comm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 need to be in close time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timeserv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vice or NET TIME command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s are given in local time, not the remot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nvironment Variabl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m for paths when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ontain other usefu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you to build a cookbook of small batch file frag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nvironment Variables - Samples</a:t>
            </a: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RES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OR_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nvironment Variables - Limitation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 can only see system environment variables that are in effect at boot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nsate by having scheduled tasks execute a file local_information.bat that just defines a few useful global environment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nvironment Variables - More information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and User and local differ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and User can be set through control pan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ET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KiX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Path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Explorer does not see environment variables set in login scri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ET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KiX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Path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hang up when combined with some other services like Exchange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elative Pathnames</a:t>
            </a: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%0\.. Instead of absolute pa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directories for different executable ty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 variables can help improve read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tilpath=%0\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tilexe=%0\..\%processor_architectur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hecking the resul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 status is in %errorlevel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findst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lter for testing text values retur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start | findstr /b /c:”   %service_name%” &gt; NU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s - Save as .txt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ng a p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target direct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ping a running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ing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ling a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ing file can be installed remotely using the schedule service and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al use of the Resource Kit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command file programming techniques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make the tools available on a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an administrative workstation that allows multiple logged in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File: Install_rkillsvc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This procedure installs the remote kill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This can be installed remotely by usi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“SOON” command from the NT Resource 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ex: soon \\target 30 “UNC name of this fi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06-Aug-1997 J. Malmbe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locate source of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tilpath=%0\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tilexe=%0\..\%processor_architectur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create a destination directory if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xist %systools% goto systools_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t exist %SystemDrive%\systools mkdir %SystemDrive%\sys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systools=%SystemDrive%\sys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systools_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Stop the service if it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service_name=rkillsr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start | findstr /b /c:”   %service_name% &gt; NU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rrorlevel 1 goto not_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stop “%service_name%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not_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tfile=rkillsrv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xist %systools%\%tfile% del %systools%\%tfil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%utilexe%\%tfile% %systools%\%tfil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: Installing Remote Kill Servi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 Add and start th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instsrv %service_name% %systools%\%tfil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start “%service_name%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Issues with adding accoun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net u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and will create an account in the target computer’s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batch procedure through the schedule service to create accounts on the PDC of the account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s created are not visible to commands until they have been replicated to the BD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slee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retries until succes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ally set service passwords to not exp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 program fragmen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an ACL on a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ls %tfile% /g “%MDOM%\Domain Admins”:c &lt; %utilpath%\y.t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ervice Control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sc.exe config %service_name% obj=%MDOM%\%srvacc% password=%pswd% start= a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 fragmen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cting if a B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netdom bdc | find “%computername% &gt;NU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ing a right to an account (non-B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ntrights +r SeServiceLogonRight -u %MDOM%\%srvacc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DC must redirect command to the P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 %\ntrights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-m %mypdc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r SeServiceLogonRight -U %MDOM%\%srvacc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 - Finding the PDC for a BDC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you need to build a command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netdom bdc | find “PDC for domain” &gt;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munge %utilpath%\set_cpudom.munge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Microsoft Windows NT Resource Kit Utiliti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ource Kit utilities are are part of the Microsoft Windows NT Resource Kit sold separately or as part of Microsoft Tech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utilities are not support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tilities are a combination of licensed software and free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tch File Programming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ample - String Substitution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mu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utility to do string substitution in a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utilexe%\munge %utilpath%\set_cpudom.munge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%systools%\cpudomain.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_cpudom.munge is a text file contain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ing PDC for domain “ “SET CPUDOM=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 …” “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rving the NT Resource Kit Utilities on a Network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access to authorized users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include the utilities that are wa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Manual setup and 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Network Served Resource Kit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Directory Structur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Online 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Su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x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x86\shortc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Network Served Resource Kit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Directory Structur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e direc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almost all non-executable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setup and maintenance command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 needs user environment variable %NTRESKIT% to be set to this direc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graphics for an HTML docu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Network Served Resource Kit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Directory Structur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Online 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s to the Online Documentation in the base direc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eeper directories to organize by su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Su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short cuts that use the Super User (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utility to launch selected progr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Network Served Resource Kit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The Directory Structur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x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 specific executables and help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matches %processor_architecture%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“%ntreskit%\%processor_architecture% to the user %path% environment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:\ntrk\x86\shortc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s to utilities for the Start M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Shortcu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shortcut from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he path to the utility 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rge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e %ntreskit%\%processor_architectur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 i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e %homeshare%%homepath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Ic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hange the path to be %ntreskit%\%processor_architecture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Shortcu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s default to being “smar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s need to be made stupid using th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shortc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 -s -n “shortcut_file.ln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Dynamically adding the NT Resource Kit utilities to your start menu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ing the main Start Me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ing the profile Start Menu location.  This is for use with th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VDE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%userprofile%\Start Men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environment variables for Super User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%privuser%=%username%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an Administrator’s Workstation</a:t>
            </a: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you do not to only use an Administrator level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rams may inadvertently update global templa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are not running the same day to day environment as your use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one workstation instead of tw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rtual Desktop (</a:t>
            </a: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VDES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and Super User (</a:t>
            </a: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SU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 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Featured Utiliti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, VDESK, Super User, Setx, soon, Remote Kill, regback, regrest srvany, ntrights, instsrv, pathman, timeserv, service controller, monitor service, localgroup, mu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ther utilities than can be covered in this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an Administrator’s Workstation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System Recommend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8 MB of RAM for Windows NT 4.0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GB of disk space on the system dis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at at least 300 Mb is free on the system disk with everything insta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is always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VDESK - Virtual Desktop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multiple desktops to be active under multiple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Control + F1 through F9 to select deskto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ontrol + Alt + Insert to login a second us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ontrol + Escape to launch a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“Explorer” as that program to get a second shell in an alternate deskto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VDESK - Issu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omain non-privileged account as primary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omain administrator level account on the second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programs will run on the second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ly Microsoft Foundation Classes and MM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ivileged user is logged in even if you logoff the primary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uper User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you to run single programs as a different us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on the primary session of VDE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ith programs that VDESK will n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s convenient as VDE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based u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unknown sett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etting up a Super User Shortcut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the same as a normal short cut for a DOS comm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cut runs SU and takes the application name as a par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nvironment variables to fill in username and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%ntreskit%\%processor_architecture%\SU.EXE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%prvuser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%ntreskit%\%processor_architecture%\dhcpadmn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%domain% -e -cb -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some of the Util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ch file programm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for network a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ministrative station to save physical desk space, and P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Questions and Answer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you for attending my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Malmberg, Saturn 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: John.Malmberg@gm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: Malmberg@eisner.decus.or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white%20compaq%20logo%20copy" descr=""/>
          <p:cNvPicPr/>
          <p:nvPr/>
        </p:nvPicPr>
        <p:blipFill>
          <a:blip r:embed="rId2"/>
          <a:stretch/>
        </p:blipFill>
        <p:spPr>
          <a:xfrm>
            <a:off x="3619440" y="3321000"/>
            <a:ext cx="1903320" cy="41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Most Useful Utiliti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regb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83de62"/>
                </a:solidFill>
                <a:latin typeface="Arial"/>
              </a:rPr>
              <a:t>reg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lements backup, Just in ca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universal status watcher service that can be configured to send ale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Monitor Service Us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or Threads Not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Memory running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k space running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ry Qu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Watson al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Scripting option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 Scripting (VB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X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emote command execution servic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 (security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ONS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NE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Giving commands to a remote server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NT was designed for remote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commands allow designation of target syst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hedule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3de62"/>
                </a:solidFill>
                <a:latin typeface="Arial"/>
              </a:rPr>
              <a:t>A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mmand can cause DOS command files to execute on target syste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aq 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8:20:43Z</dcterms:created>
  <dc:creator/>
  <dc:description/>
  <dc:language>en-US</dc:language>
  <cp:lastModifiedBy>Windows Client</cp:lastModifiedBy>
  <cp:lastPrinted>2000-08-07T17:25:55Z</cp:lastPrinted>
  <dcterms:modified xsi:type="dcterms:W3CDTF">2000-08-22T21:04:16Z</dcterms:modified>
  <cp:revision>11</cp:revision>
  <dc:subject/>
  <dc:title>Compaq Enterprise Technical Symposium 2000</dc:title>
</cp:coreProperties>
</file>