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93A-EC2C-4142-ADA7-921323C2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173-FB8D-4108-9416-2E5555F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936-CF48-4497-87F3-830576B5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07E-852F-4595-AAFB-B7E8B70B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CFAB-1DBE-41D3-8E8F-7A2663C6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FDF1-DC70-4453-B3C6-DBD926A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C026-697E-4249-820F-23EF5D36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6C0C-8A28-4746-A083-337BA87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E764-B620-43F3-B8CC-EBDDD1FB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D701-8DD6-4D00-A919-470FBEE7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B167-49A3-4023-8619-66BC827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BCC-5D56-4231-A418-B3D5C65E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421-8628-47C1-8F43-343B161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CBA5-6198-4618-89EA-9217ECC3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350F-4E25-4619-A334-FFFD82D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619E-E172-409C-948C-F5E2D65A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52BF-CF7D-4591-9553-46C9763E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DC1-7F11-4C4C-89A3-8B77F9A5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491-B6FD-474C-BB61-8F4E12CF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CE0-18D8-41B8-88F9-EEF744A1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ACD-6494-44E6-8C41-E257A7F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8B8-1FB5-40A8-9EFA-DDD4B41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0B4-6A9B-4543-80F8-32DC9C7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A0B-02BF-45A1-A37F-93A6513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A8C5-EBF2-4033-B817-D917292D3E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494B-A4B2-40FF-90EE-0164E86742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: Preparing for Them and Living With Th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im Beck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stem Solutions Incorpora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US ESILU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mple Firewall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have a single Internet connec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firewall governs access between internal and external network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 NIC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lic services reside elsewhere (e.g., ISP) or on external networ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2844720"/>
          <a:ext cx="380988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844720"/>
                    <a:ext cx="380988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ypical Policies: Simple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ewall imposes no restrictions on internal u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ewall allows no externally initiated connections to internal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ypical exception: e-mail deliv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ewall doesn’t protect external network from Inter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MZ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have a single Internet conne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firewall governs access between internal and external networ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N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services reside on the DMZ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48320" y="2844720"/>
          <a:ext cx="380988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844720"/>
                    <a:ext cx="380988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ypical Policies: DMZ Scen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imposes no restrictions on internal us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allows no externally initiated connections to internal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ical exception: e-mail delivery (e-mail server(s) on internal network or DMZ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allows no DMZ-initiated connections to internal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allows selected access to DMZ services (http, ftp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ultiple Firewa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enario: multiple s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ltiple sites with independent Internet connectiv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ewalls managed centrally or at each s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ewall appliances at remote si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enario: special internal security environ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e firewall to protect internal network from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other firewall to protect a special subnet from the rest of your internal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 Access Polic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y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rce: host, network, group of hosts or networks, “any,” authentication requir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tination: host, network, group of hosts or networks, “any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: http, ftp, smtp, “any,” group of service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pt, reject, dr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dits, ala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llect Policy Information Earl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ho needs access to wha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ho should be blocked from wha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sider: internal, external, DMZ 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sider: internal, external, DMZ destin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jection vs. bit buck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uthentication requir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y or time restric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cryption requir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uditing nee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arm nee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gn-Off from Manag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decisions (itemized) on wants and needs you coll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general statement of organization’s security poli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nd out who needs to be notified of incid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bove info helps you deal with policy questions that come 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can’t I use ____ any more??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HTT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http port: 8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ndard https port: 44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le use of non-standard po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consider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RL filte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ent insp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xy to be noted in individual web browser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FT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ftp ports: 20, 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rnames and passwords transmitted in clear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V support may be required in ftp cli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ication: “425 can't establish data connection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ent insp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urit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t the Good Guys do Good Th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 the Good Guys from doing Bad Things (accidentally or intentional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 the Bad Guys from doing any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lle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tinguishing Good Guys from Bad Gu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tinguishing Good Things from Bad Th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ding an acceptable set of compromi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Telnet, SS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telnet port: 2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e: telnet usernames and passwords transmitted in clear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SSH port: 2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ility to separate internal DNS, external D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andles queries from 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nows only what the Internet needs to kn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andles internal qu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nows what the internal users need to kn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wall might run DNS services (internal and/or extern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D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s &amp; E-M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ndard smtp port: 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ndard pop3 port: 110 (995 with SS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ndard IMAP port: 143 (993 with SS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nsider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tent insp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ze limit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dress hid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lformed head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xchange Server: see Microsoft Knowledge Base articles Q176466, Q15583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Services to Consid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lAudio, RealVideo - high traff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tiveX - control of internal h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cAnywhere - control of internal h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P telephony, confere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twork Address Translat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FC163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upported in many firewalls (and some router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 all NATs are created equal (some more thorough than other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bound translation: source IP address replaced with an alternate IP add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bound translation: destination IP address replaced with an alternate IP addr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cenar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any-to-one translation: most/all internal hosts map to one address presented to outside world (port assignment lets NAT keep track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ne-to-one translation: some internal hosts map to distinct addresses presented to outside worl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AT Benefi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T hides your internal addres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ny-to-one translation: External hosts can’t initiate contact to internal syste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ress regist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T lets you use large numbers of unregistered addresses internally, and perhaps only a small number of registered addresses external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ypically, you’d use the RFC1918 private addres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0.0.0.0 - 10.255.255.255 (10/8 prefix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72.16.0.0 - 172.31.255.255 (172.16/12 prefix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92.168.0.0 - 192.168.255.255 (192.168/16 prefix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ssible NAT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 might not translate addresses that appear within the packet’s 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ome implementations translate address found inside  the packet for well-known cases (http, ftp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 might cause problems with addressed based authent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ny-to-one translation: Some services can’t handle “funny” port assign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need mostly one-to-one translation, you haven’t gained much by using N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Firewall Capabiliti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(in some products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e blocking in http, ft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rus scan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ra layer(s) of authent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ssion encry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PN (Virtual Private Networking): letting Good Guys do Good Things over an encrypted Internet conn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uter manag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ad-balanc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ssorted Traps &amp; Pitfa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can’t I use ____ any more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ng: tends to be disabled by defaul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protocols: passed through without inspec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up/shutdown (NIC responding, firewall service not running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 Misconcep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t &amp; Forget: After I’ve configured the firewall, I can ignore i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rong. You need to review the audit trails and polic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ltimate Safety: After I’ve configured the firewall, I don’t have to worry about security on protected syste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rong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firewall is a set of compromises between security and convenien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firewall isn’t the only means of accessing da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urity vs. Conveni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00% security: Nobody has any access to any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00% convenience: Everybody has full access to every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thing in between: The Real Worl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ommodating the Good Guys often accommodates the Bad Guys t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pping the Bad Guys often stops the Good Guys t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utsourcing the Firewa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can manage your firewall yourself, or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ISPs (or other service providers) will manage the firewall for you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ewall system at your site or at ISP’s s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 provider installs, configures, monitors (24x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submit policy requirements &amp; changes to service provi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T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sic Purposes of a Firewa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 access to selected services in a controlled mann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lock the 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t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nitor activity for signs of trou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ep an audit trail if you later suspect a breach has occur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if I don’t use a firewall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ysical secur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the router to the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host protocol s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host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host operating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urity in the appl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.S. All of the above apply even if you use a firew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es a firewall do for m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dit trai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ction from IP spoof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ction from various denial-of-service atta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layer of authent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ress trans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rewall Typ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cket filter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ccess decisions based on source, destination, serv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tel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roxy-bas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ccess decisions based on application-specific proxy softwa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pplication le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tefu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teful insp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et filtering (network leve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ome application-level inspec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tatefu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all Guideli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at which is not expressly permitted is prohibite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firewall is the firewall, the whole firewall, and nothing but the firewal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on’t run anything on the firewall that wasn’t intended to be part of the firewal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Watch out for back doors that bypass the firewall (modems, extra NICs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 ready to pull the plug in a crisi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ght the urge to poke holes through the firewal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Your business requirements might require you to poke holes anyway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e.g., e-mail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nly a trusted few manage the firewal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nal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our organization’s private networ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orth protec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ernal 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twork between the firewall and the 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o firewall protection from outside wor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deally, no hosts except the firewall and the Internet rou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MZ (Demilitarized Zone) — opt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parate network housed at your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ended for public access (in a controlled manne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8:09:37Z</dcterms:created>
  <dc:creator>jbecker</dc:creator>
  <dc:description/>
  <dc:language>en-US</dc:language>
  <cp:lastModifiedBy>jbecker</cp:lastModifiedBy>
  <dcterms:modified xsi:type="dcterms:W3CDTF">1999-12-17T21:00:47Z</dcterms:modified>
  <cp:revision>20</cp:revision>
  <dc:subject/>
  <dc:title>Firewalls: Preparing for Them and Living With Them</dc:title>
</cp:coreProperties>
</file>