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48488" cy="9053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0F4C-058E-4ED7-9B1D-8C33856420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0C52-0D72-494C-9443-2F78BDF848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632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E2DC3-37B6-44C1-9A8B-97BB5C82BB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83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224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83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224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CFBA-4351-4F6D-BE09-0604A8DCB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81080" y="380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9144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B282-7A01-488E-BF7F-4A8A02190B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3632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1440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4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3632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832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222240" y="160020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91440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832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222240" y="3789720"/>
            <a:ext cx="252720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0F176-30EB-4E34-B44A-09BD75A708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372BD-1AB8-41F6-BAF4-90CE7A344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66F8-90DB-4CD8-85C7-5B27C4FCC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81080" y="380880"/>
            <a:ext cx="655344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E4905-D5AE-4A22-804B-B8EBBEBA3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6A423-B244-4B53-9634-B65DCEB60E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6320" y="378972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A7B2-A173-4A53-8D85-4D62A5374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6320" y="1600200"/>
            <a:ext cx="383004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789720"/>
            <a:ext cx="7848720" cy="199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865E-664B-44A2-801D-4A38C7D91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-231840">
              <a:spcBef>
                <a:spcPts val="64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-173160">
              <a:spcBef>
                <a:spcPts val="649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2" marL="1085760" indent="-228600">
              <a:spcBef>
                <a:spcPts val="649"/>
              </a:spcBef>
              <a:buClr>
                <a:srgbClr val="83de62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3" marL="1428840" indent="-228600">
              <a:spcBef>
                <a:spcPts val="649"/>
              </a:spcBef>
              <a:buClr>
                <a:srgbClr val="000066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4" marL="1771560" indent="-228600">
              <a:spcBef>
                <a:spcPts val="649"/>
              </a:spcBef>
              <a:buClr>
                <a:srgbClr val="000066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5" marL="1771560" indent="-228600">
              <a:spcBef>
                <a:spcPts val="64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6" marL="1771560" indent="-228600">
              <a:spcBef>
                <a:spcPts val="649"/>
              </a:spcBef>
              <a:buClr>
                <a:srgbClr val="eaeaea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5867280" y="5943600"/>
            <a:ext cx="2997360" cy="50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429000" y="6248160"/>
            <a:ext cx="8380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CA1C-487B-4A36-A135-DC42A3E19297}" type="slidenum">
              <a:rPr b="0" lang="en-US" sz="14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badi MT Condensed Extra Bold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371600" y="990720"/>
            <a:ext cx="688356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34920" y="2209320"/>
            <a:ext cx="572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5867280" y="5972040"/>
            <a:ext cx="2997360" cy="50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6755040" cy="12063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057400" y="3809880"/>
            <a:ext cx="50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badi MT Condensed Extra Bold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Abadi MT Condensed Extra Bold"/>
              </a:rPr>
              <a:t>Red Hat  Linux 5.2 on Alpha</a:t>
            </a:r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badi MT Condensed Extra Bold"/>
              </a:rPr>
              <a:t>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Abadi MT Condensed Extra Bold"/>
              </a:rPr>
              <a:t>Fred Deady </a:t>
            </a:r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55344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Words To The Wise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8160" y="1600200"/>
            <a:ext cx="7156440" cy="372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-231840">
              <a:lnSpc>
                <a:spcPct val="95000"/>
              </a:lnSpc>
              <a:spcBef>
                <a:spcPts val="64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eaeaea"/>
                </a:solidFill>
                <a:latin typeface="Arial"/>
              </a:rPr>
              <a:t>Installing Red Hat Linux on an Alpha system is slightly more complex than installing Red Hat Linux/Intel, mostly due to differences in machine architecture, and the variety of different models supported. In general, the main steps to a successful install are...” 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lnSpc>
                <a:spcPct val="9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marL="231840" indent="-231840">
              <a:lnSpc>
                <a:spcPct val="95000"/>
              </a:lnSpc>
              <a:spcBef>
                <a:spcPts val="400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rom Alpha Installation Addendum Section 1.3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44800" y="774720"/>
            <a:ext cx="552600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Differences In Installation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98520" y="1738440"/>
            <a:ext cx="7080480" cy="37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-231840"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Different Kit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RM (System Reference Manual) vs ARC (Advanced RISC Console) vs AlphaBio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disk (BSD or Linux fdisk) vs Disk Drui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-231840"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EB Brows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62120" y="609480"/>
            <a:ext cx="8035920" cy="106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ystem Options  </a:t>
            </a:r>
            <a:r>
              <a:rPr b="0" lang="en-US" sz="2400" spc="-1" strike="noStrike">
                <a:solidFill>
                  <a:srgbClr val="ff8f2b"/>
                </a:solidFill>
                <a:latin typeface="Times New Roman"/>
              </a:rPr>
              <a:t>ARC / ALPHABIOS</a:t>
            </a:r>
            <a:endParaRPr b="0" lang="en-US" sz="24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676520"/>
            <a:ext cx="65930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Family/Model              Aliases          MILO       Kernel      Boot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=============        =======      =====      ======   =========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                         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600                       ALCOR       xlt-alcor    alcor.gz    alcor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500 5/5xx              BRET         xlt-alcor    alcor.gz    alcor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250 4/*                  M3              avanti       xl.gz         xl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255 4/*                  LX3+           avanti       xl.gz         xl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PWS 433a or 433au   MIATA         miata       miata.gz   miata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PWS 500a or 500au   MIATA         miata       miata.gz   miata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PWS 600a or 600au   MIATA         miata       miata.gz   miata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Table Provided By Jay Estabrook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609480"/>
            <a:ext cx="8035920" cy="106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anchor="b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System Options  </a:t>
            </a:r>
            <a:r>
              <a:rPr b="0" lang="en-US" sz="2400" spc="-1" strike="noStrike">
                <a:solidFill>
                  <a:srgbClr val="ff8f2b"/>
                </a:solidFill>
                <a:latin typeface="Times New Roman"/>
              </a:rPr>
              <a:t>SRM</a:t>
            </a:r>
            <a:endParaRPr b="0" lang="en-US" sz="24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1600" y="1676520"/>
            <a:ext cx="659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  <p:sp>
        <p:nvSpPr>
          <p:cNvPr id="91" name=""/>
          <p:cNvSpPr/>
          <p:nvPr/>
        </p:nvSpPr>
        <p:spPr>
          <a:xfrm>
            <a:off x="1295280" y="1447920"/>
            <a:ext cx="740268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Family/Model                Aliases              Kernel              Boot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=============          =======           ======            =========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                           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1000 5/xxx            MIKASA          mikasa-s-5.gz    mikasa-s-5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1000A 5/xxx          NORITAKE     noritake-s-5.gz   noritake-s-5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600                       ALCOR            alcor-s.gz           alcor-s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800 5/xxx              CORELLE       noritake-s-5.gz   noritake-s-5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4000                     DURANGO      rawhide-s.gz      rawhide-s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4100                     DODGE           rawhide-s.gz      rawhide-s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1200                     TINCUP           rawhide-s.gz      rawhide-s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2100 5/xxx            SABLE            sable-s-5.gz       sable-s-5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AS 2000 5/xxx            SABLE            sable-s-5.gz       sable-s-5.img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badi MT Condensed Extra Bold"/>
              </a:rPr>
              <a:t>Table Provided By Jay Estabrook</a:t>
            </a: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68520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Disk Setup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5920" y="2142720"/>
            <a:ext cx="7172280" cy="24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59200" y="46483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  <p:sp>
        <p:nvSpPr>
          <p:cNvPr id="95" name=""/>
          <p:cNvSpPr/>
          <p:nvPr/>
        </p:nvSpPr>
        <p:spPr>
          <a:xfrm>
            <a:off x="1298520" y="1738440"/>
            <a:ext cx="70804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fdisk (DOS) or BSD - SRM Must Be BSD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SD Style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reate c Partition As Full Disk 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reate a Partition As Type Swap (128MB &lt;)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Offset Start Of Partition by 1-3 Cylinders 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Create b Partition As Type ext2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At End of Install Use writeboot To Write Boot File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68520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BOOT TERMS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5920" y="2142720"/>
            <a:ext cx="7172280" cy="24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2318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9200" y="46483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  <p:sp>
        <p:nvSpPr>
          <p:cNvPr id="99" name=""/>
          <p:cNvSpPr/>
          <p:nvPr/>
        </p:nvSpPr>
        <p:spPr>
          <a:xfrm>
            <a:off x="1298520" y="1738440"/>
            <a:ext cx="70804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Boot Disks  MILO, Boot, and Ramdisk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MILO (Mini Loader) Must Be On A DOS Partition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Firmware That Sets Up The System For Booting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Loads The Linux Kernel 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Not For SRM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boot 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51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Writes Boot Block And Allows Booting From Disk</a:t>
            </a:r>
            <a:endParaRPr b="0" lang="en-US" sz="1800" spc="-1" strike="noStrike">
              <a:solidFill>
                <a:srgbClr val="eaeaea"/>
              </a:solidFill>
              <a:latin typeface="Abadi MT Condensed Extra Bold"/>
            </a:endParaRPr>
          </a:p>
          <a:p>
            <a:pPr lvl="1" marL="630360" indent="-173160">
              <a:lnSpc>
                <a:spcPct val="100000"/>
              </a:lnSpc>
              <a:spcBef>
                <a:spcPts val="499"/>
              </a:spcBef>
              <a:buClr>
                <a:srgbClr val="5f72d4"/>
              </a:buClr>
              <a:buSzPct val="38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SRM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68520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8f2b"/>
                </a:solidFill>
                <a:latin typeface="Times New Roman"/>
              </a:rPr>
              <a:t>Where To Go For Help</a:t>
            </a:r>
            <a:endParaRPr b="0" lang="en-US" sz="3600" spc="-1" strike="noStrike">
              <a:solidFill>
                <a:srgbClr val="ff8f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5920" y="2142720"/>
            <a:ext cx="7172280" cy="248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1" marL="63036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9200" y="464832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  <p:sp>
        <p:nvSpPr>
          <p:cNvPr id="103" name=""/>
          <p:cNvSpPr/>
          <p:nvPr/>
        </p:nvSpPr>
        <p:spPr>
          <a:xfrm>
            <a:off x="1298520" y="1738440"/>
            <a:ext cx="708048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ww.linux.org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ww.alphalinux.org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ww.redhat.com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ww.linuxmall.com 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www.compaq.com/alphaserver/linux/</a:t>
            </a: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  <a:p>
            <a:pPr marL="231840" indent="-231840">
              <a:lnSpc>
                <a:spcPct val="100000"/>
              </a:lnSpc>
              <a:spcBef>
                <a:spcPts val="499"/>
              </a:spcBef>
              <a:buClr>
                <a:srgbClr val="ff8f2b"/>
              </a:buClr>
              <a:buSzPct val="5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badi MT Condensed Extra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95280" y="2814480"/>
            <a:ext cx="6755040" cy="120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5T17:48:33Z</dcterms:created>
  <dc:creator>Tim Carlson</dc:creator>
  <dc:description/>
  <dc:language>en-US</dc:language>
  <cp:lastModifiedBy>Deady</cp:lastModifiedBy>
  <cp:lastPrinted>1998-11-17T23:50:28Z</cp:lastPrinted>
  <dcterms:modified xsi:type="dcterms:W3CDTF">1999-05-25T16:53:30Z</dcterms:modified>
  <cp:revision>64</cp:revision>
  <dc:subject/>
  <dc:title>North America Benchmark Program</dc:title>
</cp:coreProperties>
</file>