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E065907-DF77-4399-B16D-05139E948D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371600" y="768240"/>
            <a:ext cx="5029200" cy="3767400"/>
          </a:xfrm>
          <a:prstGeom prst="rect">
            <a:avLst/>
          </a:prstGeom>
          <a:ln w="0">
            <a:noFill/>
          </a:ln>
        </p:spPr>
      </p:sp>
      <p:sp>
        <p:nvSpPr>
          <p:cNvPr id="10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troduce yourself.</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f appropriate, take a few minutes to ask the customer about their environment so that you may respond to some specific areas of interest throughout the present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371600" y="768240"/>
            <a:ext cx="5029200" cy="3767400"/>
          </a:xfrm>
          <a:prstGeom prst="rect">
            <a:avLst/>
          </a:prstGeom>
          <a:ln w="0">
            <a:noFill/>
          </a:ln>
        </p:spPr>
      </p:sp>
      <p:sp>
        <p:nvSpPr>
          <p:cNvPr id="10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tress that the standby database is identical to the original, that there is no impact to the primary system and that BOTH disaster tolerance and load sharing (read on the standby system) resul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371600" y="768240"/>
            <a:ext cx="5029200" cy="3767400"/>
          </a:xfrm>
          <a:prstGeom prst="rect">
            <a:avLst/>
          </a:prstGeom>
          <a:ln w="0">
            <a:noFill/>
          </a:ln>
        </p:spPr>
      </p:sp>
      <p:sp>
        <p:nvSpPr>
          <p:cNvPr id="10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alk very briefly about a couple of these; field the inevitable question about a few of the oth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371600" y="768240"/>
            <a:ext cx="5029200" cy="3767400"/>
          </a:xfrm>
          <a:prstGeom prst="rect">
            <a:avLst/>
          </a:prstGeom>
          <a:ln w="0">
            <a:noFill/>
          </a:ln>
        </p:spPr>
      </p:sp>
      <p:sp>
        <p:nvSpPr>
          <p:cNvPr id="10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xplain that Rdb and Oracle are two distinct database engines.  Will we ever try to make Rdb into the general purpose database for everyone?  No, we already have one of those.  It’s called Oracle.  In fact, many of the features in Oracle8 have come from technology originally developed in Rdb.  Many of the engineers working on a feature for Rdb have begun working on Oracle to add the same feature.  (Hot Standby, for exampl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owever, through SQL*Net for Rdb we provide a bridge between the two environments for both applications and database interactively.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371600" y="768240"/>
            <a:ext cx="5029200" cy="3767400"/>
          </a:xfrm>
          <a:prstGeom prst="rect">
            <a:avLst/>
          </a:prstGeom>
          <a:ln w="0">
            <a:noFill/>
          </a:ln>
        </p:spPr>
      </p:sp>
      <p:sp>
        <p:nvSpPr>
          <p:cNvPr id="10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o, in closing, Rdb continues to focus on what is important.  We’ve protected your investment in your applications, your data and your system by bringing new features and capabilities to enhance your effectiveness with Rdb.  We also have brought Rdb into the Oracle family of products to give you access to many other tools and resourc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hould you ever change from Rdb to Oracle?  You tell me.  Oracle Corporation continues to support your mission-critical, high-performance uses of Rdb.  Yet, obviously, there are some compelling new features in Oracle8i that will never be available in Rdb such as the ease with which you can serve your data to the Internet and features to facilitate data warehousing.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offer you a choice to take the path which makes the most sense for your business.  Your existing applications will continue to work better than ever.  We offer interoperability with a wide range of Oracle tools and even other Oracle databases.  If you are comfortable with the OpenVMS platform, we provide no technical reason for you to switch databases.  Conversely, if there are attractive new features in the Oracle database, you can build new applications and still link to your existing Rdb systems.  We provide you with the ability to make the decision that is best for your individual circumstances.  We support you in any direction you may choose to tak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371600" y="768240"/>
            <a:ext cx="5029200" cy="3767400"/>
          </a:xfrm>
          <a:prstGeom prst="rect">
            <a:avLst/>
          </a:prstGeom>
          <a:ln w="0">
            <a:noFill/>
          </a:ln>
        </p:spPr>
      </p:sp>
      <p:sp>
        <p:nvSpPr>
          <p:cNvPr id="10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How can this be?  Oracle’s Rdb engineering group has moved the critical data structures used by Rdb from local mamory to Galaxy shared memory and has taken advantage of the OpenVMS Galaxy features to maximize both capacity and performance.  Since the changes are all in the database software, database administrators  make a few simple changes to the database configuration and both performance and capacity are increas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371600" y="768240"/>
            <a:ext cx="5029200" cy="3767400"/>
          </a:xfrm>
          <a:prstGeom prst="rect">
            <a:avLst/>
          </a:prstGeom>
          <a:ln w="0">
            <a:noFill/>
          </a:ln>
        </p:spPr>
      </p:sp>
      <p:sp>
        <p:nvSpPr>
          <p:cNvPr id="10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i="1" lang="en-US" sz="1300" spc="-1" strike="noStrike">
                <a:solidFill>
                  <a:srgbClr val="000000"/>
                </a:solidFill>
                <a:latin typeface="Arial"/>
                <a:ea typeface="Arial"/>
              </a:rPr>
              <a:t>Alpha 64-bit performance is here today, you don’t have to wait for Merced</a:t>
            </a:r>
            <a:endParaRPr b="0" lang="en-US" sz="1300" spc="-1" strike="noStrike">
              <a:solidFill>
                <a:srgbClr val="000000"/>
              </a:solidFill>
              <a:latin typeface="Arial"/>
            </a:endParaRPr>
          </a:p>
          <a:p>
            <a:pPr indent="0">
              <a:lnSpc>
                <a:spcPct val="100000"/>
              </a:lnSpc>
              <a:spcBef>
                <a:spcPts val="720"/>
              </a:spcBef>
              <a:buNone/>
            </a:pPr>
            <a:r>
              <a:rPr b="0" lang="en-US" sz="1100" spc="-1" strike="noStrike">
                <a:solidFill>
                  <a:srgbClr val="000000"/>
                </a:solidFill>
                <a:latin typeface="Arial"/>
                <a:ea typeface="Arial"/>
              </a:rPr>
              <a:t>As you can see from this slide, Compaq is continuing its investment in the Alpha technology.  Alpha systems based on the EV6 and EV67 chip are shipping now, with EV68 systems planned for early 2001.</a:t>
            </a:r>
            <a:endParaRPr b="0" lang="en-US" sz="1100" spc="-1" strike="noStrike">
              <a:solidFill>
                <a:srgbClr val="000000"/>
              </a:solidFill>
              <a:latin typeface="Arial"/>
            </a:endParaRPr>
          </a:p>
          <a:p>
            <a:pPr indent="0">
              <a:lnSpc>
                <a:spcPct val="85000"/>
              </a:lnSpc>
              <a:spcBef>
                <a:spcPts val="720"/>
              </a:spcBef>
              <a:buNone/>
            </a:pPr>
            <a:r>
              <a:rPr b="1" lang="en-US" sz="1100" spc="-1" strike="noStrike">
                <a:solidFill>
                  <a:srgbClr val="000000"/>
                </a:solidFill>
                <a:latin typeface="Arial"/>
                <a:ea typeface="Arial"/>
              </a:rPr>
              <a:t>EV7 Major Features:</a:t>
            </a:r>
            <a:endParaRPr b="0" lang="en-US" sz="1100" spc="-1" strike="noStrike">
              <a:solidFill>
                <a:srgbClr val="000000"/>
              </a:solidFill>
              <a:latin typeface="Arial"/>
            </a:endParaRPr>
          </a:p>
          <a:p>
            <a:pPr marL="434880" indent="0">
              <a:lnSpc>
                <a:spcPct val="85000"/>
              </a:lnSpc>
              <a:spcBef>
                <a:spcPts val="720"/>
              </a:spcBef>
              <a:buNone/>
            </a:pPr>
            <a:r>
              <a:rPr b="1" lang="en-US" sz="1100" spc="-1" strike="noStrike">
                <a:solidFill>
                  <a:srgbClr val="000000"/>
                </a:solidFill>
                <a:latin typeface="Arial"/>
                <a:ea typeface="Arial"/>
              </a:rPr>
              <a:t>On-chip switches:</a:t>
            </a:r>
            <a:r>
              <a:rPr b="0" lang="en-US" sz="1100" spc="-1" strike="noStrike">
                <a:solidFill>
                  <a:srgbClr val="000000"/>
                </a:solidFill>
                <a:latin typeface="Arial"/>
                <a:ea typeface="Arial"/>
              </a:rPr>
              <a:t> Drive Wildfire-like interconnect technology on-chip.  Fewer more powerful chips, lower local &amp; global latencies, another order of magnitude memory bandwidth.  Higher performance midrange systems, larger CPU count high-end systems</a:t>
            </a:r>
            <a:endParaRPr b="0" lang="en-US" sz="1100" spc="-1" strike="noStrike">
              <a:solidFill>
                <a:srgbClr val="000000"/>
              </a:solidFill>
              <a:latin typeface="Arial"/>
            </a:endParaRPr>
          </a:p>
          <a:p>
            <a:pPr marL="434880" indent="0">
              <a:lnSpc>
                <a:spcPct val="85000"/>
              </a:lnSpc>
              <a:spcBef>
                <a:spcPts val="720"/>
              </a:spcBef>
              <a:buNone/>
            </a:pPr>
            <a:r>
              <a:rPr b="1" lang="en-US" sz="1100" spc="-1" strike="noStrike">
                <a:solidFill>
                  <a:srgbClr val="000000"/>
                </a:solidFill>
                <a:latin typeface="Arial"/>
                <a:ea typeface="Arial"/>
              </a:rPr>
              <a:t>Extends EV6 core with huge on-chip cache: </a:t>
            </a:r>
            <a:r>
              <a:rPr b="0" lang="en-US" sz="1100" spc="-1" strike="noStrike">
                <a:solidFill>
                  <a:srgbClr val="000000"/>
                </a:solidFill>
                <a:latin typeface="Arial"/>
                <a:ea typeface="Arial"/>
              </a:rPr>
              <a:t>Up to 50% speed-up for complex commercial workloads</a:t>
            </a:r>
            <a:endParaRPr b="0" lang="en-US" sz="1100" spc="-1" strike="noStrike">
              <a:solidFill>
                <a:srgbClr val="000000"/>
              </a:solidFill>
              <a:latin typeface="Arial"/>
            </a:endParaRPr>
          </a:p>
          <a:p>
            <a:pPr indent="0">
              <a:lnSpc>
                <a:spcPct val="100000"/>
              </a:lnSpc>
              <a:spcBef>
                <a:spcPts val="720"/>
              </a:spcBef>
              <a:buNone/>
            </a:pPr>
            <a:r>
              <a:rPr b="0" lang="en-US" sz="1100" spc="-1" strike="noStrike">
                <a:solidFill>
                  <a:srgbClr val="000000"/>
                </a:solidFill>
                <a:latin typeface="Arial"/>
                <a:ea typeface="Arial"/>
              </a:rPr>
              <a:t>As you move up the spectrum to EV7 and EV8, you get smaller chips, less power consumption, more data throughput with greater memory and cache bandwidth.</a:t>
            </a:r>
            <a:endParaRPr b="0" lang="en-US" sz="1100" spc="-1" strike="noStrike">
              <a:solidFill>
                <a:srgbClr val="000000"/>
              </a:solidFill>
              <a:latin typeface="Arial"/>
            </a:endParaRPr>
          </a:p>
          <a:p>
            <a:pPr indent="0">
              <a:lnSpc>
                <a:spcPct val="100000"/>
              </a:lnSpc>
              <a:spcBef>
                <a:spcPts val="720"/>
              </a:spcBef>
              <a:buNone/>
            </a:pPr>
            <a:r>
              <a:rPr b="0" lang="en-US" sz="1100" spc="-1" strike="noStrike">
                <a:solidFill>
                  <a:srgbClr val="000000"/>
                </a:solidFill>
                <a:latin typeface="Arial"/>
                <a:ea typeface="Arial"/>
              </a:rPr>
              <a:t>Beyond what you see on this chart, are EV9 and EV10 chips that are currently in the design stages with two leading universities:  University of California and MIT.</a:t>
            </a:r>
            <a:endParaRPr b="0" lang="en-US" sz="1100" spc="-1" strike="noStrike">
              <a:solidFill>
                <a:srgbClr val="000000"/>
              </a:solidFill>
              <a:latin typeface="Arial"/>
            </a:endParaRPr>
          </a:p>
          <a:p>
            <a:pPr indent="0">
              <a:lnSpc>
                <a:spcPct val="100000"/>
              </a:lnSpc>
              <a:spcBef>
                <a:spcPts val="720"/>
              </a:spcBef>
              <a:buNone/>
            </a:pPr>
            <a:r>
              <a:rPr b="0" lang="en-US" sz="1100" spc="-1" strike="noStrike">
                <a:solidFill>
                  <a:srgbClr val="000000"/>
                </a:solidFill>
                <a:latin typeface="Arial"/>
                <a:ea typeface="Arial"/>
              </a:rPr>
              <a:t>In addition, Tandem’s product line will utilize the Alpha technology in the future.</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371600" y="768240"/>
            <a:ext cx="5029200" cy="3767400"/>
          </a:xfrm>
          <a:prstGeom prst="rect">
            <a:avLst/>
          </a:prstGeom>
          <a:ln w="0">
            <a:noFill/>
          </a:ln>
        </p:spPr>
      </p:sp>
      <p:sp>
        <p:nvSpPr>
          <p:cNvPr id="10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t’s important for our customers to understand that Rdb is widely used in the world’s most mission critical systems.  The smooth operation of more than half of the world’s cellular telephones and many, many financial institutions and trading organizations require Rdb.</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understand that with this much critical dependence upon Rdb, Oracle must continue to meet the needs of our customers for a very high-performance, very stable syst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oint out a few of your favorite customers.  Intel is a good one in that the manufacture of ALL Intel integrated circuits depends upon Rdb (DBMS actuall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371600" y="768240"/>
            <a:ext cx="5029200" cy="3767400"/>
          </a:xfrm>
          <a:prstGeom prst="rect">
            <a:avLst/>
          </a:prstGeom>
          <a:ln w="0">
            <a:noFill/>
          </a:ln>
        </p:spPr>
      </p:sp>
      <p:sp>
        <p:nvSpPr>
          <p:cNvPr id="10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100" spc="-1" strike="noStrike">
                <a:solidFill>
                  <a:srgbClr val="000000"/>
                </a:solidFill>
                <a:latin typeface="Arial"/>
                <a:ea typeface="Arial"/>
              </a:rPr>
              <a:t>OpenVMS V7.2</a:t>
            </a:r>
            <a:r>
              <a:rPr b="0" lang="en-US" sz="1100" spc="-1" strike="noStrike">
                <a:solidFill>
                  <a:srgbClr val="000000"/>
                </a:solidFill>
                <a:latin typeface="Arial"/>
                <a:ea typeface="Arial"/>
              </a:rPr>
              <a:t> shipped in Q1CY99.  This is a functional release that includes support for tighter integration with NT with COM V1.0, support for Compaq Galaxy Software Architecture on OpenVMS, enhancements to OpenVMS Clusters, and support for Java.  </a:t>
            </a:r>
            <a:r>
              <a:rPr b="1" lang="en-US" sz="1100" spc="-1" strike="noStrike">
                <a:solidFill>
                  <a:srgbClr val="000000"/>
                </a:solidFill>
                <a:latin typeface="Arial"/>
                <a:ea typeface="Arial"/>
              </a:rPr>
              <a:t>The OpenVMS Alpha V7.2 HW01 Remedial Kit</a:t>
            </a:r>
            <a:r>
              <a:rPr b="0" lang="en-US" sz="1100" spc="-1" strike="noStrike">
                <a:solidFill>
                  <a:srgbClr val="000000"/>
                </a:solidFill>
                <a:latin typeface="Arial"/>
                <a:ea typeface="Arial"/>
              </a:rPr>
              <a:t> shipped in May 1999.  This provides support on OpenVMS Alpha V7.2 for Fibre Channel, Gigabit Ethernet, Memory Channel V2.0 and AlphaServer GS140, GS60 and DS20 systems.</a:t>
            </a:r>
            <a:endParaRPr b="0" lang="en-US" sz="1100" spc="-1" strike="noStrike">
              <a:solidFill>
                <a:srgbClr val="000000"/>
              </a:solidFill>
              <a:latin typeface="Arial"/>
            </a:endParaRPr>
          </a:p>
          <a:p>
            <a:pPr indent="0">
              <a:lnSpc>
                <a:spcPct val="100000"/>
              </a:lnSpc>
              <a:spcBef>
                <a:spcPts val="720"/>
              </a:spcBef>
              <a:buNone/>
            </a:pPr>
            <a:r>
              <a:rPr b="1" lang="en-US" sz="1100" spc="-1" strike="noStrike">
                <a:solidFill>
                  <a:srgbClr val="000000"/>
                </a:solidFill>
                <a:latin typeface="Arial"/>
                <a:ea typeface="Arial"/>
              </a:rPr>
              <a:t>OpenVMS Alpha V7.2-1</a:t>
            </a:r>
            <a:r>
              <a:rPr b="0" lang="en-US" sz="1100" spc="-1" strike="noStrike">
                <a:solidFill>
                  <a:srgbClr val="000000"/>
                </a:solidFill>
                <a:latin typeface="Arial"/>
                <a:ea typeface="Arial"/>
              </a:rPr>
              <a:t> shipped in 7/99.  It includes support for COM V1.1, multi-path failover with Shadowing support, incorporates the V7.2-HW01 remedial kit, plus adds support for the AlphaServer ES40 and DS10 systems. It also includes remedial support from 12/98 to 5/99.  This release </a:t>
            </a:r>
            <a:r>
              <a:rPr b="1" lang="en-US" sz="1100" spc="-1" strike="noStrike">
                <a:solidFill>
                  <a:srgbClr val="000000"/>
                </a:solidFill>
                <a:latin typeface="Arial"/>
                <a:ea typeface="Arial"/>
              </a:rPr>
              <a:t>replaces OpenVMS Alpha V7.2.</a:t>
            </a:r>
            <a:endParaRPr b="0" lang="en-US" sz="1100" spc="-1" strike="noStrike">
              <a:solidFill>
                <a:srgbClr val="000000"/>
              </a:solidFill>
              <a:latin typeface="Arial"/>
            </a:endParaRPr>
          </a:p>
          <a:p>
            <a:pPr indent="0">
              <a:lnSpc>
                <a:spcPct val="100000"/>
              </a:lnSpc>
              <a:spcBef>
                <a:spcPts val="720"/>
              </a:spcBef>
              <a:buNone/>
            </a:pPr>
            <a:r>
              <a:rPr b="1" lang="en-US" sz="1100" spc="-1" strike="noStrike">
                <a:solidFill>
                  <a:srgbClr val="000000"/>
                </a:solidFill>
                <a:latin typeface="Arial"/>
                <a:ea typeface="Arial"/>
              </a:rPr>
              <a:t>OpenVMS Alpha V7.2-1H1</a:t>
            </a:r>
            <a:r>
              <a:rPr b="0" lang="en-US" sz="1100" spc="-1" strike="noStrike">
                <a:solidFill>
                  <a:srgbClr val="000000"/>
                </a:solidFill>
                <a:latin typeface="Arial"/>
                <a:ea typeface="Arial"/>
              </a:rPr>
              <a:t> provides support for the new AlphaServer GS80,GS160 and GS320 systems.  Expanded support will continue through 2000 as more configurations are qualified on AlphaServers GS80/160/320.  This release also includes RMS lock reductions that improve application performance, NUMA related enhancements and remedial updates.</a:t>
            </a:r>
            <a:endParaRPr b="0" lang="en-US" sz="1100" spc="-1" strike="noStrike">
              <a:solidFill>
                <a:srgbClr val="000000"/>
              </a:solidFill>
              <a:latin typeface="Arial"/>
            </a:endParaRPr>
          </a:p>
          <a:p>
            <a:pPr indent="0">
              <a:lnSpc>
                <a:spcPct val="100000"/>
              </a:lnSpc>
              <a:spcBef>
                <a:spcPts val="720"/>
              </a:spcBef>
              <a:buNone/>
            </a:pPr>
            <a:r>
              <a:rPr b="1" lang="en-US" sz="1100" spc="-1" strike="noStrike">
                <a:solidFill>
                  <a:srgbClr val="000000"/>
                </a:solidFill>
                <a:latin typeface="Arial"/>
                <a:ea typeface="Arial"/>
              </a:rPr>
              <a:t>OpenVMS V7.3</a:t>
            </a:r>
            <a:r>
              <a:rPr b="0" lang="en-US" sz="1100" spc="-1" strike="noStrike">
                <a:solidFill>
                  <a:srgbClr val="000000"/>
                </a:solidFill>
                <a:latin typeface="Arial"/>
                <a:ea typeface="Arial"/>
              </a:rPr>
              <a:t> is the next functional release of OpenVMS.  It is scheduled to ship in H1CY01.  Potential project candidates can be seen in all the roadmap slides.  Some key projects are Shadowing improvements to support Online Backup, Lock Manager performance enhancements, Fibre Fastpath and Fibre Tape support, and Extended File Caching (XFC).   V7.next is focused on providing enhancements that will increase system performance and scaling.</a:t>
            </a:r>
            <a:endParaRPr b="0" lang="en-US" sz="1100" spc="-1" strike="noStrike">
              <a:solidFill>
                <a:srgbClr val="000000"/>
              </a:solidFill>
              <a:latin typeface="Arial"/>
            </a:endParaRPr>
          </a:p>
          <a:p>
            <a:pPr indent="0">
              <a:lnSpc>
                <a:spcPct val="100000"/>
              </a:lnSpc>
              <a:spcBef>
                <a:spcPts val="720"/>
              </a:spcBef>
              <a:buNone/>
            </a:pPr>
            <a:r>
              <a:rPr b="1" lang="en-US" sz="1100" spc="-1" strike="noStrike">
                <a:solidFill>
                  <a:srgbClr val="000000"/>
                </a:solidFill>
                <a:latin typeface="Arial"/>
                <a:ea typeface="Arial"/>
              </a:rPr>
              <a:t>See COE slide for details on the DOD’s DII COE work.</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371600" y="768240"/>
            <a:ext cx="5029200" cy="3767400"/>
          </a:xfrm>
          <a:prstGeom prst="rect">
            <a:avLst/>
          </a:prstGeom>
          <a:ln w="0">
            <a:noFill/>
          </a:ln>
        </p:spPr>
      </p:sp>
      <p:sp>
        <p:nvSpPr>
          <p:cNvPr id="10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i="1" lang="en-US" sz="1000" spc="-1" strike="noStrike">
                <a:solidFill>
                  <a:srgbClr val="000000"/>
                </a:solidFill>
                <a:latin typeface="Arial"/>
                <a:ea typeface="Arial"/>
              </a:rPr>
              <a:t>OpenVMS Galaxy enables enterprise IT infrastructures to respond to business demands with unheard of flexibility at a fraction of the cost!</a:t>
            </a:r>
            <a:endParaRPr b="0" lang="en-US" sz="1000" spc="-1" strike="noStrike">
              <a:solidFill>
                <a:srgbClr val="000000"/>
              </a:solidFill>
              <a:latin typeface="Arial"/>
            </a:endParaRPr>
          </a:p>
          <a:p>
            <a:pPr indent="0">
              <a:lnSpc>
                <a:spcPct val="100000"/>
              </a:lnSpc>
              <a:spcBef>
                <a:spcPts val="720"/>
              </a:spcBef>
              <a:buNone/>
            </a:pPr>
            <a:r>
              <a:rPr b="0" lang="en-US" sz="1100" spc="-1" strike="noStrike">
                <a:solidFill>
                  <a:srgbClr val="000000"/>
                </a:solidFill>
                <a:latin typeface="Arial"/>
                <a:ea typeface="Arial"/>
              </a:rPr>
              <a:t>Multiple instances of OpenVMS operate cooperatively in the same system; Dynamically adapts system resources to meet changing business needs; High commercial application performance; Supports mixed versions within a single system and rolling upgrades; Dramatic improvements in OpenVMS single system availability; Ability to consolidate distributed applications; Solves high end server scaling and cluster interconnect bottlenecks</a:t>
            </a:r>
            <a:endParaRPr b="0" lang="en-US" sz="1100" spc="-1" strike="noStrike">
              <a:solidFill>
                <a:srgbClr val="000000"/>
              </a:solidFill>
              <a:latin typeface="Arial"/>
            </a:endParaRPr>
          </a:p>
          <a:p>
            <a:pPr indent="0">
              <a:lnSpc>
                <a:spcPct val="100000"/>
              </a:lnSpc>
              <a:spcBef>
                <a:spcPts val="720"/>
              </a:spcBef>
              <a:buNone/>
            </a:pPr>
            <a:r>
              <a:rPr b="0" lang="en-US" sz="1100" spc="-1" strike="noStrike">
                <a:solidFill>
                  <a:srgbClr val="000000"/>
                </a:solidFill>
                <a:latin typeface="Arial"/>
                <a:ea typeface="Arial"/>
              </a:rPr>
              <a:t>LAN - TCP/IP over shared memory rather than outside the box(high performance advantage) </a:t>
            </a:r>
            <a:endParaRPr b="0" lang="en-US" sz="1100" spc="-1" strike="noStrike">
              <a:solidFill>
                <a:srgbClr val="000000"/>
              </a:solidFill>
              <a:latin typeface="Arial"/>
            </a:endParaRPr>
          </a:p>
          <a:p>
            <a:pPr indent="0">
              <a:lnSpc>
                <a:spcPct val="100000"/>
              </a:lnSpc>
              <a:spcBef>
                <a:spcPts val="720"/>
              </a:spcBef>
              <a:buNone/>
            </a:pPr>
            <a:r>
              <a:rPr b="0" lang="en-US" sz="1100" spc="-1" strike="noStrike">
                <a:solidFill>
                  <a:srgbClr val="000000"/>
                </a:solidFill>
                <a:latin typeface="Arial"/>
                <a:ea typeface="Arial"/>
              </a:rPr>
              <a:t>DECram in Shared Memory- maps disk into memory.  Multiple instances have access to the disk.  Performance enhancement. No modifications to applications required. </a:t>
            </a:r>
            <a:endParaRPr b="0" lang="en-US" sz="1100" spc="-1" strike="noStrike">
              <a:solidFill>
                <a:srgbClr val="000000"/>
              </a:solidFill>
              <a:latin typeface="Arial"/>
            </a:endParaRPr>
          </a:p>
          <a:p>
            <a:pPr indent="0">
              <a:lnSpc>
                <a:spcPct val="100000"/>
              </a:lnSpc>
              <a:spcBef>
                <a:spcPts val="720"/>
              </a:spcBef>
              <a:buNone/>
            </a:pPr>
            <a:r>
              <a:rPr b="0" lang="en-US" sz="1100" spc="-1" strike="noStrike">
                <a:solidFill>
                  <a:srgbClr val="000000"/>
                </a:solidFill>
                <a:latin typeface="Arial"/>
                <a:ea typeface="Arial"/>
              </a:rPr>
              <a:t>The GUI will be available as a Java applet to manage Galaxy from NT workstation or as an integrated component of Compaq Insight Manager. </a:t>
            </a:r>
            <a:endParaRPr b="0" lang="en-US" sz="1100" spc="-1" strike="noStrike">
              <a:solidFill>
                <a:srgbClr val="000000"/>
              </a:solidFill>
              <a:latin typeface="Arial"/>
            </a:endParaRPr>
          </a:p>
          <a:p>
            <a:pPr indent="0">
              <a:lnSpc>
                <a:spcPct val="100000"/>
              </a:lnSpc>
              <a:spcBef>
                <a:spcPts val="720"/>
              </a:spcBef>
              <a:buNone/>
            </a:pPr>
            <a:endParaRPr b="0" lang="en-US" sz="1100" spc="-1" strike="noStrike">
              <a:solidFill>
                <a:srgbClr val="000000"/>
              </a:solidFill>
              <a:latin typeface="Arial"/>
            </a:endParaRPr>
          </a:p>
          <a:p>
            <a:pPr indent="0">
              <a:lnSpc>
                <a:spcPct val="100000"/>
              </a:lnSpc>
              <a:spcBef>
                <a:spcPts val="720"/>
              </a:spcBef>
              <a:buNone/>
            </a:pPr>
            <a:r>
              <a:rPr b="0" lang="en-US" sz="1100" spc="-1" strike="noStrike">
                <a:solidFill>
                  <a:srgbClr val="000000"/>
                </a:solidFill>
                <a:latin typeface="Arial"/>
                <a:ea typeface="Arial"/>
              </a:rPr>
              <a:t>Potential Future Projects:</a:t>
            </a:r>
            <a:endParaRPr b="0" lang="en-US" sz="1100" spc="-1" strike="noStrike">
              <a:solidFill>
                <a:srgbClr val="000000"/>
              </a:solidFill>
              <a:latin typeface="Arial"/>
            </a:endParaRPr>
          </a:p>
          <a:p>
            <a:pPr indent="0">
              <a:lnSpc>
                <a:spcPct val="100000"/>
              </a:lnSpc>
              <a:spcBef>
                <a:spcPts val="720"/>
              </a:spcBef>
              <a:buNone/>
            </a:pPr>
            <a:r>
              <a:rPr b="0" lang="en-US" sz="1100" spc="-1" strike="noStrike">
                <a:solidFill>
                  <a:srgbClr val="000000"/>
                </a:solidFill>
                <a:latin typeface="Arial"/>
                <a:ea typeface="Arial"/>
              </a:rPr>
              <a:t>Lock Manager Database in Shared Memory- The lock manager synchronizes access to the data.  Putting the lock manager database in shared memory provides faster lock management.  This is especially useful for large database applications that take out large numbers of locks.</a:t>
            </a:r>
            <a:endParaRPr b="0" lang="en-US" sz="1100" spc="-1" strike="noStrike">
              <a:solidFill>
                <a:srgbClr val="000000"/>
              </a:solidFill>
              <a:latin typeface="Arial"/>
            </a:endParaRPr>
          </a:p>
          <a:p>
            <a:pPr indent="0">
              <a:lnSpc>
                <a:spcPct val="100000"/>
              </a:lnSpc>
              <a:spcBef>
                <a:spcPts val="720"/>
              </a:spcBef>
              <a:buNone/>
            </a:pPr>
            <a:r>
              <a:rPr b="0" lang="en-US" sz="1100" spc="-1" strike="noStrike">
                <a:solidFill>
                  <a:srgbClr val="000000"/>
                </a:solidFill>
                <a:latin typeface="Arial"/>
                <a:ea typeface="Arial"/>
              </a:rPr>
              <a:t>FastPath in shared memory for multiple I/O connections for greater throughput for communication over shared memory. </a:t>
            </a:r>
            <a:endParaRPr b="0" lang="en-US" sz="1100" spc="-1" strike="noStrike">
              <a:solidFill>
                <a:srgbClr val="000000"/>
              </a:solidFill>
              <a:latin typeface="Arial"/>
            </a:endParaRPr>
          </a:p>
          <a:p>
            <a:pPr indent="0">
              <a:lnSpc>
                <a:spcPct val="100000"/>
              </a:lnSpc>
              <a:spcBef>
                <a:spcPts val="720"/>
              </a:spcBef>
              <a:buNone/>
            </a:pPr>
            <a:r>
              <a:rPr b="0" lang="en-US" sz="1100" spc="-1" strike="noStrike">
                <a:solidFill>
                  <a:srgbClr val="000000"/>
                </a:solidFill>
                <a:latin typeface="Arial"/>
                <a:ea typeface="Arial"/>
              </a:rPr>
              <a:t>Self healing tools: VMS will solve problems before they impact apps. (I.e. move shared memory to one of the instances private memory.</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371600" y="768240"/>
            <a:ext cx="5029200" cy="3767400"/>
          </a:xfrm>
          <a:prstGeom prst="rect">
            <a:avLst/>
          </a:prstGeom>
          <a:ln w="0">
            <a:noFill/>
          </a:ln>
        </p:spPr>
      </p:sp>
      <p:sp>
        <p:nvSpPr>
          <p:cNvPr id="10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Yes, Rdb is a mature product, but this merely means that it is very stable while achieving its objectives of very high performance and availability.  Certain types customers in many industries value these capabilities of stability, power and availability so much that Rdb continues to be selected for the most mission critical applic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rokerTec is a company formed as a subsidiary of many banks around the world and it was formed to create a new securities exchange.  Although there are many similarities between BrokerTec and the International Stock Exchange, they are separate and independent exchanges both starting operations in New York in mid-2000.</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371600" y="768240"/>
            <a:ext cx="5029200" cy="3767400"/>
          </a:xfrm>
          <a:prstGeom prst="rect">
            <a:avLst/>
          </a:prstGeom>
          <a:ln w="0">
            <a:noFill/>
          </a:ln>
        </p:spPr>
      </p:sp>
      <p:sp>
        <p:nvSpPr>
          <p:cNvPr id="10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re are lots of different kinds of uses for Rdb:</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igh-end, mission critical syste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partmental syste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mall, desktop applications created years ago that remain critical to business oper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ach of these customers demand the utmost in system stability and performance.  We have consequently defined our strategy and focused our development energies upon making the best, highest-performance, highest availability database systems for OpenV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371600" y="768240"/>
            <a:ext cx="5029200" cy="3767400"/>
          </a:xfrm>
          <a:prstGeom prst="rect">
            <a:avLst/>
          </a:prstGeom>
          <a:ln w="0">
            <a:noFill/>
          </a:ln>
        </p:spPr>
      </p:sp>
      <p:sp>
        <p:nvSpPr>
          <p:cNvPr id="10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n introduction slide.  Following slides will expand on some of these featur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371600" y="768240"/>
            <a:ext cx="5029200" cy="3767400"/>
          </a:xfrm>
          <a:prstGeom prst="rect">
            <a:avLst/>
          </a:prstGeom>
          <a:ln w="0">
            <a:noFill/>
          </a:ln>
        </p:spPr>
      </p:sp>
      <p:sp>
        <p:nvSpPr>
          <p:cNvPr id="10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xplain the OCI/SQL*Net components and how Rdb plays into th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371600" y="768240"/>
            <a:ext cx="5029200" cy="3767400"/>
          </a:xfrm>
          <a:prstGeom prst="rect">
            <a:avLst/>
          </a:prstGeom>
          <a:ln w="0">
            <a:noFill/>
          </a:ln>
        </p:spPr>
      </p:sp>
      <p:sp>
        <p:nvSpPr>
          <p:cNvPr id="10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Rdb coexists nicely in an environment including other Oracle Corporation produc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QL*Net for Rdb component enables a high-level of interoperability for Rdb with other Oracle Corporation products.  Using common tools, it is possible today to deliberately develop an application which may run interchangeably on either an Rdb database or an Oracle databa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urthermore, it is readily possible to share data between an Rdb database and an Oracle database.  In one case, it is possible to make the Rdb database appear as an extension to the Oracle database through DBLinks.  In another case, change data from a production Rdb database may be filtered and loaded into an Oracle database -- or any other, for that matter -- using LogMin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r product strategy with Rdb is to coexist.  Don’t replace Rdb, surround it with the new applications, new technology, on Oracle8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Note that this slide uses graphic builds.  Start with Rdb production database.  Many customers, however, have Oracle production databases also. (Build)  It’s possible to build a single application interchangeably accessing both or either database.  (Build)  Add a data warehouse on Oracle8i using the many VERY powerful datawarehousing features there.  Feed the data to that datawarehouse from your Rdb production database using (Build) LogMiner.   Last, you may wish to add internet applications to your systems.  With all the powerful internet serving capabilities in Oracle8i, it’s the ideal database engine for this task.  (Build) However, if those new internet applications need access to some production data in the Rdb database, you can use DBLinks (Build) to make that data appear local to the Oracle8i database and the applic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371600" y="768240"/>
            <a:ext cx="5029200" cy="3767400"/>
          </a:xfrm>
          <a:prstGeom prst="rect">
            <a:avLst/>
          </a:prstGeom>
          <a:ln w="0">
            <a:noFill/>
          </a:ln>
        </p:spPr>
      </p:sp>
      <p:sp>
        <p:nvSpPr>
          <p:cNvPr id="10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early everyone understands caches and how they speed performance.  Point out that by caching entire data structures Rdb performance can be improved by orders of magnitude for reads AND writes.  Writes are further improved by nearly eliminating page lock conflic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oth logical and physical constructs may be cached by n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0000"/>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0" y="6172200"/>
            <a:ext cx="9182160" cy="309600"/>
          </a:xfrm>
          <a:prstGeom prst="rect">
            <a:avLst/>
          </a:prstGeom>
          <a:ln w="0">
            <a:noFill/>
          </a:ln>
        </p:spPr>
      </p:pic>
      <p:sp>
        <p:nvSpPr>
          <p:cNvPr id="2" name=""/>
          <p:cNvSpPr txBox="1"/>
          <p:nvPr/>
        </p:nvSpPr>
        <p:spPr>
          <a:xfrm>
            <a:off x="565200" y="6172200"/>
            <a:ext cx="392040" cy="304920"/>
          </a:xfrm>
          <a:prstGeom prst="rect">
            <a:avLst/>
          </a:prstGeom>
          <a:noFill/>
          <a:ln w="0">
            <a:noFill/>
          </a:ln>
        </p:spPr>
        <p:txBody>
          <a:bodyPr lIns="0" rIns="0" tIns="0" bIns="0" anchor="t">
            <a:noAutofit/>
          </a:bodyPr>
          <a:p>
            <a:pPr>
              <a:lnSpc>
                <a:spcPct val="100000"/>
              </a:lnSpc>
            </a:pPr>
            <a:fld id="{330F93C6-3960-4F80-84FC-692601F2C71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85800" y="2286000"/>
            <a:ext cx="7772400" cy="1764000"/>
          </a:xfrm>
          <a:prstGeom prst="rect">
            <a:avLst/>
          </a:prstGeom>
          <a:noFill/>
          <a:ln w="0">
            <a:noFill/>
          </a:ln>
        </p:spPr>
        <p:txBody>
          <a:bodyPr lIns="0" rIns="0" tIns="0" bIns="0" anchor="t">
            <a:noAutofit/>
          </a:bodyPr>
          <a:p>
            <a:pPr algn="ctr">
              <a:lnSpc>
                <a:spcPct val="85000"/>
              </a:lnSpc>
            </a:pPr>
            <a:r>
              <a:rPr b="1" lang="en-US" sz="4000" spc="-1" strike="noStrike">
                <a:solidFill>
                  <a:srgbClr val="ffffff"/>
                </a:solidFill>
                <a:latin typeface="Univers"/>
                <a:ea typeface="Univers"/>
              </a:rPr>
              <a:t>Oracle Rdb </a:t>
            </a:r>
            <a:br>
              <a:rPr sz="4000"/>
            </a:br>
            <a:r>
              <a:rPr b="1" lang="en-US" sz="4000" spc="-1" strike="noStrike">
                <a:solidFill>
                  <a:srgbClr val="ffffff"/>
                </a:solidFill>
                <a:latin typeface="Univers"/>
                <a:ea typeface="Univers"/>
              </a:rPr>
              <a:t>Business and Engineering Update</a:t>
            </a:r>
            <a:endParaRPr b="0" lang="en-US" sz="4000" spc="-1" strike="noStrike">
              <a:solidFill>
                <a:srgbClr val="000000"/>
              </a:solidFill>
              <a:latin typeface="Arial"/>
            </a:endParaRPr>
          </a:p>
        </p:txBody>
      </p:sp>
      <p:sp>
        <p:nvSpPr>
          <p:cNvPr id="86" name=""/>
          <p:cNvSpPr txBox="1"/>
          <p:nvPr/>
        </p:nvSpPr>
        <p:spPr>
          <a:xfrm>
            <a:off x="1371600" y="4724280"/>
            <a:ext cx="6400800" cy="1499400"/>
          </a:xfrm>
          <a:prstGeom prst="rect">
            <a:avLst/>
          </a:prstGeom>
          <a:noFill/>
          <a:ln w="0">
            <a:noFill/>
          </a:ln>
        </p:spPr>
        <p:txBody>
          <a:bodyPr lIns="0" rIns="0" tIns="0" bIns="0" anchor="t">
            <a:noAutofit/>
          </a:bodyPr>
          <a:p>
            <a:pPr marL="343080" indent="-343080" algn="ctr">
              <a:lnSpc>
                <a:spcPct val="100000"/>
              </a:lnSpc>
              <a:spcBef>
                <a:spcPts val="479"/>
              </a:spcBef>
            </a:pPr>
            <a:r>
              <a:rPr b="1" lang="en-US" sz="2000" spc="-1" strike="noStrike">
                <a:solidFill>
                  <a:srgbClr val="ffffff"/>
                </a:solidFill>
                <a:latin typeface="Univers"/>
                <a:ea typeface="Univers"/>
              </a:rPr>
              <a:t>N</a:t>
            </a:r>
            <a:r>
              <a:rPr b="1" lang="en-US" sz="1400" spc="-1" strike="noStrike">
                <a:solidFill>
                  <a:srgbClr val="ffffff"/>
                </a:solidFill>
                <a:latin typeface="Univers"/>
                <a:ea typeface="Univers"/>
              </a:rPr>
              <a:t>orman </a:t>
            </a:r>
            <a:r>
              <a:rPr b="1" lang="en-US" sz="2000" spc="-1" strike="noStrike">
                <a:solidFill>
                  <a:srgbClr val="ffffff"/>
                </a:solidFill>
                <a:latin typeface="Univers"/>
                <a:ea typeface="Univers"/>
              </a:rPr>
              <a:t>L</a:t>
            </a:r>
            <a:r>
              <a:rPr b="1" lang="en-US" sz="1400" spc="-1" strike="noStrike">
                <a:solidFill>
                  <a:srgbClr val="ffffff"/>
                </a:solidFill>
                <a:latin typeface="Univers"/>
                <a:ea typeface="Univers"/>
              </a:rPr>
              <a:t>astovica</a:t>
            </a:r>
            <a:br>
              <a:rPr sz="1400"/>
            </a:br>
            <a:r>
              <a:rPr b="1" lang="en-US" sz="1400" spc="-1" strike="noStrike">
                <a:solidFill>
                  <a:srgbClr val="ffffff"/>
                </a:solidFill>
                <a:latin typeface="Univers"/>
                <a:ea typeface="Univers"/>
              </a:rPr>
              <a:t>Oracle New England Development Center</a:t>
            </a:r>
            <a:endParaRPr b="0" lang="en-US" sz="1400" spc="-1" strike="noStrike">
              <a:solidFill>
                <a:srgbClr val="000000"/>
              </a:solidFill>
              <a:latin typeface="Arial"/>
            </a:endParaRPr>
          </a:p>
          <a:p>
            <a:pPr marL="343080" indent="-343080" algn="ctr">
              <a:lnSpc>
                <a:spcPct val="100000"/>
              </a:lnSpc>
              <a:spcBef>
                <a:spcPts val="479"/>
              </a:spcBef>
            </a:pPr>
            <a:r>
              <a:rPr b="1" lang="en-US" sz="1400" spc="-1" strike="noStrike">
                <a:solidFill>
                  <a:srgbClr val="ffffff"/>
                </a:solidFill>
                <a:latin typeface="Univers"/>
                <a:ea typeface="Univers"/>
              </a:rPr>
              <a:t>Oracle Rdb Engineering</a:t>
            </a:r>
            <a:endParaRPr b="0" lang="en-US" sz="1400" spc="-1" strike="noStrike">
              <a:solidFill>
                <a:srgbClr val="000000"/>
              </a:solidFill>
              <a:latin typeface="Arial"/>
            </a:endParaRPr>
          </a:p>
          <a:p>
            <a:pPr marL="343080" indent="-343080" algn="ctr">
              <a:lnSpc>
                <a:spcPct val="100000"/>
              </a:lnSpc>
              <a:spcBef>
                <a:spcPts val="479"/>
              </a:spcBef>
            </a:pPr>
            <a:r>
              <a:rPr b="1" lang="en-US" sz="1400" spc="-1" strike="noStrike">
                <a:solidFill>
                  <a:srgbClr val="ffffff"/>
                </a:solidFill>
                <a:latin typeface="Univers"/>
                <a:ea typeface="Univers"/>
              </a:rPr>
              <a:t>norman.lastovica@oracle.com</a:t>
            </a:r>
            <a:endParaRPr b="0" lang="en-US" sz="1400" spc="-1" strike="noStrike">
              <a:solidFill>
                <a:srgbClr val="000000"/>
              </a:solidFill>
              <a:latin typeface="Arial"/>
            </a:endParaRPr>
          </a:p>
          <a:p>
            <a:pPr marL="343080" indent="-343080" algn="ctr">
              <a:lnSpc>
                <a:spcPct val="100000"/>
              </a:lnSpc>
              <a:spcBef>
                <a:spcPts val="479"/>
              </a:spcBef>
            </a:pPr>
            <a:r>
              <a:rPr b="1" lang="en-US" sz="1400" spc="-1" strike="noStrike">
                <a:solidFill>
                  <a:srgbClr val="ffffff"/>
                </a:solidFill>
                <a:latin typeface="Univers"/>
                <a:ea typeface="Univers"/>
              </a:rPr>
              <a:t>www.oracle.com/rd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685800" y="533520"/>
            <a:ext cx="7467480" cy="588240"/>
          </a:xfrm>
          <a:prstGeom prst="rect">
            <a:avLst/>
          </a:prstGeom>
          <a:noFill/>
          <a:ln w="0">
            <a:noFill/>
          </a:ln>
        </p:spPr>
        <p:txBody>
          <a:bodyPr lIns="0" rIns="0" tIns="0" bIns="0" anchor="t">
            <a:noAutofit/>
          </a:bodyPr>
          <a:p>
            <a:pPr>
              <a:lnSpc>
                <a:spcPct val="85000"/>
              </a:lnSpc>
            </a:pPr>
            <a:r>
              <a:rPr b="1" lang="en-US" sz="4000" spc="-1" strike="noStrike">
                <a:solidFill>
                  <a:srgbClr val="000000"/>
                </a:solidFill>
                <a:latin typeface="Univers"/>
                <a:ea typeface="Univers"/>
              </a:rPr>
              <a:t>Hot Standby Option</a:t>
            </a:r>
            <a:endParaRPr b="0" lang="en-US" sz="4000" spc="-1" strike="noStrike">
              <a:solidFill>
                <a:srgbClr val="000000"/>
              </a:solidFill>
              <a:latin typeface="Arial"/>
            </a:endParaRPr>
          </a:p>
        </p:txBody>
      </p:sp>
      <p:sp>
        <p:nvSpPr>
          <p:cNvPr id="827" name=""/>
          <p:cNvSpPr txBox="1"/>
          <p:nvPr/>
        </p:nvSpPr>
        <p:spPr>
          <a:xfrm>
            <a:off x="609480" y="3352680"/>
            <a:ext cx="7848720" cy="284400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45000"/>
              <a:buFont typeface="Wingdings"/>
              <a:buChar char=""/>
            </a:pPr>
            <a:r>
              <a:rPr b="0" lang="en-US" sz="1800" spc="-1" strike="noStrike">
                <a:solidFill>
                  <a:srgbClr val="000000"/>
                </a:solidFill>
                <a:latin typeface="Univers"/>
                <a:ea typeface="Univers"/>
              </a:rPr>
              <a:t>An exact copy of the primary database</a:t>
            </a:r>
            <a:endParaRPr b="0" lang="en-US" sz="1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1800" spc="-1" strike="noStrike">
                <a:solidFill>
                  <a:srgbClr val="000000"/>
                </a:solidFill>
                <a:latin typeface="Univers"/>
                <a:ea typeface="Univers"/>
              </a:rPr>
              <a:t>Transactionally consistent</a:t>
            </a:r>
            <a:endParaRPr b="0" lang="en-US" sz="1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1800" spc="-1" strike="noStrike">
                <a:solidFill>
                  <a:srgbClr val="000000"/>
                </a:solidFill>
                <a:latin typeface="Univers"/>
                <a:ea typeface="Univers"/>
              </a:rPr>
              <a:t>Geographically separate systems</a:t>
            </a:r>
            <a:endParaRPr b="0" lang="en-US" sz="1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1800" spc="-1" strike="noStrike">
                <a:solidFill>
                  <a:srgbClr val="000000"/>
                </a:solidFill>
                <a:latin typeface="Univers"/>
                <a:ea typeface="Univers"/>
              </a:rPr>
              <a:t>Application transparent</a:t>
            </a:r>
            <a:endParaRPr b="0" lang="en-US" sz="1800" spc="-1" strike="noStrike">
              <a:solidFill>
                <a:srgbClr val="000000"/>
              </a:solidFill>
              <a:latin typeface="Arial"/>
            </a:endParaRPr>
          </a:p>
          <a:p>
            <a:pPr lvl="1" marL="800280" indent="-343080">
              <a:lnSpc>
                <a:spcPct val="100000"/>
              </a:lnSpc>
              <a:spcBef>
                <a:spcPts val="479"/>
              </a:spcBef>
              <a:buClr>
                <a:srgbClr val="000000"/>
              </a:buClr>
              <a:buSzPct val="75000"/>
              <a:buFont typeface="Times New Roman"/>
              <a:buChar char=""/>
            </a:pPr>
            <a:r>
              <a:rPr b="0" lang="en-US" sz="1600" spc="-1" strike="noStrike">
                <a:solidFill>
                  <a:srgbClr val="000000"/>
                </a:solidFill>
                <a:latin typeface="Univers"/>
                <a:ea typeface="Univers"/>
              </a:rPr>
              <a:t>No application change</a:t>
            </a:r>
            <a:endParaRPr b="0" lang="en-US" sz="1600" spc="-1" strike="noStrike">
              <a:solidFill>
                <a:srgbClr val="000000"/>
              </a:solidFill>
              <a:latin typeface="Arial"/>
            </a:endParaRPr>
          </a:p>
          <a:p>
            <a:pPr lvl="1" marL="800280" indent="-343080">
              <a:lnSpc>
                <a:spcPct val="100000"/>
              </a:lnSpc>
              <a:spcBef>
                <a:spcPts val="479"/>
              </a:spcBef>
              <a:buClr>
                <a:srgbClr val="000000"/>
              </a:buClr>
              <a:buSzPct val="75000"/>
              <a:buFont typeface="Times New Roman"/>
              <a:buChar char=""/>
            </a:pPr>
            <a:r>
              <a:rPr b="0" lang="en-US" sz="1600" spc="-1" strike="noStrike">
                <a:solidFill>
                  <a:srgbClr val="000000"/>
                </a:solidFill>
                <a:latin typeface="Univers"/>
                <a:ea typeface="Univers"/>
              </a:rPr>
              <a:t>Database unchanged (AIJ Fast Commit Req’d)</a:t>
            </a:r>
            <a:endParaRPr b="0" lang="en-US" sz="16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1800" spc="-1" strike="noStrike">
                <a:solidFill>
                  <a:srgbClr val="000000"/>
                </a:solidFill>
                <a:latin typeface="Univers"/>
                <a:ea typeface="Univers"/>
              </a:rPr>
              <a:t>Negligible performance impact</a:t>
            </a:r>
            <a:endParaRPr b="0" lang="en-US" sz="1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1800" spc="-1" strike="noStrike">
                <a:solidFill>
                  <a:srgbClr val="000000"/>
                </a:solidFill>
                <a:latin typeface="Univers"/>
                <a:ea typeface="Univers"/>
              </a:rPr>
              <a:t>Stand-by database available for Read-Only access</a:t>
            </a:r>
            <a:endParaRPr b="0" lang="en-US" sz="1800" spc="-1" strike="noStrike">
              <a:solidFill>
                <a:srgbClr val="000000"/>
              </a:solidFill>
              <a:latin typeface="Arial"/>
            </a:endParaRPr>
          </a:p>
        </p:txBody>
      </p:sp>
      <p:grpSp>
        <p:nvGrpSpPr>
          <p:cNvPr id="828" name=""/>
          <p:cNvGrpSpPr/>
          <p:nvPr/>
        </p:nvGrpSpPr>
        <p:grpSpPr>
          <a:xfrm>
            <a:off x="485640" y="1212840"/>
            <a:ext cx="8296560" cy="2138040"/>
            <a:chOff x="485640" y="1212840"/>
            <a:chExt cx="8296560" cy="2138040"/>
          </a:xfrm>
        </p:grpSpPr>
        <p:sp>
          <p:nvSpPr>
            <p:cNvPr id="829" name=""/>
            <p:cNvSpPr/>
            <p:nvPr/>
          </p:nvSpPr>
          <p:spPr>
            <a:xfrm>
              <a:off x="4368960" y="1722600"/>
              <a:ext cx="867240" cy="587880"/>
            </a:xfrm>
            <a:custGeom>
              <a:avLst/>
              <a:gdLst/>
              <a:ahLst/>
              <a:rect l="0" t="0" r="r" b="b"/>
              <a:pathLst>
                <a:path fill="none" w="2409" h="1633">
                  <a:moveTo>
                    <a:pt x="0" y="1633"/>
                  </a:moveTo>
                  <a:lnTo>
                    <a:pt x="801" y="1088"/>
                  </a:lnTo>
                  <a:lnTo>
                    <a:pt x="716" y="746"/>
                  </a:lnTo>
                  <a:lnTo>
                    <a:pt x="1321" y="1056"/>
                  </a:lnTo>
                  <a:lnTo>
                    <a:pt x="1282" y="763"/>
                  </a:lnTo>
                  <a:lnTo>
                    <a:pt x="2247" y="109"/>
                  </a:lnTo>
                  <a:lnTo>
                    <a:pt x="2409" y="0"/>
                  </a:ln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6534000" y="1366920"/>
              <a:ext cx="941400" cy="617400"/>
            </a:xfrm>
            <a:prstGeom prst="rect">
              <a:avLst/>
            </a:prstGeom>
            <a:gradFill rotWithShape="0">
              <a:gsLst>
                <a:gs pos="0">
                  <a:srgbClr val="ffffff"/>
                </a:gs>
                <a:gs pos="100000">
                  <a:srgbClr val="fc0128"/>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1" name=""/>
            <p:cNvSpPr/>
            <p:nvPr/>
          </p:nvSpPr>
          <p:spPr>
            <a:xfrm>
              <a:off x="2174760" y="1336680"/>
              <a:ext cx="941400" cy="615960"/>
            </a:xfrm>
            <a:prstGeom prst="rect">
              <a:avLst/>
            </a:prstGeom>
            <a:gradFill rotWithShape="0">
              <a:gsLst>
                <a:gs pos="0">
                  <a:srgbClr val="ffffff"/>
                </a:gs>
                <a:gs pos="100000">
                  <a:srgbClr val="00ff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2" name=""/>
            <p:cNvSpPr/>
            <p:nvPr/>
          </p:nvSpPr>
          <p:spPr>
            <a:xfrm>
              <a:off x="2174760" y="1830240"/>
              <a:ext cx="941400" cy="246240"/>
            </a:xfrm>
            <a:prstGeom prst="ellipse">
              <a:avLst/>
            </a:prstGeom>
            <a:gradFill rotWithShape="0">
              <a:gsLst>
                <a:gs pos="0">
                  <a:srgbClr val="ffffff"/>
                </a:gs>
                <a:gs pos="100000">
                  <a:srgbClr val="00ff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3" name=""/>
            <p:cNvSpPr/>
            <p:nvPr/>
          </p:nvSpPr>
          <p:spPr>
            <a:xfrm>
              <a:off x="2174760" y="1212840"/>
              <a:ext cx="941400" cy="247680"/>
            </a:xfrm>
            <a:prstGeom prst="ellipse">
              <a:avLst/>
            </a:prstGeom>
            <a:gradFill rotWithShape="0">
              <a:gsLst>
                <a:gs pos="0">
                  <a:srgbClr val="ffffff"/>
                </a:gs>
                <a:gs pos="100000">
                  <a:srgbClr val="00ff00"/>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txBox="1"/>
            <p:nvPr/>
          </p:nvSpPr>
          <p:spPr>
            <a:xfrm>
              <a:off x="2305080" y="1566720"/>
              <a:ext cx="731880" cy="393840"/>
            </a:xfrm>
            <a:prstGeom prst="rect">
              <a:avLst/>
            </a:prstGeom>
            <a:noFill/>
            <a:ln w="0">
              <a:noFill/>
            </a:ln>
          </p:spPr>
          <p:txBody>
            <a:bodyPr lIns="0" rIns="0" tIns="0" bIns="0" anchor="t">
              <a:noAutofit/>
            </a:bodyPr>
            <a:p>
              <a:pPr algn="ctr">
                <a:lnSpc>
                  <a:spcPct val="100000"/>
                </a:lnSpc>
              </a:pPr>
              <a:r>
                <a:rPr b="1" lang="en-US" sz="1100" spc="-1" strike="noStrike">
                  <a:solidFill>
                    <a:srgbClr val="fc0128"/>
                  </a:solidFill>
                  <a:latin typeface="Arial"/>
                  <a:ea typeface="Arial"/>
                </a:rPr>
                <a:t>Master</a:t>
              </a:r>
              <a:endParaRPr b="0" lang="en-US" sz="1100" spc="-1" strike="noStrike">
                <a:solidFill>
                  <a:srgbClr val="000000"/>
                </a:solidFill>
                <a:latin typeface="Arial"/>
              </a:endParaRPr>
            </a:p>
            <a:p>
              <a:pPr algn="ctr">
                <a:lnSpc>
                  <a:spcPct val="100000"/>
                </a:lnSpc>
              </a:pPr>
              <a:r>
                <a:rPr b="1" lang="en-US" sz="1100" spc="-1" strike="noStrike">
                  <a:solidFill>
                    <a:srgbClr val="fc0128"/>
                  </a:solidFill>
                  <a:latin typeface="Arial"/>
                  <a:ea typeface="Arial"/>
                </a:rPr>
                <a:t>Database</a:t>
              </a:r>
              <a:endParaRPr b="0" lang="en-US" sz="1100" spc="-1" strike="noStrike">
                <a:solidFill>
                  <a:srgbClr val="000000"/>
                </a:solidFill>
                <a:latin typeface="Arial"/>
              </a:endParaRPr>
            </a:p>
          </p:txBody>
        </p:sp>
        <p:sp>
          <p:nvSpPr>
            <p:cNvPr id="835" name=""/>
            <p:cNvSpPr/>
            <p:nvPr/>
          </p:nvSpPr>
          <p:spPr>
            <a:xfrm>
              <a:off x="6534000" y="1865160"/>
              <a:ext cx="941400" cy="246240"/>
            </a:xfrm>
            <a:prstGeom prst="ellipse">
              <a:avLst/>
            </a:prstGeom>
            <a:gradFill rotWithShape="0">
              <a:gsLst>
                <a:gs pos="0">
                  <a:srgbClr val="ffffff"/>
                </a:gs>
                <a:gs pos="100000">
                  <a:srgbClr val="fc0128"/>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6" name=""/>
            <p:cNvSpPr/>
            <p:nvPr/>
          </p:nvSpPr>
          <p:spPr>
            <a:xfrm>
              <a:off x="6534000" y="1244520"/>
              <a:ext cx="941400" cy="246240"/>
            </a:xfrm>
            <a:prstGeom prst="ellipse">
              <a:avLst/>
            </a:prstGeom>
            <a:gradFill rotWithShape="0">
              <a:gsLst>
                <a:gs pos="0">
                  <a:srgbClr val="ffffff"/>
                </a:gs>
                <a:gs pos="100000">
                  <a:srgbClr val="fc0128"/>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7" name=""/>
            <p:cNvSpPr txBox="1"/>
            <p:nvPr/>
          </p:nvSpPr>
          <p:spPr>
            <a:xfrm>
              <a:off x="6622920" y="1587600"/>
              <a:ext cx="817560" cy="393840"/>
            </a:xfrm>
            <a:prstGeom prst="rect">
              <a:avLst/>
            </a:prstGeom>
            <a:noFill/>
            <a:ln w="0">
              <a:noFill/>
            </a:ln>
          </p:spPr>
          <p:txBody>
            <a:bodyPr lIns="0" rIns="0" tIns="0" bIns="0" anchor="t">
              <a:noAutofit/>
            </a:bodyPr>
            <a:p>
              <a:pPr algn="ctr">
                <a:lnSpc>
                  <a:spcPct val="100000"/>
                </a:lnSpc>
              </a:pPr>
              <a:r>
                <a:rPr b="1" lang="en-US" sz="1100" spc="-1" strike="noStrike">
                  <a:solidFill>
                    <a:srgbClr val="23e914"/>
                  </a:solidFill>
                  <a:latin typeface="Arial"/>
                  <a:ea typeface="Arial"/>
                </a:rPr>
                <a:t>Replicated</a:t>
              </a:r>
              <a:endParaRPr b="0" lang="en-US" sz="1100" spc="-1" strike="noStrike">
                <a:solidFill>
                  <a:srgbClr val="000000"/>
                </a:solidFill>
                <a:latin typeface="Arial"/>
              </a:endParaRPr>
            </a:p>
            <a:p>
              <a:pPr algn="ctr">
                <a:lnSpc>
                  <a:spcPct val="100000"/>
                </a:lnSpc>
              </a:pPr>
              <a:r>
                <a:rPr b="1" lang="en-US" sz="1100" spc="-1" strike="noStrike">
                  <a:solidFill>
                    <a:srgbClr val="23e914"/>
                  </a:solidFill>
                  <a:latin typeface="Arial"/>
                  <a:ea typeface="Arial"/>
                </a:rPr>
                <a:t>Database</a:t>
              </a:r>
              <a:endParaRPr b="0" lang="en-US" sz="1100" spc="-1" strike="noStrike">
                <a:solidFill>
                  <a:srgbClr val="000000"/>
                </a:solidFill>
                <a:latin typeface="Arial"/>
              </a:endParaRPr>
            </a:p>
          </p:txBody>
        </p:sp>
        <p:sp>
          <p:nvSpPr>
            <p:cNvPr id="838" name=""/>
            <p:cNvSpPr/>
            <p:nvPr/>
          </p:nvSpPr>
          <p:spPr>
            <a:xfrm>
              <a:off x="3106800" y="1641600"/>
              <a:ext cx="411120" cy="2880"/>
            </a:xfrm>
            <a:prstGeom prst="line">
              <a:avLst/>
            </a:prstGeom>
            <a:ln w="12600">
              <a:solidFill>
                <a:srgbClr val="000000"/>
              </a:solidFill>
              <a:round/>
              <a:tailEnd len="med" type="triangle" w="me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839" name=""/>
            <p:cNvSpPr/>
            <p:nvPr/>
          </p:nvSpPr>
          <p:spPr>
            <a:xfrm>
              <a:off x="6229440" y="1644480"/>
              <a:ext cx="30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3701880" y="1521000"/>
              <a:ext cx="1508400" cy="209880"/>
            </a:xfrm>
            <a:custGeom>
              <a:avLst/>
              <a:gdLst/>
              <a:ahLst/>
              <a:rect l="0" t="0" r="r" b="b"/>
              <a:pathLst>
                <a:path fill="none" w="4190" h="583">
                  <a:moveTo>
                    <a:pt x="0" y="324"/>
                  </a:moveTo>
                  <a:lnTo>
                    <a:pt x="1396" y="324"/>
                  </a:lnTo>
                  <a:lnTo>
                    <a:pt x="1676" y="0"/>
                  </a:lnTo>
                  <a:lnTo>
                    <a:pt x="1954" y="583"/>
                  </a:lnTo>
                  <a:lnTo>
                    <a:pt x="2235" y="324"/>
                  </a:lnTo>
                  <a:lnTo>
                    <a:pt x="3909" y="324"/>
                  </a:lnTo>
                  <a:lnTo>
                    <a:pt x="4190" y="324"/>
                  </a:ln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3506760" y="1527120"/>
              <a:ext cx="204840" cy="216000"/>
            </a:xfrm>
            <a:prstGeom prst="ellipse">
              <a:avLst/>
            </a:prstGeom>
            <a:gradFill rotWithShape="0">
              <a:gsLst>
                <a:gs pos="0">
                  <a:srgbClr val="f9f2b5"/>
                </a:gs>
                <a:gs pos="100000">
                  <a:srgbClr val="3366ff"/>
                </a:gs>
              </a:gsLst>
              <a:lin ang="81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2" name=""/>
            <p:cNvSpPr/>
            <p:nvPr/>
          </p:nvSpPr>
          <p:spPr>
            <a:xfrm>
              <a:off x="3373560" y="2128680"/>
              <a:ext cx="471600" cy="1222200"/>
            </a:xfrm>
            <a:prstGeom prst="rect">
              <a:avLst/>
            </a:prstGeom>
            <a:gradFill rotWithShape="0">
              <a:gsLst>
                <a:gs pos="0">
                  <a:srgbClr val="66ff66"/>
                </a:gs>
                <a:gs pos="100000">
                  <a:srgbClr val="ffffff"/>
                </a:gs>
              </a:gsLst>
              <a:lin ang="81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3" name=""/>
            <p:cNvSpPr txBox="1"/>
            <p:nvPr/>
          </p:nvSpPr>
          <p:spPr>
            <a:xfrm>
              <a:off x="3978360" y="3095640"/>
              <a:ext cx="328680" cy="22536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AIJ</a:t>
              </a:r>
              <a:endParaRPr b="0" lang="en-US" sz="1100" spc="-1" strike="noStrike">
                <a:solidFill>
                  <a:srgbClr val="000000"/>
                </a:solidFill>
                <a:latin typeface="Arial"/>
              </a:endParaRPr>
            </a:p>
          </p:txBody>
        </p:sp>
        <p:sp>
          <p:nvSpPr>
            <p:cNvPr id="844" name=""/>
            <p:cNvSpPr/>
            <p:nvPr/>
          </p:nvSpPr>
          <p:spPr>
            <a:xfrm flipH="1">
              <a:off x="3608280" y="1755720"/>
              <a:ext cx="1800" cy="362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 name=""/>
            <p:cNvSpPr/>
            <p:nvPr/>
          </p:nvSpPr>
          <p:spPr>
            <a:xfrm>
              <a:off x="6027840" y="1527120"/>
              <a:ext cx="206280" cy="216000"/>
            </a:xfrm>
            <a:prstGeom prst="ellipse">
              <a:avLst/>
            </a:prstGeom>
            <a:gradFill rotWithShape="0">
              <a:gsLst>
                <a:gs pos="0">
                  <a:srgbClr val="f9f2b5"/>
                </a:gs>
                <a:gs pos="100000">
                  <a:srgbClr val="3366ff"/>
                </a:gs>
              </a:gsLst>
              <a:lin ang="81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6" name=""/>
            <p:cNvSpPr/>
            <p:nvPr/>
          </p:nvSpPr>
          <p:spPr>
            <a:xfrm>
              <a:off x="5897520" y="2119320"/>
              <a:ext cx="471600" cy="1222200"/>
            </a:xfrm>
            <a:prstGeom prst="rect">
              <a:avLst/>
            </a:prstGeom>
            <a:gradFill rotWithShape="0">
              <a:gsLst>
                <a:gs pos="0">
                  <a:srgbClr val="fc0128"/>
                </a:gs>
                <a:gs pos="100000">
                  <a:srgbClr val="ffffff"/>
                </a:gs>
              </a:gsLst>
              <a:lin ang="81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7" name=""/>
            <p:cNvSpPr txBox="1"/>
            <p:nvPr/>
          </p:nvSpPr>
          <p:spPr>
            <a:xfrm>
              <a:off x="5495760" y="3085920"/>
              <a:ext cx="328680" cy="22536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AIJ</a:t>
              </a:r>
              <a:endParaRPr b="0" lang="en-US" sz="1100" spc="-1" strike="noStrike">
                <a:solidFill>
                  <a:srgbClr val="000000"/>
                </a:solidFill>
                <a:latin typeface="Arial"/>
              </a:endParaRPr>
            </a:p>
          </p:txBody>
        </p:sp>
        <p:sp>
          <p:nvSpPr>
            <p:cNvPr id="848" name=""/>
            <p:cNvSpPr/>
            <p:nvPr/>
          </p:nvSpPr>
          <p:spPr>
            <a:xfrm>
              <a:off x="6130800" y="1755720"/>
              <a:ext cx="0" cy="362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txBox="1"/>
            <p:nvPr/>
          </p:nvSpPr>
          <p:spPr>
            <a:xfrm>
              <a:off x="485640" y="1536840"/>
              <a:ext cx="981000" cy="22536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Transactions</a:t>
              </a:r>
              <a:endParaRPr b="0" lang="en-US" sz="1100" spc="-1" strike="noStrike">
                <a:solidFill>
                  <a:srgbClr val="000000"/>
                </a:solidFill>
                <a:latin typeface="Arial"/>
              </a:endParaRPr>
            </a:p>
          </p:txBody>
        </p:sp>
        <p:sp>
          <p:nvSpPr>
            <p:cNvPr id="850" name=""/>
            <p:cNvSpPr/>
            <p:nvPr/>
          </p:nvSpPr>
          <p:spPr>
            <a:xfrm>
              <a:off x="1695600" y="1541520"/>
              <a:ext cx="378360" cy="235440"/>
            </a:xfrm>
            <a:custGeom>
              <a:avLst/>
              <a:gdLst/>
              <a:ahLst/>
              <a:rect l="0" t="0" r="r" b="b"/>
              <a:pathLst>
                <a:path fill="none" w="1051" h="654">
                  <a:moveTo>
                    <a:pt x="1051" y="218"/>
                  </a:moveTo>
                  <a:lnTo>
                    <a:pt x="1051" y="435"/>
                  </a:lnTo>
                  <a:lnTo>
                    <a:pt x="315" y="435"/>
                  </a:lnTo>
                  <a:lnTo>
                    <a:pt x="315" y="654"/>
                  </a:lnTo>
                  <a:lnTo>
                    <a:pt x="0" y="327"/>
                  </a:lnTo>
                  <a:lnTo>
                    <a:pt x="315" y="0"/>
                  </a:lnTo>
                  <a:lnTo>
                    <a:pt x="315" y="218"/>
                  </a:lnTo>
                  <a:lnTo>
                    <a:pt x="1051" y="2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1" name=""/>
            <p:cNvSpPr txBox="1"/>
            <p:nvPr/>
          </p:nvSpPr>
          <p:spPr>
            <a:xfrm>
              <a:off x="8143920" y="1554120"/>
              <a:ext cx="638280" cy="22536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Reports</a:t>
              </a:r>
              <a:endParaRPr b="0" lang="en-US" sz="1100" spc="-1" strike="noStrike">
                <a:solidFill>
                  <a:srgbClr val="000000"/>
                </a:solidFill>
                <a:latin typeface="Arial"/>
              </a:endParaRPr>
            </a:p>
          </p:txBody>
        </p:sp>
        <p:sp>
          <p:nvSpPr>
            <p:cNvPr id="852" name=""/>
            <p:cNvSpPr/>
            <p:nvPr/>
          </p:nvSpPr>
          <p:spPr>
            <a:xfrm>
              <a:off x="4154400" y="2257560"/>
              <a:ext cx="208080" cy="216000"/>
            </a:xfrm>
            <a:prstGeom prst="ellipse">
              <a:avLst/>
            </a:prstGeom>
            <a:gradFill rotWithShape="0">
              <a:gsLst>
                <a:gs pos="0">
                  <a:srgbClr val="f9f2b5"/>
                </a:gs>
                <a:gs pos="100000">
                  <a:srgbClr val="3366ff"/>
                </a:gs>
              </a:gsLst>
              <a:lin ang="81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3" name=""/>
            <p:cNvSpPr/>
            <p:nvPr/>
          </p:nvSpPr>
          <p:spPr>
            <a:xfrm>
              <a:off x="3841920" y="2365200"/>
              <a:ext cx="323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5221440" y="1527120"/>
              <a:ext cx="206280" cy="216000"/>
            </a:xfrm>
            <a:prstGeom prst="ellipse">
              <a:avLst/>
            </a:prstGeom>
            <a:gradFill rotWithShape="0">
              <a:gsLst>
                <a:gs pos="0">
                  <a:srgbClr val="f9f2b5"/>
                </a:gs>
                <a:gs pos="100000">
                  <a:srgbClr val="3366ff"/>
                </a:gs>
              </a:gsLst>
              <a:lin ang="81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5" name=""/>
            <p:cNvSpPr/>
            <p:nvPr/>
          </p:nvSpPr>
          <p:spPr>
            <a:xfrm flipH="1">
              <a:off x="5450040" y="1641600"/>
              <a:ext cx="574560" cy="28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856" name=""/>
            <p:cNvSpPr/>
            <p:nvPr/>
          </p:nvSpPr>
          <p:spPr>
            <a:xfrm>
              <a:off x="7615080" y="1574640"/>
              <a:ext cx="378360" cy="235440"/>
            </a:xfrm>
            <a:custGeom>
              <a:avLst/>
              <a:gdLst/>
              <a:ahLst/>
              <a:rect l="0" t="0" r="r" b="b"/>
              <a:pathLst>
                <a:path fill="none" w="1051" h="654">
                  <a:moveTo>
                    <a:pt x="1051" y="218"/>
                  </a:moveTo>
                  <a:lnTo>
                    <a:pt x="1051" y="435"/>
                  </a:lnTo>
                  <a:lnTo>
                    <a:pt x="315" y="435"/>
                  </a:lnTo>
                  <a:lnTo>
                    <a:pt x="315" y="654"/>
                  </a:lnTo>
                  <a:lnTo>
                    <a:pt x="0" y="327"/>
                  </a:lnTo>
                  <a:lnTo>
                    <a:pt x="315" y="0"/>
                  </a:lnTo>
                  <a:lnTo>
                    <a:pt x="315" y="218"/>
                  </a:lnTo>
                  <a:lnTo>
                    <a:pt x="1051" y="2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685800" y="533520"/>
            <a:ext cx="7467480" cy="588240"/>
          </a:xfrm>
          <a:prstGeom prst="rect">
            <a:avLst/>
          </a:prstGeom>
          <a:noFill/>
          <a:ln w="0">
            <a:noFill/>
          </a:ln>
        </p:spPr>
        <p:txBody>
          <a:bodyPr lIns="0" rIns="0" tIns="0" bIns="0" anchor="t">
            <a:noAutofit/>
          </a:bodyPr>
          <a:p>
            <a:pPr>
              <a:lnSpc>
                <a:spcPct val="85000"/>
              </a:lnSpc>
            </a:pPr>
            <a:r>
              <a:rPr b="1" lang="en-US" sz="4000" spc="-1" strike="noStrike">
                <a:solidFill>
                  <a:srgbClr val="ffffff"/>
                </a:solidFill>
                <a:latin typeface="Univers"/>
                <a:ea typeface="Univers"/>
              </a:rPr>
              <a:t>LogMiner for Rdb</a:t>
            </a:r>
            <a:r>
              <a:rPr b="1" lang="en-US" sz="4000" spc="-1" strike="noStrike">
                <a:solidFill>
                  <a:srgbClr val="ffffff"/>
                </a:solidFill>
                <a:latin typeface="Univers"/>
                <a:ea typeface="Univers"/>
              </a:rPr>
              <a:t>	</a:t>
            </a:r>
            <a:endParaRPr b="0" lang="en-US" sz="4000" spc="-1" strike="noStrike">
              <a:solidFill>
                <a:srgbClr val="000000"/>
              </a:solidFill>
              <a:latin typeface="Arial"/>
            </a:endParaRPr>
          </a:p>
        </p:txBody>
      </p:sp>
      <p:sp>
        <p:nvSpPr>
          <p:cNvPr id="858" name=""/>
          <p:cNvSpPr txBox="1"/>
          <p:nvPr/>
        </p:nvSpPr>
        <p:spPr>
          <a:xfrm>
            <a:off x="609480" y="1752480"/>
            <a:ext cx="7848720" cy="407664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45000"/>
              <a:buFont typeface="Wingdings"/>
              <a:buChar char=""/>
            </a:pPr>
            <a:r>
              <a:rPr b="0" lang="en-US" sz="2400" spc="-1" strike="noStrike">
                <a:solidFill>
                  <a:srgbClr val="ffffff"/>
                </a:solidFill>
                <a:latin typeface="Univers"/>
                <a:ea typeface="Univers"/>
              </a:rPr>
              <a:t>Allows extraction of database changes as logged to the After-Image Journal</a:t>
            </a:r>
            <a:endParaRPr b="0" lang="en-US" sz="24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400" spc="-1" strike="noStrike">
                <a:solidFill>
                  <a:srgbClr val="ffffff"/>
                </a:solidFill>
                <a:latin typeface="Univers"/>
                <a:ea typeface="Univers"/>
              </a:rPr>
              <a:t>Filter by Table, Date/Time, etc.</a:t>
            </a:r>
            <a:endParaRPr b="0" lang="en-US" sz="24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400" spc="-1" strike="noStrike">
                <a:solidFill>
                  <a:srgbClr val="ffffff"/>
                </a:solidFill>
                <a:latin typeface="Univers"/>
                <a:ea typeface="Univers"/>
              </a:rPr>
              <a:t>Application transparent</a:t>
            </a:r>
            <a:endParaRPr b="0" lang="en-US" sz="24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400" spc="-1" strike="noStrike">
                <a:solidFill>
                  <a:srgbClr val="ffffff"/>
                </a:solidFill>
                <a:latin typeface="Univers"/>
                <a:ea typeface="Univers"/>
              </a:rPr>
              <a:t>Blazingly fast!</a:t>
            </a:r>
            <a:endParaRPr b="0" lang="en-US" sz="24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000" spc="-1" strike="noStrike">
                <a:solidFill>
                  <a:srgbClr val="ffffff"/>
                </a:solidFill>
                <a:latin typeface="Univers"/>
                <a:ea typeface="Univers"/>
              </a:rPr>
              <a:t>100,000 changes to each of 10 tables</a:t>
            </a:r>
            <a:br>
              <a:rPr sz="2000"/>
            </a:br>
            <a:r>
              <a:rPr b="0" lang="en-US" sz="2000" spc="-1" strike="noStrike">
                <a:solidFill>
                  <a:srgbClr val="ffffff"/>
                </a:solidFill>
                <a:latin typeface="Univers"/>
                <a:ea typeface="Univers"/>
              </a:rPr>
              <a:t>— 1,000,000 records — extracted in 30 seconds.</a:t>
            </a:r>
            <a:endParaRPr b="0" lang="en-US" sz="20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400" spc="-1" strike="noStrike">
                <a:solidFill>
                  <a:srgbClr val="ffffff"/>
                </a:solidFill>
                <a:latin typeface="Univers"/>
                <a:ea typeface="Univers"/>
              </a:rPr>
              <a:t>Output to file, mailbox, pipe or user written routine</a:t>
            </a:r>
            <a:endParaRPr b="0" lang="en-US" sz="24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400" spc="-1" strike="noStrike">
                <a:solidFill>
                  <a:srgbClr val="ffffff"/>
                </a:solidFill>
                <a:latin typeface="Univers"/>
                <a:ea typeface="Univers"/>
              </a:rPr>
              <a:t>No performance impact on production system</a:t>
            </a:r>
            <a:endParaRPr b="0" lang="en-US" sz="2400" spc="-1" strike="noStrike">
              <a:solidFill>
                <a:srgbClr val="000000"/>
              </a:solidFill>
              <a:latin typeface="Arial"/>
            </a:endParaRPr>
          </a:p>
        </p:txBody>
      </p:sp>
      <p:grpSp>
        <p:nvGrpSpPr>
          <p:cNvPr id="859" name=""/>
          <p:cNvGrpSpPr/>
          <p:nvPr/>
        </p:nvGrpSpPr>
        <p:grpSpPr>
          <a:xfrm>
            <a:off x="6473880" y="2176560"/>
            <a:ext cx="2634120" cy="1752840"/>
            <a:chOff x="6473880" y="2176560"/>
            <a:chExt cx="2634120" cy="1752840"/>
          </a:xfrm>
        </p:grpSpPr>
        <p:grpSp>
          <p:nvGrpSpPr>
            <p:cNvPr id="860" name=""/>
            <p:cNvGrpSpPr/>
            <p:nvPr/>
          </p:nvGrpSpPr>
          <p:grpSpPr>
            <a:xfrm>
              <a:off x="6473880" y="2176560"/>
              <a:ext cx="1751400" cy="1716480"/>
              <a:chOff x="6473880" y="2176560"/>
              <a:chExt cx="1751400" cy="1716480"/>
            </a:xfrm>
          </p:grpSpPr>
          <p:sp>
            <p:nvSpPr>
              <p:cNvPr id="861" name=""/>
              <p:cNvSpPr/>
              <p:nvPr/>
            </p:nvSpPr>
            <p:spPr>
              <a:xfrm>
                <a:off x="7381800" y="2633760"/>
                <a:ext cx="794160" cy="136800"/>
              </a:xfrm>
              <a:custGeom>
                <a:avLst/>
                <a:gdLst/>
                <a:ahLst/>
                <a:rect l="0" t="0" r="r" b="b"/>
                <a:pathLst>
                  <a:path w="2206" h="380">
                    <a:moveTo>
                      <a:pt x="0" y="287"/>
                    </a:moveTo>
                    <a:lnTo>
                      <a:pt x="8" y="380"/>
                    </a:lnTo>
                    <a:lnTo>
                      <a:pt x="2206" y="79"/>
                    </a:lnTo>
                    <a:lnTo>
                      <a:pt x="2189" y="0"/>
                    </a:lnTo>
                    <a:lnTo>
                      <a:pt x="0" y="287"/>
                    </a:lnTo>
                    <a:close/>
                  </a:path>
                </a:pathLst>
              </a:custGeom>
              <a:solidFill>
                <a:srgbClr val="ffa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2" name=""/>
              <p:cNvSpPr/>
              <p:nvPr/>
            </p:nvSpPr>
            <p:spPr>
              <a:xfrm>
                <a:off x="8015400" y="2441520"/>
                <a:ext cx="209880" cy="448200"/>
              </a:xfrm>
              <a:custGeom>
                <a:avLst/>
                <a:gdLst/>
                <a:ahLst/>
                <a:rect l="0" t="0" r="r" b="b"/>
                <a:pathLst>
                  <a:path w="583" h="1245">
                    <a:moveTo>
                      <a:pt x="224" y="565"/>
                    </a:moveTo>
                    <a:lnTo>
                      <a:pt x="233" y="644"/>
                    </a:lnTo>
                    <a:lnTo>
                      <a:pt x="450" y="613"/>
                    </a:lnTo>
                    <a:lnTo>
                      <a:pt x="459" y="671"/>
                    </a:lnTo>
                    <a:lnTo>
                      <a:pt x="464" y="737"/>
                    </a:lnTo>
                    <a:lnTo>
                      <a:pt x="468" y="803"/>
                    </a:lnTo>
                    <a:lnTo>
                      <a:pt x="459" y="882"/>
                    </a:lnTo>
                    <a:lnTo>
                      <a:pt x="446" y="945"/>
                    </a:lnTo>
                    <a:lnTo>
                      <a:pt x="428" y="1003"/>
                    </a:lnTo>
                    <a:lnTo>
                      <a:pt x="411" y="1047"/>
                    </a:lnTo>
                    <a:lnTo>
                      <a:pt x="375" y="1113"/>
                    </a:lnTo>
                    <a:lnTo>
                      <a:pt x="336" y="1170"/>
                    </a:lnTo>
                    <a:lnTo>
                      <a:pt x="286" y="1210"/>
                    </a:lnTo>
                    <a:lnTo>
                      <a:pt x="242" y="1245"/>
                    </a:lnTo>
                    <a:lnTo>
                      <a:pt x="322" y="1210"/>
                    </a:lnTo>
                    <a:lnTo>
                      <a:pt x="384" y="1179"/>
                    </a:lnTo>
                    <a:lnTo>
                      <a:pt x="433" y="1130"/>
                    </a:lnTo>
                    <a:lnTo>
                      <a:pt x="481" y="1073"/>
                    </a:lnTo>
                    <a:lnTo>
                      <a:pt x="516" y="1016"/>
                    </a:lnTo>
                    <a:lnTo>
                      <a:pt x="543" y="950"/>
                    </a:lnTo>
                    <a:lnTo>
                      <a:pt x="561" y="900"/>
                    </a:lnTo>
                    <a:lnTo>
                      <a:pt x="578" y="807"/>
                    </a:lnTo>
                    <a:lnTo>
                      <a:pt x="583" y="737"/>
                    </a:lnTo>
                    <a:lnTo>
                      <a:pt x="583" y="680"/>
                    </a:lnTo>
                    <a:lnTo>
                      <a:pt x="578" y="618"/>
                    </a:lnTo>
                    <a:lnTo>
                      <a:pt x="565" y="534"/>
                    </a:lnTo>
                    <a:lnTo>
                      <a:pt x="547" y="464"/>
                    </a:lnTo>
                    <a:lnTo>
                      <a:pt x="521" y="397"/>
                    </a:lnTo>
                    <a:lnTo>
                      <a:pt x="486" y="327"/>
                    </a:lnTo>
                    <a:lnTo>
                      <a:pt x="455" y="268"/>
                    </a:lnTo>
                    <a:lnTo>
                      <a:pt x="415" y="211"/>
                    </a:lnTo>
                    <a:lnTo>
                      <a:pt x="371" y="167"/>
                    </a:lnTo>
                    <a:lnTo>
                      <a:pt x="309" y="127"/>
                    </a:lnTo>
                    <a:lnTo>
                      <a:pt x="255" y="92"/>
                    </a:lnTo>
                    <a:lnTo>
                      <a:pt x="189" y="61"/>
                    </a:lnTo>
                    <a:lnTo>
                      <a:pt x="110" y="30"/>
                    </a:lnTo>
                    <a:lnTo>
                      <a:pt x="0" y="0"/>
                    </a:lnTo>
                    <a:lnTo>
                      <a:pt x="52" y="39"/>
                    </a:lnTo>
                    <a:lnTo>
                      <a:pt x="97" y="66"/>
                    </a:lnTo>
                    <a:lnTo>
                      <a:pt x="136" y="92"/>
                    </a:lnTo>
                    <a:lnTo>
                      <a:pt x="185" y="127"/>
                    </a:lnTo>
                    <a:lnTo>
                      <a:pt x="229" y="154"/>
                    </a:lnTo>
                    <a:lnTo>
                      <a:pt x="264" y="176"/>
                    </a:lnTo>
                    <a:lnTo>
                      <a:pt x="296" y="207"/>
                    </a:lnTo>
                    <a:lnTo>
                      <a:pt x="327" y="242"/>
                    </a:lnTo>
                    <a:lnTo>
                      <a:pt x="362" y="308"/>
                    </a:lnTo>
                    <a:lnTo>
                      <a:pt x="389" y="353"/>
                    </a:lnTo>
                    <a:lnTo>
                      <a:pt x="406" y="402"/>
                    </a:lnTo>
                    <a:lnTo>
                      <a:pt x="424" y="459"/>
                    </a:lnTo>
                    <a:lnTo>
                      <a:pt x="437" y="534"/>
                    </a:lnTo>
                    <a:lnTo>
                      <a:pt x="224" y="565"/>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63" name=""/>
              <p:cNvGrpSpPr/>
              <p:nvPr/>
            </p:nvGrpSpPr>
            <p:grpSpPr>
              <a:xfrm>
                <a:off x="6680160" y="2978280"/>
                <a:ext cx="638280" cy="914760"/>
                <a:chOff x="6680160" y="2978280"/>
                <a:chExt cx="638280" cy="914760"/>
              </a:xfrm>
            </p:grpSpPr>
            <p:grpSp>
              <p:nvGrpSpPr>
                <p:cNvPr id="864" name=""/>
                <p:cNvGrpSpPr/>
                <p:nvPr/>
              </p:nvGrpSpPr>
              <p:grpSpPr>
                <a:xfrm>
                  <a:off x="6691320" y="3594240"/>
                  <a:ext cx="627120" cy="298800"/>
                  <a:chOff x="6691320" y="3594240"/>
                  <a:chExt cx="627120" cy="298800"/>
                </a:xfrm>
              </p:grpSpPr>
              <p:sp>
                <p:nvSpPr>
                  <p:cNvPr id="865" name=""/>
                  <p:cNvSpPr/>
                  <p:nvPr/>
                </p:nvSpPr>
                <p:spPr>
                  <a:xfrm>
                    <a:off x="7068960" y="3594240"/>
                    <a:ext cx="249480" cy="97200"/>
                  </a:xfrm>
                  <a:custGeom>
                    <a:avLst/>
                    <a:gdLst/>
                    <a:ahLst/>
                    <a:rect l="0" t="0" r="r" b="b"/>
                    <a:pathLst>
                      <a:path w="693" h="270">
                        <a:moveTo>
                          <a:pt x="17" y="0"/>
                        </a:moveTo>
                        <a:lnTo>
                          <a:pt x="0" y="98"/>
                        </a:lnTo>
                        <a:lnTo>
                          <a:pt x="0" y="209"/>
                        </a:lnTo>
                        <a:lnTo>
                          <a:pt x="83" y="244"/>
                        </a:lnTo>
                        <a:lnTo>
                          <a:pt x="185" y="222"/>
                        </a:lnTo>
                        <a:lnTo>
                          <a:pt x="198" y="181"/>
                        </a:lnTo>
                        <a:lnTo>
                          <a:pt x="251" y="181"/>
                        </a:lnTo>
                        <a:lnTo>
                          <a:pt x="313" y="213"/>
                        </a:lnTo>
                        <a:lnTo>
                          <a:pt x="415" y="262"/>
                        </a:lnTo>
                        <a:lnTo>
                          <a:pt x="534" y="257"/>
                        </a:lnTo>
                        <a:lnTo>
                          <a:pt x="534" y="270"/>
                        </a:lnTo>
                        <a:lnTo>
                          <a:pt x="636" y="257"/>
                        </a:lnTo>
                        <a:lnTo>
                          <a:pt x="666" y="235"/>
                        </a:lnTo>
                        <a:lnTo>
                          <a:pt x="693" y="186"/>
                        </a:lnTo>
                        <a:lnTo>
                          <a:pt x="671" y="150"/>
                        </a:lnTo>
                        <a:lnTo>
                          <a:pt x="587" y="102"/>
                        </a:lnTo>
                        <a:lnTo>
                          <a:pt x="508" y="75"/>
                        </a:lnTo>
                        <a:lnTo>
                          <a:pt x="393" y="57"/>
                        </a:lnTo>
                        <a:lnTo>
                          <a:pt x="304" y="17"/>
                        </a:lnTo>
                        <a:lnTo>
                          <a:pt x="211" y="4"/>
                        </a:lnTo>
                        <a:lnTo>
                          <a:pt x="17" y="0"/>
                        </a:lnTo>
                        <a:close/>
                      </a:path>
                    </a:pathLst>
                  </a:custGeom>
                  <a:solidFill>
                    <a:srgbClr val="a05000"/>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866" name=""/>
                  <p:cNvSpPr/>
                  <p:nvPr/>
                </p:nvSpPr>
                <p:spPr>
                  <a:xfrm>
                    <a:off x="6691320" y="3795840"/>
                    <a:ext cx="249480" cy="97200"/>
                  </a:xfrm>
                  <a:custGeom>
                    <a:avLst/>
                    <a:gdLst/>
                    <a:ahLst/>
                    <a:rect l="0" t="0" r="r" b="b"/>
                    <a:pathLst>
                      <a:path w="693" h="270">
                        <a:moveTo>
                          <a:pt x="17" y="0"/>
                        </a:moveTo>
                        <a:lnTo>
                          <a:pt x="4" y="102"/>
                        </a:lnTo>
                        <a:lnTo>
                          <a:pt x="0" y="213"/>
                        </a:lnTo>
                        <a:lnTo>
                          <a:pt x="83" y="244"/>
                        </a:lnTo>
                        <a:lnTo>
                          <a:pt x="185" y="222"/>
                        </a:lnTo>
                        <a:lnTo>
                          <a:pt x="198" y="186"/>
                        </a:lnTo>
                        <a:lnTo>
                          <a:pt x="251" y="186"/>
                        </a:lnTo>
                        <a:lnTo>
                          <a:pt x="317" y="218"/>
                        </a:lnTo>
                        <a:lnTo>
                          <a:pt x="415" y="266"/>
                        </a:lnTo>
                        <a:lnTo>
                          <a:pt x="534" y="262"/>
                        </a:lnTo>
                        <a:lnTo>
                          <a:pt x="534" y="270"/>
                        </a:lnTo>
                        <a:lnTo>
                          <a:pt x="636" y="262"/>
                        </a:lnTo>
                        <a:lnTo>
                          <a:pt x="666" y="235"/>
                        </a:lnTo>
                        <a:lnTo>
                          <a:pt x="693" y="190"/>
                        </a:lnTo>
                        <a:lnTo>
                          <a:pt x="675" y="150"/>
                        </a:lnTo>
                        <a:lnTo>
                          <a:pt x="587" y="106"/>
                        </a:lnTo>
                        <a:lnTo>
                          <a:pt x="512" y="71"/>
                        </a:lnTo>
                        <a:lnTo>
                          <a:pt x="397" y="57"/>
                        </a:lnTo>
                        <a:lnTo>
                          <a:pt x="308" y="17"/>
                        </a:lnTo>
                        <a:lnTo>
                          <a:pt x="211" y="4"/>
                        </a:lnTo>
                        <a:lnTo>
                          <a:pt x="17" y="0"/>
                        </a:lnTo>
                        <a:close/>
                      </a:path>
                    </a:pathLst>
                  </a:custGeom>
                  <a:solidFill>
                    <a:srgbClr val="a05000"/>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grpSp>
            <p:sp>
              <p:nvSpPr>
                <p:cNvPr id="867" name=""/>
                <p:cNvSpPr/>
                <p:nvPr/>
              </p:nvSpPr>
              <p:spPr>
                <a:xfrm>
                  <a:off x="6684840" y="3043080"/>
                  <a:ext cx="240120" cy="775080"/>
                </a:xfrm>
                <a:custGeom>
                  <a:avLst/>
                  <a:gdLst/>
                  <a:ahLst/>
                  <a:rect l="0" t="0" r="r" b="b"/>
                  <a:pathLst>
                    <a:path w="667" h="2153">
                      <a:moveTo>
                        <a:pt x="26" y="13"/>
                      </a:moveTo>
                      <a:lnTo>
                        <a:pt x="0" y="194"/>
                      </a:lnTo>
                      <a:lnTo>
                        <a:pt x="22" y="414"/>
                      </a:lnTo>
                      <a:lnTo>
                        <a:pt x="110" y="684"/>
                      </a:lnTo>
                      <a:lnTo>
                        <a:pt x="163" y="971"/>
                      </a:lnTo>
                      <a:lnTo>
                        <a:pt x="195" y="1147"/>
                      </a:lnTo>
                      <a:lnTo>
                        <a:pt x="163" y="1469"/>
                      </a:lnTo>
                      <a:lnTo>
                        <a:pt x="110" y="1787"/>
                      </a:lnTo>
                      <a:lnTo>
                        <a:pt x="39" y="2096"/>
                      </a:lnTo>
                      <a:lnTo>
                        <a:pt x="177" y="2114"/>
                      </a:lnTo>
                      <a:lnTo>
                        <a:pt x="327" y="2153"/>
                      </a:lnTo>
                      <a:lnTo>
                        <a:pt x="384" y="2149"/>
                      </a:lnTo>
                      <a:lnTo>
                        <a:pt x="468" y="2101"/>
                      </a:lnTo>
                      <a:lnTo>
                        <a:pt x="504" y="1787"/>
                      </a:lnTo>
                      <a:lnTo>
                        <a:pt x="548" y="1420"/>
                      </a:lnTo>
                      <a:lnTo>
                        <a:pt x="592" y="1169"/>
                      </a:lnTo>
                      <a:lnTo>
                        <a:pt x="606" y="1063"/>
                      </a:lnTo>
                      <a:lnTo>
                        <a:pt x="592" y="918"/>
                      </a:lnTo>
                      <a:lnTo>
                        <a:pt x="606" y="772"/>
                      </a:lnTo>
                      <a:lnTo>
                        <a:pt x="623" y="591"/>
                      </a:lnTo>
                      <a:lnTo>
                        <a:pt x="637" y="339"/>
                      </a:lnTo>
                      <a:lnTo>
                        <a:pt x="637" y="132"/>
                      </a:lnTo>
                      <a:lnTo>
                        <a:pt x="667" y="0"/>
                      </a:lnTo>
                      <a:lnTo>
                        <a:pt x="26" y="13"/>
                      </a:lnTo>
                      <a:close/>
                    </a:path>
                  </a:pathLst>
                </a:custGeom>
                <a:solidFill>
                  <a:srgbClr val="0000e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8" name=""/>
                <p:cNvSpPr/>
                <p:nvPr/>
              </p:nvSpPr>
              <p:spPr>
                <a:xfrm>
                  <a:off x="6680160" y="2978280"/>
                  <a:ext cx="560880" cy="638640"/>
                </a:xfrm>
                <a:custGeom>
                  <a:avLst/>
                  <a:gdLst/>
                  <a:ahLst/>
                  <a:rect l="0" t="0" r="r" b="b"/>
                  <a:pathLst>
                    <a:path w="1558" h="1774">
                      <a:moveTo>
                        <a:pt x="1063" y="1735"/>
                      </a:moveTo>
                      <a:lnTo>
                        <a:pt x="1165" y="1748"/>
                      </a:lnTo>
                      <a:lnTo>
                        <a:pt x="1289" y="1774"/>
                      </a:lnTo>
                      <a:lnTo>
                        <a:pt x="1391" y="1765"/>
                      </a:lnTo>
                      <a:lnTo>
                        <a:pt x="1452" y="1735"/>
                      </a:lnTo>
                      <a:lnTo>
                        <a:pt x="1505" y="1351"/>
                      </a:lnTo>
                      <a:lnTo>
                        <a:pt x="1523" y="1099"/>
                      </a:lnTo>
                      <a:lnTo>
                        <a:pt x="1536" y="843"/>
                      </a:lnTo>
                      <a:lnTo>
                        <a:pt x="1549" y="684"/>
                      </a:lnTo>
                      <a:lnTo>
                        <a:pt x="1558" y="578"/>
                      </a:lnTo>
                      <a:lnTo>
                        <a:pt x="1514" y="477"/>
                      </a:lnTo>
                      <a:lnTo>
                        <a:pt x="1457" y="423"/>
                      </a:lnTo>
                      <a:lnTo>
                        <a:pt x="1399" y="405"/>
                      </a:lnTo>
                      <a:lnTo>
                        <a:pt x="1258" y="357"/>
                      </a:lnTo>
                      <a:lnTo>
                        <a:pt x="1015" y="295"/>
                      </a:lnTo>
                      <a:lnTo>
                        <a:pt x="785" y="229"/>
                      </a:lnTo>
                      <a:lnTo>
                        <a:pt x="680" y="180"/>
                      </a:lnTo>
                      <a:lnTo>
                        <a:pt x="636" y="74"/>
                      </a:lnTo>
                      <a:lnTo>
                        <a:pt x="605" y="0"/>
                      </a:lnTo>
                      <a:lnTo>
                        <a:pt x="499" y="30"/>
                      </a:lnTo>
                      <a:lnTo>
                        <a:pt x="326" y="44"/>
                      </a:lnTo>
                      <a:lnTo>
                        <a:pt x="207" y="61"/>
                      </a:lnTo>
                      <a:lnTo>
                        <a:pt x="0" y="52"/>
                      </a:lnTo>
                      <a:lnTo>
                        <a:pt x="0" y="268"/>
                      </a:lnTo>
                      <a:lnTo>
                        <a:pt x="39" y="436"/>
                      </a:lnTo>
                      <a:lnTo>
                        <a:pt x="158" y="521"/>
                      </a:lnTo>
                      <a:lnTo>
                        <a:pt x="308" y="627"/>
                      </a:lnTo>
                      <a:lnTo>
                        <a:pt x="538" y="702"/>
                      </a:lnTo>
                      <a:lnTo>
                        <a:pt x="733" y="750"/>
                      </a:lnTo>
                      <a:lnTo>
                        <a:pt x="904" y="772"/>
                      </a:lnTo>
                      <a:lnTo>
                        <a:pt x="1050" y="781"/>
                      </a:lnTo>
                      <a:lnTo>
                        <a:pt x="1151" y="812"/>
                      </a:lnTo>
                      <a:lnTo>
                        <a:pt x="1134" y="1187"/>
                      </a:lnTo>
                      <a:lnTo>
                        <a:pt x="1063" y="1735"/>
                      </a:lnTo>
                      <a:close/>
                    </a:path>
                  </a:pathLst>
                </a:cu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869" name=""/>
              <p:cNvGrpSpPr/>
              <p:nvPr/>
            </p:nvGrpSpPr>
            <p:grpSpPr>
              <a:xfrm>
                <a:off x="6621480" y="2509920"/>
                <a:ext cx="979920" cy="713160"/>
                <a:chOff x="6621480" y="2509920"/>
                <a:chExt cx="979920" cy="713160"/>
              </a:xfrm>
            </p:grpSpPr>
            <p:sp>
              <p:nvSpPr>
                <p:cNvPr id="870" name=""/>
                <p:cNvSpPr/>
                <p:nvPr/>
              </p:nvSpPr>
              <p:spPr>
                <a:xfrm>
                  <a:off x="6683400" y="2519280"/>
                  <a:ext cx="325800" cy="570240"/>
                </a:xfrm>
                <a:custGeom>
                  <a:avLst/>
                  <a:gdLst/>
                  <a:ahLst/>
                  <a:rect l="0" t="0" r="r" b="b"/>
                  <a:pathLst>
                    <a:path w="905" h="1584">
                      <a:moveTo>
                        <a:pt x="649" y="1469"/>
                      </a:moveTo>
                      <a:lnTo>
                        <a:pt x="698" y="1394"/>
                      </a:lnTo>
                      <a:lnTo>
                        <a:pt x="734" y="1306"/>
                      </a:lnTo>
                      <a:lnTo>
                        <a:pt x="751" y="1226"/>
                      </a:lnTo>
                      <a:lnTo>
                        <a:pt x="769" y="1138"/>
                      </a:lnTo>
                      <a:lnTo>
                        <a:pt x="769" y="1041"/>
                      </a:lnTo>
                      <a:lnTo>
                        <a:pt x="764" y="966"/>
                      </a:lnTo>
                      <a:lnTo>
                        <a:pt x="738" y="838"/>
                      </a:lnTo>
                      <a:lnTo>
                        <a:pt x="769" y="621"/>
                      </a:lnTo>
                      <a:lnTo>
                        <a:pt x="734" y="405"/>
                      </a:lnTo>
                      <a:lnTo>
                        <a:pt x="905" y="515"/>
                      </a:lnTo>
                      <a:lnTo>
                        <a:pt x="883" y="383"/>
                      </a:lnTo>
                      <a:lnTo>
                        <a:pt x="870" y="251"/>
                      </a:lnTo>
                      <a:lnTo>
                        <a:pt x="853" y="149"/>
                      </a:lnTo>
                      <a:lnTo>
                        <a:pt x="662" y="52"/>
                      </a:lnTo>
                      <a:lnTo>
                        <a:pt x="534" y="13"/>
                      </a:lnTo>
                      <a:lnTo>
                        <a:pt x="274" y="0"/>
                      </a:lnTo>
                      <a:lnTo>
                        <a:pt x="105" y="70"/>
                      </a:lnTo>
                      <a:lnTo>
                        <a:pt x="26" y="251"/>
                      </a:lnTo>
                      <a:lnTo>
                        <a:pt x="0" y="595"/>
                      </a:lnTo>
                      <a:lnTo>
                        <a:pt x="13" y="949"/>
                      </a:lnTo>
                      <a:lnTo>
                        <a:pt x="44" y="1262"/>
                      </a:lnTo>
                      <a:lnTo>
                        <a:pt x="26" y="1544"/>
                      </a:lnTo>
                      <a:lnTo>
                        <a:pt x="176" y="1584"/>
                      </a:lnTo>
                      <a:lnTo>
                        <a:pt x="450" y="1544"/>
                      </a:lnTo>
                      <a:lnTo>
                        <a:pt x="649" y="146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1" name=""/>
                <p:cNvSpPr/>
                <p:nvPr/>
              </p:nvSpPr>
              <p:spPr>
                <a:xfrm>
                  <a:off x="7373880" y="2685960"/>
                  <a:ext cx="227520" cy="108360"/>
                </a:xfrm>
                <a:custGeom>
                  <a:avLst/>
                  <a:gdLst/>
                  <a:ahLst/>
                  <a:rect l="0" t="0" r="r" b="b"/>
                  <a:pathLst>
                    <a:path w="632" h="301">
                      <a:moveTo>
                        <a:pt x="177" y="98"/>
                      </a:moveTo>
                      <a:lnTo>
                        <a:pt x="225" y="84"/>
                      </a:lnTo>
                      <a:lnTo>
                        <a:pt x="283" y="35"/>
                      </a:lnTo>
                      <a:lnTo>
                        <a:pt x="340" y="0"/>
                      </a:lnTo>
                      <a:lnTo>
                        <a:pt x="415" y="8"/>
                      </a:lnTo>
                      <a:lnTo>
                        <a:pt x="455" y="39"/>
                      </a:lnTo>
                      <a:lnTo>
                        <a:pt x="455" y="70"/>
                      </a:lnTo>
                      <a:lnTo>
                        <a:pt x="415" y="80"/>
                      </a:lnTo>
                      <a:lnTo>
                        <a:pt x="375" y="66"/>
                      </a:lnTo>
                      <a:lnTo>
                        <a:pt x="344" y="93"/>
                      </a:lnTo>
                      <a:lnTo>
                        <a:pt x="389" y="133"/>
                      </a:lnTo>
                      <a:lnTo>
                        <a:pt x="468" y="159"/>
                      </a:lnTo>
                      <a:lnTo>
                        <a:pt x="632" y="142"/>
                      </a:lnTo>
                      <a:lnTo>
                        <a:pt x="610" y="208"/>
                      </a:lnTo>
                      <a:lnTo>
                        <a:pt x="566" y="257"/>
                      </a:lnTo>
                      <a:lnTo>
                        <a:pt x="522" y="284"/>
                      </a:lnTo>
                      <a:lnTo>
                        <a:pt x="459" y="301"/>
                      </a:lnTo>
                      <a:lnTo>
                        <a:pt x="402" y="301"/>
                      </a:lnTo>
                      <a:lnTo>
                        <a:pt x="371" y="301"/>
                      </a:lnTo>
                      <a:lnTo>
                        <a:pt x="296" y="266"/>
                      </a:lnTo>
                      <a:lnTo>
                        <a:pt x="247" y="253"/>
                      </a:lnTo>
                      <a:lnTo>
                        <a:pt x="177" y="262"/>
                      </a:lnTo>
                      <a:lnTo>
                        <a:pt x="13" y="262"/>
                      </a:lnTo>
                      <a:lnTo>
                        <a:pt x="0" y="98"/>
                      </a:lnTo>
                      <a:lnTo>
                        <a:pt x="177" y="98"/>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a:off x="7416720" y="2705040"/>
                  <a:ext cx="35280" cy="89280"/>
                </a:xfrm>
                <a:custGeom>
                  <a:avLst/>
                  <a:gdLst/>
                  <a:ahLst/>
                  <a:rect l="0" t="0" r="r" b="b"/>
                  <a:pathLst>
                    <a:path w="98" h="248">
                      <a:moveTo>
                        <a:pt x="0" y="0"/>
                      </a:moveTo>
                      <a:lnTo>
                        <a:pt x="98" y="13"/>
                      </a:lnTo>
                      <a:lnTo>
                        <a:pt x="84" y="128"/>
                      </a:lnTo>
                      <a:lnTo>
                        <a:pt x="84" y="248"/>
                      </a:lnTo>
                      <a:lnTo>
                        <a:pt x="8" y="248"/>
                      </a:lnTo>
                      <a:lnTo>
                        <a:pt x="0" y="0"/>
                      </a:lnTo>
                      <a:close/>
                    </a:path>
                  </a:pathLst>
                </a:custGeom>
                <a:solidFill>
                  <a:srgbClr val="ffffff"/>
                </a:solidFill>
                <a:ln w="12600">
                  <a:solidFill>
                    <a:srgbClr val="000000"/>
                  </a:solidFill>
                  <a:round/>
                </a:ln>
              </p:spPr>
              <p:txBody>
                <a:bodyPr lIns="96120" rIns="96120" tIns="38160" bIns="38160" anchor="t">
                  <a:noAutofit/>
                </a:bodyPr>
                <a:p>
                  <a:endParaRPr b="0" lang="en-US" sz="1800" spc="-1" strike="noStrike">
                    <a:solidFill>
                      <a:srgbClr val="000000"/>
                    </a:solidFill>
                    <a:latin typeface="Arial"/>
                  </a:endParaRPr>
                </a:p>
              </p:txBody>
            </p:sp>
            <p:sp>
              <p:nvSpPr>
                <p:cNvPr id="873" name=""/>
                <p:cNvSpPr/>
                <p:nvPr/>
              </p:nvSpPr>
              <p:spPr>
                <a:xfrm>
                  <a:off x="6621480" y="2509920"/>
                  <a:ext cx="813240" cy="713160"/>
                </a:xfrm>
                <a:custGeom>
                  <a:avLst/>
                  <a:gdLst/>
                  <a:ahLst/>
                  <a:rect l="0" t="0" r="r" b="b"/>
                  <a:pathLst>
                    <a:path w="2259" h="1981">
                      <a:moveTo>
                        <a:pt x="896" y="543"/>
                      </a:moveTo>
                      <a:lnTo>
                        <a:pt x="896" y="706"/>
                      </a:lnTo>
                      <a:lnTo>
                        <a:pt x="887" y="922"/>
                      </a:lnTo>
                      <a:lnTo>
                        <a:pt x="874" y="1147"/>
                      </a:lnTo>
                      <a:lnTo>
                        <a:pt x="869" y="1240"/>
                      </a:lnTo>
                      <a:lnTo>
                        <a:pt x="860" y="1385"/>
                      </a:lnTo>
                      <a:lnTo>
                        <a:pt x="847" y="1496"/>
                      </a:lnTo>
                      <a:lnTo>
                        <a:pt x="834" y="1651"/>
                      </a:lnTo>
                      <a:lnTo>
                        <a:pt x="812" y="1704"/>
                      </a:lnTo>
                      <a:lnTo>
                        <a:pt x="755" y="1765"/>
                      </a:lnTo>
                      <a:lnTo>
                        <a:pt x="675" y="1818"/>
                      </a:lnTo>
                      <a:lnTo>
                        <a:pt x="583" y="1854"/>
                      </a:lnTo>
                      <a:lnTo>
                        <a:pt x="502" y="1889"/>
                      </a:lnTo>
                      <a:lnTo>
                        <a:pt x="418" y="1907"/>
                      </a:lnTo>
                      <a:lnTo>
                        <a:pt x="308" y="1929"/>
                      </a:lnTo>
                      <a:lnTo>
                        <a:pt x="176" y="1942"/>
                      </a:lnTo>
                      <a:lnTo>
                        <a:pt x="136" y="1717"/>
                      </a:lnTo>
                      <a:lnTo>
                        <a:pt x="123" y="1955"/>
                      </a:lnTo>
                      <a:lnTo>
                        <a:pt x="44" y="1981"/>
                      </a:lnTo>
                      <a:lnTo>
                        <a:pt x="17" y="1893"/>
                      </a:lnTo>
                      <a:lnTo>
                        <a:pt x="4" y="1814"/>
                      </a:lnTo>
                      <a:lnTo>
                        <a:pt x="0" y="1704"/>
                      </a:lnTo>
                      <a:lnTo>
                        <a:pt x="17" y="1598"/>
                      </a:lnTo>
                      <a:lnTo>
                        <a:pt x="57" y="1434"/>
                      </a:lnTo>
                      <a:lnTo>
                        <a:pt x="83" y="1306"/>
                      </a:lnTo>
                      <a:lnTo>
                        <a:pt x="97" y="1165"/>
                      </a:lnTo>
                      <a:lnTo>
                        <a:pt x="97" y="922"/>
                      </a:lnTo>
                      <a:lnTo>
                        <a:pt x="110" y="649"/>
                      </a:lnTo>
                      <a:lnTo>
                        <a:pt x="136" y="521"/>
                      </a:lnTo>
                      <a:lnTo>
                        <a:pt x="145" y="423"/>
                      </a:lnTo>
                      <a:lnTo>
                        <a:pt x="154" y="357"/>
                      </a:lnTo>
                      <a:lnTo>
                        <a:pt x="180" y="260"/>
                      </a:lnTo>
                      <a:lnTo>
                        <a:pt x="194" y="202"/>
                      </a:lnTo>
                      <a:lnTo>
                        <a:pt x="207" y="132"/>
                      </a:lnTo>
                      <a:lnTo>
                        <a:pt x="255" y="70"/>
                      </a:lnTo>
                      <a:lnTo>
                        <a:pt x="286" y="52"/>
                      </a:lnTo>
                      <a:lnTo>
                        <a:pt x="348" y="26"/>
                      </a:lnTo>
                      <a:lnTo>
                        <a:pt x="418" y="8"/>
                      </a:lnTo>
                      <a:lnTo>
                        <a:pt x="533" y="0"/>
                      </a:lnTo>
                      <a:lnTo>
                        <a:pt x="644" y="13"/>
                      </a:lnTo>
                      <a:lnTo>
                        <a:pt x="746" y="48"/>
                      </a:lnTo>
                      <a:lnTo>
                        <a:pt x="852" y="70"/>
                      </a:lnTo>
                      <a:lnTo>
                        <a:pt x="957" y="123"/>
                      </a:lnTo>
                      <a:lnTo>
                        <a:pt x="1081" y="194"/>
                      </a:lnTo>
                      <a:lnTo>
                        <a:pt x="1226" y="282"/>
                      </a:lnTo>
                      <a:lnTo>
                        <a:pt x="1323" y="357"/>
                      </a:lnTo>
                      <a:lnTo>
                        <a:pt x="1420" y="440"/>
                      </a:lnTo>
                      <a:lnTo>
                        <a:pt x="1823" y="493"/>
                      </a:lnTo>
                      <a:lnTo>
                        <a:pt x="2131" y="521"/>
                      </a:lnTo>
                      <a:lnTo>
                        <a:pt x="2259" y="516"/>
                      </a:lnTo>
                      <a:lnTo>
                        <a:pt x="2237" y="613"/>
                      </a:lnTo>
                      <a:lnTo>
                        <a:pt x="2237" y="710"/>
                      </a:lnTo>
                      <a:lnTo>
                        <a:pt x="2259" y="807"/>
                      </a:lnTo>
                      <a:lnTo>
                        <a:pt x="1876" y="803"/>
                      </a:lnTo>
                      <a:lnTo>
                        <a:pt x="1704" y="799"/>
                      </a:lnTo>
                      <a:lnTo>
                        <a:pt x="1416" y="763"/>
                      </a:lnTo>
                      <a:lnTo>
                        <a:pt x="1226" y="684"/>
                      </a:lnTo>
                      <a:lnTo>
                        <a:pt x="1059" y="631"/>
                      </a:lnTo>
                      <a:lnTo>
                        <a:pt x="896" y="543"/>
                      </a:lnTo>
                      <a:close/>
                    </a:path>
                  </a:pathLst>
                </a:cu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4" name=""/>
                <p:cNvSpPr/>
                <p:nvPr/>
              </p:nvSpPr>
              <p:spPr>
                <a:xfrm>
                  <a:off x="6848640" y="2662200"/>
                  <a:ext cx="98640" cy="46440"/>
                </a:xfrm>
                <a:custGeom>
                  <a:avLst/>
                  <a:gdLst/>
                  <a:ahLst/>
                  <a:rect l="0" t="0" r="r" b="b"/>
                  <a:pathLst>
                    <a:path fill="none" w="274" h="129">
                      <a:moveTo>
                        <a:pt x="274" y="129"/>
                      </a:moveTo>
                      <a:lnTo>
                        <a:pt x="119" y="49"/>
                      </a:lnTo>
                      <a:lnTo>
                        <a:pt x="0"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grpSp>
          <p:grpSp>
            <p:nvGrpSpPr>
              <p:cNvPr id="875" name=""/>
              <p:cNvGrpSpPr/>
              <p:nvPr/>
            </p:nvGrpSpPr>
            <p:grpSpPr>
              <a:xfrm>
                <a:off x="6545160" y="2176560"/>
                <a:ext cx="415080" cy="357480"/>
                <a:chOff x="6545160" y="2176560"/>
                <a:chExt cx="415080" cy="357480"/>
              </a:xfrm>
            </p:grpSpPr>
            <p:grpSp>
              <p:nvGrpSpPr>
                <p:cNvPr id="876" name=""/>
                <p:cNvGrpSpPr/>
                <p:nvPr/>
              </p:nvGrpSpPr>
              <p:grpSpPr>
                <a:xfrm>
                  <a:off x="6545160" y="2176560"/>
                  <a:ext cx="415080" cy="277920"/>
                  <a:chOff x="6545160" y="2176560"/>
                  <a:chExt cx="415080" cy="277920"/>
                </a:xfrm>
              </p:grpSpPr>
              <p:sp>
                <p:nvSpPr>
                  <p:cNvPr id="877" name=""/>
                  <p:cNvSpPr/>
                  <p:nvPr/>
                </p:nvSpPr>
                <p:spPr>
                  <a:xfrm>
                    <a:off x="6854760" y="2176560"/>
                    <a:ext cx="46440" cy="25920"/>
                  </a:xfrm>
                  <a:custGeom>
                    <a:avLst/>
                    <a:gdLst/>
                    <a:ahLst/>
                    <a:rect l="0" t="0" r="r" b="b"/>
                    <a:pathLst>
                      <a:path w="129" h="72">
                        <a:moveTo>
                          <a:pt x="0" y="72"/>
                        </a:moveTo>
                        <a:lnTo>
                          <a:pt x="4" y="62"/>
                        </a:lnTo>
                        <a:lnTo>
                          <a:pt x="8" y="46"/>
                        </a:lnTo>
                        <a:lnTo>
                          <a:pt x="13" y="36"/>
                        </a:lnTo>
                        <a:lnTo>
                          <a:pt x="26" y="31"/>
                        </a:lnTo>
                        <a:lnTo>
                          <a:pt x="30" y="15"/>
                        </a:lnTo>
                        <a:lnTo>
                          <a:pt x="45" y="10"/>
                        </a:lnTo>
                        <a:lnTo>
                          <a:pt x="53" y="5"/>
                        </a:lnTo>
                        <a:lnTo>
                          <a:pt x="62" y="5"/>
                        </a:lnTo>
                        <a:lnTo>
                          <a:pt x="75" y="0"/>
                        </a:lnTo>
                        <a:lnTo>
                          <a:pt x="84" y="0"/>
                        </a:lnTo>
                        <a:lnTo>
                          <a:pt x="103" y="0"/>
                        </a:lnTo>
                        <a:lnTo>
                          <a:pt x="112" y="0"/>
                        </a:lnTo>
                        <a:lnTo>
                          <a:pt x="116" y="5"/>
                        </a:lnTo>
                        <a:lnTo>
                          <a:pt x="125" y="5"/>
                        </a:lnTo>
                        <a:lnTo>
                          <a:pt x="125" y="10"/>
                        </a:lnTo>
                        <a:lnTo>
                          <a:pt x="129" y="10"/>
                        </a:lnTo>
                        <a:lnTo>
                          <a:pt x="129" y="15"/>
                        </a:lnTo>
                        <a:lnTo>
                          <a:pt x="129" y="21"/>
                        </a:lnTo>
                        <a:lnTo>
                          <a:pt x="125" y="31"/>
                        </a:lnTo>
                        <a:lnTo>
                          <a:pt x="121" y="31"/>
                        </a:lnTo>
                        <a:lnTo>
                          <a:pt x="116" y="31"/>
                        </a:lnTo>
                        <a:lnTo>
                          <a:pt x="112" y="36"/>
                        </a:lnTo>
                        <a:lnTo>
                          <a:pt x="103" y="36"/>
                        </a:lnTo>
                        <a:lnTo>
                          <a:pt x="99" y="36"/>
                        </a:lnTo>
                        <a:lnTo>
                          <a:pt x="93" y="41"/>
                        </a:lnTo>
                        <a:lnTo>
                          <a:pt x="84" y="41"/>
                        </a:lnTo>
                        <a:lnTo>
                          <a:pt x="80" y="41"/>
                        </a:lnTo>
                        <a:lnTo>
                          <a:pt x="67" y="36"/>
                        </a:lnTo>
                        <a:lnTo>
                          <a:pt x="58" y="41"/>
                        </a:lnTo>
                        <a:lnTo>
                          <a:pt x="49" y="41"/>
                        </a:lnTo>
                        <a:lnTo>
                          <a:pt x="40" y="41"/>
                        </a:lnTo>
                        <a:lnTo>
                          <a:pt x="30" y="46"/>
                        </a:lnTo>
                        <a:lnTo>
                          <a:pt x="22" y="57"/>
                        </a:lnTo>
                        <a:lnTo>
                          <a:pt x="13" y="57"/>
                        </a:lnTo>
                        <a:lnTo>
                          <a:pt x="8" y="67"/>
                        </a:lnTo>
                        <a:lnTo>
                          <a:pt x="0" y="72"/>
                        </a:lnTo>
                        <a:close/>
                      </a:path>
                    </a:pathLst>
                  </a:custGeom>
                  <a:solidFill>
                    <a:srgbClr val="c0ff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78" name=""/>
                  <p:cNvSpPr/>
                  <p:nvPr/>
                </p:nvSpPr>
                <p:spPr>
                  <a:xfrm>
                    <a:off x="6573960" y="2425680"/>
                    <a:ext cx="41760" cy="28800"/>
                  </a:xfrm>
                  <a:custGeom>
                    <a:avLst/>
                    <a:gdLst/>
                    <a:ahLst/>
                    <a:rect l="0" t="0" r="r" b="b"/>
                    <a:pathLst>
                      <a:path w="116" h="80">
                        <a:moveTo>
                          <a:pt x="84" y="4"/>
                        </a:moveTo>
                        <a:lnTo>
                          <a:pt x="58" y="8"/>
                        </a:lnTo>
                        <a:lnTo>
                          <a:pt x="36" y="13"/>
                        </a:lnTo>
                        <a:lnTo>
                          <a:pt x="22" y="17"/>
                        </a:lnTo>
                        <a:lnTo>
                          <a:pt x="13" y="26"/>
                        </a:lnTo>
                        <a:lnTo>
                          <a:pt x="4" y="39"/>
                        </a:lnTo>
                        <a:lnTo>
                          <a:pt x="0" y="45"/>
                        </a:lnTo>
                        <a:lnTo>
                          <a:pt x="0" y="58"/>
                        </a:lnTo>
                        <a:lnTo>
                          <a:pt x="4" y="67"/>
                        </a:lnTo>
                        <a:lnTo>
                          <a:pt x="13" y="75"/>
                        </a:lnTo>
                        <a:lnTo>
                          <a:pt x="17" y="75"/>
                        </a:lnTo>
                        <a:lnTo>
                          <a:pt x="36" y="80"/>
                        </a:lnTo>
                        <a:lnTo>
                          <a:pt x="53" y="71"/>
                        </a:lnTo>
                        <a:lnTo>
                          <a:pt x="62" y="62"/>
                        </a:lnTo>
                        <a:lnTo>
                          <a:pt x="71" y="45"/>
                        </a:lnTo>
                        <a:lnTo>
                          <a:pt x="80" y="26"/>
                        </a:lnTo>
                        <a:lnTo>
                          <a:pt x="84" y="17"/>
                        </a:lnTo>
                        <a:lnTo>
                          <a:pt x="99" y="8"/>
                        </a:lnTo>
                        <a:lnTo>
                          <a:pt x="116" y="0"/>
                        </a:lnTo>
                        <a:lnTo>
                          <a:pt x="84" y="4"/>
                        </a:lnTo>
                        <a:close/>
                      </a:path>
                    </a:pathLst>
                  </a:custGeom>
                  <a:solidFill>
                    <a:srgbClr val="c0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879" name=""/>
                  <p:cNvSpPr/>
                  <p:nvPr/>
                </p:nvSpPr>
                <p:spPr>
                  <a:xfrm>
                    <a:off x="6545160" y="2274840"/>
                    <a:ext cx="49680" cy="25920"/>
                  </a:xfrm>
                  <a:custGeom>
                    <a:avLst/>
                    <a:gdLst/>
                    <a:ahLst/>
                    <a:rect l="0" t="0" r="r" b="b"/>
                    <a:pathLst>
                      <a:path w="138" h="72">
                        <a:moveTo>
                          <a:pt x="98" y="0"/>
                        </a:moveTo>
                        <a:lnTo>
                          <a:pt x="67" y="4"/>
                        </a:lnTo>
                        <a:lnTo>
                          <a:pt x="45" y="9"/>
                        </a:lnTo>
                        <a:lnTo>
                          <a:pt x="26" y="19"/>
                        </a:lnTo>
                        <a:lnTo>
                          <a:pt x="13" y="24"/>
                        </a:lnTo>
                        <a:lnTo>
                          <a:pt x="4" y="33"/>
                        </a:lnTo>
                        <a:lnTo>
                          <a:pt x="0" y="43"/>
                        </a:lnTo>
                        <a:lnTo>
                          <a:pt x="0" y="52"/>
                        </a:lnTo>
                        <a:lnTo>
                          <a:pt x="4" y="63"/>
                        </a:lnTo>
                        <a:lnTo>
                          <a:pt x="13" y="67"/>
                        </a:lnTo>
                        <a:lnTo>
                          <a:pt x="22" y="72"/>
                        </a:lnTo>
                        <a:lnTo>
                          <a:pt x="40" y="72"/>
                        </a:lnTo>
                        <a:lnTo>
                          <a:pt x="62" y="67"/>
                        </a:lnTo>
                        <a:lnTo>
                          <a:pt x="75" y="58"/>
                        </a:lnTo>
                        <a:lnTo>
                          <a:pt x="84" y="43"/>
                        </a:lnTo>
                        <a:lnTo>
                          <a:pt x="93" y="24"/>
                        </a:lnTo>
                        <a:lnTo>
                          <a:pt x="102" y="14"/>
                        </a:lnTo>
                        <a:lnTo>
                          <a:pt x="116" y="9"/>
                        </a:lnTo>
                        <a:lnTo>
                          <a:pt x="138" y="0"/>
                        </a:lnTo>
                        <a:lnTo>
                          <a:pt x="98" y="0"/>
                        </a:lnTo>
                        <a:close/>
                      </a:path>
                    </a:pathLst>
                  </a:custGeom>
                  <a:solidFill>
                    <a:srgbClr val="c0ff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80" name=""/>
                  <p:cNvSpPr/>
                  <p:nvPr/>
                </p:nvSpPr>
                <p:spPr>
                  <a:xfrm>
                    <a:off x="6910560" y="2265480"/>
                    <a:ext cx="49680" cy="27360"/>
                  </a:xfrm>
                  <a:custGeom>
                    <a:avLst/>
                    <a:gdLst/>
                    <a:ahLst/>
                    <a:rect l="0" t="0" r="r" b="b"/>
                    <a:pathLst>
                      <a:path w="138" h="76">
                        <a:moveTo>
                          <a:pt x="40" y="0"/>
                        </a:moveTo>
                        <a:lnTo>
                          <a:pt x="71" y="4"/>
                        </a:lnTo>
                        <a:lnTo>
                          <a:pt x="93" y="8"/>
                        </a:lnTo>
                        <a:lnTo>
                          <a:pt x="112" y="13"/>
                        </a:lnTo>
                        <a:lnTo>
                          <a:pt x="125" y="27"/>
                        </a:lnTo>
                        <a:lnTo>
                          <a:pt x="134" y="36"/>
                        </a:lnTo>
                        <a:lnTo>
                          <a:pt x="138" y="45"/>
                        </a:lnTo>
                        <a:lnTo>
                          <a:pt x="138" y="59"/>
                        </a:lnTo>
                        <a:lnTo>
                          <a:pt x="134" y="63"/>
                        </a:lnTo>
                        <a:lnTo>
                          <a:pt x="125" y="72"/>
                        </a:lnTo>
                        <a:lnTo>
                          <a:pt x="116" y="72"/>
                        </a:lnTo>
                        <a:lnTo>
                          <a:pt x="98" y="76"/>
                        </a:lnTo>
                        <a:lnTo>
                          <a:pt x="75" y="72"/>
                        </a:lnTo>
                        <a:lnTo>
                          <a:pt x="62" y="59"/>
                        </a:lnTo>
                        <a:lnTo>
                          <a:pt x="53" y="45"/>
                        </a:lnTo>
                        <a:lnTo>
                          <a:pt x="45" y="23"/>
                        </a:lnTo>
                        <a:lnTo>
                          <a:pt x="40" y="13"/>
                        </a:lnTo>
                        <a:lnTo>
                          <a:pt x="22" y="4"/>
                        </a:lnTo>
                        <a:lnTo>
                          <a:pt x="0" y="0"/>
                        </a:lnTo>
                        <a:lnTo>
                          <a:pt x="40" y="0"/>
                        </a:lnTo>
                        <a:close/>
                      </a:path>
                    </a:pathLst>
                  </a:custGeom>
                  <a:solidFill>
                    <a:srgbClr val="c0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881" name=""/>
                <p:cNvGrpSpPr/>
                <p:nvPr/>
              </p:nvGrpSpPr>
              <p:grpSpPr>
                <a:xfrm>
                  <a:off x="6635880" y="2238480"/>
                  <a:ext cx="252720" cy="295560"/>
                  <a:chOff x="6635880" y="2238480"/>
                  <a:chExt cx="252720" cy="295560"/>
                </a:xfrm>
              </p:grpSpPr>
              <p:sp>
                <p:nvSpPr>
                  <p:cNvPr id="882" name=""/>
                  <p:cNvSpPr/>
                  <p:nvPr/>
                </p:nvSpPr>
                <p:spPr>
                  <a:xfrm>
                    <a:off x="6645240" y="2259000"/>
                    <a:ext cx="243360" cy="275040"/>
                  </a:xfrm>
                  <a:custGeom>
                    <a:avLst/>
                    <a:gdLst/>
                    <a:ahLst/>
                    <a:rect l="0" t="0" r="r" b="b"/>
                    <a:pathLst>
                      <a:path w="676" h="764">
                        <a:moveTo>
                          <a:pt x="199" y="764"/>
                        </a:moveTo>
                        <a:lnTo>
                          <a:pt x="167" y="659"/>
                        </a:lnTo>
                        <a:lnTo>
                          <a:pt x="132" y="623"/>
                        </a:lnTo>
                        <a:lnTo>
                          <a:pt x="74" y="575"/>
                        </a:lnTo>
                        <a:lnTo>
                          <a:pt x="39" y="512"/>
                        </a:lnTo>
                        <a:lnTo>
                          <a:pt x="8" y="437"/>
                        </a:lnTo>
                        <a:lnTo>
                          <a:pt x="0" y="389"/>
                        </a:lnTo>
                        <a:lnTo>
                          <a:pt x="0" y="331"/>
                        </a:lnTo>
                        <a:lnTo>
                          <a:pt x="4" y="252"/>
                        </a:lnTo>
                        <a:lnTo>
                          <a:pt x="22" y="176"/>
                        </a:lnTo>
                        <a:lnTo>
                          <a:pt x="44" y="105"/>
                        </a:lnTo>
                        <a:lnTo>
                          <a:pt x="92" y="52"/>
                        </a:lnTo>
                        <a:lnTo>
                          <a:pt x="145" y="22"/>
                        </a:lnTo>
                        <a:lnTo>
                          <a:pt x="221" y="0"/>
                        </a:lnTo>
                        <a:lnTo>
                          <a:pt x="336" y="0"/>
                        </a:lnTo>
                        <a:lnTo>
                          <a:pt x="455" y="13"/>
                        </a:lnTo>
                        <a:lnTo>
                          <a:pt x="499" y="30"/>
                        </a:lnTo>
                        <a:lnTo>
                          <a:pt x="522" y="57"/>
                        </a:lnTo>
                        <a:lnTo>
                          <a:pt x="553" y="88"/>
                        </a:lnTo>
                        <a:lnTo>
                          <a:pt x="566" y="127"/>
                        </a:lnTo>
                        <a:lnTo>
                          <a:pt x="570" y="141"/>
                        </a:lnTo>
                        <a:lnTo>
                          <a:pt x="579" y="167"/>
                        </a:lnTo>
                        <a:lnTo>
                          <a:pt x="579" y="195"/>
                        </a:lnTo>
                        <a:lnTo>
                          <a:pt x="579" y="230"/>
                        </a:lnTo>
                        <a:lnTo>
                          <a:pt x="575" y="269"/>
                        </a:lnTo>
                        <a:lnTo>
                          <a:pt x="575" y="296"/>
                        </a:lnTo>
                        <a:lnTo>
                          <a:pt x="584" y="309"/>
                        </a:lnTo>
                        <a:lnTo>
                          <a:pt x="597" y="318"/>
                        </a:lnTo>
                        <a:lnTo>
                          <a:pt x="614" y="336"/>
                        </a:lnTo>
                        <a:lnTo>
                          <a:pt x="641" y="358"/>
                        </a:lnTo>
                        <a:lnTo>
                          <a:pt x="663" y="380"/>
                        </a:lnTo>
                        <a:lnTo>
                          <a:pt x="676" y="402"/>
                        </a:lnTo>
                        <a:lnTo>
                          <a:pt x="676" y="424"/>
                        </a:lnTo>
                        <a:lnTo>
                          <a:pt x="663" y="433"/>
                        </a:lnTo>
                        <a:lnTo>
                          <a:pt x="632" y="441"/>
                        </a:lnTo>
                        <a:lnTo>
                          <a:pt x="614" y="441"/>
                        </a:lnTo>
                        <a:lnTo>
                          <a:pt x="614" y="481"/>
                        </a:lnTo>
                        <a:lnTo>
                          <a:pt x="628" y="508"/>
                        </a:lnTo>
                        <a:lnTo>
                          <a:pt x="628" y="556"/>
                        </a:lnTo>
                        <a:lnTo>
                          <a:pt x="637" y="579"/>
                        </a:lnTo>
                        <a:lnTo>
                          <a:pt x="637" y="606"/>
                        </a:lnTo>
                        <a:lnTo>
                          <a:pt x="632" y="637"/>
                        </a:lnTo>
                        <a:lnTo>
                          <a:pt x="614" y="650"/>
                        </a:lnTo>
                        <a:lnTo>
                          <a:pt x="597" y="663"/>
                        </a:lnTo>
                        <a:lnTo>
                          <a:pt x="575" y="667"/>
                        </a:lnTo>
                        <a:lnTo>
                          <a:pt x="544" y="672"/>
                        </a:lnTo>
                        <a:lnTo>
                          <a:pt x="486" y="685"/>
                        </a:lnTo>
                        <a:lnTo>
                          <a:pt x="424" y="685"/>
                        </a:lnTo>
                        <a:lnTo>
                          <a:pt x="419" y="707"/>
                        </a:lnTo>
                        <a:lnTo>
                          <a:pt x="433" y="742"/>
                        </a:lnTo>
                        <a:lnTo>
                          <a:pt x="199" y="764"/>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3" name=""/>
                  <p:cNvSpPr/>
                  <p:nvPr/>
                </p:nvSpPr>
                <p:spPr>
                  <a:xfrm>
                    <a:off x="6635880" y="2238480"/>
                    <a:ext cx="227520" cy="248040"/>
                  </a:xfrm>
                  <a:custGeom>
                    <a:avLst/>
                    <a:gdLst/>
                    <a:ahLst/>
                    <a:rect l="0" t="0" r="r" b="b"/>
                    <a:pathLst>
                      <a:path w="632" h="689">
                        <a:moveTo>
                          <a:pt x="566" y="79"/>
                        </a:moveTo>
                        <a:lnTo>
                          <a:pt x="597" y="110"/>
                        </a:lnTo>
                        <a:lnTo>
                          <a:pt x="619" y="141"/>
                        </a:lnTo>
                        <a:lnTo>
                          <a:pt x="566" y="132"/>
                        </a:lnTo>
                        <a:lnTo>
                          <a:pt x="632" y="190"/>
                        </a:lnTo>
                        <a:lnTo>
                          <a:pt x="584" y="190"/>
                        </a:lnTo>
                        <a:lnTo>
                          <a:pt x="566" y="208"/>
                        </a:lnTo>
                        <a:lnTo>
                          <a:pt x="509" y="186"/>
                        </a:lnTo>
                        <a:lnTo>
                          <a:pt x="487" y="199"/>
                        </a:lnTo>
                        <a:lnTo>
                          <a:pt x="433" y="177"/>
                        </a:lnTo>
                        <a:lnTo>
                          <a:pt x="402" y="195"/>
                        </a:lnTo>
                        <a:lnTo>
                          <a:pt x="393" y="181"/>
                        </a:lnTo>
                        <a:lnTo>
                          <a:pt x="340" y="230"/>
                        </a:lnTo>
                        <a:lnTo>
                          <a:pt x="380" y="243"/>
                        </a:lnTo>
                        <a:lnTo>
                          <a:pt x="322" y="256"/>
                        </a:lnTo>
                        <a:lnTo>
                          <a:pt x="393" y="274"/>
                        </a:lnTo>
                        <a:lnTo>
                          <a:pt x="327" y="292"/>
                        </a:lnTo>
                        <a:lnTo>
                          <a:pt x="327" y="322"/>
                        </a:lnTo>
                        <a:lnTo>
                          <a:pt x="305" y="349"/>
                        </a:lnTo>
                        <a:lnTo>
                          <a:pt x="305" y="367"/>
                        </a:lnTo>
                        <a:lnTo>
                          <a:pt x="269" y="367"/>
                        </a:lnTo>
                        <a:lnTo>
                          <a:pt x="265" y="353"/>
                        </a:lnTo>
                        <a:lnTo>
                          <a:pt x="230" y="336"/>
                        </a:lnTo>
                        <a:lnTo>
                          <a:pt x="203" y="318"/>
                        </a:lnTo>
                        <a:lnTo>
                          <a:pt x="181" y="318"/>
                        </a:lnTo>
                        <a:lnTo>
                          <a:pt x="154" y="327"/>
                        </a:lnTo>
                        <a:lnTo>
                          <a:pt x="149" y="344"/>
                        </a:lnTo>
                        <a:lnTo>
                          <a:pt x="149" y="367"/>
                        </a:lnTo>
                        <a:lnTo>
                          <a:pt x="154" y="402"/>
                        </a:lnTo>
                        <a:lnTo>
                          <a:pt x="168" y="428"/>
                        </a:lnTo>
                        <a:lnTo>
                          <a:pt x="186" y="455"/>
                        </a:lnTo>
                        <a:lnTo>
                          <a:pt x="203" y="468"/>
                        </a:lnTo>
                        <a:lnTo>
                          <a:pt x="225" y="481"/>
                        </a:lnTo>
                        <a:lnTo>
                          <a:pt x="243" y="494"/>
                        </a:lnTo>
                        <a:lnTo>
                          <a:pt x="252" y="535"/>
                        </a:lnTo>
                        <a:lnTo>
                          <a:pt x="243" y="566"/>
                        </a:lnTo>
                        <a:lnTo>
                          <a:pt x="243" y="584"/>
                        </a:lnTo>
                        <a:lnTo>
                          <a:pt x="243" y="601"/>
                        </a:lnTo>
                        <a:lnTo>
                          <a:pt x="221" y="632"/>
                        </a:lnTo>
                        <a:lnTo>
                          <a:pt x="203" y="659"/>
                        </a:lnTo>
                        <a:lnTo>
                          <a:pt x="168" y="689"/>
                        </a:lnTo>
                        <a:lnTo>
                          <a:pt x="132" y="681"/>
                        </a:lnTo>
                        <a:lnTo>
                          <a:pt x="97" y="650"/>
                        </a:lnTo>
                        <a:lnTo>
                          <a:pt x="66" y="606"/>
                        </a:lnTo>
                        <a:lnTo>
                          <a:pt x="35" y="531"/>
                        </a:lnTo>
                        <a:lnTo>
                          <a:pt x="17" y="477"/>
                        </a:lnTo>
                        <a:lnTo>
                          <a:pt x="4" y="424"/>
                        </a:lnTo>
                        <a:lnTo>
                          <a:pt x="0" y="367"/>
                        </a:lnTo>
                        <a:lnTo>
                          <a:pt x="4" y="300"/>
                        </a:lnTo>
                        <a:lnTo>
                          <a:pt x="8" y="252"/>
                        </a:lnTo>
                        <a:lnTo>
                          <a:pt x="22" y="208"/>
                        </a:lnTo>
                        <a:lnTo>
                          <a:pt x="35" y="154"/>
                        </a:lnTo>
                        <a:lnTo>
                          <a:pt x="52" y="123"/>
                        </a:lnTo>
                        <a:lnTo>
                          <a:pt x="83" y="88"/>
                        </a:lnTo>
                        <a:lnTo>
                          <a:pt x="119" y="61"/>
                        </a:lnTo>
                        <a:lnTo>
                          <a:pt x="154" y="39"/>
                        </a:lnTo>
                        <a:lnTo>
                          <a:pt x="212" y="17"/>
                        </a:lnTo>
                        <a:lnTo>
                          <a:pt x="265" y="8"/>
                        </a:lnTo>
                        <a:lnTo>
                          <a:pt x="349" y="0"/>
                        </a:lnTo>
                        <a:lnTo>
                          <a:pt x="411" y="8"/>
                        </a:lnTo>
                        <a:lnTo>
                          <a:pt x="455" y="17"/>
                        </a:lnTo>
                        <a:lnTo>
                          <a:pt x="509" y="39"/>
                        </a:lnTo>
                        <a:lnTo>
                          <a:pt x="566" y="79"/>
                        </a:lnTo>
                        <a:close/>
                      </a:path>
                    </a:pathLst>
                  </a:custGeom>
                  <a:solidFill>
                    <a:srgbClr val="e07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6832440" y="2441520"/>
                    <a:ext cx="36720" cy="25920"/>
                  </a:xfrm>
                  <a:custGeom>
                    <a:avLst/>
                    <a:gdLst/>
                    <a:ahLst/>
                    <a:rect l="0" t="0" r="r" b="b"/>
                    <a:pathLst>
                      <a:path fill="none" w="102" h="72">
                        <a:moveTo>
                          <a:pt x="102" y="0"/>
                        </a:moveTo>
                        <a:lnTo>
                          <a:pt x="62" y="26"/>
                        </a:lnTo>
                        <a:lnTo>
                          <a:pt x="22" y="45"/>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85" name=""/>
                  <p:cNvSpPr/>
                  <p:nvPr/>
                </p:nvSpPr>
                <p:spPr>
                  <a:xfrm>
                    <a:off x="6718320" y="2341440"/>
                    <a:ext cx="89280" cy="25920"/>
                  </a:xfrm>
                  <a:custGeom>
                    <a:avLst/>
                    <a:gdLst/>
                    <a:ahLst/>
                    <a:rect l="0" t="0" r="r" b="b"/>
                    <a:pathLst>
                      <a:path w="248" h="72">
                        <a:moveTo>
                          <a:pt x="0" y="66"/>
                        </a:moveTo>
                        <a:lnTo>
                          <a:pt x="244" y="0"/>
                        </a:lnTo>
                        <a:lnTo>
                          <a:pt x="248" y="24"/>
                        </a:lnTo>
                        <a:lnTo>
                          <a:pt x="8" y="72"/>
                        </a:lnTo>
                        <a:lnTo>
                          <a:pt x="0" y="66"/>
                        </a:lnTo>
                        <a:close/>
                      </a:path>
                    </a:pathLst>
                  </a:custGeom>
                  <a:solidFill>
                    <a:srgbClr val="c0c0c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86" name=""/>
                  <p:cNvSpPr/>
                  <p:nvPr/>
                </p:nvSpPr>
                <p:spPr>
                  <a:xfrm>
                    <a:off x="6804000" y="2335320"/>
                    <a:ext cx="60840" cy="49680"/>
                  </a:xfrm>
                  <a:custGeom>
                    <a:avLst/>
                    <a:gdLst/>
                    <a:ahLst/>
                    <a:rect l="0" t="0" r="r" b="b"/>
                    <a:pathLst>
                      <a:path w="169" h="138">
                        <a:moveTo>
                          <a:pt x="165" y="0"/>
                        </a:moveTo>
                        <a:lnTo>
                          <a:pt x="0" y="22"/>
                        </a:lnTo>
                        <a:lnTo>
                          <a:pt x="0" y="53"/>
                        </a:lnTo>
                        <a:lnTo>
                          <a:pt x="8" y="89"/>
                        </a:lnTo>
                        <a:lnTo>
                          <a:pt x="13" y="112"/>
                        </a:lnTo>
                        <a:lnTo>
                          <a:pt x="26" y="125"/>
                        </a:lnTo>
                        <a:lnTo>
                          <a:pt x="45" y="134"/>
                        </a:lnTo>
                        <a:lnTo>
                          <a:pt x="71" y="138"/>
                        </a:lnTo>
                        <a:lnTo>
                          <a:pt x="102" y="138"/>
                        </a:lnTo>
                        <a:lnTo>
                          <a:pt x="129" y="134"/>
                        </a:lnTo>
                        <a:lnTo>
                          <a:pt x="147" y="121"/>
                        </a:lnTo>
                        <a:lnTo>
                          <a:pt x="160" y="102"/>
                        </a:lnTo>
                        <a:lnTo>
                          <a:pt x="165" y="89"/>
                        </a:lnTo>
                        <a:lnTo>
                          <a:pt x="169" y="71"/>
                        </a:lnTo>
                        <a:lnTo>
                          <a:pt x="169" y="40"/>
                        </a:lnTo>
                        <a:lnTo>
                          <a:pt x="165" y="0"/>
                        </a:lnTo>
                        <a:close/>
                      </a:path>
                    </a:pathLst>
                  </a:custGeom>
                  <a:solidFill>
                    <a:srgbClr val="80ffff"/>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sp>
                <p:nvSpPr>
                  <p:cNvPr id="887" name=""/>
                  <p:cNvSpPr/>
                  <p:nvPr/>
                </p:nvSpPr>
                <p:spPr>
                  <a:xfrm>
                    <a:off x="6829560" y="2354400"/>
                    <a:ext cx="25560" cy="25560"/>
                  </a:xfrm>
                  <a:prstGeom prst="ellipse">
                    <a:avLst/>
                  </a:prstGeom>
                  <a:solidFill>
                    <a:srgbClr val="00800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888" name=""/>
              <p:cNvGrpSpPr/>
              <p:nvPr/>
            </p:nvGrpSpPr>
            <p:grpSpPr>
              <a:xfrm>
                <a:off x="6473880" y="2506680"/>
                <a:ext cx="486000" cy="489240"/>
                <a:chOff x="6473880" y="2506680"/>
                <a:chExt cx="486000" cy="489240"/>
              </a:xfrm>
            </p:grpSpPr>
            <p:sp>
              <p:nvSpPr>
                <p:cNvPr id="889" name=""/>
                <p:cNvSpPr/>
                <p:nvPr/>
              </p:nvSpPr>
              <p:spPr>
                <a:xfrm>
                  <a:off x="6661080" y="2708280"/>
                  <a:ext cx="298800" cy="271800"/>
                </a:xfrm>
                <a:custGeom>
                  <a:avLst/>
                  <a:gdLst/>
                  <a:ahLst/>
                  <a:rect l="0" t="0" r="r" b="b"/>
                  <a:pathLst>
                    <a:path w="830" h="755">
                      <a:moveTo>
                        <a:pt x="825" y="17"/>
                      </a:moveTo>
                      <a:lnTo>
                        <a:pt x="790" y="0"/>
                      </a:lnTo>
                      <a:lnTo>
                        <a:pt x="759" y="92"/>
                      </a:lnTo>
                      <a:lnTo>
                        <a:pt x="693" y="194"/>
                      </a:lnTo>
                      <a:lnTo>
                        <a:pt x="627" y="268"/>
                      </a:lnTo>
                      <a:lnTo>
                        <a:pt x="565" y="343"/>
                      </a:lnTo>
                      <a:lnTo>
                        <a:pt x="468" y="428"/>
                      </a:lnTo>
                      <a:lnTo>
                        <a:pt x="374" y="486"/>
                      </a:lnTo>
                      <a:lnTo>
                        <a:pt x="260" y="538"/>
                      </a:lnTo>
                      <a:lnTo>
                        <a:pt x="141" y="583"/>
                      </a:lnTo>
                      <a:lnTo>
                        <a:pt x="52" y="596"/>
                      </a:lnTo>
                      <a:lnTo>
                        <a:pt x="35" y="662"/>
                      </a:lnTo>
                      <a:lnTo>
                        <a:pt x="0" y="755"/>
                      </a:lnTo>
                      <a:lnTo>
                        <a:pt x="74" y="755"/>
                      </a:lnTo>
                      <a:lnTo>
                        <a:pt x="171" y="719"/>
                      </a:lnTo>
                      <a:lnTo>
                        <a:pt x="238" y="697"/>
                      </a:lnTo>
                      <a:lnTo>
                        <a:pt x="286" y="680"/>
                      </a:lnTo>
                      <a:lnTo>
                        <a:pt x="374" y="644"/>
                      </a:lnTo>
                      <a:lnTo>
                        <a:pt x="459" y="587"/>
                      </a:lnTo>
                      <a:lnTo>
                        <a:pt x="521" y="538"/>
                      </a:lnTo>
                      <a:lnTo>
                        <a:pt x="618" y="437"/>
                      </a:lnTo>
                      <a:lnTo>
                        <a:pt x="693" y="326"/>
                      </a:lnTo>
                      <a:lnTo>
                        <a:pt x="777" y="202"/>
                      </a:lnTo>
                      <a:lnTo>
                        <a:pt x="830" y="70"/>
                      </a:lnTo>
                      <a:lnTo>
                        <a:pt x="825" y="17"/>
                      </a:lnTo>
                      <a:close/>
                    </a:path>
                  </a:pathLst>
                </a:custGeom>
                <a:solidFill>
                  <a:srgbClr val="606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6473880" y="2506680"/>
                  <a:ext cx="405000" cy="489240"/>
                </a:xfrm>
                <a:custGeom>
                  <a:avLst/>
                  <a:gdLst/>
                  <a:ahLst/>
                  <a:rect l="0" t="0" r="r" b="b"/>
                  <a:pathLst>
                    <a:path w="1125" h="1359">
                      <a:moveTo>
                        <a:pt x="979" y="8"/>
                      </a:moveTo>
                      <a:lnTo>
                        <a:pt x="1072" y="17"/>
                      </a:lnTo>
                      <a:lnTo>
                        <a:pt x="1125" y="39"/>
                      </a:lnTo>
                      <a:lnTo>
                        <a:pt x="1050" y="52"/>
                      </a:lnTo>
                      <a:lnTo>
                        <a:pt x="988" y="44"/>
                      </a:lnTo>
                      <a:lnTo>
                        <a:pt x="918" y="52"/>
                      </a:lnTo>
                      <a:lnTo>
                        <a:pt x="838" y="66"/>
                      </a:lnTo>
                      <a:lnTo>
                        <a:pt x="772" y="101"/>
                      </a:lnTo>
                      <a:lnTo>
                        <a:pt x="706" y="136"/>
                      </a:lnTo>
                      <a:lnTo>
                        <a:pt x="662" y="180"/>
                      </a:lnTo>
                      <a:lnTo>
                        <a:pt x="636" y="216"/>
                      </a:lnTo>
                      <a:lnTo>
                        <a:pt x="662" y="317"/>
                      </a:lnTo>
                      <a:lnTo>
                        <a:pt x="644" y="445"/>
                      </a:lnTo>
                      <a:lnTo>
                        <a:pt x="591" y="537"/>
                      </a:lnTo>
                      <a:lnTo>
                        <a:pt x="546" y="621"/>
                      </a:lnTo>
                      <a:lnTo>
                        <a:pt x="609" y="697"/>
                      </a:lnTo>
                      <a:lnTo>
                        <a:pt x="644" y="830"/>
                      </a:lnTo>
                      <a:lnTo>
                        <a:pt x="636" y="971"/>
                      </a:lnTo>
                      <a:lnTo>
                        <a:pt x="618" y="1129"/>
                      </a:lnTo>
                      <a:lnTo>
                        <a:pt x="583" y="1248"/>
                      </a:lnTo>
                      <a:lnTo>
                        <a:pt x="515" y="1323"/>
                      </a:lnTo>
                      <a:lnTo>
                        <a:pt x="454" y="1350"/>
                      </a:lnTo>
                      <a:lnTo>
                        <a:pt x="299" y="1359"/>
                      </a:lnTo>
                      <a:lnTo>
                        <a:pt x="163" y="1350"/>
                      </a:lnTo>
                      <a:lnTo>
                        <a:pt x="79" y="1310"/>
                      </a:lnTo>
                      <a:lnTo>
                        <a:pt x="39" y="1257"/>
                      </a:lnTo>
                      <a:lnTo>
                        <a:pt x="26" y="1200"/>
                      </a:lnTo>
                      <a:lnTo>
                        <a:pt x="0" y="1103"/>
                      </a:lnTo>
                      <a:lnTo>
                        <a:pt x="0" y="1010"/>
                      </a:lnTo>
                      <a:lnTo>
                        <a:pt x="22" y="913"/>
                      </a:lnTo>
                      <a:lnTo>
                        <a:pt x="101" y="812"/>
                      </a:lnTo>
                      <a:lnTo>
                        <a:pt x="22" y="680"/>
                      </a:lnTo>
                      <a:lnTo>
                        <a:pt x="0" y="586"/>
                      </a:lnTo>
                      <a:lnTo>
                        <a:pt x="13" y="493"/>
                      </a:lnTo>
                      <a:lnTo>
                        <a:pt x="48" y="423"/>
                      </a:lnTo>
                      <a:lnTo>
                        <a:pt x="83" y="374"/>
                      </a:lnTo>
                      <a:lnTo>
                        <a:pt x="79" y="295"/>
                      </a:lnTo>
                      <a:lnTo>
                        <a:pt x="79" y="224"/>
                      </a:lnTo>
                      <a:lnTo>
                        <a:pt x="101" y="167"/>
                      </a:lnTo>
                      <a:lnTo>
                        <a:pt x="132" y="110"/>
                      </a:lnTo>
                      <a:lnTo>
                        <a:pt x="198" y="66"/>
                      </a:lnTo>
                      <a:lnTo>
                        <a:pt x="282" y="44"/>
                      </a:lnTo>
                      <a:lnTo>
                        <a:pt x="374" y="48"/>
                      </a:lnTo>
                      <a:lnTo>
                        <a:pt x="463" y="61"/>
                      </a:lnTo>
                      <a:lnTo>
                        <a:pt x="555" y="74"/>
                      </a:lnTo>
                      <a:lnTo>
                        <a:pt x="622" y="79"/>
                      </a:lnTo>
                      <a:lnTo>
                        <a:pt x="693" y="44"/>
                      </a:lnTo>
                      <a:lnTo>
                        <a:pt x="772" y="13"/>
                      </a:lnTo>
                      <a:lnTo>
                        <a:pt x="865" y="0"/>
                      </a:lnTo>
                      <a:lnTo>
                        <a:pt x="979" y="8"/>
                      </a:lnTo>
                      <a:close/>
                    </a:path>
                  </a:pathLst>
                </a:custGeom>
                <a:solidFill>
                  <a:srgbClr val="606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6502320" y="2622600"/>
                  <a:ext cx="128880" cy="66960"/>
                </a:xfrm>
                <a:custGeom>
                  <a:avLst/>
                  <a:gdLst/>
                  <a:ahLst/>
                  <a:rect l="0" t="0" r="r" b="b"/>
                  <a:pathLst>
                    <a:path fill="none" w="358" h="186">
                      <a:moveTo>
                        <a:pt x="0" y="0"/>
                      </a:moveTo>
                      <a:lnTo>
                        <a:pt x="26" y="70"/>
                      </a:lnTo>
                      <a:lnTo>
                        <a:pt x="97" y="142"/>
                      </a:lnTo>
                      <a:lnTo>
                        <a:pt x="145" y="164"/>
                      </a:lnTo>
                      <a:lnTo>
                        <a:pt x="217" y="186"/>
                      </a:lnTo>
                      <a:lnTo>
                        <a:pt x="314" y="186"/>
                      </a:lnTo>
                      <a:lnTo>
                        <a:pt x="358" y="177"/>
                      </a:lnTo>
                    </a:path>
                  </a:pathLst>
                </a:custGeom>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sp>
              <p:nvSpPr>
                <p:cNvPr id="892" name=""/>
                <p:cNvSpPr/>
                <p:nvPr/>
              </p:nvSpPr>
              <p:spPr>
                <a:xfrm>
                  <a:off x="6535800" y="2571840"/>
                  <a:ext cx="86040" cy="165600"/>
                </a:xfrm>
                <a:custGeom>
                  <a:avLst/>
                  <a:gdLst/>
                  <a:ahLst/>
                  <a:rect l="0" t="0" r="r" b="b"/>
                  <a:pathLst>
                    <a:path w="239" h="460">
                      <a:moveTo>
                        <a:pt x="137" y="8"/>
                      </a:moveTo>
                      <a:lnTo>
                        <a:pt x="70" y="39"/>
                      </a:lnTo>
                      <a:lnTo>
                        <a:pt x="39" y="83"/>
                      </a:lnTo>
                      <a:lnTo>
                        <a:pt x="4" y="168"/>
                      </a:lnTo>
                      <a:lnTo>
                        <a:pt x="4" y="283"/>
                      </a:lnTo>
                      <a:lnTo>
                        <a:pt x="0" y="429"/>
                      </a:lnTo>
                      <a:lnTo>
                        <a:pt x="70" y="460"/>
                      </a:lnTo>
                      <a:lnTo>
                        <a:pt x="70" y="309"/>
                      </a:lnTo>
                      <a:lnTo>
                        <a:pt x="83" y="172"/>
                      </a:lnTo>
                      <a:lnTo>
                        <a:pt x="128" y="92"/>
                      </a:lnTo>
                      <a:lnTo>
                        <a:pt x="239" y="30"/>
                      </a:lnTo>
                      <a:lnTo>
                        <a:pt x="203" y="0"/>
                      </a:lnTo>
                      <a:lnTo>
                        <a:pt x="137" y="8"/>
                      </a:lnTo>
                      <a:close/>
                    </a:path>
                  </a:pathLst>
                </a:custGeom>
                <a:solidFill>
                  <a:srgbClr val="404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93" name=""/>
                <p:cNvSpPr/>
                <p:nvPr/>
              </p:nvSpPr>
              <p:spPr>
                <a:xfrm>
                  <a:off x="6504120" y="2792520"/>
                  <a:ext cx="130680" cy="66960"/>
                </a:xfrm>
                <a:custGeom>
                  <a:avLst/>
                  <a:gdLst/>
                  <a:ahLst/>
                  <a:rect l="0" t="0" r="r" b="b"/>
                  <a:pathLst>
                    <a:path fill="none" w="363" h="186">
                      <a:moveTo>
                        <a:pt x="0" y="0"/>
                      </a:moveTo>
                      <a:lnTo>
                        <a:pt x="26" y="66"/>
                      </a:lnTo>
                      <a:lnTo>
                        <a:pt x="102" y="137"/>
                      </a:lnTo>
                      <a:lnTo>
                        <a:pt x="146" y="164"/>
                      </a:lnTo>
                      <a:lnTo>
                        <a:pt x="217" y="186"/>
                      </a:lnTo>
                      <a:lnTo>
                        <a:pt x="315" y="186"/>
                      </a:lnTo>
                      <a:lnTo>
                        <a:pt x="363" y="177"/>
                      </a:lnTo>
                    </a:path>
                  </a:pathLst>
                </a:custGeom>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grpSp>
        </p:grpSp>
        <p:grpSp>
          <p:nvGrpSpPr>
            <p:cNvPr id="894" name=""/>
            <p:cNvGrpSpPr/>
            <p:nvPr/>
          </p:nvGrpSpPr>
          <p:grpSpPr>
            <a:xfrm>
              <a:off x="6962760" y="2811600"/>
              <a:ext cx="2145240" cy="1117800"/>
              <a:chOff x="6962760" y="2811600"/>
              <a:chExt cx="2145240" cy="1117800"/>
            </a:xfrm>
          </p:grpSpPr>
          <p:sp>
            <p:nvSpPr>
              <p:cNvPr id="895" name=""/>
              <p:cNvSpPr/>
              <p:nvPr/>
            </p:nvSpPr>
            <p:spPr>
              <a:xfrm>
                <a:off x="6962760" y="2811600"/>
                <a:ext cx="2145240" cy="1117800"/>
              </a:xfrm>
              <a:custGeom>
                <a:avLst/>
                <a:gdLst/>
                <a:ahLst/>
                <a:rect l="0" t="0" r="r" b="b"/>
                <a:pathLst>
                  <a:path w="5959" h="3105">
                    <a:moveTo>
                      <a:pt x="0" y="3105"/>
                    </a:moveTo>
                    <a:lnTo>
                      <a:pt x="273" y="2708"/>
                    </a:lnTo>
                    <a:lnTo>
                      <a:pt x="617" y="2399"/>
                    </a:lnTo>
                    <a:lnTo>
                      <a:pt x="996" y="2289"/>
                    </a:lnTo>
                    <a:lnTo>
                      <a:pt x="1106" y="1883"/>
                    </a:lnTo>
                    <a:lnTo>
                      <a:pt x="1433" y="1553"/>
                    </a:lnTo>
                    <a:lnTo>
                      <a:pt x="1870" y="1553"/>
                    </a:lnTo>
                    <a:lnTo>
                      <a:pt x="2082" y="1406"/>
                    </a:lnTo>
                    <a:lnTo>
                      <a:pt x="2227" y="1040"/>
                    </a:lnTo>
                    <a:lnTo>
                      <a:pt x="2558" y="643"/>
                    </a:lnTo>
                    <a:lnTo>
                      <a:pt x="2735" y="92"/>
                    </a:lnTo>
                    <a:lnTo>
                      <a:pt x="3065" y="163"/>
                    </a:lnTo>
                    <a:lnTo>
                      <a:pt x="3444" y="0"/>
                    </a:lnTo>
                    <a:lnTo>
                      <a:pt x="3555" y="202"/>
                    </a:lnTo>
                    <a:lnTo>
                      <a:pt x="3762" y="352"/>
                    </a:lnTo>
                    <a:lnTo>
                      <a:pt x="3938" y="754"/>
                    </a:lnTo>
                    <a:lnTo>
                      <a:pt x="4296" y="983"/>
                    </a:lnTo>
                    <a:lnTo>
                      <a:pt x="4477" y="1384"/>
                    </a:lnTo>
                    <a:lnTo>
                      <a:pt x="4870" y="1606"/>
                    </a:lnTo>
                    <a:lnTo>
                      <a:pt x="4962" y="2100"/>
                    </a:lnTo>
                    <a:lnTo>
                      <a:pt x="5694" y="2633"/>
                    </a:lnTo>
                    <a:lnTo>
                      <a:pt x="5959" y="3105"/>
                    </a:lnTo>
                    <a:lnTo>
                      <a:pt x="0" y="3105"/>
                    </a:lnTo>
                    <a:close/>
                  </a:path>
                </a:pathLst>
              </a:custGeom>
              <a:solidFill>
                <a:srgbClr val="a0a0a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96" name=""/>
              <p:cNvGrpSpPr/>
              <p:nvPr/>
            </p:nvGrpSpPr>
            <p:grpSpPr>
              <a:xfrm>
                <a:off x="8251920" y="2936880"/>
                <a:ext cx="497160" cy="775080"/>
                <a:chOff x="8251920" y="2936880"/>
                <a:chExt cx="497160" cy="775080"/>
              </a:xfrm>
            </p:grpSpPr>
            <p:sp>
              <p:nvSpPr>
                <p:cNvPr id="897" name=""/>
                <p:cNvSpPr/>
                <p:nvPr/>
              </p:nvSpPr>
              <p:spPr>
                <a:xfrm>
                  <a:off x="8251920" y="2936880"/>
                  <a:ext cx="144720" cy="259200"/>
                </a:xfrm>
                <a:custGeom>
                  <a:avLst/>
                  <a:gdLst/>
                  <a:ahLst/>
                  <a:rect l="0" t="0" r="r" b="b"/>
                  <a:pathLst>
                    <a:path w="402" h="720">
                      <a:moveTo>
                        <a:pt x="180" y="0"/>
                      </a:moveTo>
                      <a:lnTo>
                        <a:pt x="132" y="269"/>
                      </a:lnTo>
                      <a:lnTo>
                        <a:pt x="180" y="406"/>
                      </a:lnTo>
                      <a:lnTo>
                        <a:pt x="48" y="538"/>
                      </a:lnTo>
                      <a:lnTo>
                        <a:pt x="0" y="720"/>
                      </a:lnTo>
                      <a:lnTo>
                        <a:pt x="221" y="672"/>
                      </a:lnTo>
                      <a:lnTo>
                        <a:pt x="221" y="588"/>
                      </a:lnTo>
                      <a:lnTo>
                        <a:pt x="402" y="672"/>
                      </a:lnTo>
                      <a:lnTo>
                        <a:pt x="358" y="406"/>
                      </a:lnTo>
                      <a:lnTo>
                        <a:pt x="180"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8348760" y="3160800"/>
                  <a:ext cx="225720" cy="294120"/>
                </a:xfrm>
                <a:custGeom>
                  <a:avLst/>
                  <a:gdLst/>
                  <a:ahLst/>
                  <a:rect l="0" t="0" r="r" b="b"/>
                  <a:pathLst>
                    <a:path w="627" h="817">
                      <a:moveTo>
                        <a:pt x="446" y="0"/>
                      </a:moveTo>
                      <a:lnTo>
                        <a:pt x="627" y="411"/>
                      </a:lnTo>
                      <a:lnTo>
                        <a:pt x="446" y="455"/>
                      </a:lnTo>
                      <a:lnTo>
                        <a:pt x="268" y="676"/>
                      </a:lnTo>
                      <a:lnTo>
                        <a:pt x="132" y="547"/>
                      </a:lnTo>
                      <a:lnTo>
                        <a:pt x="0" y="817"/>
                      </a:lnTo>
                      <a:lnTo>
                        <a:pt x="0" y="411"/>
                      </a:lnTo>
                      <a:lnTo>
                        <a:pt x="268" y="367"/>
                      </a:lnTo>
                      <a:lnTo>
                        <a:pt x="308" y="97"/>
                      </a:lnTo>
                      <a:lnTo>
                        <a:pt x="446"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a:off x="8524800" y="3389400"/>
                  <a:ext cx="224280" cy="322560"/>
                </a:xfrm>
                <a:custGeom>
                  <a:avLst/>
                  <a:gdLst/>
                  <a:ahLst/>
                  <a:rect l="0" t="0" r="r" b="b"/>
                  <a:pathLst>
                    <a:path w="623" h="896">
                      <a:moveTo>
                        <a:pt x="531" y="0"/>
                      </a:moveTo>
                      <a:lnTo>
                        <a:pt x="265" y="88"/>
                      </a:lnTo>
                      <a:lnTo>
                        <a:pt x="265" y="405"/>
                      </a:lnTo>
                      <a:lnTo>
                        <a:pt x="88" y="357"/>
                      </a:lnTo>
                      <a:lnTo>
                        <a:pt x="0" y="627"/>
                      </a:lnTo>
                      <a:lnTo>
                        <a:pt x="225" y="675"/>
                      </a:lnTo>
                      <a:lnTo>
                        <a:pt x="353" y="896"/>
                      </a:lnTo>
                      <a:lnTo>
                        <a:pt x="491" y="627"/>
                      </a:lnTo>
                      <a:lnTo>
                        <a:pt x="623" y="724"/>
                      </a:lnTo>
                      <a:lnTo>
                        <a:pt x="623" y="494"/>
                      </a:lnTo>
                      <a:lnTo>
                        <a:pt x="531"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685800" y="533520"/>
            <a:ext cx="7467480" cy="1176120"/>
          </a:xfrm>
          <a:prstGeom prst="rect">
            <a:avLst/>
          </a:prstGeom>
          <a:noFill/>
          <a:ln w="0">
            <a:noFill/>
          </a:ln>
        </p:spPr>
        <p:txBody>
          <a:bodyPr lIns="0" rIns="0" tIns="0" bIns="0" anchor="t">
            <a:noAutofit/>
          </a:bodyPr>
          <a:p>
            <a:pPr>
              <a:lnSpc>
                <a:spcPct val="85000"/>
              </a:lnSpc>
            </a:pPr>
            <a:r>
              <a:rPr b="1" lang="en-US" sz="4000" spc="-1" strike="noStrike">
                <a:solidFill>
                  <a:srgbClr val="ffffff"/>
                </a:solidFill>
                <a:latin typeface="Univers"/>
                <a:ea typeface="Univers"/>
              </a:rPr>
              <a:t>Other Features</a:t>
            </a:r>
            <a:br>
              <a:rPr sz="4000"/>
            </a:br>
            <a:r>
              <a:rPr b="1" lang="en-US" sz="4000" spc="-1" strike="noStrike">
                <a:solidFill>
                  <a:srgbClr val="ffffff"/>
                </a:solidFill>
                <a:latin typeface="Univers"/>
                <a:ea typeface="Univers"/>
              </a:rPr>
              <a:t>added in Rdb7</a:t>
            </a:r>
            <a:endParaRPr b="0" lang="en-US" sz="4000" spc="-1" strike="noStrike">
              <a:solidFill>
                <a:srgbClr val="000000"/>
              </a:solidFill>
              <a:latin typeface="Arial"/>
            </a:endParaRPr>
          </a:p>
        </p:txBody>
      </p:sp>
      <p:sp>
        <p:nvSpPr>
          <p:cNvPr id="901" name=""/>
          <p:cNvSpPr txBox="1"/>
          <p:nvPr/>
        </p:nvSpPr>
        <p:spPr>
          <a:xfrm>
            <a:off x="4610160" y="1752480"/>
            <a:ext cx="3848040" cy="5395680"/>
          </a:xfrm>
          <a:prstGeom prst="rect">
            <a:avLst/>
          </a:prstGeom>
          <a:noFill/>
          <a:ln w="0">
            <a:noFill/>
          </a:ln>
        </p:spPr>
        <p:txBody>
          <a:bodyPr lIns="0" rIns="0" tIns="0" bIns="0" anchor="t">
            <a:noAutofit/>
          </a:bodyPr>
          <a:p>
            <a:pPr marL="343080" indent="-343080">
              <a:lnSpc>
                <a:spcPct val="100000"/>
              </a:lnSpc>
              <a:spcBef>
                <a:spcPts val="479"/>
              </a:spcBef>
            </a:pPr>
            <a:r>
              <a:rPr b="0" lang="en-US" sz="1400" spc="-1" strike="noStrike">
                <a:solidFill>
                  <a:srgbClr val="ffffff"/>
                </a:solidFill>
                <a:latin typeface="Univers"/>
                <a:ea typeface="Univers"/>
              </a:rPr>
              <a:t>Windows-based management tools</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External procedure calls</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Support for 45 Oracle7 SQL functions</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Temporary Tables</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Drop table cascade</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Truncate table</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Default storage area</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Prevent statistics and cardinality updates</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Control transaction types</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RUJ location</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SET FLAGS statement</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Hold cursors</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SQL support for ROWID</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Enhanced Optimizer statistics</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Dynamic SQL performance improvements</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System table changes</a:t>
            </a:r>
            <a:endParaRPr b="0" lang="en-US" sz="1400" spc="-1" strike="noStrike">
              <a:solidFill>
                <a:srgbClr val="000000"/>
              </a:solidFill>
              <a:latin typeface="Arial"/>
            </a:endParaRPr>
          </a:p>
          <a:p>
            <a:pPr marL="343080" indent="-343080">
              <a:lnSpc>
                <a:spcPct val="100000"/>
              </a:lnSpc>
              <a:spcBef>
                <a:spcPts val="479"/>
              </a:spcBef>
            </a:pPr>
            <a:endParaRPr b="0" lang="en-US" sz="1400" spc="-1" strike="noStrike">
              <a:solidFill>
                <a:srgbClr val="000000"/>
              </a:solidFill>
              <a:latin typeface="Arial"/>
            </a:endParaRPr>
          </a:p>
          <a:p>
            <a:pPr marL="343080" indent="-343080">
              <a:lnSpc>
                <a:spcPct val="100000"/>
              </a:lnSpc>
              <a:spcBef>
                <a:spcPts val="479"/>
              </a:spcBef>
            </a:pPr>
            <a:endParaRPr b="0" lang="en-US" sz="1400" spc="-1" strike="noStrike">
              <a:solidFill>
                <a:srgbClr val="000000"/>
              </a:solidFill>
              <a:latin typeface="Arial"/>
            </a:endParaRPr>
          </a:p>
        </p:txBody>
      </p:sp>
      <p:sp>
        <p:nvSpPr>
          <p:cNvPr id="902" name=""/>
          <p:cNvSpPr txBox="1"/>
          <p:nvPr/>
        </p:nvSpPr>
        <p:spPr>
          <a:xfrm>
            <a:off x="609480" y="1752480"/>
            <a:ext cx="3848040" cy="4728600"/>
          </a:xfrm>
          <a:prstGeom prst="rect">
            <a:avLst/>
          </a:prstGeom>
          <a:noFill/>
          <a:ln w="0">
            <a:noFill/>
          </a:ln>
        </p:spPr>
        <p:txBody>
          <a:bodyPr lIns="0" rIns="0" tIns="0" bIns="0" anchor="t">
            <a:noAutofit/>
          </a:bodyPr>
          <a:p>
            <a:pPr marL="343080" indent="-343080">
              <a:lnSpc>
                <a:spcPct val="100000"/>
              </a:lnSpc>
              <a:spcBef>
                <a:spcPts val="479"/>
              </a:spcBef>
            </a:pPr>
            <a:r>
              <a:rPr b="0" lang="en-US" sz="1400" spc="-1" strike="noStrike">
                <a:solidFill>
                  <a:srgbClr val="ffffff"/>
                </a:solidFill>
                <a:latin typeface="Univers"/>
                <a:ea typeface="Univers"/>
              </a:rPr>
              <a:t>Parallel back-up &amp; load</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Patented duplicate key compression</a:t>
            </a:r>
            <a:r>
              <a:rPr b="1" lang="en-US" sz="1400" spc="-1" strike="noStrike">
                <a:solidFill>
                  <a:srgbClr val="ffffff"/>
                </a:solidFill>
                <a:latin typeface="Univers"/>
                <a:ea typeface="Univers"/>
              </a:rPr>
              <a:t> </a:t>
            </a:r>
            <a:r>
              <a:rPr b="0" lang="en-US" sz="1400" spc="-1" strike="noStrike">
                <a:solidFill>
                  <a:srgbClr val="ffffff"/>
                </a:solidFill>
                <a:latin typeface="Univers"/>
                <a:ea typeface="Univers"/>
              </a:rPr>
              <a:t>algorithm</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Byte-aligned bitmap compression</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Pseudo-ranked Btrees</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Asynch Prefetch of Btree Indices</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ALS recoverable asynchronous I/O</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Fast AIJ creation and extension</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File information cache for VLDBs</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Fast area creation and extension</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Null support for load/unload</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X/OPEN two phase commit</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Strict horizontal partitioning</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Nested stored procedures</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SQL stored functions</a:t>
            </a:r>
            <a:endParaRPr b="0" lang="en-US" sz="1400" spc="-1" strike="noStrike">
              <a:solidFill>
                <a:srgbClr val="000000"/>
              </a:solidFill>
              <a:latin typeface="Arial"/>
            </a:endParaRPr>
          </a:p>
          <a:p>
            <a:pPr marL="343080" indent="-343080">
              <a:lnSpc>
                <a:spcPct val="100000"/>
              </a:lnSpc>
              <a:spcBef>
                <a:spcPts val="479"/>
              </a:spcBef>
            </a:pPr>
            <a:r>
              <a:rPr b="0" lang="en-US" sz="1400" spc="-1" strike="noStrike">
                <a:solidFill>
                  <a:srgbClr val="ffffff"/>
                </a:solidFill>
                <a:latin typeface="Univers"/>
                <a:ea typeface="Univers"/>
              </a:rPr>
              <a:t>Enhanced external function callouts/callback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3" name=""/>
          <p:cNvGrpSpPr/>
          <p:nvPr/>
        </p:nvGrpSpPr>
        <p:grpSpPr>
          <a:xfrm>
            <a:off x="3203640" y="1595520"/>
            <a:ext cx="2715120" cy="3646800"/>
            <a:chOff x="3203640" y="1595520"/>
            <a:chExt cx="2715120" cy="3646800"/>
          </a:xfrm>
        </p:grpSpPr>
        <p:grpSp>
          <p:nvGrpSpPr>
            <p:cNvPr id="904" name=""/>
            <p:cNvGrpSpPr/>
            <p:nvPr/>
          </p:nvGrpSpPr>
          <p:grpSpPr>
            <a:xfrm>
              <a:off x="3203640" y="1595520"/>
              <a:ext cx="2713320" cy="3646800"/>
              <a:chOff x="3203640" y="1595520"/>
              <a:chExt cx="2713320" cy="3646800"/>
            </a:xfrm>
          </p:grpSpPr>
          <p:grpSp>
            <p:nvGrpSpPr>
              <p:cNvPr id="905" name=""/>
              <p:cNvGrpSpPr/>
              <p:nvPr/>
            </p:nvGrpSpPr>
            <p:grpSpPr>
              <a:xfrm>
                <a:off x="3203640" y="1758960"/>
                <a:ext cx="2713320" cy="3483360"/>
                <a:chOff x="3203640" y="1758960"/>
                <a:chExt cx="2713320" cy="3483360"/>
              </a:xfrm>
            </p:grpSpPr>
            <p:sp>
              <p:nvSpPr>
                <p:cNvPr id="906" name=""/>
                <p:cNvSpPr/>
                <p:nvPr/>
              </p:nvSpPr>
              <p:spPr>
                <a:xfrm>
                  <a:off x="3203640" y="1758960"/>
                  <a:ext cx="2669040" cy="3483360"/>
                </a:xfrm>
                <a:custGeom>
                  <a:avLst/>
                  <a:gdLst/>
                  <a:ahLst/>
                  <a:rect l="0" t="0" r="r" b="b"/>
                  <a:pathLst>
                    <a:path w="7414" h="9676">
                      <a:moveTo>
                        <a:pt x="0" y="0"/>
                      </a:moveTo>
                      <a:lnTo>
                        <a:pt x="0" y="1234"/>
                      </a:lnTo>
                      <a:lnTo>
                        <a:pt x="370" y="1508"/>
                      </a:lnTo>
                      <a:lnTo>
                        <a:pt x="723" y="1772"/>
                      </a:lnTo>
                      <a:lnTo>
                        <a:pt x="1106" y="2059"/>
                      </a:lnTo>
                      <a:lnTo>
                        <a:pt x="1538" y="2394"/>
                      </a:lnTo>
                      <a:lnTo>
                        <a:pt x="1958" y="2708"/>
                      </a:lnTo>
                      <a:lnTo>
                        <a:pt x="2329" y="2995"/>
                      </a:lnTo>
                      <a:lnTo>
                        <a:pt x="2673" y="3242"/>
                      </a:lnTo>
                      <a:lnTo>
                        <a:pt x="2995" y="3471"/>
                      </a:lnTo>
                      <a:lnTo>
                        <a:pt x="3387" y="3727"/>
                      </a:lnTo>
                      <a:lnTo>
                        <a:pt x="3722" y="3934"/>
                      </a:lnTo>
                      <a:lnTo>
                        <a:pt x="4093" y="4150"/>
                      </a:lnTo>
                      <a:lnTo>
                        <a:pt x="4507" y="4375"/>
                      </a:lnTo>
                      <a:lnTo>
                        <a:pt x="4886" y="4556"/>
                      </a:lnTo>
                      <a:lnTo>
                        <a:pt x="5288" y="4719"/>
                      </a:lnTo>
                      <a:lnTo>
                        <a:pt x="4926" y="4860"/>
                      </a:lnTo>
                      <a:lnTo>
                        <a:pt x="4498" y="5010"/>
                      </a:lnTo>
                      <a:lnTo>
                        <a:pt x="4040" y="5195"/>
                      </a:lnTo>
                      <a:lnTo>
                        <a:pt x="3577" y="5394"/>
                      </a:lnTo>
                      <a:lnTo>
                        <a:pt x="3127" y="5610"/>
                      </a:lnTo>
                      <a:lnTo>
                        <a:pt x="2686" y="5857"/>
                      </a:lnTo>
                      <a:lnTo>
                        <a:pt x="2210" y="6152"/>
                      </a:lnTo>
                      <a:lnTo>
                        <a:pt x="1644" y="6584"/>
                      </a:lnTo>
                      <a:lnTo>
                        <a:pt x="1225" y="6919"/>
                      </a:lnTo>
                      <a:lnTo>
                        <a:pt x="833" y="7286"/>
                      </a:lnTo>
                      <a:lnTo>
                        <a:pt x="498" y="7670"/>
                      </a:lnTo>
                      <a:lnTo>
                        <a:pt x="0" y="8318"/>
                      </a:lnTo>
                      <a:lnTo>
                        <a:pt x="0" y="9676"/>
                      </a:lnTo>
                      <a:lnTo>
                        <a:pt x="388" y="9200"/>
                      </a:lnTo>
                      <a:lnTo>
                        <a:pt x="868" y="8711"/>
                      </a:lnTo>
                      <a:lnTo>
                        <a:pt x="1300" y="8287"/>
                      </a:lnTo>
                      <a:lnTo>
                        <a:pt x="1733" y="7886"/>
                      </a:lnTo>
                      <a:lnTo>
                        <a:pt x="2263" y="7454"/>
                      </a:lnTo>
                      <a:lnTo>
                        <a:pt x="2774" y="7074"/>
                      </a:lnTo>
                      <a:lnTo>
                        <a:pt x="3153" y="6814"/>
                      </a:lnTo>
                      <a:lnTo>
                        <a:pt x="3647" y="6536"/>
                      </a:lnTo>
                      <a:lnTo>
                        <a:pt x="4084" y="6293"/>
                      </a:lnTo>
                      <a:lnTo>
                        <a:pt x="4450" y="6117"/>
                      </a:lnTo>
                      <a:lnTo>
                        <a:pt x="4917" y="5914"/>
                      </a:lnTo>
                      <a:lnTo>
                        <a:pt x="5283" y="5768"/>
                      </a:lnTo>
                      <a:lnTo>
                        <a:pt x="5539" y="5671"/>
                      </a:lnTo>
                      <a:lnTo>
                        <a:pt x="5871" y="5566"/>
                      </a:lnTo>
                      <a:lnTo>
                        <a:pt x="6153" y="5491"/>
                      </a:lnTo>
                      <a:lnTo>
                        <a:pt x="6153" y="6170"/>
                      </a:lnTo>
                      <a:lnTo>
                        <a:pt x="7414" y="4904"/>
                      </a:lnTo>
                      <a:lnTo>
                        <a:pt x="6153" y="3537"/>
                      </a:lnTo>
                      <a:lnTo>
                        <a:pt x="6153" y="4216"/>
                      </a:lnTo>
                      <a:lnTo>
                        <a:pt x="5937" y="4163"/>
                      </a:lnTo>
                      <a:lnTo>
                        <a:pt x="5677" y="4066"/>
                      </a:lnTo>
                      <a:lnTo>
                        <a:pt x="5402" y="3925"/>
                      </a:lnTo>
                      <a:lnTo>
                        <a:pt x="5072" y="3740"/>
                      </a:lnTo>
                      <a:lnTo>
                        <a:pt x="4732" y="3533"/>
                      </a:lnTo>
                      <a:lnTo>
                        <a:pt x="4441" y="3347"/>
                      </a:lnTo>
                      <a:lnTo>
                        <a:pt x="4146" y="3158"/>
                      </a:lnTo>
                      <a:lnTo>
                        <a:pt x="3824" y="2942"/>
                      </a:lnTo>
                      <a:lnTo>
                        <a:pt x="3550" y="2757"/>
                      </a:lnTo>
                      <a:lnTo>
                        <a:pt x="3228" y="2545"/>
                      </a:lnTo>
                      <a:lnTo>
                        <a:pt x="2664" y="2134"/>
                      </a:lnTo>
                      <a:lnTo>
                        <a:pt x="2241" y="1821"/>
                      </a:lnTo>
                      <a:lnTo>
                        <a:pt x="1906" y="1561"/>
                      </a:lnTo>
                      <a:lnTo>
                        <a:pt x="1613" y="1331"/>
                      </a:lnTo>
                      <a:lnTo>
                        <a:pt x="1190" y="987"/>
                      </a:lnTo>
                      <a:lnTo>
                        <a:pt x="798" y="670"/>
                      </a:lnTo>
                      <a:lnTo>
                        <a:pt x="410" y="343"/>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7" name=""/>
                <p:cNvSpPr/>
                <p:nvPr/>
              </p:nvSpPr>
              <p:spPr>
                <a:xfrm>
                  <a:off x="5421240" y="3573360"/>
                  <a:ext cx="44640" cy="413280"/>
                </a:xfrm>
                <a:custGeom>
                  <a:avLst/>
                  <a:gdLst/>
                  <a:ahLst/>
                  <a:rect l="0" t="0" r="r" b="b"/>
                  <a:pathLst>
                    <a:path w="124" h="1148">
                      <a:moveTo>
                        <a:pt x="124" y="0"/>
                      </a:moveTo>
                      <a:lnTo>
                        <a:pt x="0" y="450"/>
                      </a:lnTo>
                      <a:lnTo>
                        <a:pt x="0" y="1148"/>
                      </a:lnTo>
                      <a:lnTo>
                        <a:pt x="124" y="671"/>
                      </a:lnTo>
                      <a:lnTo>
                        <a:pt x="12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8" name=""/>
                <p:cNvSpPr/>
                <p:nvPr/>
              </p:nvSpPr>
              <p:spPr>
                <a:xfrm>
                  <a:off x="5421240" y="3363840"/>
                  <a:ext cx="495720" cy="619560"/>
                </a:xfrm>
                <a:custGeom>
                  <a:avLst/>
                  <a:gdLst/>
                  <a:ahLst/>
                  <a:rect l="0" t="0" r="r" b="b"/>
                  <a:pathLst>
                    <a:path w="1377" h="1721">
                      <a:moveTo>
                        <a:pt x="1377" y="0"/>
                      </a:moveTo>
                      <a:lnTo>
                        <a:pt x="1254" y="450"/>
                      </a:lnTo>
                      <a:lnTo>
                        <a:pt x="0" y="1721"/>
                      </a:lnTo>
                      <a:lnTo>
                        <a:pt x="123" y="1257"/>
                      </a:lnTo>
                      <a:lnTo>
                        <a:pt x="1377"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9" name=""/>
                <p:cNvSpPr/>
                <p:nvPr/>
              </p:nvSpPr>
              <p:spPr>
                <a:xfrm>
                  <a:off x="5421240" y="2871720"/>
                  <a:ext cx="44640" cy="305280"/>
                </a:xfrm>
                <a:custGeom>
                  <a:avLst/>
                  <a:gdLst/>
                  <a:ahLst/>
                  <a:rect l="0" t="0" r="r" b="b"/>
                  <a:pathLst>
                    <a:path w="124" h="848">
                      <a:moveTo>
                        <a:pt x="124" y="0"/>
                      </a:moveTo>
                      <a:lnTo>
                        <a:pt x="124" y="707"/>
                      </a:lnTo>
                      <a:lnTo>
                        <a:pt x="0" y="848"/>
                      </a:lnTo>
                      <a:lnTo>
                        <a:pt x="0" y="433"/>
                      </a:lnTo>
                      <a:lnTo>
                        <a:pt x="12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910" name=""/>
              <p:cNvSpPr/>
              <p:nvPr/>
            </p:nvSpPr>
            <p:spPr>
              <a:xfrm>
                <a:off x="3203640" y="4594320"/>
                <a:ext cx="44640" cy="643320"/>
              </a:xfrm>
              <a:custGeom>
                <a:avLst/>
                <a:gdLst/>
                <a:ahLst/>
                <a:rect l="0" t="0" r="r" b="b"/>
                <a:pathLst>
                  <a:path w="124" h="1787">
                    <a:moveTo>
                      <a:pt x="124" y="0"/>
                    </a:moveTo>
                    <a:lnTo>
                      <a:pt x="0" y="445"/>
                    </a:lnTo>
                    <a:lnTo>
                      <a:pt x="0" y="1787"/>
                    </a:lnTo>
                    <a:lnTo>
                      <a:pt x="124" y="1342"/>
                    </a:lnTo>
                    <a:lnTo>
                      <a:pt x="12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1" name=""/>
              <p:cNvSpPr/>
              <p:nvPr/>
            </p:nvSpPr>
            <p:spPr>
              <a:xfrm>
                <a:off x="3203640" y="1595520"/>
                <a:ext cx="47880" cy="603720"/>
              </a:xfrm>
              <a:custGeom>
                <a:avLst/>
                <a:gdLst/>
                <a:ahLst/>
                <a:rect l="0" t="0" r="r" b="b"/>
                <a:pathLst>
                  <a:path w="133" h="1677">
                    <a:moveTo>
                      <a:pt x="124" y="0"/>
                    </a:moveTo>
                    <a:lnTo>
                      <a:pt x="0" y="459"/>
                    </a:lnTo>
                    <a:lnTo>
                      <a:pt x="0" y="1677"/>
                    </a:lnTo>
                    <a:lnTo>
                      <a:pt x="133" y="1218"/>
                    </a:lnTo>
                    <a:lnTo>
                      <a:pt x="12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912" name=""/>
            <p:cNvSpPr/>
            <p:nvPr/>
          </p:nvSpPr>
          <p:spPr>
            <a:xfrm>
              <a:off x="3249720" y="1595520"/>
              <a:ext cx="2669040" cy="3484800"/>
            </a:xfrm>
            <a:custGeom>
              <a:avLst/>
              <a:gdLst/>
              <a:ahLst/>
              <a:rect l="0" t="0" r="r" b="b"/>
              <a:pathLst>
                <a:path w="7414" h="9680">
                  <a:moveTo>
                    <a:pt x="0" y="0"/>
                  </a:moveTo>
                  <a:lnTo>
                    <a:pt x="0" y="1239"/>
                  </a:lnTo>
                  <a:lnTo>
                    <a:pt x="370" y="1508"/>
                  </a:lnTo>
                  <a:lnTo>
                    <a:pt x="723" y="1772"/>
                  </a:lnTo>
                  <a:lnTo>
                    <a:pt x="1106" y="2068"/>
                  </a:lnTo>
                  <a:lnTo>
                    <a:pt x="1538" y="2403"/>
                  </a:lnTo>
                  <a:lnTo>
                    <a:pt x="1958" y="2711"/>
                  </a:lnTo>
                  <a:lnTo>
                    <a:pt x="2333" y="2998"/>
                  </a:lnTo>
                  <a:lnTo>
                    <a:pt x="2673" y="3245"/>
                  </a:lnTo>
                  <a:lnTo>
                    <a:pt x="2999" y="3470"/>
                  </a:lnTo>
                  <a:lnTo>
                    <a:pt x="3392" y="3735"/>
                  </a:lnTo>
                  <a:lnTo>
                    <a:pt x="3727" y="3942"/>
                  </a:lnTo>
                  <a:lnTo>
                    <a:pt x="4097" y="4158"/>
                  </a:lnTo>
                  <a:lnTo>
                    <a:pt x="4512" y="4378"/>
                  </a:lnTo>
                  <a:lnTo>
                    <a:pt x="4886" y="4559"/>
                  </a:lnTo>
                  <a:lnTo>
                    <a:pt x="5292" y="4727"/>
                  </a:lnTo>
                  <a:lnTo>
                    <a:pt x="4931" y="4864"/>
                  </a:lnTo>
                  <a:lnTo>
                    <a:pt x="4498" y="5014"/>
                  </a:lnTo>
                  <a:lnTo>
                    <a:pt x="4040" y="5200"/>
                  </a:lnTo>
                  <a:lnTo>
                    <a:pt x="3577" y="5398"/>
                  </a:lnTo>
                  <a:lnTo>
                    <a:pt x="3131" y="5614"/>
                  </a:lnTo>
                  <a:lnTo>
                    <a:pt x="2690" y="5861"/>
                  </a:lnTo>
                  <a:lnTo>
                    <a:pt x="2210" y="6161"/>
                  </a:lnTo>
                  <a:lnTo>
                    <a:pt x="1644" y="6589"/>
                  </a:lnTo>
                  <a:lnTo>
                    <a:pt x="1230" y="6924"/>
                  </a:lnTo>
                  <a:lnTo>
                    <a:pt x="837" y="7294"/>
                  </a:lnTo>
                  <a:lnTo>
                    <a:pt x="502" y="7673"/>
                  </a:lnTo>
                  <a:lnTo>
                    <a:pt x="0" y="8322"/>
                  </a:lnTo>
                  <a:lnTo>
                    <a:pt x="0" y="9680"/>
                  </a:lnTo>
                  <a:lnTo>
                    <a:pt x="392" y="9204"/>
                  </a:lnTo>
                  <a:lnTo>
                    <a:pt x="868" y="8714"/>
                  </a:lnTo>
                  <a:lnTo>
                    <a:pt x="1305" y="8291"/>
                  </a:lnTo>
                  <a:lnTo>
                    <a:pt x="1737" y="7889"/>
                  </a:lnTo>
                  <a:lnTo>
                    <a:pt x="2263" y="7457"/>
                  </a:lnTo>
                  <a:lnTo>
                    <a:pt x="2774" y="7078"/>
                  </a:lnTo>
                  <a:lnTo>
                    <a:pt x="3153" y="6818"/>
                  </a:lnTo>
                  <a:lnTo>
                    <a:pt x="3647" y="6540"/>
                  </a:lnTo>
                  <a:lnTo>
                    <a:pt x="4088" y="6298"/>
                  </a:lnTo>
                  <a:lnTo>
                    <a:pt x="4454" y="6126"/>
                  </a:lnTo>
                  <a:lnTo>
                    <a:pt x="4917" y="5918"/>
                  </a:lnTo>
                  <a:lnTo>
                    <a:pt x="5288" y="5773"/>
                  </a:lnTo>
                  <a:lnTo>
                    <a:pt x="5539" y="5680"/>
                  </a:lnTo>
                  <a:lnTo>
                    <a:pt x="5875" y="5574"/>
                  </a:lnTo>
                  <a:lnTo>
                    <a:pt x="6157" y="5491"/>
                  </a:lnTo>
                  <a:lnTo>
                    <a:pt x="6157" y="6179"/>
                  </a:lnTo>
                  <a:lnTo>
                    <a:pt x="7414" y="4909"/>
                  </a:lnTo>
                  <a:lnTo>
                    <a:pt x="6157" y="3541"/>
                  </a:lnTo>
                  <a:lnTo>
                    <a:pt x="6157" y="4224"/>
                  </a:lnTo>
                  <a:lnTo>
                    <a:pt x="5941" y="4167"/>
                  </a:lnTo>
                  <a:lnTo>
                    <a:pt x="5681" y="4070"/>
                  </a:lnTo>
                  <a:lnTo>
                    <a:pt x="5407" y="3929"/>
                  </a:lnTo>
                  <a:lnTo>
                    <a:pt x="5076" y="3743"/>
                  </a:lnTo>
                  <a:lnTo>
                    <a:pt x="4737" y="3536"/>
                  </a:lnTo>
                  <a:lnTo>
                    <a:pt x="4446" y="3355"/>
                  </a:lnTo>
                  <a:lnTo>
                    <a:pt x="4150" y="3161"/>
                  </a:lnTo>
                  <a:lnTo>
                    <a:pt x="3824" y="2945"/>
                  </a:lnTo>
                  <a:lnTo>
                    <a:pt x="3555" y="2760"/>
                  </a:lnTo>
                  <a:lnTo>
                    <a:pt x="3233" y="2548"/>
                  </a:lnTo>
                  <a:lnTo>
                    <a:pt x="2668" y="2143"/>
                  </a:lnTo>
                  <a:lnTo>
                    <a:pt x="2245" y="1825"/>
                  </a:lnTo>
                  <a:lnTo>
                    <a:pt x="1906" y="1565"/>
                  </a:lnTo>
                  <a:lnTo>
                    <a:pt x="1618" y="1340"/>
                  </a:lnTo>
                  <a:lnTo>
                    <a:pt x="1195" y="992"/>
                  </a:lnTo>
                  <a:lnTo>
                    <a:pt x="798" y="674"/>
                  </a:lnTo>
                  <a:lnTo>
                    <a:pt x="414" y="348"/>
                  </a:lnTo>
                  <a:lnTo>
                    <a:pt x="0" y="0"/>
                  </a:lnTo>
                  <a:close/>
                </a:path>
              </a:pathLst>
            </a:cu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913" name=""/>
          <p:cNvSpPr txBox="1"/>
          <p:nvPr/>
        </p:nvSpPr>
        <p:spPr>
          <a:xfrm>
            <a:off x="685800" y="533520"/>
            <a:ext cx="7467480" cy="588240"/>
          </a:xfrm>
          <a:prstGeom prst="rect">
            <a:avLst/>
          </a:prstGeom>
          <a:noFill/>
          <a:ln w="0">
            <a:noFill/>
          </a:ln>
        </p:spPr>
        <p:txBody>
          <a:bodyPr lIns="0" rIns="0" tIns="0" bIns="0" anchor="t">
            <a:noAutofit/>
          </a:bodyPr>
          <a:p>
            <a:pPr>
              <a:lnSpc>
                <a:spcPct val="85000"/>
              </a:lnSpc>
            </a:pPr>
            <a:r>
              <a:rPr b="1" lang="en-US" sz="4000" spc="-1" strike="noStrike">
                <a:solidFill>
                  <a:srgbClr val="ffffff"/>
                </a:solidFill>
                <a:latin typeface="Univers"/>
                <a:ea typeface="Univers"/>
              </a:rPr>
              <a:t>The Great Myth</a:t>
            </a:r>
            <a:endParaRPr b="0" lang="en-US" sz="4000" spc="-1" strike="noStrike">
              <a:solidFill>
                <a:srgbClr val="000000"/>
              </a:solidFill>
              <a:latin typeface="Arial"/>
            </a:endParaRPr>
          </a:p>
        </p:txBody>
      </p:sp>
      <p:sp>
        <p:nvSpPr>
          <p:cNvPr id="914" name=""/>
          <p:cNvSpPr txBox="1"/>
          <p:nvPr/>
        </p:nvSpPr>
        <p:spPr>
          <a:xfrm>
            <a:off x="609480" y="1752480"/>
            <a:ext cx="7848720" cy="407664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45000"/>
              <a:buFont typeface="Wingdings"/>
              <a:buChar char=""/>
            </a:pPr>
            <a:r>
              <a:rPr b="0" lang="en-US" sz="2400" spc="-1" strike="noStrike">
                <a:solidFill>
                  <a:srgbClr val="ffffff"/>
                </a:solidFill>
                <a:latin typeface="Univers"/>
                <a:ea typeface="Univers"/>
              </a:rPr>
              <a:t>Myth:</a:t>
            </a:r>
            <a:endParaRPr b="0" lang="en-US" sz="24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000" spc="-1" strike="noStrike">
                <a:solidFill>
                  <a:srgbClr val="ffffff"/>
                </a:solidFill>
                <a:latin typeface="Univers"/>
                <a:ea typeface="Univers"/>
              </a:rPr>
              <a:t>Oracle &amp; Rdb will merge into a single product</a:t>
            </a:r>
            <a:endParaRPr b="0" lang="en-US" sz="20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400" spc="-1" strike="noStrike">
                <a:solidFill>
                  <a:srgbClr val="ffffff"/>
                </a:solidFill>
                <a:latin typeface="Univers"/>
                <a:ea typeface="Univers"/>
              </a:rPr>
              <a:t>Reality:</a:t>
            </a:r>
            <a:endParaRPr b="0" lang="en-US" sz="24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000" spc="-1" strike="noStrike">
                <a:solidFill>
                  <a:srgbClr val="ffffff"/>
                </a:solidFill>
                <a:latin typeface="Univers"/>
                <a:ea typeface="Univers"/>
              </a:rPr>
              <a:t>This will </a:t>
            </a:r>
            <a:r>
              <a:rPr b="1" i="1" lang="en-US" sz="2000" spc="-1" strike="noStrike">
                <a:solidFill>
                  <a:srgbClr val="ffffff"/>
                </a:solidFill>
                <a:latin typeface="Univers"/>
                <a:ea typeface="Univers"/>
              </a:rPr>
              <a:t>NEVER</a:t>
            </a:r>
            <a:r>
              <a:rPr b="0" lang="en-US" sz="2000" spc="-1" strike="noStrike">
                <a:solidFill>
                  <a:srgbClr val="ffffff"/>
                </a:solidFill>
                <a:latin typeface="Univers"/>
                <a:ea typeface="Univers"/>
              </a:rPr>
              <a:t> happen</a:t>
            </a:r>
            <a:endParaRPr b="0" lang="en-US" sz="20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000" spc="-1" strike="noStrike">
                <a:solidFill>
                  <a:srgbClr val="ffffff"/>
                </a:solidFill>
                <a:latin typeface="Univers"/>
                <a:ea typeface="Univers"/>
              </a:rPr>
              <a:t>SQL*Net provides “bridge” to other Oracle products, to Oracle database server</a:t>
            </a:r>
            <a:endParaRPr b="0" lang="en-US" sz="20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000" spc="-1" strike="noStrike">
                <a:solidFill>
                  <a:srgbClr val="ffffff"/>
                </a:solidFill>
                <a:latin typeface="Univers"/>
                <a:ea typeface="Univers"/>
              </a:rPr>
              <a:t>Many features unique to Rdb are being developed for the Oracle database server</a:t>
            </a:r>
            <a:endParaRPr b="0" lang="en-US" sz="20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000" spc="-1" strike="noStrike">
                <a:solidFill>
                  <a:srgbClr val="ffffff"/>
                </a:solidFill>
                <a:latin typeface="Univers"/>
                <a:ea typeface="Univers"/>
              </a:rPr>
              <a:t>Many features being developed in parallel</a:t>
            </a:r>
            <a:endParaRPr b="0" lang="en-US" sz="20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000" spc="-1" strike="noStrike">
                <a:solidFill>
                  <a:srgbClr val="ffffff"/>
                </a:solidFill>
                <a:latin typeface="Univers"/>
                <a:ea typeface="Univers"/>
              </a:rPr>
              <a:t>Product synergy &amp; interoperability gives you a cho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txBox="1"/>
          <p:nvPr/>
        </p:nvSpPr>
        <p:spPr>
          <a:xfrm>
            <a:off x="685800" y="533520"/>
            <a:ext cx="7467480" cy="588240"/>
          </a:xfrm>
          <a:prstGeom prst="rect">
            <a:avLst/>
          </a:prstGeom>
          <a:noFill/>
          <a:ln w="0">
            <a:noFill/>
          </a:ln>
        </p:spPr>
        <p:txBody>
          <a:bodyPr lIns="0" rIns="0" tIns="0" bIns="0" anchor="t">
            <a:noAutofit/>
          </a:bodyPr>
          <a:p>
            <a:pPr>
              <a:lnSpc>
                <a:spcPct val="85000"/>
              </a:lnSpc>
            </a:pPr>
            <a:r>
              <a:rPr b="1" lang="en-US" sz="4000" spc="-1" strike="noStrike">
                <a:solidFill>
                  <a:srgbClr val="ffffff"/>
                </a:solidFill>
                <a:latin typeface="Univers"/>
                <a:ea typeface="Univers"/>
              </a:rPr>
              <a:t>Oracle Commitment</a:t>
            </a:r>
            <a:endParaRPr b="0" lang="en-US" sz="4000" spc="-1" strike="noStrike">
              <a:solidFill>
                <a:srgbClr val="000000"/>
              </a:solidFill>
              <a:latin typeface="Arial"/>
            </a:endParaRPr>
          </a:p>
        </p:txBody>
      </p:sp>
      <p:sp>
        <p:nvSpPr>
          <p:cNvPr id="916" name=""/>
          <p:cNvSpPr txBox="1"/>
          <p:nvPr/>
        </p:nvSpPr>
        <p:spPr>
          <a:xfrm>
            <a:off x="609480" y="1752480"/>
            <a:ext cx="7848720" cy="450684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45000"/>
              <a:buFont typeface="Wingdings"/>
              <a:buChar char=""/>
            </a:pPr>
            <a:r>
              <a:rPr b="0" lang="en-US" sz="2400" spc="-1" strike="noStrike">
                <a:solidFill>
                  <a:srgbClr val="ffffff"/>
                </a:solidFill>
                <a:latin typeface="Univers"/>
                <a:ea typeface="Univers"/>
              </a:rPr>
              <a:t>Successful acquisition</a:t>
            </a:r>
            <a:endParaRPr b="0" lang="en-US" sz="24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000" spc="-1" strike="noStrike">
                <a:solidFill>
                  <a:srgbClr val="ffffff"/>
                </a:solidFill>
                <a:latin typeface="Univers"/>
                <a:ea typeface="Univers"/>
              </a:rPr>
              <a:t>Support for customer base</a:t>
            </a:r>
            <a:endParaRPr b="0" lang="en-US" sz="20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000" spc="-1" strike="noStrike">
                <a:solidFill>
                  <a:srgbClr val="ffffff"/>
                </a:solidFill>
                <a:latin typeface="Univers"/>
                <a:ea typeface="Univers"/>
              </a:rPr>
              <a:t>Integration with Oracle product family</a:t>
            </a:r>
            <a:endParaRPr b="0" lang="en-US" sz="20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000" spc="-1" strike="noStrike">
                <a:solidFill>
                  <a:srgbClr val="ffffff"/>
                </a:solidFill>
                <a:latin typeface="Univers"/>
                <a:ea typeface="Univers"/>
              </a:rPr>
              <a:t>We continue to exceed our contractual obligations for enhancing Rdb to support our customers</a:t>
            </a:r>
            <a:endParaRPr b="0" lang="en-US" sz="20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400" spc="-1" strike="noStrike">
                <a:solidFill>
                  <a:srgbClr val="ffffff"/>
                </a:solidFill>
                <a:latin typeface="Univers"/>
                <a:ea typeface="Univers"/>
              </a:rPr>
              <a:t>Oracle Rdb future</a:t>
            </a:r>
            <a:endParaRPr b="0" lang="en-US" sz="24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000" spc="-1" strike="noStrike">
                <a:solidFill>
                  <a:srgbClr val="ffffff"/>
                </a:solidFill>
                <a:latin typeface="Univers"/>
                <a:ea typeface="Univers"/>
              </a:rPr>
              <a:t>Performance</a:t>
            </a:r>
            <a:endParaRPr b="0" lang="en-US" sz="20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000" spc="-1" strike="noStrike">
                <a:solidFill>
                  <a:srgbClr val="ffffff"/>
                </a:solidFill>
                <a:latin typeface="Univers"/>
                <a:ea typeface="Univers"/>
              </a:rPr>
              <a:t>Platform Support</a:t>
            </a:r>
            <a:endParaRPr b="0" lang="en-US" sz="20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000" spc="-1" strike="noStrike">
                <a:solidFill>
                  <a:srgbClr val="ffffff"/>
                </a:solidFill>
                <a:latin typeface="Univers"/>
                <a:ea typeface="Univers"/>
              </a:rPr>
              <a:t>Compatibility </a:t>
            </a:r>
            <a:endParaRPr b="0" lang="en-US" sz="20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000" spc="-1" strike="noStrike">
                <a:solidFill>
                  <a:srgbClr val="ffffff"/>
                </a:solidFill>
                <a:latin typeface="Univers"/>
                <a:ea typeface="Univers"/>
              </a:rPr>
              <a:t>Feature Enhancements</a:t>
            </a:r>
            <a:endParaRPr b="0" lang="en-US" sz="20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000" spc="-1" strike="noStrike">
                <a:solidFill>
                  <a:srgbClr val="ffffff"/>
                </a:solidFill>
                <a:latin typeface="Univers"/>
                <a:ea typeface="Univers"/>
              </a:rPr>
              <a:t>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txBox="1"/>
          <p:nvPr/>
        </p:nvSpPr>
        <p:spPr>
          <a:xfrm>
            <a:off x="685800" y="533520"/>
            <a:ext cx="7467480" cy="1176120"/>
          </a:xfrm>
          <a:prstGeom prst="rect">
            <a:avLst/>
          </a:prstGeom>
          <a:noFill/>
          <a:ln w="0">
            <a:noFill/>
          </a:ln>
        </p:spPr>
        <p:txBody>
          <a:bodyPr lIns="0" rIns="0" tIns="0" bIns="0" anchor="t">
            <a:noAutofit/>
          </a:bodyPr>
          <a:p>
            <a:pPr>
              <a:lnSpc>
                <a:spcPct val="85000"/>
              </a:lnSpc>
            </a:pPr>
            <a:r>
              <a:rPr b="1" lang="en-US" sz="4000" spc="-1" strike="noStrike">
                <a:solidFill>
                  <a:srgbClr val="ffffff"/>
                </a:solidFill>
                <a:latin typeface="Univers"/>
                <a:ea typeface="Univers"/>
              </a:rPr>
              <a:t>What Oracle’s Rdb Strategy Means For You</a:t>
            </a:r>
            <a:endParaRPr b="0" lang="en-US" sz="4000" spc="-1" strike="noStrike">
              <a:solidFill>
                <a:srgbClr val="000000"/>
              </a:solidFill>
              <a:latin typeface="Arial"/>
            </a:endParaRPr>
          </a:p>
        </p:txBody>
      </p:sp>
      <p:sp>
        <p:nvSpPr>
          <p:cNvPr id="918" name=""/>
          <p:cNvSpPr txBox="1"/>
          <p:nvPr/>
        </p:nvSpPr>
        <p:spPr>
          <a:xfrm>
            <a:off x="1066680" y="2438280"/>
            <a:ext cx="7543800" cy="373392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45000"/>
              <a:buFont typeface="Wingdings"/>
              <a:buChar char=""/>
            </a:pPr>
            <a:r>
              <a:rPr b="0" lang="en-US" sz="2400" spc="-1" strike="noStrike" u="sng">
                <a:solidFill>
                  <a:srgbClr val="ffffff"/>
                </a:solidFill>
                <a:uFillTx/>
                <a:latin typeface="Univers"/>
                <a:ea typeface="Univers"/>
              </a:rPr>
              <a:t>Investment Protection</a:t>
            </a:r>
            <a:r>
              <a:rPr b="0" lang="en-US" sz="2400" spc="-1" strike="noStrike">
                <a:solidFill>
                  <a:srgbClr val="ffffff"/>
                </a:solidFill>
                <a:latin typeface="Univers"/>
                <a:ea typeface="Univers"/>
              </a:rPr>
              <a:t> — Existing systems remain viable, still enhanced &amp; supported</a:t>
            </a:r>
            <a:endParaRPr b="0" lang="en-US" sz="24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400" spc="-1" strike="noStrike" u="sng">
                <a:solidFill>
                  <a:srgbClr val="ffffff"/>
                </a:solidFill>
                <a:uFillTx/>
                <a:latin typeface="Univers"/>
                <a:ea typeface="Univers"/>
              </a:rPr>
              <a:t>Common Technologies</a:t>
            </a:r>
            <a:r>
              <a:rPr b="0" lang="en-US" sz="2400" spc="-1" strike="noStrike">
                <a:solidFill>
                  <a:srgbClr val="ffffff"/>
                </a:solidFill>
                <a:latin typeface="Univers"/>
                <a:ea typeface="Univers"/>
              </a:rPr>
              <a:t> — application development, data access, decision support, web, and system management for both Rdb &amp; Oracle</a:t>
            </a:r>
            <a:endParaRPr b="0" lang="en-US" sz="24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400" spc="-1" strike="noStrike" u="sng">
                <a:solidFill>
                  <a:srgbClr val="ffffff"/>
                </a:solidFill>
                <a:uFillTx/>
                <a:latin typeface="Univers"/>
                <a:ea typeface="Univers"/>
              </a:rPr>
              <a:t>Customer-centric</a:t>
            </a:r>
            <a:r>
              <a:rPr b="0" lang="en-US" sz="2400" spc="-1" strike="noStrike">
                <a:solidFill>
                  <a:srgbClr val="ffffff"/>
                </a:solidFill>
                <a:latin typeface="Univers"/>
                <a:ea typeface="Univers"/>
              </a:rPr>
              <a:t> — choose the path that best fits your business requirements, make the best business dec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txBox="1"/>
          <p:nvPr/>
        </p:nvSpPr>
        <p:spPr>
          <a:xfrm>
            <a:off x="685800" y="533520"/>
            <a:ext cx="7467480" cy="588240"/>
          </a:xfrm>
          <a:prstGeom prst="rect">
            <a:avLst/>
          </a:prstGeom>
          <a:noFill/>
          <a:ln w="0">
            <a:noFill/>
          </a:ln>
        </p:spPr>
        <p:txBody>
          <a:bodyPr lIns="0" rIns="0" tIns="0" bIns="0" anchor="t">
            <a:noAutofit/>
          </a:bodyPr>
          <a:p>
            <a:pPr>
              <a:lnSpc>
                <a:spcPct val="85000"/>
              </a:lnSpc>
            </a:pPr>
            <a:r>
              <a:rPr b="1" lang="en-US" sz="4000" spc="-1" strike="noStrike">
                <a:solidFill>
                  <a:srgbClr val="ffffff"/>
                </a:solidFill>
                <a:latin typeface="Univers"/>
                <a:ea typeface="Univers"/>
              </a:rPr>
              <a:t>Next Major Release: Rdb 7.1</a:t>
            </a:r>
            <a:endParaRPr b="0" lang="en-US" sz="4000" spc="-1" strike="noStrike">
              <a:solidFill>
                <a:srgbClr val="000000"/>
              </a:solidFill>
              <a:latin typeface="Arial"/>
            </a:endParaRPr>
          </a:p>
        </p:txBody>
      </p:sp>
      <p:sp>
        <p:nvSpPr>
          <p:cNvPr id="920" name=""/>
          <p:cNvSpPr txBox="1"/>
          <p:nvPr/>
        </p:nvSpPr>
        <p:spPr>
          <a:xfrm>
            <a:off x="609480" y="1752480"/>
            <a:ext cx="7848720" cy="407664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45000"/>
              <a:buFont typeface="Wingdings"/>
              <a:buChar char=""/>
            </a:pPr>
            <a:r>
              <a:rPr b="0" lang="en-US" sz="2800" spc="-1" strike="noStrike">
                <a:solidFill>
                  <a:srgbClr val="ffffff"/>
                </a:solidFill>
                <a:latin typeface="Univers"/>
                <a:ea typeface="Univers"/>
              </a:rPr>
              <a:t>Bit Map Index optimizations</a:t>
            </a:r>
            <a:endParaRPr b="0" lang="en-US" sz="2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800" spc="-1" strike="noStrike">
                <a:solidFill>
                  <a:srgbClr val="ffffff"/>
                </a:solidFill>
                <a:latin typeface="Univers"/>
                <a:ea typeface="Univers"/>
              </a:rPr>
              <a:t>Parallel Index Creation</a:t>
            </a:r>
            <a:endParaRPr b="0" lang="en-US" sz="2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800" spc="-1" strike="noStrike">
                <a:solidFill>
                  <a:srgbClr val="ffffff"/>
                </a:solidFill>
                <a:latin typeface="Univers"/>
                <a:ea typeface="Univers"/>
              </a:rPr>
              <a:t>Table, Index partition management</a:t>
            </a:r>
            <a:endParaRPr b="0" lang="en-US" sz="2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800" spc="-1" strike="noStrike">
                <a:solidFill>
                  <a:srgbClr val="ffffff"/>
                </a:solidFill>
                <a:latin typeface="Univers"/>
                <a:ea typeface="Univers"/>
              </a:rPr>
              <a:t>Sequences</a:t>
            </a:r>
            <a:endParaRPr b="0" lang="en-US" sz="2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800" spc="-1" strike="noStrike">
                <a:solidFill>
                  <a:srgbClr val="ffffff"/>
                </a:solidFill>
                <a:latin typeface="Univers"/>
                <a:ea typeface="Univers"/>
              </a:rPr>
              <a:t>SQL*Net for Rdb improv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txBox="1"/>
          <p:nvPr/>
        </p:nvSpPr>
        <p:spPr>
          <a:xfrm>
            <a:off x="685800" y="533520"/>
            <a:ext cx="7467480" cy="588240"/>
          </a:xfrm>
          <a:prstGeom prst="rect">
            <a:avLst/>
          </a:prstGeom>
          <a:noFill/>
          <a:ln w="0">
            <a:noFill/>
          </a:ln>
        </p:spPr>
        <p:txBody>
          <a:bodyPr lIns="0" rIns="0" tIns="0" bIns="0" anchor="t">
            <a:noAutofit/>
          </a:bodyPr>
          <a:p>
            <a:pPr>
              <a:lnSpc>
                <a:spcPct val="85000"/>
              </a:lnSpc>
            </a:pPr>
            <a:r>
              <a:rPr b="1" lang="en-US" sz="4000" spc="-1" strike="noStrike">
                <a:solidFill>
                  <a:srgbClr val="ffffff"/>
                </a:solidFill>
                <a:latin typeface="Univers"/>
                <a:ea typeface="Univers"/>
              </a:rPr>
              <a:t>Galaxy and Oracle Rdb</a:t>
            </a:r>
            <a:endParaRPr b="0" lang="en-US" sz="4000" spc="-1" strike="noStrike">
              <a:solidFill>
                <a:srgbClr val="000000"/>
              </a:solidFill>
              <a:latin typeface="Arial"/>
            </a:endParaRPr>
          </a:p>
        </p:txBody>
      </p:sp>
      <p:grpSp>
        <p:nvGrpSpPr>
          <p:cNvPr id="922" name=""/>
          <p:cNvGrpSpPr/>
          <p:nvPr/>
        </p:nvGrpSpPr>
        <p:grpSpPr>
          <a:xfrm>
            <a:off x="685800" y="1447920"/>
            <a:ext cx="7848720" cy="4419360"/>
            <a:chOff x="685800" y="1447920"/>
            <a:chExt cx="7848720" cy="4419360"/>
          </a:xfrm>
        </p:grpSpPr>
        <p:sp>
          <p:nvSpPr>
            <p:cNvPr id="923" name=""/>
            <p:cNvSpPr/>
            <p:nvPr/>
          </p:nvSpPr>
          <p:spPr>
            <a:xfrm>
              <a:off x="685800" y="2743200"/>
              <a:ext cx="7848720" cy="3124080"/>
            </a:xfrm>
            <a:prstGeom prst="roundRect">
              <a:avLst/>
            </a:prstGeom>
            <a:solidFill>
              <a:srgbClr val="00968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a:off x="1905120" y="1905120"/>
              <a:ext cx="541008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925" name=""/>
            <p:cNvGrpSpPr/>
            <p:nvPr/>
          </p:nvGrpSpPr>
          <p:grpSpPr>
            <a:xfrm>
              <a:off x="1409760" y="4191120"/>
              <a:ext cx="6477120" cy="388800"/>
              <a:chOff x="1409760" y="4191120"/>
              <a:chExt cx="6477120" cy="388800"/>
            </a:xfrm>
          </p:grpSpPr>
          <p:sp>
            <p:nvSpPr>
              <p:cNvPr id="926" name=""/>
              <p:cNvSpPr/>
              <p:nvPr/>
            </p:nvSpPr>
            <p:spPr>
              <a:xfrm>
                <a:off x="1409760" y="4191120"/>
                <a:ext cx="6477120" cy="380880"/>
              </a:xfrm>
              <a:prstGeom prst="roundRect">
                <a:avLst/>
              </a:prstGeom>
              <a:solidFill>
                <a:srgbClr val="13ce24"/>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7" name=""/>
              <p:cNvSpPr txBox="1"/>
              <p:nvPr/>
            </p:nvSpPr>
            <p:spPr>
              <a:xfrm>
                <a:off x="3292560" y="4243320"/>
                <a:ext cx="27129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Shared Global Buffer Pool</a:t>
                </a:r>
                <a:endParaRPr b="0" lang="en-US" sz="1600" spc="-1" strike="noStrike">
                  <a:solidFill>
                    <a:srgbClr val="000000"/>
                  </a:solidFill>
                  <a:latin typeface="Arial"/>
                </a:endParaRPr>
              </a:p>
            </p:txBody>
          </p:sp>
        </p:grpSp>
        <p:sp>
          <p:nvSpPr>
            <p:cNvPr id="928" name=""/>
            <p:cNvSpPr/>
            <p:nvPr/>
          </p:nvSpPr>
          <p:spPr>
            <a:xfrm flipV="1">
              <a:off x="1905120" y="1905120"/>
              <a:ext cx="0" cy="12189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9" name=""/>
            <p:cNvSpPr/>
            <p:nvPr/>
          </p:nvSpPr>
          <p:spPr>
            <a:xfrm flipV="1">
              <a:off x="7315200" y="1905120"/>
              <a:ext cx="0" cy="12189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0" name=""/>
            <p:cNvSpPr/>
            <p:nvPr/>
          </p:nvSpPr>
          <p:spPr>
            <a:xfrm flipV="1">
              <a:off x="5562720" y="1905120"/>
              <a:ext cx="0" cy="12189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1" name=""/>
            <p:cNvSpPr/>
            <p:nvPr/>
          </p:nvSpPr>
          <p:spPr>
            <a:xfrm flipV="1">
              <a:off x="3657600" y="1905120"/>
              <a:ext cx="0" cy="12189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932" name=""/>
            <p:cNvGrpSpPr/>
            <p:nvPr/>
          </p:nvGrpSpPr>
          <p:grpSpPr>
            <a:xfrm>
              <a:off x="1371600" y="2819520"/>
              <a:ext cx="1066680" cy="1371600"/>
              <a:chOff x="1371600" y="2819520"/>
              <a:chExt cx="1066680" cy="1371600"/>
            </a:xfrm>
          </p:grpSpPr>
          <p:sp>
            <p:nvSpPr>
              <p:cNvPr id="933" name=""/>
              <p:cNvSpPr/>
              <p:nvPr/>
            </p:nvSpPr>
            <p:spPr>
              <a:xfrm>
                <a:off x="1371600" y="2819520"/>
                <a:ext cx="1066680" cy="990720"/>
              </a:xfrm>
              <a:prstGeom prst="roundRect">
                <a:avLst/>
              </a:prstGeom>
              <a:solidFill>
                <a:srgbClr val="fcf64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4" name=""/>
              <p:cNvSpPr txBox="1"/>
              <p:nvPr/>
            </p:nvSpPr>
            <p:spPr>
              <a:xfrm>
                <a:off x="1403280" y="2894040"/>
                <a:ext cx="884160" cy="581040"/>
              </a:xfrm>
              <a:prstGeom prst="rect">
                <a:avLst/>
              </a:prstGeom>
              <a:solidFill>
                <a:srgbClr val="fcf647"/>
              </a:solidFill>
              <a:ln w="0">
                <a:noFill/>
              </a:ln>
            </p:spPr>
            <p:txBody>
              <a:bodyPr lIns="0" rIns="0" tIns="0" bIns="0" anchor="t">
                <a:noAutofit/>
              </a:bodyPr>
              <a:p>
                <a:pPr>
                  <a:lnSpc>
                    <a:spcPct val="100000"/>
                  </a:lnSpc>
                </a:pPr>
                <a:r>
                  <a:rPr b="0" lang="en-US" sz="1600" spc="-1" strike="noStrike">
                    <a:solidFill>
                      <a:srgbClr val="1406f8"/>
                    </a:solidFill>
                    <a:latin typeface="Arial"/>
                    <a:ea typeface="Arial"/>
                  </a:rPr>
                  <a:t>Node A</a:t>
                </a:r>
                <a:endParaRPr b="0" lang="en-US" sz="1600" spc="-1" strike="noStrike">
                  <a:solidFill>
                    <a:srgbClr val="000000"/>
                  </a:solidFill>
                  <a:latin typeface="Arial"/>
                </a:endParaRPr>
              </a:p>
              <a:p>
                <a:pPr>
                  <a:lnSpc>
                    <a:spcPct val="100000"/>
                  </a:lnSpc>
                </a:pPr>
                <a:r>
                  <a:rPr b="0" lang="en-US" sz="1600" spc="-1" strike="noStrike">
                    <a:solidFill>
                      <a:srgbClr val="1406f8"/>
                    </a:solidFill>
                    <a:latin typeface="Arial"/>
                    <a:ea typeface="Arial"/>
                  </a:rPr>
                  <a:t>4 CPUs</a:t>
                </a:r>
                <a:endParaRPr b="0" lang="en-US" sz="1600" spc="-1" strike="noStrike">
                  <a:solidFill>
                    <a:srgbClr val="000000"/>
                  </a:solidFill>
                  <a:latin typeface="Arial"/>
                </a:endParaRPr>
              </a:p>
            </p:txBody>
          </p:sp>
          <p:sp>
            <p:nvSpPr>
              <p:cNvPr id="935" name=""/>
              <p:cNvSpPr/>
              <p:nvPr/>
            </p:nvSpPr>
            <p:spPr>
              <a:xfrm>
                <a:off x="1790640" y="3809880"/>
                <a:ext cx="228960" cy="381240"/>
              </a:xfrm>
              <a:custGeom>
                <a:avLst/>
                <a:gdLst/>
                <a:ahLst/>
                <a:rect l="0" t="0" r="r" b="b"/>
                <a:pathLst>
                  <a:path w="636" h="1059">
                    <a:moveTo>
                      <a:pt x="0" y="352"/>
                    </a:moveTo>
                    <a:lnTo>
                      <a:pt x="0" y="705"/>
                    </a:lnTo>
                    <a:lnTo>
                      <a:pt x="445" y="705"/>
                    </a:lnTo>
                    <a:lnTo>
                      <a:pt x="445" y="1059"/>
                    </a:lnTo>
                    <a:lnTo>
                      <a:pt x="636" y="530"/>
                    </a:lnTo>
                    <a:lnTo>
                      <a:pt x="445" y="0"/>
                    </a:lnTo>
                    <a:lnTo>
                      <a:pt x="445" y="352"/>
                    </a:lnTo>
                    <a:lnTo>
                      <a:pt x="0" y="352"/>
                    </a:lnTo>
                    <a:close/>
                  </a:path>
                </a:pathLst>
              </a:custGeom>
              <a:solidFill>
                <a:srgbClr val="13ce24"/>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36" name=""/>
            <p:cNvGrpSpPr/>
            <p:nvPr/>
          </p:nvGrpSpPr>
          <p:grpSpPr>
            <a:xfrm>
              <a:off x="3124080" y="2819520"/>
              <a:ext cx="1066680" cy="1371600"/>
              <a:chOff x="3124080" y="2819520"/>
              <a:chExt cx="1066680" cy="1371600"/>
            </a:xfrm>
          </p:grpSpPr>
          <p:sp>
            <p:nvSpPr>
              <p:cNvPr id="937" name=""/>
              <p:cNvSpPr/>
              <p:nvPr/>
            </p:nvSpPr>
            <p:spPr>
              <a:xfrm>
                <a:off x="3124080" y="2819520"/>
                <a:ext cx="1066680" cy="990720"/>
              </a:xfrm>
              <a:prstGeom prst="roundRect">
                <a:avLst/>
              </a:prstGeom>
              <a:solidFill>
                <a:srgbClr val="fcf64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8" name=""/>
              <p:cNvSpPr txBox="1"/>
              <p:nvPr/>
            </p:nvSpPr>
            <p:spPr>
              <a:xfrm>
                <a:off x="3156120" y="2894040"/>
                <a:ext cx="884160" cy="581040"/>
              </a:xfrm>
              <a:prstGeom prst="rect">
                <a:avLst/>
              </a:prstGeom>
              <a:solidFill>
                <a:srgbClr val="fcf647"/>
              </a:solidFill>
              <a:ln w="0">
                <a:noFill/>
              </a:ln>
            </p:spPr>
            <p:txBody>
              <a:bodyPr lIns="0" rIns="0" tIns="0" bIns="0" anchor="t">
                <a:noAutofit/>
              </a:bodyPr>
              <a:p>
                <a:pPr>
                  <a:lnSpc>
                    <a:spcPct val="100000"/>
                  </a:lnSpc>
                </a:pPr>
                <a:r>
                  <a:rPr b="0" lang="en-US" sz="1600" spc="-1" strike="noStrike">
                    <a:solidFill>
                      <a:srgbClr val="1406f8"/>
                    </a:solidFill>
                    <a:latin typeface="Arial"/>
                    <a:ea typeface="Arial"/>
                  </a:rPr>
                  <a:t>Node B</a:t>
                </a:r>
                <a:endParaRPr b="0" lang="en-US" sz="1600" spc="-1" strike="noStrike">
                  <a:solidFill>
                    <a:srgbClr val="000000"/>
                  </a:solidFill>
                  <a:latin typeface="Arial"/>
                </a:endParaRPr>
              </a:p>
              <a:p>
                <a:pPr>
                  <a:lnSpc>
                    <a:spcPct val="100000"/>
                  </a:lnSpc>
                </a:pPr>
                <a:r>
                  <a:rPr b="0" lang="en-US" sz="1600" spc="-1" strike="noStrike">
                    <a:solidFill>
                      <a:srgbClr val="1406f8"/>
                    </a:solidFill>
                    <a:latin typeface="Arial"/>
                    <a:ea typeface="Arial"/>
                  </a:rPr>
                  <a:t>4 CPUs</a:t>
                </a:r>
                <a:endParaRPr b="0" lang="en-US" sz="1600" spc="-1" strike="noStrike">
                  <a:solidFill>
                    <a:srgbClr val="000000"/>
                  </a:solidFill>
                  <a:latin typeface="Arial"/>
                </a:endParaRPr>
              </a:p>
            </p:txBody>
          </p:sp>
          <p:sp>
            <p:nvSpPr>
              <p:cNvPr id="939" name=""/>
              <p:cNvSpPr/>
              <p:nvPr/>
            </p:nvSpPr>
            <p:spPr>
              <a:xfrm>
                <a:off x="3543120" y="3809880"/>
                <a:ext cx="228960" cy="381240"/>
              </a:xfrm>
              <a:custGeom>
                <a:avLst/>
                <a:gdLst/>
                <a:ahLst/>
                <a:rect l="0" t="0" r="r" b="b"/>
                <a:pathLst>
                  <a:path w="636" h="1059">
                    <a:moveTo>
                      <a:pt x="0" y="352"/>
                    </a:moveTo>
                    <a:lnTo>
                      <a:pt x="0" y="705"/>
                    </a:lnTo>
                    <a:lnTo>
                      <a:pt x="445" y="705"/>
                    </a:lnTo>
                    <a:lnTo>
                      <a:pt x="445" y="1059"/>
                    </a:lnTo>
                    <a:lnTo>
                      <a:pt x="636" y="530"/>
                    </a:lnTo>
                    <a:lnTo>
                      <a:pt x="445" y="0"/>
                    </a:lnTo>
                    <a:lnTo>
                      <a:pt x="445" y="352"/>
                    </a:lnTo>
                    <a:lnTo>
                      <a:pt x="0" y="352"/>
                    </a:lnTo>
                    <a:close/>
                  </a:path>
                </a:pathLst>
              </a:custGeom>
              <a:solidFill>
                <a:srgbClr val="13ce24"/>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40" name=""/>
            <p:cNvGrpSpPr/>
            <p:nvPr/>
          </p:nvGrpSpPr>
          <p:grpSpPr>
            <a:xfrm>
              <a:off x="6781680" y="2819520"/>
              <a:ext cx="1066680" cy="1371600"/>
              <a:chOff x="6781680" y="2819520"/>
              <a:chExt cx="1066680" cy="1371600"/>
            </a:xfrm>
          </p:grpSpPr>
          <p:sp>
            <p:nvSpPr>
              <p:cNvPr id="941" name=""/>
              <p:cNvSpPr/>
              <p:nvPr/>
            </p:nvSpPr>
            <p:spPr>
              <a:xfrm>
                <a:off x="6781680" y="2819520"/>
                <a:ext cx="1066680" cy="990720"/>
              </a:xfrm>
              <a:prstGeom prst="roundRect">
                <a:avLst/>
              </a:prstGeom>
              <a:solidFill>
                <a:srgbClr val="fcf64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2" name=""/>
              <p:cNvSpPr txBox="1"/>
              <p:nvPr/>
            </p:nvSpPr>
            <p:spPr>
              <a:xfrm>
                <a:off x="6813720" y="2894040"/>
                <a:ext cx="884160" cy="581040"/>
              </a:xfrm>
              <a:prstGeom prst="rect">
                <a:avLst/>
              </a:prstGeom>
              <a:solidFill>
                <a:srgbClr val="fcf647"/>
              </a:solidFill>
              <a:ln w="0">
                <a:noFill/>
              </a:ln>
            </p:spPr>
            <p:txBody>
              <a:bodyPr lIns="0" rIns="0" tIns="0" bIns="0" anchor="t">
                <a:noAutofit/>
              </a:bodyPr>
              <a:p>
                <a:pPr>
                  <a:lnSpc>
                    <a:spcPct val="100000"/>
                  </a:lnSpc>
                </a:pPr>
                <a:r>
                  <a:rPr b="0" lang="en-US" sz="1600" spc="-1" strike="noStrike">
                    <a:solidFill>
                      <a:srgbClr val="1406f8"/>
                    </a:solidFill>
                    <a:latin typeface="Arial"/>
                    <a:ea typeface="Arial"/>
                  </a:rPr>
                  <a:t>Node D</a:t>
                </a:r>
                <a:endParaRPr b="0" lang="en-US" sz="1600" spc="-1" strike="noStrike">
                  <a:solidFill>
                    <a:srgbClr val="000000"/>
                  </a:solidFill>
                  <a:latin typeface="Arial"/>
                </a:endParaRPr>
              </a:p>
              <a:p>
                <a:pPr>
                  <a:lnSpc>
                    <a:spcPct val="100000"/>
                  </a:lnSpc>
                </a:pPr>
                <a:r>
                  <a:rPr b="0" lang="en-US" sz="1600" spc="-1" strike="noStrike">
                    <a:solidFill>
                      <a:srgbClr val="1406f8"/>
                    </a:solidFill>
                    <a:latin typeface="Arial"/>
                    <a:ea typeface="Arial"/>
                  </a:rPr>
                  <a:t>4 CPUs</a:t>
                </a:r>
                <a:endParaRPr b="0" lang="en-US" sz="1600" spc="-1" strike="noStrike">
                  <a:solidFill>
                    <a:srgbClr val="000000"/>
                  </a:solidFill>
                  <a:latin typeface="Arial"/>
                </a:endParaRPr>
              </a:p>
            </p:txBody>
          </p:sp>
          <p:sp>
            <p:nvSpPr>
              <p:cNvPr id="943" name=""/>
              <p:cNvSpPr/>
              <p:nvPr/>
            </p:nvSpPr>
            <p:spPr>
              <a:xfrm>
                <a:off x="7201080" y="3809880"/>
                <a:ext cx="228960" cy="381240"/>
              </a:xfrm>
              <a:custGeom>
                <a:avLst/>
                <a:gdLst/>
                <a:ahLst/>
                <a:rect l="0" t="0" r="r" b="b"/>
                <a:pathLst>
                  <a:path w="636" h="1059">
                    <a:moveTo>
                      <a:pt x="0" y="352"/>
                    </a:moveTo>
                    <a:lnTo>
                      <a:pt x="0" y="705"/>
                    </a:lnTo>
                    <a:lnTo>
                      <a:pt x="445" y="705"/>
                    </a:lnTo>
                    <a:lnTo>
                      <a:pt x="445" y="1059"/>
                    </a:lnTo>
                    <a:lnTo>
                      <a:pt x="636" y="530"/>
                    </a:lnTo>
                    <a:lnTo>
                      <a:pt x="445" y="0"/>
                    </a:lnTo>
                    <a:lnTo>
                      <a:pt x="445" y="352"/>
                    </a:lnTo>
                    <a:lnTo>
                      <a:pt x="0" y="352"/>
                    </a:lnTo>
                    <a:close/>
                  </a:path>
                </a:pathLst>
              </a:custGeom>
              <a:solidFill>
                <a:srgbClr val="13ce24"/>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44" name=""/>
            <p:cNvGrpSpPr/>
            <p:nvPr/>
          </p:nvGrpSpPr>
          <p:grpSpPr>
            <a:xfrm>
              <a:off x="5029200" y="2819520"/>
              <a:ext cx="1066680" cy="1371600"/>
              <a:chOff x="5029200" y="2819520"/>
              <a:chExt cx="1066680" cy="1371600"/>
            </a:xfrm>
          </p:grpSpPr>
          <p:sp>
            <p:nvSpPr>
              <p:cNvPr id="945" name=""/>
              <p:cNvSpPr/>
              <p:nvPr/>
            </p:nvSpPr>
            <p:spPr>
              <a:xfrm>
                <a:off x="5029200" y="2819520"/>
                <a:ext cx="1066680" cy="990720"/>
              </a:xfrm>
              <a:prstGeom prst="roundRect">
                <a:avLst/>
              </a:prstGeom>
              <a:solidFill>
                <a:srgbClr val="fcf64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6" name=""/>
              <p:cNvSpPr txBox="1"/>
              <p:nvPr/>
            </p:nvSpPr>
            <p:spPr>
              <a:xfrm>
                <a:off x="5060880" y="2894040"/>
                <a:ext cx="884160" cy="581040"/>
              </a:xfrm>
              <a:prstGeom prst="rect">
                <a:avLst/>
              </a:prstGeom>
              <a:solidFill>
                <a:srgbClr val="fcf647"/>
              </a:solidFill>
              <a:ln w="0">
                <a:noFill/>
              </a:ln>
            </p:spPr>
            <p:txBody>
              <a:bodyPr lIns="0" rIns="0" tIns="0" bIns="0" anchor="t">
                <a:noAutofit/>
              </a:bodyPr>
              <a:p>
                <a:pPr>
                  <a:lnSpc>
                    <a:spcPct val="100000"/>
                  </a:lnSpc>
                </a:pPr>
                <a:r>
                  <a:rPr b="0" lang="en-US" sz="1600" spc="-1" strike="noStrike">
                    <a:solidFill>
                      <a:srgbClr val="1406f8"/>
                    </a:solidFill>
                    <a:latin typeface="Arial"/>
                    <a:ea typeface="Arial"/>
                  </a:rPr>
                  <a:t>Node C</a:t>
                </a:r>
                <a:endParaRPr b="0" lang="en-US" sz="1600" spc="-1" strike="noStrike">
                  <a:solidFill>
                    <a:srgbClr val="000000"/>
                  </a:solidFill>
                  <a:latin typeface="Arial"/>
                </a:endParaRPr>
              </a:p>
              <a:p>
                <a:pPr>
                  <a:lnSpc>
                    <a:spcPct val="100000"/>
                  </a:lnSpc>
                </a:pPr>
                <a:r>
                  <a:rPr b="0" lang="en-US" sz="1600" spc="-1" strike="noStrike">
                    <a:solidFill>
                      <a:srgbClr val="1406f8"/>
                    </a:solidFill>
                    <a:latin typeface="Arial"/>
                    <a:ea typeface="Arial"/>
                  </a:rPr>
                  <a:t>4 CPUs</a:t>
                </a:r>
                <a:endParaRPr b="0" lang="en-US" sz="1600" spc="-1" strike="noStrike">
                  <a:solidFill>
                    <a:srgbClr val="000000"/>
                  </a:solidFill>
                  <a:latin typeface="Arial"/>
                </a:endParaRPr>
              </a:p>
            </p:txBody>
          </p:sp>
          <p:sp>
            <p:nvSpPr>
              <p:cNvPr id="947" name=""/>
              <p:cNvSpPr/>
              <p:nvPr/>
            </p:nvSpPr>
            <p:spPr>
              <a:xfrm>
                <a:off x="5448240" y="3809880"/>
                <a:ext cx="228960" cy="381240"/>
              </a:xfrm>
              <a:custGeom>
                <a:avLst/>
                <a:gdLst/>
                <a:ahLst/>
                <a:rect l="0" t="0" r="r" b="b"/>
                <a:pathLst>
                  <a:path w="636" h="1059">
                    <a:moveTo>
                      <a:pt x="0" y="352"/>
                    </a:moveTo>
                    <a:lnTo>
                      <a:pt x="0" y="705"/>
                    </a:lnTo>
                    <a:lnTo>
                      <a:pt x="445" y="705"/>
                    </a:lnTo>
                    <a:lnTo>
                      <a:pt x="445" y="1059"/>
                    </a:lnTo>
                    <a:lnTo>
                      <a:pt x="636" y="530"/>
                    </a:lnTo>
                    <a:lnTo>
                      <a:pt x="445" y="0"/>
                    </a:lnTo>
                    <a:lnTo>
                      <a:pt x="445" y="352"/>
                    </a:lnTo>
                    <a:lnTo>
                      <a:pt x="0" y="352"/>
                    </a:lnTo>
                    <a:close/>
                  </a:path>
                </a:pathLst>
              </a:custGeom>
              <a:solidFill>
                <a:srgbClr val="13ce24"/>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48" name=""/>
            <p:cNvSpPr/>
            <p:nvPr/>
          </p:nvSpPr>
          <p:spPr>
            <a:xfrm>
              <a:off x="1409760" y="4727520"/>
              <a:ext cx="6477120" cy="380880"/>
            </a:xfrm>
            <a:prstGeom prst="roundRect">
              <a:avLst/>
            </a:prstGeom>
            <a:solidFill>
              <a:srgbClr val="13ce24"/>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9" name=""/>
            <p:cNvSpPr txBox="1"/>
            <p:nvPr/>
          </p:nvSpPr>
          <p:spPr>
            <a:xfrm>
              <a:off x="3619440" y="4749840"/>
              <a:ext cx="20588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Rdb Global Section</a:t>
              </a:r>
              <a:endParaRPr b="0" lang="en-US" sz="1600" spc="-1" strike="noStrike">
                <a:solidFill>
                  <a:srgbClr val="000000"/>
                </a:solidFill>
                <a:latin typeface="Arial"/>
              </a:endParaRPr>
            </a:p>
          </p:txBody>
        </p:sp>
        <p:grpSp>
          <p:nvGrpSpPr>
            <p:cNvPr id="950" name=""/>
            <p:cNvGrpSpPr/>
            <p:nvPr/>
          </p:nvGrpSpPr>
          <p:grpSpPr>
            <a:xfrm>
              <a:off x="1219320" y="5181480"/>
              <a:ext cx="6857640" cy="609480"/>
              <a:chOff x="1219320" y="5181480"/>
              <a:chExt cx="6857640" cy="609480"/>
            </a:xfrm>
          </p:grpSpPr>
          <p:sp>
            <p:nvSpPr>
              <p:cNvPr id="951" name=""/>
              <p:cNvSpPr/>
              <p:nvPr/>
            </p:nvSpPr>
            <p:spPr>
              <a:xfrm>
                <a:off x="1219320" y="5181480"/>
                <a:ext cx="6405480" cy="365040"/>
              </a:xfrm>
              <a:prstGeom prst="roundRect">
                <a:avLst/>
              </a:prstGeom>
              <a:solidFill>
                <a:srgbClr val="13ce24"/>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2" name=""/>
              <p:cNvSpPr/>
              <p:nvPr/>
            </p:nvSpPr>
            <p:spPr>
              <a:xfrm>
                <a:off x="1370160" y="5262480"/>
                <a:ext cx="6405480" cy="366840"/>
              </a:xfrm>
              <a:prstGeom prst="roundRect">
                <a:avLst/>
              </a:prstGeom>
              <a:solidFill>
                <a:srgbClr val="13ce24"/>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3" name=""/>
              <p:cNvSpPr/>
              <p:nvPr/>
            </p:nvSpPr>
            <p:spPr>
              <a:xfrm>
                <a:off x="1521000" y="5343480"/>
                <a:ext cx="6405480" cy="366840"/>
              </a:xfrm>
              <a:prstGeom prst="roundRect">
                <a:avLst/>
              </a:prstGeom>
              <a:solidFill>
                <a:srgbClr val="13ce24"/>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p:nvPr/>
            </p:nvSpPr>
            <p:spPr>
              <a:xfrm>
                <a:off x="1671480" y="5425920"/>
                <a:ext cx="6405480" cy="365040"/>
              </a:xfrm>
              <a:prstGeom prst="roundRect">
                <a:avLst/>
              </a:prstGeom>
              <a:solidFill>
                <a:srgbClr val="13ce24"/>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5" name=""/>
              <p:cNvSpPr txBox="1"/>
              <p:nvPr/>
            </p:nvSpPr>
            <p:spPr>
              <a:xfrm>
                <a:off x="3805200" y="5435640"/>
                <a:ext cx="21384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Shared Row Caches</a:t>
                </a:r>
                <a:endParaRPr b="0" lang="en-US" sz="1600" spc="-1" strike="noStrike">
                  <a:solidFill>
                    <a:srgbClr val="000000"/>
                  </a:solidFill>
                  <a:latin typeface="Arial"/>
                </a:endParaRPr>
              </a:p>
            </p:txBody>
          </p:sp>
        </p:grpSp>
        <p:grpSp>
          <p:nvGrpSpPr>
            <p:cNvPr id="956" name=""/>
            <p:cNvGrpSpPr/>
            <p:nvPr/>
          </p:nvGrpSpPr>
          <p:grpSpPr>
            <a:xfrm>
              <a:off x="4095720" y="1447920"/>
              <a:ext cx="1086120" cy="838440"/>
              <a:chOff x="4095720" y="1447920"/>
              <a:chExt cx="1086120" cy="838440"/>
            </a:xfrm>
          </p:grpSpPr>
          <p:grpSp>
            <p:nvGrpSpPr>
              <p:cNvPr id="957" name=""/>
              <p:cNvGrpSpPr/>
              <p:nvPr/>
            </p:nvGrpSpPr>
            <p:grpSpPr>
              <a:xfrm>
                <a:off x="4095720" y="1447920"/>
                <a:ext cx="1086120" cy="838440"/>
                <a:chOff x="4095720" y="1447920"/>
                <a:chExt cx="1086120" cy="838440"/>
              </a:xfrm>
            </p:grpSpPr>
            <p:sp>
              <p:nvSpPr>
                <p:cNvPr id="958" name=""/>
                <p:cNvSpPr/>
                <p:nvPr/>
              </p:nvSpPr>
              <p:spPr>
                <a:xfrm>
                  <a:off x="4095720" y="1514520"/>
                  <a:ext cx="1086120" cy="771840"/>
                </a:xfrm>
                <a:custGeom>
                  <a:avLst/>
                  <a:gdLst/>
                  <a:ahLst/>
                  <a:rect l="0" t="0" r="r" b="b"/>
                  <a:pathLst>
                    <a:path w="3017" h="2144">
                      <a:moveTo>
                        <a:pt x="0" y="0"/>
                      </a:moveTo>
                      <a:lnTo>
                        <a:pt x="0" y="1857"/>
                      </a:lnTo>
                      <a:lnTo>
                        <a:pt x="8" y="1897"/>
                      </a:lnTo>
                      <a:lnTo>
                        <a:pt x="61" y="1932"/>
                      </a:lnTo>
                      <a:lnTo>
                        <a:pt x="154" y="1976"/>
                      </a:lnTo>
                      <a:lnTo>
                        <a:pt x="242" y="2007"/>
                      </a:lnTo>
                      <a:lnTo>
                        <a:pt x="304" y="2025"/>
                      </a:lnTo>
                      <a:lnTo>
                        <a:pt x="423" y="2051"/>
                      </a:lnTo>
                      <a:lnTo>
                        <a:pt x="546" y="2077"/>
                      </a:lnTo>
                      <a:lnTo>
                        <a:pt x="718" y="2108"/>
                      </a:lnTo>
                      <a:lnTo>
                        <a:pt x="890" y="2122"/>
                      </a:lnTo>
                      <a:lnTo>
                        <a:pt x="1049" y="2130"/>
                      </a:lnTo>
                      <a:lnTo>
                        <a:pt x="1195" y="2139"/>
                      </a:lnTo>
                      <a:lnTo>
                        <a:pt x="1327" y="2144"/>
                      </a:lnTo>
                      <a:lnTo>
                        <a:pt x="1681" y="2144"/>
                      </a:lnTo>
                      <a:lnTo>
                        <a:pt x="1906" y="2135"/>
                      </a:lnTo>
                      <a:lnTo>
                        <a:pt x="2100" y="2122"/>
                      </a:lnTo>
                      <a:lnTo>
                        <a:pt x="2254" y="2108"/>
                      </a:lnTo>
                      <a:lnTo>
                        <a:pt x="2391" y="2086"/>
                      </a:lnTo>
                      <a:lnTo>
                        <a:pt x="2532" y="2064"/>
                      </a:lnTo>
                      <a:lnTo>
                        <a:pt x="2695" y="2033"/>
                      </a:lnTo>
                      <a:lnTo>
                        <a:pt x="2801" y="1998"/>
                      </a:lnTo>
                      <a:lnTo>
                        <a:pt x="2893" y="1972"/>
                      </a:lnTo>
                      <a:lnTo>
                        <a:pt x="2937" y="1936"/>
                      </a:lnTo>
                      <a:lnTo>
                        <a:pt x="2990" y="1906"/>
                      </a:lnTo>
                      <a:lnTo>
                        <a:pt x="3008" y="1879"/>
                      </a:lnTo>
                      <a:lnTo>
                        <a:pt x="3017" y="1861"/>
                      </a:lnTo>
                      <a:lnTo>
                        <a:pt x="3012" y="0"/>
                      </a:lnTo>
                      <a:lnTo>
                        <a:pt x="0" y="0"/>
                      </a:lnTo>
                      <a:close/>
                    </a:path>
                  </a:pathLst>
                </a:custGeom>
                <a:gradFill rotWithShape="0">
                  <a:gsLst>
                    <a:gs pos="0">
                      <a:srgbClr val="ffffff"/>
                    </a:gs>
                    <a:gs pos="50000">
                      <a:srgbClr val="cecece"/>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9" name=""/>
                <p:cNvSpPr/>
                <p:nvPr/>
              </p:nvSpPr>
              <p:spPr>
                <a:xfrm>
                  <a:off x="4095720" y="1447920"/>
                  <a:ext cx="1085760" cy="115920"/>
                </a:xfrm>
                <a:prstGeom prst="ellipse">
                  <a:avLst/>
                </a:prstGeom>
                <a:gradFill rotWithShape="0">
                  <a:gsLst>
                    <a:gs pos="0">
                      <a:srgbClr val="ffffff"/>
                    </a:gs>
                    <a:gs pos="50000">
                      <a:srgbClr val="cecece"/>
                    </a:gs>
                    <a:gs pos="100000">
                      <a:srgbClr val="fffff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960" name=""/>
              <p:cNvSpPr txBox="1"/>
              <p:nvPr/>
            </p:nvSpPr>
            <p:spPr>
              <a:xfrm>
                <a:off x="4246560" y="1646280"/>
                <a:ext cx="836640" cy="45720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Rdb</a:t>
                </a:r>
                <a:br>
                  <a:rPr sz="1200"/>
                </a:br>
                <a:r>
                  <a:rPr b="0" lang="en-US" sz="1200" spc="-1" strike="noStrike">
                    <a:solidFill>
                      <a:srgbClr val="000000"/>
                    </a:solidFill>
                    <a:latin typeface="Arial"/>
                    <a:ea typeface="Arial"/>
                  </a:rPr>
                  <a:t>Database</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
          <p:cNvSpPr txBox="1"/>
          <p:nvPr/>
        </p:nvSpPr>
        <p:spPr>
          <a:xfrm>
            <a:off x="685800" y="533520"/>
            <a:ext cx="7467480" cy="1176120"/>
          </a:xfrm>
          <a:prstGeom prst="rect">
            <a:avLst/>
          </a:prstGeom>
          <a:noFill/>
          <a:ln w="0">
            <a:noFill/>
          </a:ln>
        </p:spPr>
        <p:txBody>
          <a:bodyPr lIns="0" rIns="0" tIns="0" bIns="0" anchor="t">
            <a:noAutofit/>
          </a:bodyPr>
          <a:p>
            <a:pPr>
              <a:lnSpc>
                <a:spcPct val="85000"/>
              </a:lnSpc>
            </a:pPr>
            <a:r>
              <a:rPr b="1" lang="en-US" sz="4000" spc="-1" strike="noStrike">
                <a:solidFill>
                  <a:srgbClr val="000000"/>
                </a:solidFill>
                <a:latin typeface="Univers"/>
                <a:ea typeface="Univers"/>
              </a:rPr>
              <a:t>OpenVMS Hardware Platform Support </a:t>
            </a:r>
            <a:endParaRPr b="0" lang="en-US" sz="4000" spc="-1" strike="noStrike">
              <a:solidFill>
                <a:srgbClr val="000000"/>
              </a:solidFill>
              <a:latin typeface="Arial"/>
            </a:endParaRPr>
          </a:p>
        </p:txBody>
      </p:sp>
      <p:sp>
        <p:nvSpPr>
          <p:cNvPr id="962" name=""/>
          <p:cNvSpPr txBox="1"/>
          <p:nvPr/>
        </p:nvSpPr>
        <p:spPr>
          <a:xfrm>
            <a:off x="609480" y="1752480"/>
            <a:ext cx="7848720" cy="407664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45000"/>
              <a:buFont typeface="Wingdings"/>
              <a:buChar char=""/>
            </a:pPr>
            <a:r>
              <a:rPr b="0" lang="en-US" sz="2800" spc="-1" strike="noStrike">
                <a:solidFill>
                  <a:srgbClr val="000000"/>
                </a:solidFill>
                <a:latin typeface="Univers"/>
                <a:ea typeface="Univers"/>
              </a:rPr>
              <a:t>OpenVMS 7.3 and future OpenVMS releases</a:t>
            </a:r>
            <a:endParaRPr b="0" lang="en-US" sz="2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800" spc="-1" strike="noStrike">
                <a:solidFill>
                  <a:srgbClr val="000000"/>
                </a:solidFill>
                <a:latin typeface="Univers"/>
                <a:ea typeface="Univers"/>
              </a:rPr>
              <a:t>Galaxy</a:t>
            </a:r>
            <a:endParaRPr b="0" lang="en-US" sz="2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800" spc="-1" strike="noStrike">
                <a:solidFill>
                  <a:srgbClr val="000000"/>
                </a:solidFill>
                <a:latin typeface="Univers"/>
                <a:ea typeface="Univers"/>
              </a:rPr>
              <a:t>Wildfire (Rdb7 and Rdb 7.1 support ~3 months after VMS revenue ships.) </a:t>
            </a:r>
            <a:endParaRPr b="0" lang="en-US" sz="2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800" spc="-1" strike="noStrike">
                <a:solidFill>
                  <a:srgbClr val="000000"/>
                </a:solidFill>
                <a:latin typeface="Univers"/>
                <a:ea typeface="Univers"/>
              </a:rPr>
              <a:t>EV68</a:t>
            </a:r>
            <a:endParaRPr b="0" lang="en-US" sz="2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800" spc="-1" strike="noStrike">
                <a:solidFill>
                  <a:srgbClr val="000000"/>
                </a:solidFill>
                <a:latin typeface="Univers"/>
                <a:ea typeface="Univers"/>
              </a:rPr>
              <a:t>EV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txBox="1"/>
          <p:nvPr/>
        </p:nvSpPr>
        <p:spPr>
          <a:xfrm>
            <a:off x="628560" y="1468440"/>
            <a:ext cx="7800840" cy="3025800"/>
          </a:xfrm>
          <a:prstGeom prst="rect">
            <a:avLst/>
          </a:prstGeom>
          <a:noFill/>
          <a:ln w="0">
            <a:noFill/>
          </a:ln>
        </p:spPr>
        <p:txBody>
          <a:bodyPr lIns="0" rIns="0" tIns="0" bIns="0" anchor="t">
            <a:noAutofit/>
          </a:bodyPr>
          <a:p>
            <a:pPr>
              <a:lnSpc>
                <a:spcPct val="100000"/>
              </a:lnSpc>
              <a:tabLst>
                <a:tab algn="r" pos="3309840"/>
                <a:tab algn="r" pos="4346640"/>
                <a:tab algn="r" pos="5310360"/>
                <a:tab algn="r" pos="6286680"/>
                <a:tab algn="r" pos="726264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endParaRPr b="0" lang="en-US" sz="1600" spc="-1" strike="noStrike">
              <a:solidFill>
                <a:srgbClr val="000000"/>
              </a:solidFill>
              <a:latin typeface="Arial"/>
            </a:endParaRPr>
          </a:p>
          <a:p>
            <a:pPr>
              <a:lnSpc>
                <a:spcPct val="100000"/>
              </a:lnSpc>
              <a:tabLst>
                <a:tab algn="r" pos="3309840"/>
                <a:tab algn="r" pos="4346640"/>
                <a:tab algn="r" pos="5310360"/>
                <a:tab algn="r" pos="6286680"/>
                <a:tab algn="r" pos="726264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EV6</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EV67</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EV68</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EV7</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EV8</a:t>
            </a:r>
            <a:r>
              <a:rPr b="1" lang="en-US" sz="1600" spc="-1" strike="noStrike">
                <a:solidFill>
                  <a:srgbClr val="ff3300"/>
                </a:solidFill>
                <a:latin typeface="Arial"/>
                <a:ea typeface="Arial"/>
              </a:rPr>
              <a:t>	</a:t>
            </a:r>
            <a:endParaRPr b="0" lang="en-US" sz="1600" spc="-1" strike="noStrike">
              <a:solidFill>
                <a:srgbClr val="000000"/>
              </a:solidFill>
              <a:latin typeface="Arial"/>
            </a:endParaRPr>
          </a:p>
          <a:p>
            <a:pPr>
              <a:lnSpc>
                <a:spcPct val="100000"/>
              </a:lnSpc>
              <a:tabLst>
                <a:tab algn="r" pos="3309840"/>
                <a:tab algn="r" pos="4346640"/>
                <a:tab algn="r" pos="5310360"/>
                <a:tab algn="r" pos="6286680"/>
                <a:tab algn="r" pos="7262640"/>
              </a:tabLst>
            </a:pPr>
            <a:r>
              <a:rPr b="1" lang="en-US" sz="1600" spc="-1" strike="noStrike">
                <a:solidFill>
                  <a:srgbClr val="000000"/>
                </a:solidFill>
                <a:latin typeface="Arial"/>
                <a:ea typeface="Arial"/>
              </a:rPr>
              <a:t>Schedule - Ship Date</a:t>
            </a:r>
            <a:r>
              <a:rPr b="1" lang="en-US" sz="1600" spc="-1" strike="noStrike">
                <a:solidFill>
                  <a:srgbClr val="000000"/>
                </a:solidFill>
                <a:latin typeface="Arial"/>
                <a:ea typeface="Arial"/>
              </a:rPr>
              <a:t>	</a:t>
            </a:r>
            <a:r>
              <a:rPr b="0" lang="en-US" sz="1600" spc="-1" strike="noStrike">
                <a:solidFill>
                  <a:srgbClr val="000000"/>
                </a:solidFill>
                <a:latin typeface="Arial"/>
                <a:ea typeface="Arial"/>
              </a:rPr>
              <a:t>Q4 98</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Q3 99</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Q1 01</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xxxx</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xxxx</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lnSpc>
                <a:spcPct val="100000"/>
              </a:lnSpc>
              <a:tabLst>
                <a:tab algn="r" pos="3309840"/>
                <a:tab algn="r" pos="4346640"/>
                <a:tab algn="r" pos="5310360"/>
                <a:tab algn="r" pos="6286680"/>
                <a:tab algn="r" pos="7262640"/>
              </a:tabLst>
            </a:pPr>
            <a:endParaRPr b="0" lang="en-US" sz="1600" spc="-1" strike="noStrike">
              <a:solidFill>
                <a:srgbClr val="000000"/>
              </a:solidFill>
              <a:latin typeface="Arial"/>
            </a:endParaRPr>
          </a:p>
          <a:p>
            <a:pPr>
              <a:lnSpc>
                <a:spcPct val="100000"/>
              </a:lnSpc>
              <a:tabLst>
                <a:tab algn="r" pos="3309840"/>
                <a:tab algn="r" pos="4346640"/>
                <a:tab algn="r" pos="5310360"/>
                <a:tab algn="r" pos="6286680"/>
                <a:tab algn="r" pos="7262640"/>
              </a:tabLst>
            </a:pPr>
            <a:r>
              <a:rPr b="1" lang="en-US" sz="1600" spc="-1" strike="noStrike">
                <a:solidFill>
                  <a:srgbClr val="000000"/>
                </a:solidFill>
                <a:latin typeface="Arial"/>
                <a:ea typeface="Arial"/>
              </a:rPr>
              <a:t>Technology - CMOS</a:t>
            </a:r>
            <a:r>
              <a:rPr b="1" lang="en-US" sz="1600" spc="-1" strike="noStrike">
                <a:solidFill>
                  <a:srgbClr val="000000"/>
                </a:solidFill>
                <a:latin typeface="Arial"/>
                <a:ea typeface="Arial"/>
              </a:rPr>
              <a:t>	</a:t>
            </a:r>
            <a:r>
              <a:rPr b="0" lang="en-US" sz="1600" spc="-1" strike="noStrike">
                <a:solidFill>
                  <a:srgbClr val="000000"/>
                </a:solidFill>
                <a:latin typeface="Arial"/>
                <a:ea typeface="Arial"/>
              </a:rPr>
              <a:t>.35um</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28um</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8um</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8um</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3um</a:t>
            </a:r>
            <a:r>
              <a:rPr b="1" lang="en-US" sz="1600" spc="-1" strike="noStrike">
                <a:solidFill>
                  <a:srgbClr val="000000"/>
                </a:solidFill>
                <a:latin typeface="Arial"/>
                <a:ea typeface="Arial"/>
              </a:rPr>
              <a:t>	</a:t>
            </a:r>
            <a:endParaRPr b="0" lang="en-US" sz="1600" spc="-1" strike="noStrike">
              <a:solidFill>
                <a:srgbClr val="000000"/>
              </a:solidFill>
              <a:latin typeface="Arial"/>
            </a:endParaRPr>
          </a:p>
          <a:p>
            <a:pPr>
              <a:lnSpc>
                <a:spcPct val="100000"/>
              </a:lnSpc>
              <a:tabLst>
                <a:tab algn="r" pos="3309840"/>
                <a:tab algn="r" pos="4346640"/>
                <a:tab algn="r" pos="5310360"/>
                <a:tab algn="r" pos="6286680"/>
                <a:tab algn="r" pos="7262640"/>
              </a:tabLst>
            </a:pPr>
            <a:endParaRPr b="0" lang="en-US" sz="1600" spc="-1" strike="noStrike">
              <a:solidFill>
                <a:srgbClr val="000000"/>
              </a:solidFill>
              <a:latin typeface="Arial"/>
            </a:endParaRPr>
          </a:p>
          <a:p>
            <a:pPr>
              <a:lnSpc>
                <a:spcPct val="100000"/>
              </a:lnSpc>
              <a:tabLst>
                <a:tab algn="r" pos="3309840"/>
                <a:tab algn="r" pos="4346640"/>
                <a:tab algn="r" pos="5310360"/>
                <a:tab algn="r" pos="6286680"/>
                <a:tab algn="r" pos="7262640"/>
              </a:tabLst>
            </a:pPr>
            <a:r>
              <a:rPr b="1" lang="en-US" sz="1600" spc="-1" strike="noStrike">
                <a:solidFill>
                  <a:srgbClr val="000000"/>
                </a:solidFill>
                <a:latin typeface="Arial"/>
                <a:ea typeface="Arial"/>
              </a:rPr>
              <a:t>Chip Characteristics</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endParaRPr b="0" lang="en-US" sz="1600" spc="-1" strike="noStrike">
              <a:solidFill>
                <a:srgbClr val="000000"/>
              </a:solidFill>
              <a:latin typeface="Arial"/>
            </a:endParaRPr>
          </a:p>
          <a:p>
            <a:pPr>
              <a:lnSpc>
                <a:spcPct val="100000"/>
              </a:lnSpc>
              <a:tabLst>
                <a:tab algn="r" pos="3309840"/>
                <a:tab algn="r" pos="4346640"/>
                <a:tab algn="r" pos="5310360"/>
                <a:tab algn="r" pos="6286680"/>
                <a:tab algn="r" pos="7262640"/>
              </a:tabLst>
            </a:pPr>
            <a:r>
              <a:rPr b="1" lang="en-US" sz="1600" spc="-1" strike="noStrike">
                <a:solidFill>
                  <a:srgbClr val="000000"/>
                </a:solidFill>
                <a:latin typeface="Arial"/>
                <a:ea typeface="Arial"/>
              </a:rPr>
              <a:t>Frequency (MHz)</a:t>
            </a:r>
            <a:r>
              <a:rPr b="1" lang="en-US" sz="1600" spc="-1" strike="noStrike">
                <a:solidFill>
                  <a:srgbClr val="000000"/>
                </a:solidFill>
                <a:latin typeface="Arial"/>
                <a:ea typeface="Arial"/>
              </a:rPr>
              <a:t>	</a:t>
            </a:r>
            <a:r>
              <a:rPr b="0" lang="en-US" sz="1600" spc="-1" strike="noStrike">
                <a:solidFill>
                  <a:srgbClr val="000000"/>
                </a:solidFill>
                <a:latin typeface="Arial"/>
                <a:ea typeface="Arial"/>
              </a:rPr>
              <a:t>575</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750</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000</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250</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600</a:t>
            </a:r>
            <a:r>
              <a:rPr b="1" lang="en-US" sz="1600" spc="-1" strike="noStrike">
                <a:solidFill>
                  <a:srgbClr val="000000"/>
                </a:solidFill>
                <a:latin typeface="Arial"/>
                <a:ea typeface="Arial"/>
              </a:rPr>
              <a:t>	</a:t>
            </a:r>
            <a:endParaRPr b="0" lang="en-US" sz="1600" spc="-1" strike="noStrike">
              <a:solidFill>
                <a:srgbClr val="000000"/>
              </a:solidFill>
              <a:latin typeface="Arial"/>
            </a:endParaRPr>
          </a:p>
          <a:p>
            <a:pPr>
              <a:lnSpc>
                <a:spcPct val="100000"/>
              </a:lnSpc>
              <a:tabLst>
                <a:tab algn="r" pos="3309840"/>
                <a:tab algn="r" pos="4346640"/>
                <a:tab algn="r" pos="5310360"/>
                <a:tab algn="r" pos="6286680"/>
                <a:tab algn="r" pos="7262640"/>
              </a:tabLst>
            </a:pPr>
            <a:r>
              <a:rPr b="1" lang="en-US" sz="1600" spc="-1" strike="noStrike">
                <a:solidFill>
                  <a:srgbClr val="000000"/>
                </a:solidFill>
                <a:latin typeface="Arial"/>
                <a:ea typeface="Arial"/>
              </a:rPr>
              <a:t>Performance (SPECint95)</a:t>
            </a:r>
            <a:r>
              <a:rPr b="1" lang="en-US" sz="1600" spc="-1" strike="noStrike">
                <a:solidFill>
                  <a:srgbClr val="000000"/>
                </a:solidFill>
                <a:latin typeface="Arial"/>
                <a:ea typeface="Arial"/>
              </a:rPr>
              <a:t>	</a:t>
            </a:r>
            <a:r>
              <a:rPr b="0" lang="en-US" sz="1600" spc="-1" strike="noStrike">
                <a:solidFill>
                  <a:srgbClr val="000000"/>
                </a:solidFill>
                <a:latin typeface="Arial"/>
                <a:ea typeface="Arial"/>
              </a:rPr>
              <a:t>32</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45</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60</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75</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60</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lnSpc>
                <a:spcPct val="100000"/>
              </a:lnSpc>
              <a:tabLst>
                <a:tab algn="r" pos="3309840"/>
                <a:tab algn="r" pos="4346640"/>
                <a:tab algn="r" pos="5310360"/>
                <a:tab algn="r" pos="6286680"/>
                <a:tab algn="r" pos="7262640"/>
              </a:tabLst>
            </a:pPr>
            <a:r>
              <a:rPr b="1" lang="en-US" sz="1600" spc="-1" strike="noStrike">
                <a:solidFill>
                  <a:srgbClr val="000000"/>
                </a:solidFill>
                <a:latin typeface="Arial"/>
                <a:ea typeface="Arial"/>
              </a:rPr>
              <a:t>Performance (SPECfp95)</a:t>
            </a:r>
            <a:r>
              <a:rPr b="1" lang="en-US" sz="1600" spc="-1" strike="noStrike">
                <a:solidFill>
                  <a:srgbClr val="000000"/>
                </a:solidFill>
                <a:latin typeface="Arial"/>
                <a:ea typeface="Arial"/>
              </a:rPr>
              <a:t>	</a:t>
            </a:r>
            <a:r>
              <a:rPr b="0" lang="en-US" sz="1600" spc="-1" strike="noStrike">
                <a:solidFill>
                  <a:srgbClr val="000000"/>
                </a:solidFill>
                <a:latin typeface="Arial"/>
                <a:ea typeface="Arial"/>
              </a:rPr>
              <a:t>61</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85</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20</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60</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400</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lnSpc>
                <a:spcPct val="100000"/>
              </a:lnSpc>
              <a:tabLst>
                <a:tab algn="r" pos="3309840"/>
                <a:tab algn="r" pos="4346640"/>
                <a:tab algn="r" pos="5310360"/>
                <a:tab algn="r" pos="6286680"/>
                <a:tab algn="r" pos="7262640"/>
              </a:tabLst>
            </a:pPr>
            <a:r>
              <a:rPr b="1" lang="en-US" sz="1600" spc="-1" strike="noStrike">
                <a:solidFill>
                  <a:srgbClr val="000000"/>
                </a:solidFill>
                <a:latin typeface="Arial"/>
                <a:ea typeface="Arial"/>
              </a:rPr>
              <a:t>Memory BW (GB/sec)</a:t>
            </a:r>
            <a:r>
              <a:rPr b="1" lang="en-US" sz="1600" spc="-1" strike="noStrike">
                <a:solidFill>
                  <a:srgbClr val="000000"/>
                </a:solidFill>
                <a:latin typeface="Arial"/>
                <a:ea typeface="Arial"/>
              </a:rPr>
              <a:t>	</a:t>
            </a:r>
            <a:r>
              <a:rPr b="0" lang="en-US" sz="1600" spc="-1" strike="noStrike">
                <a:solidFill>
                  <a:srgbClr val="000000"/>
                </a:solidFill>
                <a:latin typeface="Arial"/>
                <a:ea typeface="Arial"/>
              </a:rPr>
              <a:t>2</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2</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2</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0</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6</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lnSpc>
                <a:spcPct val="100000"/>
              </a:lnSpc>
              <a:tabLst>
                <a:tab algn="r" pos="3309840"/>
                <a:tab algn="r" pos="4346640"/>
                <a:tab algn="r" pos="5310360"/>
                <a:tab algn="r" pos="6286680"/>
                <a:tab algn="r" pos="7262640"/>
              </a:tabLst>
            </a:pPr>
            <a:r>
              <a:rPr b="1" lang="en-US" sz="1600" spc="-1" strike="noStrike">
                <a:solidFill>
                  <a:srgbClr val="000000"/>
                </a:solidFill>
                <a:latin typeface="Arial"/>
                <a:ea typeface="Arial"/>
              </a:rPr>
              <a:t>Cache BW (GB/sec)</a:t>
            </a:r>
            <a:r>
              <a:rPr b="1" lang="en-US" sz="1600" spc="-1" strike="noStrike">
                <a:solidFill>
                  <a:srgbClr val="000000"/>
                </a:solidFill>
                <a:latin typeface="Arial"/>
                <a:ea typeface="Arial"/>
              </a:rPr>
              <a:t>	</a:t>
            </a:r>
            <a:r>
              <a:rPr b="0" lang="en-US" sz="1600" spc="-1" strike="noStrike">
                <a:solidFill>
                  <a:srgbClr val="000000"/>
                </a:solidFill>
                <a:latin typeface="Arial"/>
                <a:ea typeface="Arial"/>
              </a:rPr>
              <a:t>4</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7</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8</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20</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00</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964" name=""/>
          <p:cNvSpPr txBox="1"/>
          <p:nvPr/>
        </p:nvSpPr>
        <p:spPr>
          <a:xfrm>
            <a:off x="685800" y="533520"/>
            <a:ext cx="7467480" cy="1176120"/>
          </a:xfrm>
          <a:prstGeom prst="rect">
            <a:avLst/>
          </a:prstGeom>
          <a:noFill/>
          <a:ln w="0">
            <a:noFill/>
          </a:ln>
        </p:spPr>
        <p:txBody>
          <a:bodyPr lIns="0" rIns="0" tIns="0" bIns="0" anchor="t">
            <a:noAutofit/>
          </a:bodyPr>
          <a:p>
            <a:pPr>
              <a:lnSpc>
                <a:spcPct val="85000"/>
              </a:lnSpc>
            </a:pPr>
            <a:r>
              <a:rPr b="1" lang="en-US" sz="4000" spc="-1" strike="noStrike">
                <a:solidFill>
                  <a:srgbClr val="000000"/>
                </a:solidFill>
                <a:latin typeface="Univers"/>
                <a:ea typeface="Univers"/>
              </a:rPr>
              <a:t>Alpha Microprocessor Roadmap</a:t>
            </a:r>
            <a:endParaRPr b="0" lang="en-US" sz="4000" spc="-1" strike="noStrike">
              <a:solidFill>
                <a:srgbClr val="000000"/>
              </a:solidFill>
              <a:latin typeface="Arial"/>
            </a:endParaRPr>
          </a:p>
        </p:txBody>
      </p:sp>
      <p:pic>
        <p:nvPicPr>
          <p:cNvPr id="965" name="" descr=""/>
          <p:cNvPicPr/>
          <p:nvPr/>
        </p:nvPicPr>
        <p:blipFill>
          <a:blip r:embed="rId1"/>
          <a:stretch/>
        </p:blipFill>
        <p:spPr>
          <a:xfrm>
            <a:off x="4519440" y="2560680"/>
            <a:ext cx="6070680" cy="4059360"/>
          </a:xfrm>
          <a:prstGeom prst="rect">
            <a:avLst/>
          </a:prstGeom>
          <a:ln w="0">
            <a:noFill/>
          </a:ln>
        </p:spPr>
      </p:pic>
      <p:grpSp>
        <p:nvGrpSpPr>
          <p:cNvPr id="966" name=""/>
          <p:cNvGrpSpPr/>
          <p:nvPr/>
        </p:nvGrpSpPr>
        <p:grpSpPr>
          <a:xfrm>
            <a:off x="609480" y="1981080"/>
            <a:ext cx="7543800" cy="3276720"/>
            <a:chOff x="609480" y="1981080"/>
            <a:chExt cx="7543800" cy="3276720"/>
          </a:xfrm>
        </p:grpSpPr>
        <p:sp>
          <p:nvSpPr>
            <p:cNvPr id="967" name=""/>
            <p:cNvSpPr/>
            <p:nvPr/>
          </p:nvSpPr>
          <p:spPr>
            <a:xfrm>
              <a:off x="609480" y="1981080"/>
              <a:ext cx="7543800" cy="0"/>
            </a:xfrm>
            <a:prstGeom prst="line">
              <a:avLst/>
            </a:prstGeom>
            <a:ln w="25560">
              <a:solidFill>
                <a:srgbClr val="e9e95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8" name=""/>
            <p:cNvSpPr/>
            <p:nvPr/>
          </p:nvSpPr>
          <p:spPr>
            <a:xfrm>
              <a:off x="3200400" y="1981080"/>
              <a:ext cx="0" cy="3276720"/>
            </a:xfrm>
            <a:prstGeom prst="line">
              <a:avLst/>
            </a:prstGeom>
            <a:ln w="25560">
              <a:solidFill>
                <a:srgbClr val="e9e959"/>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857160" y="533520"/>
            <a:ext cx="6026040" cy="648000"/>
          </a:xfrm>
          <a:prstGeom prst="rect">
            <a:avLst/>
          </a:prstGeom>
          <a:noFill/>
          <a:ln w="0">
            <a:noFill/>
          </a:ln>
        </p:spPr>
        <p:txBody>
          <a:bodyPr lIns="0" rIns="0" tIns="0" bIns="0" anchor="t">
            <a:noAutofit/>
          </a:bodyPr>
          <a:p>
            <a:pPr>
              <a:lnSpc>
                <a:spcPct val="85000"/>
              </a:lnSpc>
            </a:pPr>
            <a:r>
              <a:rPr b="1" lang="en-US" sz="4400" spc="-1" strike="noStrike">
                <a:solidFill>
                  <a:srgbClr val="000000"/>
                </a:solidFill>
                <a:latin typeface="Univers"/>
                <a:ea typeface="Univers"/>
              </a:rPr>
              <a:t>Have you ever . . .  </a:t>
            </a:r>
            <a:endParaRPr b="0" lang="en-US" sz="4400" spc="-1" strike="noStrike">
              <a:solidFill>
                <a:srgbClr val="000000"/>
              </a:solidFill>
              <a:latin typeface="Arial"/>
            </a:endParaRPr>
          </a:p>
        </p:txBody>
      </p:sp>
      <p:sp>
        <p:nvSpPr>
          <p:cNvPr id="88" name=""/>
          <p:cNvSpPr txBox="1"/>
          <p:nvPr/>
        </p:nvSpPr>
        <p:spPr>
          <a:xfrm>
            <a:off x="0" y="1674720"/>
            <a:ext cx="9142560" cy="5181480"/>
          </a:xfrm>
          <a:prstGeom prst="rect">
            <a:avLst/>
          </a:prstGeom>
          <a:noFill/>
          <a:ln w="0">
            <a:noFill/>
          </a:ln>
        </p:spPr>
        <p:txBody>
          <a:bodyPr lIns="0" rIns="0" tIns="0" bIns="0" anchor="t">
            <a:noAutofit/>
          </a:bodyPr>
          <a:p>
            <a:pPr marL="343080" indent="-343080">
              <a:lnSpc>
                <a:spcPct val="100000"/>
              </a:lnSpc>
              <a:spcBef>
                <a:spcPts val="601"/>
              </a:spcBef>
              <a:buClr>
                <a:srgbClr val="cc0000"/>
              </a:buClr>
              <a:buSzPct val="45000"/>
              <a:buFont typeface="Wingdings"/>
              <a:buChar char=""/>
            </a:pPr>
            <a:r>
              <a:rPr b="0" lang="en-US" sz="1600" spc="-1" strike="noStrike">
                <a:solidFill>
                  <a:srgbClr val="000000"/>
                </a:solidFill>
                <a:latin typeface="Univers"/>
                <a:ea typeface="Univers"/>
              </a:rPr>
              <a:t>Traded commodities, equities or futures in the US, UK, Australia, Austria, Sweden, Spain, France, Greece, Italy, Switzerland, or Germany</a:t>
            </a:r>
            <a:endParaRPr b="0" lang="en-US" sz="1600" spc="-1" strike="noStrike">
              <a:solidFill>
                <a:srgbClr val="000000"/>
              </a:solidFill>
              <a:latin typeface="Arial"/>
            </a:endParaRPr>
          </a:p>
          <a:p>
            <a:pPr marL="343080" indent="-343080">
              <a:lnSpc>
                <a:spcPct val="100000"/>
              </a:lnSpc>
              <a:spcBef>
                <a:spcPts val="601"/>
              </a:spcBef>
              <a:buClr>
                <a:srgbClr val="cc0000"/>
              </a:buClr>
              <a:buSzPct val="45000"/>
              <a:buFont typeface="Wingdings"/>
              <a:buChar char=""/>
            </a:pPr>
            <a:r>
              <a:rPr b="0" lang="en-US" sz="1600" spc="-1" strike="noStrike">
                <a:solidFill>
                  <a:srgbClr val="000000"/>
                </a:solidFill>
                <a:latin typeface="Univers"/>
                <a:ea typeface="Univers"/>
              </a:rPr>
              <a:t>Made a mobile phone call in the US, Italy, Japan, Korea, Hong Kong, UK, South Africa, Germany, Peru, Austria, Czech Republic, Denmark, France, Greece, Portugal, or Switzerland</a:t>
            </a:r>
            <a:endParaRPr b="0" lang="en-US" sz="1600" spc="-1" strike="noStrike">
              <a:solidFill>
                <a:srgbClr val="000000"/>
              </a:solidFill>
              <a:latin typeface="Arial"/>
            </a:endParaRPr>
          </a:p>
          <a:p>
            <a:pPr marL="343080" indent="-343080">
              <a:lnSpc>
                <a:spcPct val="100000"/>
              </a:lnSpc>
              <a:spcBef>
                <a:spcPts val="601"/>
              </a:spcBef>
              <a:buClr>
                <a:srgbClr val="cc0000"/>
              </a:buClr>
              <a:buSzPct val="45000"/>
              <a:buFont typeface="Wingdings"/>
              <a:buChar char=""/>
            </a:pPr>
            <a:r>
              <a:rPr b="0" lang="en-US" sz="1600" spc="-1" strike="noStrike">
                <a:solidFill>
                  <a:srgbClr val="000000"/>
                </a:solidFill>
                <a:latin typeface="Univers"/>
                <a:ea typeface="Univers"/>
              </a:rPr>
              <a:t>Run a PC with Intel inside</a:t>
            </a:r>
            <a:endParaRPr b="0" lang="en-US" sz="1600" spc="-1" strike="noStrike">
              <a:solidFill>
                <a:srgbClr val="000000"/>
              </a:solidFill>
              <a:latin typeface="Arial"/>
            </a:endParaRPr>
          </a:p>
          <a:p>
            <a:pPr marL="343080" indent="-343080">
              <a:lnSpc>
                <a:spcPct val="100000"/>
              </a:lnSpc>
              <a:spcBef>
                <a:spcPts val="601"/>
              </a:spcBef>
              <a:buClr>
                <a:srgbClr val="cc0000"/>
              </a:buClr>
              <a:buSzPct val="45000"/>
              <a:buFont typeface="Wingdings"/>
              <a:buChar char=""/>
            </a:pPr>
            <a:r>
              <a:rPr b="0" lang="en-US" sz="1600" spc="-1" strike="noStrike">
                <a:solidFill>
                  <a:srgbClr val="000000"/>
                </a:solidFill>
                <a:latin typeface="Univers"/>
                <a:ea typeface="Univers"/>
              </a:rPr>
              <a:t>Purchased a lottery ticket in Europe, Canada, Australia, South America or the US</a:t>
            </a:r>
            <a:endParaRPr b="0" lang="en-US" sz="1600" spc="-1" strike="noStrike">
              <a:solidFill>
                <a:srgbClr val="000000"/>
              </a:solidFill>
              <a:latin typeface="Arial"/>
            </a:endParaRPr>
          </a:p>
          <a:p>
            <a:pPr marL="343080" indent="-343080">
              <a:lnSpc>
                <a:spcPct val="100000"/>
              </a:lnSpc>
              <a:spcBef>
                <a:spcPts val="601"/>
              </a:spcBef>
              <a:buClr>
                <a:srgbClr val="cc0000"/>
              </a:buClr>
              <a:buSzPct val="45000"/>
              <a:buFont typeface="Wingdings"/>
              <a:buChar char=""/>
            </a:pPr>
            <a:r>
              <a:rPr b="0" lang="en-US" sz="1600" spc="-1" strike="noStrike">
                <a:solidFill>
                  <a:srgbClr val="000000"/>
                </a:solidFill>
                <a:latin typeface="Univers"/>
                <a:ea typeface="Univers"/>
              </a:rPr>
              <a:t>Watched the US Space Shuttle lift off</a:t>
            </a:r>
            <a:endParaRPr b="0" lang="en-US" sz="1600" spc="-1" strike="noStrike">
              <a:solidFill>
                <a:srgbClr val="000000"/>
              </a:solidFill>
              <a:latin typeface="Arial"/>
            </a:endParaRPr>
          </a:p>
          <a:p>
            <a:pPr marL="343080" indent="-343080">
              <a:lnSpc>
                <a:spcPct val="100000"/>
              </a:lnSpc>
              <a:spcBef>
                <a:spcPts val="601"/>
              </a:spcBef>
              <a:buClr>
                <a:srgbClr val="cc0000"/>
              </a:buClr>
              <a:buSzPct val="45000"/>
              <a:buFont typeface="Wingdings"/>
              <a:buChar char=""/>
            </a:pPr>
            <a:r>
              <a:rPr b="0" lang="en-US" sz="1600" spc="-1" strike="noStrike">
                <a:solidFill>
                  <a:srgbClr val="000000"/>
                </a:solidFill>
                <a:latin typeface="Univers"/>
                <a:ea typeface="Univers"/>
              </a:rPr>
              <a:t>Driven a Volvo, Nissan, or Fiat</a:t>
            </a:r>
            <a:endParaRPr b="0" lang="en-US" sz="1600" spc="-1" strike="noStrike">
              <a:solidFill>
                <a:srgbClr val="000000"/>
              </a:solidFill>
              <a:latin typeface="Arial"/>
            </a:endParaRPr>
          </a:p>
          <a:p>
            <a:pPr marL="343080" indent="-343080">
              <a:lnSpc>
                <a:spcPct val="100000"/>
              </a:lnSpc>
              <a:spcBef>
                <a:spcPts val="601"/>
              </a:spcBef>
              <a:buClr>
                <a:srgbClr val="cc0000"/>
              </a:buClr>
              <a:buSzPct val="45000"/>
              <a:buFont typeface="Wingdings"/>
              <a:buChar char=""/>
            </a:pPr>
            <a:r>
              <a:rPr b="0" lang="en-US" sz="1600" spc="-1" strike="noStrike">
                <a:solidFill>
                  <a:srgbClr val="000000"/>
                </a:solidFill>
                <a:latin typeface="Univers"/>
                <a:ea typeface="Univers"/>
              </a:rPr>
              <a:t>Purchased a newspaper in the UK</a:t>
            </a:r>
            <a:endParaRPr b="0" lang="en-US" sz="1600" spc="-1" strike="noStrike">
              <a:solidFill>
                <a:srgbClr val="000000"/>
              </a:solidFill>
              <a:latin typeface="Arial"/>
            </a:endParaRPr>
          </a:p>
          <a:p>
            <a:pPr marL="343080" indent="-343080">
              <a:lnSpc>
                <a:spcPct val="100000"/>
              </a:lnSpc>
              <a:spcBef>
                <a:spcPts val="601"/>
              </a:spcBef>
              <a:buClr>
                <a:srgbClr val="cc0000"/>
              </a:buClr>
              <a:buSzPct val="45000"/>
              <a:buFont typeface="Wingdings"/>
              <a:buChar char=""/>
            </a:pPr>
            <a:r>
              <a:rPr b="0" lang="en-US" sz="1600" spc="-1" strike="noStrike">
                <a:solidFill>
                  <a:srgbClr val="000000"/>
                </a:solidFill>
                <a:latin typeface="Univers"/>
                <a:ea typeface="Univers"/>
              </a:rPr>
              <a:t>Captured a Kodak moment</a:t>
            </a:r>
            <a:endParaRPr b="0" lang="en-US" sz="1600" spc="-1" strike="noStrike">
              <a:solidFill>
                <a:srgbClr val="000000"/>
              </a:solidFill>
              <a:latin typeface="Arial"/>
            </a:endParaRPr>
          </a:p>
          <a:p>
            <a:pPr marL="343080" indent="-343080">
              <a:lnSpc>
                <a:spcPct val="100000"/>
              </a:lnSpc>
              <a:spcBef>
                <a:spcPts val="601"/>
              </a:spcBef>
              <a:buClr>
                <a:srgbClr val="cc0000"/>
              </a:buClr>
              <a:buSzPct val="45000"/>
              <a:buFont typeface="Wingdings"/>
              <a:buChar char=""/>
            </a:pPr>
            <a:r>
              <a:rPr b="0" lang="en-US" sz="1600" spc="-1" strike="noStrike">
                <a:solidFill>
                  <a:srgbClr val="000000"/>
                </a:solidFill>
                <a:latin typeface="Univers"/>
                <a:ea typeface="Univers"/>
              </a:rPr>
              <a:t>Been sacked in Ireland</a:t>
            </a:r>
            <a:endParaRPr b="0" lang="en-US" sz="1600" spc="-1" strike="noStrike">
              <a:solidFill>
                <a:srgbClr val="000000"/>
              </a:solidFill>
              <a:latin typeface="Arial"/>
            </a:endParaRPr>
          </a:p>
          <a:p>
            <a:pPr marL="343080" indent="-343080">
              <a:lnSpc>
                <a:spcPct val="100000"/>
              </a:lnSpc>
              <a:spcBef>
                <a:spcPts val="601"/>
              </a:spcBef>
              <a:buClr>
                <a:srgbClr val="cc0000"/>
              </a:buClr>
              <a:buSzPct val="45000"/>
              <a:buFont typeface="Wingdings"/>
              <a:buChar char=""/>
            </a:pPr>
            <a:r>
              <a:rPr b="0" lang="en-US" sz="1600" spc="-1" strike="noStrike">
                <a:solidFill>
                  <a:srgbClr val="000000"/>
                </a:solidFill>
                <a:latin typeface="Univers"/>
                <a:ea typeface="Univers"/>
              </a:rPr>
              <a:t>Used electronic banking in Europe</a:t>
            </a:r>
            <a:endParaRPr b="0" lang="en-US" sz="1600" spc="-1" strike="noStrike">
              <a:solidFill>
                <a:srgbClr val="000000"/>
              </a:solidFill>
              <a:latin typeface="Arial"/>
            </a:endParaRPr>
          </a:p>
          <a:p>
            <a:pPr marL="343080" indent="-343080">
              <a:lnSpc>
                <a:spcPct val="100000"/>
              </a:lnSpc>
              <a:spcBef>
                <a:spcPts val="601"/>
              </a:spcBef>
              <a:buClr>
                <a:srgbClr val="cc0000"/>
              </a:buClr>
              <a:buSzPct val="45000"/>
              <a:buFont typeface="Wingdings"/>
              <a:buChar char=""/>
            </a:pPr>
            <a:r>
              <a:rPr b="0" lang="en-US" sz="1600" spc="-1" strike="noStrike">
                <a:solidFill>
                  <a:srgbClr val="000000"/>
                </a:solidFill>
                <a:latin typeface="Univers"/>
                <a:ea typeface="Univers"/>
              </a:rPr>
              <a:t>Rented a car at Thrifty or Dollar</a:t>
            </a:r>
            <a:endParaRPr b="0" lang="en-US" sz="1600" spc="-1" strike="noStrike">
              <a:solidFill>
                <a:srgbClr val="000000"/>
              </a:solidFill>
              <a:latin typeface="Arial"/>
            </a:endParaRPr>
          </a:p>
          <a:p>
            <a:pPr marL="343080" indent="-343080">
              <a:lnSpc>
                <a:spcPct val="100000"/>
              </a:lnSpc>
              <a:spcBef>
                <a:spcPts val="601"/>
              </a:spcBef>
              <a:buClr>
                <a:srgbClr val="cc0000"/>
              </a:buClr>
              <a:buSzPct val="45000"/>
              <a:buFont typeface="Wingdings"/>
              <a:buChar char=""/>
            </a:pPr>
            <a:r>
              <a:rPr b="0" lang="en-US" sz="1600" spc="-1" strike="noStrike">
                <a:solidFill>
                  <a:srgbClr val="000000"/>
                </a:solidFill>
                <a:latin typeface="Univers"/>
                <a:ea typeface="Univers"/>
              </a:rPr>
              <a:t>Watched Satellite TV</a:t>
            </a:r>
            <a:endParaRPr b="0" lang="en-US" sz="1600" spc="-1" strike="noStrike">
              <a:solidFill>
                <a:srgbClr val="000000"/>
              </a:solidFill>
              <a:latin typeface="Arial"/>
            </a:endParaRPr>
          </a:p>
        </p:txBody>
      </p:sp>
      <p:pic>
        <p:nvPicPr>
          <p:cNvPr id="89" name="" descr=""/>
          <p:cNvPicPr/>
          <p:nvPr/>
        </p:nvPicPr>
        <p:blipFill>
          <a:blip r:embed="rId1"/>
          <a:stretch/>
        </p:blipFill>
        <p:spPr>
          <a:xfrm>
            <a:off x="6784920" y="3568680"/>
            <a:ext cx="2220840" cy="2746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685800" y="533520"/>
            <a:ext cx="7467480" cy="1176120"/>
          </a:xfrm>
          <a:prstGeom prst="rect">
            <a:avLst/>
          </a:prstGeom>
          <a:noFill/>
          <a:ln w="0">
            <a:noFill/>
          </a:ln>
        </p:spPr>
        <p:txBody>
          <a:bodyPr lIns="0" rIns="0" tIns="0" bIns="0" anchor="t">
            <a:noAutofit/>
          </a:bodyPr>
          <a:p>
            <a:pPr>
              <a:lnSpc>
                <a:spcPct val="85000"/>
              </a:lnSpc>
            </a:pPr>
            <a:r>
              <a:rPr b="1" lang="en-US" sz="4000" spc="-1" strike="noStrike">
                <a:solidFill>
                  <a:srgbClr val="000000"/>
                </a:solidFill>
                <a:latin typeface="Univers"/>
                <a:ea typeface="Univers"/>
              </a:rPr>
              <a:t>OpenVMS Operating System Roadmap</a:t>
            </a:r>
            <a:endParaRPr b="0" lang="en-US" sz="4000" spc="-1" strike="noStrike">
              <a:solidFill>
                <a:srgbClr val="000000"/>
              </a:solidFill>
              <a:latin typeface="Arial"/>
            </a:endParaRPr>
          </a:p>
        </p:txBody>
      </p:sp>
      <p:sp>
        <p:nvSpPr>
          <p:cNvPr id="970" name=""/>
          <p:cNvSpPr txBox="1"/>
          <p:nvPr/>
        </p:nvSpPr>
        <p:spPr>
          <a:xfrm>
            <a:off x="103320" y="1892160"/>
            <a:ext cx="3097080" cy="2251080"/>
          </a:xfrm>
          <a:prstGeom prst="rect">
            <a:avLst/>
          </a:prstGeom>
          <a:solidFill>
            <a:srgbClr val="cc0000"/>
          </a:solidFill>
          <a:ln w="0">
            <a:noFill/>
          </a:ln>
        </p:spPr>
        <p:txBody>
          <a:bodyPr lIns="0" rIns="0" tIns="0" bIns="0" anchor="t">
            <a:noAutofit/>
          </a:bodyPr>
          <a:p>
            <a:pPr>
              <a:lnSpc>
                <a:spcPct val="100000"/>
              </a:lnSpc>
            </a:pPr>
            <a:r>
              <a:rPr b="1" lang="en-US" sz="1400" spc="-1" strike="noStrike">
                <a:solidFill>
                  <a:srgbClr val="ffffcc"/>
                </a:solidFill>
                <a:latin typeface="Arial"/>
                <a:ea typeface="Arial"/>
              </a:rPr>
              <a:t>Version 7.2-1</a:t>
            </a:r>
            <a:endParaRPr b="0" lang="en-US" sz="1400" spc="-1" strike="noStrike">
              <a:solidFill>
                <a:srgbClr val="ffffff"/>
              </a:solidFill>
              <a:latin typeface="Arial"/>
            </a:endParaRPr>
          </a:p>
          <a:p>
            <a:pPr>
              <a:lnSpc>
                <a:spcPct val="100000"/>
              </a:lnSpc>
            </a:pPr>
            <a:r>
              <a:rPr b="1" lang="en-US" sz="1400" spc="-1" strike="noStrike">
                <a:solidFill>
                  <a:srgbClr val="ffffcc"/>
                </a:solidFill>
                <a:latin typeface="Arial"/>
                <a:ea typeface="Arial"/>
              </a:rPr>
              <a:t>(Alpha only)</a:t>
            </a:r>
            <a:endParaRPr b="0" lang="en-US" sz="1400" spc="-1" strike="noStrike">
              <a:solidFill>
                <a:srgbClr val="ffffff"/>
              </a:solidFill>
              <a:latin typeface="Arial"/>
            </a:endParaRPr>
          </a:p>
          <a:p>
            <a:pPr>
              <a:lnSpc>
                <a:spcPct val="100000"/>
              </a:lnSpc>
            </a:pPr>
            <a:r>
              <a:rPr b="1" lang="en-US" sz="1400" spc="-1" strike="noStrike">
                <a:solidFill>
                  <a:srgbClr val="ffffcc"/>
                </a:solidFill>
                <a:latin typeface="Arial"/>
                <a:ea typeface="Arial"/>
              </a:rPr>
              <a:t>FRS = 7/99</a:t>
            </a:r>
            <a:endParaRPr b="0" lang="en-US" sz="1400" spc="-1" strike="noStrike">
              <a:solidFill>
                <a:srgbClr val="ffffff"/>
              </a:solidFill>
              <a:latin typeface="Arial"/>
            </a:endParaRPr>
          </a:p>
          <a:p>
            <a:pPr marL="91440" indent="-91440">
              <a:lnSpc>
                <a:spcPct val="100000"/>
              </a:lnSpc>
              <a:buClr>
                <a:srgbClr val="000000"/>
              </a:buClr>
              <a:buSzPct val="45000"/>
              <a:buFont typeface="CP1252"/>
              <a:buChar char=""/>
            </a:pPr>
            <a:r>
              <a:rPr b="1" lang="en-US" sz="1400" spc="-1" strike="noStrike">
                <a:solidFill>
                  <a:srgbClr val="ffffcc"/>
                </a:solidFill>
                <a:latin typeface="Arial"/>
                <a:ea typeface="Arial"/>
              </a:rPr>
              <a:t>COM V1.1</a:t>
            </a:r>
            <a:endParaRPr b="0" lang="en-US" sz="1400" spc="-1" strike="noStrike">
              <a:solidFill>
                <a:srgbClr val="ffffff"/>
              </a:solidFill>
              <a:latin typeface="Arial"/>
            </a:endParaRPr>
          </a:p>
          <a:p>
            <a:pPr marL="91440" indent="-91440">
              <a:lnSpc>
                <a:spcPct val="100000"/>
              </a:lnSpc>
              <a:buClr>
                <a:srgbClr val="000000"/>
              </a:buClr>
              <a:buSzPct val="45000"/>
              <a:buFont typeface="CP1252"/>
              <a:buChar char=""/>
            </a:pPr>
            <a:r>
              <a:rPr b="1" lang="en-US" sz="1400" spc="-1" strike="noStrike">
                <a:solidFill>
                  <a:srgbClr val="ffffcc"/>
                </a:solidFill>
                <a:latin typeface="Arial"/>
                <a:ea typeface="Arial"/>
              </a:rPr>
              <a:t>More Fibre Channel</a:t>
            </a:r>
            <a:endParaRPr b="0" lang="en-US" sz="1400" spc="-1" strike="noStrike">
              <a:solidFill>
                <a:srgbClr val="ffffff"/>
              </a:solidFill>
              <a:latin typeface="Arial"/>
            </a:endParaRPr>
          </a:p>
          <a:p>
            <a:pPr marL="91440" indent="-91440">
              <a:lnSpc>
                <a:spcPct val="100000"/>
              </a:lnSpc>
              <a:buClr>
                <a:srgbClr val="000000"/>
              </a:buClr>
              <a:buSzPct val="45000"/>
              <a:buFont typeface="CP1252"/>
              <a:buChar char=""/>
            </a:pPr>
            <a:r>
              <a:rPr b="1" lang="en-US" sz="1400" spc="-1" strike="noStrike">
                <a:solidFill>
                  <a:srgbClr val="ffffcc"/>
                </a:solidFill>
                <a:latin typeface="Arial"/>
                <a:ea typeface="Arial"/>
              </a:rPr>
              <a:t>Multi-path failover w/Shadowing</a:t>
            </a:r>
            <a:endParaRPr b="0" lang="en-US" sz="1400" spc="-1" strike="noStrike">
              <a:solidFill>
                <a:srgbClr val="ffffff"/>
              </a:solidFill>
              <a:latin typeface="Arial"/>
            </a:endParaRPr>
          </a:p>
          <a:p>
            <a:pPr marL="91440" indent="-91440">
              <a:lnSpc>
                <a:spcPct val="100000"/>
              </a:lnSpc>
              <a:buClr>
                <a:srgbClr val="000000"/>
              </a:buClr>
              <a:buSzPct val="45000"/>
              <a:buFont typeface="CP1252"/>
              <a:buChar char=""/>
            </a:pPr>
            <a:r>
              <a:rPr b="1" lang="en-US" sz="1400" spc="-1" strike="noStrike">
                <a:solidFill>
                  <a:srgbClr val="ffffcc"/>
                </a:solidFill>
                <a:latin typeface="Arial"/>
                <a:ea typeface="Arial"/>
              </a:rPr>
              <a:t>V7.2 HW01 support</a:t>
            </a:r>
            <a:endParaRPr b="0" lang="en-US" sz="1400" spc="-1" strike="noStrike">
              <a:solidFill>
                <a:srgbClr val="ffffff"/>
              </a:solidFill>
              <a:latin typeface="Arial"/>
            </a:endParaRPr>
          </a:p>
          <a:p>
            <a:pPr marL="91440" indent="-91440">
              <a:lnSpc>
                <a:spcPct val="100000"/>
              </a:lnSpc>
              <a:buClr>
                <a:srgbClr val="000000"/>
              </a:buClr>
              <a:buSzPct val="45000"/>
              <a:buFont typeface="CP1252"/>
              <a:buChar char=""/>
            </a:pPr>
            <a:r>
              <a:rPr b="1" lang="en-US" sz="1400" spc="-1" strike="noStrike">
                <a:solidFill>
                  <a:srgbClr val="ffffcc"/>
                </a:solidFill>
                <a:latin typeface="Arial"/>
                <a:ea typeface="Arial"/>
              </a:rPr>
              <a:t>Maintenance</a:t>
            </a:r>
            <a:endParaRPr b="0" lang="en-US" sz="1400" spc="-1" strike="noStrike">
              <a:solidFill>
                <a:srgbClr val="ffffff"/>
              </a:solidFill>
              <a:latin typeface="Arial"/>
            </a:endParaRPr>
          </a:p>
          <a:p>
            <a:pPr marL="91440" indent="-91440">
              <a:lnSpc>
                <a:spcPct val="100000"/>
              </a:lnSpc>
              <a:buClr>
                <a:srgbClr val="000000"/>
              </a:buClr>
              <a:buSzPct val="45000"/>
              <a:buFont typeface="CP1252"/>
              <a:buChar char=""/>
            </a:pPr>
            <a:r>
              <a:rPr b="1" lang="en-US" sz="1400" spc="-1" strike="noStrike">
                <a:solidFill>
                  <a:srgbClr val="ffffcc"/>
                </a:solidFill>
                <a:latin typeface="Arial"/>
                <a:ea typeface="Arial"/>
              </a:rPr>
              <a:t>TCP/IP V5.0A</a:t>
            </a:r>
            <a:endParaRPr b="0" lang="en-US" sz="1400" spc="-1" strike="noStrike">
              <a:solidFill>
                <a:srgbClr val="ffffff"/>
              </a:solidFill>
              <a:latin typeface="Arial"/>
            </a:endParaRPr>
          </a:p>
          <a:p>
            <a:pPr marL="91440" indent="-91440">
              <a:lnSpc>
                <a:spcPct val="100000"/>
              </a:lnSpc>
              <a:buClr>
                <a:srgbClr val="000000"/>
              </a:buClr>
              <a:buSzPct val="45000"/>
              <a:buFont typeface="CP1252"/>
              <a:buChar char=""/>
            </a:pPr>
            <a:r>
              <a:rPr b="1" lang="en-US" sz="1400" spc="-1" strike="noStrike">
                <a:solidFill>
                  <a:srgbClr val="ffffcc"/>
                </a:solidFill>
                <a:latin typeface="Arial"/>
                <a:ea typeface="Arial"/>
              </a:rPr>
              <a:t>Advanced Server V7.2A</a:t>
            </a:r>
            <a:endParaRPr b="0" lang="en-US" sz="1400" spc="-1" strike="noStrike">
              <a:solidFill>
                <a:srgbClr val="ffffff"/>
              </a:solidFill>
              <a:latin typeface="Arial"/>
            </a:endParaRPr>
          </a:p>
        </p:txBody>
      </p:sp>
      <p:sp>
        <p:nvSpPr>
          <p:cNvPr id="971" name=""/>
          <p:cNvSpPr txBox="1"/>
          <p:nvPr/>
        </p:nvSpPr>
        <p:spPr>
          <a:xfrm>
            <a:off x="3357720" y="2174760"/>
            <a:ext cx="1981080" cy="1187280"/>
          </a:xfrm>
          <a:prstGeom prst="rect">
            <a:avLst/>
          </a:prstGeom>
          <a:solidFill>
            <a:srgbClr val="800080"/>
          </a:solidFill>
          <a:ln w="0">
            <a:noFill/>
          </a:ln>
        </p:spPr>
        <p:txBody>
          <a:bodyPr lIns="0" rIns="0" tIns="0" bIns="0" anchor="t">
            <a:noAutofit/>
          </a:bodyPr>
          <a:p>
            <a:pPr>
              <a:lnSpc>
                <a:spcPct val="100000"/>
              </a:lnSpc>
            </a:pPr>
            <a:r>
              <a:rPr b="1" lang="en-US" sz="1400" spc="-1" strike="noStrike">
                <a:solidFill>
                  <a:srgbClr val="ffffcc"/>
                </a:solidFill>
                <a:latin typeface="Arial"/>
                <a:ea typeface="Arial"/>
              </a:rPr>
              <a:t>Version 7.3</a:t>
            </a:r>
            <a:endParaRPr b="0" lang="en-US" sz="1400" spc="-1" strike="noStrike">
              <a:solidFill>
                <a:srgbClr val="ffffff"/>
              </a:solidFill>
              <a:latin typeface="Arial"/>
            </a:endParaRPr>
          </a:p>
          <a:p>
            <a:pPr>
              <a:lnSpc>
                <a:spcPct val="100000"/>
              </a:lnSpc>
            </a:pPr>
            <a:r>
              <a:rPr b="1" lang="en-US" sz="1400" spc="-1" strike="noStrike">
                <a:solidFill>
                  <a:srgbClr val="ffffcc"/>
                </a:solidFill>
                <a:latin typeface="Arial"/>
                <a:ea typeface="Arial"/>
              </a:rPr>
              <a:t>(Alpha and VAX)</a:t>
            </a:r>
            <a:endParaRPr b="0" lang="en-US" sz="1400" spc="-1" strike="noStrike">
              <a:solidFill>
                <a:srgbClr val="ffffff"/>
              </a:solidFill>
              <a:latin typeface="Arial"/>
            </a:endParaRPr>
          </a:p>
          <a:p>
            <a:pPr>
              <a:lnSpc>
                <a:spcPct val="100000"/>
              </a:lnSpc>
            </a:pPr>
            <a:r>
              <a:rPr b="1" lang="en-US" sz="1400" spc="-1" strike="noStrike">
                <a:solidFill>
                  <a:srgbClr val="ffffcc"/>
                </a:solidFill>
                <a:latin typeface="Arial"/>
                <a:ea typeface="Arial"/>
              </a:rPr>
              <a:t>High Availability &amp; Performance focus</a:t>
            </a:r>
            <a:endParaRPr b="0" lang="en-US" sz="1400" spc="-1" strike="noStrike">
              <a:solidFill>
                <a:srgbClr val="ffffff"/>
              </a:solidFill>
              <a:latin typeface="Arial"/>
            </a:endParaRPr>
          </a:p>
          <a:p>
            <a:pPr>
              <a:lnSpc>
                <a:spcPct val="100000"/>
              </a:lnSpc>
            </a:pPr>
            <a:r>
              <a:rPr b="1" lang="en-US" sz="1400" spc="-1" strike="noStrike">
                <a:solidFill>
                  <a:srgbClr val="ffffcc"/>
                </a:solidFill>
                <a:latin typeface="Arial"/>
                <a:ea typeface="Arial"/>
              </a:rPr>
              <a:t>FRS = H1CY2001</a:t>
            </a:r>
            <a:endParaRPr b="0" lang="en-US" sz="1400" spc="-1" strike="noStrike">
              <a:solidFill>
                <a:srgbClr val="ffffff"/>
              </a:solidFill>
              <a:latin typeface="Arial"/>
            </a:endParaRPr>
          </a:p>
        </p:txBody>
      </p:sp>
      <p:sp>
        <p:nvSpPr>
          <p:cNvPr id="972" name=""/>
          <p:cNvSpPr txBox="1"/>
          <p:nvPr/>
        </p:nvSpPr>
        <p:spPr>
          <a:xfrm>
            <a:off x="5985000" y="2270160"/>
            <a:ext cx="1346040" cy="974880"/>
          </a:xfrm>
          <a:prstGeom prst="rect">
            <a:avLst/>
          </a:prstGeom>
          <a:solidFill>
            <a:srgbClr val="000080"/>
          </a:solidFill>
          <a:ln w="0">
            <a:noFill/>
          </a:ln>
        </p:spPr>
        <p:txBody>
          <a:bodyPr lIns="0" rIns="0" tIns="0" bIns="0" anchor="t">
            <a:noAutofit/>
          </a:bodyPr>
          <a:p>
            <a:pPr>
              <a:lnSpc>
                <a:spcPct val="100000"/>
              </a:lnSpc>
            </a:pPr>
            <a:r>
              <a:rPr b="1" lang="en-US" sz="1400" spc="-1" strike="noStrike">
                <a:solidFill>
                  <a:srgbClr val="ffffcc"/>
                </a:solidFill>
                <a:latin typeface="Arial"/>
                <a:ea typeface="Arial"/>
              </a:rPr>
              <a:t>Version 7.x</a:t>
            </a:r>
            <a:endParaRPr b="0" lang="en-US" sz="1400" spc="-1" strike="noStrike">
              <a:solidFill>
                <a:srgbClr val="ffffff"/>
              </a:solidFill>
              <a:latin typeface="Arial"/>
            </a:endParaRPr>
          </a:p>
          <a:p>
            <a:pPr>
              <a:lnSpc>
                <a:spcPct val="100000"/>
              </a:lnSpc>
            </a:pPr>
            <a:r>
              <a:rPr b="1" lang="en-US" sz="1400" spc="-1" strike="noStrike">
                <a:solidFill>
                  <a:srgbClr val="ffffcc"/>
                </a:solidFill>
                <a:latin typeface="Arial"/>
                <a:ea typeface="Arial"/>
              </a:rPr>
              <a:t>(Alpha and VAX)</a:t>
            </a:r>
            <a:endParaRPr b="0" lang="en-US" sz="1400" spc="-1" strike="noStrike">
              <a:solidFill>
                <a:srgbClr val="ffffff"/>
              </a:solidFill>
              <a:latin typeface="Arial"/>
            </a:endParaRPr>
          </a:p>
          <a:p>
            <a:pPr>
              <a:lnSpc>
                <a:spcPct val="100000"/>
              </a:lnSpc>
            </a:pPr>
            <a:r>
              <a:rPr b="1" lang="en-US" sz="1400" spc="-1" strike="noStrike">
                <a:solidFill>
                  <a:srgbClr val="ffffcc"/>
                </a:solidFill>
                <a:latin typeface="Arial"/>
                <a:ea typeface="Arial"/>
              </a:rPr>
              <a:t>FRS = 2002</a:t>
            </a:r>
            <a:endParaRPr b="0" lang="en-US" sz="1400" spc="-1" strike="noStrike">
              <a:solidFill>
                <a:srgbClr val="ffffff"/>
              </a:solidFill>
              <a:latin typeface="Arial"/>
            </a:endParaRPr>
          </a:p>
        </p:txBody>
      </p:sp>
      <p:sp>
        <p:nvSpPr>
          <p:cNvPr id="973" name=""/>
          <p:cNvSpPr txBox="1"/>
          <p:nvPr/>
        </p:nvSpPr>
        <p:spPr>
          <a:xfrm>
            <a:off x="4111560" y="4181400"/>
            <a:ext cx="1778040" cy="1400040"/>
          </a:xfrm>
          <a:prstGeom prst="rect">
            <a:avLst/>
          </a:prstGeom>
          <a:solidFill>
            <a:srgbClr val="800080"/>
          </a:solidFill>
          <a:ln w="0">
            <a:noFill/>
          </a:ln>
        </p:spPr>
        <p:txBody>
          <a:bodyPr lIns="0" rIns="0" tIns="0" bIns="0" anchor="t">
            <a:noAutofit/>
          </a:bodyPr>
          <a:p>
            <a:pPr>
              <a:lnSpc>
                <a:spcPct val="100000"/>
              </a:lnSpc>
            </a:pPr>
            <a:r>
              <a:rPr b="1" lang="en-US" sz="1400" spc="-1" strike="noStrike">
                <a:solidFill>
                  <a:srgbClr val="ffffcc"/>
                </a:solidFill>
                <a:latin typeface="Arial"/>
                <a:ea typeface="Arial"/>
              </a:rPr>
              <a:t>Version 7.3-1</a:t>
            </a:r>
            <a:endParaRPr b="0" lang="en-US" sz="1400" spc="-1" strike="noStrike">
              <a:solidFill>
                <a:srgbClr val="ffffff"/>
              </a:solidFill>
              <a:latin typeface="Arial"/>
            </a:endParaRPr>
          </a:p>
          <a:p>
            <a:pPr>
              <a:lnSpc>
                <a:spcPct val="100000"/>
              </a:lnSpc>
            </a:pPr>
            <a:r>
              <a:rPr b="1" lang="en-US" sz="1400" spc="-1" strike="noStrike">
                <a:solidFill>
                  <a:srgbClr val="ffffcc"/>
                </a:solidFill>
                <a:latin typeface="Arial"/>
                <a:ea typeface="Arial"/>
              </a:rPr>
              <a:t>(Alpha only)</a:t>
            </a:r>
            <a:endParaRPr b="0" lang="en-US" sz="1400" spc="-1" strike="noStrike">
              <a:solidFill>
                <a:srgbClr val="ffffff"/>
              </a:solidFill>
              <a:latin typeface="Arial"/>
            </a:endParaRPr>
          </a:p>
          <a:p>
            <a:pPr>
              <a:lnSpc>
                <a:spcPct val="100000"/>
              </a:lnSpc>
            </a:pPr>
            <a:r>
              <a:rPr b="1" lang="en-US" sz="1400" spc="-1" strike="noStrike">
                <a:solidFill>
                  <a:srgbClr val="ffffcc"/>
                </a:solidFill>
                <a:latin typeface="Arial"/>
                <a:ea typeface="Arial"/>
              </a:rPr>
              <a:t>FRS = Q3CY01</a:t>
            </a:r>
            <a:endParaRPr b="0" lang="en-US" sz="1400" spc="-1" strike="noStrike">
              <a:solidFill>
                <a:srgbClr val="ffffff"/>
              </a:solidFill>
              <a:latin typeface="Arial"/>
            </a:endParaRPr>
          </a:p>
          <a:p>
            <a:pPr>
              <a:lnSpc>
                <a:spcPct val="100000"/>
              </a:lnSpc>
            </a:pPr>
            <a:r>
              <a:rPr b="1" lang="en-US" sz="1400" spc="-1" strike="noStrike">
                <a:solidFill>
                  <a:srgbClr val="ffffcc"/>
                </a:solidFill>
                <a:latin typeface="Arial"/>
                <a:ea typeface="Arial"/>
              </a:rPr>
              <a:t>Scalability &amp; Performance enhancements</a:t>
            </a:r>
            <a:endParaRPr b="0" lang="en-US" sz="1400" spc="-1" strike="noStrike">
              <a:solidFill>
                <a:srgbClr val="ffffff"/>
              </a:solidFill>
              <a:latin typeface="Arial"/>
            </a:endParaRPr>
          </a:p>
        </p:txBody>
      </p:sp>
      <p:sp>
        <p:nvSpPr>
          <p:cNvPr id="974" name=""/>
          <p:cNvSpPr txBox="1"/>
          <p:nvPr/>
        </p:nvSpPr>
        <p:spPr>
          <a:xfrm>
            <a:off x="3429000" y="3533760"/>
            <a:ext cx="1179360" cy="549360"/>
          </a:xfrm>
          <a:prstGeom prst="rect">
            <a:avLst/>
          </a:prstGeom>
          <a:solidFill>
            <a:srgbClr val="666699"/>
          </a:solidFill>
          <a:ln w="0">
            <a:noFill/>
          </a:ln>
        </p:spPr>
        <p:txBody>
          <a:bodyPr lIns="0" rIns="0" tIns="0" bIns="0" anchor="t">
            <a:noAutofit/>
          </a:bodyPr>
          <a:p>
            <a:pPr>
              <a:lnSpc>
                <a:spcPct val="100000"/>
              </a:lnSpc>
            </a:pPr>
            <a:r>
              <a:rPr b="1" lang="en-US" sz="1400" spc="-1" strike="noStrike">
                <a:solidFill>
                  <a:srgbClr val="ffffcc"/>
                </a:solidFill>
                <a:latin typeface="Arial"/>
                <a:ea typeface="Arial"/>
              </a:rPr>
              <a:t>V7.2-6C1</a:t>
            </a:r>
            <a:endParaRPr b="0" lang="en-US" sz="1400" spc="-1" strike="noStrike">
              <a:solidFill>
                <a:srgbClr val="000000"/>
              </a:solidFill>
              <a:latin typeface="Arial"/>
            </a:endParaRPr>
          </a:p>
          <a:p>
            <a:pPr marL="91440" indent="-91440">
              <a:lnSpc>
                <a:spcPct val="100000"/>
              </a:lnSpc>
              <a:buClr>
                <a:srgbClr val="000000"/>
              </a:buClr>
              <a:buSzPct val="45000"/>
              <a:buFont typeface="CP1252"/>
              <a:buChar char=""/>
            </a:pPr>
            <a:r>
              <a:rPr b="1" lang="en-US" sz="1400" spc="-1" strike="noStrike">
                <a:solidFill>
                  <a:srgbClr val="ffffcc"/>
                </a:solidFill>
                <a:latin typeface="Arial"/>
                <a:ea typeface="Arial"/>
              </a:rPr>
              <a:t>DII COE</a:t>
            </a:r>
            <a:endParaRPr b="0" lang="en-US" sz="1400" spc="-1" strike="noStrike">
              <a:solidFill>
                <a:srgbClr val="000000"/>
              </a:solidFill>
              <a:latin typeface="Arial"/>
            </a:endParaRPr>
          </a:p>
        </p:txBody>
      </p:sp>
      <p:grpSp>
        <p:nvGrpSpPr>
          <p:cNvPr id="975" name=""/>
          <p:cNvGrpSpPr/>
          <p:nvPr/>
        </p:nvGrpSpPr>
        <p:grpSpPr>
          <a:xfrm>
            <a:off x="541440" y="1378080"/>
            <a:ext cx="7688160" cy="522360"/>
            <a:chOff x="541440" y="1378080"/>
            <a:chExt cx="7688160" cy="522360"/>
          </a:xfrm>
        </p:grpSpPr>
        <p:sp>
          <p:nvSpPr>
            <p:cNvPr id="976" name=""/>
            <p:cNvSpPr/>
            <p:nvPr/>
          </p:nvSpPr>
          <p:spPr>
            <a:xfrm>
              <a:off x="890640" y="1397160"/>
              <a:ext cx="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7" name=""/>
            <p:cNvSpPr/>
            <p:nvPr/>
          </p:nvSpPr>
          <p:spPr>
            <a:xfrm>
              <a:off x="5451480" y="1390680"/>
              <a:ext cx="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8" name=""/>
            <p:cNvSpPr txBox="1"/>
            <p:nvPr/>
          </p:nvSpPr>
          <p:spPr>
            <a:xfrm>
              <a:off x="541440" y="1533600"/>
              <a:ext cx="69228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2000</a:t>
              </a:r>
              <a:endParaRPr b="0" lang="en-US" sz="1800" spc="-1" strike="noStrike">
                <a:solidFill>
                  <a:srgbClr val="000000"/>
                </a:solidFill>
                <a:latin typeface="Arial"/>
              </a:endParaRPr>
            </a:p>
          </p:txBody>
        </p:sp>
        <p:sp>
          <p:nvSpPr>
            <p:cNvPr id="979" name=""/>
            <p:cNvSpPr txBox="1"/>
            <p:nvPr/>
          </p:nvSpPr>
          <p:spPr>
            <a:xfrm>
              <a:off x="2692440" y="1523880"/>
              <a:ext cx="69228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2001</a:t>
              </a:r>
              <a:endParaRPr b="0" lang="en-US" sz="1800" spc="-1" strike="noStrike">
                <a:solidFill>
                  <a:srgbClr val="000000"/>
                </a:solidFill>
                <a:latin typeface="Arial"/>
              </a:endParaRPr>
            </a:p>
          </p:txBody>
        </p:sp>
        <p:sp>
          <p:nvSpPr>
            <p:cNvPr id="980" name=""/>
            <p:cNvSpPr txBox="1"/>
            <p:nvPr/>
          </p:nvSpPr>
          <p:spPr>
            <a:xfrm>
              <a:off x="5103720" y="1508040"/>
              <a:ext cx="69228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2002</a:t>
              </a:r>
              <a:endParaRPr b="0" lang="en-US" sz="1800" spc="-1" strike="noStrike">
                <a:solidFill>
                  <a:srgbClr val="000000"/>
                </a:solidFill>
                <a:latin typeface="Arial"/>
              </a:endParaRPr>
            </a:p>
          </p:txBody>
        </p:sp>
        <p:sp>
          <p:nvSpPr>
            <p:cNvPr id="981" name=""/>
            <p:cNvSpPr/>
            <p:nvPr/>
          </p:nvSpPr>
          <p:spPr>
            <a:xfrm>
              <a:off x="3027240" y="1397160"/>
              <a:ext cx="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2" name=""/>
            <p:cNvSpPr/>
            <p:nvPr/>
          </p:nvSpPr>
          <p:spPr>
            <a:xfrm>
              <a:off x="878040" y="1384200"/>
              <a:ext cx="73515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3" name=""/>
            <p:cNvSpPr/>
            <p:nvPr/>
          </p:nvSpPr>
          <p:spPr>
            <a:xfrm>
              <a:off x="7674120" y="1378080"/>
              <a:ext cx="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4" name=""/>
            <p:cNvSpPr txBox="1"/>
            <p:nvPr/>
          </p:nvSpPr>
          <p:spPr>
            <a:xfrm>
              <a:off x="7348680" y="1495440"/>
              <a:ext cx="69228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2003</a:t>
              </a:r>
              <a:endParaRPr b="0" lang="en-US" sz="1800" spc="-1" strike="noStrike">
                <a:solidFill>
                  <a:srgbClr val="000000"/>
                </a:solidFill>
                <a:latin typeface="Arial"/>
              </a:endParaRPr>
            </a:p>
          </p:txBody>
        </p:sp>
      </p:grpSp>
      <p:sp>
        <p:nvSpPr>
          <p:cNvPr id="985" name=""/>
          <p:cNvSpPr txBox="1"/>
          <p:nvPr/>
        </p:nvSpPr>
        <p:spPr>
          <a:xfrm>
            <a:off x="7796160" y="3311640"/>
            <a:ext cx="1346040" cy="974880"/>
          </a:xfrm>
          <a:prstGeom prst="rect">
            <a:avLst/>
          </a:prstGeom>
          <a:solidFill>
            <a:srgbClr val="000080"/>
          </a:solidFill>
          <a:ln w="0">
            <a:noFill/>
          </a:ln>
        </p:spPr>
        <p:txBody>
          <a:bodyPr lIns="0" rIns="0" tIns="0" bIns="0" anchor="t">
            <a:noAutofit/>
          </a:bodyPr>
          <a:p>
            <a:pPr>
              <a:lnSpc>
                <a:spcPct val="100000"/>
              </a:lnSpc>
            </a:pPr>
            <a:r>
              <a:rPr b="1" lang="en-US" sz="1400" spc="-1" strike="noStrike">
                <a:solidFill>
                  <a:srgbClr val="ffffcc"/>
                </a:solidFill>
                <a:latin typeface="Arial"/>
                <a:ea typeface="Arial"/>
              </a:rPr>
              <a:t>Version 7.n</a:t>
            </a:r>
            <a:endParaRPr b="0" lang="en-US" sz="1400" spc="-1" strike="noStrike">
              <a:solidFill>
                <a:srgbClr val="ffffff"/>
              </a:solidFill>
              <a:latin typeface="Arial"/>
            </a:endParaRPr>
          </a:p>
          <a:p>
            <a:pPr>
              <a:lnSpc>
                <a:spcPct val="100000"/>
              </a:lnSpc>
            </a:pPr>
            <a:r>
              <a:rPr b="1" lang="en-US" sz="1400" spc="-1" strike="noStrike">
                <a:solidFill>
                  <a:srgbClr val="ffffcc"/>
                </a:solidFill>
                <a:latin typeface="Arial"/>
                <a:ea typeface="Arial"/>
              </a:rPr>
              <a:t>(Alpha and VAX)</a:t>
            </a:r>
            <a:endParaRPr b="0" lang="en-US" sz="1400" spc="-1" strike="noStrike">
              <a:solidFill>
                <a:srgbClr val="ffffff"/>
              </a:solidFill>
              <a:latin typeface="Arial"/>
            </a:endParaRPr>
          </a:p>
          <a:p>
            <a:pPr>
              <a:lnSpc>
                <a:spcPct val="100000"/>
              </a:lnSpc>
            </a:pPr>
            <a:r>
              <a:rPr b="1" lang="en-US" sz="1400" spc="-1" strike="noStrike">
                <a:solidFill>
                  <a:srgbClr val="ffffcc"/>
                </a:solidFill>
                <a:latin typeface="Arial"/>
                <a:ea typeface="Arial"/>
              </a:rPr>
              <a:t>FRS = 2003</a:t>
            </a:r>
            <a:endParaRPr b="0" lang="en-US" sz="1400" spc="-1" strike="noStrike">
              <a:solidFill>
                <a:srgbClr val="ffffff"/>
              </a:solidFill>
              <a:latin typeface="Arial"/>
            </a:endParaRPr>
          </a:p>
        </p:txBody>
      </p:sp>
      <p:sp>
        <p:nvSpPr>
          <p:cNvPr id="986" name=""/>
          <p:cNvSpPr txBox="1"/>
          <p:nvPr/>
        </p:nvSpPr>
        <p:spPr>
          <a:xfrm>
            <a:off x="1538280" y="4343400"/>
            <a:ext cx="2119320" cy="1612800"/>
          </a:xfrm>
          <a:prstGeom prst="rect">
            <a:avLst/>
          </a:prstGeom>
          <a:solidFill>
            <a:srgbClr val="008080"/>
          </a:solidFill>
          <a:ln w="0">
            <a:noFill/>
          </a:ln>
        </p:spPr>
        <p:txBody>
          <a:bodyPr lIns="0" rIns="0" tIns="0" bIns="0" anchor="t">
            <a:noAutofit/>
          </a:bodyPr>
          <a:p>
            <a:pPr>
              <a:lnSpc>
                <a:spcPct val="100000"/>
              </a:lnSpc>
            </a:pPr>
            <a:r>
              <a:rPr b="1" lang="en-US" sz="1400" spc="-1" strike="noStrike">
                <a:solidFill>
                  <a:srgbClr val="ffffcc"/>
                </a:solidFill>
                <a:latin typeface="Arial"/>
                <a:ea typeface="Arial"/>
              </a:rPr>
              <a:t>Version 7.2-1H1</a:t>
            </a:r>
            <a:endParaRPr b="0" lang="en-US" sz="1400" spc="-1" strike="noStrike">
              <a:solidFill>
                <a:srgbClr val="000000"/>
              </a:solidFill>
              <a:latin typeface="Arial"/>
            </a:endParaRPr>
          </a:p>
          <a:p>
            <a:pPr>
              <a:lnSpc>
                <a:spcPct val="100000"/>
              </a:lnSpc>
            </a:pPr>
            <a:r>
              <a:rPr b="1" lang="en-US" sz="1400" spc="-1" strike="noStrike">
                <a:solidFill>
                  <a:srgbClr val="ffffcc"/>
                </a:solidFill>
                <a:latin typeface="Arial"/>
                <a:ea typeface="Arial"/>
              </a:rPr>
              <a:t>(Alpha only)</a:t>
            </a:r>
            <a:endParaRPr b="0" lang="en-US" sz="1400" spc="-1" strike="noStrike">
              <a:solidFill>
                <a:srgbClr val="000000"/>
              </a:solidFill>
              <a:latin typeface="Arial"/>
            </a:endParaRPr>
          </a:p>
          <a:p>
            <a:pPr>
              <a:lnSpc>
                <a:spcPct val="100000"/>
              </a:lnSpc>
            </a:pPr>
            <a:r>
              <a:rPr b="1" lang="en-US" sz="1400" spc="-1" strike="noStrike">
                <a:solidFill>
                  <a:srgbClr val="ffffcc"/>
                </a:solidFill>
                <a:latin typeface="Arial"/>
                <a:ea typeface="Arial"/>
              </a:rPr>
              <a:t>FRS = Q2CY2000</a:t>
            </a:r>
            <a:endParaRPr b="0" lang="en-US" sz="1400" spc="-1" strike="noStrike">
              <a:solidFill>
                <a:srgbClr val="000000"/>
              </a:solidFill>
              <a:latin typeface="Arial"/>
            </a:endParaRPr>
          </a:p>
          <a:p>
            <a:pPr marL="91440" indent="-91440">
              <a:lnSpc>
                <a:spcPct val="100000"/>
              </a:lnSpc>
              <a:buClr>
                <a:srgbClr val="000000"/>
              </a:buClr>
              <a:buSzPct val="45000"/>
              <a:buFont typeface="CP1252"/>
              <a:buChar char=""/>
            </a:pPr>
            <a:r>
              <a:rPr b="1" lang="en-US" sz="1400" spc="-1" strike="noStrike">
                <a:solidFill>
                  <a:srgbClr val="ffffcc"/>
                </a:solidFill>
                <a:latin typeface="Arial"/>
                <a:ea typeface="Arial"/>
              </a:rPr>
              <a:t>RMS Performance Enhancements</a:t>
            </a:r>
            <a:endParaRPr b="0" lang="en-US" sz="1400" spc="-1" strike="noStrike">
              <a:solidFill>
                <a:srgbClr val="000000"/>
              </a:solidFill>
              <a:latin typeface="Arial"/>
            </a:endParaRPr>
          </a:p>
          <a:p>
            <a:pPr marL="91440" indent="-91440">
              <a:lnSpc>
                <a:spcPct val="100000"/>
              </a:lnSpc>
              <a:buClr>
                <a:srgbClr val="000000"/>
              </a:buClr>
              <a:buSzPct val="45000"/>
              <a:buFont typeface="CP1252"/>
              <a:buChar char=""/>
            </a:pPr>
            <a:r>
              <a:rPr b="1" lang="en-US" sz="1400" spc="-1" strike="noStrike">
                <a:solidFill>
                  <a:srgbClr val="ffffcc"/>
                </a:solidFill>
                <a:latin typeface="Arial"/>
                <a:ea typeface="Arial"/>
              </a:rPr>
              <a:t>GS80/160/320 (EV67)</a:t>
            </a:r>
            <a:endParaRPr b="0" lang="en-US" sz="1400" spc="-1" strike="noStrike">
              <a:solidFill>
                <a:srgbClr val="000000"/>
              </a:solidFill>
              <a:latin typeface="Arial"/>
            </a:endParaRPr>
          </a:p>
          <a:p>
            <a:pPr lvl="1" marL="617400">
              <a:lnSpc>
                <a:spcPct val="100000"/>
              </a:lnSpc>
              <a:buClr>
                <a:srgbClr val="000000"/>
              </a:buClr>
              <a:buSzPct val="45000"/>
              <a:buFont typeface="CP1252"/>
              <a:buChar char=""/>
            </a:pPr>
            <a:r>
              <a:rPr b="1" lang="en-US" sz="1400" spc="-1" strike="noStrike">
                <a:solidFill>
                  <a:srgbClr val="ffffcc"/>
                </a:solidFill>
                <a:latin typeface="Arial"/>
                <a:ea typeface="Arial"/>
              </a:rPr>
              <a:t>EV68 (Q2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
          <p:cNvSpPr txBox="1"/>
          <p:nvPr/>
        </p:nvSpPr>
        <p:spPr>
          <a:xfrm>
            <a:off x="685800" y="533520"/>
            <a:ext cx="7467480" cy="588240"/>
          </a:xfrm>
          <a:prstGeom prst="rect">
            <a:avLst/>
          </a:prstGeom>
          <a:noFill/>
          <a:ln w="0">
            <a:noFill/>
          </a:ln>
        </p:spPr>
        <p:txBody>
          <a:bodyPr lIns="0" rIns="0" tIns="0" bIns="0" anchor="t">
            <a:noAutofit/>
          </a:bodyPr>
          <a:p>
            <a:pPr>
              <a:lnSpc>
                <a:spcPct val="85000"/>
              </a:lnSpc>
            </a:pPr>
            <a:r>
              <a:rPr b="1" lang="en-US" sz="4000" spc="-1" strike="noStrike">
                <a:solidFill>
                  <a:srgbClr val="000000"/>
                </a:solidFill>
                <a:latin typeface="Univers"/>
                <a:ea typeface="Univers"/>
              </a:rPr>
              <a:t>OpenVMS Galaxy Roadmap</a:t>
            </a:r>
            <a:endParaRPr b="0" lang="en-US" sz="4000" spc="-1" strike="noStrike">
              <a:solidFill>
                <a:srgbClr val="000000"/>
              </a:solidFill>
              <a:latin typeface="Arial"/>
            </a:endParaRPr>
          </a:p>
        </p:txBody>
      </p:sp>
      <p:sp>
        <p:nvSpPr>
          <p:cNvPr id="988" name=""/>
          <p:cNvSpPr txBox="1"/>
          <p:nvPr/>
        </p:nvSpPr>
        <p:spPr>
          <a:xfrm>
            <a:off x="1668600" y="3824280"/>
            <a:ext cx="2216160" cy="1738440"/>
          </a:xfrm>
          <a:prstGeom prst="rect">
            <a:avLst/>
          </a:prstGeom>
          <a:solidFill>
            <a:srgbClr val="cc0000"/>
          </a:solidFill>
          <a:ln w="0">
            <a:noFill/>
          </a:ln>
        </p:spPr>
        <p:txBody>
          <a:bodyPr lIns="0" rIns="0" tIns="0" bIns="0" anchor="t">
            <a:noAutofit/>
          </a:bodyPr>
          <a:p>
            <a:pPr>
              <a:lnSpc>
                <a:spcPct val="90000"/>
              </a:lnSpc>
              <a:spcBef>
                <a:spcPts val="601"/>
              </a:spcBef>
            </a:pPr>
            <a:r>
              <a:rPr b="1" lang="en-US" sz="1400" spc="-1" strike="noStrike" u="sng">
                <a:solidFill>
                  <a:srgbClr val="ffffcc"/>
                </a:solidFill>
                <a:uFillTx/>
                <a:latin typeface="Arial"/>
                <a:ea typeface="Arial"/>
              </a:rPr>
              <a:t>Galaxy Phase II</a:t>
            </a:r>
            <a:r>
              <a:rPr b="1" lang="en-US" sz="1400" spc="-1" strike="noStrike">
                <a:solidFill>
                  <a:srgbClr val="ffffcc"/>
                </a:solidFill>
                <a:latin typeface="Arial"/>
                <a:ea typeface="Arial"/>
              </a:rPr>
              <a:t> </a:t>
            </a:r>
            <a:endParaRPr b="0" lang="en-US" sz="1400" spc="-1" strike="noStrike">
              <a:solidFill>
                <a:srgbClr val="ffffff"/>
              </a:solidFill>
              <a:latin typeface="Arial"/>
            </a:endParaRPr>
          </a:p>
          <a:p>
            <a:pPr>
              <a:lnSpc>
                <a:spcPct val="90000"/>
              </a:lnSpc>
              <a:spcBef>
                <a:spcPts val="601"/>
              </a:spcBef>
            </a:pPr>
            <a:r>
              <a:rPr b="1" lang="en-US" sz="1400" spc="-1" strike="noStrike">
                <a:solidFill>
                  <a:srgbClr val="ffffcc"/>
                </a:solidFill>
                <a:latin typeface="Arial"/>
                <a:ea typeface="Arial"/>
              </a:rPr>
              <a:t>Version 7.2-1H1</a:t>
            </a:r>
            <a:endParaRPr b="0" lang="en-US" sz="1400" spc="-1" strike="noStrike">
              <a:solidFill>
                <a:srgbClr val="ffffff"/>
              </a:solidFill>
              <a:latin typeface="Arial"/>
            </a:endParaRPr>
          </a:p>
          <a:p>
            <a:pPr>
              <a:lnSpc>
                <a:spcPct val="90000"/>
              </a:lnSpc>
              <a:spcBef>
                <a:spcPts val="601"/>
              </a:spcBef>
            </a:pPr>
            <a:r>
              <a:rPr b="1" lang="en-US" sz="1400" spc="-1" strike="noStrike">
                <a:solidFill>
                  <a:srgbClr val="ffffcc"/>
                </a:solidFill>
                <a:latin typeface="Arial"/>
                <a:ea typeface="Arial"/>
              </a:rPr>
              <a:t>May-July, CY00</a:t>
            </a:r>
            <a:endParaRPr b="0" lang="en-US" sz="1400" spc="-1" strike="noStrike">
              <a:solidFill>
                <a:srgbClr val="ffffff"/>
              </a:solidFill>
              <a:latin typeface="Arial"/>
            </a:endParaRPr>
          </a:p>
          <a:p>
            <a:pPr marL="91440" indent="-91440">
              <a:lnSpc>
                <a:spcPct val="90000"/>
              </a:lnSpc>
              <a:spcBef>
                <a:spcPts val="601"/>
              </a:spcBef>
              <a:buClr>
                <a:srgbClr val="000000"/>
              </a:buClr>
              <a:buSzPct val="45000"/>
              <a:buFont typeface="CP1252"/>
              <a:buChar char=""/>
            </a:pPr>
            <a:r>
              <a:rPr b="1" lang="en-US" sz="1400" spc="-1" strike="noStrike">
                <a:solidFill>
                  <a:srgbClr val="ffffcc"/>
                </a:solidFill>
                <a:latin typeface="Arial"/>
                <a:ea typeface="Arial"/>
              </a:rPr>
              <a:t>AlphaServer GS80, GS160 &amp; GS320</a:t>
            </a:r>
            <a:endParaRPr b="0" lang="en-US" sz="1400" spc="-1" strike="noStrike">
              <a:solidFill>
                <a:srgbClr val="ffffff"/>
              </a:solidFill>
              <a:latin typeface="Arial"/>
            </a:endParaRPr>
          </a:p>
          <a:p>
            <a:pPr marL="91440" indent="-91440">
              <a:lnSpc>
                <a:spcPct val="90000"/>
              </a:lnSpc>
              <a:spcBef>
                <a:spcPts val="601"/>
              </a:spcBef>
              <a:buClr>
                <a:srgbClr val="000000"/>
              </a:buClr>
              <a:buSzPct val="45000"/>
              <a:buFont typeface="CP1252"/>
              <a:buChar char=""/>
            </a:pPr>
            <a:r>
              <a:rPr b="1" lang="en-US" sz="1400" spc="-1" strike="noStrike">
                <a:solidFill>
                  <a:srgbClr val="ffffcc"/>
                </a:solidFill>
                <a:latin typeface="Arial"/>
                <a:ea typeface="Arial"/>
              </a:rPr>
              <a:t>Up to 32 Processors</a:t>
            </a:r>
            <a:endParaRPr b="0" lang="en-US" sz="1400" spc="-1" strike="noStrike">
              <a:solidFill>
                <a:srgbClr val="ffffff"/>
              </a:solidFill>
              <a:latin typeface="Arial"/>
            </a:endParaRPr>
          </a:p>
          <a:p>
            <a:pPr marL="91440" indent="-91440">
              <a:lnSpc>
                <a:spcPct val="90000"/>
              </a:lnSpc>
              <a:spcBef>
                <a:spcPts val="601"/>
              </a:spcBef>
              <a:buClr>
                <a:srgbClr val="000000"/>
              </a:buClr>
              <a:buSzPct val="45000"/>
              <a:buFont typeface="CP1252"/>
              <a:buChar char=""/>
            </a:pPr>
            <a:r>
              <a:rPr b="1" lang="en-US" sz="1400" spc="-1" strike="noStrike">
                <a:solidFill>
                  <a:srgbClr val="ffffcc"/>
                </a:solidFill>
                <a:latin typeface="Arial"/>
                <a:ea typeface="Arial"/>
              </a:rPr>
              <a:t>Up to 8 Instances</a:t>
            </a:r>
            <a:endParaRPr b="0" lang="en-US" sz="1400" spc="-1" strike="noStrike">
              <a:solidFill>
                <a:srgbClr val="ffffff"/>
              </a:solidFill>
              <a:latin typeface="Arial"/>
            </a:endParaRPr>
          </a:p>
        </p:txBody>
      </p:sp>
      <p:sp>
        <p:nvSpPr>
          <p:cNvPr id="989" name=""/>
          <p:cNvSpPr txBox="1"/>
          <p:nvPr/>
        </p:nvSpPr>
        <p:spPr>
          <a:xfrm>
            <a:off x="3062160" y="2235240"/>
            <a:ext cx="2805120" cy="808200"/>
          </a:xfrm>
          <a:prstGeom prst="rect">
            <a:avLst/>
          </a:prstGeom>
          <a:solidFill>
            <a:srgbClr val="800080"/>
          </a:solidFill>
          <a:ln w="0">
            <a:noFill/>
          </a:ln>
        </p:spPr>
        <p:txBody>
          <a:bodyPr lIns="0" rIns="0" tIns="0" bIns="0" anchor="t">
            <a:noAutofit/>
          </a:bodyPr>
          <a:p>
            <a:pPr>
              <a:lnSpc>
                <a:spcPct val="90000"/>
              </a:lnSpc>
              <a:spcBef>
                <a:spcPts val="601"/>
              </a:spcBef>
            </a:pPr>
            <a:r>
              <a:rPr b="1" lang="en-US" sz="1400" spc="-1" strike="noStrike" u="sng">
                <a:solidFill>
                  <a:srgbClr val="ffffcc"/>
                </a:solidFill>
                <a:uFillTx/>
                <a:latin typeface="Arial"/>
                <a:ea typeface="Arial"/>
              </a:rPr>
              <a:t>Galaxy Phase III</a:t>
            </a:r>
            <a:r>
              <a:rPr b="1" lang="en-US" sz="1400" spc="-1" strike="noStrike">
                <a:solidFill>
                  <a:srgbClr val="ffffcc"/>
                </a:solidFill>
                <a:latin typeface="Arial"/>
                <a:ea typeface="Arial"/>
              </a:rPr>
              <a:t> (Q1CY2001)</a:t>
            </a:r>
            <a:endParaRPr b="0" lang="en-US" sz="1400" spc="-1" strike="noStrike">
              <a:solidFill>
                <a:srgbClr val="ffffff"/>
              </a:solidFill>
              <a:latin typeface="Arial"/>
            </a:endParaRPr>
          </a:p>
          <a:p>
            <a:pPr marL="91440" indent="-91440">
              <a:lnSpc>
                <a:spcPct val="90000"/>
              </a:lnSpc>
              <a:spcBef>
                <a:spcPts val="601"/>
              </a:spcBef>
              <a:buClr>
                <a:srgbClr val="000000"/>
              </a:buClr>
              <a:buSzPct val="45000"/>
              <a:buFont typeface="CP1252"/>
              <a:buChar char=""/>
            </a:pPr>
            <a:r>
              <a:rPr b="1" lang="en-US" sz="1400" spc="-1" strike="noStrike">
                <a:solidFill>
                  <a:srgbClr val="ffffcc"/>
                </a:solidFill>
                <a:latin typeface="Arial"/>
                <a:ea typeface="Arial"/>
              </a:rPr>
              <a:t>DECram in shared memory</a:t>
            </a:r>
            <a:endParaRPr b="0" lang="en-US" sz="1400" spc="-1" strike="noStrike">
              <a:solidFill>
                <a:srgbClr val="ffffff"/>
              </a:solidFill>
              <a:latin typeface="Arial"/>
            </a:endParaRPr>
          </a:p>
          <a:p>
            <a:pPr marL="91440" indent="-91440">
              <a:lnSpc>
                <a:spcPct val="90000"/>
              </a:lnSpc>
              <a:spcBef>
                <a:spcPts val="601"/>
              </a:spcBef>
              <a:buClr>
                <a:srgbClr val="000000"/>
              </a:buClr>
              <a:buSzPct val="45000"/>
              <a:buFont typeface="CP1252"/>
              <a:buChar char=""/>
            </a:pPr>
            <a:r>
              <a:rPr b="1" lang="en-US" sz="1400" spc="-1" strike="noStrike">
                <a:solidFill>
                  <a:srgbClr val="ffffcc"/>
                </a:solidFill>
                <a:latin typeface="Arial"/>
                <a:ea typeface="Arial"/>
              </a:rPr>
              <a:t>Client/Server GUI </a:t>
            </a:r>
            <a:endParaRPr b="0" lang="en-US" sz="1400" spc="-1" strike="noStrike">
              <a:solidFill>
                <a:srgbClr val="ffffff"/>
              </a:solidFill>
              <a:latin typeface="Arial"/>
            </a:endParaRPr>
          </a:p>
        </p:txBody>
      </p:sp>
      <p:sp>
        <p:nvSpPr>
          <p:cNvPr id="990" name=""/>
          <p:cNvSpPr txBox="1"/>
          <p:nvPr/>
        </p:nvSpPr>
        <p:spPr>
          <a:xfrm>
            <a:off x="6070680" y="3683160"/>
            <a:ext cx="2316240" cy="561960"/>
          </a:xfrm>
          <a:prstGeom prst="rect">
            <a:avLst/>
          </a:prstGeom>
          <a:solidFill>
            <a:srgbClr val="000080"/>
          </a:solidFill>
          <a:ln w="0">
            <a:noFill/>
          </a:ln>
        </p:spPr>
        <p:txBody>
          <a:bodyPr lIns="0" rIns="0" tIns="0" bIns="0" anchor="t">
            <a:noAutofit/>
          </a:bodyPr>
          <a:p>
            <a:pPr>
              <a:lnSpc>
                <a:spcPct val="90000"/>
              </a:lnSpc>
              <a:spcBef>
                <a:spcPts val="601"/>
              </a:spcBef>
            </a:pPr>
            <a:r>
              <a:rPr b="1" lang="en-US" sz="1400" spc="-1" strike="noStrike" u="sng">
                <a:solidFill>
                  <a:srgbClr val="ffffcc"/>
                </a:solidFill>
                <a:uFillTx/>
                <a:latin typeface="Arial"/>
                <a:ea typeface="Arial"/>
              </a:rPr>
              <a:t>Galaxy Phase IV</a:t>
            </a:r>
            <a:endParaRPr b="0" lang="en-US" sz="1400" spc="-1" strike="noStrike">
              <a:solidFill>
                <a:srgbClr val="ffffff"/>
              </a:solidFill>
              <a:latin typeface="Arial"/>
            </a:endParaRPr>
          </a:p>
          <a:p>
            <a:pPr marL="91440" indent="-91440">
              <a:lnSpc>
                <a:spcPct val="90000"/>
              </a:lnSpc>
              <a:spcBef>
                <a:spcPts val="601"/>
              </a:spcBef>
              <a:buClr>
                <a:srgbClr val="000000"/>
              </a:buClr>
              <a:buSzPct val="45000"/>
              <a:buFont typeface="CP1252"/>
              <a:buChar char=""/>
            </a:pPr>
            <a:r>
              <a:rPr b="1" lang="en-US" sz="1400" spc="-1" strike="noStrike">
                <a:solidFill>
                  <a:srgbClr val="ffffcc"/>
                </a:solidFill>
                <a:latin typeface="Arial"/>
                <a:ea typeface="Arial"/>
              </a:rPr>
              <a:t>EV7 Architecture</a:t>
            </a:r>
            <a:endParaRPr b="0" lang="en-US" sz="1400" spc="-1" strike="noStrike">
              <a:solidFill>
                <a:srgbClr val="ffffff"/>
              </a:solidFill>
              <a:latin typeface="Arial"/>
            </a:endParaRPr>
          </a:p>
        </p:txBody>
      </p:sp>
      <p:sp>
        <p:nvSpPr>
          <p:cNvPr id="991" name=""/>
          <p:cNvSpPr txBox="1"/>
          <p:nvPr/>
        </p:nvSpPr>
        <p:spPr>
          <a:xfrm>
            <a:off x="133200" y="2163600"/>
            <a:ext cx="2286000" cy="1187280"/>
          </a:xfrm>
          <a:prstGeom prst="rect">
            <a:avLst/>
          </a:prstGeom>
          <a:solidFill>
            <a:srgbClr val="cc0000"/>
          </a:solidFill>
          <a:ln w="0">
            <a:noFill/>
          </a:ln>
        </p:spPr>
        <p:txBody>
          <a:bodyPr lIns="0" rIns="0" tIns="0" bIns="0" anchor="t">
            <a:noAutofit/>
          </a:bodyPr>
          <a:p>
            <a:pPr>
              <a:lnSpc>
                <a:spcPct val="100000"/>
              </a:lnSpc>
            </a:pPr>
            <a:r>
              <a:rPr b="1" lang="en-US" sz="1400" spc="-1" strike="noStrike" u="sng">
                <a:solidFill>
                  <a:srgbClr val="ffffcc"/>
                </a:solidFill>
                <a:uFillTx/>
                <a:latin typeface="Arial"/>
                <a:ea typeface="Arial"/>
              </a:rPr>
              <a:t>Galaxy Phase IA</a:t>
            </a:r>
            <a:endParaRPr b="0" lang="en-US" sz="1400" spc="-1" strike="noStrike">
              <a:solidFill>
                <a:srgbClr val="ffffff"/>
              </a:solidFill>
              <a:latin typeface="Arial"/>
            </a:endParaRPr>
          </a:p>
          <a:p>
            <a:pPr>
              <a:lnSpc>
                <a:spcPct val="100000"/>
              </a:lnSpc>
            </a:pPr>
            <a:r>
              <a:rPr b="1" lang="en-US" sz="1400" spc="-1" strike="noStrike">
                <a:solidFill>
                  <a:srgbClr val="ffffcc"/>
                </a:solidFill>
                <a:latin typeface="Arial"/>
                <a:ea typeface="Arial"/>
              </a:rPr>
              <a:t>Version 7.2-1:</a:t>
            </a:r>
            <a:endParaRPr b="0" lang="en-US" sz="1400" spc="-1" strike="noStrike">
              <a:solidFill>
                <a:srgbClr val="ffffff"/>
              </a:solidFill>
              <a:latin typeface="Arial"/>
            </a:endParaRPr>
          </a:p>
          <a:p>
            <a:pPr marL="91440" indent="-91440">
              <a:lnSpc>
                <a:spcPct val="100000"/>
              </a:lnSpc>
              <a:buClr>
                <a:srgbClr val="000000"/>
              </a:buClr>
              <a:buSzPct val="45000"/>
              <a:buFont typeface="CP1252"/>
              <a:buChar char=""/>
            </a:pPr>
            <a:r>
              <a:rPr b="1" lang="en-US" sz="1400" spc="-1" strike="noStrike">
                <a:solidFill>
                  <a:srgbClr val="ffffcc"/>
                </a:solidFill>
                <a:latin typeface="Arial"/>
                <a:ea typeface="Arial"/>
              </a:rPr>
              <a:t>AlphaServer GS60E</a:t>
            </a:r>
            <a:endParaRPr b="0" lang="en-US" sz="1400" spc="-1" strike="noStrike">
              <a:solidFill>
                <a:srgbClr val="ffffff"/>
              </a:solidFill>
              <a:latin typeface="Arial"/>
            </a:endParaRPr>
          </a:p>
          <a:p>
            <a:pPr marL="91440" indent="-91440">
              <a:lnSpc>
                <a:spcPct val="100000"/>
              </a:lnSpc>
              <a:buClr>
                <a:srgbClr val="000000"/>
              </a:buClr>
              <a:buSzPct val="45000"/>
              <a:buFont typeface="CP1252"/>
              <a:buChar char=""/>
            </a:pPr>
            <a:r>
              <a:rPr b="1" lang="en-US" sz="1400" spc="-1" strike="noStrike">
                <a:solidFill>
                  <a:srgbClr val="ffffcc"/>
                </a:solidFill>
                <a:latin typeface="Arial"/>
                <a:ea typeface="Arial"/>
              </a:rPr>
              <a:t>AlphaServer ES40 (9/99)</a:t>
            </a:r>
            <a:endParaRPr b="0" lang="en-US" sz="1400" spc="-1" strike="noStrike">
              <a:solidFill>
                <a:srgbClr val="ffffff"/>
              </a:solidFill>
              <a:latin typeface="Arial"/>
            </a:endParaRPr>
          </a:p>
        </p:txBody>
      </p:sp>
      <p:grpSp>
        <p:nvGrpSpPr>
          <p:cNvPr id="992" name=""/>
          <p:cNvGrpSpPr/>
          <p:nvPr/>
        </p:nvGrpSpPr>
        <p:grpSpPr>
          <a:xfrm>
            <a:off x="1270080" y="1657440"/>
            <a:ext cx="7645320" cy="522360"/>
            <a:chOff x="1270080" y="1657440"/>
            <a:chExt cx="7645320" cy="522360"/>
          </a:xfrm>
        </p:grpSpPr>
        <p:sp>
          <p:nvSpPr>
            <p:cNvPr id="993" name=""/>
            <p:cNvSpPr/>
            <p:nvPr/>
          </p:nvSpPr>
          <p:spPr>
            <a:xfrm>
              <a:off x="1619280" y="1676520"/>
              <a:ext cx="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94" name=""/>
            <p:cNvSpPr/>
            <p:nvPr/>
          </p:nvSpPr>
          <p:spPr>
            <a:xfrm>
              <a:off x="6154560" y="1670040"/>
              <a:ext cx="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95" name=""/>
            <p:cNvSpPr txBox="1"/>
            <p:nvPr/>
          </p:nvSpPr>
          <p:spPr>
            <a:xfrm>
              <a:off x="1270080" y="1812960"/>
              <a:ext cx="69228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2000</a:t>
              </a:r>
              <a:endParaRPr b="0" lang="en-US" sz="1800" spc="-1" strike="noStrike">
                <a:solidFill>
                  <a:srgbClr val="000000"/>
                </a:solidFill>
                <a:latin typeface="Arial"/>
              </a:endParaRPr>
            </a:p>
          </p:txBody>
        </p:sp>
        <p:sp>
          <p:nvSpPr>
            <p:cNvPr id="996" name=""/>
            <p:cNvSpPr txBox="1"/>
            <p:nvPr/>
          </p:nvSpPr>
          <p:spPr>
            <a:xfrm>
              <a:off x="3408480" y="1803240"/>
              <a:ext cx="69228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2001</a:t>
              </a:r>
              <a:endParaRPr b="0" lang="en-US" sz="1800" spc="-1" strike="noStrike">
                <a:solidFill>
                  <a:srgbClr val="000000"/>
                </a:solidFill>
                <a:latin typeface="Arial"/>
              </a:endParaRPr>
            </a:p>
          </p:txBody>
        </p:sp>
        <p:sp>
          <p:nvSpPr>
            <p:cNvPr id="997" name=""/>
            <p:cNvSpPr txBox="1"/>
            <p:nvPr/>
          </p:nvSpPr>
          <p:spPr>
            <a:xfrm>
              <a:off x="5805360" y="1787400"/>
              <a:ext cx="69228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2002</a:t>
              </a:r>
              <a:endParaRPr b="0" lang="en-US" sz="1800" spc="-1" strike="noStrike">
                <a:solidFill>
                  <a:srgbClr val="000000"/>
                </a:solidFill>
                <a:latin typeface="Arial"/>
              </a:endParaRPr>
            </a:p>
          </p:txBody>
        </p:sp>
        <p:sp>
          <p:nvSpPr>
            <p:cNvPr id="998" name=""/>
            <p:cNvSpPr/>
            <p:nvPr/>
          </p:nvSpPr>
          <p:spPr>
            <a:xfrm>
              <a:off x="3743280" y="1676520"/>
              <a:ext cx="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99" name=""/>
            <p:cNvSpPr/>
            <p:nvPr/>
          </p:nvSpPr>
          <p:spPr>
            <a:xfrm>
              <a:off x="1606680" y="1663560"/>
              <a:ext cx="73087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0" name=""/>
            <p:cNvSpPr/>
            <p:nvPr/>
          </p:nvSpPr>
          <p:spPr>
            <a:xfrm>
              <a:off x="8362800" y="1657440"/>
              <a:ext cx="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1" name=""/>
            <p:cNvSpPr txBox="1"/>
            <p:nvPr/>
          </p:nvSpPr>
          <p:spPr>
            <a:xfrm>
              <a:off x="8037360" y="1774800"/>
              <a:ext cx="69228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2003</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txBox="1"/>
          <p:nvPr/>
        </p:nvSpPr>
        <p:spPr>
          <a:xfrm>
            <a:off x="685800" y="533520"/>
            <a:ext cx="7467480" cy="588240"/>
          </a:xfrm>
          <a:prstGeom prst="rect">
            <a:avLst/>
          </a:prstGeom>
          <a:noFill/>
          <a:ln w="0">
            <a:noFill/>
          </a:ln>
        </p:spPr>
        <p:txBody>
          <a:bodyPr lIns="0" rIns="0" tIns="0" bIns="0" anchor="t">
            <a:noAutofit/>
          </a:bodyPr>
          <a:p>
            <a:pPr>
              <a:lnSpc>
                <a:spcPct val="85000"/>
              </a:lnSpc>
            </a:pPr>
            <a:r>
              <a:rPr b="1" lang="en-US" sz="4000" spc="-1" strike="noStrike">
                <a:solidFill>
                  <a:srgbClr val="000000"/>
                </a:solidFill>
                <a:latin typeface="Univers"/>
                <a:ea typeface="Univers"/>
              </a:rPr>
              <a:t>Oracle Rdb Roadmap</a:t>
            </a:r>
            <a:endParaRPr b="0" lang="en-US" sz="4000" spc="-1" strike="noStrike">
              <a:solidFill>
                <a:srgbClr val="000000"/>
              </a:solidFill>
              <a:latin typeface="Arial"/>
            </a:endParaRPr>
          </a:p>
        </p:txBody>
      </p:sp>
      <p:sp>
        <p:nvSpPr>
          <p:cNvPr id="1003" name=""/>
          <p:cNvSpPr txBox="1"/>
          <p:nvPr/>
        </p:nvSpPr>
        <p:spPr>
          <a:xfrm>
            <a:off x="636480" y="1968480"/>
            <a:ext cx="1725480" cy="853920"/>
          </a:xfrm>
          <a:prstGeom prst="rect">
            <a:avLst/>
          </a:prstGeom>
          <a:solidFill>
            <a:srgbClr val="cc0000"/>
          </a:solidFill>
          <a:ln w="0">
            <a:noFill/>
          </a:ln>
        </p:spPr>
        <p:txBody>
          <a:bodyPr lIns="0" rIns="0" tIns="0" bIns="0" anchor="t">
            <a:noAutofit/>
          </a:bodyPr>
          <a:p>
            <a:pPr>
              <a:lnSpc>
                <a:spcPct val="100000"/>
              </a:lnSpc>
            </a:pPr>
            <a:r>
              <a:rPr b="1" lang="en-US" sz="1200" spc="-1" strike="noStrike">
                <a:solidFill>
                  <a:srgbClr val="ffffcc"/>
                </a:solidFill>
                <a:latin typeface="Arial"/>
                <a:ea typeface="Arial"/>
              </a:rPr>
              <a:t>Version 7.0.6</a:t>
            </a:r>
            <a:endParaRPr b="0" lang="en-US" sz="1200" spc="-1" strike="noStrike">
              <a:solidFill>
                <a:srgbClr val="ffffff"/>
              </a:solidFill>
              <a:latin typeface="Arial"/>
            </a:endParaRPr>
          </a:p>
          <a:p>
            <a:pPr>
              <a:lnSpc>
                <a:spcPct val="100000"/>
              </a:lnSpc>
            </a:pPr>
            <a:r>
              <a:rPr b="1" lang="en-US" sz="1200" spc="-1" strike="noStrike">
                <a:solidFill>
                  <a:srgbClr val="ffffcc"/>
                </a:solidFill>
                <a:latin typeface="Arial"/>
                <a:ea typeface="Arial"/>
              </a:rPr>
              <a:t>FRS = 11/00</a:t>
            </a:r>
            <a:endParaRPr b="0" lang="en-US" sz="1200" spc="-1" strike="noStrike">
              <a:solidFill>
                <a:srgbClr val="ffffff"/>
              </a:solidFill>
              <a:latin typeface="Arial"/>
            </a:endParaRPr>
          </a:p>
          <a:p>
            <a:pPr marL="91440" indent="-91440">
              <a:lnSpc>
                <a:spcPct val="100000"/>
              </a:lnSpc>
              <a:buClr>
                <a:srgbClr val="000000"/>
              </a:buClr>
              <a:buSzPct val="45000"/>
              <a:buFont typeface="CP1252"/>
              <a:buChar char=""/>
            </a:pPr>
            <a:r>
              <a:rPr b="1" lang="en-US" sz="1200" spc="-1" strike="noStrike">
                <a:solidFill>
                  <a:srgbClr val="ffffcc"/>
                </a:solidFill>
                <a:latin typeface="Arial"/>
                <a:ea typeface="Arial"/>
              </a:rPr>
              <a:t>Wildfire Qualified Release</a:t>
            </a:r>
            <a:endParaRPr b="0" lang="en-US" sz="1200" spc="-1" strike="noStrike">
              <a:solidFill>
                <a:srgbClr val="ffffff"/>
              </a:solidFill>
              <a:latin typeface="Arial"/>
            </a:endParaRPr>
          </a:p>
        </p:txBody>
      </p:sp>
      <p:sp>
        <p:nvSpPr>
          <p:cNvPr id="1004" name=""/>
          <p:cNvSpPr txBox="1"/>
          <p:nvPr/>
        </p:nvSpPr>
        <p:spPr>
          <a:xfrm>
            <a:off x="6703920" y="4527720"/>
            <a:ext cx="2286000" cy="1219320"/>
          </a:xfrm>
          <a:prstGeom prst="rect">
            <a:avLst/>
          </a:prstGeom>
          <a:solidFill>
            <a:srgbClr val="800080"/>
          </a:solidFill>
          <a:ln w="0">
            <a:noFill/>
          </a:ln>
        </p:spPr>
        <p:txBody>
          <a:bodyPr lIns="0" rIns="0" tIns="0" bIns="0" anchor="t">
            <a:noAutofit/>
          </a:bodyPr>
          <a:p>
            <a:pPr>
              <a:lnSpc>
                <a:spcPct val="100000"/>
              </a:lnSpc>
            </a:pPr>
            <a:r>
              <a:rPr b="1" lang="en-US" sz="1200" spc="-1" strike="noStrike">
                <a:solidFill>
                  <a:srgbClr val="ffffcc"/>
                </a:solidFill>
                <a:latin typeface="Arial"/>
                <a:ea typeface="Arial"/>
              </a:rPr>
              <a:t>Version 7.1.2</a:t>
            </a:r>
            <a:endParaRPr b="0" lang="en-US" sz="1200" spc="-1" strike="noStrike">
              <a:solidFill>
                <a:srgbClr val="ffffff"/>
              </a:solidFill>
              <a:latin typeface="Arial"/>
            </a:endParaRPr>
          </a:p>
          <a:p>
            <a:pPr>
              <a:lnSpc>
                <a:spcPct val="100000"/>
              </a:lnSpc>
            </a:pPr>
            <a:r>
              <a:rPr b="1" lang="en-US" sz="1200" spc="-1" strike="noStrike">
                <a:solidFill>
                  <a:srgbClr val="ffffcc"/>
                </a:solidFill>
                <a:latin typeface="Arial"/>
                <a:ea typeface="Arial"/>
              </a:rPr>
              <a:t>FRS = 2003</a:t>
            </a:r>
            <a:endParaRPr b="0" lang="en-US" sz="1200" spc="-1" strike="noStrike">
              <a:solidFill>
                <a:srgbClr val="ffffff"/>
              </a:solidFill>
              <a:latin typeface="Arial"/>
            </a:endParaRPr>
          </a:p>
          <a:p>
            <a:pPr marL="91440" indent="-91440">
              <a:lnSpc>
                <a:spcPct val="100000"/>
              </a:lnSpc>
              <a:buClr>
                <a:srgbClr val="000000"/>
              </a:buClr>
              <a:buSzPct val="45000"/>
              <a:buFont typeface="CP1252"/>
              <a:buChar char=""/>
            </a:pPr>
            <a:r>
              <a:rPr b="1" lang="en-US" sz="1200" spc="-1" strike="noStrike">
                <a:solidFill>
                  <a:srgbClr val="ffffcc"/>
                </a:solidFill>
                <a:latin typeface="Arial"/>
                <a:ea typeface="Arial"/>
              </a:rPr>
              <a:t>New Alpha Server Support</a:t>
            </a:r>
            <a:endParaRPr b="0" lang="en-US" sz="1200" spc="-1" strike="noStrike">
              <a:solidFill>
                <a:srgbClr val="ffffff"/>
              </a:solidFill>
              <a:latin typeface="Arial"/>
            </a:endParaRPr>
          </a:p>
          <a:p>
            <a:pPr marL="91440" indent="-91440">
              <a:lnSpc>
                <a:spcPct val="100000"/>
              </a:lnSpc>
              <a:buClr>
                <a:srgbClr val="000000"/>
              </a:buClr>
              <a:buSzPct val="45000"/>
              <a:buFont typeface="CP1252"/>
              <a:buChar char=""/>
            </a:pPr>
            <a:r>
              <a:rPr b="1" lang="en-US" sz="1200" spc="-1" strike="noStrike">
                <a:solidFill>
                  <a:srgbClr val="ffffcc"/>
                </a:solidFill>
                <a:latin typeface="Arial"/>
                <a:ea typeface="Arial"/>
              </a:rPr>
              <a:t>Performance</a:t>
            </a:r>
            <a:endParaRPr b="0" lang="en-US" sz="1200" spc="-1" strike="noStrike">
              <a:solidFill>
                <a:srgbClr val="ffffff"/>
              </a:solidFill>
              <a:latin typeface="Arial"/>
            </a:endParaRPr>
          </a:p>
          <a:p>
            <a:pPr marL="91440" indent="-91440">
              <a:lnSpc>
                <a:spcPct val="100000"/>
              </a:lnSpc>
              <a:buClr>
                <a:srgbClr val="000000"/>
              </a:buClr>
              <a:buSzPct val="45000"/>
              <a:buFont typeface="CP1252"/>
              <a:buChar char=""/>
            </a:pPr>
            <a:r>
              <a:rPr b="1" lang="en-US" sz="1200" spc="-1" strike="noStrike">
                <a:solidFill>
                  <a:srgbClr val="ffffcc"/>
                </a:solidFill>
                <a:latin typeface="Arial"/>
                <a:ea typeface="Arial"/>
              </a:rPr>
              <a:t>Availability</a:t>
            </a:r>
            <a:endParaRPr b="0" lang="en-US" sz="1200" spc="-1" strike="noStrike">
              <a:solidFill>
                <a:srgbClr val="ffffff"/>
              </a:solidFill>
              <a:latin typeface="Arial"/>
            </a:endParaRPr>
          </a:p>
          <a:p>
            <a:pPr marL="91440" indent="-91440">
              <a:lnSpc>
                <a:spcPct val="100000"/>
              </a:lnSpc>
              <a:buClr>
                <a:srgbClr val="000000"/>
              </a:buClr>
              <a:buSzPct val="45000"/>
              <a:buFont typeface="CP1252"/>
              <a:buChar char=""/>
            </a:pPr>
            <a:r>
              <a:rPr b="1" lang="en-US" sz="1200" spc="-1" strike="noStrike">
                <a:solidFill>
                  <a:srgbClr val="ffffcc"/>
                </a:solidFill>
                <a:latin typeface="Arial"/>
                <a:ea typeface="Arial"/>
              </a:rPr>
              <a:t>Compatability</a:t>
            </a:r>
            <a:endParaRPr b="0" lang="en-US" sz="1200" spc="-1" strike="noStrike">
              <a:solidFill>
                <a:srgbClr val="ffffff"/>
              </a:solidFill>
              <a:latin typeface="Arial"/>
            </a:endParaRPr>
          </a:p>
        </p:txBody>
      </p:sp>
      <p:sp>
        <p:nvSpPr>
          <p:cNvPr id="1005" name=""/>
          <p:cNvSpPr txBox="1"/>
          <p:nvPr/>
        </p:nvSpPr>
        <p:spPr>
          <a:xfrm>
            <a:off x="5562720" y="1965240"/>
            <a:ext cx="2728800" cy="1401840"/>
          </a:xfrm>
          <a:prstGeom prst="rect">
            <a:avLst/>
          </a:prstGeom>
          <a:solidFill>
            <a:srgbClr val="000080"/>
          </a:solidFill>
          <a:ln w="0">
            <a:noFill/>
          </a:ln>
        </p:spPr>
        <p:txBody>
          <a:bodyPr lIns="0" rIns="0" tIns="0" bIns="0" anchor="t">
            <a:noAutofit/>
          </a:bodyPr>
          <a:p>
            <a:pPr>
              <a:lnSpc>
                <a:spcPct val="100000"/>
              </a:lnSpc>
            </a:pPr>
            <a:r>
              <a:rPr b="1" lang="en-US" sz="1200" spc="-1" strike="noStrike">
                <a:solidFill>
                  <a:srgbClr val="ffffcc"/>
                </a:solidFill>
                <a:latin typeface="Arial"/>
                <a:ea typeface="Arial"/>
              </a:rPr>
              <a:t>Version 7.1.1.0</a:t>
            </a:r>
            <a:endParaRPr b="0" lang="en-US" sz="1200" spc="-1" strike="noStrike">
              <a:solidFill>
                <a:srgbClr val="ffffff"/>
              </a:solidFill>
              <a:latin typeface="Arial"/>
            </a:endParaRPr>
          </a:p>
          <a:p>
            <a:pPr>
              <a:lnSpc>
                <a:spcPct val="100000"/>
              </a:lnSpc>
            </a:pPr>
            <a:r>
              <a:rPr b="1" lang="en-US" sz="1200" spc="-1" strike="noStrike">
                <a:solidFill>
                  <a:srgbClr val="ffffcc"/>
                </a:solidFill>
                <a:latin typeface="Arial"/>
                <a:ea typeface="Arial"/>
              </a:rPr>
              <a:t>FRS = 2002</a:t>
            </a:r>
            <a:endParaRPr b="0" lang="en-US" sz="1200" spc="-1" strike="noStrike">
              <a:solidFill>
                <a:srgbClr val="ffffff"/>
              </a:solidFill>
              <a:latin typeface="Arial"/>
            </a:endParaRPr>
          </a:p>
          <a:p>
            <a:pPr marL="91440" indent="-91440">
              <a:lnSpc>
                <a:spcPct val="100000"/>
              </a:lnSpc>
              <a:buClr>
                <a:srgbClr val="000000"/>
              </a:buClr>
              <a:buSzPct val="45000"/>
              <a:buFont typeface="CP1252"/>
              <a:buChar char=""/>
            </a:pPr>
            <a:r>
              <a:rPr b="1" lang="en-US" sz="1200" spc="-1" strike="noStrike">
                <a:solidFill>
                  <a:srgbClr val="ffffcc"/>
                </a:solidFill>
                <a:latin typeface="Arial"/>
                <a:ea typeface="Arial"/>
              </a:rPr>
              <a:t>New Alpha Server Support</a:t>
            </a:r>
            <a:endParaRPr b="0" lang="en-US" sz="1200" spc="-1" strike="noStrike">
              <a:solidFill>
                <a:srgbClr val="ffffff"/>
              </a:solidFill>
              <a:latin typeface="Arial"/>
            </a:endParaRPr>
          </a:p>
          <a:p>
            <a:pPr marL="91440" indent="-91440">
              <a:lnSpc>
                <a:spcPct val="100000"/>
              </a:lnSpc>
              <a:buClr>
                <a:srgbClr val="000000"/>
              </a:buClr>
              <a:buSzPct val="45000"/>
              <a:buFont typeface="CP1252"/>
              <a:buChar char=""/>
            </a:pPr>
            <a:r>
              <a:rPr b="1" lang="en-US" sz="1200" spc="-1" strike="noStrike">
                <a:solidFill>
                  <a:srgbClr val="ffffcc"/>
                </a:solidFill>
                <a:latin typeface="Arial"/>
                <a:ea typeface="Arial"/>
              </a:rPr>
              <a:t>Galaxy Phase IV Enhancemnts</a:t>
            </a:r>
            <a:endParaRPr b="0" lang="en-US" sz="1200" spc="-1" strike="noStrike">
              <a:solidFill>
                <a:srgbClr val="ffffff"/>
              </a:solidFill>
              <a:latin typeface="Arial"/>
            </a:endParaRPr>
          </a:p>
          <a:p>
            <a:pPr marL="91440" indent="-91440">
              <a:lnSpc>
                <a:spcPct val="100000"/>
              </a:lnSpc>
              <a:buClr>
                <a:srgbClr val="000000"/>
              </a:buClr>
              <a:buSzPct val="45000"/>
              <a:buFont typeface="CP1252"/>
              <a:buChar char=""/>
            </a:pPr>
            <a:r>
              <a:rPr b="1" lang="en-US" sz="1200" spc="-1" strike="noStrike">
                <a:solidFill>
                  <a:srgbClr val="ffffcc"/>
                </a:solidFill>
                <a:latin typeface="Arial"/>
                <a:ea typeface="Arial"/>
              </a:rPr>
              <a:t>Log Miner Enhancements</a:t>
            </a:r>
            <a:endParaRPr b="0" lang="en-US" sz="1200" spc="-1" strike="noStrike">
              <a:solidFill>
                <a:srgbClr val="ffffff"/>
              </a:solidFill>
              <a:latin typeface="Arial"/>
            </a:endParaRPr>
          </a:p>
          <a:p>
            <a:pPr marL="91440" indent="-91440">
              <a:lnSpc>
                <a:spcPct val="100000"/>
              </a:lnSpc>
              <a:buClr>
                <a:srgbClr val="000000"/>
              </a:buClr>
              <a:buSzPct val="45000"/>
              <a:buFont typeface="CP1252"/>
              <a:buChar char=""/>
            </a:pPr>
            <a:r>
              <a:rPr b="1" lang="en-US" sz="1200" spc="-1" strike="noStrike">
                <a:solidFill>
                  <a:srgbClr val="ffffcc"/>
                </a:solidFill>
                <a:latin typeface="Arial"/>
                <a:ea typeface="Arial"/>
              </a:rPr>
              <a:t>Java External Functions</a:t>
            </a:r>
            <a:endParaRPr b="0" lang="en-US" sz="1200" spc="-1" strike="noStrike">
              <a:solidFill>
                <a:srgbClr val="ffffff"/>
              </a:solidFill>
              <a:latin typeface="Arial"/>
            </a:endParaRPr>
          </a:p>
          <a:p>
            <a:pPr marL="91440" indent="-91440">
              <a:lnSpc>
                <a:spcPct val="100000"/>
              </a:lnSpc>
              <a:buClr>
                <a:srgbClr val="000000"/>
              </a:buClr>
              <a:buSzPct val="45000"/>
              <a:buFont typeface="CP1252"/>
              <a:buChar char=""/>
            </a:pPr>
            <a:r>
              <a:rPr b="1" lang="en-US" sz="1200" spc="-1" strike="noStrike">
                <a:solidFill>
                  <a:srgbClr val="ffffcc"/>
                </a:solidFill>
                <a:latin typeface="Arial"/>
                <a:ea typeface="Arial"/>
              </a:rPr>
              <a:t>Perf, Avail, Compatability </a:t>
            </a:r>
            <a:endParaRPr b="0" lang="en-US" sz="1200" spc="-1" strike="noStrike">
              <a:solidFill>
                <a:srgbClr val="ffffff"/>
              </a:solidFill>
              <a:latin typeface="Arial"/>
            </a:endParaRPr>
          </a:p>
        </p:txBody>
      </p:sp>
      <p:sp>
        <p:nvSpPr>
          <p:cNvPr id="1006" name=""/>
          <p:cNvSpPr txBox="1"/>
          <p:nvPr/>
        </p:nvSpPr>
        <p:spPr>
          <a:xfrm>
            <a:off x="3807000" y="4257720"/>
            <a:ext cx="1403280" cy="671400"/>
          </a:xfrm>
          <a:prstGeom prst="rect">
            <a:avLst/>
          </a:prstGeom>
          <a:solidFill>
            <a:srgbClr val="0066cc"/>
          </a:solidFill>
          <a:ln w="0">
            <a:noFill/>
          </a:ln>
        </p:spPr>
        <p:txBody>
          <a:bodyPr lIns="0" rIns="0" tIns="0" bIns="0" anchor="t">
            <a:noAutofit/>
          </a:bodyPr>
          <a:p>
            <a:pPr>
              <a:lnSpc>
                <a:spcPct val="100000"/>
              </a:lnSpc>
            </a:pPr>
            <a:r>
              <a:rPr b="1" lang="en-US" sz="1200" spc="-1" strike="noStrike">
                <a:solidFill>
                  <a:srgbClr val="ffffcc"/>
                </a:solidFill>
                <a:latin typeface="Arial"/>
                <a:ea typeface="Arial"/>
              </a:rPr>
              <a:t>Version 7.0.7</a:t>
            </a:r>
            <a:endParaRPr b="0" lang="en-US" sz="1200" spc="-1" strike="noStrike">
              <a:solidFill>
                <a:srgbClr val="000000"/>
              </a:solidFill>
              <a:latin typeface="Arial"/>
            </a:endParaRPr>
          </a:p>
          <a:p>
            <a:pPr>
              <a:lnSpc>
                <a:spcPct val="100000"/>
              </a:lnSpc>
            </a:pPr>
            <a:r>
              <a:rPr b="1" lang="en-US" sz="1200" spc="-1" strike="noStrike">
                <a:solidFill>
                  <a:srgbClr val="ffffcc"/>
                </a:solidFill>
                <a:latin typeface="Arial"/>
                <a:ea typeface="Arial"/>
              </a:rPr>
              <a:t>FRS = Q3CY01</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1" lang="en-US" sz="1200" spc="-1" strike="noStrike">
                <a:solidFill>
                  <a:srgbClr val="ffffcc"/>
                </a:solidFill>
                <a:latin typeface="Arial"/>
                <a:ea typeface="Arial"/>
              </a:rPr>
              <a:t>EV68 Qualified</a:t>
            </a:r>
            <a:endParaRPr b="0" lang="en-US" sz="1200" spc="-1" strike="noStrike">
              <a:solidFill>
                <a:srgbClr val="000000"/>
              </a:solidFill>
              <a:latin typeface="Arial"/>
            </a:endParaRPr>
          </a:p>
        </p:txBody>
      </p:sp>
      <p:sp>
        <p:nvSpPr>
          <p:cNvPr id="1007" name=""/>
          <p:cNvSpPr txBox="1"/>
          <p:nvPr/>
        </p:nvSpPr>
        <p:spPr>
          <a:xfrm>
            <a:off x="2147760" y="4191120"/>
            <a:ext cx="1389240" cy="853920"/>
          </a:xfrm>
          <a:prstGeom prst="rect">
            <a:avLst/>
          </a:prstGeom>
          <a:solidFill>
            <a:srgbClr val="cc0000"/>
          </a:solidFill>
          <a:ln w="0">
            <a:noFill/>
          </a:ln>
        </p:spPr>
        <p:txBody>
          <a:bodyPr lIns="0" rIns="0" tIns="0" bIns="0" anchor="t">
            <a:noAutofit/>
          </a:bodyPr>
          <a:p>
            <a:pPr>
              <a:lnSpc>
                <a:spcPct val="100000"/>
              </a:lnSpc>
            </a:pPr>
            <a:r>
              <a:rPr b="1" lang="en-US" sz="1200" spc="-1" strike="noStrike">
                <a:solidFill>
                  <a:srgbClr val="ffffcc"/>
                </a:solidFill>
                <a:latin typeface="Arial"/>
                <a:ea typeface="Arial"/>
              </a:rPr>
              <a:t>Version 7.0.6.1</a:t>
            </a:r>
            <a:endParaRPr b="0" lang="en-US" sz="1200" spc="-1" strike="noStrike">
              <a:solidFill>
                <a:srgbClr val="ffffff"/>
              </a:solidFill>
              <a:latin typeface="Arial"/>
            </a:endParaRPr>
          </a:p>
          <a:p>
            <a:pPr>
              <a:lnSpc>
                <a:spcPct val="100000"/>
              </a:lnSpc>
            </a:pPr>
            <a:r>
              <a:rPr b="1" lang="en-US" sz="1200" spc="-1" strike="noStrike">
                <a:solidFill>
                  <a:srgbClr val="ffffcc"/>
                </a:solidFill>
                <a:latin typeface="Arial"/>
                <a:ea typeface="Arial"/>
              </a:rPr>
              <a:t>ECO Release</a:t>
            </a:r>
            <a:endParaRPr b="0" lang="en-US" sz="1200" spc="-1" strike="noStrike">
              <a:solidFill>
                <a:srgbClr val="ffffff"/>
              </a:solidFill>
              <a:latin typeface="Arial"/>
            </a:endParaRPr>
          </a:p>
          <a:p>
            <a:pPr>
              <a:lnSpc>
                <a:spcPct val="100000"/>
              </a:lnSpc>
            </a:pPr>
            <a:r>
              <a:rPr b="1" lang="en-US" sz="1200" spc="-1" strike="noStrike">
                <a:solidFill>
                  <a:srgbClr val="ffffcc"/>
                </a:solidFill>
                <a:latin typeface="Arial"/>
                <a:ea typeface="Arial"/>
              </a:rPr>
              <a:t>FRS = 03/01</a:t>
            </a:r>
            <a:endParaRPr b="0" lang="en-US" sz="1200" spc="-1" strike="noStrike">
              <a:solidFill>
                <a:srgbClr val="ffffff"/>
              </a:solidFill>
              <a:latin typeface="Arial"/>
            </a:endParaRPr>
          </a:p>
          <a:p>
            <a:pPr marL="91440" indent="-91440">
              <a:lnSpc>
                <a:spcPct val="100000"/>
              </a:lnSpc>
              <a:buClr>
                <a:srgbClr val="000000"/>
              </a:buClr>
              <a:buSzPct val="45000"/>
              <a:buFont typeface="CP1252"/>
              <a:buChar char=""/>
            </a:pPr>
            <a:r>
              <a:rPr b="1" lang="en-US" sz="1200" spc="-1" strike="noStrike">
                <a:solidFill>
                  <a:srgbClr val="ffffcc"/>
                </a:solidFill>
                <a:latin typeface="Arial"/>
                <a:ea typeface="Arial"/>
              </a:rPr>
              <a:t>Bug Fixes</a:t>
            </a:r>
            <a:endParaRPr b="0" lang="en-US" sz="1200" spc="-1" strike="noStrike">
              <a:solidFill>
                <a:srgbClr val="ffffff"/>
              </a:solidFill>
              <a:latin typeface="Arial"/>
            </a:endParaRPr>
          </a:p>
        </p:txBody>
      </p:sp>
      <p:sp>
        <p:nvSpPr>
          <p:cNvPr id="1008" name=""/>
          <p:cNvSpPr/>
          <p:nvPr/>
        </p:nvSpPr>
        <p:spPr>
          <a:xfrm>
            <a:off x="838080" y="1397160"/>
            <a:ext cx="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9" name=""/>
          <p:cNvSpPr/>
          <p:nvPr/>
        </p:nvSpPr>
        <p:spPr>
          <a:xfrm>
            <a:off x="4675320" y="1390680"/>
            <a:ext cx="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0" name=""/>
          <p:cNvSpPr txBox="1"/>
          <p:nvPr/>
        </p:nvSpPr>
        <p:spPr>
          <a:xfrm>
            <a:off x="490680" y="1533600"/>
            <a:ext cx="69228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2000</a:t>
            </a:r>
            <a:endParaRPr b="0" lang="en-US" sz="1800" spc="-1" strike="noStrike">
              <a:solidFill>
                <a:srgbClr val="000000"/>
              </a:solidFill>
              <a:latin typeface="Arial"/>
            </a:endParaRPr>
          </a:p>
        </p:txBody>
      </p:sp>
      <p:sp>
        <p:nvSpPr>
          <p:cNvPr id="1011" name=""/>
          <p:cNvSpPr txBox="1"/>
          <p:nvPr/>
        </p:nvSpPr>
        <p:spPr>
          <a:xfrm>
            <a:off x="2298600" y="1523880"/>
            <a:ext cx="69228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2001</a:t>
            </a:r>
            <a:endParaRPr b="0" lang="en-US" sz="1800" spc="-1" strike="noStrike">
              <a:solidFill>
                <a:srgbClr val="000000"/>
              </a:solidFill>
              <a:latin typeface="Arial"/>
            </a:endParaRPr>
          </a:p>
        </p:txBody>
      </p:sp>
      <p:sp>
        <p:nvSpPr>
          <p:cNvPr id="1012" name=""/>
          <p:cNvSpPr txBox="1"/>
          <p:nvPr/>
        </p:nvSpPr>
        <p:spPr>
          <a:xfrm>
            <a:off x="4327560" y="1508040"/>
            <a:ext cx="69228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2002</a:t>
            </a:r>
            <a:endParaRPr b="0" lang="en-US" sz="1800" spc="-1" strike="noStrike">
              <a:solidFill>
                <a:srgbClr val="000000"/>
              </a:solidFill>
              <a:latin typeface="Arial"/>
            </a:endParaRPr>
          </a:p>
        </p:txBody>
      </p:sp>
      <p:sp>
        <p:nvSpPr>
          <p:cNvPr id="1013" name=""/>
          <p:cNvSpPr/>
          <p:nvPr/>
        </p:nvSpPr>
        <p:spPr>
          <a:xfrm>
            <a:off x="2637000" y="1397160"/>
            <a:ext cx="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4" name=""/>
          <p:cNvSpPr/>
          <p:nvPr/>
        </p:nvSpPr>
        <p:spPr>
          <a:xfrm flipV="1">
            <a:off x="828720" y="1370160"/>
            <a:ext cx="7858080" cy="14040"/>
          </a:xfrm>
          <a:prstGeom prst="line">
            <a:avLst/>
          </a:prstGeom>
          <a:ln w="25560">
            <a:solidFill>
              <a:srgbClr val="000000"/>
            </a:solidFill>
            <a:round/>
            <a:tailEnd len="med" type="triangle" w="med"/>
          </a:ln>
        </p:spPr>
        <p:style>
          <a:lnRef idx="0"/>
          <a:fillRef idx="0"/>
          <a:effectRef idx="0"/>
          <a:fontRef idx="minor"/>
        </p:style>
        <p:txBody>
          <a:bodyPr lIns="102600" rIns="102600" tIns="-43560" bIns="-43560" anchor="t">
            <a:noAutofit/>
          </a:bodyPr>
          <a:p>
            <a:endParaRPr b="0" lang="en-US" sz="1800" spc="-1" strike="noStrike">
              <a:solidFill>
                <a:srgbClr val="000000"/>
              </a:solidFill>
              <a:latin typeface="Arial"/>
            </a:endParaRPr>
          </a:p>
        </p:txBody>
      </p:sp>
      <p:sp>
        <p:nvSpPr>
          <p:cNvPr id="1015" name=""/>
          <p:cNvSpPr/>
          <p:nvPr/>
        </p:nvSpPr>
        <p:spPr>
          <a:xfrm>
            <a:off x="6543720" y="1378080"/>
            <a:ext cx="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6" name=""/>
          <p:cNvSpPr txBox="1"/>
          <p:nvPr/>
        </p:nvSpPr>
        <p:spPr>
          <a:xfrm>
            <a:off x="6215040" y="1495440"/>
            <a:ext cx="69228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2003</a:t>
            </a:r>
            <a:endParaRPr b="0" lang="en-US" sz="1800" spc="-1" strike="noStrike">
              <a:solidFill>
                <a:srgbClr val="000000"/>
              </a:solidFill>
              <a:latin typeface="Arial"/>
            </a:endParaRPr>
          </a:p>
        </p:txBody>
      </p:sp>
      <p:sp>
        <p:nvSpPr>
          <p:cNvPr id="1017" name=""/>
          <p:cNvSpPr txBox="1"/>
          <p:nvPr/>
        </p:nvSpPr>
        <p:spPr>
          <a:xfrm>
            <a:off x="2971800" y="1981080"/>
            <a:ext cx="2438280" cy="1036800"/>
          </a:xfrm>
          <a:prstGeom prst="rect">
            <a:avLst/>
          </a:prstGeom>
          <a:solidFill>
            <a:srgbClr val="008080"/>
          </a:solidFill>
          <a:ln w="0">
            <a:noFill/>
          </a:ln>
        </p:spPr>
        <p:txBody>
          <a:bodyPr lIns="0" rIns="0" tIns="0" bIns="0" anchor="t">
            <a:noAutofit/>
          </a:bodyPr>
          <a:p>
            <a:pPr>
              <a:lnSpc>
                <a:spcPct val="100000"/>
              </a:lnSpc>
            </a:pPr>
            <a:r>
              <a:rPr b="1" lang="en-US" sz="1200" spc="-1" strike="noStrike">
                <a:solidFill>
                  <a:srgbClr val="ffffcc"/>
                </a:solidFill>
                <a:latin typeface="Arial"/>
                <a:ea typeface="Arial"/>
              </a:rPr>
              <a:t>Version 7.1.0.0</a:t>
            </a:r>
            <a:endParaRPr b="0" lang="en-US" sz="1200" spc="-1" strike="noStrike">
              <a:solidFill>
                <a:srgbClr val="000000"/>
              </a:solidFill>
              <a:latin typeface="Arial"/>
            </a:endParaRPr>
          </a:p>
          <a:p>
            <a:pPr>
              <a:lnSpc>
                <a:spcPct val="100000"/>
              </a:lnSpc>
            </a:pPr>
            <a:r>
              <a:rPr b="1" lang="en-US" sz="1200" spc="-1" strike="noStrike">
                <a:solidFill>
                  <a:srgbClr val="ffffcc"/>
                </a:solidFill>
                <a:latin typeface="Arial"/>
                <a:ea typeface="Arial"/>
              </a:rPr>
              <a:t>FRS = Q2CY01</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1" lang="en-US" sz="1200" spc="-1" strike="noStrike">
                <a:solidFill>
                  <a:srgbClr val="ffffcc"/>
                </a:solidFill>
                <a:latin typeface="Arial"/>
                <a:ea typeface="Arial"/>
              </a:rPr>
              <a:t>Full Galaxy Phase III Support</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1" lang="en-US" sz="1200" spc="-1" strike="noStrike">
                <a:solidFill>
                  <a:srgbClr val="ffffcc"/>
                </a:solidFill>
                <a:latin typeface="Arial"/>
                <a:ea typeface="Arial"/>
              </a:rPr>
              <a:t>Extensive SQL Enhancments</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1" lang="en-US" sz="1200" spc="-1" strike="noStrike">
                <a:solidFill>
                  <a:srgbClr val="ffffcc"/>
                </a:solidFill>
                <a:latin typeface="Arial"/>
                <a:ea typeface="Arial"/>
              </a:rPr>
              <a:t>Wildfire Qualified</a:t>
            </a:r>
            <a:endParaRPr b="0" lang="en-US" sz="1200" spc="-1" strike="noStrike">
              <a:solidFill>
                <a:srgbClr val="000000"/>
              </a:solidFill>
              <a:latin typeface="Arial"/>
            </a:endParaRPr>
          </a:p>
        </p:txBody>
      </p:sp>
      <p:sp>
        <p:nvSpPr>
          <p:cNvPr id="1018" name=""/>
          <p:cNvSpPr txBox="1"/>
          <p:nvPr/>
        </p:nvSpPr>
        <p:spPr>
          <a:xfrm>
            <a:off x="5041800" y="5257800"/>
            <a:ext cx="1389240" cy="671400"/>
          </a:xfrm>
          <a:prstGeom prst="rect">
            <a:avLst/>
          </a:prstGeom>
          <a:solidFill>
            <a:srgbClr val="0066cc"/>
          </a:solidFill>
          <a:ln w="0">
            <a:noFill/>
          </a:ln>
        </p:spPr>
        <p:txBody>
          <a:bodyPr lIns="0" rIns="0" tIns="0" bIns="0" anchor="t">
            <a:noAutofit/>
          </a:bodyPr>
          <a:p>
            <a:pPr>
              <a:lnSpc>
                <a:spcPct val="100000"/>
              </a:lnSpc>
            </a:pPr>
            <a:r>
              <a:rPr b="1" lang="en-US" sz="1200" spc="-1" strike="noStrike">
                <a:solidFill>
                  <a:srgbClr val="ffffcc"/>
                </a:solidFill>
                <a:latin typeface="Arial"/>
                <a:ea typeface="Arial"/>
              </a:rPr>
              <a:t>Version 7.0.7.1</a:t>
            </a:r>
            <a:endParaRPr b="0" lang="en-US" sz="1200" spc="-1" strike="noStrike">
              <a:solidFill>
                <a:srgbClr val="000000"/>
              </a:solidFill>
              <a:latin typeface="Arial"/>
            </a:endParaRPr>
          </a:p>
          <a:p>
            <a:pPr>
              <a:lnSpc>
                <a:spcPct val="100000"/>
              </a:lnSpc>
            </a:pPr>
            <a:r>
              <a:rPr b="1" lang="en-US" sz="1200" spc="-1" strike="noStrike">
                <a:solidFill>
                  <a:srgbClr val="ffffcc"/>
                </a:solidFill>
                <a:latin typeface="Arial"/>
                <a:ea typeface="Arial"/>
              </a:rPr>
              <a:t>FRS = Q1CY02</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1" lang="en-US" sz="1200" spc="-1" strike="noStrike">
                <a:solidFill>
                  <a:srgbClr val="ffffcc"/>
                </a:solidFill>
                <a:latin typeface="Arial"/>
                <a:ea typeface="Arial"/>
              </a:rPr>
              <a:t>Bug Fixes</a:t>
            </a:r>
            <a:endParaRPr b="0" lang="en-US" sz="1200" spc="-1" strike="noStrike">
              <a:solidFill>
                <a:srgbClr val="000000"/>
              </a:solidFill>
              <a:latin typeface="Arial"/>
            </a:endParaRPr>
          </a:p>
        </p:txBody>
      </p:sp>
      <p:sp>
        <p:nvSpPr>
          <p:cNvPr id="1019" name=""/>
          <p:cNvSpPr txBox="1"/>
          <p:nvPr/>
        </p:nvSpPr>
        <p:spPr>
          <a:xfrm>
            <a:off x="3747960" y="3276720"/>
            <a:ext cx="1389240" cy="671400"/>
          </a:xfrm>
          <a:prstGeom prst="rect">
            <a:avLst/>
          </a:prstGeom>
          <a:solidFill>
            <a:srgbClr val="008080"/>
          </a:solidFill>
          <a:ln w="0">
            <a:noFill/>
          </a:ln>
        </p:spPr>
        <p:txBody>
          <a:bodyPr lIns="0" rIns="0" tIns="0" bIns="0" anchor="t">
            <a:noAutofit/>
          </a:bodyPr>
          <a:p>
            <a:pPr>
              <a:lnSpc>
                <a:spcPct val="100000"/>
              </a:lnSpc>
            </a:pPr>
            <a:r>
              <a:rPr b="1" lang="en-US" sz="1200" spc="-1" strike="noStrike">
                <a:solidFill>
                  <a:srgbClr val="ffffcc"/>
                </a:solidFill>
                <a:latin typeface="Arial"/>
                <a:ea typeface="Arial"/>
              </a:rPr>
              <a:t>Version 7.1.0.1</a:t>
            </a:r>
            <a:endParaRPr b="0" lang="en-US" sz="1200" spc="-1" strike="noStrike">
              <a:solidFill>
                <a:srgbClr val="000000"/>
              </a:solidFill>
              <a:latin typeface="Arial"/>
            </a:endParaRPr>
          </a:p>
          <a:p>
            <a:pPr>
              <a:lnSpc>
                <a:spcPct val="100000"/>
              </a:lnSpc>
            </a:pPr>
            <a:r>
              <a:rPr b="1" lang="en-US" sz="1200" spc="-1" strike="noStrike">
                <a:solidFill>
                  <a:srgbClr val="ffffcc"/>
                </a:solidFill>
                <a:latin typeface="Arial"/>
                <a:ea typeface="Arial"/>
              </a:rPr>
              <a:t>FRS = Q4CY01</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1" lang="en-US" sz="1200" spc="-1" strike="noStrike">
                <a:solidFill>
                  <a:srgbClr val="ffffcc"/>
                </a:solidFill>
                <a:latin typeface="Arial"/>
                <a:ea typeface="Arial"/>
              </a:rPr>
              <a:t>Bug Fixes</a:t>
            </a:r>
            <a:endParaRPr b="0" lang="en-US" sz="1200" spc="-1" strike="noStrike">
              <a:solidFill>
                <a:srgbClr val="000000"/>
              </a:solidFill>
              <a:latin typeface="Arial"/>
            </a:endParaRPr>
          </a:p>
        </p:txBody>
      </p:sp>
      <p:sp>
        <p:nvSpPr>
          <p:cNvPr id="1020" name=""/>
          <p:cNvSpPr txBox="1"/>
          <p:nvPr/>
        </p:nvSpPr>
        <p:spPr>
          <a:xfrm>
            <a:off x="5348160" y="3581280"/>
            <a:ext cx="1595520" cy="671400"/>
          </a:xfrm>
          <a:prstGeom prst="rect">
            <a:avLst/>
          </a:prstGeom>
          <a:solidFill>
            <a:srgbClr val="008080"/>
          </a:solidFill>
          <a:ln w="0">
            <a:noFill/>
          </a:ln>
        </p:spPr>
        <p:txBody>
          <a:bodyPr lIns="0" rIns="0" tIns="0" bIns="0" anchor="t">
            <a:noAutofit/>
          </a:bodyPr>
          <a:p>
            <a:pPr>
              <a:lnSpc>
                <a:spcPct val="100000"/>
              </a:lnSpc>
            </a:pPr>
            <a:r>
              <a:rPr b="1" lang="en-US" sz="1200" spc="-1" strike="noStrike">
                <a:solidFill>
                  <a:srgbClr val="ffffcc"/>
                </a:solidFill>
                <a:latin typeface="Arial"/>
                <a:ea typeface="Arial"/>
              </a:rPr>
              <a:t>Version 7.1.0.2</a:t>
            </a:r>
            <a:endParaRPr b="0" lang="en-US" sz="1200" spc="-1" strike="noStrike">
              <a:solidFill>
                <a:srgbClr val="000000"/>
              </a:solidFill>
              <a:latin typeface="Arial"/>
            </a:endParaRPr>
          </a:p>
          <a:p>
            <a:pPr>
              <a:lnSpc>
                <a:spcPct val="100000"/>
              </a:lnSpc>
            </a:pPr>
            <a:r>
              <a:rPr b="1" lang="en-US" sz="1200" spc="-1" strike="noStrike">
                <a:solidFill>
                  <a:srgbClr val="ffffcc"/>
                </a:solidFill>
                <a:latin typeface="Arial"/>
                <a:ea typeface="Arial"/>
              </a:rPr>
              <a:t>FRS = Q2CY02</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1" lang="en-US" sz="1200" spc="-1" strike="noStrike">
                <a:solidFill>
                  <a:srgbClr val="ffffcc"/>
                </a:solidFill>
                <a:latin typeface="Arial"/>
                <a:ea typeface="Arial"/>
              </a:rPr>
              <a:t>Bug Fix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
          <p:cNvSpPr txBox="1"/>
          <p:nvPr/>
        </p:nvSpPr>
        <p:spPr>
          <a:xfrm>
            <a:off x="685800" y="533520"/>
            <a:ext cx="7467480" cy="1176120"/>
          </a:xfrm>
          <a:prstGeom prst="rect">
            <a:avLst/>
          </a:prstGeom>
          <a:noFill/>
          <a:ln w="0">
            <a:noFill/>
          </a:ln>
        </p:spPr>
        <p:txBody>
          <a:bodyPr lIns="0" rIns="0" tIns="0" bIns="0" anchor="t">
            <a:noAutofit/>
          </a:bodyPr>
          <a:p>
            <a:pPr>
              <a:lnSpc>
                <a:spcPct val="85000"/>
              </a:lnSpc>
            </a:pPr>
            <a:r>
              <a:rPr b="1" lang="en-US" sz="4000" spc="-1" strike="noStrike">
                <a:solidFill>
                  <a:srgbClr val="000000"/>
                </a:solidFill>
                <a:latin typeface="Univers"/>
                <a:ea typeface="Univers"/>
              </a:rPr>
              <a:t>Areas of Focus for Rdb 7.Future</a:t>
            </a:r>
            <a:endParaRPr b="0" lang="en-US" sz="4000" spc="-1" strike="noStrike">
              <a:solidFill>
                <a:srgbClr val="000000"/>
              </a:solidFill>
              <a:latin typeface="Arial"/>
            </a:endParaRPr>
          </a:p>
        </p:txBody>
      </p:sp>
      <p:sp>
        <p:nvSpPr>
          <p:cNvPr id="1022" name=""/>
          <p:cNvSpPr txBox="1"/>
          <p:nvPr/>
        </p:nvSpPr>
        <p:spPr>
          <a:xfrm>
            <a:off x="609480" y="1752480"/>
            <a:ext cx="7848720" cy="493416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45000"/>
              <a:buFont typeface="Wingdings"/>
              <a:buChar char=""/>
            </a:pPr>
            <a:r>
              <a:rPr b="0" lang="en-US" sz="1800" spc="-1" strike="noStrike">
                <a:solidFill>
                  <a:srgbClr val="000000"/>
                </a:solidFill>
                <a:latin typeface="Univers"/>
                <a:ea typeface="Univers"/>
              </a:rPr>
              <a:t>Performance</a:t>
            </a:r>
            <a:endParaRPr b="0" lang="en-US" sz="1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1800" spc="-1" strike="noStrike">
                <a:solidFill>
                  <a:srgbClr val="000000"/>
                </a:solidFill>
                <a:latin typeface="Univers"/>
                <a:ea typeface="Univers"/>
              </a:rPr>
              <a:t>Platform Support</a:t>
            </a:r>
            <a:endParaRPr b="0" lang="en-US" sz="1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1800" spc="-1" strike="noStrike">
                <a:solidFill>
                  <a:srgbClr val="000000"/>
                </a:solidFill>
                <a:latin typeface="Univers"/>
                <a:ea typeface="Univers"/>
              </a:rPr>
              <a:t>Compatibility with other Oracle Technologies</a:t>
            </a:r>
            <a:endParaRPr b="0" lang="en-US" sz="1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1800" spc="-1" strike="noStrike">
                <a:solidFill>
                  <a:srgbClr val="000000"/>
                </a:solidFill>
                <a:latin typeface="Univers"/>
                <a:ea typeface="Univers"/>
              </a:rPr>
              <a:t>Feature Enhancements</a:t>
            </a:r>
            <a:endParaRPr b="0" lang="en-US" sz="1800" spc="-1" strike="noStrike">
              <a:solidFill>
                <a:srgbClr val="000000"/>
              </a:solidFill>
              <a:latin typeface="Arial"/>
            </a:endParaRPr>
          </a:p>
          <a:p>
            <a:pPr lvl="1" marL="800280" indent="-343080">
              <a:lnSpc>
                <a:spcPct val="100000"/>
              </a:lnSpc>
              <a:spcBef>
                <a:spcPts val="479"/>
              </a:spcBef>
              <a:buClr>
                <a:srgbClr val="000000"/>
              </a:buClr>
              <a:buSzPct val="75000"/>
              <a:buFont typeface="Times New Roman"/>
              <a:buChar char=""/>
            </a:pPr>
            <a:r>
              <a:rPr b="0" lang="en-US" sz="1600" spc="-1" strike="noStrike">
                <a:solidFill>
                  <a:srgbClr val="000000"/>
                </a:solidFill>
                <a:latin typeface="Univers"/>
                <a:ea typeface="Univers"/>
              </a:rPr>
              <a:t>Log Miner - Phase II</a:t>
            </a:r>
            <a:endParaRPr b="0" lang="en-US" sz="1600" spc="-1" strike="noStrike">
              <a:solidFill>
                <a:srgbClr val="000000"/>
              </a:solidFill>
              <a:latin typeface="Arial"/>
            </a:endParaRPr>
          </a:p>
          <a:p>
            <a:pPr lvl="1" marL="800280" indent="-343080">
              <a:lnSpc>
                <a:spcPct val="100000"/>
              </a:lnSpc>
              <a:spcBef>
                <a:spcPts val="479"/>
              </a:spcBef>
              <a:buClr>
                <a:srgbClr val="000000"/>
              </a:buClr>
              <a:buSzPct val="75000"/>
              <a:buFont typeface="Times New Roman"/>
              <a:buChar char=""/>
            </a:pPr>
            <a:r>
              <a:rPr b="0" lang="en-US" sz="1600" spc="-1" strike="noStrike">
                <a:solidFill>
                  <a:srgbClr val="000000"/>
                </a:solidFill>
                <a:latin typeface="Univers"/>
                <a:ea typeface="Univers"/>
              </a:rPr>
              <a:t>Galaxy - Phase II</a:t>
            </a:r>
            <a:endParaRPr b="0" lang="en-US" sz="1600" spc="-1" strike="noStrike">
              <a:solidFill>
                <a:srgbClr val="000000"/>
              </a:solidFill>
              <a:latin typeface="Arial"/>
            </a:endParaRPr>
          </a:p>
          <a:p>
            <a:pPr lvl="1" marL="800280" indent="-343080">
              <a:lnSpc>
                <a:spcPct val="100000"/>
              </a:lnSpc>
              <a:spcBef>
                <a:spcPts val="479"/>
              </a:spcBef>
              <a:buClr>
                <a:srgbClr val="000000"/>
              </a:buClr>
              <a:buSzPct val="75000"/>
              <a:buFont typeface="Times New Roman"/>
              <a:buChar char=""/>
            </a:pPr>
            <a:r>
              <a:rPr b="0" lang="en-US" sz="1600" spc="-1" strike="noStrike">
                <a:solidFill>
                  <a:srgbClr val="000000"/>
                </a:solidFill>
                <a:latin typeface="Univers"/>
                <a:ea typeface="Univers"/>
              </a:rPr>
              <a:t>VLM Enhancements</a:t>
            </a:r>
            <a:endParaRPr b="0" lang="en-US" sz="1600" spc="-1" strike="noStrike">
              <a:solidFill>
                <a:srgbClr val="000000"/>
              </a:solidFill>
              <a:latin typeface="Arial"/>
            </a:endParaRPr>
          </a:p>
          <a:p>
            <a:pPr lvl="1" marL="800280" indent="-343080">
              <a:lnSpc>
                <a:spcPct val="100000"/>
              </a:lnSpc>
              <a:spcBef>
                <a:spcPts val="479"/>
              </a:spcBef>
              <a:buClr>
                <a:srgbClr val="000000"/>
              </a:buClr>
              <a:buSzPct val="75000"/>
              <a:buFont typeface="Times New Roman"/>
              <a:buChar char=""/>
            </a:pPr>
            <a:r>
              <a:rPr b="0" lang="en-US" sz="1600" spc="-1" strike="noStrike">
                <a:solidFill>
                  <a:srgbClr val="000000"/>
                </a:solidFill>
                <a:latin typeface="Univers"/>
                <a:ea typeface="Univers"/>
              </a:rPr>
              <a:t>Row Cache - Phase II</a:t>
            </a:r>
            <a:endParaRPr b="0" lang="en-US" sz="1600" spc="-1" strike="noStrike">
              <a:solidFill>
                <a:srgbClr val="000000"/>
              </a:solidFill>
              <a:latin typeface="Arial"/>
            </a:endParaRPr>
          </a:p>
          <a:p>
            <a:pPr lvl="1" marL="800280" indent="-343080">
              <a:lnSpc>
                <a:spcPct val="100000"/>
              </a:lnSpc>
              <a:spcBef>
                <a:spcPts val="479"/>
              </a:spcBef>
              <a:buClr>
                <a:srgbClr val="000000"/>
              </a:buClr>
              <a:buSzPct val="75000"/>
              <a:buFont typeface="Times New Roman"/>
              <a:buChar char=""/>
            </a:pPr>
            <a:r>
              <a:rPr b="0" lang="en-US" sz="1600" spc="-1" strike="noStrike">
                <a:solidFill>
                  <a:srgbClr val="000000"/>
                </a:solidFill>
                <a:latin typeface="Univers"/>
                <a:ea typeface="Univers"/>
              </a:rPr>
              <a:t>Parallel Index Creation </a:t>
            </a:r>
            <a:endParaRPr b="0" lang="en-US" sz="1600" spc="-1" strike="noStrike">
              <a:solidFill>
                <a:srgbClr val="000000"/>
              </a:solidFill>
              <a:latin typeface="Arial"/>
            </a:endParaRPr>
          </a:p>
          <a:p>
            <a:pPr lvl="1" marL="800280" indent="-343080">
              <a:lnSpc>
                <a:spcPct val="100000"/>
              </a:lnSpc>
              <a:spcBef>
                <a:spcPts val="479"/>
              </a:spcBef>
              <a:buClr>
                <a:srgbClr val="000000"/>
              </a:buClr>
              <a:buSzPct val="75000"/>
              <a:buFont typeface="Times New Roman"/>
              <a:buChar char=""/>
            </a:pPr>
            <a:r>
              <a:rPr b="0" lang="en-US" sz="1600" spc="-1" strike="noStrike">
                <a:solidFill>
                  <a:srgbClr val="000000"/>
                </a:solidFill>
                <a:latin typeface="Univers"/>
                <a:ea typeface="Univers"/>
              </a:rPr>
              <a:t>Parallel Unload</a:t>
            </a:r>
            <a:endParaRPr b="0" lang="en-US" sz="16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1800" spc="-1" strike="noStrike">
                <a:solidFill>
                  <a:srgbClr val="000000"/>
                </a:solidFill>
                <a:latin typeface="Univers"/>
                <a:ea typeface="Univers"/>
              </a:rPr>
              <a:t>SQL*Net for Rdb</a:t>
            </a:r>
            <a:endParaRPr b="0" lang="en-US" sz="1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1800" spc="-1" strike="noStrike">
                <a:solidFill>
                  <a:srgbClr val="000000"/>
                </a:solidFill>
                <a:latin typeface="Univers"/>
                <a:ea typeface="Univers"/>
              </a:rPr>
              <a:t>SQL Services</a:t>
            </a:r>
            <a:endParaRPr b="0" lang="en-US" sz="1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1800" spc="-1" strike="noStrike">
                <a:solidFill>
                  <a:srgbClr val="000000"/>
                </a:solidFill>
                <a:latin typeface="Univers"/>
                <a:ea typeface="Univers"/>
              </a:rPr>
              <a:t>Tools Integration</a:t>
            </a:r>
            <a:endParaRPr b="0" lang="en-US" sz="1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1800" spc="-1" strike="noStrike">
                <a:solidFill>
                  <a:srgbClr val="000000"/>
                </a:solidFill>
                <a:latin typeface="Univers"/>
                <a:ea typeface="Univers"/>
              </a:rPr>
              <a:t>Web access to Rdb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3" name="" descr=""/>
          <p:cNvPicPr/>
          <p:nvPr/>
        </p:nvPicPr>
        <p:blipFill>
          <a:blip r:embed="rId1"/>
          <a:stretch/>
        </p:blipFill>
        <p:spPr>
          <a:xfrm>
            <a:off x="380880" y="2468520"/>
            <a:ext cx="8458200" cy="210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 descr=""/>
          <p:cNvPicPr/>
          <p:nvPr/>
        </p:nvPicPr>
        <p:blipFill>
          <a:blip r:embed="rId1"/>
          <a:stretch/>
        </p:blipFill>
        <p:spPr>
          <a:xfrm>
            <a:off x="6485040" y="1517760"/>
            <a:ext cx="2554200" cy="3651120"/>
          </a:xfrm>
          <a:prstGeom prst="rect">
            <a:avLst/>
          </a:prstGeom>
          <a:ln w="0">
            <a:noFill/>
          </a:ln>
        </p:spPr>
      </p:pic>
      <p:sp>
        <p:nvSpPr>
          <p:cNvPr id="91" name=""/>
          <p:cNvSpPr txBox="1"/>
          <p:nvPr/>
        </p:nvSpPr>
        <p:spPr>
          <a:xfrm>
            <a:off x="685800" y="533520"/>
            <a:ext cx="8153280" cy="1176120"/>
          </a:xfrm>
          <a:prstGeom prst="rect">
            <a:avLst/>
          </a:prstGeom>
          <a:noFill/>
          <a:ln w="0">
            <a:noFill/>
          </a:ln>
        </p:spPr>
        <p:txBody>
          <a:bodyPr lIns="0" rIns="0" tIns="0" bIns="0" anchor="t">
            <a:noAutofit/>
          </a:bodyPr>
          <a:p>
            <a:pPr>
              <a:lnSpc>
                <a:spcPct val="85000"/>
              </a:lnSpc>
            </a:pPr>
            <a:r>
              <a:rPr b="1" lang="en-US" sz="4000" spc="-1" strike="noStrike">
                <a:solidFill>
                  <a:srgbClr val="ffffff"/>
                </a:solidFill>
                <a:latin typeface="Univers"/>
                <a:ea typeface="Univers"/>
              </a:rPr>
              <a:t>Great Customer Commitment . . .</a:t>
            </a:r>
            <a:endParaRPr b="0" lang="en-US" sz="4000" spc="-1" strike="noStrike">
              <a:solidFill>
                <a:srgbClr val="000000"/>
              </a:solidFill>
              <a:latin typeface="Arial"/>
            </a:endParaRPr>
          </a:p>
        </p:txBody>
      </p:sp>
      <p:sp>
        <p:nvSpPr>
          <p:cNvPr id="92" name=""/>
          <p:cNvSpPr txBox="1"/>
          <p:nvPr/>
        </p:nvSpPr>
        <p:spPr>
          <a:xfrm>
            <a:off x="609480" y="1752480"/>
            <a:ext cx="7848720" cy="407664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45000"/>
              <a:buFont typeface="Wingdings"/>
              <a:buChar char=""/>
            </a:pPr>
            <a:r>
              <a:rPr b="0" lang="en-US" sz="2800" spc="-1" strike="noStrike">
                <a:solidFill>
                  <a:srgbClr val="ffffff"/>
                </a:solidFill>
                <a:latin typeface="Univers"/>
                <a:ea typeface="Univers"/>
              </a:rPr>
              <a:t>New Stock Futures Exchanges </a:t>
            </a:r>
            <a:endParaRPr b="0" lang="en-US" sz="28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400" spc="-1" strike="noStrike">
                <a:solidFill>
                  <a:srgbClr val="ffffff"/>
                </a:solidFill>
                <a:latin typeface="Univers"/>
                <a:ea typeface="Univers"/>
              </a:rPr>
              <a:t>BrokerTec</a:t>
            </a:r>
            <a:endParaRPr b="0" lang="en-US" sz="24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400" spc="-1" strike="noStrike">
                <a:solidFill>
                  <a:srgbClr val="ffffff"/>
                </a:solidFill>
                <a:latin typeface="Univers"/>
                <a:ea typeface="Univers"/>
              </a:rPr>
              <a:t>Jiway</a:t>
            </a:r>
            <a:endParaRPr b="0" lang="en-US" sz="24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400" spc="-1" strike="noStrike">
                <a:solidFill>
                  <a:srgbClr val="ffffff"/>
                </a:solidFill>
                <a:latin typeface="Univers"/>
                <a:ea typeface="Univers"/>
              </a:rPr>
              <a:t>International Securities Exchange</a:t>
            </a:r>
            <a:endParaRPr b="0" lang="en-US" sz="24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800" spc="-1" strike="noStrike">
                <a:solidFill>
                  <a:srgbClr val="ffffff"/>
                </a:solidFill>
                <a:latin typeface="Univers"/>
                <a:ea typeface="Univers"/>
              </a:rPr>
              <a:t>Verizon Wireless Communications</a:t>
            </a:r>
            <a:endParaRPr b="0" lang="en-US" sz="28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400" spc="-1" strike="noStrike">
                <a:solidFill>
                  <a:srgbClr val="ffffff"/>
                </a:solidFill>
                <a:latin typeface="Univers"/>
                <a:ea typeface="Univers"/>
              </a:rPr>
              <a:t>Rdb system chosen for retail systems</a:t>
            </a:r>
            <a:endParaRPr b="0" lang="en-US" sz="24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800" spc="-1" strike="noStrike">
                <a:solidFill>
                  <a:srgbClr val="ffffff"/>
                </a:solidFill>
                <a:latin typeface="Univers"/>
                <a:ea typeface="Univers"/>
              </a:rPr>
              <a:t>Deutsche Bank, New York</a:t>
            </a:r>
            <a:endParaRPr b="0" lang="en-US" sz="28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400" spc="-1" strike="noStrike">
                <a:solidFill>
                  <a:srgbClr val="ffffff"/>
                </a:solidFill>
                <a:latin typeface="Univers"/>
                <a:ea typeface="Univers"/>
              </a:rPr>
              <a:t>Replacement of new DB2 trading system pro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2111400" y="228600"/>
            <a:ext cx="6499080" cy="1143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3124080" y="1981080"/>
            <a:ext cx="5865840" cy="4038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txBox="1"/>
          <p:nvPr/>
        </p:nvSpPr>
        <p:spPr>
          <a:xfrm>
            <a:off x="1066680" y="1660680"/>
            <a:ext cx="7543800" cy="457200"/>
          </a:xfrm>
          <a:prstGeom prst="rect">
            <a:avLst/>
          </a:prstGeom>
          <a:noFill/>
          <a:ln w="0">
            <a:noFill/>
          </a:ln>
        </p:spPr>
        <p:txBody>
          <a:bodyPr lIns="0" rIns="0" tIns="0" bIns="0" anchor="t">
            <a:noAutofit/>
          </a:bodyPr>
          <a:p>
            <a:pPr>
              <a:lnSpc>
                <a:spcPct val="100000"/>
              </a:lnSpc>
            </a:pPr>
            <a:r>
              <a:rPr b="1" i="1" lang="en-US" sz="2400" spc="-1" strike="noStrike">
                <a:solidFill>
                  <a:srgbClr val="fc0128"/>
                </a:solidFill>
                <a:latin typeface="Arial"/>
                <a:ea typeface="Arial"/>
              </a:rPr>
              <a:t>A 24x7 Database Optimized for Compaq OpenVMS </a:t>
            </a:r>
            <a:endParaRPr b="0" lang="en-US" sz="2400" spc="-1" strike="noStrike">
              <a:solidFill>
                <a:srgbClr val="000000"/>
              </a:solidFill>
              <a:latin typeface="Arial"/>
            </a:endParaRPr>
          </a:p>
        </p:txBody>
      </p:sp>
      <p:grpSp>
        <p:nvGrpSpPr>
          <p:cNvPr id="96" name=""/>
          <p:cNvGrpSpPr/>
          <p:nvPr/>
        </p:nvGrpSpPr>
        <p:grpSpPr>
          <a:xfrm>
            <a:off x="152280" y="2514600"/>
            <a:ext cx="3048480" cy="3277080"/>
            <a:chOff x="152280" y="2514600"/>
            <a:chExt cx="3048480" cy="3277080"/>
          </a:xfrm>
        </p:grpSpPr>
        <p:grpSp>
          <p:nvGrpSpPr>
            <p:cNvPr id="97" name=""/>
            <p:cNvGrpSpPr/>
            <p:nvPr/>
          </p:nvGrpSpPr>
          <p:grpSpPr>
            <a:xfrm>
              <a:off x="660240" y="2911320"/>
              <a:ext cx="2540520" cy="2880360"/>
              <a:chOff x="660240" y="2911320"/>
              <a:chExt cx="2540520" cy="2880360"/>
            </a:xfrm>
          </p:grpSpPr>
          <p:sp>
            <p:nvSpPr>
              <p:cNvPr id="98" name=""/>
              <p:cNvSpPr/>
              <p:nvPr/>
            </p:nvSpPr>
            <p:spPr>
              <a:xfrm>
                <a:off x="1195560" y="3889440"/>
                <a:ext cx="1798920" cy="1902240"/>
              </a:xfrm>
              <a:custGeom>
                <a:avLst/>
                <a:gdLst/>
                <a:ahLst/>
                <a:rect l="0" t="0" r="r" b="b"/>
                <a:pathLst>
                  <a:path w="4997" h="5284">
                    <a:moveTo>
                      <a:pt x="1411" y="4617"/>
                    </a:moveTo>
                    <a:lnTo>
                      <a:pt x="1470" y="4621"/>
                    </a:lnTo>
                    <a:lnTo>
                      <a:pt x="1550" y="4629"/>
                    </a:lnTo>
                    <a:lnTo>
                      <a:pt x="1638" y="4625"/>
                    </a:lnTo>
                    <a:lnTo>
                      <a:pt x="1693" y="4625"/>
                    </a:lnTo>
                    <a:lnTo>
                      <a:pt x="1760" y="4634"/>
                    </a:lnTo>
                    <a:lnTo>
                      <a:pt x="1832" y="4625"/>
                    </a:lnTo>
                    <a:lnTo>
                      <a:pt x="1899" y="4625"/>
                    </a:lnTo>
                    <a:lnTo>
                      <a:pt x="1962" y="4621"/>
                    </a:lnTo>
                    <a:lnTo>
                      <a:pt x="2037" y="4621"/>
                    </a:lnTo>
                    <a:lnTo>
                      <a:pt x="2126" y="4604"/>
                    </a:lnTo>
                    <a:lnTo>
                      <a:pt x="2201" y="4600"/>
                    </a:lnTo>
                    <a:lnTo>
                      <a:pt x="2273" y="4578"/>
                    </a:lnTo>
                    <a:lnTo>
                      <a:pt x="2357" y="4570"/>
                    </a:lnTo>
                    <a:lnTo>
                      <a:pt x="2437" y="4548"/>
                    </a:lnTo>
                    <a:lnTo>
                      <a:pt x="2513" y="4540"/>
                    </a:lnTo>
                    <a:lnTo>
                      <a:pt x="2585" y="4506"/>
                    </a:lnTo>
                    <a:lnTo>
                      <a:pt x="2648" y="4493"/>
                    </a:lnTo>
                    <a:lnTo>
                      <a:pt x="2715" y="4463"/>
                    </a:lnTo>
                    <a:lnTo>
                      <a:pt x="2786" y="4438"/>
                    </a:lnTo>
                    <a:lnTo>
                      <a:pt x="2866" y="4404"/>
                    </a:lnTo>
                    <a:lnTo>
                      <a:pt x="2942" y="4370"/>
                    </a:lnTo>
                    <a:lnTo>
                      <a:pt x="3013" y="4336"/>
                    </a:lnTo>
                    <a:lnTo>
                      <a:pt x="3081" y="4315"/>
                    </a:lnTo>
                    <a:lnTo>
                      <a:pt x="3186" y="4251"/>
                    </a:lnTo>
                    <a:lnTo>
                      <a:pt x="3299" y="4183"/>
                    </a:lnTo>
                    <a:lnTo>
                      <a:pt x="3392" y="4127"/>
                    </a:lnTo>
                    <a:lnTo>
                      <a:pt x="3497" y="4051"/>
                    </a:lnTo>
                    <a:lnTo>
                      <a:pt x="3572" y="3991"/>
                    </a:lnTo>
                    <a:lnTo>
                      <a:pt x="3656" y="3922"/>
                    </a:lnTo>
                    <a:lnTo>
                      <a:pt x="3757" y="3846"/>
                    </a:lnTo>
                    <a:lnTo>
                      <a:pt x="3837" y="3765"/>
                    </a:lnTo>
                    <a:lnTo>
                      <a:pt x="3921" y="3671"/>
                    </a:lnTo>
                    <a:lnTo>
                      <a:pt x="4005" y="3590"/>
                    </a:lnTo>
                    <a:lnTo>
                      <a:pt x="4085" y="3497"/>
                    </a:lnTo>
                    <a:lnTo>
                      <a:pt x="4161" y="3420"/>
                    </a:lnTo>
                    <a:lnTo>
                      <a:pt x="4236" y="3314"/>
                    </a:lnTo>
                    <a:lnTo>
                      <a:pt x="4308" y="3212"/>
                    </a:lnTo>
                    <a:lnTo>
                      <a:pt x="4379" y="3106"/>
                    </a:lnTo>
                    <a:lnTo>
                      <a:pt x="4442" y="2991"/>
                    </a:lnTo>
                    <a:lnTo>
                      <a:pt x="4530" y="2842"/>
                    </a:lnTo>
                    <a:lnTo>
                      <a:pt x="4598" y="2710"/>
                    </a:lnTo>
                    <a:lnTo>
                      <a:pt x="4661" y="2565"/>
                    </a:lnTo>
                    <a:lnTo>
                      <a:pt x="4719" y="2429"/>
                    </a:lnTo>
                    <a:lnTo>
                      <a:pt x="4778" y="2263"/>
                    </a:lnTo>
                    <a:lnTo>
                      <a:pt x="4850" y="2055"/>
                    </a:lnTo>
                    <a:lnTo>
                      <a:pt x="4887" y="1889"/>
                    </a:lnTo>
                    <a:lnTo>
                      <a:pt x="4929" y="1723"/>
                    </a:lnTo>
                    <a:lnTo>
                      <a:pt x="4955" y="1562"/>
                    </a:lnTo>
                    <a:lnTo>
                      <a:pt x="4972" y="1413"/>
                    </a:lnTo>
                    <a:lnTo>
                      <a:pt x="4988" y="1250"/>
                    </a:lnTo>
                    <a:lnTo>
                      <a:pt x="4997" y="1088"/>
                    </a:lnTo>
                    <a:lnTo>
                      <a:pt x="4997" y="905"/>
                    </a:lnTo>
                    <a:lnTo>
                      <a:pt x="4988" y="710"/>
                    </a:lnTo>
                    <a:lnTo>
                      <a:pt x="4984" y="535"/>
                    </a:lnTo>
                    <a:lnTo>
                      <a:pt x="4967" y="361"/>
                    </a:lnTo>
                    <a:lnTo>
                      <a:pt x="4921" y="178"/>
                    </a:lnTo>
                    <a:lnTo>
                      <a:pt x="4879" y="0"/>
                    </a:lnTo>
                    <a:lnTo>
                      <a:pt x="3421" y="446"/>
                    </a:lnTo>
                    <a:lnTo>
                      <a:pt x="3455" y="621"/>
                    </a:lnTo>
                    <a:lnTo>
                      <a:pt x="3471" y="752"/>
                    </a:lnTo>
                    <a:lnTo>
                      <a:pt x="3471" y="888"/>
                    </a:lnTo>
                    <a:lnTo>
                      <a:pt x="3471" y="1025"/>
                    </a:lnTo>
                    <a:lnTo>
                      <a:pt x="3463" y="1148"/>
                    </a:lnTo>
                    <a:lnTo>
                      <a:pt x="3446" y="1263"/>
                    </a:lnTo>
                    <a:lnTo>
                      <a:pt x="3425" y="1374"/>
                    </a:lnTo>
                    <a:lnTo>
                      <a:pt x="3400" y="1498"/>
                    </a:lnTo>
                    <a:lnTo>
                      <a:pt x="3358" y="1625"/>
                    </a:lnTo>
                    <a:lnTo>
                      <a:pt x="3316" y="1753"/>
                    </a:lnTo>
                    <a:lnTo>
                      <a:pt x="3257" y="1889"/>
                    </a:lnTo>
                    <a:lnTo>
                      <a:pt x="3202" y="2000"/>
                    </a:lnTo>
                    <a:lnTo>
                      <a:pt x="3123" y="2123"/>
                    </a:lnTo>
                    <a:lnTo>
                      <a:pt x="3055" y="2225"/>
                    </a:lnTo>
                    <a:lnTo>
                      <a:pt x="2980" y="2314"/>
                    </a:lnTo>
                    <a:lnTo>
                      <a:pt x="2908" y="2387"/>
                    </a:lnTo>
                    <a:lnTo>
                      <a:pt x="2849" y="2442"/>
                    </a:lnTo>
                    <a:lnTo>
                      <a:pt x="2786" y="2497"/>
                    </a:lnTo>
                    <a:lnTo>
                      <a:pt x="2723" y="2553"/>
                    </a:lnTo>
                    <a:lnTo>
                      <a:pt x="2644" y="2604"/>
                    </a:lnTo>
                    <a:lnTo>
                      <a:pt x="2581" y="2642"/>
                    </a:lnTo>
                    <a:lnTo>
                      <a:pt x="2509" y="2684"/>
                    </a:lnTo>
                    <a:lnTo>
                      <a:pt x="2441" y="2731"/>
                    </a:lnTo>
                    <a:lnTo>
                      <a:pt x="2365" y="2761"/>
                    </a:lnTo>
                    <a:lnTo>
                      <a:pt x="2273" y="2795"/>
                    </a:lnTo>
                    <a:lnTo>
                      <a:pt x="2193" y="2829"/>
                    </a:lnTo>
                    <a:lnTo>
                      <a:pt x="2130" y="2838"/>
                    </a:lnTo>
                    <a:lnTo>
                      <a:pt x="2037" y="2872"/>
                    </a:lnTo>
                    <a:lnTo>
                      <a:pt x="1958" y="2876"/>
                    </a:lnTo>
                    <a:lnTo>
                      <a:pt x="1895" y="2889"/>
                    </a:lnTo>
                    <a:lnTo>
                      <a:pt x="1819" y="2889"/>
                    </a:lnTo>
                    <a:lnTo>
                      <a:pt x="1714" y="2889"/>
                    </a:lnTo>
                    <a:lnTo>
                      <a:pt x="1621" y="2876"/>
                    </a:lnTo>
                    <a:lnTo>
                      <a:pt x="1521" y="2863"/>
                    </a:lnTo>
                    <a:lnTo>
                      <a:pt x="1432" y="2838"/>
                    </a:lnTo>
                    <a:lnTo>
                      <a:pt x="1374" y="2829"/>
                    </a:lnTo>
                    <a:lnTo>
                      <a:pt x="1588" y="1944"/>
                    </a:lnTo>
                    <a:lnTo>
                      <a:pt x="0" y="3220"/>
                    </a:lnTo>
                    <a:lnTo>
                      <a:pt x="794" y="5284"/>
                    </a:lnTo>
                    <a:lnTo>
                      <a:pt x="974" y="4519"/>
                    </a:lnTo>
                    <a:lnTo>
                      <a:pt x="1037" y="4536"/>
                    </a:lnTo>
                    <a:lnTo>
                      <a:pt x="1134" y="4557"/>
                    </a:lnTo>
                    <a:lnTo>
                      <a:pt x="1231" y="4583"/>
                    </a:lnTo>
                    <a:lnTo>
                      <a:pt x="1327" y="4600"/>
                    </a:lnTo>
                    <a:lnTo>
                      <a:pt x="1411" y="4617"/>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1166760" y="2911320"/>
                <a:ext cx="2034000" cy="1549800"/>
              </a:xfrm>
              <a:custGeom>
                <a:avLst/>
                <a:gdLst/>
                <a:ahLst/>
                <a:rect l="0" t="0" r="r" b="b"/>
                <a:pathLst>
                  <a:path w="5650" h="4305">
                    <a:moveTo>
                      <a:pt x="3129" y="306"/>
                    </a:moveTo>
                    <a:lnTo>
                      <a:pt x="3192" y="335"/>
                    </a:lnTo>
                    <a:lnTo>
                      <a:pt x="3260" y="374"/>
                    </a:lnTo>
                    <a:lnTo>
                      <a:pt x="3335" y="416"/>
                    </a:lnTo>
                    <a:lnTo>
                      <a:pt x="3386" y="455"/>
                    </a:lnTo>
                    <a:lnTo>
                      <a:pt x="3444" y="489"/>
                    </a:lnTo>
                    <a:lnTo>
                      <a:pt x="3499" y="531"/>
                    </a:lnTo>
                    <a:lnTo>
                      <a:pt x="3562" y="569"/>
                    </a:lnTo>
                    <a:lnTo>
                      <a:pt x="3621" y="608"/>
                    </a:lnTo>
                    <a:lnTo>
                      <a:pt x="3680" y="659"/>
                    </a:lnTo>
                    <a:lnTo>
                      <a:pt x="3751" y="710"/>
                    </a:lnTo>
                    <a:lnTo>
                      <a:pt x="3810" y="765"/>
                    </a:lnTo>
                    <a:lnTo>
                      <a:pt x="3873" y="820"/>
                    </a:lnTo>
                    <a:lnTo>
                      <a:pt x="3936" y="876"/>
                    </a:lnTo>
                    <a:lnTo>
                      <a:pt x="3995" y="939"/>
                    </a:lnTo>
                    <a:lnTo>
                      <a:pt x="4053" y="999"/>
                    </a:lnTo>
                    <a:lnTo>
                      <a:pt x="4100" y="1058"/>
                    </a:lnTo>
                    <a:lnTo>
                      <a:pt x="4150" y="1110"/>
                    </a:lnTo>
                    <a:lnTo>
                      <a:pt x="4192" y="1179"/>
                    </a:lnTo>
                    <a:lnTo>
                      <a:pt x="4248" y="1238"/>
                    </a:lnTo>
                    <a:lnTo>
                      <a:pt x="4306" y="1306"/>
                    </a:lnTo>
                    <a:lnTo>
                      <a:pt x="4357" y="1374"/>
                    </a:lnTo>
                    <a:lnTo>
                      <a:pt x="4399" y="1446"/>
                    </a:lnTo>
                    <a:lnTo>
                      <a:pt x="4441" y="1506"/>
                    </a:lnTo>
                    <a:lnTo>
                      <a:pt x="4516" y="1617"/>
                    </a:lnTo>
                    <a:lnTo>
                      <a:pt x="4575" y="1719"/>
                    </a:lnTo>
                    <a:lnTo>
                      <a:pt x="4634" y="1838"/>
                    </a:lnTo>
                    <a:lnTo>
                      <a:pt x="4693" y="1961"/>
                    </a:lnTo>
                    <a:lnTo>
                      <a:pt x="4731" y="2063"/>
                    </a:lnTo>
                    <a:lnTo>
                      <a:pt x="4777" y="2169"/>
                    </a:lnTo>
                    <a:lnTo>
                      <a:pt x="4827" y="2289"/>
                    </a:lnTo>
                    <a:lnTo>
                      <a:pt x="4865" y="2395"/>
                    </a:lnTo>
                    <a:lnTo>
                      <a:pt x="4899" y="2518"/>
                    </a:lnTo>
                    <a:lnTo>
                      <a:pt x="4945" y="2654"/>
                    </a:lnTo>
                    <a:lnTo>
                      <a:pt x="5650" y="2442"/>
                    </a:lnTo>
                    <a:lnTo>
                      <a:pt x="4567" y="4305"/>
                    </a:lnTo>
                    <a:lnTo>
                      <a:pt x="2718" y="3336"/>
                    </a:lnTo>
                    <a:lnTo>
                      <a:pt x="3470" y="3109"/>
                    </a:lnTo>
                    <a:lnTo>
                      <a:pt x="3436" y="3003"/>
                    </a:lnTo>
                    <a:lnTo>
                      <a:pt x="3394" y="2909"/>
                    </a:lnTo>
                    <a:lnTo>
                      <a:pt x="3352" y="2812"/>
                    </a:lnTo>
                    <a:lnTo>
                      <a:pt x="3318" y="2722"/>
                    </a:lnTo>
                    <a:lnTo>
                      <a:pt x="3281" y="2654"/>
                    </a:lnTo>
                    <a:lnTo>
                      <a:pt x="3239" y="2573"/>
                    </a:lnTo>
                    <a:lnTo>
                      <a:pt x="3197" y="2505"/>
                    </a:lnTo>
                    <a:lnTo>
                      <a:pt x="3142" y="2433"/>
                    </a:lnTo>
                    <a:lnTo>
                      <a:pt x="3075" y="2352"/>
                    </a:lnTo>
                    <a:lnTo>
                      <a:pt x="3024" y="2284"/>
                    </a:lnTo>
                    <a:lnTo>
                      <a:pt x="2978" y="2233"/>
                    </a:lnTo>
                    <a:lnTo>
                      <a:pt x="2911" y="2157"/>
                    </a:lnTo>
                    <a:lnTo>
                      <a:pt x="2844" y="2101"/>
                    </a:lnTo>
                    <a:lnTo>
                      <a:pt x="2789" y="2063"/>
                    </a:lnTo>
                    <a:lnTo>
                      <a:pt x="2730" y="2016"/>
                    </a:lnTo>
                    <a:lnTo>
                      <a:pt x="2642" y="1957"/>
                    </a:lnTo>
                    <a:lnTo>
                      <a:pt x="2550" y="1914"/>
                    </a:lnTo>
                    <a:lnTo>
                      <a:pt x="2462" y="1876"/>
                    </a:lnTo>
                    <a:lnTo>
                      <a:pt x="2327" y="1825"/>
                    </a:lnTo>
                    <a:lnTo>
                      <a:pt x="2142" y="1770"/>
                    </a:lnTo>
                    <a:lnTo>
                      <a:pt x="2000" y="1744"/>
                    </a:lnTo>
                    <a:lnTo>
                      <a:pt x="1865" y="1740"/>
                    </a:lnTo>
                    <a:lnTo>
                      <a:pt x="1706" y="1740"/>
                    </a:lnTo>
                    <a:lnTo>
                      <a:pt x="1563" y="1770"/>
                    </a:lnTo>
                    <a:lnTo>
                      <a:pt x="1411" y="1804"/>
                    </a:lnTo>
                    <a:lnTo>
                      <a:pt x="1276" y="1850"/>
                    </a:lnTo>
                    <a:lnTo>
                      <a:pt x="1133" y="1927"/>
                    </a:lnTo>
                    <a:lnTo>
                      <a:pt x="0" y="642"/>
                    </a:lnTo>
                    <a:lnTo>
                      <a:pt x="71" y="591"/>
                    </a:lnTo>
                    <a:lnTo>
                      <a:pt x="172" y="523"/>
                    </a:lnTo>
                    <a:lnTo>
                      <a:pt x="251" y="476"/>
                    </a:lnTo>
                    <a:lnTo>
                      <a:pt x="335" y="425"/>
                    </a:lnTo>
                    <a:lnTo>
                      <a:pt x="419" y="369"/>
                    </a:lnTo>
                    <a:lnTo>
                      <a:pt x="512" y="323"/>
                    </a:lnTo>
                    <a:lnTo>
                      <a:pt x="596" y="284"/>
                    </a:lnTo>
                    <a:lnTo>
                      <a:pt x="684" y="242"/>
                    </a:lnTo>
                    <a:lnTo>
                      <a:pt x="776" y="212"/>
                    </a:lnTo>
                    <a:lnTo>
                      <a:pt x="865" y="174"/>
                    </a:lnTo>
                    <a:lnTo>
                      <a:pt x="961" y="136"/>
                    </a:lnTo>
                    <a:lnTo>
                      <a:pt x="1049" y="110"/>
                    </a:lnTo>
                    <a:lnTo>
                      <a:pt x="1133" y="89"/>
                    </a:lnTo>
                    <a:lnTo>
                      <a:pt x="1217" y="68"/>
                    </a:lnTo>
                    <a:lnTo>
                      <a:pt x="1327" y="46"/>
                    </a:lnTo>
                    <a:lnTo>
                      <a:pt x="1428" y="34"/>
                    </a:lnTo>
                    <a:lnTo>
                      <a:pt x="1546" y="17"/>
                    </a:lnTo>
                    <a:lnTo>
                      <a:pt x="1626" y="8"/>
                    </a:lnTo>
                    <a:lnTo>
                      <a:pt x="1710" y="0"/>
                    </a:lnTo>
                    <a:lnTo>
                      <a:pt x="1811" y="0"/>
                    </a:lnTo>
                    <a:lnTo>
                      <a:pt x="1899" y="0"/>
                    </a:lnTo>
                    <a:lnTo>
                      <a:pt x="1987" y="4"/>
                    </a:lnTo>
                    <a:lnTo>
                      <a:pt x="2088" y="8"/>
                    </a:lnTo>
                    <a:lnTo>
                      <a:pt x="2193" y="17"/>
                    </a:lnTo>
                    <a:lnTo>
                      <a:pt x="2298" y="34"/>
                    </a:lnTo>
                    <a:lnTo>
                      <a:pt x="2399" y="55"/>
                    </a:lnTo>
                    <a:lnTo>
                      <a:pt x="2483" y="76"/>
                    </a:lnTo>
                    <a:lnTo>
                      <a:pt x="2592" y="102"/>
                    </a:lnTo>
                    <a:lnTo>
                      <a:pt x="2697" y="131"/>
                    </a:lnTo>
                    <a:lnTo>
                      <a:pt x="2781" y="165"/>
                    </a:lnTo>
                    <a:lnTo>
                      <a:pt x="2869" y="191"/>
                    </a:lnTo>
                    <a:lnTo>
                      <a:pt x="2970" y="233"/>
                    </a:lnTo>
                    <a:lnTo>
                      <a:pt x="3058" y="276"/>
                    </a:lnTo>
                    <a:lnTo>
                      <a:pt x="3129" y="306"/>
                    </a:lnTo>
                    <a:close/>
                  </a:path>
                </a:pathLst>
              </a:cu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a:off x="660240" y="3075120"/>
                <a:ext cx="962280" cy="2357640"/>
              </a:xfrm>
              <a:custGeom>
                <a:avLst/>
                <a:gdLst/>
                <a:ahLst/>
                <a:rect l="0" t="0" r="r" b="b"/>
                <a:pathLst>
                  <a:path w="2673" h="6549">
                    <a:moveTo>
                      <a:pt x="1912" y="6549"/>
                    </a:moveTo>
                    <a:lnTo>
                      <a:pt x="1853" y="6523"/>
                    </a:lnTo>
                    <a:lnTo>
                      <a:pt x="1799" y="6494"/>
                    </a:lnTo>
                    <a:lnTo>
                      <a:pt x="1719" y="6443"/>
                    </a:lnTo>
                    <a:lnTo>
                      <a:pt x="1660" y="6413"/>
                    </a:lnTo>
                    <a:lnTo>
                      <a:pt x="1601" y="6366"/>
                    </a:lnTo>
                    <a:lnTo>
                      <a:pt x="1543" y="6324"/>
                    </a:lnTo>
                    <a:lnTo>
                      <a:pt x="1484" y="6285"/>
                    </a:lnTo>
                    <a:lnTo>
                      <a:pt x="1425" y="6247"/>
                    </a:lnTo>
                    <a:lnTo>
                      <a:pt x="1370" y="6196"/>
                    </a:lnTo>
                    <a:lnTo>
                      <a:pt x="1298" y="6145"/>
                    </a:lnTo>
                    <a:lnTo>
                      <a:pt x="1243" y="6090"/>
                    </a:lnTo>
                    <a:lnTo>
                      <a:pt x="1180" y="6034"/>
                    </a:lnTo>
                    <a:lnTo>
                      <a:pt x="1117" y="5975"/>
                    </a:lnTo>
                    <a:lnTo>
                      <a:pt x="1058" y="5911"/>
                    </a:lnTo>
                    <a:lnTo>
                      <a:pt x="1000" y="5860"/>
                    </a:lnTo>
                    <a:lnTo>
                      <a:pt x="949" y="5801"/>
                    </a:lnTo>
                    <a:lnTo>
                      <a:pt x="903" y="5741"/>
                    </a:lnTo>
                    <a:lnTo>
                      <a:pt x="861" y="5681"/>
                    </a:lnTo>
                    <a:lnTo>
                      <a:pt x="802" y="5622"/>
                    </a:lnTo>
                    <a:lnTo>
                      <a:pt x="747" y="5550"/>
                    </a:lnTo>
                    <a:lnTo>
                      <a:pt x="701" y="5477"/>
                    </a:lnTo>
                    <a:lnTo>
                      <a:pt x="655" y="5405"/>
                    </a:lnTo>
                    <a:lnTo>
                      <a:pt x="613" y="5346"/>
                    </a:lnTo>
                    <a:lnTo>
                      <a:pt x="537" y="5235"/>
                    </a:lnTo>
                    <a:lnTo>
                      <a:pt x="478" y="5103"/>
                    </a:lnTo>
                    <a:lnTo>
                      <a:pt x="424" y="5014"/>
                    </a:lnTo>
                    <a:lnTo>
                      <a:pt x="361" y="4882"/>
                    </a:lnTo>
                    <a:lnTo>
                      <a:pt x="319" y="4789"/>
                    </a:lnTo>
                    <a:lnTo>
                      <a:pt x="277" y="4682"/>
                    </a:lnTo>
                    <a:lnTo>
                      <a:pt x="231" y="4559"/>
                    </a:lnTo>
                    <a:lnTo>
                      <a:pt x="193" y="4448"/>
                    </a:lnTo>
                    <a:lnTo>
                      <a:pt x="163" y="4325"/>
                    </a:lnTo>
                    <a:lnTo>
                      <a:pt x="130" y="4206"/>
                    </a:lnTo>
                    <a:lnTo>
                      <a:pt x="96" y="4074"/>
                    </a:lnTo>
                    <a:lnTo>
                      <a:pt x="67" y="3968"/>
                    </a:lnTo>
                    <a:lnTo>
                      <a:pt x="54" y="3836"/>
                    </a:lnTo>
                    <a:lnTo>
                      <a:pt x="33" y="3708"/>
                    </a:lnTo>
                    <a:lnTo>
                      <a:pt x="21" y="3577"/>
                    </a:lnTo>
                    <a:lnTo>
                      <a:pt x="12" y="3436"/>
                    </a:lnTo>
                    <a:lnTo>
                      <a:pt x="0" y="3261"/>
                    </a:lnTo>
                    <a:lnTo>
                      <a:pt x="8" y="3108"/>
                    </a:lnTo>
                    <a:lnTo>
                      <a:pt x="8" y="2946"/>
                    </a:lnTo>
                    <a:lnTo>
                      <a:pt x="29" y="2789"/>
                    </a:lnTo>
                    <a:lnTo>
                      <a:pt x="42" y="2615"/>
                    </a:lnTo>
                    <a:lnTo>
                      <a:pt x="75" y="2398"/>
                    </a:lnTo>
                    <a:lnTo>
                      <a:pt x="113" y="2228"/>
                    </a:lnTo>
                    <a:lnTo>
                      <a:pt x="159" y="2070"/>
                    </a:lnTo>
                    <a:lnTo>
                      <a:pt x="210" y="1913"/>
                    </a:lnTo>
                    <a:lnTo>
                      <a:pt x="260" y="1768"/>
                    </a:lnTo>
                    <a:lnTo>
                      <a:pt x="315" y="1624"/>
                    </a:lnTo>
                    <a:lnTo>
                      <a:pt x="378" y="1475"/>
                    </a:lnTo>
                    <a:lnTo>
                      <a:pt x="457" y="1313"/>
                    </a:lnTo>
                    <a:lnTo>
                      <a:pt x="550" y="1156"/>
                    </a:lnTo>
                    <a:lnTo>
                      <a:pt x="634" y="1012"/>
                    </a:lnTo>
                    <a:lnTo>
                      <a:pt x="726" y="871"/>
                    </a:lnTo>
                    <a:lnTo>
                      <a:pt x="823" y="735"/>
                    </a:lnTo>
                    <a:lnTo>
                      <a:pt x="941" y="608"/>
                    </a:lnTo>
                    <a:lnTo>
                      <a:pt x="394" y="0"/>
                    </a:lnTo>
                    <a:lnTo>
                      <a:pt x="2437" y="263"/>
                    </a:lnTo>
                    <a:lnTo>
                      <a:pt x="2673" y="2525"/>
                    </a:lnTo>
                    <a:lnTo>
                      <a:pt x="2030" y="1845"/>
                    </a:lnTo>
                    <a:lnTo>
                      <a:pt x="1925" y="1956"/>
                    </a:lnTo>
                    <a:lnTo>
                      <a:pt x="1853" y="2062"/>
                    </a:lnTo>
                    <a:lnTo>
                      <a:pt x="1778" y="2172"/>
                    </a:lnTo>
                    <a:lnTo>
                      <a:pt x="1723" y="2279"/>
                    </a:lnTo>
                    <a:lnTo>
                      <a:pt x="1673" y="2385"/>
                    </a:lnTo>
                    <a:lnTo>
                      <a:pt x="1639" y="2504"/>
                    </a:lnTo>
                    <a:lnTo>
                      <a:pt x="1601" y="2615"/>
                    </a:lnTo>
                    <a:lnTo>
                      <a:pt x="1576" y="2729"/>
                    </a:lnTo>
                    <a:lnTo>
                      <a:pt x="1551" y="2861"/>
                    </a:lnTo>
                    <a:lnTo>
                      <a:pt x="1534" y="3002"/>
                    </a:lnTo>
                    <a:lnTo>
                      <a:pt x="1526" y="3150"/>
                    </a:lnTo>
                    <a:lnTo>
                      <a:pt x="1526" y="3279"/>
                    </a:lnTo>
                    <a:lnTo>
                      <a:pt x="1538" y="3428"/>
                    </a:lnTo>
                    <a:lnTo>
                      <a:pt x="1551" y="3555"/>
                    </a:lnTo>
                    <a:lnTo>
                      <a:pt x="1580" y="3679"/>
                    </a:lnTo>
                    <a:lnTo>
                      <a:pt x="1606" y="3772"/>
                    </a:lnTo>
                    <a:lnTo>
                      <a:pt x="1631" y="3857"/>
                    </a:lnTo>
                    <a:lnTo>
                      <a:pt x="1664" y="3947"/>
                    </a:lnTo>
                    <a:lnTo>
                      <a:pt x="1698" y="4032"/>
                    </a:lnTo>
                    <a:lnTo>
                      <a:pt x="1736" y="4121"/>
                    </a:lnTo>
                    <a:lnTo>
                      <a:pt x="1774" y="4189"/>
                    </a:lnTo>
                    <a:lnTo>
                      <a:pt x="1816" y="4274"/>
                    </a:lnTo>
                    <a:lnTo>
                      <a:pt x="1853" y="4338"/>
                    </a:lnTo>
                    <a:lnTo>
                      <a:pt x="1904" y="4410"/>
                    </a:lnTo>
                    <a:lnTo>
                      <a:pt x="1971" y="4491"/>
                    </a:lnTo>
                    <a:lnTo>
                      <a:pt x="2026" y="4567"/>
                    </a:lnTo>
                    <a:lnTo>
                      <a:pt x="2072" y="4614"/>
                    </a:lnTo>
                    <a:lnTo>
                      <a:pt x="2143" y="4695"/>
                    </a:lnTo>
                    <a:lnTo>
                      <a:pt x="2211" y="4750"/>
                    </a:lnTo>
                    <a:lnTo>
                      <a:pt x="2320" y="4827"/>
                    </a:lnTo>
                    <a:lnTo>
                      <a:pt x="1912" y="6549"/>
                    </a:lnTo>
                    <a:close/>
                  </a:path>
                </a:pathLst>
              </a:custGeom>
              <a:solidFill>
                <a:srgbClr val="ffb91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1195560" y="4146480"/>
                <a:ext cx="1798920" cy="1644840"/>
              </a:xfrm>
              <a:custGeom>
                <a:avLst/>
                <a:gdLst/>
                <a:ahLst/>
                <a:rect l="0" t="0" r="r" b="b"/>
                <a:pathLst>
                  <a:path w="4997" h="4569">
                    <a:moveTo>
                      <a:pt x="1411" y="3901"/>
                    </a:moveTo>
                    <a:lnTo>
                      <a:pt x="1470" y="3905"/>
                    </a:lnTo>
                    <a:lnTo>
                      <a:pt x="1550" y="3914"/>
                    </a:lnTo>
                    <a:lnTo>
                      <a:pt x="1638" y="3910"/>
                    </a:lnTo>
                    <a:lnTo>
                      <a:pt x="1693" y="3910"/>
                    </a:lnTo>
                    <a:lnTo>
                      <a:pt x="1760" y="3918"/>
                    </a:lnTo>
                    <a:lnTo>
                      <a:pt x="1832" y="3910"/>
                    </a:lnTo>
                    <a:lnTo>
                      <a:pt x="1899" y="3910"/>
                    </a:lnTo>
                    <a:lnTo>
                      <a:pt x="1962" y="3905"/>
                    </a:lnTo>
                    <a:lnTo>
                      <a:pt x="2037" y="3901"/>
                    </a:lnTo>
                    <a:lnTo>
                      <a:pt x="2126" y="3888"/>
                    </a:lnTo>
                    <a:lnTo>
                      <a:pt x="2201" y="3888"/>
                    </a:lnTo>
                    <a:lnTo>
                      <a:pt x="2273" y="3863"/>
                    </a:lnTo>
                    <a:lnTo>
                      <a:pt x="2357" y="3859"/>
                    </a:lnTo>
                    <a:lnTo>
                      <a:pt x="2437" y="3833"/>
                    </a:lnTo>
                    <a:lnTo>
                      <a:pt x="2513" y="3825"/>
                    </a:lnTo>
                    <a:lnTo>
                      <a:pt x="2585" y="3791"/>
                    </a:lnTo>
                    <a:lnTo>
                      <a:pt x="2648" y="3778"/>
                    </a:lnTo>
                    <a:lnTo>
                      <a:pt x="2715" y="3748"/>
                    </a:lnTo>
                    <a:lnTo>
                      <a:pt x="2786" y="3722"/>
                    </a:lnTo>
                    <a:lnTo>
                      <a:pt x="2866" y="3693"/>
                    </a:lnTo>
                    <a:lnTo>
                      <a:pt x="2942" y="3659"/>
                    </a:lnTo>
                    <a:lnTo>
                      <a:pt x="3009" y="3625"/>
                    </a:lnTo>
                    <a:lnTo>
                      <a:pt x="3081" y="3599"/>
                    </a:lnTo>
                    <a:lnTo>
                      <a:pt x="3186" y="3535"/>
                    </a:lnTo>
                    <a:lnTo>
                      <a:pt x="3299" y="3472"/>
                    </a:lnTo>
                    <a:lnTo>
                      <a:pt x="3392" y="3416"/>
                    </a:lnTo>
                    <a:lnTo>
                      <a:pt x="3497" y="3331"/>
                    </a:lnTo>
                    <a:lnTo>
                      <a:pt x="3572" y="3276"/>
                    </a:lnTo>
                    <a:lnTo>
                      <a:pt x="3656" y="3208"/>
                    </a:lnTo>
                    <a:lnTo>
                      <a:pt x="3757" y="3131"/>
                    </a:lnTo>
                    <a:lnTo>
                      <a:pt x="3837" y="3050"/>
                    </a:lnTo>
                    <a:lnTo>
                      <a:pt x="3921" y="2957"/>
                    </a:lnTo>
                    <a:lnTo>
                      <a:pt x="4005" y="2880"/>
                    </a:lnTo>
                    <a:lnTo>
                      <a:pt x="4085" y="2787"/>
                    </a:lnTo>
                    <a:lnTo>
                      <a:pt x="4161" y="2706"/>
                    </a:lnTo>
                    <a:lnTo>
                      <a:pt x="4236" y="2600"/>
                    </a:lnTo>
                    <a:lnTo>
                      <a:pt x="4308" y="2497"/>
                    </a:lnTo>
                    <a:lnTo>
                      <a:pt x="4379" y="2391"/>
                    </a:lnTo>
                    <a:lnTo>
                      <a:pt x="4442" y="2279"/>
                    </a:lnTo>
                    <a:lnTo>
                      <a:pt x="4526" y="2131"/>
                    </a:lnTo>
                    <a:lnTo>
                      <a:pt x="4598" y="1994"/>
                    </a:lnTo>
                    <a:lnTo>
                      <a:pt x="4661" y="1850"/>
                    </a:lnTo>
                    <a:lnTo>
                      <a:pt x="4715" y="1718"/>
                    </a:lnTo>
                    <a:lnTo>
                      <a:pt x="4778" y="1552"/>
                    </a:lnTo>
                    <a:lnTo>
                      <a:pt x="4850" y="1348"/>
                    </a:lnTo>
                    <a:lnTo>
                      <a:pt x="4883" y="1178"/>
                    </a:lnTo>
                    <a:lnTo>
                      <a:pt x="4925" y="1012"/>
                    </a:lnTo>
                    <a:lnTo>
                      <a:pt x="4950" y="850"/>
                    </a:lnTo>
                    <a:lnTo>
                      <a:pt x="4972" y="701"/>
                    </a:lnTo>
                    <a:lnTo>
                      <a:pt x="4988" y="535"/>
                    </a:lnTo>
                    <a:lnTo>
                      <a:pt x="4997" y="374"/>
                    </a:lnTo>
                    <a:lnTo>
                      <a:pt x="4997" y="195"/>
                    </a:lnTo>
                    <a:lnTo>
                      <a:pt x="4988" y="0"/>
                    </a:lnTo>
                    <a:lnTo>
                      <a:pt x="4476" y="901"/>
                    </a:lnTo>
                    <a:lnTo>
                      <a:pt x="3459" y="374"/>
                    </a:lnTo>
                    <a:lnTo>
                      <a:pt x="3446" y="552"/>
                    </a:lnTo>
                    <a:lnTo>
                      <a:pt x="3425" y="663"/>
                    </a:lnTo>
                    <a:lnTo>
                      <a:pt x="3400" y="778"/>
                    </a:lnTo>
                    <a:lnTo>
                      <a:pt x="3362" y="918"/>
                    </a:lnTo>
                    <a:lnTo>
                      <a:pt x="3316" y="1042"/>
                    </a:lnTo>
                    <a:lnTo>
                      <a:pt x="3257" y="1178"/>
                    </a:lnTo>
                    <a:lnTo>
                      <a:pt x="3202" y="1284"/>
                    </a:lnTo>
                    <a:lnTo>
                      <a:pt x="3123" y="1407"/>
                    </a:lnTo>
                    <a:lnTo>
                      <a:pt x="3055" y="1505"/>
                    </a:lnTo>
                    <a:lnTo>
                      <a:pt x="2976" y="1603"/>
                    </a:lnTo>
                    <a:lnTo>
                      <a:pt x="2913" y="1675"/>
                    </a:lnTo>
                    <a:lnTo>
                      <a:pt x="2845" y="1731"/>
                    </a:lnTo>
                    <a:lnTo>
                      <a:pt x="2786" y="1786"/>
                    </a:lnTo>
                    <a:lnTo>
                      <a:pt x="2723" y="1841"/>
                    </a:lnTo>
                    <a:lnTo>
                      <a:pt x="2644" y="1888"/>
                    </a:lnTo>
                    <a:lnTo>
                      <a:pt x="2581" y="1922"/>
                    </a:lnTo>
                    <a:lnTo>
                      <a:pt x="2509" y="1969"/>
                    </a:lnTo>
                    <a:lnTo>
                      <a:pt x="2441" y="2016"/>
                    </a:lnTo>
                    <a:lnTo>
                      <a:pt x="2365" y="2046"/>
                    </a:lnTo>
                    <a:lnTo>
                      <a:pt x="2273" y="2075"/>
                    </a:lnTo>
                    <a:lnTo>
                      <a:pt x="2193" y="2114"/>
                    </a:lnTo>
                    <a:lnTo>
                      <a:pt x="2130" y="2126"/>
                    </a:lnTo>
                    <a:lnTo>
                      <a:pt x="2037" y="2156"/>
                    </a:lnTo>
                    <a:lnTo>
                      <a:pt x="1958" y="2165"/>
                    </a:lnTo>
                    <a:lnTo>
                      <a:pt x="1895" y="2177"/>
                    </a:lnTo>
                    <a:lnTo>
                      <a:pt x="1823" y="2177"/>
                    </a:lnTo>
                    <a:lnTo>
                      <a:pt x="1710" y="2177"/>
                    </a:lnTo>
                    <a:lnTo>
                      <a:pt x="1621" y="2165"/>
                    </a:lnTo>
                    <a:lnTo>
                      <a:pt x="1521" y="2152"/>
                    </a:lnTo>
                    <a:lnTo>
                      <a:pt x="1432" y="2126"/>
                    </a:lnTo>
                    <a:lnTo>
                      <a:pt x="1374" y="2114"/>
                    </a:lnTo>
                    <a:lnTo>
                      <a:pt x="1584" y="1233"/>
                    </a:lnTo>
                    <a:lnTo>
                      <a:pt x="0" y="2506"/>
                    </a:lnTo>
                    <a:lnTo>
                      <a:pt x="794" y="4569"/>
                    </a:lnTo>
                    <a:lnTo>
                      <a:pt x="974" y="3803"/>
                    </a:lnTo>
                    <a:lnTo>
                      <a:pt x="1037" y="3820"/>
                    </a:lnTo>
                    <a:lnTo>
                      <a:pt x="1134" y="3842"/>
                    </a:lnTo>
                    <a:lnTo>
                      <a:pt x="1231" y="3863"/>
                    </a:lnTo>
                    <a:lnTo>
                      <a:pt x="1327" y="3884"/>
                    </a:lnTo>
                    <a:lnTo>
                      <a:pt x="1411" y="3901"/>
                    </a:lnTo>
                    <a:close/>
                  </a:path>
                </a:pathLst>
              </a:custGeom>
              <a:solidFill>
                <a:srgbClr val="001b6e"/>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02" name=""/>
            <p:cNvGrpSpPr/>
            <p:nvPr/>
          </p:nvGrpSpPr>
          <p:grpSpPr>
            <a:xfrm>
              <a:off x="152280" y="2514600"/>
              <a:ext cx="2977200" cy="2884320"/>
              <a:chOff x="152280" y="2514600"/>
              <a:chExt cx="2977200" cy="2884320"/>
            </a:xfrm>
          </p:grpSpPr>
          <p:grpSp>
            <p:nvGrpSpPr>
              <p:cNvPr id="103" name=""/>
              <p:cNvGrpSpPr/>
              <p:nvPr/>
            </p:nvGrpSpPr>
            <p:grpSpPr>
              <a:xfrm>
                <a:off x="1319040" y="2514600"/>
                <a:ext cx="1227240" cy="1057320"/>
                <a:chOff x="1319040" y="2514600"/>
                <a:chExt cx="1227240" cy="1057320"/>
              </a:xfrm>
            </p:grpSpPr>
            <p:grpSp>
              <p:nvGrpSpPr>
                <p:cNvPr id="104" name=""/>
                <p:cNvGrpSpPr/>
                <p:nvPr/>
              </p:nvGrpSpPr>
              <p:grpSpPr>
                <a:xfrm>
                  <a:off x="1319040" y="2514600"/>
                  <a:ext cx="1227240" cy="1057320"/>
                  <a:chOff x="1319040" y="2514600"/>
                  <a:chExt cx="1227240" cy="1057320"/>
                </a:xfrm>
              </p:grpSpPr>
              <p:sp>
                <p:nvSpPr>
                  <p:cNvPr id="105" name=""/>
                  <p:cNvSpPr/>
                  <p:nvPr/>
                </p:nvSpPr>
                <p:spPr>
                  <a:xfrm>
                    <a:off x="1319040" y="3164040"/>
                    <a:ext cx="1225440" cy="54000"/>
                  </a:xfrm>
                  <a:prstGeom prst="rect">
                    <a:avLst/>
                  </a:prstGeom>
                  <a:solidFill>
                    <a:srgbClr val="ff6000"/>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106" name=""/>
                  <p:cNvSpPr/>
                  <p:nvPr/>
                </p:nvSpPr>
                <p:spPr>
                  <a:xfrm>
                    <a:off x="1319040" y="3222720"/>
                    <a:ext cx="1225440" cy="50760"/>
                  </a:xfrm>
                  <a:prstGeom prst="rect">
                    <a:avLst/>
                  </a:prstGeom>
                  <a:solidFill>
                    <a:srgbClr val="ffa080"/>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107" name=""/>
                  <p:cNvSpPr/>
                  <p:nvPr/>
                </p:nvSpPr>
                <p:spPr>
                  <a:xfrm>
                    <a:off x="1319040" y="3125880"/>
                    <a:ext cx="1225440" cy="57240"/>
                  </a:xfrm>
                  <a:prstGeom prst="rect">
                    <a:avLst/>
                  </a:prstGeom>
                  <a:solidFill>
                    <a:srgbClr val="ff80a0"/>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08" name=""/>
                  <p:cNvSpPr/>
                  <p:nvPr/>
                </p:nvSpPr>
                <p:spPr>
                  <a:xfrm>
                    <a:off x="1319040" y="3097080"/>
                    <a:ext cx="1225440" cy="57240"/>
                  </a:xfrm>
                  <a:prstGeom prst="rect">
                    <a:avLst/>
                  </a:prstGeom>
                  <a:solidFill>
                    <a:srgbClr val="ff6080"/>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09" name=""/>
                  <p:cNvSpPr/>
                  <p:nvPr/>
                </p:nvSpPr>
                <p:spPr>
                  <a:xfrm>
                    <a:off x="1319040" y="3068640"/>
                    <a:ext cx="1225440" cy="54000"/>
                  </a:xfrm>
                  <a:prstGeom prst="rect">
                    <a:avLst/>
                  </a:prstGeom>
                  <a:solidFill>
                    <a:srgbClr val="a0a0c0"/>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110" name=""/>
                  <p:cNvSpPr/>
                  <p:nvPr/>
                </p:nvSpPr>
                <p:spPr>
                  <a:xfrm>
                    <a:off x="1319040" y="2987640"/>
                    <a:ext cx="1225440" cy="108000"/>
                  </a:xfrm>
                  <a:prstGeom prst="rect">
                    <a:avLst/>
                  </a:prstGeom>
                  <a:solidFill>
                    <a:srgbClr val="808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1319040" y="2514600"/>
                    <a:ext cx="1224000" cy="549360"/>
                  </a:xfrm>
                  <a:prstGeom prst="rect">
                    <a:avLst/>
                  </a:prstGeom>
                  <a:solidFill>
                    <a:srgbClr val="c0fe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1319040" y="3252960"/>
                    <a:ext cx="1225440" cy="31680"/>
                  </a:xfrm>
                  <a:prstGeom prst="rect">
                    <a:avLst/>
                  </a:prstGeom>
                  <a:solidFill>
                    <a:srgbClr val="ffffa0"/>
                  </a:solidFill>
                  <a:ln w="0">
                    <a:noFill/>
                  </a:ln>
                </p:spPr>
                <p:txBody>
                  <a:bodyPr lIns="90000" rIns="90000" tIns="-13320" bIns="-13320" anchor="t">
                    <a:noAutofit/>
                  </a:bodyPr>
                  <a:p>
                    <a:endParaRPr b="0" lang="en-US" sz="1800" spc="-1" strike="noStrike">
                      <a:solidFill>
                        <a:srgbClr val="000000"/>
                      </a:solidFill>
                      <a:latin typeface="Arial"/>
                    </a:endParaRPr>
                  </a:p>
                </p:txBody>
              </p:sp>
              <p:sp>
                <p:nvSpPr>
                  <p:cNvPr id="113" name=""/>
                  <p:cNvSpPr/>
                  <p:nvPr/>
                </p:nvSpPr>
                <p:spPr>
                  <a:xfrm>
                    <a:off x="1319040" y="3324240"/>
                    <a:ext cx="1227240" cy="247680"/>
                  </a:xfrm>
                  <a:prstGeom prst="rect">
                    <a:avLst/>
                  </a:pr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 name=""/>
                  <p:cNvSpPr/>
                  <p:nvPr/>
                </p:nvSpPr>
                <p:spPr>
                  <a:xfrm>
                    <a:off x="1319040" y="3335400"/>
                    <a:ext cx="1224360" cy="232200"/>
                  </a:xfrm>
                  <a:custGeom>
                    <a:avLst/>
                    <a:gdLst/>
                    <a:ahLst/>
                    <a:rect l="0" t="0" r="r" b="b"/>
                    <a:pathLst>
                      <a:path w="3401" h="645">
                        <a:moveTo>
                          <a:pt x="0" y="0"/>
                        </a:moveTo>
                        <a:lnTo>
                          <a:pt x="0" y="478"/>
                        </a:lnTo>
                        <a:lnTo>
                          <a:pt x="222" y="478"/>
                        </a:lnTo>
                        <a:lnTo>
                          <a:pt x="222" y="218"/>
                        </a:lnTo>
                        <a:lnTo>
                          <a:pt x="235" y="218"/>
                        </a:lnTo>
                        <a:lnTo>
                          <a:pt x="235" y="273"/>
                        </a:lnTo>
                        <a:lnTo>
                          <a:pt x="252" y="273"/>
                        </a:lnTo>
                        <a:lnTo>
                          <a:pt x="252" y="299"/>
                        </a:lnTo>
                        <a:lnTo>
                          <a:pt x="281" y="299"/>
                        </a:lnTo>
                        <a:lnTo>
                          <a:pt x="281" y="226"/>
                        </a:lnTo>
                        <a:lnTo>
                          <a:pt x="294" y="226"/>
                        </a:lnTo>
                        <a:lnTo>
                          <a:pt x="294" y="329"/>
                        </a:lnTo>
                        <a:lnTo>
                          <a:pt x="365" y="329"/>
                        </a:lnTo>
                        <a:lnTo>
                          <a:pt x="365" y="286"/>
                        </a:lnTo>
                        <a:lnTo>
                          <a:pt x="378" y="286"/>
                        </a:lnTo>
                        <a:lnTo>
                          <a:pt x="378" y="645"/>
                        </a:lnTo>
                        <a:lnTo>
                          <a:pt x="411" y="645"/>
                        </a:lnTo>
                        <a:lnTo>
                          <a:pt x="701" y="645"/>
                        </a:lnTo>
                        <a:lnTo>
                          <a:pt x="701" y="470"/>
                        </a:lnTo>
                        <a:lnTo>
                          <a:pt x="710" y="470"/>
                        </a:lnTo>
                        <a:lnTo>
                          <a:pt x="710" y="539"/>
                        </a:lnTo>
                        <a:lnTo>
                          <a:pt x="769" y="517"/>
                        </a:lnTo>
                        <a:lnTo>
                          <a:pt x="769" y="423"/>
                        </a:lnTo>
                        <a:lnTo>
                          <a:pt x="781" y="539"/>
                        </a:lnTo>
                        <a:lnTo>
                          <a:pt x="785" y="539"/>
                        </a:lnTo>
                        <a:lnTo>
                          <a:pt x="785" y="569"/>
                        </a:lnTo>
                        <a:lnTo>
                          <a:pt x="790" y="569"/>
                        </a:lnTo>
                        <a:lnTo>
                          <a:pt x="790" y="598"/>
                        </a:lnTo>
                        <a:lnTo>
                          <a:pt x="794" y="598"/>
                        </a:lnTo>
                        <a:lnTo>
                          <a:pt x="794" y="620"/>
                        </a:lnTo>
                        <a:lnTo>
                          <a:pt x="798" y="620"/>
                        </a:lnTo>
                        <a:lnTo>
                          <a:pt x="798" y="637"/>
                        </a:lnTo>
                        <a:lnTo>
                          <a:pt x="811" y="637"/>
                        </a:lnTo>
                        <a:lnTo>
                          <a:pt x="811" y="620"/>
                        </a:lnTo>
                        <a:lnTo>
                          <a:pt x="811" y="620"/>
                        </a:lnTo>
                        <a:lnTo>
                          <a:pt x="811" y="598"/>
                        </a:lnTo>
                        <a:lnTo>
                          <a:pt x="815" y="598"/>
                        </a:lnTo>
                        <a:lnTo>
                          <a:pt x="815" y="569"/>
                        </a:lnTo>
                        <a:lnTo>
                          <a:pt x="823" y="569"/>
                        </a:lnTo>
                        <a:lnTo>
                          <a:pt x="823" y="539"/>
                        </a:lnTo>
                        <a:lnTo>
                          <a:pt x="827" y="539"/>
                        </a:lnTo>
                        <a:lnTo>
                          <a:pt x="840" y="423"/>
                        </a:lnTo>
                        <a:lnTo>
                          <a:pt x="840" y="448"/>
                        </a:lnTo>
                        <a:lnTo>
                          <a:pt x="963" y="448"/>
                        </a:lnTo>
                        <a:lnTo>
                          <a:pt x="963" y="423"/>
                        </a:lnTo>
                        <a:lnTo>
                          <a:pt x="988" y="423"/>
                        </a:lnTo>
                        <a:lnTo>
                          <a:pt x="988" y="337"/>
                        </a:lnTo>
                        <a:lnTo>
                          <a:pt x="1001" y="337"/>
                        </a:lnTo>
                        <a:lnTo>
                          <a:pt x="1001" y="384"/>
                        </a:lnTo>
                        <a:lnTo>
                          <a:pt x="1039" y="384"/>
                        </a:lnTo>
                        <a:lnTo>
                          <a:pt x="1072" y="586"/>
                        </a:lnTo>
                        <a:lnTo>
                          <a:pt x="1085" y="645"/>
                        </a:lnTo>
                        <a:lnTo>
                          <a:pt x="1211" y="645"/>
                        </a:lnTo>
                        <a:lnTo>
                          <a:pt x="1211" y="586"/>
                        </a:lnTo>
                        <a:lnTo>
                          <a:pt x="1253" y="359"/>
                        </a:lnTo>
                        <a:lnTo>
                          <a:pt x="1253" y="547"/>
                        </a:lnTo>
                        <a:lnTo>
                          <a:pt x="1274" y="547"/>
                        </a:lnTo>
                        <a:lnTo>
                          <a:pt x="1282" y="560"/>
                        </a:lnTo>
                        <a:lnTo>
                          <a:pt x="1282" y="594"/>
                        </a:lnTo>
                        <a:lnTo>
                          <a:pt x="1312" y="603"/>
                        </a:lnTo>
                        <a:lnTo>
                          <a:pt x="1312" y="645"/>
                        </a:lnTo>
                        <a:lnTo>
                          <a:pt x="1320" y="645"/>
                        </a:lnTo>
                        <a:lnTo>
                          <a:pt x="1320" y="607"/>
                        </a:lnTo>
                        <a:lnTo>
                          <a:pt x="1337" y="615"/>
                        </a:lnTo>
                        <a:lnTo>
                          <a:pt x="1354" y="594"/>
                        </a:lnTo>
                        <a:lnTo>
                          <a:pt x="1366" y="594"/>
                        </a:lnTo>
                        <a:lnTo>
                          <a:pt x="1366" y="197"/>
                        </a:lnTo>
                        <a:lnTo>
                          <a:pt x="1379" y="197"/>
                        </a:lnTo>
                        <a:lnTo>
                          <a:pt x="1379" y="645"/>
                        </a:lnTo>
                        <a:lnTo>
                          <a:pt x="1610" y="645"/>
                        </a:lnTo>
                        <a:lnTo>
                          <a:pt x="1610" y="492"/>
                        </a:lnTo>
                        <a:lnTo>
                          <a:pt x="1635" y="492"/>
                        </a:lnTo>
                        <a:lnTo>
                          <a:pt x="1635" y="410"/>
                        </a:lnTo>
                        <a:lnTo>
                          <a:pt x="1690" y="410"/>
                        </a:lnTo>
                        <a:lnTo>
                          <a:pt x="1690" y="256"/>
                        </a:lnTo>
                        <a:lnTo>
                          <a:pt x="1698" y="256"/>
                        </a:lnTo>
                        <a:lnTo>
                          <a:pt x="1698" y="448"/>
                        </a:lnTo>
                        <a:lnTo>
                          <a:pt x="1904" y="448"/>
                        </a:lnTo>
                        <a:lnTo>
                          <a:pt x="1904" y="192"/>
                        </a:lnTo>
                        <a:lnTo>
                          <a:pt x="1921" y="201"/>
                        </a:lnTo>
                        <a:lnTo>
                          <a:pt x="1921" y="218"/>
                        </a:lnTo>
                        <a:lnTo>
                          <a:pt x="1934" y="218"/>
                        </a:lnTo>
                        <a:lnTo>
                          <a:pt x="1934" y="265"/>
                        </a:lnTo>
                        <a:lnTo>
                          <a:pt x="1946" y="265"/>
                        </a:lnTo>
                        <a:lnTo>
                          <a:pt x="1946" y="397"/>
                        </a:lnTo>
                        <a:lnTo>
                          <a:pt x="1955" y="397"/>
                        </a:lnTo>
                        <a:lnTo>
                          <a:pt x="1955" y="265"/>
                        </a:lnTo>
                        <a:lnTo>
                          <a:pt x="1972" y="265"/>
                        </a:lnTo>
                        <a:lnTo>
                          <a:pt x="1972" y="226"/>
                        </a:lnTo>
                        <a:lnTo>
                          <a:pt x="1988" y="218"/>
                        </a:lnTo>
                        <a:lnTo>
                          <a:pt x="1988" y="46"/>
                        </a:lnTo>
                        <a:lnTo>
                          <a:pt x="1997" y="46"/>
                        </a:lnTo>
                        <a:lnTo>
                          <a:pt x="1997" y="144"/>
                        </a:lnTo>
                        <a:lnTo>
                          <a:pt x="2060" y="144"/>
                        </a:lnTo>
                        <a:lnTo>
                          <a:pt x="2060" y="72"/>
                        </a:lnTo>
                        <a:lnTo>
                          <a:pt x="2068" y="72"/>
                        </a:lnTo>
                        <a:lnTo>
                          <a:pt x="2068" y="239"/>
                        </a:lnTo>
                        <a:lnTo>
                          <a:pt x="2207" y="239"/>
                        </a:lnTo>
                        <a:lnTo>
                          <a:pt x="2207" y="59"/>
                        </a:lnTo>
                        <a:lnTo>
                          <a:pt x="2211" y="59"/>
                        </a:lnTo>
                        <a:lnTo>
                          <a:pt x="2211" y="119"/>
                        </a:lnTo>
                        <a:lnTo>
                          <a:pt x="2266" y="119"/>
                        </a:lnTo>
                        <a:lnTo>
                          <a:pt x="2266" y="59"/>
                        </a:lnTo>
                        <a:lnTo>
                          <a:pt x="2270" y="59"/>
                        </a:lnTo>
                        <a:lnTo>
                          <a:pt x="2270" y="252"/>
                        </a:lnTo>
                        <a:lnTo>
                          <a:pt x="2320" y="252"/>
                        </a:lnTo>
                        <a:lnTo>
                          <a:pt x="2320" y="594"/>
                        </a:lnTo>
                        <a:lnTo>
                          <a:pt x="2371" y="628"/>
                        </a:lnTo>
                        <a:lnTo>
                          <a:pt x="2371" y="645"/>
                        </a:lnTo>
                        <a:lnTo>
                          <a:pt x="2472" y="645"/>
                        </a:lnTo>
                        <a:lnTo>
                          <a:pt x="2472" y="628"/>
                        </a:lnTo>
                        <a:lnTo>
                          <a:pt x="2526" y="594"/>
                        </a:lnTo>
                        <a:lnTo>
                          <a:pt x="2526" y="51"/>
                        </a:lnTo>
                        <a:lnTo>
                          <a:pt x="2539" y="51"/>
                        </a:lnTo>
                        <a:lnTo>
                          <a:pt x="2539" y="180"/>
                        </a:lnTo>
                        <a:lnTo>
                          <a:pt x="2590" y="180"/>
                        </a:lnTo>
                        <a:lnTo>
                          <a:pt x="2590" y="157"/>
                        </a:lnTo>
                        <a:lnTo>
                          <a:pt x="2628" y="157"/>
                        </a:lnTo>
                        <a:lnTo>
                          <a:pt x="2628" y="81"/>
                        </a:lnTo>
                        <a:lnTo>
                          <a:pt x="2637" y="81"/>
                        </a:lnTo>
                        <a:lnTo>
                          <a:pt x="2637" y="645"/>
                        </a:lnTo>
                        <a:lnTo>
                          <a:pt x="2784" y="645"/>
                        </a:lnTo>
                        <a:lnTo>
                          <a:pt x="2784" y="81"/>
                        </a:lnTo>
                        <a:lnTo>
                          <a:pt x="2838" y="645"/>
                        </a:lnTo>
                        <a:lnTo>
                          <a:pt x="3044" y="645"/>
                        </a:lnTo>
                        <a:lnTo>
                          <a:pt x="3082" y="197"/>
                        </a:lnTo>
                        <a:lnTo>
                          <a:pt x="3082" y="435"/>
                        </a:lnTo>
                        <a:lnTo>
                          <a:pt x="3111" y="452"/>
                        </a:lnTo>
                        <a:lnTo>
                          <a:pt x="3111" y="603"/>
                        </a:lnTo>
                        <a:lnTo>
                          <a:pt x="3128" y="603"/>
                        </a:lnTo>
                        <a:lnTo>
                          <a:pt x="3128" y="465"/>
                        </a:lnTo>
                        <a:lnTo>
                          <a:pt x="3166" y="448"/>
                        </a:lnTo>
                        <a:lnTo>
                          <a:pt x="3166" y="290"/>
                        </a:lnTo>
                        <a:lnTo>
                          <a:pt x="3191" y="273"/>
                        </a:lnTo>
                        <a:lnTo>
                          <a:pt x="3191" y="414"/>
                        </a:lnTo>
                        <a:lnTo>
                          <a:pt x="3221" y="414"/>
                        </a:lnTo>
                        <a:lnTo>
                          <a:pt x="3221" y="470"/>
                        </a:lnTo>
                        <a:lnTo>
                          <a:pt x="3271" y="470"/>
                        </a:lnTo>
                        <a:lnTo>
                          <a:pt x="3271" y="414"/>
                        </a:lnTo>
                        <a:lnTo>
                          <a:pt x="3301" y="414"/>
                        </a:lnTo>
                        <a:lnTo>
                          <a:pt x="3301" y="119"/>
                        </a:lnTo>
                        <a:lnTo>
                          <a:pt x="3401" y="119"/>
                        </a:lnTo>
                        <a:lnTo>
                          <a:pt x="3401" y="0"/>
                        </a:lnTo>
                        <a:lnTo>
                          <a:pt x="0" y="0"/>
                        </a:lnTo>
                        <a:close/>
                      </a:path>
                    </a:pathLst>
                  </a:custGeom>
                  <a:solidFill>
                    <a:srgbClr val="00008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 name=""/>
                  <p:cNvSpPr/>
                  <p:nvPr/>
                </p:nvSpPr>
                <p:spPr>
                  <a:xfrm>
                    <a:off x="1319040" y="2598840"/>
                    <a:ext cx="1224360" cy="736920"/>
                  </a:xfrm>
                  <a:custGeom>
                    <a:avLst/>
                    <a:gdLst/>
                    <a:ahLst/>
                    <a:rect l="0" t="0" r="r" b="b"/>
                    <a:pathLst>
                      <a:path w="3401" h="2047">
                        <a:moveTo>
                          <a:pt x="0" y="2047"/>
                        </a:moveTo>
                        <a:lnTo>
                          <a:pt x="0" y="1557"/>
                        </a:lnTo>
                        <a:lnTo>
                          <a:pt x="222" y="1557"/>
                        </a:lnTo>
                        <a:lnTo>
                          <a:pt x="222" y="1821"/>
                        </a:lnTo>
                        <a:lnTo>
                          <a:pt x="235" y="1821"/>
                        </a:lnTo>
                        <a:lnTo>
                          <a:pt x="235" y="1766"/>
                        </a:lnTo>
                        <a:lnTo>
                          <a:pt x="252" y="1766"/>
                        </a:lnTo>
                        <a:lnTo>
                          <a:pt x="252" y="1740"/>
                        </a:lnTo>
                        <a:lnTo>
                          <a:pt x="281" y="1740"/>
                        </a:lnTo>
                        <a:lnTo>
                          <a:pt x="281" y="1813"/>
                        </a:lnTo>
                        <a:lnTo>
                          <a:pt x="294" y="1813"/>
                        </a:lnTo>
                        <a:lnTo>
                          <a:pt x="294" y="1711"/>
                        </a:lnTo>
                        <a:lnTo>
                          <a:pt x="365" y="1711"/>
                        </a:lnTo>
                        <a:lnTo>
                          <a:pt x="365" y="1753"/>
                        </a:lnTo>
                        <a:lnTo>
                          <a:pt x="378" y="1753"/>
                        </a:lnTo>
                        <a:lnTo>
                          <a:pt x="378" y="1387"/>
                        </a:lnTo>
                        <a:lnTo>
                          <a:pt x="411" y="1387"/>
                        </a:lnTo>
                        <a:lnTo>
                          <a:pt x="411" y="1085"/>
                        </a:lnTo>
                        <a:lnTo>
                          <a:pt x="441" y="1085"/>
                        </a:lnTo>
                        <a:lnTo>
                          <a:pt x="441" y="663"/>
                        </a:lnTo>
                        <a:lnTo>
                          <a:pt x="470" y="625"/>
                        </a:lnTo>
                        <a:lnTo>
                          <a:pt x="537" y="625"/>
                        </a:lnTo>
                        <a:lnTo>
                          <a:pt x="537" y="242"/>
                        </a:lnTo>
                        <a:lnTo>
                          <a:pt x="605" y="204"/>
                        </a:lnTo>
                        <a:lnTo>
                          <a:pt x="621" y="216"/>
                        </a:lnTo>
                        <a:lnTo>
                          <a:pt x="621" y="0"/>
                        </a:lnTo>
                        <a:lnTo>
                          <a:pt x="634" y="0"/>
                        </a:lnTo>
                        <a:lnTo>
                          <a:pt x="634" y="229"/>
                        </a:lnTo>
                        <a:lnTo>
                          <a:pt x="659" y="250"/>
                        </a:lnTo>
                        <a:lnTo>
                          <a:pt x="659" y="1115"/>
                        </a:lnTo>
                        <a:lnTo>
                          <a:pt x="701" y="1115"/>
                        </a:lnTo>
                        <a:lnTo>
                          <a:pt x="701" y="1566"/>
                        </a:lnTo>
                        <a:lnTo>
                          <a:pt x="710" y="1566"/>
                        </a:lnTo>
                        <a:lnTo>
                          <a:pt x="710" y="1498"/>
                        </a:lnTo>
                        <a:lnTo>
                          <a:pt x="769" y="1515"/>
                        </a:lnTo>
                        <a:lnTo>
                          <a:pt x="769" y="1617"/>
                        </a:lnTo>
                        <a:lnTo>
                          <a:pt x="781" y="1498"/>
                        </a:lnTo>
                        <a:lnTo>
                          <a:pt x="785" y="1498"/>
                        </a:lnTo>
                        <a:lnTo>
                          <a:pt x="785" y="1468"/>
                        </a:lnTo>
                        <a:lnTo>
                          <a:pt x="790" y="1468"/>
                        </a:lnTo>
                        <a:lnTo>
                          <a:pt x="790" y="1434"/>
                        </a:lnTo>
                        <a:lnTo>
                          <a:pt x="794" y="1434"/>
                        </a:lnTo>
                        <a:lnTo>
                          <a:pt x="794" y="1413"/>
                        </a:lnTo>
                        <a:lnTo>
                          <a:pt x="798" y="1413"/>
                        </a:lnTo>
                        <a:lnTo>
                          <a:pt x="798" y="1392"/>
                        </a:lnTo>
                        <a:lnTo>
                          <a:pt x="811" y="1392"/>
                        </a:lnTo>
                        <a:lnTo>
                          <a:pt x="811" y="1413"/>
                        </a:lnTo>
                        <a:lnTo>
                          <a:pt x="811" y="1413"/>
                        </a:lnTo>
                        <a:lnTo>
                          <a:pt x="811" y="1434"/>
                        </a:lnTo>
                        <a:lnTo>
                          <a:pt x="815" y="1434"/>
                        </a:lnTo>
                        <a:lnTo>
                          <a:pt x="815" y="1468"/>
                        </a:lnTo>
                        <a:lnTo>
                          <a:pt x="823" y="1468"/>
                        </a:lnTo>
                        <a:lnTo>
                          <a:pt x="823" y="1498"/>
                        </a:lnTo>
                        <a:lnTo>
                          <a:pt x="827" y="1498"/>
                        </a:lnTo>
                        <a:lnTo>
                          <a:pt x="840" y="1617"/>
                        </a:lnTo>
                        <a:lnTo>
                          <a:pt x="840" y="1583"/>
                        </a:lnTo>
                        <a:lnTo>
                          <a:pt x="963" y="1583"/>
                        </a:lnTo>
                        <a:lnTo>
                          <a:pt x="963" y="1613"/>
                        </a:lnTo>
                        <a:lnTo>
                          <a:pt x="988" y="1613"/>
                        </a:lnTo>
                        <a:lnTo>
                          <a:pt x="988" y="1702"/>
                        </a:lnTo>
                        <a:lnTo>
                          <a:pt x="1001" y="1702"/>
                        </a:lnTo>
                        <a:lnTo>
                          <a:pt x="1001" y="1651"/>
                        </a:lnTo>
                        <a:lnTo>
                          <a:pt x="1039" y="1651"/>
                        </a:lnTo>
                        <a:lnTo>
                          <a:pt x="1072" y="1447"/>
                        </a:lnTo>
                        <a:lnTo>
                          <a:pt x="1102" y="1119"/>
                        </a:lnTo>
                        <a:lnTo>
                          <a:pt x="1118" y="838"/>
                        </a:lnTo>
                        <a:lnTo>
                          <a:pt x="1131" y="838"/>
                        </a:lnTo>
                        <a:lnTo>
                          <a:pt x="1131" y="825"/>
                        </a:lnTo>
                        <a:lnTo>
                          <a:pt x="1156" y="825"/>
                        </a:lnTo>
                        <a:lnTo>
                          <a:pt x="1156" y="838"/>
                        </a:lnTo>
                        <a:lnTo>
                          <a:pt x="1173" y="838"/>
                        </a:lnTo>
                        <a:lnTo>
                          <a:pt x="1186" y="1119"/>
                        </a:lnTo>
                        <a:lnTo>
                          <a:pt x="1211" y="1447"/>
                        </a:lnTo>
                        <a:lnTo>
                          <a:pt x="1253" y="1681"/>
                        </a:lnTo>
                        <a:lnTo>
                          <a:pt x="1253" y="1485"/>
                        </a:lnTo>
                        <a:lnTo>
                          <a:pt x="1274" y="1485"/>
                        </a:lnTo>
                        <a:lnTo>
                          <a:pt x="1282" y="1472"/>
                        </a:lnTo>
                        <a:lnTo>
                          <a:pt x="1282" y="1434"/>
                        </a:lnTo>
                        <a:lnTo>
                          <a:pt x="1312" y="1430"/>
                        </a:lnTo>
                        <a:lnTo>
                          <a:pt x="1312" y="1153"/>
                        </a:lnTo>
                        <a:lnTo>
                          <a:pt x="1320" y="1153"/>
                        </a:lnTo>
                        <a:lnTo>
                          <a:pt x="1320" y="1426"/>
                        </a:lnTo>
                        <a:lnTo>
                          <a:pt x="1337" y="1417"/>
                        </a:lnTo>
                        <a:lnTo>
                          <a:pt x="1354" y="1434"/>
                        </a:lnTo>
                        <a:lnTo>
                          <a:pt x="1366" y="1434"/>
                        </a:lnTo>
                        <a:lnTo>
                          <a:pt x="1366" y="1842"/>
                        </a:lnTo>
                        <a:lnTo>
                          <a:pt x="1379" y="1842"/>
                        </a:lnTo>
                        <a:lnTo>
                          <a:pt x="1379" y="344"/>
                        </a:lnTo>
                        <a:lnTo>
                          <a:pt x="1408" y="344"/>
                        </a:lnTo>
                        <a:lnTo>
                          <a:pt x="1408" y="306"/>
                        </a:lnTo>
                        <a:lnTo>
                          <a:pt x="1576" y="306"/>
                        </a:lnTo>
                        <a:lnTo>
                          <a:pt x="1576" y="344"/>
                        </a:lnTo>
                        <a:lnTo>
                          <a:pt x="1610" y="344"/>
                        </a:lnTo>
                        <a:lnTo>
                          <a:pt x="1610" y="1545"/>
                        </a:lnTo>
                        <a:lnTo>
                          <a:pt x="1635" y="1545"/>
                        </a:lnTo>
                        <a:lnTo>
                          <a:pt x="1635" y="1625"/>
                        </a:lnTo>
                        <a:lnTo>
                          <a:pt x="1690" y="1625"/>
                        </a:lnTo>
                        <a:lnTo>
                          <a:pt x="1690" y="1783"/>
                        </a:lnTo>
                        <a:lnTo>
                          <a:pt x="1698" y="1783"/>
                        </a:lnTo>
                        <a:lnTo>
                          <a:pt x="1698" y="1583"/>
                        </a:lnTo>
                        <a:lnTo>
                          <a:pt x="1904" y="1583"/>
                        </a:lnTo>
                        <a:lnTo>
                          <a:pt x="1904" y="1851"/>
                        </a:lnTo>
                        <a:lnTo>
                          <a:pt x="1921" y="1838"/>
                        </a:lnTo>
                        <a:lnTo>
                          <a:pt x="1921" y="1821"/>
                        </a:lnTo>
                        <a:lnTo>
                          <a:pt x="1934" y="1821"/>
                        </a:lnTo>
                        <a:lnTo>
                          <a:pt x="1934" y="1774"/>
                        </a:lnTo>
                        <a:lnTo>
                          <a:pt x="1946" y="1774"/>
                        </a:lnTo>
                        <a:lnTo>
                          <a:pt x="1946" y="1642"/>
                        </a:lnTo>
                        <a:lnTo>
                          <a:pt x="1955" y="1642"/>
                        </a:lnTo>
                        <a:lnTo>
                          <a:pt x="1955" y="1774"/>
                        </a:lnTo>
                        <a:lnTo>
                          <a:pt x="1972" y="1774"/>
                        </a:lnTo>
                        <a:lnTo>
                          <a:pt x="1972" y="1813"/>
                        </a:lnTo>
                        <a:lnTo>
                          <a:pt x="1988" y="1821"/>
                        </a:lnTo>
                        <a:lnTo>
                          <a:pt x="1988" y="2000"/>
                        </a:lnTo>
                        <a:lnTo>
                          <a:pt x="1997" y="2000"/>
                        </a:lnTo>
                        <a:lnTo>
                          <a:pt x="1997" y="1898"/>
                        </a:lnTo>
                        <a:lnTo>
                          <a:pt x="2060" y="1898"/>
                        </a:lnTo>
                        <a:lnTo>
                          <a:pt x="2060" y="1970"/>
                        </a:lnTo>
                        <a:lnTo>
                          <a:pt x="2068" y="1970"/>
                        </a:lnTo>
                        <a:lnTo>
                          <a:pt x="2068" y="1800"/>
                        </a:lnTo>
                        <a:lnTo>
                          <a:pt x="2207" y="1800"/>
                        </a:lnTo>
                        <a:lnTo>
                          <a:pt x="2207" y="1983"/>
                        </a:lnTo>
                        <a:lnTo>
                          <a:pt x="2211" y="1983"/>
                        </a:lnTo>
                        <a:lnTo>
                          <a:pt x="2211" y="1923"/>
                        </a:lnTo>
                        <a:lnTo>
                          <a:pt x="2266" y="1923"/>
                        </a:lnTo>
                        <a:lnTo>
                          <a:pt x="2266" y="1983"/>
                        </a:lnTo>
                        <a:lnTo>
                          <a:pt x="2270" y="1983"/>
                        </a:lnTo>
                        <a:lnTo>
                          <a:pt x="2270" y="1787"/>
                        </a:lnTo>
                        <a:lnTo>
                          <a:pt x="2320" y="1787"/>
                        </a:lnTo>
                        <a:lnTo>
                          <a:pt x="2320" y="1438"/>
                        </a:lnTo>
                        <a:lnTo>
                          <a:pt x="2371" y="1400"/>
                        </a:lnTo>
                        <a:lnTo>
                          <a:pt x="2375" y="1349"/>
                        </a:lnTo>
                        <a:lnTo>
                          <a:pt x="2430" y="1349"/>
                        </a:lnTo>
                        <a:lnTo>
                          <a:pt x="2472" y="1370"/>
                        </a:lnTo>
                        <a:lnTo>
                          <a:pt x="2472" y="1400"/>
                        </a:lnTo>
                        <a:lnTo>
                          <a:pt x="2526" y="1438"/>
                        </a:lnTo>
                        <a:lnTo>
                          <a:pt x="2526" y="1991"/>
                        </a:lnTo>
                        <a:lnTo>
                          <a:pt x="2539" y="1991"/>
                        </a:lnTo>
                        <a:lnTo>
                          <a:pt x="2539" y="1864"/>
                        </a:lnTo>
                        <a:lnTo>
                          <a:pt x="2590" y="1864"/>
                        </a:lnTo>
                        <a:lnTo>
                          <a:pt x="2590" y="1885"/>
                        </a:lnTo>
                        <a:lnTo>
                          <a:pt x="2628" y="1885"/>
                        </a:lnTo>
                        <a:lnTo>
                          <a:pt x="2628" y="1966"/>
                        </a:lnTo>
                        <a:lnTo>
                          <a:pt x="2637" y="1966"/>
                        </a:lnTo>
                        <a:lnTo>
                          <a:pt x="2637" y="974"/>
                        </a:lnTo>
                        <a:lnTo>
                          <a:pt x="2712" y="889"/>
                        </a:lnTo>
                        <a:lnTo>
                          <a:pt x="2784" y="914"/>
                        </a:lnTo>
                        <a:lnTo>
                          <a:pt x="2784" y="1966"/>
                        </a:lnTo>
                        <a:lnTo>
                          <a:pt x="2855" y="604"/>
                        </a:lnTo>
                        <a:lnTo>
                          <a:pt x="2897" y="604"/>
                        </a:lnTo>
                        <a:lnTo>
                          <a:pt x="2897" y="565"/>
                        </a:lnTo>
                        <a:lnTo>
                          <a:pt x="2905" y="540"/>
                        </a:lnTo>
                        <a:lnTo>
                          <a:pt x="2905" y="259"/>
                        </a:lnTo>
                        <a:lnTo>
                          <a:pt x="2918" y="259"/>
                        </a:lnTo>
                        <a:lnTo>
                          <a:pt x="2918" y="540"/>
                        </a:lnTo>
                        <a:lnTo>
                          <a:pt x="2952" y="540"/>
                        </a:lnTo>
                        <a:lnTo>
                          <a:pt x="2952" y="191"/>
                        </a:lnTo>
                        <a:lnTo>
                          <a:pt x="2964" y="191"/>
                        </a:lnTo>
                        <a:lnTo>
                          <a:pt x="2964" y="540"/>
                        </a:lnTo>
                        <a:lnTo>
                          <a:pt x="3002" y="540"/>
                        </a:lnTo>
                        <a:lnTo>
                          <a:pt x="3002" y="578"/>
                        </a:lnTo>
                        <a:lnTo>
                          <a:pt x="3015" y="578"/>
                        </a:lnTo>
                        <a:lnTo>
                          <a:pt x="3082" y="1847"/>
                        </a:lnTo>
                        <a:lnTo>
                          <a:pt x="3082" y="1600"/>
                        </a:lnTo>
                        <a:lnTo>
                          <a:pt x="3111" y="1583"/>
                        </a:lnTo>
                        <a:lnTo>
                          <a:pt x="3111" y="1430"/>
                        </a:lnTo>
                        <a:lnTo>
                          <a:pt x="3128" y="1430"/>
                        </a:lnTo>
                        <a:lnTo>
                          <a:pt x="3128" y="1570"/>
                        </a:lnTo>
                        <a:lnTo>
                          <a:pt x="3166" y="1587"/>
                        </a:lnTo>
                        <a:lnTo>
                          <a:pt x="3166" y="1749"/>
                        </a:lnTo>
                        <a:lnTo>
                          <a:pt x="3191" y="1766"/>
                        </a:lnTo>
                        <a:lnTo>
                          <a:pt x="3191" y="1621"/>
                        </a:lnTo>
                        <a:lnTo>
                          <a:pt x="3221" y="1621"/>
                        </a:lnTo>
                        <a:lnTo>
                          <a:pt x="3221" y="1562"/>
                        </a:lnTo>
                        <a:lnTo>
                          <a:pt x="3271" y="1562"/>
                        </a:lnTo>
                        <a:lnTo>
                          <a:pt x="3271" y="1621"/>
                        </a:lnTo>
                        <a:lnTo>
                          <a:pt x="3301" y="1621"/>
                        </a:lnTo>
                        <a:lnTo>
                          <a:pt x="3301" y="1923"/>
                        </a:lnTo>
                        <a:lnTo>
                          <a:pt x="3401" y="1923"/>
                        </a:lnTo>
                        <a:lnTo>
                          <a:pt x="3401" y="2047"/>
                        </a:lnTo>
                        <a:lnTo>
                          <a:pt x="0" y="2047"/>
                        </a:lnTo>
                        <a:close/>
                      </a:path>
                    </a:pathLst>
                  </a:cu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6" name=""/>
                <p:cNvGrpSpPr/>
                <p:nvPr/>
              </p:nvGrpSpPr>
              <p:grpSpPr>
                <a:xfrm>
                  <a:off x="2013120" y="2567160"/>
                  <a:ext cx="216000" cy="263520"/>
                  <a:chOff x="2013120" y="2567160"/>
                  <a:chExt cx="216000" cy="263520"/>
                </a:xfrm>
              </p:grpSpPr>
              <p:sp>
                <p:nvSpPr>
                  <p:cNvPr id="117" name=""/>
                  <p:cNvSpPr/>
                  <p:nvPr/>
                </p:nvSpPr>
                <p:spPr>
                  <a:xfrm>
                    <a:off x="2013120" y="2567160"/>
                    <a:ext cx="216000" cy="263520"/>
                  </a:xfrm>
                  <a:prstGeom prst="ellipse">
                    <a:avLst/>
                  </a:prstGeom>
                  <a:solidFill>
                    <a:srgbClr val="c0c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2025720" y="2583000"/>
                    <a:ext cx="190440" cy="235080"/>
                  </a:xfrm>
                  <a:prstGeom prst="ellipse">
                    <a:avLst/>
                  </a:prstGeom>
                  <a:solidFill>
                    <a:srgbClr val="e0e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2038320" y="2597040"/>
                    <a:ext cx="165240" cy="204840"/>
                  </a:xfrm>
                  <a:prstGeom prst="ellipse">
                    <a:avLst/>
                  </a:pr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2049480" y="2616120"/>
                    <a:ext cx="141120" cy="168120"/>
                  </a:xfrm>
                  <a:prstGeom prst="ellipse">
                    <a:avLst/>
                  </a:prstGeom>
                  <a:solidFill>
                    <a:srgbClr val="ffff40"/>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21" name=""/>
              <p:cNvGrpSpPr/>
              <p:nvPr/>
            </p:nvGrpSpPr>
            <p:grpSpPr>
              <a:xfrm>
                <a:off x="152280" y="3703680"/>
                <a:ext cx="1166760" cy="1057320"/>
                <a:chOff x="152280" y="3703680"/>
                <a:chExt cx="1166760" cy="1057320"/>
              </a:xfrm>
            </p:grpSpPr>
            <p:sp>
              <p:nvSpPr>
                <p:cNvPr id="122" name=""/>
                <p:cNvSpPr/>
                <p:nvPr/>
              </p:nvSpPr>
              <p:spPr>
                <a:xfrm>
                  <a:off x="152280" y="4375080"/>
                  <a:ext cx="1165320" cy="57240"/>
                </a:xfrm>
                <a:prstGeom prst="rect">
                  <a:avLst/>
                </a:prstGeom>
                <a:solidFill>
                  <a:srgbClr val="ff6000"/>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23" name=""/>
                <p:cNvSpPr/>
                <p:nvPr/>
              </p:nvSpPr>
              <p:spPr>
                <a:xfrm>
                  <a:off x="152280" y="4433760"/>
                  <a:ext cx="1165320" cy="55440"/>
                </a:xfrm>
                <a:prstGeom prst="rect">
                  <a:avLst/>
                </a:prstGeom>
                <a:solidFill>
                  <a:srgbClr val="ffa080"/>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124" name=""/>
                <p:cNvSpPr/>
                <p:nvPr/>
              </p:nvSpPr>
              <p:spPr>
                <a:xfrm>
                  <a:off x="152280" y="4338720"/>
                  <a:ext cx="1165320" cy="55440"/>
                </a:xfrm>
                <a:prstGeom prst="rect">
                  <a:avLst/>
                </a:prstGeom>
                <a:solidFill>
                  <a:srgbClr val="ff80a0"/>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125" name=""/>
                <p:cNvSpPr/>
                <p:nvPr/>
              </p:nvSpPr>
              <p:spPr>
                <a:xfrm>
                  <a:off x="152280" y="4308480"/>
                  <a:ext cx="1165320" cy="57240"/>
                </a:xfrm>
                <a:prstGeom prst="rect">
                  <a:avLst/>
                </a:prstGeom>
                <a:solidFill>
                  <a:srgbClr val="ff6080"/>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26" name=""/>
                <p:cNvSpPr/>
                <p:nvPr/>
              </p:nvSpPr>
              <p:spPr>
                <a:xfrm>
                  <a:off x="152280" y="4276800"/>
                  <a:ext cx="1165320" cy="55440"/>
                </a:xfrm>
                <a:prstGeom prst="rect">
                  <a:avLst/>
                </a:prstGeom>
                <a:solidFill>
                  <a:srgbClr val="a0a0c0"/>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127" name=""/>
                <p:cNvSpPr/>
                <p:nvPr/>
              </p:nvSpPr>
              <p:spPr>
                <a:xfrm>
                  <a:off x="152280" y="4192560"/>
                  <a:ext cx="1165320" cy="111240"/>
                </a:xfrm>
                <a:prstGeom prst="rect">
                  <a:avLst/>
                </a:prstGeom>
                <a:solidFill>
                  <a:srgbClr val="808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152280" y="3703680"/>
                  <a:ext cx="1163520" cy="568440"/>
                </a:xfrm>
                <a:prstGeom prst="rect">
                  <a:avLst/>
                </a:pr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 name=""/>
                <p:cNvSpPr/>
                <p:nvPr/>
              </p:nvSpPr>
              <p:spPr>
                <a:xfrm>
                  <a:off x="152280" y="4467240"/>
                  <a:ext cx="1165320" cy="34920"/>
                </a:xfrm>
                <a:prstGeom prst="rect">
                  <a:avLst/>
                </a:prstGeom>
                <a:solidFill>
                  <a:srgbClr val="ffffa0"/>
                </a:solidFill>
                <a:ln w="0">
                  <a:noFill/>
                </a:ln>
              </p:spPr>
              <p:txBody>
                <a:bodyPr lIns="90000" rIns="90000" tIns="-10080" bIns="-10080" anchor="t">
                  <a:noAutofit/>
                </a:bodyPr>
                <a:p>
                  <a:endParaRPr b="0" lang="en-US" sz="1800" spc="-1" strike="noStrike">
                    <a:solidFill>
                      <a:srgbClr val="000000"/>
                    </a:solidFill>
                    <a:latin typeface="Arial"/>
                  </a:endParaRPr>
                </a:p>
              </p:txBody>
            </p:sp>
            <p:sp>
              <p:nvSpPr>
                <p:cNvPr id="130" name=""/>
                <p:cNvSpPr/>
                <p:nvPr/>
              </p:nvSpPr>
              <p:spPr>
                <a:xfrm>
                  <a:off x="152280" y="4510080"/>
                  <a:ext cx="1166760" cy="250920"/>
                </a:xfrm>
                <a:prstGeom prst="rect">
                  <a:avLst/>
                </a:pr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1" name=""/>
                <p:cNvSpPr/>
                <p:nvPr/>
              </p:nvSpPr>
              <p:spPr>
                <a:xfrm>
                  <a:off x="152280" y="4516560"/>
                  <a:ext cx="1163880" cy="240120"/>
                </a:xfrm>
                <a:custGeom>
                  <a:avLst/>
                  <a:gdLst/>
                  <a:ahLst/>
                  <a:rect l="0" t="0" r="r" b="b"/>
                  <a:pathLst>
                    <a:path w="3233" h="667">
                      <a:moveTo>
                        <a:pt x="0" y="0"/>
                      </a:moveTo>
                      <a:lnTo>
                        <a:pt x="0" y="492"/>
                      </a:lnTo>
                      <a:lnTo>
                        <a:pt x="214" y="492"/>
                      </a:lnTo>
                      <a:lnTo>
                        <a:pt x="214" y="225"/>
                      </a:lnTo>
                      <a:lnTo>
                        <a:pt x="226" y="225"/>
                      </a:lnTo>
                      <a:lnTo>
                        <a:pt x="226" y="285"/>
                      </a:lnTo>
                      <a:lnTo>
                        <a:pt x="239" y="285"/>
                      </a:lnTo>
                      <a:lnTo>
                        <a:pt x="239" y="310"/>
                      </a:lnTo>
                      <a:lnTo>
                        <a:pt x="264" y="310"/>
                      </a:lnTo>
                      <a:lnTo>
                        <a:pt x="264" y="238"/>
                      </a:lnTo>
                      <a:lnTo>
                        <a:pt x="277" y="238"/>
                      </a:lnTo>
                      <a:lnTo>
                        <a:pt x="277" y="340"/>
                      </a:lnTo>
                      <a:lnTo>
                        <a:pt x="348" y="340"/>
                      </a:lnTo>
                      <a:lnTo>
                        <a:pt x="348" y="293"/>
                      </a:lnTo>
                      <a:lnTo>
                        <a:pt x="361" y="293"/>
                      </a:lnTo>
                      <a:lnTo>
                        <a:pt x="361" y="667"/>
                      </a:lnTo>
                      <a:lnTo>
                        <a:pt x="390" y="667"/>
                      </a:lnTo>
                      <a:lnTo>
                        <a:pt x="667" y="667"/>
                      </a:lnTo>
                      <a:lnTo>
                        <a:pt x="667" y="484"/>
                      </a:lnTo>
                      <a:lnTo>
                        <a:pt x="675" y="484"/>
                      </a:lnTo>
                      <a:lnTo>
                        <a:pt x="675" y="557"/>
                      </a:lnTo>
                      <a:lnTo>
                        <a:pt x="730" y="536"/>
                      </a:lnTo>
                      <a:lnTo>
                        <a:pt x="730" y="433"/>
                      </a:lnTo>
                      <a:lnTo>
                        <a:pt x="743" y="557"/>
                      </a:lnTo>
                      <a:lnTo>
                        <a:pt x="747" y="557"/>
                      </a:lnTo>
                      <a:lnTo>
                        <a:pt x="747" y="587"/>
                      </a:lnTo>
                      <a:lnTo>
                        <a:pt x="751" y="587"/>
                      </a:lnTo>
                      <a:lnTo>
                        <a:pt x="751" y="621"/>
                      </a:lnTo>
                      <a:lnTo>
                        <a:pt x="755" y="621"/>
                      </a:lnTo>
                      <a:lnTo>
                        <a:pt x="755" y="638"/>
                      </a:lnTo>
                      <a:lnTo>
                        <a:pt x="759" y="638"/>
                      </a:lnTo>
                      <a:lnTo>
                        <a:pt x="759" y="659"/>
                      </a:lnTo>
                      <a:lnTo>
                        <a:pt x="768" y="659"/>
                      </a:lnTo>
                      <a:lnTo>
                        <a:pt x="768" y="638"/>
                      </a:lnTo>
                      <a:lnTo>
                        <a:pt x="772" y="638"/>
                      </a:lnTo>
                      <a:lnTo>
                        <a:pt x="772" y="621"/>
                      </a:lnTo>
                      <a:lnTo>
                        <a:pt x="776" y="621"/>
                      </a:lnTo>
                      <a:lnTo>
                        <a:pt x="776" y="587"/>
                      </a:lnTo>
                      <a:lnTo>
                        <a:pt x="780" y="587"/>
                      </a:lnTo>
                      <a:lnTo>
                        <a:pt x="780" y="557"/>
                      </a:lnTo>
                      <a:lnTo>
                        <a:pt x="784" y="557"/>
                      </a:lnTo>
                      <a:lnTo>
                        <a:pt x="797" y="433"/>
                      </a:lnTo>
                      <a:lnTo>
                        <a:pt x="797" y="467"/>
                      </a:lnTo>
                      <a:lnTo>
                        <a:pt x="915" y="467"/>
                      </a:lnTo>
                      <a:lnTo>
                        <a:pt x="915" y="437"/>
                      </a:lnTo>
                      <a:lnTo>
                        <a:pt x="940" y="437"/>
                      </a:lnTo>
                      <a:lnTo>
                        <a:pt x="940" y="348"/>
                      </a:lnTo>
                      <a:lnTo>
                        <a:pt x="948" y="348"/>
                      </a:lnTo>
                      <a:lnTo>
                        <a:pt x="948" y="395"/>
                      </a:lnTo>
                      <a:lnTo>
                        <a:pt x="986" y="395"/>
                      </a:lnTo>
                      <a:lnTo>
                        <a:pt x="1020" y="604"/>
                      </a:lnTo>
                      <a:lnTo>
                        <a:pt x="1028" y="667"/>
                      </a:lnTo>
                      <a:lnTo>
                        <a:pt x="1150" y="667"/>
                      </a:lnTo>
                      <a:lnTo>
                        <a:pt x="1150" y="604"/>
                      </a:lnTo>
                      <a:lnTo>
                        <a:pt x="1192" y="369"/>
                      </a:lnTo>
                      <a:lnTo>
                        <a:pt x="1192" y="566"/>
                      </a:lnTo>
                      <a:lnTo>
                        <a:pt x="1213" y="566"/>
                      </a:lnTo>
                      <a:lnTo>
                        <a:pt x="1221" y="578"/>
                      </a:lnTo>
                      <a:lnTo>
                        <a:pt x="1221" y="616"/>
                      </a:lnTo>
                      <a:lnTo>
                        <a:pt x="1246" y="625"/>
                      </a:lnTo>
                      <a:lnTo>
                        <a:pt x="1246" y="667"/>
                      </a:lnTo>
                      <a:lnTo>
                        <a:pt x="1255" y="667"/>
                      </a:lnTo>
                      <a:lnTo>
                        <a:pt x="1255" y="625"/>
                      </a:lnTo>
                      <a:lnTo>
                        <a:pt x="1271" y="633"/>
                      </a:lnTo>
                      <a:lnTo>
                        <a:pt x="1284" y="616"/>
                      </a:lnTo>
                      <a:lnTo>
                        <a:pt x="1297" y="616"/>
                      </a:lnTo>
                      <a:lnTo>
                        <a:pt x="1297" y="204"/>
                      </a:lnTo>
                      <a:lnTo>
                        <a:pt x="1309" y="204"/>
                      </a:lnTo>
                      <a:lnTo>
                        <a:pt x="1309" y="667"/>
                      </a:lnTo>
                      <a:lnTo>
                        <a:pt x="1532" y="667"/>
                      </a:lnTo>
                      <a:lnTo>
                        <a:pt x="1532" y="510"/>
                      </a:lnTo>
                      <a:lnTo>
                        <a:pt x="1553" y="510"/>
                      </a:lnTo>
                      <a:lnTo>
                        <a:pt x="1553" y="425"/>
                      </a:lnTo>
                      <a:lnTo>
                        <a:pt x="1607" y="425"/>
                      </a:lnTo>
                      <a:lnTo>
                        <a:pt x="1607" y="263"/>
                      </a:lnTo>
                      <a:lnTo>
                        <a:pt x="1617" y="263"/>
                      </a:lnTo>
                      <a:lnTo>
                        <a:pt x="1617" y="467"/>
                      </a:lnTo>
                      <a:lnTo>
                        <a:pt x="1810" y="467"/>
                      </a:lnTo>
                      <a:lnTo>
                        <a:pt x="1810" y="200"/>
                      </a:lnTo>
                      <a:lnTo>
                        <a:pt x="1827" y="208"/>
                      </a:lnTo>
                      <a:lnTo>
                        <a:pt x="1827" y="225"/>
                      </a:lnTo>
                      <a:lnTo>
                        <a:pt x="1839" y="225"/>
                      </a:lnTo>
                      <a:lnTo>
                        <a:pt x="1839" y="276"/>
                      </a:lnTo>
                      <a:lnTo>
                        <a:pt x="1848" y="276"/>
                      </a:lnTo>
                      <a:lnTo>
                        <a:pt x="1848" y="408"/>
                      </a:lnTo>
                      <a:lnTo>
                        <a:pt x="1860" y="408"/>
                      </a:lnTo>
                      <a:lnTo>
                        <a:pt x="1860" y="276"/>
                      </a:lnTo>
                      <a:lnTo>
                        <a:pt x="1877" y="276"/>
                      </a:lnTo>
                      <a:lnTo>
                        <a:pt x="1877" y="238"/>
                      </a:lnTo>
                      <a:lnTo>
                        <a:pt x="1894" y="225"/>
                      </a:lnTo>
                      <a:lnTo>
                        <a:pt x="1894" y="46"/>
                      </a:lnTo>
                      <a:lnTo>
                        <a:pt x="1898" y="46"/>
                      </a:lnTo>
                      <a:lnTo>
                        <a:pt x="1898" y="148"/>
                      </a:lnTo>
                      <a:lnTo>
                        <a:pt x="1961" y="148"/>
                      </a:lnTo>
                      <a:lnTo>
                        <a:pt x="1961" y="76"/>
                      </a:lnTo>
                      <a:lnTo>
                        <a:pt x="1965" y="76"/>
                      </a:lnTo>
                      <a:lnTo>
                        <a:pt x="1965" y="246"/>
                      </a:lnTo>
                      <a:lnTo>
                        <a:pt x="2099" y="246"/>
                      </a:lnTo>
                      <a:lnTo>
                        <a:pt x="2099" y="63"/>
                      </a:lnTo>
                      <a:lnTo>
                        <a:pt x="2099" y="63"/>
                      </a:lnTo>
                      <a:lnTo>
                        <a:pt x="2099" y="122"/>
                      </a:lnTo>
                      <a:lnTo>
                        <a:pt x="2154" y="122"/>
                      </a:lnTo>
                      <a:lnTo>
                        <a:pt x="2154" y="63"/>
                      </a:lnTo>
                      <a:lnTo>
                        <a:pt x="2158" y="63"/>
                      </a:lnTo>
                      <a:lnTo>
                        <a:pt x="2158" y="263"/>
                      </a:lnTo>
                      <a:lnTo>
                        <a:pt x="2204" y="263"/>
                      </a:lnTo>
                      <a:lnTo>
                        <a:pt x="2204" y="612"/>
                      </a:lnTo>
                      <a:lnTo>
                        <a:pt x="2255" y="650"/>
                      </a:lnTo>
                      <a:lnTo>
                        <a:pt x="2255" y="667"/>
                      </a:lnTo>
                      <a:lnTo>
                        <a:pt x="2351" y="667"/>
                      </a:lnTo>
                      <a:lnTo>
                        <a:pt x="2351" y="650"/>
                      </a:lnTo>
                      <a:lnTo>
                        <a:pt x="2402" y="612"/>
                      </a:lnTo>
                      <a:lnTo>
                        <a:pt x="2402" y="55"/>
                      </a:lnTo>
                      <a:lnTo>
                        <a:pt x="2410" y="55"/>
                      </a:lnTo>
                      <a:lnTo>
                        <a:pt x="2410" y="187"/>
                      </a:lnTo>
                      <a:lnTo>
                        <a:pt x="2465" y="187"/>
                      </a:lnTo>
                      <a:lnTo>
                        <a:pt x="2465" y="161"/>
                      </a:lnTo>
                      <a:lnTo>
                        <a:pt x="2498" y="161"/>
                      </a:lnTo>
                      <a:lnTo>
                        <a:pt x="2498" y="84"/>
                      </a:lnTo>
                      <a:lnTo>
                        <a:pt x="2507" y="84"/>
                      </a:lnTo>
                      <a:lnTo>
                        <a:pt x="2507" y="667"/>
                      </a:lnTo>
                      <a:lnTo>
                        <a:pt x="2645" y="667"/>
                      </a:lnTo>
                      <a:lnTo>
                        <a:pt x="2645" y="84"/>
                      </a:lnTo>
                      <a:lnTo>
                        <a:pt x="2696" y="667"/>
                      </a:lnTo>
                      <a:lnTo>
                        <a:pt x="2893" y="667"/>
                      </a:lnTo>
                      <a:lnTo>
                        <a:pt x="2926" y="200"/>
                      </a:lnTo>
                      <a:lnTo>
                        <a:pt x="2926" y="450"/>
                      </a:lnTo>
                      <a:lnTo>
                        <a:pt x="2956" y="471"/>
                      </a:lnTo>
                      <a:lnTo>
                        <a:pt x="2956" y="625"/>
                      </a:lnTo>
                      <a:lnTo>
                        <a:pt x="2973" y="625"/>
                      </a:lnTo>
                      <a:lnTo>
                        <a:pt x="2973" y="480"/>
                      </a:lnTo>
                      <a:lnTo>
                        <a:pt x="3006" y="463"/>
                      </a:lnTo>
                      <a:lnTo>
                        <a:pt x="3006" y="302"/>
                      </a:lnTo>
                      <a:lnTo>
                        <a:pt x="3036" y="285"/>
                      </a:lnTo>
                      <a:lnTo>
                        <a:pt x="3036" y="429"/>
                      </a:lnTo>
                      <a:lnTo>
                        <a:pt x="3061" y="429"/>
                      </a:lnTo>
                      <a:lnTo>
                        <a:pt x="3061" y="488"/>
                      </a:lnTo>
                      <a:lnTo>
                        <a:pt x="3111" y="488"/>
                      </a:lnTo>
                      <a:lnTo>
                        <a:pt x="3111" y="429"/>
                      </a:lnTo>
                      <a:lnTo>
                        <a:pt x="3136" y="429"/>
                      </a:lnTo>
                      <a:lnTo>
                        <a:pt x="3136" y="122"/>
                      </a:lnTo>
                      <a:lnTo>
                        <a:pt x="3233" y="122"/>
                      </a:lnTo>
                      <a:lnTo>
                        <a:pt x="3233" y="0"/>
                      </a:lnTo>
                      <a:lnTo>
                        <a:pt x="0" y="0"/>
                      </a:lnTo>
                      <a:close/>
                    </a:path>
                  </a:pathLst>
                </a:custGeom>
                <a:solidFill>
                  <a:srgbClr val="00008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 name=""/>
                <p:cNvSpPr/>
                <p:nvPr/>
              </p:nvSpPr>
              <p:spPr>
                <a:xfrm>
                  <a:off x="152280" y="3755880"/>
                  <a:ext cx="1163880" cy="760680"/>
                </a:xfrm>
                <a:custGeom>
                  <a:avLst/>
                  <a:gdLst/>
                  <a:ahLst/>
                  <a:rect l="0" t="0" r="r" b="b"/>
                  <a:pathLst>
                    <a:path w="3233" h="2113">
                      <a:moveTo>
                        <a:pt x="0" y="2113"/>
                      </a:moveTo>
                      <a:lnTo>
                        <a:pt x="0" y="1606"/>
                      </a:lnTo>
                      <a:lnTo>
                        <a:pt x="214" y="1606"/>
                      </a:lnTo>
                      <a:lnTo>
                        <a:pt x="214" y="1883"/>
                      </a:lnTo>
                      <a:lnTo>
                        <a:pt x="226" y="1883"/>
                      </a:lnTo>
                      <a:lnTo>
                        <a:pt x="226" y="1823"/>
                      </a:lnTo>
                      <a:lnTo>
                        <a:pt x="239" y="1823"/>
                      </a:lnTo>
                      <a:lnTo>
                        <a:pt x="239" y="1798"/>
                      </a:lnTo>
                      <a:lnTo>
                        <a:pt x="264" y="1798"/>
                      </a:lnTo>
                      <a:lnTo>
                        <a:pt x="264" y="1870"/>
                      </a:lnTo>
                      <a:lnTo>
                        <a:pt x="277" y="1870"/>
                      </a:lnTo>
                      <a:lnTo>
                        <a:pt x="277" y="1764"/>
                      </a:lnTo>
                      <a:lnTo>
                        <a:pt x="348" y="1764"/>
                      </a:lnTo>
                      <a:lnTo>
                        <a:pt x="348" y="1810"/>
                      </a:lnTo>
                      <a:lnTo>
                        <a:pt x="361" y="1810"/>
                      </a:lnTo>
                      <a:lnTo>
                        <a:pt x="361" y="1431"/>
                      </a:lnTo>
                      <a:lnTo>
                        <a:pt x="390" y="1431"/>
                      </a:lnTo>
                      <a:lnTo>
                        <a:pt x="390" y="1121"/>
                      </a:lnTo>
                      <a:lnTo>
                        <a:pt x="419" y="1121"/>
                      </a:lnTo>
                      <a:lnTo>
                        <a:pt x="419" y="685"/>
                      </a:lnTo>
                      <a:lnTo>
                        <a:pt x="449" y="643"/>
                      </a:lnTo>
                      <a:lnTo>
                        <a:pt x="512" y="643"/>
                      </a:lnTo>
                      <a:lnTo>
                        <a:pt x="512" y="251"/>
                      </a:lnTo>
                      <a:lnTo>
                        <a:pt x="575" y="208"/>
                      </a:lnTo>
                      <a:lnTo>
                        <a:pt x="591" y="221"/>
                      </a:lnTo>
                      <a:lnTo>
                        <a:pt x="591" y="0"/>
                      </a:lnTo>
                      <a:lnTo>
                        <a:pt x="600" y="0"/>
                      </a:lnTo>
                      <a:lnTo>
                        <a:pt x="600" y="238"/>
                      </a:lnTo>
                      <a:lnTo>
                        <a:pt x="625" y="259"/>
                      </a:lnTo>
                      <a:lnTo>
                        <a:pt x="625" y="1150"/>
                      </a:lnTo>
                      <a:lnTo>
                        <a:pt x="667" y="1150"/>
                      </a:lnTo>
                      <a:lnTo>
                        <a:pt x="667" y="1615"/>
                      </a:lnTo>
                      <a:lnTo>
                        <a:pt x="675" y="1615"/>
                      </a:lnTo>
                      <a:lnTo>
                        <a:pt x="675" y="1546"/>
                      </a:lnTo>
                      <a:lnTo>
                        <a:pt x="730" y="1563"/>
                      </a:lnTo>
                      <a:lnTo>
                        <a:pt x="730" y="1666"/>
                      </a:lnTo>
                      <a:lnTo>
                        <a:pt x="743" y="1546"/>
                      </a:lnTo>
                      <a:lnTo>
                        <a:pt x="747" y="1546"/>
                      </a:lnTo>
                      <a:lnTo>
                        <a:pt x="747" y="1512"/>
                      </a:lnTo>
                      <a:lnTo>
                        <a:pt x="751" y="1512"/>
                      </a:lnTo>
                      <a:lnTo>
                        <a:pt x="751" y="1478"/>
                      </a:lnTo>
                      <a:lnTo>
                        <a:pt x="755" y="1478"/>
                      </a:lnTo>
                      <a:lnTo>
                        <a:pt x="755" y="1461"/>
                      </a:lnTo>
                      <a:lnTo>
                        <a:pt x="759" y="1461"/>
                      </a:lnTo>
                      <a:lnTo>
                        <a:pt x="759" y="1440"/>
                      </a:lnTo>
                      <a:lnTo>
                        <a:pt x="768" y="1440"/>
                      </a:lnTo>
                      <a:lnTo>
                        <a:pt x="768" y="1461"/>
                      </a:lnTo>
                      <a:lnTo>
                        <a:pt x="772" y="1461"/>
                      </a:lnTo>
                      <a:lnTo>
                        <a:pt x="772" y="1478"/>
                      </a:lnTo>
                      <a:lnTo>
                        <a:pt x="776" y="1478"/>
                      </a:lnTo>
                      <a:lnTo>
                        <a:pt x="776" y="1512"/>
                      </a:lnTo>
                      <a:lnTo>
                        <a:pt x="780" y="1512"/>
                      </a:lnTo>
                      <a:lnTo>
                        <a:pt x="780" y="1546"/>
                      </a:lnTo>
                      <a:lnTo>
                        <a:pt x="784" y="1546"/>
                      </a:lnTo>
                      <a:lnTo>
                        <a:pt x="797" y="1666"/>
                      </a:lnTo>
                      <a:lnTo>
                        <a:pt x="797" y="1636"/>
                      </a:lnTo>
                      <a:lnTo>
                        <a:pt x="915" y="1636"/>
                      </a:lnTo>
                      <a:lnTo>
                        <a:pt x="915" y="1661"/>
                      </a:lnTo>
                      <a:lnTo>
                        <a:pt x="940" y="1661"/>
                      </a:lnTo>
                      <a:lnTo>
                        <a:pt x="940" y="1755"/>
                      </a:lnTo>
                      <a:lnTo>
                        <a:pt x="948" y="1755"/>
                      </a:lnTo>
                      <a:lnTo>
                        <a:pt x="948" y="1704"/>
                      </a:lnTo>
                      <a:lnTo>
                        <a:pt x="986" y="1704"/>
                      </a:lnTo>
                      <a:lnTo>
                        <a:pt x="1020" y="1495"/>
                      </a:lnTo>
                      <a:lnTo>
                        <a:pt x="1045" y="1155"/>
                      </a:lnTo>
                      <a:lnTo>
                        <a:pt x="1062" y="864"/>
                      </a:lnTo>
                      <a:lnTo>
                        <a:pt x="1074" y="864"/>
                      </a:lnTo>
                      <a:lnTo>
                        <a:pt x="1074" y="851"/>
                      </a:lnTo>
                      <a:lnTo>
                        <a:pt x="1099" y="851"/>
                      </a:lnTo>
                      <a:lnTo>
                        <a:pt x="1099" y="864"/>
                      </a:lnTo>
                      <a:lnTo>
                        <a:pt x="1112" y="864"/>
                      </a:lnTo>
                      <a:lnTo>
                        <a:pt x="1129" y="1155"/>
                      </a:lnTo>
                      <a:lnTo>
                        <a:pt x="1150" y="1495"/>
                      </a:lnTo>
                      <a:lnTo>
                        <a:pt x="1192" y="1734"/>
                      </a:lnTo>
                      <a:lnTo>
                        <a:pt x="1192" y="1534"/>
                      </a:lnTo>
                      <a:lnTo>
                        <a:pt x="1213" y="1534"/>
                      </a:lnTo>
                      <a:lnTo>
                        <a:pt x="1221" y="1521"/>
                      </a:lnTo>
                      <a:lnTo>
                        <a:pt x="1221" y="1482"/>
                      </a:lnTo>
                      <a:lnTo>
                        <a:pt x="1246" y="1474"/>
                      </a:lnTo>
                      <a:lnTo>
                        <a:pt x="1246" y="1189"/>
                      </a:lnTo>
                      <a:lnTo>
                        <a:pt x="1255" y="1189"/>
                      </a:lnTo>
                      <a:lnTo>
                        <a:pt x="1255" y="1470"/>
                      </a:lnTo>
                      <a:lnTo>
                        <a:pt x="1271" y="1465"/>
                      </a:lnTo>
                      <a:lnTo>
                        <a:pt x="1284" y="1482"/>
                      </a:lnTo>
                      <a:lnTo>
                        <a:pt x="1297" y="1482"/>
                      </a:lnTo>
                      <a:lnTo>
                        <a:pt x="1297" y="1904"/>
                      </a:lnTo>
                      <a:lnTo>
                        <a:pt x="1309" y="1904"/>
                      </a:lnTo>
                      <a:lnTo>
                        <a:pt x="1309" y="357"/>
                      </a:lnTo>
                      <a:lnTo>
                        <a:pt x="1339" y="357"/>
                      </a:lnTo>
                      <a:lnTo>
                        <a:pt x="1339" y="315"/>
                      </a:lnTo>
                      <a:lnTo>
                        <a:pt x="1498" y="315"/>
                      </a:lnTo>
                      <a:lnTo>
                        <a:pt x="1498" y="357"/>
                      </a:lnTo>
                      <a:lnTo>
                        <a:pt x="1532" y="357"/>
                      </a:lnTo>
                      <a:lnTo>
                        <a:pt x="1532" y="1593"/>
                      </a:lnTo>
                      <a:lnTo>
                        <a:pt x="1553" y="1593"/>
                      </a:lnTo>
                      <a:lnTo>
                        <a:pt x="1553" y="1678"/>
                      </a:lnTo>
                      <a:lnTo>
                        <a:pt x="1607" y="1678"/>
                      </a:lnTo>
                      <a:lnTo>
                        <a:pt x="1607" y="1840"/>
                      </a:lnTo>
                      <a:lnTo>
                        <a:pt x="1617" y="1840"/>
                      </a:lnTo>
                      <a:lnTo>
                        <a:pt x="1617" y="1636"/>
                      </a:lnTo>
                      <a:lnTo>
                        <a:pt x="1810" y="1636"/>
                      </a:lnTo>
                      <a:lnTo>
                        <a:pt x="1810" y="1908"/>
                      </a:lnTo>
                      <a:lnTo>
                        <a:pt x="1827" y="1900"/>
                      </a:lnTo>
                      <a:lnTo>
                        <a:pt x="1827" y="1883"/>
                      </a:lnTo>
                      <a:lnTo>
                        <a:pt x="1839" y="1883"/>
                      </a:lnTo>
                      <a:lnTo>
                        <a:pt x="1839" y="1832"/>
                      </a:lnTo>
                      <a:lnTo>
                        <a:pt x="1848" y="1832"/>
                      </a:lnTo>
                      <a:lnTo>
                        <a:pt x="1848" y="1695"/>
                      </a:lnTo>
                      <a:lnTo>
                        <a:pt x="1860" y="1695"/>
                      </a:lnTo>
                      <a:lnTo>
                        <a:pt x="1860" y="1832"/>
                      </a:lnTo>
                      <a:lnTo>
                        <a:pt x="1877" y="1832"/>
                      </a:lnTo>
                      <a:lnTo>
                        <a:pt x="1877" y="1870"/>
                      </a:lnTo>
                      <a:lnTo>
                        <a:pt x="1894" y="1883"/>
                      </a:lnTo>
                      <a:lnTo>
                        <a:pt x="1894" y="2066"/>
                      </a:lnTo>
                      <a:lnTo>
                        <a:pt x="1898" y="2066"/>
                      </a:lnTo>
                      <a:lnTo>
                        <a:pt x="1898" y="1959"/>
                      </a:lnTo>
                      <a:lnTo>
                        <a:pt x="1961" y="1959"/>
                      </a:lnTo>
                      <a:lnTo>
                        <a:pt x="1961" y="2036"/>
                      </a:lnTo>
                      <a:lnTo>
                        <a:pt x="1965" y="2036"/>
                      </a:lnTo>
                      <a:lnTo>
                        <a:pt x="1965" y="1857"/>
                      </a:lnTo>
                      <a:lnTo>
                        <a:pt x="2099" y="1857"/>
                      </a:lnTo>
                      <a:lnTo>
                        <a:pt x="2099" y="2049"/>
                      </a:lnTo>
                      <a:lnTo>
                        <a:pt x="2099" y="2049"/>
                      </a:lnTo>
                      <a:lnTo>
                        <a:pt x="2099" y="1985"/>
                      </a:lnTo>
                      <a:lnTo>
                        <a:pt x="2154" y="1985"/>
                      </a:lnTo>
                      <a:lnTo>
                        <a:pt x="2154" y="2049"/>
                      </a:lnTo>
                      <a:lnTo>
                        <a:pt x="2158" y="2049"/>
                      </a:lnTo>
                      <a:lnTo>
                        <a:pt x="2158" y="1844"/>
                      </a:lnTo>
                      <a:lnTo>
                        <a:pt x="2204" y="1844"/>
                      </a:lnTo>
                      <a:lnTo>
                        <a:pt x="2204" y="1482"/>
                      </a:lnTo>
                      <a:lnTo>
                        <a:pt x="2255" y="1448"/>
                      </a:lnTo>
                      <a:lnTo>
                        <a:pt x="2255" y="1393"/>
                      </a:lnTo>
                      <a:lnTo>
                        <a:pt x="2309" y="1393"/>
                      </a:lnTo>
                      <a:lnTo>
                        <a:pt x="2351" y="1414"/>
                      </a:lnTo>
                      <a:lnTo>
                        <a:pt x="2351" y="1448"/>
                      </a:lnTo>
                      <a:lnTo>
                        <a:pt x="2402" y="1482"/>
                      </a:lnTo>
                      <a:lnTo>
                        <a:pt x="2402" y="2057"/>
                      </a:lnTo>
                      <a:lnTo>
                        <a:pt x="2410" y="2057"/>
                      </a:lnTo>
                      <a:lnTo>
                        <a:pt x="2410" y="1925"/>
                      </a:lnTo>
                      <a:lnTo>
                        <a:pt x="2465" y="1925"/>
                      </a:lnTo>
                      <a:lnTo>
                        <a:pt x="2465" y="1947"/>
                      </a:lnTo>
                      <a:lnTo>
                        <a:pt x="2498" y="1947"/>
                      </a:lnTo>
                      <a:lnTo>
                        <a:pt x="2498" y="2028"/>
                      </a:lnTo>
                      <a:lnTo>
                        <a:pt x="2507" y="2028"/>
                      </a:lnTo>
                      <a:lnTo>
                        <a:pt x="2507" y="1005"/>
                      </a:lnTo>
                      <a:lnTo>
                        <a:pt x="2578" y="919"/>
                      </a:lnTo>
                      <a:lnTo>
                        <a:pt x="2645" y="945"/>
                      </a:lnTo>
                      <a:lnTo>
                        <a:pt x="2645" y="2028"/>
                      </a:lnTo>
                      <a:lnTo>
                        <a:pt x="2712" y="626"/>
                      </a:lnTo>
                      <a:lnTo>
                        <a:pt x="2754" y="626"/>
                      </a:lnTo>
                      <a:lnTo>
                        <a:pt x="2754" y="583"/>
                      </a:lnTo>
                      <a:lnTo>
                        <a:pt x="2763" y="553"/>
                      </a:lnTo>
                      <a:lnTo>
                        <a:pt x="2763" y="268"/>
                      </a:lnTo>
                      <a:lnTo>
                        <a:pt x="2771" y="268"/>
                      </a:lnTo>
                      <a:lnTo>
                        <a:pt x="2771" y="553"/>
                      </a:lnTo>
                      <a:lnTo>
                        <a:pt x="2805" y="553"/>
                      </a:lnTo>
                      <a:lnTo>
                        <a:pt x="2805" y="195"/>
                      </a:lnTo>
                      <a:lnTo>
                        <a:pt x="2817" y="195"/>
                      </a:lnTo>
                      <a:lnTo>
                        <a:pt x="2817" y="553"/>
                      </a:lnTo>
                      <a:lnTo>
                        <a:pt x="2851" y="553"/>
                      </a:lnTo>
                      <a:lnTo>
                        <a:pt x="2851" y="600"/>
                      </a:lnTo>
                      <a:lnTo>
                        <a:pt x="2868" y="600"/>
                      </a:lnTo>
                      <a:lnTo>
                        <a:pt x="2926" y="1908"/>
                      </a:lnTo>
                      <a:lnTo>
                        <a:pt x="2926" y="1653"/>
                      </a:lnTo>
                      <a:lnTo>
                        <a:pt x="2956" y="1632"/>
                      </a:lnTo>
                      <a:lnTo>
                        <a:pt x="2956" y="1474"/>
                      </a:lnTo>
                      <a:lnTo>
                        <a:pt x="2973" y="1474"/>
                      </a:lnTo>
                      <a:lnTo>
                        <a:pt x="2973" y="1619"/>
                      </a:lnTo>
                      <a:lnTo>
                        <a:pt x="3006" y="1640"/>
                      </a:lnTo>
                      <a:lnTo>
                        <a:pt x="3006" y="1806"/>
                      </a:lnTo>
                      <a:lnTo>
                        <a:pt x="3036" y="1823"/>
                      </a:lnTo>
                      <a:lnTo>
                        <a:pt x="3036" y="1674"/>
                      </a:lnTo>
                      <a:lnTo>
                        <a:pt x="3061" y="1674"/>
                      </a:lnTo>
                      <a:lnTo>
                        <a:pt x="3061" y="1615"/>
                      </a:lnTo>
                      <a:lnTo>
                        <a:pt x="3111" y="1615"/>
                      </a:lnTo>
                      <a:lnTo>
                        <a:pt x="3111" y="1674"/>
                      </a:lnTo>
                      <a:lnTo>
                        <a:pt x="3136" y="1674"/>
                      </a:lnTo>
                      <a:lnTo>
                        <a:pt x="3136" y="1985"/>
                      </a:lnTo>
                      <a:lnTo>
                        <a:pt x="3233" y="1985"/>
                      </a:lnTo>
                      <a:lnTo>
                        <a:pt x="3233" y="2113"/>
                      </a:lnTo>
                      <a:lnTo>
                        <a:pt x="0" y="21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133" name=""/>
              <p:cNvSpPr/>
              <p:nvPr/>
            </p:nvSpPr>
            <p:spPr>
              <a:xfrm>
                <a:off x="795240" y="4432320"/>
                <a:ext cx="233280" cy="2620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968480" y="5022720"/>
                <a:ext cx="1160640" cy="52560"/>
              </a:xfrm>
              <a:prstGeom prst="rect">
                <a:avLst/>
              </a:prstGeom>
              <a:solidFill>
                <a:srgbClr val="ff6000"/>
              </a:solidFill>
              <a:ln w="0">
                <a:noFill/>
              </a:ln>
            </p:spPr>
            <p:txBody>
              <a:bodyPr lIns="90000" rIns="90000" tIns="7560" bIns="7560" anchor="t">
                <a:noAutofit/>
              </a:bodyPr>
              <a:p>
                <a:endParaRPr b="0" lang="en-US" sz="1800" spc="-1" strike="noStrike">
                  <a:solidFill>
                    <a:srgbClr val="000000"/>
                  </a:solidFill>
                  <a:latin typeface="Arial"/>
                </a:endParaRPr>
              </a:p>
            </p:txBody>
          </p:sp>
          <p:sp>
            <p:nvSpPr>
              <p:cNvPr id="135" name=""/>
              <p:cNvSpPr/>
              <p:nvPr/>
            </p:nvSpPr>
            <p:spPr>
              <a:xfrm>
                <a:off x="1968480" y="5079960"/>
                <a:ext cx="1160640" cy="54000"/>
              </a:xfrm>
              <a:prstGeom prst="rect">
                <a:avLst/>
              </a:prstGeom>
              <a:solidFill>
                <a:srgbClr val="ffa080"/>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136" name=""/>
              <p:cNvSpPr/>
              <p:nvPr/>
            </p:nvSpPr>
            <p:spPr>
              <a:xfrm>
                <a:off x="1968480" y="4989600"/>
                <a:ext cx="1160640" cy="47520"/>
              </a:xfrm>
              <a:prstGeom prst="rect">
                <a:avLst/>
              </a:prstGeom>
              <a:solidFill>
                <a:srgbClr val="ff80a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137" name=""/>
              <p:cNvSpPr/>
              <p:nvPr/>
            </p:nvSpPr>
            <p:spPr>
              <a:xfrm>
                <a:off x="1968480" y="4957920"/>
                <a:ext cx="1160640" cy="52560"/>
              </a:xfrm>
              <a:prstGeom prst="rect">
                <a:avLst/>
              </a:prstGeom>
              <a:solidFill>
                <a:srgbClr val="ff6080"/>
              </a:solidFill>
              <a:ln w="0">
                <a:noFill/>
              </a:ln>
            </p:spPr>
            <p:txBody>
              <a:bodyPr lIns="90000" rIns="90000" tIns="7560" bIns="7560" anchor="t">
                <a:noAutofit/>
              </a:bodyPr>
              <a:p>
                <a:endParaRPr b="0" lang="en-US" sz="1800" spc="-1" strike="noStrike">
                  <a:solidFill>
                    <a:srgbClr val="000000"/>
                  </a:solidFill>
                  <a:latin typeface="Arial"/>
                </a:endParaRPr>
              </a:p>
            </p:txBody>
          </p:sp>
          <p:sp>
            <p:nvSpPr>
              <p:cNvPr id="138" name=""/>
              <p:cNvSpPr/>
              <p:nvPr/>
            </p:nvSpPr>
            <p:spPr>
              <a:xfrm>
                <a:off x="1968480" y="4844880"/>
                <a:ext cx="1160640" cy="103320"/>
              </a:xfrm>
              <a:prstGeom prst="rect">
                <a:avLst/>
              </a:prstGeom>
              <a:solidFill>
                <a:srgbClr val="808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 name=""/>
              <p:cNvSpPr/>
              <p:nvPr/>
            </p:nvSpPr>
            <p:spPr>
              <a:xfrm>
                <a:off x="1968480" y="4927680"/>
                <a:ext cx="1160640" cy="54000"/>
              </a:xfrm>
              <a:prstGeom prst="rect">
                <a:avLst/>
              </a:prstGeom>
              <a:solidFill>
                <a:srgbClr val="a0a0c0"/>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140" name=""/>
              <p:cNvSpPr/>
              <p:nvPr/>
            </p:nvSpPr>
            <p:spPr>
              <a:xfrm>
                <a:off x="1968480" y="4365720"/>
                <a:ext cx="1158840" cy="55404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 name=""/>
              <p:cNvSpPr/>
              <p:nvPr/>
            </p:nvSpPr>
            <p:spPr>
              <a:xfrm>
                <a:off x="1968480" y="5114880"/>
                <a:ext cx="1160640" cy="28440"/>
              </a:xfrm>
              <a:prstGeom prst="rect">
                <a:avLst/>
              </a:prstGeom>
              <a:solidFill>
                <a:srgbClr val="ffffa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142" name=""/>
              <p:cNvSpPr/>
              <p:nvPr/>
            </p:nvSpPr>
            <p:spPr>
              <a:xfrm>
                <a:off x="1968480" y="5154480"/>
                <a:ext cx="1160640" cy="244440"/>
              </a:xfrm>
              <a:prstGeom prst="rect">
                <a:avLst/>
              </a:pr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3" name=""/>
              <p:cNvSpPr/>
              <p:nvPr/>
            </p:nvSpPr>
            <p:spPr>
              <a:xfrm>
                <a:off x="1968480" y="5160960"/>
                <a:ext cx="1161000" cy="233640"/>
              </a:xfrm>
              <a:custGeom>
                <a:avLst/>
                <a:gdLst/>
                <a:ahLst/>
                <a:rect l="0" t="0" r="r" b="b"/>
                <a:pathLst>
                  <a:path w="3225" h="649">
                    <a:moveTo>
                      <a:pt x="0" y="0"/>
                    </a:moveTo>
                    <a:lnTo>
                      <a:pt x="0" y="479"/>
                    </a:lnTo>
                    <a:lnTo>
                      <a:pt x="209" y="479"/>
                    </a:lnTo>
                    <a:lnTo>
                      <a:pt x="209" y="216"/>
                    </a:lnTo>
                    <a:lnTo>
                      <a:pt x="222" y="216"/>
                    </a:lnTo>
                    <a:lnTo>
                      <a:pt x="222" y="275"/>
                    </a:lnTo>
                    <a:lnTo>
                      <a:pt x="239" y="275"/>
                    </a:lnTo>
                    <a:lnTo>
                      <a:pt x="239" y="300"/>
                    </a:lnTo>
                    <a:lnTo>
                      <a:pt x="264" y="300"/>
                    </a:lnTo>
                    <a:lnTo>
                      <a:pt x="264" y="228"/>
                    </a:lnTo>
                    <a:lnTo>
                      <a:pt x="277" y="228"/>
                    </a:lnTo>
                    <a:lnTo>
                      <a:pt x="277" y="331"/>
                    </a:lnTo>
                    <a:lnTo>
                      <a:pt x="344" y="331"/>
                    </a:lnTo>
                    <a:lnTo>
                      <a:pt x="344" y="283"/>
                    </a:lnTo>
                    <a:lnTo>
                      <a:pt x="356" y="283"/>
                    </a:lnTo>
                    <a:lnTo>
                      <a:pt x="356" y="649"/>
                    </a:lnTo>
                    <a:lnTo>
                      <a:pt x="390" y="649"/>
                    </a:lnTo>
                    <a:lnTo>
                      <a:pt x="663" y="649"/>
                    </a:lnTo>
                    <a:lnTo>
                      <a:pt x="663" y="475"/>
                    </a:lnTo>
                    <a:lnTo>
                      <a:pt x="671" y="475"/>
                    </a:lnTo>
                    <a:lnTo>
                      <a:pt x="671" y="539"/>
                    </a:lnTo>
                    <a:lnTo>
                      <a:pt x="726" y="522"/>
                    </a:lnTo>
                    <a:lnTo>
                      <a:pt x="726" y="424"/>
                    </a:lnTo>
                    <a:lnTo>
                      <a:pt x="738" y="539"/>
                    </a:lnTo>
                    <a:lnTo>
                      <a:pt x="742" y="539"/>
                    </a:lnTo>
                    <a:lnTo>
                      <a:pt x="742" y="568"/>
                    </a:lnTo>
                    <a:lnTo>
                      <a:pt x="747" y="568"/>
                    </a:lnTo>
                    <a:lnTo>
                      <a:pt x="747" y="602"/>
                    </a:lnTo>
                    <a:lnTo>
                      <a:pt x="751" y="602"/>
                    </a:lnTo>
                    <a:lnTo>
                      <a:pt x="751" y="623"/>
                    </a:lnTo>
                    <a:lnTo>
                      <a:pt x="755" y="623"/>
                    </a:lnTo>
                    <a:lnTo>
                      <a:pt x="755" y="640"/>
                    </a:lnTo>
                    <a:lnTo>
                      <a:pt x="763" y="640"/>
                    </a:lnTo>
                    <a:lnTo>
                      <a:pt x="763" y="623"/>
                    </a:lnTo>
                    <a:lnTo>
                      <a:pt x="772" y="623"/>
                    </a:lnTo>
                    <a:lnTo>
                      <a:pt x="772" y="602"/>
                    </a:lnTo>
                    <a:lnTo>
                      <a:pt x="772" y="602"/>
                    </a:lnTo>
                    <a:lnTo>
                      <a:pt x="772" y="568"/>
                    </a:lnTo>
                    <a:lnTo>
                      <a:pt x="776" y="568"/>
                    </a:lnTo>
                    <a:lnTo>
                      <a:pt x="776" y="539"/>
                    </a:lnTo>
                    <a:lnTo>
                      <a:pt x="780" y="539"/>
                    </a:lnTo>
                    <a:lnTo>
                      <a:pt x="797" y="420"/>
                    </a:lnTo>
                    <a:lnTo>
                      <a:pt x="797" y="454"/>
                    </a:lnTo>
                    <a:lnTo>
                      <a:pt x="911" y="454"/>
                    </a:lnTo>
                    <a:lnTo>
                      <a:pt x="911" y="428"/>
                    </a:lnTo>
                    <a:lnTo>
                      <a:pt x="932" y="428"/>
                    </a:lnTo>
                    <a:lnTo>
                      <a:pt x="932" y="339"/>
                    </a:lnTo>
                    <a:lnTo>
                      <a:pt x="945" y="339"/>
                    </a:lnTo>
                    <a:lnTo>
                      <a:pt x="945" y="386"/>
                    </a:lnTo>
                    <a:lnTo>
                      <a:pt x="983" y="386"/>
                    </a:lnTo>
                    <a:lnTo>
                      <a:pt x="1016" y="585"/>
                    </a:lnTo>
                    <a:lnTo>
                      <a:pt x="1025" y="649"/>
                    </a:lnTo>
                    <a:lnTo>
                      <a:pt x="1146" y="649"/>
                    </a:lnTo>
                    <a:lnTo>
                      <a:pt x="1146" y="585"/>
                    </a:lnTo>
                    <a:lnTo>
                      <a:pt x="1188" y="361"/>
                    </a:lnTo>
                    <a:lnTo>
                      <a:pt x="1188" y="551"/>
                    </a:lnTo>
                    <a:lnTo>
                      <a:pt x="1209" y="551"/>
                    </a:lnTo>
                    <a:lnTo>
                      <a:pt x="1218" y="560"/>
                    </a:lnTo>
                    <a:lnTo>
                      <a:pt x="1218" y="602"/>
                    </a:lnTo>
                    <a:lnTo>
                      <a:pt x="1243" y="606"/>
                    </a:lnTo>
                    <a:lnTo>
                      <a:pt x="1243" y="649"/>
                    </a:lnTo>
                    <a:lnTo>
                      <a:pt x="1251" y="649"/>
                    </a:lnTo>
                    <a:lnTo>
                      <a:pt x="1251" y="611"/>
                    </a:lnTo>
                    <a:lnTo>
                      <a:pt x="1268" y="615"/>
                    </a:lnTo>
                    <a:lnTo>
                      <a:pt x="1281" y="602"/>
                    </a:lnTo>
                    <a:lnTo>
                      <a:pt x="1293" y="602"/>
                    </a:lnTo>
                    <a:lnTo>
                      <a:pt x="1293" y="199"/>
                    </a:lnTo>
                    <a:lnTo>
                      <a:pt x="1306" y="199"/>
                    </a:lnTo>
                    <a:lnTo>
                      <a:pt x="1306" y="649"/>
                    </a:lnTo>
                    <a:lnTo>
                      <a:pt x="1524" y="649"/>
                    </a:lnTo>
                    <a:lnTo>
                      <a:pt x="1524" y="492"/>
                    </a:lnTo>
                    <a:lnTo>
                      <a:pt x="1545" y="492"/>
                    </a:lnTo>
                    <a:lnTo>
                      <a:pt x="1545" y="411"/>
                    </a:lnTo>
                    <a:lnTo>
                      <a:pt x="1600" y="411"/>
                    </a:lnTo>
                    <a:lnTo>
                      <a:pt x="1600" y="254"/>
                    </a:lnTo>
                    <a:lnTo>
                      <a:pt x="1608" y="254"/>
                    </a:lnTo>
                    <a:lnTo>
                      <a:pt x="1608" y="450"/>
                    </a:lnTo>
                    <a:lnTo>
                      <a:pt x="1805" y="450"/>
                    </a:lnTo>
                    <a:lnTo>
                      <a:pt x="1805" y="190"/>
                    </a:lnTo>
                    <a:lnTo>
                      <a:pt x="1818" y="203"/>
                    </a:lnTo>
                    <a:lnTo>
                      <a:pt x="1818" y="216"/>
                    </a:lnTo>
                    <a:lnTo>
                      <a:pt x="1831" y="216"/>
                    </a:lnTo>
                    <a:lnTo>
                      <a:pt x="1831" y="266"/>
                    </a:lnTo>
                    <a:lnTo>
                      <a:pt x="1843" y="266"/>
                    </a:lnTo>
                    <a:lnTo>
                      <a:pt x="1843" y="399"/>
                    </a:lnTo>
                    <a:lnTo>
                      <a:pt x="1851" y="399"/>
                    </a:lnTo>
                    <a:lnTo>
                      <a:pt x="1851" y="266"/>
                    </a:lnTo>
                    <a:lnTo>
                      <a:pt x="1868" y="266"/>
                    </a:lnTo>
                    <a:lnTo>
                      <a:pt x="1868" y="228"/>
                    </a:lnTo>
                    <a:lnTo>
                      <a:pt x="1885" y="216"/>
                    </a:lnTo>
                    <a:lnTo>
                      <a:pt x="1885" y="46"/>
                    </a:lnTo>
                    <a:lnTo>
                      <a:pt x="1893" y="46"/>
                    </a:lnTo>
                    <a:lnTo>
                      <a:pt x="1893" y="144"/>
                    </a:lnTo>
                    <a:lnTo>
                      <a:pt x="1952" y="144"/>
                    </a:lnTo>
                    <a:lnTo>
                      <a:pt x="1952" y="76"/>
                    </a:lnTo>
                    <a:lnTo>
                      <a:pt x="1961" y="76"/>
                    </a:lnTo>
                    <a:lnTo>
                      <a:pt x="1961" y="241"/>
                    </a:lnTo>
                    <a:lnTo>
                      <a:pt x="2091" y="241"/>
                    </a:lnTo>
                    <a:lnTo>
                      <a:pt x="2091" y="63"/>
                    </a:lnTo>
                    <a:lnTo>
                      <a:pt x="2095" y="59"/>
                    </a:lnTo>
                    <a:lnTo>
                      <a:pt x="2095" y="118"/>
                    </a:lnTo>
                    <a:lnTo>
                      <a:pt x="2145" y="118"/>
                    </a:lnTo>
                    <a:lnTo>
                      <a:pt x="2145" y="63"/>
                    </a:lnTo>
                    <a:lnTo>
                      <a:pt x="2154" y="63"/>
                    </a:lnTo>
                    <a:lnTo>
                      <a:pt x="2154" y="254"/>
                    </a:lnTo>
                    <a:lnTo>
                      <a:pt x="2196" y="254"/>
                    </a:lnTo>
                    <a:lnTo>
                      <a:pt x="2200" y="598"/>
                    </a:lnTo>
                    <a:lnTo>
                      <a:pt x="2246" y="632"/>
                    </a:lnTo>
                    <a:lnTo>
                      <a:pt x="2246" y="649"/>
                    </a:lnTo>
                    <a:lnTo>
                      <a:pt x="2343" y="649"/>
                    </a:lnTo>
                    <a:lnTo>
                      <a:pt x="2343" y="632"/>
                    </a:lnTo>
                    <a:lnTo>
                      <a:pt x="2393" y="598"/>
                    </a:lnTo>
                    <a:lnTo>
                      <a:pt x="2393" y="50"/>
                    </a:lnTo>
                    <a:lnTo>
                      <a:pt x="2401" y="50"/>
                    </a:lnTo>
                    <a:lnTo>
                      <a:pt x="2401" y="177"/>
                    </a:lnTo>
                    <a:lnTo>
                      <a:pt x="2457" y="177"/>
                    </a:lnTo>
                    <a:lnTo>
                      <a:pt x="2457" y="156"/>
                    </a:lnTo>
                    <a:lnTo>
                      <a:pt x="2490" y="156"/>
                    </a:lnTo>
                    <a:lnTo>
                      <a:pt x="2490" y="76"/>
                    </a:lnTo>
                    <a:lnTo>
                      <a:pt x="2499" y="76"/>
                    </a:lnTo>
                    <a:lnTo>
                      <a:pt x="2499" y="649"/>
                    </a:lnTo>
                    <a:lnTo>
                      <a:pt x="2637" y="649"/>
                    </a:lnTo>
                    <a:lnTo>
                      <a:pt x="2637" y="76"/>
                    </a:lnTo>
                    <a:lnTo>
                      <a:pt x="2688" y="649"/>
                    </a:lnTo>
                    <a:lnTo>
                      <a:pt x="2885" y="649"/>
                    </a:lnTo>
                    <a:lnTo>
                      <a:pt x="2919" y="194"/>
                    </a:lnTo>
                    <a:lnTo>
                      <a:pt x="2919" y="437"/>
                    </a:lnTo>
                    <a:lnTo>
                      <a:pt x="2948" y="458"/>
                    </a:lnTo>
                    <a:lnTo>
                      <a:pt x="2948" y="606"/>
                    </a:lnTo>
                    <a:lnTo>
                      <a:pt x="2961" y="606"/>
                    </a:lnTo>
                    <a:lnTo>
                      <a:pt x="2961" y="467"/>
                    </a:lnTo>
                    <a:lnTo>
                      <a:pt x="2998" y="450"/>
                    </a:lnTo>
                    <a:lnTo>
                      <a:pt x="2998" y="292"/>
                    </a:lnTo>
                    <a:lnTo>
                      <a:pt x="3028" y="275"/>
                    </a:lnTo>
                    <a:lnTo>
                      <a:pt x="3028" y="416"/>
                    </a:lnTo>
                    <a:lnTo>
                      <a:pt x="3049" y="416"/>
                    </a:lnTo>
                    <a:lnTo>
                      <a:pt x="3053" y="475"/>
                    </a:lnTo>
                    <a:lnTo>
                      <a:pt x="3099" y="475"/>
                    </a:lnTo>
                    <a:lnTo>
                      <a:pt x="3099" y="416"/>
                    </a:lnTo>
                    <a:lnTo>
                      <a:pt x="3128" y="416"/>
                    </a:lnTo>
                    <a:lnTo>
                      <a:pt x="3128" y="118"/>
                    </a:lnTo>
                    <a:lnTo>
                      <a:pt x="3225" y="118"/>
                    </a:lnTo>
                    <a:lnTo>
                      <a:pt x="3225" y="0"/>
                    </a:lnTo>
                    <a:lnTo>
                      <a:pt x="0" y="0"/>
                    </a:lnTo>
                    <a:close/>
                  </a:path>
                </a:pathLst>
              </a:custGeom>
              <a:solidFill>
                <a:srgbClr val="00008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4" name=""/>
              <p:cNvSpPr/>
              <p:nvPr/>
            </p:nvSpPr>
            <p:spPr>
              <a:xfrm>
                <a:off x="2898720" y="4826160"/>
                <a:ext cx="230040" cy="264960"/>
              </a:xfrm>
              <a:prstGeom prst="ellipse">
                <a:avLst/>
              </a:prstGeom>
              <a:solidFill>
                <a:srgbClr val="fcfeb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968480" y="4481640"/>
                <a:ext cx="1161000" cy="741600"/>
              </a:xfrm>
              <a:custGeom>
                <a:avLst/>
                <a:gdLst/>
                <a:ahLst/>
                <a:rect l="0" t="0" r="r" b="b"/>
                <a:pathLst>
                  <a:path w="3225" h="2060">
                    <a:moveTo>
                      <a:pt x="0" y="2060"/>
                    </a:moveTo>
                    <a:lnTo>
                      <a:pt x="0" y="1566"/>
                    </a:lnTo>
                    <a:lnTo>
                      <a:pt x="209" y="1566"/>
                    </a:lnTo>
                    <a:lnTo>
                      <a:pt x="209" y="1834"/>
                    </a:lnTo>
                    <a:lnTo>
                      <a:pt x="222" y="1834"/>
                    </a:lnTo>
                    <a:lnTo>
                      <a:pt x="222" y="1779"/>
                    </a:lnTo>
                    <a:lnTo>
                      <a:pt x="239" y="1779"/>
                    </a:lnTo>
                    <a:lnTo>
                      <a:pt x="239" y="1749"/>
                    </a:lnTo>
                    <a:lnTo>
                      <a:pt x="264" y="1749"/>
                    </a:lnTo>
                    <a:lnTo>
                      <a:pt x="264" y="1826"/>
                    </a:lnTo>
                    <a:lnTo>
                      <a:pt x="277" y="1826"/>
                    </a:lnTo>
                    <a:lnTo>
                      <a:pt x="277" y="1719"/>
                    </a:lnTo>
                    <a:lnTo>
                      <a:pt x="344" y="1719"/>
                    </a:lnTo>
                    <a:lnTo>
                      <a:pt x="344" y="1766"/>
                    </a:lnTo>
                    <a:lnTo>
                      <a:pt x="356" y="1766"/>
                    </a:lnTo>
                    <a:lnTo>
                      <a:pt x="356" y="1396"/>
                    </a:lnTo>
                    <a:lnTo>
                      <a:pt x="390" y="1396"/>
                    </a:lnTo>
                    <a:lnTo>
                      <a:pt x="390" y="1094"/>
                    </a:lnTo>
                    <a:lnTo>
                      <a:pt x="419" y="1094"/>
                    </a:lnTo>
                    <a:lnTo>
                      <a:pt x="419" y="672"/>
                    </a:lnTo>
                    <a:lnTo>
                      <a:pt x="449" y="629"/>
                    </a:lnTo>
                    <a:lnTo>
                      <a:pt x="507" y="629"/>
                    </a:lnTo>
                    <a:lnTo>
                      <a:pt x="507" y="242"/>
                    </a:lnTo>
                    <a:lnTo>
                      <a:pt x="575" y="204"/>
                    </a:lnTo>
                    <a:lnTo>
                      <a:pt x="591" y="216"/>
                    </a:lnTo>
                    <a:lnTo>
                      <a:pt x="591" y="0"/>
                    </a:lnTo>
                    <a:lnTo>
                      <a:pt x="600" y="0"/>
                    </a:lnTo>
                    <a:lnTo>
                      <a:pt x="600" y="234"/>
                    </a:lnTo>
                    <a:lnTo>
                      <a:pt x="621" y="251"/>
                    </a:lnTo>
                    <a:lnTo>
                      <a:pt x="621" y="1120"/>
                    </a:lnTo>
                    <a:lnTo>
                      <a:pt x="663" y="1120"/>
                    </a:lnTo>
                    <a:lnTo>
                      <a:pt x="663" y="1575"/>
                    </a:lnTo>
                    <a:lnTo>
                      <a:pt x="671" y="1575"/>
                    </a:lnTo>
                    <a:lnTo>
                      <a:pt x="671" y="1507"/>
                    </a:lnTo>
                    <a:lnTo>
                      <a:pt x="726" y="1524"/>
                    </a:lnTo>
                    <a:lnTo>
                      <a:pt x="726" y="1626"/>
                    </a:lnTo>
                    <a:lnTo>
                      <a:pt x="738" y="1507"/>
                    </a:lnTo>
                    <a:lnTo>
                      <a:pt x="742" y="1507"/>
                    </a:lnTo>
                    <a:lnTo>
                      <a:pt x="742" y="1477"/>
                    </a:lnTo>
                    <a:lnTo>
                      <a:pt x="747" y="1477"/>
                    </a:lnTo>
                    <a:lnTo>
                      <a:pt x="747" y="1443"/>
                    </a:lnTo>
                    <a:lnTo>
                      <a:pt x="751" y="1443"/>
                    </a:lnTo>
                    <a:lnTo>
                      <a:pt x="751" y="1422"/>
                    </a:lnTo>
                    <a:lnTo>
                      <a:pt x="755" y="1422"/>
                    </a:lnTo>
                    <a:lnTo>
                      <a:pt x="755" y="1400"/>
                    </a:lnTo>
                    <a:lnTo>
                      <a:pt x="763" y="1400"/>
                    </a:lnTo>
                    <a:lnTo>
                      <a:pt x="763" y="1422"/>
                    </a:lnTo>
                    <a:lnTo>
                      <a:pt x="772" y="1422"/>
                    </a:lnTo>
                    <a:lnTo>
                      <a:pt x="772" y="1443"/>
                    </a:lnTo>
                    <a:lnTo>
                      <a:pt x="772" y="1443"/>
                    </a:lnTo>
                    <a:lnTo>
                      <a:pt x="772" y="1477"/>
                    </a:lnTo>
                    <a:lnTo>
                      <a:pt x="776" y="1477"/>
                    </a:lnTo>
                    <a:lnTo>
                      <a:pt x="776" y="1507"/>
                    </a:lnTo>
                    <a:lnTo>
                      <a:pt x="780" y="1507"/>
                    </a:lnTo>
                    <a:lnTo>
                      <a:pt x="797" y="1630"/>
                    </a:lnTo>
                    <a:lnTo>
                      <a:pt x="797" y="1596"/>
                    </a:lnTo>
                    <a:lnTo>
                      <a:pt x="911" y="1596"/>
                    </a:lnTo>
                    <a:lnTo>
                      <a:pt x="911" y="1622"/>
                    </a:lnTo>
                    <a:lnTo>
                      <a:pt x="932" y="1622"/>
                    </a:lnTo>
                    <a:lnTo>
                      <a:pt x="932" y="1715"/>
                    </a:lnTo>
                    <a:lnTo>
                      <a:pt x="945" y="1715"/>
                    </a:lnTo>
                    <a:lnTo>
                      <a:pt x="945" y="1664"/>
                    </a:lnTo>
                    <a:lnTo>
                      <a:pt x="983" y="1664"/>
                    </a:lnTo>
                    <a:lnTo>
                      <a:pt x="1016" y="1460"/>
                    </a:lnTo>
                    <a:lnTo>
                      <a:pt x="1041" y="1128"/>
                    </a:lnTo>
                    <a:lnTo>
                      <a:pt x="1058" y="842"/>
                    </a:lnTo>
                    <a:lnTo>
                      <a:pt x="1075" y="842"/>
                    </a:lnTo>
                    <a:lnTo>
                      <a:pt x="1075" y="829"/>
                    </a:lnTo>
                    <a:lnTo>
                      <a:pt x="1096" y="829"/>
                    </a:lnTo>
                    <a:lnTo>
                      <a:pt x="1096" y="842"/>
                    </a:lnTo>
                    <a:lnTo>
                      <a:pt x="1109" y="842"/>
                    </a:lnTo>
                    <a:lnTo>
                      <a:pt x="1125" y="1128"/>
                    </a:lnTo>
                    <a:lnTo>
                      <a:pt x="1146" y="1460"/>
                    </a:lnTo>
                    <a:lnTo>
                      <a:pt x="1188" y="1690"/>
                    </a:lnTo>
                    <a:lnTo>
                      <a:pt x="1188" y="1494"/>
                    </a:lnTo>
                    <a:lnTo>
                      <a:pt x="1209" y="1494"/>
                    </a:lnTo>
                    <a:lnTo>
                      <a:pt x="1218" y="1485"/>
                    </a:lnTo>
                    <a:lnTo>
                      <a:pt x="1218" y="1447"/>
                    </a:lnTo>
                    <a:lnTo>
                      <a:pt x="1243" y="1434"/>
                    </a:lnTo>
                    <a:lnTo>
                      <a:pt x="1243" y="1158"/>
                    </a:lnTo>
                    <a:lnTo>
                      <a:pt x="1251" y="1158"/>
                    </a:lnTo>
                    <a:lnTo>
                      <a:pt x="1251" y="1434"/>
                    </a:lnTo>
                    <a:lnTo>
                      <a:pt x="1268" y="1426"/>
                    </a:lnTo>
                    <a:lnTo>
                      <a:pt x="1281" y="1447"/>
                    </a:lnTo>
                    <a:lnTo>
                      <a:pt x="1293" y="1447"/>
                    </a:lnTo>
                    <a:lnTo>
                      <a:pt x="1293" y="1856"/>
                    </a:lnTo>
                    <a:lnTo>
                      <a:pt x="1306" y="1856"/>
                    </a:lnTo>
                    <a:lnTo>
                      <a:pt x="1306" y="344"/>
                    </a:lnTo>
                    <a:lnTo>
                      <a:pt x="1335" y="344"/>
                    </a:lnTo>
                    <a:lnTo>
                      <a:pt x="1335" y="310"/>
                    </a:lnTo>
                    <a:lnTo>
                      <a:pt x="1495" y="310"/>
                    </a:lnTo>
                    <a:lnTo>
                      <a:pt x="1495" y="344"/>
                    </a:lnTo>
                    <a:lnTo>
                      <a:pt x="1524" y="344"/>
                    </a:lnTo>
                    <a:lnTo>
                      <a:pt x="1524" y="1554"/>
                    </a:lnTo>
                    <a:lnTo>
                      <a:pt x="1545" y="1554"/>
                    </a:lnTo>
                    <a:lnTo>
                      <a:pt x="1545" y="1639"/>
                    </a:lnTo>
                    <a:lnTo>
                      <a:pt x="1600" y="1639"/>
                    </a:lnTo>
                    <a:lnTo>
                      <a:pt x="1600" y="1796"/>
                    </a:lnTo>
                    <a:lnTo>
                      <a:pt x="1608" y="1796"/>
                    </a:lnTo>
                    <a:lnTo>
                      <a:pt x="1608" y="1596"/>
                    </a:lnTo>
                    <a:lnTo>
                      <a:pt x="1805" y="1596"/>
                    </a:lnTo>
                    <a:lnTo>
                      <a:pt x="1805" y="1860"/>
                    </a:lnTo>
                    <a:lnTo>
                      <a:pt x="1818" y="1851"/>
                    </a:lnTo>
                    <a:lnTo>
                      <a:pt x="1818" y="1834"/>
                    </a:lnTo>
                    <a:lnTo>
                      <a:pt x="1831" y="1834"/>
                    </a:lnTo>
                    <a:lnTo>
                      <a:pt x="1831" y="1783"/>
                    </a:lnTo>
                    <a:lnTo>
                      <a:pt x="1843" y="1783"/>
                    </a:lnTo>
                    <a:lnTo>
                      <a:pt x="1843" y="1651"/>
                    </a:lnTo>
                    <a:lnTo>
                      <a:pt x="1851" y="1651"/>
                    </a:lnTo>
                    <a:lnTo>
                      <a:pt x="1851" y="1783"/>
                    </a:lnTo>
                    <a:lnTo>
                      <a:pt x="1868" y="1783"/>
                    </a:lnTo>
                    <a:lnTo>
                      <a:pt x="1868" y="1826"/>
                    </a:lnTo>
                    <a:lnTo>
                      <a:pt x="1885" y="1834"/>
                    </a:lnTo>
                    <a:lnTo>
                      <a:pt x="1885" y="2013"/>
                    </a:lnTo>
                    <a:lnTo>
                      <a:pt x="1893" y="2013"/>
                    </a:lnTo>
                    <a:lnTo>
                      <a:pt x="1893" y="1911"/>
                    </a:lnTo>
                    <a:lnTo>
                      <a:pt x="1952" y="1911"/>
                    </a:lnTo>
                    <a:lnTo>
                      <a:pt x="1952" y="1983"/>
                    </a:lnTo>
                    <a:lnTo>
                      <a:pt x="1961" y="1983"/>
                    </a:lnTo>
                    <a:lnTo>
                      <a:pt x="1961" y="1809"/>
                    </a:lnTo>
                    <a:lnTo>
                      <a:pt x="2091" y="1809"/>
                    </a:lnTo>
                    <a:lnTo>
                      <a:pt x="2091" y="1996"/>
                    </a:lnTo>
                    <a:lnTo>
                      <a:pt x="2095" y="1996"/>
                    </a:lnTo>
                    <a:lnTo>
                      <a:pt x="2095" y="1936"/>
                    </a:lnTo>
                    <a:lnTo>
                      <a:pt x="2145" y="1936"/>
                    </a:lnTo>
                    <a:lnTo>
                      <a:pt x="2145" y="1996"/>
                    </a:lnTo>
                    <a:lnTo>
                      <a:pt x="2154" y="1996"/>
                    </a:lnTo>
                    <a:lnTo>
                      <a:pt x="2154" y="1796"/>
                    </a:lnTo>
                    <a:lnTo>
                      <a:pt x="2196" y="1796"/>
                    </a:lnTo>
                    <a:lnTo>
                      <a:pt x="2200" y="1447"/>
                    </a:lnTo>
                    <a:lnTo>
                      <a:pt x="2246" y="1409"/>
                    </a:lnTo>
                    <a:lnTo>
                      <a:pt x="2246" y="1358"/>
                    </a:lnTo>
                    <a:lnTo>
                      <a:pt x="2301" y="1358"/>
                    </a:lnTo>
                    <a:lnTo>
                      <a:pt x="2343" y="1383"/>
                    </a:lnTo>
                    <a:lnTo>
                      <a:pt x="2343" y="1409"/>
                    </a:lnTo>
                    <a:lnTo>
                      <a:pt x="2393" y="1447"/>
                    </a:lnTo>
                    <a:lnTo>
                      <a:pt x="2393" y="2009"/>
                    </a:lnTo>
                    <a:lnTo>
                      <a:pt x="2401" y="2009"/>
                    </a:lnTo>
                    <a:lnTo>
                      <a:pt x="2401" y="1873"/>
                    </a:lnTo>
                    <a:lnTo>
                      <a:pt x="2457" y="1873"/>
                    </a:lnTo>
                    <a:lnTo>
                      <a:pt x="2457" y="1898"/>
                    </a:lnTo>
                    <a:lnTo>
                      <a:pt x="2490" y="1898"/>
                    </a:lnTo>
                    <a:lnTo>
                      <a:pt x="2490" y="1975"/>
                    </a:lnTo>
                    <a:lnTo>
                      <a:pt x="2499" y="1975"/>
                    </a:lnTo>
                    <a:lnTo>
                      <a:pt x="2499" y="978"/>
                    </a:lnTo>
                    <a:lnTo>
                      <a:pt x="2570" y="897"/>
                    </a:lnTo>
                    <a:lnTo>
                      <a:pt x="2637" y="923"/>
                    </a:lnTo>
                    <a:lnTo>
                      <a:pt x="2637" y="1975"/>
                    </a:lnTo>
                    <a:lnTo>
                      <a:pt x="2705" y="608"/>
                    </a:lnTo>
                    <a:lnTo>
                      <a:pt x="2747" y="608"/>
                    </a:lnTo>
                    <a:lnTo>
                      <a:pt x="2747" y="565"/>
                    </a:lnTo>
                    <a:lnTo>
                      <a:pt x="2755" y="540"/>
                    </a:lnTo>
                    <a:lnTo>
                      <a:pt x="2755" y="259"/>
                    </a:lnTo>
                    <a:lnTo>
                      <a:pt x="2763" y="259"/>
                    </a:lnTo>
                    <a:lnTo>
                      <a:pt x="2763" y="540"/>
                    </a:lnTo>
                    <a:lnTo>
                      <a:pt x="2797" y="540"/>
                    </a:lnTo>
                    <a:lnTo>
                      <a:pt x="2797" y="191"/>
                    </a:lnTo>
                    <a:lnTo>
                      <a:pt x="2809" y="191"/>
                    </a:lnTo>
                    <a:lnTo>
                      <a:pt x="2809" y="540"/>
                    </a:lnTo>
                    <a:lnTo>
                      <a:pt x="2843" y="540"/>
                    </a:lnTo>
                    <a:lnTo>
                      <a:pt x="2843" y="582"/>
                    </a:lnTo>
                    <a:lnTo>
                      <a:pt x="2860" y="582"/>
                    </a:lnTo>
                    <a:lnTo>
                      <a:pt x="2919" y="1860"/>
                    </a:lnTo>
                    <a:lnTo>
                      <a:pt x="2919" y="1613"/>
                    </a:lnTo>
                    <a:lnTo>
                      <a:pt x="2948" y="1592"/>
                    </a:lnTo>
                    <a:lnTo>
                      <a:pt x="2948" y="1439"/>
                    </a:lnTo>
                    <a:lnTo>
                      <a:pt x="2961" y="1439"/>
                    </a:lnTo>
                    <a:lnTo>
                      <a:pt x="2961" y="1579"/>
                    </a:lnTo>
                    <a:lnTo>
                      <a:pt x="2998" y="1596"/>
                    </a:lnTo>
                    <a:lnTo>
                      <a:pt x="2998" y="1762"/>
                    </a:lnTo>
                    <a:lnTo>
                      <a:pt x="3028" y="1775"/>
                    </a:lnTo>
                    <a:lnTo>
                      <a:pt x="3028" y="1630"/>
                    </a:lnTo>
                    <a:lnTo>
                      <a:pt x="3049" y="1630"/>
                    </a:lnTo>
                    <a:lnTo>
                      <a:pt x="3053" y="1571"/>
                    </a:lnTo>
                    <a:lnTo>
                      <a:pt x="3099" y="1571"/>
                    </a:lnTo>
                    <a:lnTo>
                      <a:pt x="3099" y="1630"/>
                    </a:lnTo>
                    <a:lnTo>
                      <a:pt x="3128" y="1630"/>
                    </a:lnTo>
                    <a:lnTo>
                      <a:pt x="3128" y="1936"/>
                    </a:lnTo>
                    <a:lnTo>
                      <a:pt x="3225" y="1936"/>
                    </a:lnTo>
                    <a:lnTo>
                      <a:pt x="3225" y="2056"/>
                    </a:lnTo>
                    <a:lnTo>
                      <a:pt x="0" y="2060"/>
                    </a:lnTo>
                    <a:close/>
                  </a:path>
                </a:pathLst>
              </a:cu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146" name=""/>
          <p:cNvSpPr txBox="1"/>
          <p:nvPr/>
        </p:nvSpPr>
        <p:spPr>
          <a:xfrm>
            <a:off x="685800" y="533520"/>
            <a:ext cx="7467480" cy="1176120"/>
          </a:xfrm>
          <a:prstGeom prst="rect">
            <a:avLst/>
          </a:prstGeom>
          <a:noFill/>
          <a:ln w="0">
            <a:noFill/>
          </a:ln>
        </p:spPr>
        <p:txBody>
          <a:bodyPr lIns="0" rIns="0" tIns="0" bIns="0" anchor="t">
            <a:noAutofit/>
          </a:bodyPr>
          <a:p>
            <a:pPr>
              <a:lnSpc>
                <a:spcPct val="85000"/>
              </a:lnSpc>
            </a:pPr>
            <a:r>
              <a:rPr b="1" lang="en-US" sz="4000" spc="-1" strike="noStrike">
                <a:solidFill>
                  <a:srgbClr val="000000"/>
                </a:solidFill>
                <a:latin typeface="Univers"/>
                <a:ea typeface="Univers"/>
              </a:rPr>
              <a:t>Product Development Strategy</a:t>
            </a:r>
            <a:endParaRPr b="0" lang="en-US" sz="4000" spc="-1" strike="noStrike">
              <a:solidFill>
                <a:srgbClr val="000000"/>
              </a:solidFill>
              <a:latin typeface="Arial"/>
            </a:endParaRPr>
          </a:p>
        </p:txBody>
      </p:sp>
      <p:sp>
        <p:nvSpPr>
          <p:cNvPr id="147" name=""/>
          <p:cNvSpPr txBox="1"/>
          <p:nvPr/>
        </p:nvSpPr>
        <p:spPr>
          <a:xfrm>
            <a:off x="3352680" y="2286000"/>
            <a:ext cx="5789520" cy="407664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45000"/>
              <a:buFont typeface="Wingdings"/>
              <a:buChar char=""/>
            </a:pPr>
            <a:r>
              <a:rPr b="0" lang="en-US" sz="2800" spc="-1" strike="noStrike">
                <a:solidFill>
                  <a:srgbClr val="000000"/>
                </a:solidFill>
                <a:latin typeface="Univers"/>
                <a:ea typeface="Univers"/>
              </a:rPr>
              <a:t>Rdb’s Unique Capabilities</a:t>
            </a:r>
            <a:endParaRPr b="0" lang="en-US" sz="2800" spc="-1" strike="noStrike">
              <a:solidFill>
                <a:srgbClr val="000000"/>
              </a:solidFill>
              <a:latin typeface="Arial"/>
            </a:endParaRPr>
          </a:p>
          <a:p>
            <a:pPr lvl="1" marL="800280" indent="-343080">
              <a:lnSpc>
                <a:spcPct val="100000"/>
              </a:lnSpc>
              <a:spcBef>
                <a:spcPts val="479"/>
              </a:spcBef>
              <a:buClr>
                <a:srgbClr val="000000"/>
              </a:buClr>
              <a:buSzPct val="75000"/>
              <a:buFont typeface="Times New Roman"/>
              <a:buChar char=""/>
            </a:pPr>
            <a:r>
              <a:rPr b="0" lang="en-US" sz="2400" spc="-1" strike="noStrike">
                <a:solidFill>
                  <a:srgbClr val="000000"/>
                </a:solidFill>
                <a:latin typeface="Univers"/>
                <a:ea typeface="Univers"/>
              </a:rPr>
              <a:t>High-end OLTP systems</a:t>
            </a:r>
            <a:endParaRPr b="0" lang="en-US" sz="2400" spc="-1" strike="noStrike">
              <a:solidFill>
                <a:srgbClr val="000000"/>
              </a:solidFill>
              <a:latin typeface="Arial"/>
            </a:endParaRPr>
          </a:p>
          <a:p>
            <a:pPr lvl="1" marL="800280" indent="-343080">
              <a:lnSpc>
                <a:spcPct val="100000"/>
              </a:lnSpc>
              <a:spcBef>
                <a:spcPts val="479"/>
              </a:spcBef>
              <a:buClr>
                <a:srgbClr val="000000"/>
              </a:buClr>
              <a:buSzPct val="75000"/>
              <a:buFont typeface="Times New Roman"/>
              <a:buChar char=""/>
            </a:pPr>
            <a:r>
              <a:rPr b="0" lang="en-US" sz="2400" spc="-1" strike="noStrike">
                <a:solidFill>
                  <a:srgbClr val="000000"/>
                </a:solidFill>
                <a:latin typeface="Univers"/>
                <a:ea typeface="Univers"/>
              </a:rPr>
              <a:t>Robust on-line management </a:t>
            </a:r>
            <a:endParaRPr b="0" lang="en-US" sz="2400" spc="-1" strike="noStrike">
              <a:solidFill>
                <a:srgbClr val="000000"/>
              </a:solidFill>
              <a:latin typeface="Arial"/>
            </a:endParaRPr>
          </a:p>
          <a:p>
            <a:pPr lvl="1" marL="800280" indent="-343080">
              <a:lnSpc>
                <a:spcPct val="100000"/>
              </a:lnSpc>
              <a:spcBef>
                <a:spcPts val="479"/>
              </a:spcBef>
              <a:buClr>
                <a:srgbClr val="000000"/>
              </a:buClr>
              <a:buSzPct val="75000"/>
              <a:buFont typeface="Times New Roman"/>
              <a:buChar char=""/>
            </a:pPr>
            <a:r>
              <a:rPr b="0" lang="en-US" sz="2400" spc="-1" strike="noStrike">
                <a:solidFill>
                  <a:srgbClr val="000000"/>
                </a:solidFill>
                <a:latin typeface="Univers"/>
                <a:ea typeface="Univers"/>
              </a:rPr>
              <a:t>Extensive tuning capabilities</a:t>
            </a:r>
            <a:endParaRPr b="0" lang="en-US" sz="2400" spc="-1" strike="noStrike">
              <a:solidFill>
                <a:srgbClr val="000000"/>
              </a:solidFill>
              <a:latin typeface="Arial"/>
            </a:endParaRPr>
          </a:p>
          <a:p>
            <a:pPr lvl="1" marL="800280" indent="-343080">
              <a:lnSpc>
                <a:spcPct val="100000"/>
              </a:lnSpc>
              <a:spcBef>
                <a:spcPts val="479"/>
              </a:spcBef>
              <a:buClr>
                <a:srgbClr val="000000"/>
              </a:buClr>
              <a:buSzPct val="75000"/>
              <a:buFont typeface="Times New Roman"/>
              <a:buChar char=""/>
            </a:pPr>
            <a:r>
              <a:rPr b="0" lang="en-US" sz="2400" spc="-1" strike="noStrike">
                <a:solidFill>
                  <a:srgbClr val="000000"/>
                </a:solidFill>
                <a:latin typeface="Univers"/>
                <a:ea typeface="Univers"/>
              </a:rPr>
              <a:t>Unique scalabiltiy on OpenVMS</a:t>
            </a:r>
            <a:endParaRPr b="0" lang="en-US" sz="24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800" spc="-1" strike="noStrike">
                <a:solidFill>
                  <a:srgbClr val="000000"/>
                </a:solidFill>
                <a:latin typeface="Univers"/>
                <a:ea typeface="Univers"/>
              </a:rPr>
              <a:t>Integrated with Oracle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5800" y="533520"/>
            <a:ext cx="7467480" cy="588240"/>
          </a:xfrm>
          <a:prstGeom prst="rect">
            <a:avLst/>
          </a:prstGeom>
          <a:noFill/>
          <a:ln w="0">
            <a:noFill/>
          </a:ln>
        </p:spPr>
        <p:txBody>
          <a:bodyPr lIns="0" rIns="0" tIns="0" bIns="0" anchor="t">
            <a:noAutofit/>
          </a:bodyPr>
          <a:p>
            <a:pPr>
              <a:lnSpc>
                <a:spcPct val="85000"/>
              </a:lnSpc>
            </a:pPr>
            <a:r>
              <a:rPr b="1" lang="en-US" sz="4000" spc="-1" strike="noStrike">
                <a:solidFill>
                  <a:srgbClr val="ffffff"/>
                </a:solidFill>
                <a:latin typeface="Univers"/>
                <a:ea typeface="Univers"/>
              </a:rPr>
              <a:t>Rdb Marketing Focus</a:t>
            </a:r>
            <a:endParaRPr b="0" lang="en-US" sz="4000" spc="-1" strike="noStrike">
              <a:solidFill>
                <a:srgbClr val="000000"/>
              </a:solidFill>
              <a:latin typeface="Arial"/>
            </a:endParaRPr>
          </a:p>
        </p:txBody>
      </p:sp>
      <p:sp>
        <p:nvSpPr>
          <p:cNvPr id="149" name=""/>
          <p:cNvSpPr txBox="1"/>
          <p:nvPr/>
        </p:nvSpPr>
        <p:spPr>
          <a:xfrm>
            <a:off x="609480" y="1752480"/>
            <a:ext cx="7848720" cy="484668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45000"/>
              <a:buFont typeface="Wingdings"/>
              <a:buChar char=""/>
            </a:pPr>
            <a:r>
              <a:rPr b="0" lang="en-US" sz="2000" spc="-1" strike="noStrike">
                <a:solidFill>
                  <a:srgbClr val="ffffff"/>
                </a:solidFill>
                <a:latin typeface="Univers"/>
                <a:ea typeface="Univers"/>
              </a:rPr>
              <a:t>Focus on installed base, meeting our customers’ needs</a:t>
            </a:r>
            <a:endParaRPr b="0" lang="en-US" sz="20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000" spc="-1" strike="noStrike">
                <a:solidFill>
                  <a:srgbClr val="ffffff"/>
                </a:solidFill>
                <a:latin typeface="Univers"/>
                <a:ea typeface="Univers"/>
              </a:rPr>
              <a:t>Activities</a:t>
            </a:r>
            <a:endParaRPr b="0" lang="en-US" sz="20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1800" spc="-1" strike="noStrike">
                <a:solidFill>
                  <a:srgbClr val="ffffff"/>
                </a:solidFill>
                <a:latin typeface="Univers"/>
                <a:ea typeface="Univers"/>
              </a:rPr>
              <a:t>Rdb Web page, Rdb Web Journal, MetaLink, OTN</a:t>
            </a:r>
            <a:endParaRPr b="0" lang="en-US" sz="18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1800" spc="-1" strike="noStrike">
                <a:solidFill>
                  <a:srgbClr val="ffffff"/>
                </a:solidFill>
                <a:latin typeface="Univers"/>
                <a:ea typeface="Univers"/>
              </a:rPr>
              <a:t>Rdb Management personal customer visits</a:t>
            </a:r>
            <a:endParaRPr b="0" lang="en-US" sz="1800" spc="-1" strike="noStrike">
              <a:solidFill>
                <a:srgbClr val="000000"/>
              </a:solidFill>
              <a:latin typeface="Arial"/>
            </a:endParaRPr>
          </a:p>
          <a:p>
            <a:pPr lvl="2" marL="1143000" indent="-228600">
              <a:lnSpc>
                <a:spcPct val="100000"/>
              </a:lnSpc>
              <a:spcBef>
                <a:spcPts val="479"/>
              </a:spcBef>
              <a:buClr>
                <a:srgbClr val="ffffff"/>
              </a:buClr>
              <a:buSzPct val="45000"/>
              <a:buFont typeface="Wingdings"/>
              <a:buChar char=""/>
            </a:pPr>
            <a:r>
              <a:rPr b="0" lang="en-US" sz="1800" spc="-1" strike="noStrike">
                <a:solidFill>
                  <a:srgbClr val="ffffff"/>
                </a:solidFill>
                <a:latin typeface="Univers"/>
                <a:ea typeface="Univers"/>
              </a:rPr>
              <a:t>Well over 100 customer visits per year</a:t>
            </a:r>
            <a:endParaRPr b="0" lang="en-US" sz="1800" spc="-1" strike="noStrike">
              <a:solidFill>
                <a:srgbClr val="000000"/>
              </a:solidFill>
              <a:latin typeface="Arial"/>
            </a:endParaRPr>
          </a:p>
          <a:p>
            <a:pPr lvl="2" marL="1143000" indent="-228600">
              <a:lnSpc>
                <a:spcPct val="100000"/>
              </a:lnSpc>
              <a:spcBef>
                <a:spcPts val="479"/>
              </a:spcBef>
              <a:buClr>
                <a:srgbClr val="ffffff"/>
              </a:buClr>
              <a:buSzPct val="45000"/>
              <a:buFont typeface="Wingdings"/>
              <a:buChar char=""/>
            </a:pPr>
            <a:r>
              <a:rPr b="0" lang="en-US" sz="1800" spc="-1" strike="noStrike">
                <a:solidFill>
                  <a:srgbClr val="ffffff"/>
                </a:solidFill>
                <a:latin typeface="Univers"/>
                <a:ea typeface="Univers"/>
              </a:rPr>
              <a:t>Hundreds more via e-mail and telephone</a:t>
            </a:r>
            <a:endParaRPr b="0" lang="en-US" sz="18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1800" spc="-1" strike="noStrike">
                <a:solidFill>
                  <a:srgbClr val="ffffff"/>
                </a:solidFill>
                <a:latin typeface="Univers"/>
                <a:ea typeface="Univers"/>
              </a:rPr>
              <a:t>Rdb Technical Forums</a:t>
            </a:r>
            <a:endParaRPr b="0" lang="en-US" sz="1800" spc="-1" strike="noStrike">
              <a:solidFill>
                <a:srgbClr val="000000"/>
              </a:solidFill>
              <a:latin typeface="Arial"/>
            </a:endParaRPr>
          </a:p>
          <a:p>
            <a:pPr lvl="2" marL="1143000" indent="-228600">
              <a:lnSpc>
                <a:spcPct val="100000"/>
              </a:lnSpc>
              <a:spcBef>
                <a:spcPts val="479"/>
              </a:spcBef>
              <a:buClr>
                <a:srgbClr val="ffffff"/>
              </a:buClr>
              <a:buSzPct val="45000"/>
              <a:buFont typeface="Wingdings"/>
              <a:buChar char=""/>
            </a:pPr>
            <a:r>
              <a:rPr b="0" lang="en-US" sz="1800" spc="-1" strike="noStrike">
                <a:solidFill>
                  <a:srgbClr val="ffffff"/>
                </a:solidFill>
                <a:latin typeface="Univers"/>
                <a:ea typeface="Univers"/>
              </a:rPr>
              <a:t>6 in 2000</a:t>
            </a:r>
            <a:endParaRPr b="0" lang="en-US" sz="18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1800" spc="-1" strike="noStrike">
                <a:solidFill>
                  <a:srgbClr val="ffffff"/>
                </a:solidFill>
                <a:latin typeface="Univers"/>
                <a:ea typeface="Univers"/>
              </a:rPr>
              <a:t>Rdb Customer Advisory Council — 3-6 per year</a:t>
            </a:r>
            <a:endParaRPr b="0" lang="en-US" sz="18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1800" spc="-1" strike="noStrike">
                <a:solidFill>
                  <a:srgbClr val="ffffff"/>
                </a:solidFill>
                <a:latin typeface="Univers"/>
                <a:ea typeface="Univers"/>
              </a:rPr>
              <a:t>Events</a:t>
            </a:r>
            <a:endParaRPr b="0" lang="en-US" sz="1800" spc="-1" strike="noStrike">
              <a:solidFill>
                <a:srgbClr val="000000"/>
              </a:solidFill>
              <a:latin typeface="Arial"/>
            </a:endParaRPr>
          </a:p>
          <a:p>
            <a:pPr lvl="2" marL="1143000" indent="-228600">
              <a:lnSpc>
                <a:spcPct val="100000"/>
              </a:lnSpc>
              <a:spcBef>
                <a:spcPts val="479"/>
              </a:spcBef>
              <a:buClr>
                <a:srgbClr val="ffffff"/>
              </a:buClr>
              <a:buSzPct val="45000"/>
              <a:buFont typeface="Wingdings"/>
              <a:buChar char=""/>
            </a:pPr>
            <a:r>
              <a:rPr b="0" lang="en-US" sz="1800" spc="-1" strike="noStrike">
                <a:solidFill>
                  <a:srgbClr val="ffffff"/>
                </a:solidFill>
                <a:latin typeface="Univers"/>
                <a:ea typeface="Univers"/>
              </a:rPr>
              <a:t>CETS</a:t>
            </a:r>
            <a:endParaRPr b="0" lang="en-US" sz="1800" spc="-1" strike="noStrike">
              <a:solidFill>
                <a:srgbClr val="000000"/>
              </a:solidFill>
              <a:latin typeface="Arial"/>
            </a:endParaRPr>
          </a:p>
          <a:p>
            <a:pPr lvl="2" marL="1143000" indent="-228600">
              <a:lnSpc>
                <a:spcPct val="100000"/>
              </a:lnSpc>
              <a:spcBef>
                <a:spcPts val="479"/>
              </a:spcBef>
              <a:buClr>
                <a:srgbClr val="ffffff"/>
              </a:buClr>
              <a:buSzPct val="45000"/>
              <a:buFont typeface="Wingdings"/>
              <a:buChar char=""/>
            </a:pPr>
            <a:r>
              <a:rPr b="0" lang="en-US" sz="1800" spc="-1" strike="noStrike">
                <a:solidFill>
                  <a:srgbClr val="ffffff"/>
                </a:solidFill>
                <a:latin typeface="Univers"/>
                <a:ea typeface="Univers"/>
              </a:rPr>
              <a:t>Oracle Users’ Group</a:t>
            </a:r>
            <a:endParaRPr b="0" lang="en-US" sz="1800" spc="-1" strike="noStrike">
              <a:solidFill>
                <a:srgbClr val="000000"/>
              </a:solidFill>
              <a:latin typeface="Arial"/>
            </a:endParaRPr>
          </a:p>
          <a:p>
            <a:pPr lvl="2" marL="1143000" indent="-228600">
              <a:lnSpc>
                <a:spcPct val="100000"/>
              </a:lnSpc>
              <a:spcBef>
                <a:spcPts val="479"/>
              </a:spcBef>
              <a:buClr>
                <a:srgbClr val="ffffff"/>
              </a:buClr>
              <a:buSzPct val="45000"/>
              <a:buFont typeface="Wingdings"/>
              <a:buChar char=""/>
            </a:pPr>
            <a:r>
              <a:rPr b="0" lang="en-US" sz="1800" spc="-1" strike="noStrike">
                <a:solidFill>
                  <a:srgbClr val="ffffff"/>
                </a:solidFill>
                <a:latin typeface="Univers"/>
                <a:ea typeface="Univers"/>
              </a:rPr>
              <a:t>Oracle Open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85800" y="533520"/>
            <a:ext cx="7467480" cy="588240"/>
          </a:xfrm>
          <a:prstGeom prst="rect">
            <a:avLst/>
          </a:prstGeom>
          <a:noFill/>
          <a:ln w="0">
            <a:noFill/>
          </a:ln>
        </p:spPr>
        <p:txBody>
          <a:bodyPr lIns="0" rIns="0" tIns="0" bIns="0" anchor="t">
            <a:noAutofit/>
          </a:bodyPr>
          <a:p>
            <a:pPr>
              <a:lnSpc>
                <a:spcPct val="85000"/>
              </a:lnSpc>
            </a:pPr>
            <a:r>
              <a:rPr b="1" lang="en-US" sz="4000" spc="-1" strike="noStrike">
                <a:solidFill>
                  <a:srgbClr val="ffffff"/>
                </a:solidFill>
                <a:latin typeface="Univers"/>
                <a:ea typeface="Univers"/>
              </a:rPr>
              <a:t>Rdb7 Features Review</a:t>
            </a:r>
            <a:endParaRPr b="0" lang="en-US" sz="4000" spc="-1" strike="noStrike">
              <a:solidFill>
                <a:srgbClr val="000000"/>
              </a:solidFill>
              <a:latin typeface="Arial"/>
            </a:endParaRPr>
          </a:p>
        </p:txBody>
      </p:sp>
      <p:sp>
        <p:nvSpPr>
          <p:cNvPr id="151" name=""/>
          <p:cNvSpPr txBox="1"/>
          <p:nvPr/>
        </p:nvSpPr>
        <p:spPr>
          <a:xfrm>
            <a:off x="609480" y="1752480"/>
            <a:ext cx="7848720" cy="429948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45000"/>
              <a:buFont typeface="Wingdings"/>
              <a:buChar char=""/>
            </a:pPr>
            <a:r>
              <a:rPr b="0" lang="en-US" sz="2800" spc="-1" strike="noStrike">
                <a:solidFill>
                  <a:srgbClr val="ffffff"/>
                </a:solidFill>
                <a:latin typeface="Univers"/>
                <a:ea typeface="Univers"/>
              </a:rPr>
              <a:t>Major features for</a:t>
            </a:r>
            <a:endParaRPr b="0" lang="en-US" sz="28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400" spc="-1" strike="noStrike">
                <a:solidFill>
                  <a:srgbClr val="ffffff"/>
                </a:solidFill>
                <a:latin typeface="Univers"/>
                <a:ea typeface="Univers"/>
              </a:rPr>
              <a:t>Integration into Oracle product family</a:t>
            </a:r>
            <a:endParaRPr b="0" lang="en-US" sz="24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400" spc="-1" strike="noStrike">
                <a:solidFill>
                  <a:srgbClr val="ffffff"/>
                </a:solidFill>
                <a:latin typeface="Univers"/>
                <a:ea typeface="Univers"/>
              </a:rPr>
              <a:t>64-bit very large memory support</a:t>
            </a:r>
            <a:endParaRPr b="0" lang="en-US" sz="24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400" spc="-1" strike="noStrike">
                <a:solidFill>
                  <a:srgbClr val="ffffff"/>
                </a:solidFill>
                <a:latin typeface="Univers"/>
                <a:ea typeface="Univers"/>
              </a:rPr>
              <a:t>Enhanced memory cache</a:t>
            </a:r>
            <a:endParaRPr b="0" lang="en-US" sz="24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400" spc="-1" strike="noStrike">
                <a:solidFill>
                  <a:srgbClr val="ffffff"/>
                </a:solidFill>
                <a:latin typeface="Univers"/>
                <a:ea typeface="Univers"/>
              </a:rPr>
              <a:t>Disaster tolerance</a:t>
            </a:r>
            <a:endParaRPr b="0" lang="en-US" sz="24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400" spc="-1" strike="noStrike">
                <a:solidFill>
                  <a:srgbClr val="ffffff"/>
                </a:solidFill>
                <a:latin typeface="Univers"/>
                <a:ea typeface="Univers"/>
              </a:rPr>
              <a:t>Enhanced Partitioning</a:t>
            </a:r>
            <a:endParaRPr b="0" lang="en-US" sz="24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400" spc="-1" strike="noStrike">
                <a:solidFill>
                  <a:srgbClr val="ffffff"/>
                </a:solidFill>
                <a:latin typeface="Univers"/>
                <a:ea typeface="Univers"/>
              </a:rPr>
              <a:t>Client/Server performance</a:t>
            </a:r>
            <a:endParaRPr b="0" lang="en-US" sz="24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400" spc="-1" strike="noStrike">
                <a:solidFill>
                  <a:srgbClr val="ffffff"/>
                </a:solidFill>
                <a:latin typeface="Univers"/>
                <a:ea typeface="Univers"/>
              </a:rPr>
              <a:t>Parallel backup &amp; load</a:t>
            </a:r>
            <a:endParaRPr b="0" lang="en-US" sz="24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400" spc="-1" strike="noStrike">
                <a:solidFill>
                  <a:srgbClr val="ffffff"/>
                </a:solidFill>
                <a:latin typeface="Univers"/>
                <a:ea typeface="Univers"/>
              </a:rPr>
              <a:t>And much more</a:t>
            </a:r>
            <a:endParaRPr b="0" lang="en-US" sz="2400" spc="-1" strike="noStrike">
              <a:solidFill>
                <a:srgbClr val="000000"/>
              </a:solidFill>
              <a:latin typeface="Arial"/>
            </a:endParaRPr>
          </a:p>
        </p:txBody>
      </p:sp>
      <p:pic>
        <p:nvPicPr>
          <p:cNvPr id="152" name="" descr=""/>
          <p:cNvPicPr/>
          <p:nvPr/>
        </p:nvPicPr>
        <p:blipFill>
          <a:blip r:embed="rId1"/>
          <a:stretch/>
        </p:blipFill>
        <p:spPr>
          <a:xfrm>
            <a:off x="5506920" y="3759120"/>
            <a:ext cx="3290760" cy="221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685800" y="533520"/>
            <a:ext cx="7467480" cy="1176120"/>
          </a:xfrm>
          <a:prstGeom prst="rect">
            <a:avLst/>
          </a:prstGeom>
          <a:noFill/>
          <a:ln w="0">
            <a:noFill/>
          </a:ln>
        </p:spPr>
        <p:txBody>
          <a:bodyPr lIns="0" rIns="0" tIns="0" bIns="0" anchor="t">
            <a:noAutofit/>
          </a:bodyPr>
          <a:p>
            <a:pPr>
              <a:lnSpc>
                <a:spcPct val="85000"/>
              </a:lnSpc>
            </a:pPr>
            <a:r>
              <a:rPr b="1" lang="en-US" sz="4000" spc="-1" strike="noStrike">
                <a:solidFill>
                  <a:srgbClr val="ffffff"/>
                </a:solidFill>
                <a:latin typeface="Univers"/>
                <a:ea typeface="Univers"/>
              </a:rPr>
              <a:t>SQL*Net for Rdb —</a:t>
            </a:r>
            <a:br>
              <a:rPr sz="4000"/>
            </a:br>
            <a:r>
              <a:rPr b="1" lang="en-US" sz="4000" spc="-1" strike="noStrike">
                <a:solidFill>
                  <a:srgbClr val="ffffff"/>
                </a:solidFill>
                <a:latin typeface="Univers"/>
                <a:ea typeface="Univers"/>
              </a:rPr>
              <a:t>	</a:t>
            </a:r>
            <a:r>
              <a:rPr b="1" lang="en-US" sz="4000" spc="-1" strike="noStrike">
                <a:solidFill>
                  <a:srgbClr val="ffffff"/>
                </a:solidFill>
                <a:latin typeface="Univers"/>
                <a:ea typeface="Univers"/>
              </a:rPr>
              <a:t>	</a:t>
            </a:r>
            <a:r>
              <a:rPr b="1" lang="en-US" sz="4000" spc="-1" strike="noStrike">
                <a:solidFill>
                  <a:srgbClr val="ffffff"/>
                </a:solidFill>
                <a:latin typeface="Univers"/>
                <a:ea typeface="Univers"/>
              </a:rPr>
              <a:t>	</a:t>
            </a:r>
            <a:r>
              <a:rPr b="1" lang="en-US" sz="4000" spc="-1" strike="noStrike">
                <a:solidFill>
                  <a:srgbClr val="ffffff"/>
                </a:solidFill>
                <a:latin typeface="Univers"/>
                <a:ea typeface="Univers"/>
              </a:rPr>
              <a:t>The Key Enabler</a:t>
            </a:r>
            <a:endParaRPr b="0" lang="en-US" sz="4000" spc="-1" strike="noStrike">
              <a:solidFill>
                <a:srgbClr val="000000"/>
              </a:solidFill>
              <a:latin typeface="Arial"/>
            </a:endParaRPr>
          </a:p>
        </p:txBody>
      </p:sp>
      <p:sp>
        <p:nvSpPr>
          <p:cNvPr id="154" name=""/>
          <p:cNvSpPr txBox="1"/>
          <p:nvPr/>
        </p:nvSpPr>
        <p:spPr>
          <a:xfrm>
            <a:off x="609480" y="1752480"/>
            <a:ext cx="7848720" cy="407664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45000"/>
              <a:buFont typeface="Wingdings"/>
              <a:buChar char=""/>
            </a:pPr>
            <a:r>
              <a:rPr b="0" lang="en-US" sz="2800" spc="-1" strike="noStrike">
                <a:solidFill>
                  <a:srgbClr val="ffffff"/>
                </a:solidFill>
                <a:latin typeface="Univers"/>
                <a:ea typeface="Univers"/>
              </a:rPr>
              <a:t>Native support for Oracle tools</a:t>
            </a:r>
            <a:endParaRPr b="0" lang="en-US" sz="2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800" spc="-1" strike="noStrike">
                <a:solidFill>
                  <a:srgbClr val="ffffff"/>
                </a:solidFill>
                <a:latin typeface="Univers"/>
                <a:ea typeface="Univers"/>
              </a:rPr>
              <a:t>Most third party tools support OCI</a:t>
            </a:r>
            <a:endParaRPr b="0" lang="en-US" sz="28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800" spc="-1" strike="noStrike">
                <a:solidFill>
                  <a:srgbClr val="ffffff"/>
                </a:solidFill>
                <a:latin typeface="Univers"/>
                <a:ea typeface="Univers"/>
              </a:rPr>
              <a:t>Database Links for data sharing with Oracle databases</a:t>
            </a:r>
            <a:endParaRPr b="0" lang="en-US" sz="2800" spc="-1" strike="noStrike">
              <a:solidFill>
                <a:srgbClr val="000000"/>
              </a:solidFill>
              <a:latin typeface="Arial"/>
            </a:endParaRPr>
          </a:p>
        </p:txBody>
      </p:sp>
      <p:sp>
        <p:nvSpPr>
          <p:cNvPr id="155" name=""/>
          <p:cNvSpPr/>
          <p:nvPr/>
        </p:nvSpPr>
        <p:spPr>
          <a:xfrm>
            <a:off x="6697800" y="4761000"/>
            <a:ext cx="1969920" cy="1254240"/>
          </a:xfrm>
          <a:prstGeom prst="rect">
            <a:avLst/>
          </a:prstGeom>
          <a:solidFill>
            <a:srgbClr val="99cc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493040" y="3316320"/>
            <a:ext cx="1182600" cy="433440"/>
          </a:xfrm>
          <a:prstGeom prst="rect">
            <a:avLst/>
          </a:prstGeom>
          <a:solidFill>
            <a:srgbClr val="99cc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3687840" y="3316320"/>
            <a:ext cx="1182600" cy="433440"/>
          </a:xfrm>
          <a:prstGeom prst="rect">
            <a:avLst/>
          </a:prstGeom>
          <a:solidFill>
            <a:srgbClr val="99cc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3687840" y="3938760"/>
            <a:ext cx="4979880" cy="196920"/>
          </a:xfrm>
          <a:prstGeom prst="rect">
            <a:avLst/>
          </a:prstGeom>
          <a:solidFill>
            <a:srgbClr val="99cc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5729400" y="3959280"/>
            <a:ext cx="895320" cy="24624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Oracle iAS</a:t>
            </a:r>
            <a:endParaRPr b="0" lang="en-US" sz="1200" spc="-1" strike="noStrike">
              <a:solidFill>
                <a:srgbClr val="000000"/>
              </a:solidFill>
              <a:latin typeface="Arial"/>
            </a:endParaRPr>
          </a:p>
        </p:txBody>
      </p:sp>
      <p:grpSp>
        <p:nvGrpSpPr>
          <p:cNvPr id="160" name=""/>
          <p:cNvGrpSpPr/>
          <p:nvPr/>
        </p:nvGrpSpPr>
        <p:grpSpPr>
          <a:xfrm>
            <a:off x="3695760" y="4376880"/>
            <a:ext cx="4979880" cy="274680"/>
            <a:chOff x="3695760" y="4376880"/>
            <a:chExt cx="4979880" cy="274680"/>
          </a:xfrm>
        </p:grpSpPr>
        <p:sp>
          <p:nvSpPr>
            <p:cNvPr id="161" name=""/>
            <p:cNvSpPr/>
            <p:nvPr/>
          </p:nvSpPr>
          <p:spPr>
            <a:xfrm>
              <a:off x="3695760" y="4376880"/>
              <a:ext cx="4979880" cy="219240"/>
            </a:xfrm>
            <a:prstGeom prst="rect">
              <a:avLst/>
            </a:prstGeom>
            <a:solidFill>
              <a:srgbClr val="99cc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5432400" y="4405320"/>
              <a:ext cx="1379520" cy="24624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SQL*Net For Rdb</a:t>
              </a:r>
              <a:endParaRPr b="0" lang="en-US" sz="1200" spc="-1" strike="noStrike">
                <a:solidFill>
                  <a:srgbClr val="000000"/>
                </a:solidFill>
                <a:latin typeface="Arial"/>
              </a:endParaRPr>
            </a:p>
          </p:txBody>
        </p:sp>
      </p:grpSp>
      <p:sp>
        <p:nvSpPr>
          <p:cNvPr id="163" name=""/>
          <p:cNvSpPr/>
          <p:nvPr/>
        </p:nvSpPr>
        <p:spPr>
          <a:xfrm>
            <a:off x="4923000" y="3316320"/>
            <a:ext cx="1181160" cy="433440"/>
          </a:xfrm>
          <a:prstGeom prst="rect">
            <a:avLst/>
          </a:prstGeom>
          <a:solidFill>
            <a:srgbClr val="99cc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6153120" y="3316320"/>
            <a:ext cx="1236600" cy="433440"/>
          </a:xfrm>
          <a:prstGeom prst="rect">
            <a:avLst/>
          </a:prstGeom>
          <a:solidFill>
            <a:srgbClr val="99cc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5025960" y="3433680"/>
            <a:ext cx="1255680" cy="24624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Developer</a:t>
            </a:r>
            <a:endParaRPr b="0" lang="en-US" sz="1200" spc="-1" strike="noStrike">
              <a:solidFill>
                <a:srgbClr val="000000"/>
              </a:solidFill>
              <a:latin typeface="Arial"/>
            </a:endParaRPr>
          </a:p>
        </p:txBody>
      </p:sp>
      <p:sp>
        <p:nvSpPr>
          <p:cNvPr id="166" name=""/>
          <p:cNvSpPr txBox="1"/>
          <p:nvPr/>
        </p:nvSpPr>
        <p:spPr>
          <a:xfrm>
            <a:off x="6186600" y="3441600"/>
            <a:ext cx="1165320" cy="24624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Discoverer 3.1</a:t>
            </a:r>
            <a:endParaRPr b="0" lang="en-US" sz="1200" spc="-1" strike="noStrike">
              <a:solidFill>
                <a:srgbClr val="000000"/>
              </a:solidFill>
              <a:latin typeface="Arial"/>
            </a:endParaRPr>
          </a:p>
        </p:txBody>
      </p:sp>
      <p:sp>
        <p:nvSpPr>
          <p:cNvPr id="167" name=""/>
          <p:cNvSpPr txBox="1"/>
          <p:nvPr/>
        </p:nvSpPr>
        <p:spPr>
          <a:xfrm>
            <a:off x="3870360" y="3432240"/>
            <a:ext cx="973080" cy="24624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Designer</a:t>
            </a:r>
            <a:endParaRPr b="0" lang="en-US" sz="1200" spc="-1" strike="noStrike">
              <a:solidFill>
                <a:srgbClr val="000000"/>
              </a:solidFill>
              <a:latin typeface="Arial"/>
            </a:endParaRPr>
          </a:p>
        </p:txBody>
      </p:sp>
      <p:sp>
        <p:nvSpPr>
          <p:cNvPr id="168" name=""/>
          <p:cNvSpPr txBox="1"/>
          <p:nvPr/>
        </p:nvSpPr>
        <p:spPr>
          <a:xfrm>
            <a:off x="7621560" y="3433680"/>
            <a:ext cx="903240" cy="24624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jDeveloper</a:t>
            </a:r>
            <a:endParaRPr b="0" lang="en-US" sz="1200" spc="-1" strike="noStrike">
              <a:solidFill>
                <a:srgbClr val="000000"/>
              </a:solidFill>
              <a:latin typeface="Arial"/>
            </a:endParaRPr>
          </a:p>
        </p:txBody>
      </p:sp>
      <p:grpSp>
        <p:nvGrpSpPr>
          <p:cNvPr id="169" name=""/>
          <p:cNvGrpSpPr/>
          <p:nvPr/>
        </p:nvGrpSpPr>
        <p:grpSpPr>
          <a:xfrm>
            <a:off x="3687840" y="4875120"/>
            <a:ext cx="1951200" cy="314640"/>
            <a:chOff x="3687840" y="4875120"/>
            <a:chExt cx="1951200" cy="314640"/>
          </a:xfrm>
        </p:grpSpPr>
        <p:sp>
          <p:nvSpPr>
            <p:cNvPr id="170" name=""/>
            <p:cNvSpPr/>
            <p:nvPr/>
          </p:nvSpPr>
          <p:spPr>
            <a:xfrm>
              <a:off x="3687840" y="4875120"/>
              <a:ext cx="1951200" cy="287280"/>
            </a:xfrm>
            <a:prstGeom prst="rect">
              <a:avLst/>
            </a:prstGeom>
            <a:solidFill>
              <a:srgbClr val="99cc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txBox="1"/>
            <p:nvPr/>
          </p:nvSpPr>
          <p:spPr>
            <a:xfrm>
              <a:off x="3768840" y="4943520"/>
              <a:ext cx="1641600" cy="246240"/>
            </a:xfrm>
            <a:prstGeom prst="rect">
              <a:avLst/>
            </a:prstGeom>
            <a:solidFill>
              <a:srgbClr val="99ccff"/>
            </a:solidFill>
            <a:ln w="0">
              <a:noFill/>
            </a:ln>
          </p:spPr>
          <p:txBody>
            <a:bodyPr lIns="0" rIns="0" tIns="0" bIns="0" anchor="t">
              <a:noAutofit/>
            </a:bodyPr>
            <a:p>
              <a:pPr>
                <a:lnSpc>
                  <a:spcPct val="100000"/>
                </a:lnSpc>
              </a:pPr>
              <a:r>
                <a:rPr b="1" i="1" lang="en-US" sz="1200" spc="-1" strike="noStrike">
                  <a:solidFill>
                    <a:srgbClr val="000000"/>
                  </a:solidFill>
                  <a:latin typeface="Arial"/>
                  <a:ea typeface="Arial"/>
                </a:rPr>
                <a:t>DBAPack For Rdb</a:t>
              </a:r>
              <a:endParaRPr b="0" lang="en-US" sz="1200" spc="-1" strike="noStrike">
                <a:solidFill>
                  <a:srgbClr val="000000"/>
                </a:solidFill>
                <a:latin typeface="Arial"/>
              </a:endParaRPr>
            </a:p>
          </p:txBody>
        </p:sp>
      </p:grpSp>
      <p:sp>
        <p:nvSpPr>
          <p:cNvPr id="172" name=""/>
          <p:cNvSpPr/>
          <p:nvPr/>
        </p:nvSpPr>
        <p:spPr>
          <a:xfrm>
            <a:off x="6411960" y="5003640"/>
            <a:ext cx="1969920" cy="1011240"/>
          </a:xfrm>
          <a:prstGeom prst="rect">
            <a:avLst/>
          </a:prstGeom>
          <a:solidFill>
            <a:srgbClr val="99cc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6207120" y="5245200"/>
            <a:ext cx="1832040" cy="770040"/>
          </a:xfrm>
          <a:prstGeom prst="rect">
            <a:avLst/>
          </a:prstGeom>
          <a:solidFill>
            <a:srgbClr val="99cc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037200" y="5494320"/>
            <a:ext cx="1746360" cy="520560"/>
          </a:xfrm>
          <a:prstGeom prst="rect">
            <a:avLst/>
          </a:prstGeom>
          <a:solidFill>
            <a:srgbClr val="6699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6095880" y="5611680"/>
            <a:ext cx="1771560" cy="24624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Rdb 6.0</a:t>
            </a:r>
            <a:endParaRPr b="0" lang="en-US" sz="1200" spc="-1" strike="noStrike">
              <a:solidFill>
                <a:srgbClr val="000000"/>
              </a:solidFill>
              <a:latin typeface="Arial"/>
            </a:endParaRPr>
          </a:p>
        </p:txBody>
      </p:sp>
      <p:sp>
        <p:nvSpPr>
          <p:cNvPr id="176" name=""/>
          <p:cNvSpPr txBox="1"/>
          <p:nvPr/>
        </p:nvSpPr>
        <p:spPr>
          <a:xfrm>
            <a:off x="6488280" y="5264280"/>
            <a:ext cx="631800" cy="24624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Rdb6.1</a:t>
            </a:r>
            <a:endParaRPr b="0" lang="en-US" sz="1200" spc="-1" strike="noStrike">
              <a:solidFill>
                <a:srgbClr val="000000"/>
              </a:solidFill>
              <a:latin typeface="Arial"/>
            </a:endParaRPr>
          </a:p>
        </p:txBody>
      </p:sp>
      <p:sp>
        <p:nvSpPr>
          <p:cNvPr id="177" name=""/>
          <p:cNvSpPr txBox="1"/>
          <p:nvPr/>
        </p:nvSpPr>
        <p:spPr>
          <a:xfrm>
            <a:off x="6978600" y="5014800"/>
            <a:ext cx="504720" cy="24624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Rdb7</a:t>
            </a:r>
            <a:endParaRPr b="0" lang="en-US" sz="1200" spc="-1" strike="noStrike">
              <a:solidFill>
                <a:srgbClr val="000000"/>
              </a:solidFill>
              <a:latin typeface="Arial"/>
            </a:endParaRPr>
          </a:p>
        </p:txBody>
      </p:sp>
      <p:sp>
        <p:nvSpPr>
          <p:cNvPr id="178" name=""/>
          <p:cNvSpPr txBox="1"/>
          <p:nvPr/>
        </p:nvSpPr>
        <p:spPr>
          <a:xfrm>
            <a:off x="6826320" y="4773600"/>
            <a:ext cx="1173240" cy="24624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Rdb 7.1  (be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533520"/>
            <a:ext cx="7467480" cy="1176120"/>
          </a:xfrm>
          <a:prstGeom prst="rect">
            <a:avLst/>
          </a:prstGeom>
          <a:noFill/>
          <a:ln w="0">
            <a:noFill/>
          </a:ln>
        </p:spPr>
        <p:txBody>
          <a:bodyPr lIns="0" rIns="0" tIns="0" bIns="0" anchor="t">
            <a:noAutofit/>
          </a:bodyPr>
          <a:p>
            <a:pPr>
              <a:lnSpc>
                <a:spcPct val="85000"/>
              </a:lnSpc>
            </a:pPr>
            <a:r>
              <a:rPr b="1" lang="en-US" sz="4000" spc="-1" strike="noStrike">
                <a:solidFill>
                  <a:srgbClr val="ffffff"/>
                </a:solidFill>
                <a:latin typeface="Univers"/>
                <a:ea typeface="Univers"/>
              </a:rPr>
              <a:t>Rdb &amp; Oracle Servers: Coexistence</a:t>
            </a:r>
            <a:endParaRPr b="0" lang="en-US" sz="4000" spc="-1" strike="noStrike">
              <a:solidFill>
                <a:srgbClr val="000000"/>
              </a:solidFill>
              <a:latin typeface="Arial"/>
            </a:endParaRPr>
          </a:p>
        </p:txBody>
      </p:sp>
      <p:sp>
        <p:nvSpPr>
          <p:cNvPr id="180" name=""/>
          <p:cNvSpPr txBox="1"/>
          <p:nvPr/>
        </p:nvSpPr>
        <p:spPr>
          <a:xfrm>
            <a:off x="609480" y="1752480"/>
            <a:ext cx="7848720" cy="205740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45000"/>
              <a:buFont typeface="Wingdings"/>
              <a:buChar char=""/>
            </a:pPr>
            <a:r>
              <a:rPr b="0" lang="en-US" sz="2400" spc="-1" strike="noStrike">
                <a:solidFill>
                  <a:srgbClr val="ffffff"/>
                </a:solidFill>
                <a:latin typeface="Univers"/>
                <a:ea typeface="Univers"/>
              </a:rPr>
              <a:t>Coexistence</a:t>
            </a:r>
            <a:endParaRPr b="0" lang="en-US" sz="24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000" spc="-1" strike="noStrike">
                <a:solidFill>
                  <a:srgbClr val="ffffff"/>
                </a:solidFill>
                <a:latin typeface="Univers"/>
                <a:ea typeface="Univers"/>
              </a:rPr>
              <a:t>Common application development w/ SQL*Net</a:t>
            </a:r>
            <a:endParaRPr b="0" lang="en-US" sz="2000" spc="-1" strike="noStrike">
              <a:solidFill>
                <a:srgbClr val="000000"/>
              </a:solidFill>
              <a:latin typeface="Arial"/>
            </a:endParaRPr>
          </a:p>
          <a:p>
            <a:pPr lvl="2" marL="1143000" indent="-228600">
              <a:lnSpc>
                <a:spcPct val="100000"/>
              </a:lnSpc>
              <a:spcBef>
                <a:spcPts val="479"/>
              </a:spcBef>
              <a:buClr>
                <a:srgbClr val="ffffff"/>
              </a:buClr>
              <a:buSzPct val="45000"/>
              <a:buFont typeface="Wingdings"/>
              <a:buChar char=""/>
            </a:pPr>
            <a:r>
              <a:rPr b="0" lang="en-US" sz="2000" spc="-1" strike="noStrike">
                <a:solidFill>
                  <a:srgbClr val="ffffff"/>
                </a:solidFill>
                <a:latin typeface="Univers"/>
                <a:ea typeface="Univers"/>
              </a:rPr>
              <a:t>Single applications possible today</a:t>
            </a:r>
            <a:endParaRPr b="0" lang="en-US" sz="20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000" spc="-1" strike="noStrike">
                <a:solidFill>
                  <a:srgbClr val="ffffff"/>
                </a:solidFill>
                <a:latin typeface="Univers"/>
                <a:ea typeface="Univers"/>
              </a:rPr>
              <a:t>Data sharing directly through DBLinks</a:t>
            </a:r>
            <a:endParaRPr b="0" lang="en-US" sz="2000" spc="-1" strike="noStrike">
              <a:solidFill>
                <a:srgbClr val="000000"/>
              </a:solidFill>
              <a:latin typeface="Arial"/>
            </a:endParaRPr>
          </a:p>
          <a:p>
            <a:pPr lvl="1" marL="800280" indent="-343080">
              <a:lnSpc>
                <a:spcPct val="100000"/>
              </a:lnSpc>
              <a:spcBef>
                <a:spcPts val="479"/>
              </a:spcBef>
              <a:buClr>
                <a:srgbClr val="ffffff"/>
              </a:buClr>
              <a:buSzPct val="75000"/>
              <a:buFont typeface="Times New Roman"/>
              <a:buChar char=""/>
            </a:pPr>
            <a:r>
              <a:rPr b="0" lang="en-US" sz="2000" spc="-1" strike="noStrike">
                <a:solidFill>
                  <a:srgbClr val="ffffff"/>
                </a:solidFill>
                <a:latin typeface="Univers"/>
                <a:ea typeface="Univers"/>
              </a:rPr>
              <a:t>Near-line data sharing using LogMiner</a:t>
            </a:r>
            <a:endParaRPr b="0" lang="en-US" sz="2000" spc="-1" strike="noStrike">
              <a:solidFill>
                <a:srgbClr val="000000"/>
              </a:solidFill>
              <a:latin typeface="Arial"/>
            </a:endParaRPr>
          </a:p>
        </p:txBody>
      </p:sp>
      <p:grpSp>
        <p:nvGrpSpPr>
          <p:cNvPr id="181" name=""/>
          <p:cNvGrpSpPr/>
          <p:nvPr/>
        </p:nvGrpSpPr>
        <p:grpSpPr>
          <a:xfrm>
            <a:off x="384120" y="5081760"/>
            <a:ext cx="3527640" cy="1014480"/>
            <a:chOff x="384120" y="5081760"/>
            <a:chExt cx="3527640" cy="1014480"/>
          </a:xfrm>
        </p:grpSpPr>
        <p:grpSp>
          <p:nvGrpSpPr>
            <p:cNvPr id="182" name=""/>
            <p:cNvGrpSpPr/>
            <p:nvPr/>
          </p:nvGrpSpPr>
          <p:grpSpPr>
            <a:xfrm>
              <a:off x="2517840" y="5081760"/>
              <a:ext cx="1393920" cy="981000"/>
              <a:chOff x="2517840" y="5081760"/>
              <a:chExt cx="1393920" cy="981000"/>
            </a:xfrm>
          </p:grpSpPr>
          <p:sp>
            <p:nvSpPr>
              <p:cNvPr id="183" name=""/>
              <p:cNvSpPr/>
              <p:nvPr/>
            </p:nvSpPr>
            <p:spPr>
              <a:xfrm>
                <a:off x="2517840" y="5221440"/>
                <a:ext cx="1393920" cy="701640"/>
              </a:xfrm>
              <a:prstGeom prst="rect">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2517840" y="5783400"/>
                <a:ext cx="1393920" cy="27936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517840" y="5081760"/>
                <a:ext cx="1393920" cy="28116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86" name=""/>
            <p:cNvSpPr/>
            <p:nvPr/>
          </p:nvSpPr>
          <p:spPr>
            <a:xfrm>
              <a:off x="1773360" y="5581800"/>
              <a:ext cx="560880" cy="267120"/>
            </a:xfrm>
            <a:custGeom>
              <a:avLst/>
              <a:gdLst/>
              <a:ahLst/>
              <a:rect l="0" t="0" r="r" b="b"/>
              <a:pathLst>
                <a:path fill="none" w="1558" h="742">
                  <a:moveTo>
                    <a:pt x="1558" y="247"/>
                  </a:moveTo>
                  <a:lnTo>
                    <a:pt x="1558" y="494"/>
                  </a:lnTo>
                  <a:lnTo>
                    <a:pt x="467" y="494"/>
                  </a:lnTo>
                  <a:lnTo>
                    <a:pt x="467" y="742"/>
                  </a:lnTo>
                  <a:lnTo>
                    <a:pt x="0" y="371"/>
                  </a:lnTo>
                  <a:lnTo>
                    <a:pt x="467" y="0"/>
                  </a:lnTo>
                  <a:lnTo>
                    <a:pt x="467" y="247"/>
                  </a:lnTo>
                  <a:lnTo>
                    <a:pt x="1558" y="2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87" name=""/>
            <p:cNvGrpSpPr/>
            <p:nvPr/>
          </p:nvGrpSpPr>
          <p:grpSpPr>
            <a:xfrm>
              <a:off x="384120" y="5315040"/>
              <a:ext cx="1222920" cy="781200"/>
              <a:chOff x="384120" y="5315040"/>
              <a:chExt cx="1222920" cy="781200"/>
            </a:xfrm>
          </p:grpSpPr>
          <p:grpSp>
            <p:nvGrpSpPr>
              <p:cNvPr id="188" name=""/>
              <p:cNvGrpSpPr/>
              <p:nvPr/>
            </p:nvGrpSpPr>
            <p:grpSpPr>
              <a:xfrm>
                <a:off x="782640" y="5373720"/>
                <a:ext cx="824400" cy="443520"/>
                <a:chOff x="782640" y="5373720"/>
                <a:chExt cx="824400" cy="443520"/>
              </a:xfrm>
            </p:grpSpPr>
            <p:grpSp>
              <p:nvGrpSpPr>
                <p:cNvPr id="189" name=""/>
                <p:cNvGrpSpPr/>
                <p:nvPr/>
              </p:nvGrpSpPr>
              <p:grpSpPr>
                <a:xfrm>
                  <a:off x="969840" y="5373720"/>
                  <a:ext cx="637200" cy="401760"/>
                  <a:chOff x="969840" y="5373720"/>
                  <a:chExt cx="637200" cy="401760"/>
                </a:xfrm>
              </p:grpSpPr>
              <p:grpSp>
                <p:nvGrpSpPr>
                  <p:cNvPr id="190" name=""/>
                  <p:cNvGrpSpPr/>
                  <p:nvPr/>
                </p:nvGrpSpPr>
                <p:grpSpPr>
                  <a:xfrm>
                    <a:off x="969840" y="5373720"/>
                    <a:ext cx="637200" cy="401760"/>
                    <a:chOff x="969840" y="5373720"/>
                    <a:chExt cx="637200" cy="401760"/>
                  </a:xfrm>
                </p:grpSpPr>
                <p:grpSp>
                  <p:nvGrpSpPr>
                    <p:cNvPr id="191" name=""/>
                    <p:cNvGrpSpPr/>
                    <p:nvPr/>
                  </p:nvGrpSpPr>
                  <p:grpSpPr>
                    <a:xfrm>
                      <a:off x="969840" y="5599080"/>
                      <a:ext cx="637200" cy="176400"/>
                      <a:chOff x="969840" y="5599080"/>
                      <a:chExt cx="637200" cy="176400"/>
                    </a:xfrm>
                  </p:grpSpPr>
                  <p:sp>
                    <p:nvSpPr>
                      <p:cNvPr id="192" name=""/>
                      <p:cNvSpPr/>
                      <p:nvPr/>
                    </p:nvSpPr>
                    <p:spPr>
                      <a:xfrm>
                        <a:off x="969840" y="5600520"/>
                        <a:ext cx="365400" cy="174960"/>
                      </a:xfrm>
                      <a:custGeom>
                        <a:avLst/>
                        <a:gdLst/>
                        <a:ahLst/>
                        <a:rect l="0" t="0" r="r" b="b"/>
                        <a:pathLst>
                          <a:path w="1015" h="486">
                            <a:moveTo>
                              <a:pt x="1015" y="146"/>
                            </a:moveTo>
                            <a:lnTo>
                              <a:pt x="1015" y="486"/>
                            </a:lnTo>
                            <a:lnTo>
                              <a:pt x="0" y="235"/>
                            </a:lnTo>
                            <a:lnTo>
                              <a:pt x="0" y="0"/>
                            </a:lnTo>
                            <a:lnTo>
                              <a:pt x="1015" y="146"/>
                            </a:lnTo>
                            <a:close/>
                          </a:path>
                        </a:pathLst>
                      </a:custGeom>
                      <a:solidFill>
                        <a:srgbClr val="a0a0a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1335240" y="5641920"/>
                        <a:ext cx="271800" cy="133560"/>
                      </a:xfrm>
                      <a:custGeom>
                        <a:avLst/>
                        <a:gdLst/>
                        <a:ahLst/>
                        <a:rect l="0" t="0" r="r" b="b"/>
                        <a:pathLst>
                          <a:path w="755" h="371">
                            <a:moveTo>
                              <a:pt x="0" y="32"/>
                            </a:moveTo>
                            <a:lnTo>
                              <a:pt x="0" y="371"/>
                            </a:lnTo>
                            <a:lnTo>
                              <a:pt x="755" y="287"/>
                            </a:lnTo>
                            <a:lnTo>
                              <a:pt x="755" y="0"/>
                            </a:lnTo>
                            <a:lnTo>
                              <a:pt x="0" y="32"/>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969840" y="5599080"/>
                        <a:ext cx="636840" cy="52920"/>
                      </a:xfrm>
                      <a:custGeom>
                        <a:avLst/>
                        <a:gdLst/>
                        <a:ahLst/>
                        <a:rect l="0" t="0" r="r" b="b"/>
                        <a:pathLst>
                          <a:path w="1769" h="147">
                            <a:moveTo>
                              <a:pt x="1769" y="115"/>
                            </a:moveTo>
                            <a:lnTo>
                              <a:pt x="1006" y="147"/>
                            </a:lnTo>
                            <a:lnTo>
                              <a:pt x="0" y="0"/>
                            </a:lnTo>
                            <a:lnTo>
                              <a:pt x="741" y="0"/>
                            </a:lnTo>
                            <a:lnTo>
                              <a:pt x="1769" y="115"/>
                            </a:lnTo>
                            <a:close/>
                          </a:path>
                        </a:pathLst>
                      </a:custGeom>
                      <a:solidFill>
                        <a:srgbClr val="c0c0c0"/>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sp>
                  <p:nvSpPr>
                    <p:cNvPr id="195" name=""/>
                    <p:cNvSpPr/>
                    <p:nvPr/>
                  </p:nvSpPr>
                  <p:spPr>
                    <a:xfrm>
                      <a:off x="1168560" y="5586480"/>
                      <a:ext cx="230400" cy="49680"/>
                    </a:xfrm>
                    <a:custGeom>
                      <a:avLst/>
                      <a:gdLst/>
                      <a:ahLst/>
                      <a:rect l="0" t="0" r="r" b="b"/>
                      <a:pathLst>
                        <a:path w="640" h="138">
                          <a:moveTo>
                            <a:pt x="640" y="78"/>
                          </a:moveTo>
                          <a:lnTo>
                            <a:pt x="640" y="125"/>
                          </a:lnTo>
                          <a:lnTo>
                            <a:pt x="341" y="138"/>
                          </a:lnTo>
                          <a:lnTo>
                            <a:pt x="0" y="89"/>
                          </a:lnTo>
                          <a:lnTo>
                            <a:pt x="0" y="0"/>
                          </a:lnTo>
                          <a:lnTo>
                            <a:pt x="640" y="78"/>
                          </a:lnTo>
                          <a:close/>
                        </a:path>
                      </a:pathLst>
                    </a:custGeom>
                    <a:solidFill>
                      <a:srgbClr val="606060"/>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nvGrpSpPr>
                    <p:cNvPr id="196" name=""/>
                    <p:cNvGrpSpPr/>
                    <p:nvPr/>
                  </p:nvGrpSpPr>
                  <p:grpSpPr>
                    <a:xfrm>
                      <a:off x="1042920" y="5373720"/>
                      <a:ext cx="514800" cy="250920"/>
                      <a:chOff x="1042920" y="5373720"/>
                      <a:chExt cx="514800" cy="250920"/>
                    </a:xfrm>
                  </p:grpSpPr>
                  <p:sp>
                    <p:nvSpPr>
                      <p:cNvPr id="197" name=""/>
                      <p:cNvSpPr/>
                      <p:nvPr/>
                    </p:nvSpPr>
                    <p:spPr>
                      <a:xfrm>
                        <a:off x="1042920" y="5373720"/>
                        <a:ext cx="295560" cy="244800"/>
                      </a:xfrm>
                      <a:custGeom>
                        <a:avLst/>
                        <a:gdLst/>
                        <a:ahLst/>
                        <a:rect l="0" t="0" r="r" b="b"/>
                        <a:pathLst>
                          <a:path w="821" h="680">
                            <a:moveTo>
                              <a:pt x="705" y="680"/>
                            </a:moveTo>
                            <a:lnTo>
                              <a:pt x="821" y="21"/>
                            </a:lnTo>
                            <a:lnTo>
                              <a:pt x="112" y="0"/>
                            </a:lnTo>
                            <a:lnTo>
                              <a:pt x="0" y="587"/>
                            </a:lnTo>
                            <a:lnTo>
                              <a:pt x="705" y="680"/>
                            </a:lnTo>
                            <a:close/>
                          </a:path>
                        </a:pathLst>
                      </a:custGeom>
                      <a:solidFill>
                        <a:srgbClr val="a0a0a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1297080" y="5383080"/>
                        <a:ext cx="260640" cy="241560"/>
                      </a:xfrm>
                      <a:custGeom>
                        <a:avLst/>
                        <a:gdLst/>
                        <a:ahLst/>
                        <a:rect l="0" t="0" r="r" b="b"/>
                        <a:pathLst>
                          <a:path w="724" h="671">
                            <a:moveTo>
                              <a:pt x="115" y="0"/>
                            </a:moveTo>
                            <a:lnTo>
                              <a:pt x="724" y="148"/>
                            </a:lnTo>
                            <a:lnTo>
                              <a:pt x="636" y="671"/>
                            </a:lnTo>
                            <a:lnTo>
                              <a:pt x="0" y="655"/>
                            </a:lnTo>
                            <a:lnTo>
                              <a:pt x="115"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1076400" y="5397480"/>
                        <a:ext cx="213120" cy="184680"/>
                      </a:xfrm>
                      <a:custGeom>
                        <a:avLst/>
                        <a:gdLst/>
                        <a:ahLst/>
                        <a:rect l="0" t="0" r="r" b="b"/>
                        <a:pathLst>
                          <a:path w="592" h="513">
                            <a:moveTo>
                              <a:pt x="592" y="21"/>
                            </a:moveTo>
                            <a:lnTo>
                              <a:pt x="507" y="513"/>
                            </a:lnTo>
                            <a:lnTo>
                              <a:pt x="0" y="456"/>
                            </a:lnTo>
                            <a:lnTo>
                              <a:pt x="84" y="0"/>
                            </a:lnTo>
                            <a:lnTo>
                              <a:pt x="592" y="21"/>
                            </a:lnTo>
                            <a:close/>
                          </a:path>
                        </a:pathLst>
                      </a:custGeom>
                      <a:solidFill>
                        <a:srgbClr val="0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00" name=""/>
                  <p:cNvGrpSpPr/>
                  <p:nvPr/>
                </p:nvGrpSpPr>
                <p:grpSpPr>
                  <a:xfrm>
                    <a:off x="992160" y="5618160"/>
                    <a:ext cx="211320" cy="116280"/>
                    <a:chOff x="992160" y="5618160"/>
                    <a:chExt cx="211320" cy="116280"/>
                  </a:xfrm>
                </p:grpSpPr>
                <p:sp>
                  <p:nvSpPr>
                    <p:cNvPr id="201" name=""/>
                    <p:cNvSpPr/>
                    <p:nvPr/>
                  </p:nvSpPr>
                  <p:spPr>
                    <a:xfrm>
                      <a:off x="993600" y="5618160"/>
                      <a:ext cx="209880" cy="116280"/>
                    </a:xfrm>
                    <a:custGeom>
                      <a:avLst/>
                      <a:gdLst/>
                      <a:ahLst/>
                      <a:rect l="0" t="0" r="r" b="b"/>
                      <a:pathLst>
                        <a:path w="583" h="323">
                          <a:moveTo>
                            <a:pt x="0" y="0"/>
                          </a:moveTo>
                          <a:lnTo>
                            <a:pt x="583" y="97"/>
                          </a:lnTo>
                          <a:lnTo>
                            <a:pt x="583" y="323"/>
                          </a:lnTo>
                          <a:lnTo>
                            <a:pt x="0" y="182"/>
                          </a:lnTo>
                          <a:lnTo>
                            <a:pt x="0" y="0"/>
                          </a:lnTo>
                          <a:close/>
                        </a:path>
                      </a:pathLst>
                    </a:custGeom>
                    <a:solidFill>
                      <a:srgbClr val="404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flipH="1" flipV="1">
                      <a:off x="1011240" y="5646600"/>
                      <a:ext cx="55440" cy="9720"/>
                    </a:xfrm>
                    <a:prstGeom prst="line">
                      <a:avLst/>
                    </a:prstGeom>
                    <a:ln w="12600">
                      <a:solidFill>
                        <a:srgbClr val="000000"/>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03" name=""/>
                    <p:cNvSpPr/>
                    <p:nvPr/>
                  </p:nvSpPr>
                  <p:spPr>
                    <a:xfrm>
                      <a:off x="1095480" y="5661000"/>
                      <a:ext cx="73080" cy="12600"/>
                    </a:xfrm>
                    <a:prstGeom prst="line">
                      <a:avLst/>
                    </a:prstGeom>
                    <a:ln w="12600">
                      <a:solidFill>
                        <a:srgbClr val="000000"/>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204" name=""/>
                    <p:cNvSpPr/>
                    <p:nvPr/>
                  </p:nvSpPr>
                  <p:spPr>
                    <a:xfrm>
                      <a:off x="1082520" y="5630760"/>
                      <a:ext cx="0" cy="74880"/>
                    </a:xfrm>
                    <a:prstGeom prst="line">
                      <a:avLst/>
                    </a:prstGeom>
                    <a:ln w="12600">
                      <a:solidFill>
                        <a:srgbClr val="000000"/>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
                  <p:nvSpPr>
                    <p:cNvPr id="205" name=""/>
                    <p:cNvSpPr/>
                    <p:nvPr/>
                  </p:nvSpPr>
                  <p:spPr>
                    <a:xfrm>
                      <a:off x="1182600" y="5649840"/>
                      <a:ext cx="0" cy="77760"/>
                    </a:xfrm>
                    <a:prstGeom prst="line">
                      <a:avLst/>
                    </a:prstGeom>
                    <a:ln w="12600">
                      <a:solidFill>
                        <a:srgbClr val="00000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206" name=""/>
                    <p:cNvSpPr/>
                    <p:nvPr/>
                  </p:nvSpPr>
                  <p:spPr>
                    <a:xfrm>
                      <a:off x="993600" y="5645160"/>
                      <a:ext cx="18900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207" name=""/>
                    <p:cNvSpPr/>
                    <p:nvPr/>
                  </p:nvSpPr>
                  <p:spPr>
                    <a:xfrm flipH="1" flipV="1">
                      <a:off x="992160" y="5637240"/>
                      <a:ext cx="19044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208" name=""/>
                <p:cNvGrpSpPr/>
                <p:nvPr/>
              </p:nvGrpSpPr>
              <p:grpSpPr>
                <a:xfrm>
                  <a:off x="782640" y="5622840"/>
                  <a:ext cx="497160" cy="194400"/>
                  <a:chOff x="782640" y="5622840"/>
                  <a:chExt cx="497160" cy="194400"/>
                </a:xfrm>
              </p:grpSpPr>
              <p:grpSp>
                <p:nvGrpSpPr>
                  <p:cNvPr id="209" name=""/>
                  <p:cNvGrpSpPr/>
                  <p:nvPr/>
                </p:nvGrpSpPr>
                <p:grpSpPr>
                  <a:xfrm>
                    <a:off x="1166760" y="5727600"/>
                    <a:ext cx="83160" cy="46440"/>
                    <a:chOff x="1166760" y="5727600"/>
                    <a:chExt cx="83160" cy="46440"/>
                  </a:xfrm>
                </p:grpSpPr>
                <p:sp>
                  <p:nvSpPr>
                    <p:cNvPr id="210" name=""/>
                    <p:cNvSpPr/>
                    <p:nvPr/>
                  </p:nvSpPr>
                  <p:spPr>
                    <a:xfrm>
                      <a:off x="1224000" y="5727600"/>
                      <a:ext cx="25920" cy="46440"/>
                    </a:xfrm>
                    <a:custGeom>
                      <a:avLst/>
                      <a:gdLst/>
                      <a:ahLst/>
                      <a:rect l="0" t="0" r="r" b="b"/>
                      <a:pathLst>
                        <a:path w="72" h="129">
                          <a:moveTo>
                            <a:pt x="51" y="0"/>
                          </a:moveTo>
                          <a:lnTo>
                            <a:pt x="72" y="121"/>
                          </a:lnTo>
                          <a:lnTo>
                            <a:pt x="20" y="129"/>
                          </a:lnTo>
                          <a:lnTo>
                            <a:pt x="0" y="5"/>
                          </a:lnTo>
                          <a:lnTo>
                            <a:pt x="51" y="0"/>
                          </a:lnTo>
                          <a:close/>
                        </a:path>
                      </a:pathLst>
                    </a:custGeom>
                    <a:solidFill>
                      <a:srgbClr val="606060"/>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11" name=""/>
                    <p:cNvSpPr/>
                    <p:nvPr/>
                  </p:nvSpPr>
                  <p:spPr>
                    <a:xfrm>
                      <a:off x="1166760" y="5734080"/>
                      <a:ext cx="63720" cy="39960"/>
                    </a:xfrm>
                    <a:custGeom>
                      <a:avLst/>
                      <a:gdLst/>
                      <a:ahLst/>
                      <a:rect l="0" t="0" r="r" b="b"/>
                      <a:pathLst>
                        <a:path w="177" h="111">
                          <a:moveTo>
                            <a:pt x="163" y="2"/>
                          </a:moveTo>
                          <a:lnTo>
                            <a:pt x="177" y="111"/>
                          </a:lnTo>
                          <a:lnTo>
                            <a:pt x="0" y="53"/>
                          </a:lnTo>
                          <a:lnTo>
                            <a:pt x="70" y="37"/>
                          </a:lnTo>
                          <a:lnTo>
                            <a:pt x="131" y="62"/>
                          </a:lnTo>
                          <a:lnTo>
                            <a:pt x="113" y="0"/>
                          </a:lnTo>
                          <a:lnTo>
                            <a:pt x="163" y="2"/>
                          </a:lnTo>
                          <a:close/>
                        </a:path>
                      </a:pathLst>
                    </a:custGeom>
                    <a:solidFill>
                      <a:srgbClr val="404040"/>
                    </a:solidFill>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grpSp>
              <p:grpSp>
                <p:nvGrpSpPr>
                  <p:cNvPr id="212" name=""/>
                  <p:cNvGrpSpPr/>
                  <p:nvPr/>
                </p:nvGrpSpPr>
                <p:grpSpPr>
                  <a:xfrm>
                    <a:off x="782640" y="5622840"/>
                    <a:ext cx="497160" cy="194400"/>
                    <a:chOff x="782640" y="5622840"/>
                    <a:chExt cx="497160" cy="194400"/>
                  </a:xfrm>
                </p:grpSpPr>
                <p:sp>
                  <p:nvSpPr>
                    <p:cNvPr id="213" name=""/>
                    <p:cNvSpPr/>
                    <p:nvPr/>
                  </p:nvSpPr>
                  <p:spPr>
                    <a:xfrm>
                      <a:off x="782640" y="5622840"/>
                      <a:ext cx="489240" cy="171720"/>
                    </a:xfrm>
                    <a:custGeom>
                      <a:avLst/>
                      <a:gdLst/>
                      <a:ahLst/>
                      <a:rect l="0" t="0" r="r" b="b"/>
                      <a:pathLst>
                        <a:path w="1359" h="477">
                          <a:moveTo>
                            <a:pt x="1359" y="201"/>
                          </a:moveTo>
                          <a:lnTo>
                            <a:pt x="708" y="477"/>
                          </a:lnTo>
                          <a:lnTo>
                            <a:pt x="0" y="207"/>
                          </a:lnTo>
                          <a:lnTo>
                            <a:pt x="541" y="0"/>
                          </a:lnTo>
                          <a:lnTo>
                            <a:pt x="1359" y="201"/>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1035000" y="5694480"/>
                      <a:ext cx="244800" cy="122760"/>
                    </a:xfrm>
                    <a:custGeom>
                      <a:avLst/>
                      <a:gdLst/>
                      <a:ahLst/>
                      <a:rect l="0" t="0" r="r" b="b"/>
                      <a:pathLst>
                        <a:path w="680" h="341">
                          <a:moveTo>
                            <a:pt x="655" y="0"/>
                          </a:moveTo>
                          <a:lnTo>
                            <a:pt x="0" y="281"/>
                          </a:lnTo>
                          <a:lnTo>
                            <a:pt x="17" y="341"/>
                          </a:lnTo>
                          <a:lnTo>
                            <a:pt x="680" y="54"/>
                          </a:lnTo>
                          <a:lnTo>
                            <a:pt x="655" y="0"/>
                          </a:lnTo>
                          <a:close/>
                        </a:path>
                      </a:pathLst>
                    </a:custGeom>
                    <a:solidFill>
                      <a:srgbClr val="606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782640" y="5697360"/>
                      <a:ext cx="260640" cy="119520"/>
                    </a:xfrm>
                    <a:custGeom>
                      <a:avLst/>
                      <a:gdLst/>
                      <a:ahLst/>
                      <a:rect l="0" t="0" r="r" b="b"/>
                      <a:pathLst>
                        <a:path w="724" h="332">
                          <a:moveTo>
                            <a:pt x="724" y="332"/>
                          </a:moveTo>
                          <a:lnTo>
                            <a:pt x="703" y="270"/>
                          </a:lnTo>
                          <a:lnTo>
                            <a:pt x="0" y="0"/>
                          </a:lnTo>
                          <a:lnTo>
                            <a:pt x="24" y="48"/>
                          </a:lnTo>
                          <a:lnTo>
                            <a:pt x="724" y="332"/>
                          </a:lnTo>
                          <a:close/>
                        </a:path>
                      </a:pathLst>
                    </a:custGeom>
                    <a:solidFill>
                      <a:srgbClr val="404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988920" y="5702400"/>
                      <a:ext cx="186120" cy="68760"/>
                    </a:xfrm>
                    <a:custGeom>
                      <a:avLst/>
                      <a:gdLst/>
                      <a:ahLst/>
                      <a:rect l="0" t="0" r="r" b="b"/>
                      <a:pathLst>
                        <a:path w="517" h="191">
                          <a:moveTo>
                            <a:pt x="517" y="49"/>
                          </a:moveTo>
                          <a:lnTo>
                            <a:pt x="340" y="0"/>
                          </a:lnTo>
                          <a:lnTo>
                            <a:pt x="0" y="133"/>
                          </a:lnTo>
                          <a:lnTo>
                            <a:pt x="170" y="191"/>
                          </a:lnTo>
                          <a:lnTo>
                            <a:pt x="517" y="49"/>
                          </a:lnTo>
                          <a:close/>
                        </a:path>
                      </a:pathLst>
                    </a:custGeom>
                    <a:solidFill>
                      <a:srgbClr val="a0a0a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17" name=""/>
                    <p:cNvSpPr/>
                    <p:nvPr/>
                  </p:nvSpPr>
                  <p:spPr>
                    <a:xfrm>
                      <a:off x="817560" y="5649840"/>
                      <a:ext cx="278280" cy="93960"/>
                    </a:xfrm>
                    <a:custGeom>
                      <a:avLst/>
                      <a:gdLst/>
                      <a:ahLst/>
                      <a:rect l="0" t="0" r="r" b="b"/>
                      <a:pathLst>
                        <a:path w="773" h="261">
                          <a:moveTo>
                            <a:pt x="773" y="126"/>
                          </a:moveTo>
                          <a:lnTo>
                            <a:pt x="434" y="261"/>
                          </a:lnTo>
                          <a:lnTo>
                            <a:pt x="0" y="112"/>
                          </a:lnTo>
                          <a:lnTo>
                            <a:pt x="318" y="0"/>
                          </a:lnTo>
                          <a:lnTo>
                            <a:pt x="773" y="126"/>
                          </a:lnTo>
                          <a:close/>
                        </a:path>
                      </a:pathLst>
                    </a:custGeom>
                    <a:solidFill>
                      <a:srgbClr val="a0a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 name=""/>
                    <p:cNvSpPr/>
                    <p:nvPr/>
                  </p:nvSpPr>
                  <p:spPr>
                    <a:xfrm>
                      <a:off x="938160" y="5627520"/>
                      <a:ext cx="308160" cy="84600"/>
                    </a:xfrm>
                    <a:custGeom>
                      <a:avLst/>
                      <a:gdLst/>
                      <a:ahLst/>
                      <a:rect l="0" t="0" r="r" b="b"/>
                      <a:pathLst>
                        <a:path w="856" h="235">
                          <a:moveTo>
                            <a:pt x="679" y="235"/>
                          </a:moveTo>
                          <a:lnTo>
                            <a:pt x="856" y="168"/>
                          </a:lnTo>
                          <a:lnTo>
                            <a:pt x="137" y="0"/>
                          </a:lnTo>
                          <a:lnTo>
                            <a:pt x="0" y="47"/>
                          </a:lnTo>
                          <a:lnTo>
                            <a:pt x="679" y="235"/>
                          </a:lnTo>
                          <a:close/>
                        </a:path>
                      </a:pathLst>
                    </a:custGeom>
                    <a:solidFill>
                      <a:srgbClr val="a0a0a0"/>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219" name=""/>
                    <p:cNvSpPr/>
                    <p:nvPr/>
                  </p:nvSpPr>
                  <p:spPr>
                    <a:xfrm flipH="1" flipV="1">
                      <a:off x="961920" y="5630760"/>
                      <a:ext cx="276480" cy="73080"/>
                    </a:xfrm>
                    <a:prstGeom prst="line">
                      <a:avLst/>
                    </a:prstGeom>
                    <a:ln w="12600">
                      <a:solidFill>
                        <a:srgbClr val="80808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220" name=""/>
                    <p:cNvSpPr/>
                    <p:nvPr/>
                  </p:nvSpPr>
                  <p:spPr>
                    <a:xfrm flipH="1" flipV="1">
                      <a:off x="949320" y="5634000"/>
                      <a:ext cx="264960" cy="74520"/>
                    </a:xfrm>
                    <a:prstGeom prst="line">
                      <a:avLst/>
                    </a:prstGeom>
                    <a:ln w="12600">
                      <a:solidFill>
                        <a:srgbClr val="80808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221" name=""/>
                    <p:cNvSpPr/>
                    <p:nvPr/>
                  </p:nvSpPr>
                  <p:spPr>
                    <a:xfrm flipH="1" flipV="1">
                      <a:off x="938160" y="5641920"/>
                      <a:ext cx="260280" cy="76320"/>
                    </a:xfrm>
                    <a:prstGeom prst="line">
                      <a:avLst/>
                    </a:prstGeom>
                    <a:ln w="12600">
                      <a:solidFill>
                        <a:srgbClr val="80808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22" name=""/>
                    <p:cNvSpPr/>
                    <p:nvPr/>
                  </p:nvSpPr>
                  <p:spPr>
                    <a:xfrm flipH="1" flipV="1">
                      <a:off x="909720" y="5654520"/>
                      <a:ext cx="250920" cy="78120"/>
                    </a:xfrm>
                    <a:prstGeom prst="line">
                      <a:avLst/>
                    </a:prstGeom>
                    <a:ln w="12600">
                      <a:solidFill>
                        <a:srgbClr val="808080"/>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223" name=""/>
                    <p:cNvSpPr/>
                    <p:nvPr/>
                  </p:nvSpPr>
                  <p:spPr>
                    <a:xfrm flipH="1" flipV="1">
                      <a:off x="890640" y="5662440"/>
                      <a:ext cx="249120" cy="79560"/>
                    </a:xfrm>
                    <a:prstGeom prst="line">
                      <a:avLst/>
                    </a:prstGeom>
                    <a:ln w="12600">
                      <a:solidFill>
                        <a:srgbClr val="808080"/>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224" name=""/>
                    <p:cNvSpPr/>
                    <p:nvPr/>
                  </p:nvSpPr>
                  <p:spPr>
                    <a:xfrm flipH="1" flipV="1">
                      <a:off x="884160" y="5673600"/>
                      <a:ext cx="228600" cy="74880"/>
                    </a:xfrm>
                    <a:prstGeom prst="line">
                      <a:avLst/>
                    </a:prstGeom>
                    <a:ln w="12600">
                      <a:solidFill>
                        <a:srgbClr val="808080"/>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
                  <p:nvSpPr>
                    <p:cNvPr id="225" name=""/>
                    <p:cNvSpPr/>
                    <p:nvPr/>
                  </p:nvSpPr>
                  <p:spPr>
                    <a:xfrm flipH="1" flipV="1">
                      <a:off x="866880" y="5681520"/>
                      <a:ext cx="220680" cy="74880"/>
                    </a:xfrm>
                    <a:prstGeom prst="line">
                      <a:avLst/>
                    </a:prstGeom>
                    <a:ln w="12600">
                      <a:solidFill>
                        <a:srgbClr val="808080"/>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
                  <p:nvSpPr>
                    <p:cNvPr id="226" name=""/>
                    <p:cNvSpPr/>
                    <p:nvPr/>
                  </p:nvSpPr>
                  <p:spPr>
                    <a:xfrm flipH="1" flipV="1">
                      <a:off x="846000" y="5691240"/>
                      <a:ext cx="216000" cy="73080"/>
                    </a:xfrm>
                    <a:prstGeom prst="line">
                      <a:avLst/>
                    </a:prstGeom>
                    <a:ln w="12600">
                      <a:solidFill>
                        <a:srgbClr val="80808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227" name=""/>
                    <p:cNvSpPr/>
                    <p:nvPr/>
                  </p:nvSpPr>
                  <p:spPr>
                    <a:xfrm flipH="1">
                      <a:off x="1020600" y="5715000"/>
                      <a:ext cx="130320" cy="57240"/>
                    </a:xfrm>
                    <a:prstGeom prst="line">
                      <a:avLst/>
                    </a:prstGeom>
                    <a:ln w="12600">
                      <a:solidFill>
                        <a:srgbClr val="808080"/>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228" name=""/>
                    <p:cNvSpPr/>
                    <p:nvPr/>
                  </p:nvSpPr>
                  <p:spPr>
                    <a:xfrm flipH="1">
                      <a:off x="995400" y="5707080"/>
                      <a:ext cx="129960" cy="57240"/>
                    </a:xfrm>
                    <a:prstGeom prst="line">
                      <a:avLst/>
                    </a:prstGeom>
                    <a:ln w="12600">
                      <a:solidFill>
                        <a:srgbClr val="808080"/>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229" name=""/>
                    <p:cNvSpPr/>
                    <p:nvPr/>
                  </p:nvSpPr>
                  <p:spPr>
                    <a:xfrm flipH="1">
                      <a:off x="941400" y="5691240"/>
                      <a:ext cx="127080" cy="52200"/>
                    </a:xfrm>
                    <a:prstGeom prst="line">
                      <a:avLst/>
                    </a:prstGeom>
                    <a:ln w="12600">
                      <a:solidFill>
                        <a:srgbClr val="808080"/>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sp>
                  <p:nvSpPr>
                    <p:cNvPr id="230" name=""/>
                    <p:cNvSpPr/>
                    <p:nvPr/>
                  </p:nvSpPr>
                  <p:spPr>
                    <a:xfrm flipH="1">
                      <a:off x="914400" y="5683320"/>
                      <a:ext cx="122400" cy="50760"/>
                    </a:xfrm>
                    <a:prstGeom prst="line">
                      <a:avLst/>
                    </a:prstGeom>
                    <a:ln w="12600">
                      <a:solidFill>
                        <a:srgbClr val="80808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231" name=""/>
                    <p:cNvSpPr/>
                    <p:nvPr/>
                  </p:nvSpPr>
                  <p:spPr>
                    <a:xfrm flipH="1">
                      <a:off x="885960" y="5675400"/>
                      <a:ext cx="122040" cy="50760"/>
                    </a:xfrm>
                    <a:prstGeom prst="line">
                      <a:avLst/>
                    </a:prstGeom>
                    <a:ln w="12600">
                      <a:solidFill>
                        <a:srgbClr val="80808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232" name=""/>
                    <p:cNvSpPr/>
                    <p:nvPr/>
                  </p:nvSpPr>
                  <p:spPr>
                    <a:xfrm flipH="1">
                      <a:off x="861840" y="5665680"/>
                      <a:ext cx="119160" cy="50760"/>
                    </a:xfrm>
                    <a:prstGeom prst="line">
                      <a:avLst/>
                    </a:prstGeom>
                    <a:ln w="12600">
                      <a:solidFill>
                        <a:srgbClr val="80808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233" name=""/>
                    <p:cNvSpPr/>
                    <p:nvPr/>
                  </p:nvSpPr>
                  <p:spPr>
                    <a:xfrm flipH="1">
                      <a:off x="836640" y="5657760"/>
                      <a:ext cx="120600" cy="47880"/>
                    </a:xfrm>
                    <a:prstGeom prst="line">
                      <a:avLst/>
                    </a:prstGeom>
                    <a:ln w="12600">
                      <a:solidFill>
                        <a:srgbClr val="808080"/>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234" name=""/>
                    <p:cNvSpPr/>
                    <p:nvPr/>
                  </p:nvSpPr>
                  <p:spPr>
                    <a:xfrm flipH="1">
                      <a:off x="1144440" y="5683320"/>
                      <a:ext cx="63720" cy="25200"/>
                    </a:xfrm>
                    <a:prstGeom prst="line">
                      <a:avLst/>
                    </a:prstGeom>
                    <a:ln w="12600">
                      <a:solidFill>
                        <a:srgbClr val="80808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235" name=""/>
                    <p:cNvSpPr/>
                    <p:nvPr/>
                  </p:nvSpPr>
                  <p:spPr>
                    <a:xfrm flipH="1">
                      <a:off x="1104840" y="5672160"/>
                      <a:ext cx="61920" cy="25200"/>
                    </a:xfrm>
                    <a:prstGeom prst="line">
                      <a:avLst/>
                    </a:prstGeom>
                    <a:ln w="12600">
                      <a:solidFill>
                        <a:srgbClr val="80808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236" name=""/>
                    <p:cNvSpPr/>
                    <p:nvPr/>
                  </p:nvSpPr>
                  <p:spPr>
                    <a:xfrm flipH="1">
                      <a:off x="1066680" y="5665680"/>
                      <a:ext cx="61920" cy="23760"/>
                    </a:xfrm>
                    <a:prstGeom prst="line">
                      <a:avLst/>
                    </a:prstGeom>
                    <a:ln w="12600">
                      <a:solidFill>
                        <a:srgbClr val="80808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237" name=""/>
                    <p:cNvSpPr/>
                    <p:nvPr/>
                  </p:nvSpPr>
                  <p:spPr>
                    <a:xfrm flipH="1">
                      <a:off x="1033560" y="5654520"/>
                      <a:ext cx="60120" cy="22320"/>
                    </a:xfrm>
                    <a:prstGeom prst="line">
                      <a:avLst/>
                    </a:prstGeom>
                    <a:ln w="12600">
                      <a:solidFill>
                        <a:srgbClr val="808080"/>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238" name=""/>
                    <p:cNvSpPr/>
                    <p:nvPr/>
                  </p:nvSpPr>
                  <p:spPr>
                    <a:xfrm flipH="1">
                      <a:off x="998640" y="5645160"/>
                      <a:ext cx="56880" cy="22320"/>
                    </a:xfrm>
                    <a:prstGeom prst="line">
                      <a:avLst/>
                    </a:prstGeom>
                    <a:ln w="12600">
                      <a:solidFill>
                        <a:srgbClr val="808080"/>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239" name=""/>
                    <p:cNvSpPr/>
                    <p:nvPr/>
                  </p:nvSpPr>
                  <p:spPr>
                    <a:xfrm flipH="1">
                      <a:off x="960480" y="5634000"/>
                      <a:ext cx="54000" cy="22320"/>
                    </a:xfrm>
                    <a:prstGeom prst="line">
                      <a:avLst/>
                    </a:prstGeom>
                    <a:ln w="12600">
                      <a:solidFill>
                        <a:srgbClr val="808080"/>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grpSp>
            </p:grpSp>
          </p:grpSp>
          <p:grpSp>
            <p:nvGrpSpPr>
              <p:cNvPr id="240" name=""/>
              <p:cNvGrpSpPr/>
              <p:nvPr/>
            </p:nvGrpSpPr>
            <p:grpSpPr>
              <a:xfrm>
                <a:off x="431640" y="5315040"/>
                <a:ext cx="690480" cy="781200"/>
                <a:chOff x="431640" y="5315040"/>
                <a:chExt cx="690480" cy="781200"/>
              </a:xfrm>
            </p:grpSpPr>
            <p:grpSp>
              <p:nvGrpSpPr>
                <p:cNvPr id="241" name=""/>
                <p:cNvGrpSpPr/>
                <p:nvPr/>
              </p:nvGrpSpPr>
              <p:grpSpPr>
                <a:xfrm>
                  <a:off x="458640" y="5875200"/>
                  <a:ext cx="643320" cy="221040"/>
                  <a:chOff x="458640" y="5875200"/>
                  <a:chExt cx="643320" cy="221040"/>
                </a:xfrm>
              </p:grpSpPr>
              <p:sp>
                <p:nvSpPr>
                  <p:cNvPr id="242" name=""/>
                  <p:cNvSpPr/>
                  <p:nvPr/>
                </p:nvSpPr>
                <p:spPr>
                  <a:xfrm>
                    <a:off x="458640" y="5875200"/>
                    <a:ext cx="643320" cy="221040"/>
                  </a:xfrm>
                  <a:custGeom>
                    <a:avLst/>
                    <a:gdLst/>
                    <a:ahLst/>
                    <a:rect l="0" t="0" r="r" b="b"/>
                    <a:pathLst>
                      <a:path w="1787" h="614">
                        <a:moveTo>
                          <a:pt x="1632" y="612"/>
                        </a:moveTo>
                        <a:lnTo>
                          <a:pt x="1784" y="598"/>
                        </a:lnTo>
                        <a:lnTo>
                          <a:pt x="1787" y="459"/>
                        </a:lnTo>
                        <a:lnTo>
                          <a:pt x="1780" y="356"/>
                        </a:lnTo>
                        <a:lnTo>
                          <a:pt x="1703" y="293"/>
                        </a:lnTo>
                        <a:lnTo>
                          <a:pt x="1607" y="255"/>
                        </a:lnTo>
                        <a:lnTo>
                          <a:pt x="1396" y="196"/>
                        </a:lnTo>
                        <a:lnTo>
                          <a:pt x="1081" y="138"/>
                        </a:lnTo>
                        <a:lnTo>
                          <a:pt x="1017" y="132"/>
                        </a:lnTo>
                        <a:lnTo>
                          <a:pt x="978" y="138"/>
                        </a:lnTo>
                        <a:lnTo>
                          <a:pt x="968" y="124"/>
                        </a:lnTo>
                        <a:lnTo>
                          <a:pt x="950" y="111"/>
                        </a:lnTo>
                        <a:lnTo>
                          <a:pt x="929" y="113"/>
                        </a:lnTo>
                        <a:lnTo>
                          <a:pt x="901" y="116"/>
                        </a:lnTo>
                        <a:lnTo>
                          <a:pt x="890" y="92"/>
                        </a:lnTo>
                        <a:lnTo>
                          <a:pt x="865" y="78"/>
                        </a:lnTo>
                        <a:lnTo>
                          <a:pt x="841" y="75"/>
                        </a:lnTo>
                        <a:lnTo>
                          <a:pt x="809" y="75"/>
                        </a:lnTo>
                        <a:lnTo>
                          <a:pt x="816" y="54"/>
                        </a:lnTo>
                        <a:lnTo>
                          <a:pt x="777" y="0"/>
                        </a:lnTo>
                        <a:lnTo>
                          <a:pt x="42" y="16"/>
                        </a:lnTo>
                        <a:lnTo>
                          <a:pt x="45" y="73"/>
                        </a:lnTo>
                        <a:lnTo>
                          <a:pt x="31" y="124"/>
                        </a:lnTo>
                        <a:lnTo>
                          <a:pt x="21" y="163"/>
                        </a:lnTo>
                        <a:lnTo>
                          <a:pt x="7" y="209"/>
                        </a:lnTo>
                        <a:lnTo>
                          <a:pt x="0" y="283"/>
                        </a:lnTo>
                        <a:lnTo>
                          <a:pt x="10" y="326"/>
                        </a:lnTo>
                        <a:lnTo>
                          <a:pt x="31" y="369"/>
                        </a:lnTo>
                        <a:lnTo>
                          <a:pt x="56" y="402"/>
                        </a:lnTo>
                        <a:lnTo>
                          <a:pt x="91" y="415"/>
                        </a:lnTo>
                        <a:lnTo>
                          <a:pt x="144" y="429"/>
                        </a:lnTo>
                        <a:lnTo>
                          <a:pt x="215" y="445"/>
                        </a:lnTo>
                        <a:lnTo>
                          <a:pt x="247" y="473"/>
                        </a:lnTo>
                        <a:lnTo>
                          <a:pt x="285" y="498"/>
                        </a:lnTo>
                        <a:lnTo>
                          <a:pt x="345" y="520"/>
                        </a:lnTo>
                        <a:lnTo>
                          <a:pt x="412" y="536"/>
                        </a:lnTo>
                        <a:lnTo>
                          <a:pt x="526" y="547"/>
                        </a:lnTo>
                        <a:lnTo>
                          <a:pt x="622" y="547"/>
                        </a:lnTo>
                        <a:lnTo>
                          <a:pt x="692" y="541"/>
                        </a:lnTo>
                        <a:lnTo>
                          <a:pt x="759" y="536"/>
                        </a:lnTo>
                        <a:lnTo>
                          <a:pt x="809" y="557"/>
                        </a:lnTo>
                        <a:lnTo>
                          <a:pt x="904" y="552"/>
                        </a:lnTo>
                        <a:lnTo>
                          <a:pt x="1289" y="595"/>
                        </a:lnTo>
                        <a:lnTo>
                          <a:pt x="1459" y="614"/>
                        </a:lnTo>
                        <a:lnTo>
                          <a:pt x="1632" y="612"/>
                        </a:lnTo>
                        <a:close/>
                      </a:path>
                    </a:pathLst>
                  </a:custGeom>
                  <a:solidFill>
                    <a:srgbClr val="606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477720" y="5897520"/>
                    <a:ext cx="622800" cy="187560"/>
                  </a:xfrm>
                  <a:custGeom>
                    <a:avLst/>
                    <a:gdLst/>
                    <a:ahLst/>
                    <a:rect l="0" t="0" r="r" b="b"/>
                    <a:pathLst>
                      <a:path w="1730" h="521">
                        <a:moveTo>
                          <a:pt x="60" y="18"/>
                        </a:moveTo>
                        <a:lnTo>
                          <a:pt x="56" y="53"/>
                        </a:lnTo>
                        <a:lnTo>
                          <a:pt x="35" y="40"/>
                        </a:lnTo>
                        <a:lnTo>
                          <a:pt x="10" y="124"/>
                        </a:lnTo>
                        <a:lnTo>
                          <a:pt x="0" y="221"/>
                        </a:lnTo>
                        <a:lnTo>
                          <a:pt x="45" y="321"/>
                        </a:lnTo>
                        <a:lnTo>
                          <a:pt x="152" y="346"/>
                        </a:lnTo>
                        <a:lnTo>
                          <a:pt x="141" y="321"/>
                        </a:lnTo>
                        <a:lnTo>
                          <a:pt x="197" y="356"/>
                        </a:lnTo>
                        <a:lnTo>
                          <a:pt x="250" y="391"/>
                        </a:lnTo>
                        <a:lnTo>
                          <a:pt x="360" y="429"/>
                        </a:lnTo>
                        <a:lnTo>
                          <a:pt x="499" y="440"/>
                        </a:lnTo>
                        <a:lnTo>
                          <a:pt x="665" y="445"/>
                        </a:lnTo>
                        <a:lnTo>
                          <a:pt x="736" y="440"/>
                        </a:lnTo>
                        <a:lnTo>
                          <a:pt x="672" y="421"/>
                        </a:lnTo>
                        <a:lnTo>
                          <a:pt x="644" y="367"/>
                        </a:lnTo>
                        <a:lnTo>
                          <a:pt x="693" y="413"/>
                        </a:lnTo>
                        <a:lnTo>
                          <a:pt x="757" y="437"/>
                        </a:lnTo>
                        <a:lnTo>
                          <a:pt x="814" y="459"/>
                        </a:lnTo>
                        <a:lnTo>
                          <a:pt x="870" y="453"/>
                        </a:lnTo>
                        <a:lnTo>
                          <a:pt x="831" y="432"/>
                        </a:lnTo>
                        <a:lnTo>
                          <a:pt x="792" y="410"/>
                        </a:lnTo>
                        <a:lnTo>
                          <a:pt x="856" y="424"/>
                        </a:lnTo>
                        <a:lnTo>
                          <a:pt x="920" y="459"/>
                        </a:lnTo>
                        <a:lnTo>
                          <a:pt x="1118" y="478"/>
                        </a:lnTo>
                        <a:lnTo>
                          <a:pt x="1317" y="499"/>
                        </a:lnTo>
                        <a:lnTo>
                          <a:pt x="1387" y="497"/>
                        </a:lnTo>
                        <a:lnTo>
                          <a:pt x="1313" y="467"/>
                        </a:lnTo>
                        <a:lnTo>
                          <a:pt x="1238" y="453"/>
                        </a:lnTo>
                        <a:lnTo>
                          <a:pt x="1320" y="451"/>
                        </a:lnTo>
                        <a:lnTo>
                          <a:pt x="1384" y="472"/>
                        </a:lnTo>
                        <a:lnTo>
                          <a:pt x="1461" y="510"/>
                        </a:lnTo>
                        <a:lnTo>
                          <a:pt x="1405" y="451"/>
                        </a:lnTo>
                        <a:lnTo>
                          <a:pt x="1331" y="421"/>
                        </a:lnTo>
                        <a:lnTo>
                          <a:pt x="1426" y="432"/>
                        </a:lnTo>
                        <a:lnTo>
                          <a:pt x="1476" y="480"/>
                        </a:lnTo>
                        <a:lnTo>
                          <a:pt x="1486" y="521"/>
                        </a:lnTo>
                        <a:lnTo>
                          <a:pt x="1550" y="467"/>
                        </a:lnTo>
                        <a:lnTo>
                          <a:pt x="1613" y="440"/>
                        </a:lnTo>
                        <a:lnTo>
                          <a:pt x="1578" y="470"/>
                        </a:lnTo>
                        <a:lnTo>
                          <a:pt x="1525" y="521"/>
                        </a:lnTo>
                        <a:lnTo>
                          <a:pt x="1681" y="497"/>
                        </a:lnTo>
                        <a:lnTo>
                          <a:pt x="1709" y="488"/>
                        </a:lnTo>
                        <a:lnTo>
                          <a:pt x="1730" y="424"/>
                        </a:lnTo>
                        <a:lnTo>
                          <a:pt x="1720" y="332"/>
                        </a:lnTo>
                        <a:lnTo>
                          <a:pt x="1695" y="273"/>
                        </a:lnTo>
                        <a:lnTo>
                          <a:pt x="1599" y="226"/>
                        </a:lnTo>
                        <a:lnTo>
                          <a:pt x="1479" y="186"/>
                        </a:lnTo>
                        <a:lnTo>
                          <a:pt x="1245" y="129"/>
                        </a:lnTo>
                        <a:lnTo>
                          <a:pt x="1057" y="91"/>
                        </a:lnTo>
                        <a:lnTo>
                          <a:pt x="958" y="83"/>
                        </a:lnTo>
                        <a:lnTo>
                          <a:pt x="913" y="129"/>
                        </a:lnTo>
                        <a:lnTo>
                          <a:pt x="782" y="177"/>
                        </a:lnTo>
                        <a:lnTo>
                          <a:pt x="852" y="134"/>
                        </a:lnTo>
                        <a:lnTo>
                          <a:pt x="905" y="113"/>
                        </a:lnTo>
                        <a:lnTo>
                          <a:pt x="927" y="80"/>
                        </a:lnTo>
                        <a:lnTo>
                          <a:pt x="920" y="67"/>
                        </a:lnTo>
                        <a:lnTo>
                          <a:pt x="881" y="67"/>
                        </a:lnTo>
                        <a:lnTo>
                          <a:pt x="856" y="83"/>
                        </a:lnTo>
                        <a:lnTo>
                          <a:pt x="831" y="99"/>
                        </a:lnTo>
                        <a:lnTo>
                          <a:pt x="775" y="118"/>
                        </a:lnTo>
                        <a:lnTo>
                          <a:pt x="828" y="83"/>
                        </a:lnTo>
                        <a:lnTo>
                          <a:pt x="852" y="59"/>
                        </a:lnTo>
                        <a:lnTo>
                          <a:pt x="835" y="40"/>
                        </a:lnTo>
                        <a:lnTo>
                          <a:pt x="789" y="32"/>
                        </a:lnTo>
                        <a:lnTo>
                          <a:pt x="729" y="70"/>
                        </a:lnTo>
                        <a:lnTo>
                          <a:pt x="672" y="97"/>
                        </a:lnTo>
                        <a:lnTo>
                          <a:pt x="743" y="37"/>
                        </a:lnTo>
                        <a:lnTo>
                          <a:pt x="761" y="16"/>
                        </a:lnTo>
                        <a:lnTo>
                          <a:pt x="761" y="0"/>
                        </a:lnTo>
                        <a:lnTo>
                          <a:pt x="707" y="5"/>
                        </a:lnTo>
                        <a:lnTo>
                          <a:pt x="651" y="32"/>
                        </a:lnTo>
                        <a:lnTo>
                          <a:pt x="616" y="51"/>
                        </a:lnTo>
                        <a:lnTo>
                          <a:pt x="453" y="64"/>
                        </a:lnTo>
                        <a:lnTo>
                          <a:pt x="457" y="32"/>
                        </a:lnTo>
                        <a:lnTo>
                          <a:pt x="406" y="21"/>
                        </a:lnTo>
                        <a:lnTo>
                          <a:pt x="406" y="62"/>
                        </a:lnTo>
                        <a:lnTo>
                          <a:pt x="357" y="70"/>
                        </a:lnTo>
                        <a:lnTo>
                          <a:pt x="250" y="80"/>
                        </a:lnTo>
                        <a:lnTo>
                          <a:pt x="258" y="37"/>
                        </a:lnTo>
                        <a:lnTo>
                          <a:pt x="219" y="37"/>
                        </a:lnTo>
                        <a:lnTo>
                          <a:pt x="215" y="80"/>
                        </a:lnTo>
                        <a:lnTo>
                          <a:pt x="152" y="78"/>
                        </a:lnTo>
                        <a:lnTo>
                          <a:pt x="88" y="67"/>
                        </a:lnTo>
                        <a:lnTo>
                          <a:pt x="84" y="32"/>
                        </a:lnTo>
                        <a:lnTo>
                          <a:pt x="60" y="18"/>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 name=""/>
                  <p:cNvSpPr/>
                  <p:nvPr/>
                </p:nvSpPr>
                <p:spPr>
                  <a:xfrm>
                    <a:off x="566640" y="5967360"/>
                    <a:ext cx="76680" cy="25920"/>
                  </a:xfrm>
                  <a:custGeom>
                    <a:avLst/>
                    <a:gdLst/>
                    <a:ahLst/>
                    <a:rect l="0" t="0" r="r" b="b"/>
                    <a:pathLst>
                      <a:path w="213" h="72">
                        <a:moveTo>
                          <a:pt x="0" y="0"/>
                        </a:moveTo>
                        <a:lnTo>
                          <a:pt x="96" y="72"/>
                        </a:lnTo>
                        <a:lnTo>
                          <a:pt x="213" y="53"/>
                        </a:lnTo>
                        <a:lnTo>
                          <a:pt x="0" y="0"/>
                        </a:lnTo>
                        <a:close/>
                      </a:path>
                    </a:pathLst>
                  </a:custGeom>
                  <a:solidFill>
                    <a:srgbClr val="60606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45" name=""/>
                  <p:cNvSpPr/>
                  <p:nvPr/>
                </p:nvSpPr>
                <p:spPr>
                  <a:xfrm>
                    <a:off x="479520" y="5950080"/>
                    <a:ext cx="43200" cy="25920"/>
                  </a:xfrm>
                  <a:custGeom>
                    <a:avLst/>
                    <a:gdLst/>
                    <a:ahLst/>
                    <a:rect l="0" t="0" r="r" b="b"/>
                    <a:pathLst>
                      <a:path w="120" h="72">
                        <a:moveTo>
                          <a:pt x="0" y="0"/>
                        </a:moveTo>
                        <a:lnTo>
                          <a:pt x="31" y="40"/>
                        </a:lnTo>
                        <a:lnTo>
                          <a:pt x="120" y="72"/>
                        </a:lnTo>
                        <a:lnTo>
                          <a:pt x="28" y="72"/>
                        </a:lnTo>
                        <a:lnTo>
                          <a:pt x="0" y="0"/>
                        </a:lnTo>
                        <a:close/>
                      </a:path>
                    </a:pathLst>
                  </a:custGeom>
                  <a:solidFill>
                    <a:srgbClr val="60606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46" name=""/>
                  <p:cNvSpPr/>
                  <p:nvPr/>
                </p:nvSpPr>
                <p:spPr>
                  <a:xfrm>
                    <a:off x="698400" y="5938920"/>
                    <a:ext cx="71640" cy="25920"/>
                  </a:xfrm>
                  <a:custGeom>
                    <a:avLst/>
                    <a:gdLst/>
                    <a:ahLst/>
                    <a:rect l="0" t="0" r="r" b="b"/>
                    <a:pathLst>
                      <a:path w="199" h="72">
                        <a:moveTo>
                          <a:pt x="0" y="0"/>
                        </a:moveTo>
                        <a:lnTo>
                          <a:pt x="88" y="5"/>
                        </a:lnTo>
                        <a:lnTo>
                          <a:pt x="107" y="13"/>
                        </a:lnTo>
                        <a:lnTo>
                          <a:pt x="107" y="38"/>
                        </a:lnTo>
                        <a:lnTo>
                          <a:pt x="114" y="64"/>
                        </a:lnTo>
                        <a:lnTo>
                          <a:pt x="199" y="72"/>
                        </a:lnTo>
                        <a:lnTo>
                          <a:pt x="95" y="69"/>
                        </a:lnTo>
                        <a:lnTo>
                          <a:pt x="81" y="22"/>
                        </a:lnTo>
                        <a:lnTo>
                          <a:pt x="0" y="0"/>
                        </a:lnTo>
                        <a:close/>
                      </a:path>
                    </a:pathLst>
                  </a:custGeom>
                  <a:solidFill>
                    <a:srgbClr val="60606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47" name=""/>
                  <p:cNvSpPr/>
                  <p:nvPr/>
                </p:nvSpPr>
                <p:spPr>
                  <a:xfrm>
                    <a:off x="781200" y="6016680"/>
                    <a:ext cx="252720" cy="43200"/>
                  </a:xfrm>
                  <a:custGeom>
                    <a:avLst/>
                    <a:gdLst/>
                    <a:ahLst/>
                    <a:rect l="0" t="0" r="r" b="b"/>
                    <a:pathLst>
                      <a:path w="702" h="120">
                        <a:moveTo>
                          <a:pt x="0" y="0"/>
                        </a:moveTo>
                        <a:lnTo>
                          <a:pt x="177" y="5"/>
                        </a:lnTo>
                        <a:lnTo>
                          <a:pt x="362" y="35"/>
                        </a:lnTo>
                        <a:lnTo>
                          <a:pt x="496" y="38"/>
                        </a:lnTo>
                        <a:lnTo>
                          <a:pt x="610" y="55"/>
                        </a:lnTo>
                        <a:lnTo>
                          <a:pt x="652" y="97"/>
                        </a:lnTo>
                        <a:lnTo>
                          <a:pt x="702" y="120"/>
                        </a:lnTo>
                        <a:lnTo>
                          <a:pt x="652" y="111"/>
                        </a:lnTo>
                        <a:lnTo>
                          <a:pt x="599" y="67"/>
                        </a:lnTo>
                        <a:lnTo>
                          <a:pt x="454" y="44"/>
                        </a:lnTo>
                        <a:lnTo>
                          <a:pt x="362" y="44"/>
                        </a:lnTo>
                        <a:lnTo>
                          <a:pt x="290" y="35"/>
                        </a:lnTo>
                        <a:lnTo>
                          <a:pt x="166" y="11"/>
                        </a:lnTo>
                        <a:lnTo>
                          <a:pt x="0" y="0"/>
                        </a:lnTo>
                        <a:close/>
                      </a:path>
                    </a:pathLst>
                  </a:custGeom>
                  <a:solidFill>
                    <a:srgbClr val="606060"/>
                  </a:solidFill>
                  <a:ln w="0">
                    <a:noFill/>
                  </a:ln>
                </p:spPr>
                <p:txBody>
                  <a:bodyPr lIns="90000" rIns="90000" tIns="-1800" bIns="-1800" anchor="t">
                    <a:noAutofit/>
                  </a:bodyPr>
                  <a:p>
                    <a:endParaRPr b="0" lang="en-US" sz="1800" spc="-1" strike="noStrike">
                      <a:solidFill>
                        <a:srgbClr val="000000"/>
                      </a:solidFill>
                      <a:latin typeface="Arial"/>
                    </a:endParaRPr>
                  </a:p>
                </p:txBody>
              </p:sp>
            </p:grpSp>
            <p:grpSp>
              <p:nvGrpSpPr>
                <p:cNvPr id="248" name=""/>
                <p:cNvGrpSpPr/>
                <p:nvPr/>
              </p:nvGrpSpPr>
              <p:grpSpPr>
                <a:xfrm>
                  <a:off x="728640" y="5638680"/>
                  <a:ext cx="263880" cy="110160"/>
                  <a:chOff x="728640" y="5638680"/>
                  <a:chExt cx="263880" cy="110160"/>
                </a:xfrm>
              </p:grpSpPr>
              <p:grpSp>
                <p:nvGrpSpPr>
                  <p:cNvPr id="249" name=""/>
                  <p:cNvGrpSpPr/>
                  <p:nvPr/>
                </p:nvGrpSpPr>
                <p:grpSpPr>
                  <a:xfrm>
                    <a:off x="762120" y="5638680"/>
                    <a:ext cx="230400" cy="92880"/>
                    <a:chOff x="762120" y="5638680"/>
                    <a:chExt cx="230400" cy="92880"/>
                  </a:xfrm>
                </p:grpSpPr>
                <p:sp>
                  <p:nvSpPr>
                    <p:cNvPr id="250" name=""/>
                    <p:cNvSpPr/>
                    <p:nvPr/>
                  </p:nvSpPr>
                  <p:spPr>
                    <a:xfrm>
                      <a:off x="762120" y="5638680"/>
                      <a:ext cx="230400" cy="89280"/>
                    </a:xfrm>
                    <a:custGeom>
                      <a:avLst/>
                      <a:gdLst/>
                      <a:ahLst/>
                      <a:rect l="0" t="0" r="r" b="b"/>
                      <a:pathLst>
                        <a:path w="640" h="248">
                          <a:moveTo>
                            <a:pt x="59" y="248"/>
                          </a:moveTo>
                          <a:lnTo>
                            <a:pt x="94" y="243"/>
                          </a:lnTo>
                          <a:lnTo>
                            <a:pt x="126" y="230"/>
                          </a:lnTo>
                          <a:lnTo>
                            <a:pt x="158" y="224"/>
                          </a:lnTo>
                          <a:lnTo>
                            <a:pt x="210" y="232"/>
                          </a:lnTo>
                          <a:lnTo>
                            <a:pt x="249" y="230"/>
                          </a:lnTo>
                          <a:lnTo>
                            <a:pt x="277" y="224"/>
                          </a:lnTo>
                          <a:lnTo>
                            <a:pt x="298" y="216"/>
                          </a:lnTo>
                          <a:lnTo>
                            <a:pt x="319" y="211"/>
                          </a:lnTo>
                          <a:lnTo>
                            <a:pt x="345" y="195"/>
                          </a:lnTo>
                          <a:lnTo>
                            <a:pt x="362" y="178"/>
                          </a:lnTo>
                          <a:lnTo>
                            <a:pt x="394" y="162"/>
                          </a:lnTo>
                          <a:lnTo>
                            <a:pt x="436" y="167"/>
                          </a:lnTo>
                          <a:lnTo>
                            <a:pt x="461" y="167"/>
                          </a:lnTo>
                          <a:lnTo>
                            <a:pt x="475" y="164"/>
                          </a:lnTo>
                          <a:lnTo>
                            <a:pt x="482" y="159"/>
                          </a:lnTo>
                          <a:lnTo>
                            <a:pt x="489" y="148"/>
                          </a:lnTo>
                          <a:lnTo>
                            <a:pt x="485" y="140"/>
                          </a:lnTo>
                          <a:lnTo>
                            <a:pt x="475" y="129"/>
                          </a:lnTo>
                          <a:lnTo>
                            <a:pt x="461" y="127"/>
                          </a:lnTo>
                          <a:lnTo>
                            <a:pt x="426" y="124"/>
                          </a:lnTo>
                          <a:lnTo>
                            <a:pt x="387" y="111"/>
                          </a:lnTo>
                          <a:lnTo>
                            <a:pt x="419" y="92"/>
                          </a:lnTo>
                          <a:lnTo>
                            <a:pt x="461" y="78"/>
                          </a:lnTo>
                          <a:lnTo>
                            <a:pt x="496" y="81"/>
                          </a:lnTo>
                          <a:lnTo>
                            <a:pt x="535" y="78"/>
                          </a:lnTo>
                          <a:lnTo>
                            <a:pt x="559" y="86"/>
                          </a:lnTo>
                          <a:lnTo>
                            <a:pt x="591" y="86"/>
                          </a:lnTo>
                          <a:lnTo>
                            <a:pt x="601" y="78"/>
                          </a:lnTo>
                          <a:lnTo>
                            <a:pt x="605" y="68"/>
                          </a:lnTo>
                          <a:lnTo>
                            <a:pt x="622" y="70"/>
                          </a:lnTo>
                          <a:lnTo>
                            <a:pt x="633" y="68"/>
                          </a:lnTo>
                          <a:lnTo>
                            <a:pt x="640" y="56"/>
                          </a:lnTo>
                          <a:lnTo>
                            <a:pt x="636" y="48"/>
                          </a:lnTo>
                          <a:lnTo>
                            <a:pt x="626" y="42"/>
                          </a:lnTo>
                          <a:lnTo>
                            <a:pt x="608" y="37"/>
                          </a:lnTo>
                          <a:lnTo>
                            <a:pt x="594" y="29"/>
                          </a:lnTo>
                          <a:lnTo>
                            <a:pt x="577" y="21"/>
                          </a:lnTo>
                          <a:lnTo>
                            <a:pt x="559" y="18"/>
                          </a:lnTo>
                          <a:lnTo>
                            <a:pt x="542" y="18"/>
                          </a:lnTo>
                          <a:lnTo>
                            <a:pt x="464" y="5"/>
                          </a:lnTo>
                          <a:lnTo>
                            <a:pt x="450" y="2"/>
                          </a:lnTo>
                          <a:lnTo>
                            <a:pt x="429" y="0"/>
                          </a:lnTo>
                          <a:lnTo>
                            <a:pt x="412" y="2"/>
                          </a:lnTo>
                          <a:lnTo>
                            <a:pt x="387" y="8"/>
                          </a:lnTo>
                          <a:lnTo>
                            <a:pt x="319" y="37"/>
                          </a:lnTo>
                          <a:lnTo>
                            <a:pt x="288" y="40"/>
                          </a:lnTo>
                          <a:lnTo>
                            <a:pt x="259" y="45"/>
                          </a:lnTo>
                          <a:lnTo>
                            <a:pt x="238" y="56"/>
                          </a:lnTo>
                          <a:lnTo>
                            <a:pt x="224" y="70"/>
                          </a:lnTo>
                          <a:lnTo>
                            <a:pt x="168" y="100"/>
                          </a:lnTo>
                          <a:lnTo>
                            <a:pt x="144" y="113"/>
                          </a:lnTo>
                          <a:lnTo>
                            <a:pt x="112" y="140"/>
                          </a:lnTo>
                          <a:lnTo>
                            <a:pt x="91" y="148"/>
                          </a:lnTo>
                          <a:lnTo>
                            <a:pt x="0" y="151"/>
                          </a:lnTo>
                          <a:lnTo>
                            <a:pt x="59" y="248"/>
                          </a:lnTo>
                          <a:close/>
                        </a:path>
                      </a:pathLst>
                    </a:custGeom>
                    <a:solidFill>
                      <a:srgbClr val="ffc080"/>
                    </a:solidFill>
                    <a:ln w="12600">
                      <a:solidFill>
                        <a:srgbClr val="402000"/>
                      </a:solidFill>
                      <a:round/>
                    </a:ln>
                  </p:spPr>
                  <p:txBody>
                    <a:bodyPr lIns="96120" rIns="96120" tIns="38160" bIns="38160" anchor="t">
                      <a:noAutofit/>
                    </a:bodyPr>
                    <a:p>
                      <a:endParaRPr b="0" lang="en-US" sz="1800" spc="-1" strike="noStrike">
                        <a:solidFill>
                          <a:srgbClr val="000000"/>
                        </a:solidFill>
                        <a:latin typeface="Arial"/>
                      </a:endParaRPr>
                    </a:p>
                  </p:txBody>
                </p:sp>
                <p:sp>
                  <p:nvSpPr>
                    <p:cNvPr id="251" name=""/>
                    <p:cNvSpPr/>
                    <p:nvPr/>
                  </p:nvSpPr>
                  <p:spPr>
                    <a:xfrm>
                      <a:off x="858960" y="5675400"/>
                      <a:ext cx="44640" cy="25920"/>
                    </a:xfrm>
                    <a:custGeom>
                      <a:avLst/>
                      <a:gdLst/>
                      <a:ahLst/>
                      <a:rect l="0" t="0" r="r" b="b"/>
                      <a:pathLst>
                        <a:path w="124" h="72">
                          <a:moveTo>
                            <a:pt x="124" y="0"/>
                          </a:moveTo>
                          <a:lnTo>
                            <a:pt x="120" y="23"/>
                          </a:lnTo>
                          <a:lnTo>
                            <a:pt x="99" y="23"/>
                          </a:lnTo>
                          <a:lnTo>
                            <a:pt x="89" y="23"/>
                          </a:lnTo>
                          <a:lnTo>
                            <a:pt x="71" y="45"/>
                          </a:lnTo>
                          <a:lnTo>
                            <a:pt x="45" y="45"/>
                          </a:lnTo>
                          <a:lnTo>
                            <a:pt x="21" y="45"/>
                          </a:lnTo>
                          <a:lnTo>
                            <a:pt x="0" y="72"/>
                          </a:lnTo>
                          <a:lnTo>
                            <a:pt x="17" y="45"/>
                          </a:lnTo>
                          <a:lnTo>
                            <a:pt x="38" y="45"/>
                          </a:lnTo>
                          <a:lnTo>
                            <a:pt x="52" y="45"/>
                          </a:lnTo>
                          <a:lnTo>
                            <a:pt x="71" y="23"/>
                          </a:lnTo>
                          <a:lnTo>
                            <a:pt x="89" y="23"/>
                          </a:lnTo>
                          <a:lnTo>
                            <a:pt x="96" y="0"/>
                          </a:lnTo>
                          <a:lnTo>
                            <a:pt x="124"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52" name=""/>
                    <p:cNvSpPr/>
                    <p:nvPr/>
                  </p:nvSpPr>
                  <p:spPr>
                    <a:xfrm>
                      <a:off x="923760" y="5686560"/>
                      <a:ext cx="25920" cy="25920"/>
                    </a:xfrm>
                    <a:custGeom>
                      <a:avLst/>
                      <a:gdLst/>
                      <a:ahLst/>
                      <a:rect l="0" t="0" r="r" b="b"/>
                      <a:pathLst>
                        <a:path w="72" h="72">
                          <a:moveTo>
                            <a:pt x="45" y="0"/>
                          </a:moveTo>
                          <a:lnTo>
                            <a:pt x="23" y="0"/>
                          </a:lnTo>
                          <a:lnTo>
                            <a:pt x="45" y="36"/>
                          </a:lnTo>
                          <a:lnTo>
                            <a:pt x="72" y="72"/>
                          </a:lnTo>
                          <a:lnTo>
                            <a:pt x="23" y="36"/>
                          </a:lnTo>
                          <a:lnTo>
                            <a:pt x="0" y="36"/>
                          </a:lnTo>
                          <a:lnTo>
                            <a:pt x="45"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53" name=""/>
                    <p:cNvSpPr/>
                    <p:nvPr/>
                  </p:nvSpPr>
                  <p:spPr>
                    <a:xfrm>
                      <a:off x="958680" y="5649840"/>
                      <a:ext cx="25920" cy="25920"/>
                    </a:xfrm>
                    <a:custGeom>
                      <a:avLst/>
                      <a:gdLst/>
                      <a:ahLst/>
                      <a:rect l="0" t="0" r="r" b="b"/>
                      <a:pathLst>
                        <a:path w="72" h="72">
                          <a:moveTo>
                            <a:pt x="72" y="72"/>
                          </a:moveTo>
                          <a:lnTo>
                            <a:pt x="64" y="72"/>
                          </a:lnTo>
                          <a:lnTo>
                            <a:pt x="51" y="45"/>
                          </a:lnTo>
                          <a:lnTo>
                            <a:pt x="40" y="45"/>
                          </a:lnTo>
                          <a:lnTo>
                            <a:pt x="32" y="23"/>
                          </a:lnTo>
                          <a:lnTo>
                            <a:pt x="28" y="23"/>
                          </a:lnTo>
                          <a:lnTo>
                            <a:pt x="11" y="0"/>
                          </a:lnTo>
                          <a:lnTo>
                            <a:pt x="0" y="0"/>
                          </a:lnTo>
                          <a:lnTo>
                            <a:pt x="11" y="0"/>
                          </a:lnTo>
                          <a:lnTo>
                            <a:pt x="32" y="0"/>
                          </a:lnTo>
                          <a:lnTo>
                            <a:pt x="40" y="23"/>
                          </a:lnTo>
                          <a:lnTo>
                            <a:pt x="48" y="23"/>
                          </a:lnTo>
                          <a:lnTo>
                            <a:pt x="7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54" name=""/>
                    <p:cNvSpPr/>
                    <p:nvPr/>
                  </p:nvSpPr>
                  <p:spPr>
                    <a:xfrm>
                      <a:off x="893880" y="5645160"/>
                      <a:ext cx="39960" cy="25920"/>
                    </a:xfrm>
                    <a:custGeom>
                      <a:avLst/>
                      <a:gdLst/>
                      <a:ahLst/>
                      <a:rect l="0" t="0" r="r" b="b"/>
                      <a:pathLst>
                        <a:path w="111" h="72">
                          <a:moveTo>
                            <a:pt x="111" y="0"/>
                          </a:moveTo>
                          <a:lnTo>
                            <a:pt x="90" y="0"/>
                          </a:lnTo>
                          <a:lnTo>
                            <a:pt x="76" y="0"/>
                          </a:lnTo>
                          <a:lnTo>
                            <a:pt x="69" y="0"/>
                          </a:lnTo>
                          <a:lnTo>
                            <a:pt x="56" y="0"/>
                          </a:lnTo>
                          <a:lnTo>
                            <a:pt x="48" y="36"/>
                          </a:lnTo>
                          <a:lnTo>
                            <a:pt x="34" y="36"/>
                          </a:lnTo>
                          <a:lnTo>
                            <a:pt x="17" y="72"/>
                          </a:lnTo>
                          <a:lnTo>
                            <a:pt x="0" y="72"/>
                          </a:lnTo>
                          <a:lnTo>
                            <a:pt x="17" y="72"/>
                          </a:lnTo>
                          <a:lnTo>
                            <a:pt x="27" y="72"/>
                          </a:lnTo>
                          <a:lnTo>
                            <a:pt x="48" y="36"/>
                          </a:lnTo>
                          <a:lnTo>
                            <a:pt x="59" y="0"/>
                          </a:lnTo>
                          <a:lnTo>
                            <a:pt x="76" y="0"/>
                          </a:lnTo>
                          <a:lnTo>
                            <a:pt x="90" y="0"/>
                          </a:lnTo>
                          <a:lnTo>
                            <a:pt x="111"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55" name=""/>
                    <p:cNvSpPr/>
                    <p:nvPr/>
                  </p:nvSpPr>
                  <p:spPr>
                    <a:xfrm>
                      <a:off x="974880" y="5654520"/>
                      <a:ext cx="0" cy="25560"/>
                    </a:xfrm>
                    <a:prstGeom prst="line">
                      <a:avLst/>
                    </a:prstGeom>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256" name=""/>
                    <p:cNvSpPr/>
                    <p:nvPr/>
                  </p:nvSpPr>
                  <p:spPr>
                    <a:xfrm>
                      <a:off x="985680" y="5651640"/>
                      <a:ext cx="0" cy="25200"/>
                    </a:xfrm>
                    <a:custGeom>
                      <a:avLst/>
                      <a:gdLst/>
                      <a:ahLst/>
                      <a:rect l="0" t="0" r="r" b="b"/>
                      <a:pathLst>
                        <a:path w="0" h="70">
                          <a:moveTo>
                            <a:pt x="0" y="70"/>
                          </a:moveTo>
                          <a:lnTo>
                            <a:pt x="0" y="0"/>
                          </a:lnTo>
                          <a:lnTo>
                            <a:pt x="0" y="70"/>
                          </a:lnTo>
                          <a:close/>
                        </a:path>
                      </a:pathLst>
                    </a:custGeom>
                    <a:solidFill>
                      <a:srgbClr val="402000"/>
                    </a:solidFill>
                    <a:ln w="0">
                      <a:noFill/>
                    </a:ln>
                  </p:spPr>
                  <p:txBody>
                    <a:bodyPr lIns="90000" rIns="90000" tIns="-19800" bIns="-19800" anchor="t">
                      <a:noAutofit/>
                    </a:bodyPr>
                    <a:p>
                      <a:endParaRPr b="0" lang="en-US" sz="1800" spc="-1" strike="noStrike">
                        <a:solidFill>
                          <a:srgbClr val="ffffff"/>
                        </a:solidFill>
                        <a:latin typeface="Arial"/>
                      </a:endParaRPr>
                    </a:p>
                  </p:txBody>
                </p:sp>
                <p:sp>
                  <p:nvSpPr>
                    <p:cNvPr id="257" name=""/>
                    <p:cNvSpPr/>
                    <p:nvPr/>
                  </p:nvSpPr>
                  <p:spPr>
                    <a:xfrm>
                      <a:off x="855720" y="5661000"/>
                      <a:ext cx="25920" cy="25920"/>
                    </a:xfrm>
                    <a:custGeom>
                      <a:avLst/>
                      <a:gdLst/>
                      <a:ahLst/>
                      <a:rect l="0" t="0" r="r" b="b"/>
                      <a:pathLst>
                        <a:path w="72" h="72">
                          <a:moveTo>
                            <a:pt x="72" y="0"/>
                          </a:moveTo>
                          <a:lnTo>
                            <a:pt x="72" y="36"/>
                          </a:lnTo>
                          <a:lnTo>
                            <a:pt x="0" y="72"/>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58" name=""/>
                    <p:cNvSpPr/>
                    <p:nvPr/>
                  </p:nvSpPr>
                  <p:spPr>
                    <a:xfrm>
                      <a:off x="811080" y="5705640"/>
                      <a:ext cx="25920" cy="25920"/>
                    </a:xfrm>
                    <a:custGeom>
                      <a:avLst/>
                      <a:gdLst/>
                      <a:ahLst/>
                      <a:rect l="0" t="0" r="r" b="b"/>
                      <a:pathLst>
                        <a:path w="72" h="72">
                          <a:moveTo>
                            <a:pt x="0" y="0"/>
                          </a:moveTo>
                          <a:lnTo>
                            <a:pt x="53" y="0"/>
                          </a:lnTo>
                          <a:lnTo>
                            <a:pt x="72" y="72"/>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grpSp>
              <p:grpSp>
                <p:nvGrpSpPr>
                  <p:cNvPr id="259" name=""/>
                  <p:cNvGrpSpPr/>
                  <p:nvPr/>
                </p:nvGrpSpPr>
                <p:grpSpPr>
                  <a:xfrm>
                    <a:off x="728640" y="5686560"/>
                    <a:ext cx="66960" cy="62280"/>
                    <a:chOff x="728640" y="5686560"/>
                    <a:chExt cx="66960" cy="62280"/>
                  </a:xfrm>
                </p:grpSpPr>
                <p:sp>
                  <p:nvSpPr>
                    <p:cNvPr id="260" name=""/>
                    <p:cNvSpPr/>
                    <p:nvPr/>
                  </p:nvSpPr>
                  <p:spPr>
                    <a:xfrm>
                      <a:off x="728640" y="5686560"/>
                      <a:ext cx="66960" cy="62280"/>
                    </a:xfrm>
                    <a:custGeom>
                      <a:avLst/>
                      <a:gdLst/>
                      <a:ahLst/>
                      <a:rect l="0" t="0" r="r" b="b"/>
                      <a:pathLst>
                        <a:path w="186" h="173">
                          <a:moveTo>
                            <a:pt x="123" y="10"/>
                          </a:moveTo>
                          <a:lnTo>
                            <a:pt x="151" y="34"/>
                          </a:lnTo>
                          <a:lnTo>
                            <a:pt x="165" y="57"/>
                          </a:lnTo>
                          <a:lnTo>
                            <a:pt x="179" y="89"/>
                          </a:lnTo>
                          <a:lnTo>
                            <a:pt x="179" y="108"/>
                          </a:lnTo>
                          <a:lnTo>
                            <a:pt x="186" y="139"/>
                          </a:lnTo>
                          <a:lnTo>
                            <a:pt x="34" y="173"/>
                          </a:lnTo>
                          <a:lnTo>
                            <a:pt x="0" y="0"/>
                          </a:lnTo>
                          <a:lnTo>
                            <a:pt x="62" y="10"/>
                          </a:lnTo>
                          <a:lnTo>
                            <a:pt x="123" y="10"/>
                          </a:lnTo>
                          <a:close/>
                        </a:path>
                      </a:pathLst>
                    </a:custGeom>
                    <a:solidFill>
                      <a:srgbClr val="c0c0c0"/>
                    </a:solidFill>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261" name=""/>
                    <p:cNvSpPr/>
                    <p:nvPr/>
                  </p:nvSpPr>
                  <p:spPr>
                    <a:xfrm>
                      <a:off x="744480" y="5691240"/>
                      <a:ext cx="44640" cy="44640"/>
                    </a:xfrm>
                    <a:custGeom>
                      <a:avLst/>
                      <a:gdLst/>
                      <a:ahLst/>
                      <a:rect l="0" t="0" r="r" b="b"/>
                      <a:pathLst>
                        <a:path w="124" h="124">
                          <a:moveTo>
                            <a:pt x="75" y="5"/>
                          </a:moveTo>
                          <a:lnTo>
                            <a:pt x="96" y="24"/>
                          </a:lnTo>
                          <a:lnTo>
                            <a:pt x="117" y="53"/>
                          </a:lnTo>
                          <a:lnTo>
                            <a:pt x="117" y="70"/>
                          </a:lnTo>
                          <a:lnTo>
                            <a:pt x="124" y="97"/>
                          </a:lnTo>
                          <a:lnTo>
                            <a:pt x="24" y="124"/>
                          </a:lnTo>
                          <a:lnTo>
                            <a:pt x="0" y="0"/>
                          </a:lnTo>
                          <a:lnTo>
                            <a:pt x="38" y="8"/>
                          </a:lnTo>
                          <a:lnTo>
                            <a:pt x="75" y="5"/>
                          </a:lnTo>
                          <a:close/>
                        </a:path>
                      </a:pathLst>
                    </a:custGeom>
                    <a:solidFill>
                      <a:srgbClr val="e0e0e0"/>
                    </a:solidFill>
                    <a:ln w="0">
                      <a:noFill/>
                    </a:ln>
                  </p:spPr>
                  <p:txBody>
                    <a:bodyPr lIns="90000" rIns="90000" tIns="-360" bIns="-360" anchor="t">
                      <a:noAutofit/>
                    </a:bodyPr>
                    <a:p>
                      <a:endParaRPr b="0" lang="en-US" sz="1800" spc="-1" strike="noStrike">
                        <a:solidFill>
                          <a:srgbClr val="000000"/>
                        </a:solidFill>
                        <a:latin typeface="Arial"/>
                      </a:endParaRPr>
                    </a:p>
                  </p:txBody>
                </p:sp>
              </p:grpSp>
            </p:grpSp>
            <p:sp>
              <p:nvSpPr>
                <p:cNvPr id="262" name=""/>
                <p:cNvSpPr/>
                <p:nvPr/>
              </p:nvSpPr>
              <p:spPr>
                <a:xfrm>
                  <a:off x="509760" y="5342040"/>
                  <a:ext cx="227520" cy="190800"/>
                </a:xfrm>
                <a:custGeom>
                  <a:avLst/>
                  <a:gdLst/>
                  <a:ahLst/>
                  <a:rect l="0" t="0" r="r" b="b"/>
                  <a:pathLst>
                    <a:path w="632" h="530">
                      <a:moveTo>
                        <a:pt x="423" y="16"/>
                      </a:moveTo>
                      <a:lnTo>
                        <a:pt x="481" y="46"/>
                      </a:lnTo>
                      <a:lnTo>
                        <a:pt x="509" y="84"/>
                      </a:lnTo>
                      <a:lnTo>
                        <a:pt x="537" y="124"/>
                      </a:lnTo>
                      <a:lnTo>
                        <a:pt x="555" y="146"/>
                      </a:lnTo>
                      <a:lnTo>
                        <a:pt x="555" y="168"/>
                      </a:lnTo>
                      <a:lnTo>
                        <a:pt x="540" y="195"/>
                      </a:lnTo>
                      <a:lnTo>
                        <a:pt x="569" y="217"/>
                      </a:lnTo>
                      <a:lnTo>
                        <a:pt x="611" y="275"/>
                      </a:lnTo>
                      <a:lnTo>
                        <a:pt x="632" y="307"/>
                      </a:lnTo>
                      <a:lnTo>
                        <a:pt x="632" y="315"/>
                      </a:lnTo>
                      <a:lnTo>
                        <a:pt x="629" y="326"/>
                      </a:lnTo>
                      <a:lnTo>
                        <a:pt x="607" y="332"/>
                      </a:lnTo>
                      <a:lnTo>
                        <a:pt x="583" y="332"/>
                      </a:lnTo>
                      <a:lnTo>
                        <a:pt x="565" y="334"/>
                      </a:lnTo>
                      <a:lnTo>
                        <a:pt x="569" y="359"/>
                      </a:lnTo>
                      <a:lnTo>
                        <a:pt x="576" y="386"/>
                      </a:lnTo>
                      <a:lnTo>
                        <a:pt x="558" y="399"/>
                      </a:lnTo>
                      <a:lnTo>
                        <a:pt x="565" y="421"/>
                      </a:lnTo>
                      <a:lnTo>
                        <a:pt x="551" y="432"/>
                      </a:lnTo>
                      <a:lnTo>
                        <a:pt x="540" y="467"/>
                      </a:lnTo>
                      <a:lnTo>
                        <a:pt x="519" y="478"/>
                      </a:lnTo>
                      <a:lnTo>
                        <a:pt x="491" y="478"/>
                      </a:lnTo>
                      <a:lnTo>
                        <a:pt x="448" y="473"/>
                      </a:lnTo>
                      <a:lnTo>
                        <a:pt x="402" y="467"/>
                      </a:lnTo>
                      <a:lnTo>
                        <a:pt x="406" y="530"/>
                      </a:lnTo>
                      <a:lnTo>
                        <a:pt x="70" y="448"/>
                      </a:lnTo>
                      <a:lnTo>
                        <a:pt x="98" y="399"/>
                      </a:lnTo>
                      <a:lnTo>
                        <a:pt x="91" y="361"/>
                      </a:lnTo>
                      <a:lnTo>
                        <a:pt x="0" y="291"/>
                      </a:lnTo>
                      <a:lnTo>
                        <a:pt x="0" y="100"/>
                      </a:lnTo>
                      <a:lnTo>
                        <a:pt x="59" y="48"/>
                      </a:lnTo>
                      <a:lnTo>
                        <a:pt x="137" y="21"/>
                      </a:lnTo>
                      <a:lnTo>
                        <a:pt x="222" y="0"/>
                      </a:lnTo>
                      <a:lnTo>
                        <a:pt x="328" y="10"/>
                      </a:lnTo>
                      <a:lnTo>
                        <a:pt x="423" y="16"/>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19280" y="5451480"/>
                  <a:ext cx="25920" cy="25920"/>
                </a:xfrm>
                <a:custGeom>
                  <a:avLst/>
                  <a:gdLst/>
                  <a:ahLst/>
                  <a:rect l="0" t="0" r="r" b="b"/>
                  <a:pathLst>
                    <a:path w="72" h="72">
                      <a:moveTo>
                        <a:pt x="72" y="0"/>
                      </a:moveTo>
                      <a:lnTo>
                        <a:pt x="72" y="72"/>
                      </a:lnTo>
                      <a:lnTo>
                        <a:pt x="36" y="36"/>
                      </a:lnTo>
                      <a:lnTo>
                        <a:pt x="0" y="72"/>
                      </a:lnTo>
                      <a:lnTo>
                        <a:pt x="0" y="0"/>
                      </a:lnTo>
                      <a:lnTo>
                        <a:pt x="36" y="0"/>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64" name=""/>
                <p:cNvSpPr/>
                <p:nvPr/>
              </p:nvSpPr>
              <p:spPr>
                <a:xfrm>
                  <a:off x="712800" y="5446800"/>
                  <a:ext cx="25920" cy="25920"/>
                </a:xfrm>
                <a:custGeom>
                  <a:avLst/>
                  <a:gdLst/>
                  <a:ahLst/>
                  <a:rect l="0" t="0" r="r" b="b"/>
                  <a:pathLst>
                    <a:path w="72" h="72">
                      <a:moveTo>
                        <a:pt x="72" y="0"/>
                      </a:moveTo>
                      <a:lnTo>
                        <a:pt x="17" y="0"/>
                      </a:lnTo>
                      <a:lnTo>
                        <a:pt x="17" y="72"/>
                      </a:lnTo>
                      <a:lnTo>
                        <a:pt x="0" y="0"/>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65" name=""/>
                <p:cNvSpPr/>
                <p:nvPr/>
              </p:nvSpPr>
              <p:spPr>
                <a:xfrm>
                  <a:off x="701640" y="5425920"/>
                  <a:ext cx="25920" cy="25920"/>
                </a:xfrm>
                <a:custGeom>
                  <a:avLst/>
                  <a:gdLst/>
                  <a:ahLst/>
                  <a:rect l="0" t="0" r="r" b="b"/>
                  <a:pathLst>
                    <a:path w="72" h="72">
                      <a:moveTo>
                        <a:pt x="0" y="0"/>
                      </a:moveTo>
                      <a:lnTo>
                        <a:pt x="45" y="36"/>
                      </a:lnTo>
                      <a:lnTo>
                        <a:pt x="72" y="72"/>
                      </a:lnTo>
                      <a:lnTo>
                        <a:pt x="45" y="45"/>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66" name=""/>
                <p:cNvSpPr/>
                <p:nvPr/>
              </p:nvSpPr>
              <p:spPr>
                <a:xfrm>
                  <a:off x="682560" y="5413320"/>
                  <a:ext cx="25920" cy="25920"/>
                </a:xfrm>
                <a:custGeom>
                  <a:avLst/>
                  <a:gdLst/>
                  <a:ahLst/>
                  <a:rect l="0" t="0" r="r" b="b"/>
                  <a:pathLst>
                    <a:path w="72" h="72">
                      <a:moveTo>
                        <a:pt x="72" y="0"/>
                      </a:moveTo>
                      <a:lnTo>
                        <a:pt x="59" y="36"/>
                      </a:lnTo>
                      <a:lnTo>
                        <a:pt x="59" y="53"/>
                      </a:lnTo>
                      <a:lnTo>
                        <a:pt x="63" y="72"/>
                      </a:lnTo>
                      <a:lnTo>
                        <a:pt x="49" y="53"/>
                      </a:lnTo>
                      <a:lnTo>
                        <a:pt x="36" y="53"/>
                      </a:lnTo>
                      <a:lnTo>
                        <a:pt x="23" y="36"/>
                      </a:lnTo>
                      <a:lnTo>
                        <a:pt x="0" y="36"/>
                      </a:lnTo>
                      <a:lnTo>
                        <a:pt x="23" y="17"/>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67" name=""/>
                <p:cNvSpPr/>
                <p:nvPr/>
              </p:nvSpPr>
              <p:spPr>
                <a:xfrm>
                  <a:off x="673200" y="5392800"/>
                  <a:ext cx="32040" cy="25920"/>
                </a:xfrm>
                <a:custGeom>
                  <a:avLst/>
                  <a:gdLst/>
                  <a:ahLst/>
                  <a:rect l="0" t="0" r="r" b="b"/>
                  <a:pathLst>
                    <a:path w="89" h="72">
                      <a:moveTo>
                        <a:pt x="89" y="36"/>
                      </a:moveTo>
                      <a:lnTo>
                        <a:pt x="85" y="53"/>
                      </a:lnTo>
                      <a:lnTo>
                        <a:pt x="75" y="72"/>
                      </a:lnTo>
                      <a:lnTo>
                        <a:pt x="60" y="53"/>
                      </a:lnTo>
                      <a:lnTo>
                        <a:pt x="42" y="36"/>
                      </a:lnTo>
                      <a:lnTo>
                        <a:pt x="17" y="36"/>
                      </a:lnTo>
                      <a:lnTo>
                        <a:pt x="0" y="36"/>
                      </a:lnTo>
                      <a:lnTo>
                        <a:pt x="24" y="17"/>
                      </a:lnTo>
                      <a:lnTo>
                        <a:pt x="38" y="17"/>
                      </a:lnTo>
                      <a:lnTo>
                        <a:pt x="38" y="0"/>
                      </a:lnTo>
                      <a:lnTo>
                        <a:pt x="50" y="17"/>
                      </a:lnTo>
                      <a:lnTo>
                        <a:pt x="50" y="0"/>
                      </a:lnTo>
                      <a:lnTo>
                        <a:pt x="60" y="17"/>
                      </a:lnTo>
                      <a:lnTo>
                        <a:pt x="71" y="17"/>
                      </a:lnTo>
                      <a:lnTo>
                        <a:pt x="89" y="36"/>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68" name=""/>
                <p:cNvSpPr/>
                <p:nvPr/>
              </p:nvSpPr>
              <p:spPr>
                <a:xfrm>
                  <a:off x="598320" y="5410080"/>
                  <a:ext cx="25920" cy="30600"/>
                </a:xfrm>
                <a:custGeom>
                  <a:avLst/>
                  <a:gdLst/>
                  <a:ahLst/>
                  <a:rect l="0" t="0" r="r" b="b"/>
                  <a:pathLst>
                    <a:path w="72" h="85">
                      <a:moveTo>
                        <a:pt x="72" y="16"/>
                      </a:moveTo>
                      <a:lnTo>
                        <a:pt x="49" y="5"/>
                      </a:lnTo>
                      <a:lnTo>
                        <a:pt x="17" y="8"/>
                      </a:lnTo>
                      <a:lnTo>
                        <a:pt x="4" y="22"/>
                      </a:lnTo>
                      <a:lnTo>
                        <a:pt x="4" y="41"/>
                      </a:lnTo>
                      <a:lnTo>
                        <a:pt x="4" y="57"/>
                      </a:lnTo>
                      <a:lnTo>
                        <a:pt x="8" y="69"/>
                      </a:lnTo>
                      <a:lnTo>
                        <a:pt x="31" y="49"/>
                      </a:lnTo>
                      <a:lnTo>
                        <a:pt x="36" y="38"/>
                      </a:lnTo>
                      <a:lnTo>
                        <a:pt x="63" y="33"/>
                      </a:lnTo>
                      <a:lnTo>
                        <a:pt x="49" y="46"/>
                      </a:lnTo>
                      <a:lnTo>
                        <a:pt x="23" y="57"/>
                      </a:lnTo>
                      <a:lnTo>
                        <a:pt x="23" y="72"/>
                      </a:lnTo>
                      <a:lnTo>
                        <a:pt x="31" y="83"/>
                      </a:lnTo>
                      <a:lnTo>
                        <a:pt x="45" y="85"/>
                      </a:lnTo>
                      <a:lnTo>
                        <a:pt x="8" y="80"/>
                      </a:lnTo>
                      <a:lnTo>
                        <a:pt x="0" y="63"/>
                      </a:lnTo>
                      <a:lnTo>
                        <a:pt x="0" y="38"/>
                      </a:lnTo>
                      <a:lnTo>
                        <a:pt x="0" y="16"/>
                      </a:lnTo>
                      <a:lnTo>
                        <a:pt x="8" y="5"/>
                      </a:lnTo>
                      <a:lnTo>
                        <a:pt x="36" y="0"/>
                      </a:lnTo>
                      <a:lnTo>
                        <a:pt x="59" y="2"/>
                      </a:lnTo>
                      <a:lnTo>
                        <a:pt x="72" y="16"/>
                      </a:lnTo>
                      <a:close/>
                    </a:path>
                  </a:pathLst>
                </a:custGeom>
                <a:solidFill>
                  <a:srgbClr val="402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269" name=""/>
                <p:cNvSpPr/>
                <p:nvPr/>
              </p:nvSpPr>
              <p:spPr>
                <a:xfrm>
                  <a:off x="588960" y="5403960"/>
                  <a:ext cx="28800" cy="43200"/>
                </a:xfrm>
                <a:custGeom>
                  <a:avLst/>
                  <a:gdLst/>
                  <a:ahLst/>
                  <a:rect l="0" t="0" r="r" b="b"/>
                  <a:pathLst>
                    <a:path w="80" h="120">
                      <a:moveTo>
                        <a:pt x="80" y="29"/>
                      </a:moveTo>
                      <a:lnTo>
                        <a:pt x="66" y="10"/>
                      </a:lnTo>
                      <a:lnTo>
                        <a:pt x="45" y="5"/>
                      </a:lnTo>
                      <a:lnTo>
                        <a:pt x="20" y="8"/>
                      </a:lnTo>
                      <a:lnTo>
                        <a:pt x="13" y="21"/>
                      </a:lnTo>
                      <a:lnTo>
                        <a:pt x="3" y="37"/>
                      </a:lnTo>
                      <a:lnTo>
                        <a:pt x="3" y="51"/>
                      </a:lnTo>
                      <a:lnTo>
                        <a:pt x="10" y="63"/>
                      </a:lnTo>
                      <a:lnTo>
                        <a:pt x="10" y="76"/>
                      </a:lnTo>
                      <a:lnTo>
                        <a:pt x="13" y="95"/>
                      </a:lnTo>
                      <a:lnTo>
                        <a:pt x="31" y="111"/>
                      </a:lnTo>
                      <a:lnTo>
                        <a:pt x="42" y="111"/>
                      </a:lnTo>
                      <a:lnTo>
                        <a:pt x="56" y="111"/>
                      </a:lnTo>
                      <a:lnTo>
                        <a:pt x="45" y="120"/>
                      </a:lnTo>
                      <a:lnTo>
                        <a:pt x="34" y="117"/>
                      </a:lnTo>
                      <a:lnTo>
                        <a:pt x="17" y="111"/>
                      </a:lnTo>
                      <a:lnTo>
                        <a:pt x="3" y="98"/>
                      </a:lnTo>
                      <a:lnTo>
                        <a:pt x="3" y="68"/>
                      </a:lnTo>
                      <a:lnTo>
                        <a:pt x="0" y="48"/>
                      </a:lnTo>
                      <a:lnTo>
                        <a:pt x="0" y="32"/>
                      </a:lnTo>
                      <a:lnTo>
                        <a:pt x="6" y="18"/>
                      </a:lnTo>
                      <a:lnTo>
                        <a:pt x="13" y="5"/>
                      </a:lnTo>
                      <a:lnTo>
                        <a:pt x="34" y="0"/>
                      </a:lnTo>
                      <a:lnTo>
                        <a:pt x="66" y="5"/>
                      </a:lnTo>
                      <a:lnTo>
                        <a:pt x="76" y="10"/>
                      </a:lnTo>
                      <a:lnTo>
                        <a:pt x="80" y="29"/>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270" name=""/>
                <p:cNvSpPr/>
                <p:nvPr/>
              </p:nvSpPr>
              <p:spPr>
                <a:xfrm>
                  <a:off x="611280" y="5456160"/>
                  <a:ext cx="27360" cy="36720"/>
                </a:xfrm>
                <a:custGeom>
                  <a:avLst/>
                  <a:gdLst/>
                  <a:ahLst/>
                  <a:rect l="0" t="0" r="r" b="b"/>
                  <a:pathLst>
                    <a:path w="76" h="102">
                      <a:moveTo>
                        <a:pt x="0" y="0"/>
                      </a:moveTo>
                      <a:lnTo>
                        <a:pt x="10" y="22"/>
                      </a:lnTo>
                      <a:lnTo>
                        <a:pt x="25" y="45"/>
                      </a:lnTo>
                      <a:lnTo>
                        <a:pt x="43" y="65"/>
                      </a:lnTo>
                      <a:lnTo>
                        <a:pt x="66" y="93"/>
                      </a:lnTo>
                      <a:lnTo>
                        <a:pt x="76" y="102"/>
                      </a:lnTo>
                      <a:lnTo>
                        <a:pt x="50" y="91"/>
                      </a:lnTo>
                      <a:lnTo>
                        <a:pt x="33" y="65"/>
                      </a:lnTo>
                      <a:lnTo>
                        <a:pt x="14" y="36"/>
                      </a:lnTo>
                      <a:lnTo>
                        <a:pt x="0" y="0"/>
                      </a:lnTo>
                      <a:close/>
                    </a:path>
                  </a:pathLst>
                </a:custGeom>
                <a:solidFill>
                  <a:srgbClr val="40200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271" name=""/>
                <p:cNvSpPr/>
                <p:nvPr/>
              </p:nvSpPr>
              <p:spPr>
                <a:xfrm>
                  <a:off x="501480" y="5315040"/>
                  <a:ext cx="197280" cy="149760"/>
                </a:xfrm>
                <a:custGeom>
                  <a:avLst/>
                  <a:gdLst/>
                  <a:ahLst/>
                  <a:rect l="0" t="0" r="r" b="b"/>
                  <a:pathLst>
                    <a:path w="548" h="416">
                      <a:moveTo>
                        <a:pt x="506" y="122"/>
                      </a:moveTo>
                      <a:lnTo>
                        <a:pt x="421" y="111"/>
                      </a:lnTo>
                      <a:lnTo>
                        <a:pt x="367" y="116"/>
                      </a:lnTo>
                      <a:lnTo>
                        <a:pt x="332" y="146"/>
                      </a:lnTo>
                      <a:lnTo>
                        <a:pt x="353" y="181"/>
                      </a:lnTo>
                      <a:lnTo>
                        <a:pt x="378" y="192"/>
                      </a:lnTo>
                      <a:lnTo>
                        <a:pt x="385" y="229"/>
                      </a:lnTo>
                      <a:lnTo>
                        <a:pt x="371" y="248"/>
                      </a:lnTo>
                      <a:lnTo>
                        <a:pt x="381" y="283"/>
                      </a:lnTo>
                      <a:lnTo>
                        <a:pt x="350" y="283"/>
                      </a:lnTo>
                      <a:lnTo>
                        <a:pt x="339" y="243"/>
                      </a:lnTo>
                      <a:lnTo>
                        <a:pt x="318" y="229"/>
                      </a:lnTo>
                      <a:lnTo>
                        <a:pt x="279" y="229"/>
                      </a:lnTo>
                      <a:lnTo>
                        <a:pt x="240" y="235"/>
                      </a:lnTo>
                      <a:lnTo>
                        <a:pt x="230" y="262"/>
                      </a:lnTo>
                      <a:lnTo>
                        <a:pt x="223" y="294"/>
                      </a:lnTo>
                      <a:lnTo>
                        <a:pt x="230" y="322"/>
                      </a:lnTo>
                      <a:lnTo>
                        <a:pt x="230" y="341"/>
                      </a:lnTo>
                      <a:lnTo>
                        <a:pt x="226" y="362"/>
                      </a:lnTo>
                      <a:lnTo>
                        <a:pt x="198" y="384"/>
                      </a:lnTo>
                      <a:lnTo>
                        <a:pt x="180" y="392"/>
                      </a:lnTo>
                      <a:lnTo>
                        <a:pt x="130" y="416"/>
                      </a:lnTo>
                      <a:lnTo>
                        <a:pt x="42" y="346"/>
                      </a:lnTo>
                      <a:lnTo>
                        <a:pt x="17" y="289"/>
                      </a:lnTo>
                      <a:lnTo>
                        <a:pt x="7" y="197"/>
                      </a:lnTo>
                      <a:lnTo>
                        <a:pt x="0" y="132"/>
                      </a:lnTo>
                      <a:lnTo>
                        <a:pt x="10" y="72"/>
                      </a:lnTo>
                      <a:lnTo>
                        <a:pt x="35" y="34"/>
                      </a:lnTo>
                      <a:lnTo>
                        <a:pt x="91" y="13"/>
                      </a:lnTo>
                      <a:lnTo>
                        <a:pt x="138" y="5"/>
                      </a:lnTo>
                      <a:lnTo>
                        <a:pt x="237" y="0"/>
                      </a:lnTo>
                      <a:lnTo>
                        <a:pt x="325" y="2"/>
                      </a:lnTo>
                      <a:lnTo>
                        <a:pt x="446" y="18"/>
                      </a:lnTo>
                      <a:lnTo>
                        <a:pt x="495" y="37"/>
                      </a:lnTo>
                      <a:lnTo>
                        <a:pt x="520" y="59"/>
                      </a:lnTo>
                      <a:lnTo>
                        <a:pt x="548" y="86"/>
                      </a:lnTo>
                      <a:lnTo>
                        <a:pt x="541" y="102"/>
                      </a:lnTo>
                      <a:lnTo>
                        <a:pt x="506" y="122"/>
                      </a:lnTo>
                      <a:close/>
                    </a:path>
                  </a:pathLst>
                </a:custGeom>
                <a:solidFill>
                  <a:srgbClr val="603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2" name=""/>
                <p:cNvSpPr/>
                <p:nvPr/>
              </p:nvSpPr>
              <p:spPr>
                <a:xfrm>
                  <a:off x="504720" y="5316480"/>
                  <a:ext cx="186120" cy="144720"/>
                </a:xfrm>
                <a:custGeom>
                  <a:avLst/>
                  <a:gdLst/>
                  <a:ahLst/>
                  <a:rect l="0" t="0" r="r" b="b"/>
                  <a:pathLst>
                    <a:path w="517" h="402">
                      <a:moveTo>
                        <a:pt x="433" y="24"/>
                      </a:moveTo>
                      <a:lnTo>
                        <a:pt x="479" y="37"/>
                      </a:lnTo>
                      <a:lnTo>
                        <a:pt x="496" y="62"/>
                      </a:lnTo>
                      <a:lnTo>
                        <a:pt x="510" y="75"/>
                      </a:lnTo>
                      <a:lnTo>
                        <a:pt x="517" y="84"/>
                      </a:lnTo>
                      <a:lnTo>
                        <a:pt x="507" y="94"/>
                      </a:lnTo>
                      <a:lnTo>
                        <a:pt x="486" y="105"/>
                      </a:lnTo>
                      <a:lnTo>
                        <a:pt x="429" y="97"/>
                      </a:lnTo>
                      <a:lnTo>
                        <a:pt x="390" y="97"/>
                      </a:lnTo>
                      <a:lnTo>
                        <a:pt x="357" y="86"/>
                      </a:lnTo>
                      <a:lnTo>
                        <a:pt x="319" y="78"/>
                      </a:lnTo>
                      <a:lnTo>
                        <a:pt x="283" y="75"/>
                      </a:lnTo>
                      <a:lnTo>
                        <a:pt x="237" y="78"/>
                      </a:lnTo>
                      <a:lnTo>
                        <a:pt x="301" y="84"/>
                      </a:lnTo>
                      <a:lnTo>
                        <a:pt x="333" y="92"/>
                      </a:lnTo>
                      <a:lnTo>
                        <a:pt x="354" y="97"/>
                      </a:lnTo>
                      <a:lnTo>
                        <a:pt x="357" y="100"/>
                      </a:lnTo>
                      <a:lnTo>
                        <a:pt x="347" y="105"/>
                      </a:lnTo>
                      <a:lnTo>
                        <a:pt x="333" y="116"/>
                      </a:lnTo>
                      <a:lnTo>
                        <a:pt x="311" y="105"/>
                      </a:lnTo>
                      <a:lnTo>
                        <a:pt x="290" y="100"/>
                      </a:lnTo>
                      <a:lnTo>
                        <a:pt x="255" y="94"/>
                      </a:lnTo>
                      <a:lnTo>
                        <a:pt x="241" y="94"/>
                      </a:lnTo>
                      <a:lnTo>
                        <a:pt x="280" y="108"/>
                      </a:lnTo>
                      <a:lnTo>
                        <a:pt x="308" y="116"/>
                      </a:lnTo>
                      <a:lnTo>
                        <a:pt x="322" y="124"/>
                      </a:lnTo>
                      <a:lnTo>
                        <a:pt x="311" y="132"/>
                      </a:lnTo>
                      <a:lnTo>
                        <a:pt x="280" y="124"/>
                      </a:lnTo>
                      <a:lnTo>
                        <a:pt x="255" y="124"/>
                      </a:lnTo>
                      <a:lnTo>
                        <a:pt x="301" y="140"/>
                      </a:lnTo>
                      <a:lnTo>
                        <a:pt x="315" y="149"/>
                      </a:lnTo>
                      <a:lnTo>
                        <a:pt x="322" y="165"/>
                      </a:lnTo>
                      <a:lnTo>
                        <a:pt x="329" y="176"/>
                      </a:lnTo>
                      <a:lnTo>
                        <a:pt x="301" y="165"/>
                      </a:lnTo>
                      <a:lnTo>
                        <a:pt x="276" y="159"/>
                      </a:lnTo>
                      <a:lnTo>
                        <a:pt x="234" y="159"/>
                      </a:lnTo>
                      <a:lnTo>
                        <a:pt x="294" y="173"/>
                      </a:lnTo>
                      <a:lnTo>
                        <a:pt x="336" y="181"/>
                      </a:lnTo>
                      <a:lnTo>
                        <a:pt x="357" y="192"/>
                      </a:lnTo>
                      <a:lnTo>
                        <a:pt x="361" y="209"/>
                      </a:lnTo>
                      <a:lnTo>
                        <a:pt x="333" y="197"/>
                      </a:lnTo>
                      <a:lnTo>
                        <a:pt x="290" y="187"/>
                      </a:lnTo>
                      <a:lnTo>
                        <a:pt x="273" y="187"/>
                      </a:lnTo>
                      <a:lnTo>
                        <a:pt x="315" y="197"/>
                      </a:lnTo>
                      <a:lnTo>
                        <a:pt x="354" y="212"/>
                      </a:lnTo>
                      <a:lnTo>
                        <a:pt x="364" y="223"/>
                      </a:lnTo>
                      <a:lnTo>
                        <a:pt x="357" y="231"/>
                      </a:lnTo>
                      <a:lnTo>
                        <a:pt x="333" y="226"/>
                      </a:lnTo>
                      <a:lnTo>
                        <a:pt x="304" y="215"/>
                      </a:lnTo>
                      <a:lnTo>
                        <a:pt x="251" y="215"/>
                      </a:lnTo>
                      <a:lnTo>
                        <a:pt x="230" y="215"/>
                      </a:lnTo>
                      <a:lnTo>
                        <a:pt x="181" y="217"/>
                      </a:lnTo>
                      <a:lnTo>
                        <a:pt x="120" y="212"/>
                      </a:lnTo>
                      <a:lnTo>
                        <a:pt x="160" y="223"/>
                      </a:lnTo>
                      <a:lnTo>
                        <a:pt x="220" y="228"/>
                      </a:lnTo>
                      <a:lnTo>
                        <a:pt x="205" y="245"/>
                      </a:lnTo>
                      <a:lnTo>
                        <a:pt x="163" y="236"/>
                      </a:lnTo>
                      <a:lnTo>
                        <a:pt x="116" y="226"/>
                      </a:lnTo>
                      <a:lnTo>
                        <a:pt x="91" y="215"/>
                      </a:lnTo>
                      <a:lnTo>
                        <a:pt x="145" y="245"/>
                      </a:lnTo>
                      <a:lnTo>
                        <a:pt x="177" y="253"/>
                      </a:lnTo>
                      <a:lnTo>
                        <a:pt x="205" y="261"/>
                      </a:lnTo>
                      <a:lnTo>
                        <a:pt x="205" y="277"/>
                      </a:lnTo>
                      <a:lnTo>
                        <a:pt x="163" y="272"/>
                      </a:lnTo>
                      <a:lnTo>
                        <a:pt x="127" y="264"/>
                      </a:lnTo>
                      <a:lnTo>
                        <a:pt x="149" y="277"/>
                      </a:lnTo>
                      <a:lnTo>
                        <a:pt x="184" y="280"/>
                      </a:lnTo>
                      <a:lnTo>
                        <a:pt x="205" y="282"/>
                      </a:lnTo>
                      <a:lnTo>
                        <a:pt x="205" y="320"/>
                      </a:lnTo>
                      <a:lnTo>
                        <a:pt x="163" y="307"/>
                      </a:lnTo>
                      <a:lnTo>
                        <a:pt x="135" y="299"/>
                      </a:lnTo>
                      <a:lnTo>
                        <a:pt x="167" y="318"/>
                      </a:lnTo>
                      <a:lnTo>
                        <a:pt x="209" y="329"/>
                      </a:lnTo>
                      <a:lnTo>
                        <a:pt x="205" y="348"/>
                      </a:lnTo>
                      <a:lnTo>
                        <a:pt x="181" y="367"/>
                      </a:lnTo>
                      <a:lnTo>
                        <a:pt x="163" y="345"/>
                      </a:lnTo>
                      <a:lnTo>
                        <a:pt x="135" y="320"/>
                      </a:lnTo>
                      <a:lnTo>
                        <a:pt x="113" y="293"/>
                      </a:lnTo>
                      <a:lnTo>
                        <a:pt x="135" y="331"/>
                      </a:lnTo>
                      <a:lnTo>
                        <a:pt x="149" y="348"/>
                      </a:lnTo>
                      <a:lnTo>
                        <a:pt x="177" y="375"/>
                      </a:lnTo>
                      <a:lnTo>
                        <a:pt x="160" y="391"/>
                      </a:lnTo>
                      <a:lnTo>
                        <a:pt x="123" y="372"/>
                      </a:lnTo>
                      <a:lnTo>
                        <a:pt x="98" y="345"/>
                      </a:lnTo>
                      <a:lnTo>
                        <a:pt x="77" y="318"/>
                      </a:lnTo>
                      <a:lnTo>
                        <a:pt x="95" y="358"/>
                      </a:lnTo>
                      <a:lnTo>
                        <a:pt x="116" y="377"/>
                      </a:lnTo>
                      <a:lnTo>
                        <a:pt x="142" y="394"/>
                      </a:lnTo>
                      <a:lnTo>
                        <a:pt x="120" y="402"/>
                      </a:lnTo>
                      <a:lnTo>
                        <a:pt x="77" y="375"/>
                      </a:lnTo>
                      <a:lnTo>
                        <a:pt x="38" y="329"/>
                      </a:lnTo>
                      <a:lnTo>
                        <a:pt x="24" y="299"/>
                      </a:lnTo>
                      <a:lnTo>
                        <a:pt x="14" y="239"/>
                      </a:lnTo>
                      <a:lnTo>
                        <a:pt x="7" y="197"/>
                      </a:lnTo>
                      <a:lnTo>
                        <a:pt x="0" y="149"/>
                      </a:lnTo>
                      <a:lnTo>
                        <a:pt x="42" y="159"/>
                      </a:lnTo>
                      <a:lnTo>
                        <a:pt x="95" y="173"/>
                      </a:lnTo>
                      <a:lnTo>
                        <a:pt x="167" y="184"/>
                      </a:lnTo>
                      <a:lnTo>
                        <a:pt x="98" y="165"/>
                      </a:lnTo>
                      <a:lnTo>
                        <a:pt x="77" y="154"/>
                      </a:lnTo>
                      <a:lnTo>
                        <a:pt x="31" y="140"/>
                      </a:lnTo>
                      <a:lnTo>
                        <a:pt x="7" y="138"/>
                      </a:lnTo>
                      <a:lnTo>
                        <a:pt x="7" y="113"/>
                      </a:lnTo>
                      <a:lnTo>
                        <a:pt x="10" y="78"/>
                      </a:lnTo>
                      <a:lnTo>
                        <a:pt x="70" y="86"/>
                      </a:lnTo>
                      <a:lnTo>
                        <a:pt x="106" y="94"/>
                      </a:lnTo>
                      <a:lnTo>
                        <a:pt x="156" y="113"/>
                      </a:lnTo>
                      <a:lnTo>
                        <a:pt x="109" y="86"/>
                      </a:lnTo>
                      <a:lnTo>
                        <a:pt x="63" y="75"/>
                      </a:lnTo>
                      <a:lnTo>
                        <a:pt x="14" y="67"/>
                      </a:lnTo>
                      <a:lnTo>
                        <a:pt x="24" y="43"/>
                      </a:lnTo>
                      <a:lnTo>
                        <a:pt x="38" y="27"/>
                      </a:lnTo>
                      <a:lnTo>
                        <a:pt x="84" y="18"/>
                      </a:lnTo>
                      <a:lnTo>
                        <a:pt x="127" y="24"/>
                      </a:lnTo>
                      <a:lnTo>
                        <a:pt x="167" y="46"/>
                      </a:lnTo>
                      <a:lnTo>
                        <a:pt x="142" y="21"/>
                      </a:lnTo>
                      <a:lnTo>
                        <a:pt x="95" y="10"/>
                      </a:lnTo>
                      <a:lnTo>
                        <a:pt x="145" y="2"/>
                      </a:lnTo>
                      <a:lnTo>
                        <a:pt x="177" y="2"/>
                      </a:lnTo>
                      <a:lnTo>
                        <a:pt x="227" y="8"/>
                      </a:lnTo>
                      <a:lnTo>
                        <a:pt x="258" y="24"/>
                      </a:lnTo>
                      <a:lnTo>
                        <a:pt x="311" y="29"/>
                      </a:lnTo>
                      <a:lnTo>
                        <a:pt x="276" y="21"/>
                      </a:lnTo>
                      <a:lnTo>
                        <a:pt x="248" y="8"/>
                      </a:lnTo>
                      <a:lnTo>
                        <a:pt x="234" y="0"/>
                      </a:lnTo>
                      <a:lnTo>
                        <a:pt x="287" y="2"/>
                      </a:lnTo>
                      <a:lnTo>
                        <a:pt x="329" y="2"/>
                      </a:lnTo>
                      <a:lnTo>
                        <a:pt x="354" y="13"/>
                      </a:lnTo>
                      <a:lnTo>
                        <a:pt x="386" y="32"/>
                      </a:lnTo>
                      <a:lnTo>
                        <a:pt x="408" y="59"/>
                      </a:lnTo>
                      <a:lnTo>
                        <a:pt x="397" y="27"/>
                      </a:lnTo>
                      <a:lnTo>
                        <a:pt x="368" y="10"/>
                      </a:lnTo>
                      <a:lnTo>
                        <a:pt x="433" y="24"/>
                      </a:lnTo>
                      <a:close/>
                    </a:path>
                  </a:pathLst>
                </a:custGeom>
                <a:solidFill>
                  <a:srgbClr val="a05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73" name=""/>
                <p:cNvGrpSpPr/>
                <p:nvPr/>
              </p:nvGrpSpPr>
              <p:grpSpPr>
                <a:xfrm>
                  <a:off x="892080" y="5700600"/>
                  <a:ext cx="230040" cy="100440"/>
                  <a:chOff x="892080" y="5700600"/>
                  <a:chExt cx="230040" cy="100440"/>
                </a:xfrm>
              </p:grpSpPr>
              <p:sp>
                <p:nvSpPr>
                  <p:cNvPr id="274" name=""/>
                  <p:cNvSpPr/>
                  <p:nvPr/>
                </p:nvSpPr>
                <p:spPr>
                  <a:xfrm>
                    <a:off x="892080" y="5700600"/>
                    <a:ext cx="214560" cy="100440"/>
                  </a:xfrm>
                  <a:custGeom>
                    <a:avLst/>
                    <a:gdLst/>
                    <a:ahLst/>
                    <a:rect l="0" t="0" r="r" b="b"/>
                    <a:pathLst>
                      <a:path w="596" h="279">
                        <a:moveTo>
                          <a:pt x="0" y="165"/>
                        </a:moveTo>
                        <a:lnTo>
                          <a:pt x="73" y="152"/>
                        </a:lnTo>
                        <a:lnTo>
                          <a:pt x="102" y="149"/>
                        </a:lnTo>
                        <a:lnTo>
                          <a:pt x="119" y="135"/>
                        </a:lnTo>
                        <a:lnTo>
                          <a:pt x="137" y="119"/>
                        </a:lnTo>
                        <a:lnTo>
                          <a:pt x="172" y="92"/>
                        </a:lnTo>
                        <a:lnTo>
                          <a:pt x="239" y="51"/>
                        </a:lnTo>
                        <a:lnTo>
                          <a:pt x="250" y="37"/>
                        </a:lnTo>
                        <a:lnTo>
                          <a:pt x="267" y="24"/>
                        </a:lnTo>
                        <a:lnTo>
                          <a:pt x="300" y="18"/>
                        </a:lnTo>
                        <a:lnTo>
                          <a:pt x="406" y="5"/>
                        </a:lnTo>
                        <a:lnTo>
                          <a:pt x="434" y="0"/>
                        </a:lnTo>
                        <a:lnTo>
                          <a:pt x="458" y="8"/>
                        </a:lnTo>
                        <a:lnTo>
                          <a:pt x="473" y="16"/>
                        </a:lnTo>
                        <a:lnTo>
                          <a:pt x="532" y="32"/>
                        </a:lnTo>
                        <a:lnTo>
                          <a:pt x="557" y="40"/>
                        </a:lnTo>
                        <a:lnTo>
                          <a:pt x="564" y="45"/>
                        </a:lnTo>
                        <a:lnTo>
                          <a:pt x="578" y="73"/>
                        </a:lnTo>
                        <a:lnTo>
                          <a:pt x="585" y="87"/>
                        </a:lnTo>
                        <a:lnTo>
                          <a:pt x="589" y="95"/>
                        </a:lnTo>
                        <a:lnTo>
                          <a:pt x="596" y="108"/>
                        </a:lnTo>
                        <a:lnTo>
                          <a:pt x="596" y="116"/>
                        </a:lnTo>
                        <a:lnTo>
                          <a:pt x="585" y="125"/>
                        </a:lnTo>
                        <a:lnTo>
                          <a:pt x="561" y="125"/>
                        </a:lnTo>
                        <a:lnTo>
                          <a:pt x="522" y="108"/>
                        </a:lnTo>
                        <a:lnTo>
                          <a:pt x="473" y="103"/>
                        </a:lnTo>
                        <a:lnTo>
                          <a:pt x="427" y="108"/>
                        </a:lnTo>
                        <a:lnTo>
                          <a:pt x="476" y="116"/>
                        </a:lnTo>
                        <a:lnTo>
                          <a:pt x="508" y="125"/>
                        </a:lnTo>
                        <a:lnTo>
                          <a:pt x="546" y="135"/>
                        </a:lnTo>
                        <a:lnTo>
                          <a:pt x="554" y="146"/>
                        </a:lnTo>
                        <a:lnTo>
                          <a:pt x="554" y="157"/>
                        </a:lnTo>
                        <a:lnTo>
                          <a:pt x="539" y="165"/>
                        </a:lnTo>
                        <a:lnTo>
                          <a:pt x="522" y="162"/>
                        </a:lnTo>
                        <a:lnTo>
                          <a:pt x="469" y="152"/>
                        </a:lnTo>
                        <a:lnTo>
                          <a:pt x="423" y="149"/>
                        </a:lnTo>
                        <a:lnTo>
                          <a:pt x="384" y="152"/>
                        </a:lnTo>
                        <a:lnTo>
                          <a:pt x="363" y="162"/>
                        </a:lnTo>
                        <a:lnTo>
                          <a:pt x="339" y="181"/>
                        </a:lnTo>
                        <a:lnTo>
                          <a:pt x="321" y="203"/>
                        </a:lnTo>
                        <a:lnTo>
                          <a:pt x="303" y="223"/>
                        </a:lnTo>
                        <a:lnTo>
                          <a:pt x="285" y="239"/>
                        </a:lnTo>
                        <a:lnTo>
                          <a:pt x="257" y="255"/>
                        </a:lnTo>
                        <a:lnTo>
                          <a:pt x="228" y="260"/>
                        </a:lnTo>
                        <a:lnTo>
                          <a:pt x="200" y="260"/>
                        </a:lnTo>
                        <a:lnTo>
                          <a:pt x="165" y="260"/>
                        </a:lnTo>
                        <a:lnTo>
                          <a:pt x="137" y="258"/>
                        </a:lnTo>
                        <a:lnTo>
                          <a:pt x="98" y="266"/>
                        </a:lnTo>
                        <a:lnTo>
                          <a:pt x="0" y="279"/>
                        </a:lnTo>
                        <a:lnTo>
                          <a:pt x="0" y="165"/>
                        </a:lnTo>
                        <a:close/>
                      </a:path>
                    </a:pathLst>
                  </a:custGeom>
                  <a:solidFill>
                    <a:srgbClr val="ffc080"/>
                  </a:solidFill>
                  <a:ln w="12600">
                    <a:solidFill>
                      <a:srgbClr val="402000"/>
                    </a:solidFill>
                    <a:round/>
                  </a:ln>
                </p:spPr>
                <p:txBody>
                  <a:bodyPr lIns="96120" rIns="96120" tIns="49320" bIns="49320" anchor="t">
                    <a:noAutofit/>
                  </a:bodyPr>
                  <a:p>
                    <a:endParaRPr b="0" lang="en-US" sz="1800" spc="-1" strike="noStrike">
                      <a:solidFill>
                        <a:srgbClr val="000000"/>
                      </a:solidFill>
                      <a:latin typeface="Arial"/>
                    </a:endParaRPr>
                  </a:p>
                </p:txBody>
              </p:sp>
              <p:sp>
                <p:nvSpPr>
                  <p:cNvPr id="275" name=""/>
                  <p:cNvSpPr/>
                  <p:nvPr/>
                </p:nvSpPr>
                <p:spPr>
                  <a:xfrm>
                    <a:off x="1038240" y="5718240"/>
                    <a:ext cx="59040" cy="25920"/>
                  </a:xfrm>
                  <a:custGeom>
                    <a:avLst/>
                    <a:gdLst/>
                    <a:ahLst/>
                    <a:rect l="0" t="0" r="r" b="b"/>
                    <a:pathLst>
                      <a:path w="164" h="72">
                        <a:moveTo>
                          <a:pt x="164" y="72"/>
                        </a:moveTo>
                        <a:lnTo>
                          <a:pt x="132" y="40"/>
                        </a:lnTo>
                        <a:lnTo>
                          <a:pt x="114" y="40"/>
                        </a:lnTo>
                        <a:lnTo>
                          <a:pt x="86" y="27"/>
                        </a:lnTo>
                        <a:lnTo>
                          <a:pt x="60" y="13"/>
                        </a:lnTo>
                        <a:lnTo>
                          <a:pt x="24" y="27"/>
                        </a:lnTo>
                        <a:lnTo>
                          <a:pt x="0" y="27"/>
                        </a:lnTo>
                        <a:lnTo>
                          <a:pt x="35" y="13"/>
                        </a:lnTo>
                        <a:lnTo>
                          <a:pt x="70" y="0"/>
                        </a:lnTo>
                        <a:lnTo>
                          <a:pt x="114" y="27"/>
                        </a:lnTo>
                        <a:lnTo>
                          <a:pt x="132" y="40"/>
                        </a:lnTo>
                        <a:lnTo>
                          <a:pt x="160" y="53"/>
                        </a:lnTo>
                        <a:lnTo>
                          <a:pt x="164"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76" name=""/>
                  <p:cNvSpPr/>
                  <p:nvPr/>
                </p:nvSpPr>
                <p:spPr>
                  <a:xfrm>
                    <a:off x="1012680" y="5705640"/>
                    <a:ext cx="47880" cy="25920"/>
                  </a:xfrm>
                  <a:custGeom>
                    <a:avLst/>
                    <a:gdLst/>
                    <a:ahLst/>
                    <a:rect l="0" t="0" r="r" b="b"/>
                    <a:pathLst>
                      <a:path w="133" h="72">
                        <a:moveTo>
                          <a:pt x="97" y="0"/>
                        </a:moveTo>
                        <a:lnTo>
                          <a:pt x="111" y="0"/>
                        </a:lnTo>
                        <a:lnTo>
                          <a:pt x="133" y="0"/>
                        </a:lnTo>
                        <a:lnTo>
                          <a:pt x="122" y="0"/>
                        </a:lnTo>
                        <a:lnTo>
                          <a:pt x="101" y="0"/>
                        </a:lnTo>
                        <a:lnTo>
                          <a:pt x="57" y="72"/>
                        </a:lnTo>
                        <a:lnTo>
                          <a:pt x="32" y="72"/>
                        </a:lnTo>
                        <a:lnTo>
                          <a:pt x="3" y="72"/>
                        </a:lnTo>
                        <a:lnTo>
                          <a:pt x="0" y="72"/>
                        </a:lnTo>
                        <a:lnTo>
                          <a:pt x="28" y="72"/>
                        </a:lnTo>
                        <a:lnTo>
                          <a:pt x="64" y="0"/>
                        </a:lnTo>
                        <a:lnTo>
                          <a:pt x="9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77" name=""/>
                  <p:cNvSpPr/>
                  <p:nvPr/>
                </p:nvSpPr>
                <p:spPr>
                  <a:xfrm>
                    <a:off x="1036800" y="5732640"/>
                    <a:ext cx="25920" cy="25920"/>
                  </a:xfrm>
                  <a:custGeom>
                    <a:avLst/>
                    <a:gdLst/>
                    <a:ahLst/>
                    <a:rect l="0" t="0" r="r" b="b"/>
                    <a:pathLst>
                      <a:path w="72" h="72">
                        <a:moveTo>
                          <a:pt x="72" y="23"/>
                        </a:moveTo>
                        <a:lnTo>
                          <a:pt x="63" y="72"/>
                        </a:lnTo>
                        <a:lnTo>
                          <a:pt x="36" y="45"/>
                        </a:lnTo>
                        <a:lnTo>
                          <a:pt x="8" y="45"/>
                        </a:lnTo>
                        <a:lnTo>
                          <a:pt x="0" y="0"/>
                        </a:lnTo>
                        <a:lnTo>
                          <a:pt x="17" y="23"/>
                        </a:lnTo>
                        <a:lnTo>
                          <a:pt x="72" y="23"/>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78" name=""/>
                  <p:cNvSpPr/>
                  <p:nvPr/>
                </p:nvSpPr>
                <p:spPr>
                  <a:xfrm>
                    <a:off x="1096920" y="5734080"/>
                    <a:ext cx="25200" cy="0"/>
                  </a:xfrm>
                  <a:custGeom>
                    <a:avLst/>
                    <a:gdLst/>
                    <a:ahLst/>
                    <a:rect l="0" t="0" r="r" b="b"/>
                    <a:pathLst>
                      <a:path w="70" h="0">
                        <a:moveTo>
                          <a:pt x="0" y="0"/>
                        </a:moveTo>
                        <a:lnTo>
                          <a:pt x="17" y="0"/>
                        </a:lnTo>
                        <a:lnTo>
                          <a:pt x="70" y="0"/>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9" name=""/>
                  <p:cNvSpPr/>
                  <p:nvPr/>
                </p:nvSpPr>
                <p:spPr>
                  <a:xfrm>
                    <a:off x="1079640" y="5746680"/>
                    <a:ext cx="25920" cy="25920"/>
                  </a:xfrm>
                  <a:custGeom>
                    <a:avLst/>
                    <a:gdLst/>
                    <a:ahLst/>
                    <a:rect l="0" t="0" r="r" b="b"/>
                    <a:pathLst>
                      <a:path w="72" h="72">
                        <a:moveTo>
                          <a:pt x="0" y="0"/>
                        </a:moveTo>
                        <a:lnTo>
                          <a:pt x="27" y="36"/>
                        </a:lnTo>
                        <a:lnTo>
                          <a:pt x="72" y="72"/>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80" name=""/>
                  <p:cNvSpPr/>
                  <p:nvPr/>
                </p:nvSpPr>
                <p:spPr>
                  <a:xfrm>
                    <a:off x="1004760" y="5722920"/>
                    <a:ext cx="25920" cy="25920"/>
                  </a:xfrm>
                  <a:custGeom>
                    <a:avLst/>
                    <a:gdLst/>
                    <a:ahLst/>
                    <a:rect l="0" t="0" r="r" b="b"/>
                    <a:pathLst>
                      <a:path w="72" h="72">
                        <a:moveTo>
                          <a:pt x="72" y="0"/>
                        </a:moveTo>
                        <a:lnTo>
                          <a:pt x="72" y="36"/>
                        </a:lnTo>
                        <a:lnTo>
                          <a:pt x="0" y="72"/>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81" name=""/>
                  <p:cNvSpPr/>
                  <p:nvPr/>
                </p:nvSpPr>
                <p:spPr>
                  <a:xfrm>
                    <a:off x="960480" y="5724360"/>
                    <a:ext cx="25920" cy="25920"/>
                  </a:xfrm>
                  <a:custGeom>
                    <a:avLst/>
                    <a:gdLst/>
                    <a:ahLst/>
                    <a:rect l="0" t="0" r="r" b="b"/>
                    <a:pathLst>
                      <a:path w="72" h="72">
                        <a:moveTo>
                          <a:pt x="72" y="0"/>
                        </a:moveTo>
                        <a:lnTo>
                          <a:pt x="57" y="23"/>
                        </a:lnTo>
                        <a:lnTo>
                          <a:pt x="45" y="41"/>
                        </a:lnTo>
                        <a:lnTo>
                          <a:pt x="0" y="72"/>
                        </a:lnTo>
                        <a:lnTo>
                          <a:pt x="41" y="34"/>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82" name=""/>
                  <p:cNvSpPr/>
                  <p:nvPr/>
                </p:nvSpPr>
                <p:spPr>
                  <a:xfrm>
                    <a:off x="941400" y="5764320"/>
                    <a:ext cx="25920" cy="25920"/>
                  </a:xfrm>
                  <a:custGeom>
                    <a:avLst/>
                    <a:gdLst/>
                    <a:ahLst/>
                    <a:rect l="0" t="0" r="r" b="b"/>
                    <a:pathLst>
                      <a:path w="72" h="72">
                        <a:moveTo>
                          <a:pt x="0" y="0"/>
                        </a:moveTo>
                        <a:lnTo>
                          <a:pt x="36" y="23"/>
                        </a:lnTo>
                        <a:lnTo>
                          <a:pt x="72" y="49"/>
                        </a:lnTo>
                        <a:lnTo>
                          <a:pt x="72" y="72"/>
                        </a:lnTo>
                        <a:lnTo>
                          <a:pt x="72" y="36"/>
                        </a:lnTo>
                        <a:lnTo>
                          <a:pt x="72" y="17"/>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83" name=""/>
                  <p:cNvSpPr/>
                  <p:nvPr/>
                </p:nvSpPr>
                <p:spPr>
                  <a:xfrm>
                    <a:off x="1015920" y="5743440"/>
                    <a:ext cx="25200" cy="0"/>
                  </a:xfrm>
                  <a:custGeom>
                    <a:avLst/>
                    <a:gdLst/>
                    <a:ahLst/>
                    <a:rect l="0" t="0" r="r" b="b"/>
                    <a:pathLst>
                      <a:path w="70" h="0">
                        <a:moveTo>
                          <a:pt x="17" y="0"/>
                        </a:moveTo>
                        <a:lnTo>
                          <a:pt x="0" y="0"/>
                        </a:lnTo>
                        <a:lnTo>
                          <a:pt x="70" y="0"/>
                        </a:lnTo>
                        <a:lnTo>
                          <a:pt x="1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284" name=""/>
                <p:cNvGrpSpPr/>
                <p:nvPr/>
              </p:nvGrpSpPr>
              <p:grpSpPr>
                <a:xfrm>
                  <a:off x="431640" y="5478480"/>
                  <a:ext cx="493920" cy="432000"/>
                  <a:chOff x="431640" y="5478480"/>
                  <a:chExt cx="493920" cy="432000"/>
                </a:xfrm>
              </p:grpSpPr>
              <p:sp>
                <p:nvSpPr>
                  <p:cNvPr id="285" name=""/>
                  <p:cNvSpPr/>
                  <p:nvPr/>
                </p:nvSpPr>
                <p:spPr>
                  <a:xfrm>
                    <a:off x="706320" y="5478480"/>
                    <a:ext cx="25920" cy="25920"/>
                  </a:xfrm>
                  <a:custGeom>
                    <a:avLst/>
                    <a:gdLst/>
                    <a:ahLst/>
                    <a:rect l="0" t="0" r="r" b="b"/>
                    <a:pathLst>
                      <a:path w="72" h="72">
                        <a:moveTo>
                          <a:pt x="72" y="0"/>
                        </a:moveTo>
                        <a:lnTo>
                          <a:pt x="53" y="0"/>
                        </a:lnTo>
                        <a:lnTo>
                          <a:pt x="36" y="0"/>
                        </a:lnTo>
                        <a:lnTo>
                          <a:pt x="17" y="72"/>
                        </a:lnTo>
                        <a:lnTo>
                          <a:pt x="0" y="72"/>
                        </a:lnTo>
                        <a:lnTo>
                          <a:pt x="17" y="72"/>
                        </a:lnTo>
                        <a:lnTo>
                          <a:pt x="53" y="72"/>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86" name=""/>
                  <p:cNvSpPr/>
                  <p:nvPr/>
                </p:nvSpPr>
                <p:spPr>
                  <a:xfrm>
                    <a:off x="708120" y="5489640"/>
                    <a:ext cx="25920" cy="25920"/>
                  </a:xfrm>
                  <a:custGeom>
                    <a:avLst/>
                    <a:gdLst/>
                    <a:ahLst/>
                    <a:rect l="0" t="0" r="r" b="b"/>
                    <a:pathLst>
                      <a:path w="72" h="72">
                        <a:moveTo>
                          <a:pt x="72" y="0"/>
                        </a:moveTo>
                        <a:lnTo>
                          <a:pt x="0" y="0"/>
                        </a:lnTo>
                        <a:lnTo>
                          <a:pt x="0" y="72"/>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287" name=""/>
                  <p:cNvSpPr/>
                  <p:nvPr/>
                </p:nvSpPr>
                <p:spPr>
                  <a:xfrm>
                    <a:off x="642960" y="5537160"/>
                    <a:ext cx="133560" cy="254520"/>
                  </a:xfrm>
                  <a:custGeom>
                    <a:avLst/>
                    <a:gdLst/>
                    <a:ahLst/>
                    <a:rect l="0" t="0" r="r" b="b"/>
                    <a:pathLst>
                      <a:path w="371" h="707">
                        <a:moveTo>
                          <a:pt x="52" y="0"/>
                        </a:moveTo>
                        <a:lnTo>
                          <a:pt x="88" y="27"/>
                        </a:lnTo>
                        <a:lnTo>
                          <a:pt x="98" y="70"/>
                        </a:lnTo>
                        <a:lnTo>
                          <a:pt x="151" y="110"/>
                        </a:lnTo>
                        <a:lnTo>
                          <a:pt x="262" y="301"/>
                        </a:lnTo>
                        <a:lnTo>
                          <a:pt x="322" y="474"/>
                        </a:lnTo>
                        <a:lnTo>
                          <a:pt x="371" y="707"/>
                        </a:lnTo>
                        <a:lnTo>
                          <a:pt x="219" y="604"/>
                        </a:lnTo>
                        <a:lnTo>
                          <a:pt x="0" y="91"/>
                        </a:lnTo>
                        <a:lnTo>
                          <a:pt x="52" y="0"/>
                        </a:lnTo>
                        <a:close/>
                      </a:path>
                    </a:pathLst>
                  </a:custGeom>
                  <a:solidFill>
                    <a:srgbClr val="4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8" name=""/>
                  <p:cNvSpPr/>
                  <p:nvPr/>
                </p:nvSpPr>
                <p:spPr>
                  <a:xfrm>
                    <a:off x="431640" y="5487840"/>
                    <a:ext cx="493920" cy="422640"/>
                  </a:xfrm>
                  <a:custGeom>
                    <a:avLst/>
                    <a:gdLst/>
                    <a:ahLst/>
                    <a:rect l="0" t="0" r="r" b="b"/>
                    <a:pathLst>
                      <a:path w="1372" h="1174">
                        <a:moveTo>
                          <a:pt x="253" y="59"/>
                        </a:moveTo>
                        <a:lnTo>
                          <a:pt x="296" y="0"/>
                        </a:lnTo>
                        <a:lnTo>
                          <a:pt x="631" y="105"/>
                        </a:lnTo>
                        <a:lnTo>
                          <a:pt x="645" y="189"/>
                        </a:lnTo>
                        <a:lnTo>
                          <a:pt x="673" y="216"/>
                        </a:lnTo>
                        <a:lnTo>
                          <a:pt x="709" y="248"/>
                        </a:lnTo>
                        <a:lnTo>
                          <a:pt x="734" y="309"/>
                        </a:lnTo>
                        <a:lnTo>
                          <a:pt x="808" y="444"/>
                        </a:lnTo>
                        <a:lnTo>
                          <a:pt x="868" y="606"/>
                        </a:lnTo>
                        <a:lnTo>
                          <a:pt x="896" y="714"/>
                        </a:lnTo>
                        <a:lnTo>
                          <a:pt x="1164" y="717"/>
                        </a:lnTo>
                        <a:lnTo>
                          <a:pt x="1206" y="738"/>
                        </a:lnTo>
                        <a:lnTo>
                          <a:pt x="1330" y="738"/>
                        </a:lnTo>
                        <a:lnTo>
                          <a:pt x="1365" y="779"/>
                        </a:lnTo>
                        <a:lnTo>
                          <a:pt x="1372" y="828"/>
                        </a:lnTo>
                        <a:lnTo>
                          <a:pt x="1358" y="873"/>
                        </a:lnTo>
                        <a:lnTo>
                          <a:pt x="1245" y="891"/>
                        </a:lnTo>
                        <a:lnTo>
                          <a:pt x="1192" y="953"/>
                        </a:lnTo>
                        <a:lnTo>
                          <a:pt x="1083" y="974"/>
                        </a:lnTo>
                        <a:lnTo>
                          <a:pt x="1005" y="974"/>
                        </a:lnTo>
                        <a:lnTo>
                          <a:pt x="910" y="985"/>
                        </a:lnTo>
                        <a:lnTo>
                          <a:pt x="907" y="1015"/>
                        </a:lnTo>
                        <a:lnTo>
                          <a:pt x="910" y="1077"/>
                        </a:lnTo>
                        <a:lnTo>
                          <a:pt x="900" y="1118"/>
                        </a:lnTo>
                        <a:lnTo>
                          <a:pt x="850" y="1123"/>
                        </a:lnTo>
                        <a:lnTo>
                          <a:pt x="794" y="1131"/>
                        </a:lnTo>
                        <a:lnTo>
                          <a:pt x="734" y="1172"/>
                        </a:lnTo>
                        <a:lnTo>
                          <a:pt x="662" y="1172"/>
                        </a:lnTo>
                        <a:lnTo>
                          <a:pt x="595" y="1166"/>
                        </a:lnTo>
                        <a:lnTo>
                          <a:pt x="500" y="1145"/>
                        </a:lnTo>
                        <a:lnTo>
                          <a:pt x="391" y="1153"/>
                        </a:lnTo>
                        <a:lnTo>
                          <a:pt x="282" y="1174"/>
                        </a:lnTo>
                        <a:lnTo>
                          <a:pt x="179" y="1158"/>
                        </a:lnTo>
                        <a:lnTo>
                          <a:pt x="112" y="1099"/>
                        </a:lnTo>
                        <a:lnTo>
                          <a:pt x="116" y="1031"/>
                        </a:lnTo>
                        <a:lnTo>
                          <a:pt x="91" y="947"/>
                        </a:lnTo>
                        <a:lnTo>
                          <a:pt x="74" y="841"/>
                        </a:lnTo>
                        <a:lnTo>
                          <a:pt x="42" y="741"/>
                        </a:lnTo>
                        <a:lnTo>
                          <a:pt x="0" y="592"/>
                        </a:lnTo>
                        <a:lnTo>
                          <a:pt x="7" y="444"/>
                        </a:lnTo>
                        <a:lnTo>
                          <a:pt x="7" y="314"/>
                        </a:lnTo>
                        <a:lnTo>
                          <a:pt x="14" y="221"/>
                        </a:lnTo>
                        <a:lnTo>
                          <a:pt x="42" y="181"/>
                        </a:lnTo>
                        <a:lnTo>
                          <a:pt x="102" y="145"/>
                        </a:lnTo>
                        <a:lnTo>
                          <a:pt x="172" y="91"/>
                        </a:lnTo>
                        <a:lnTo>
                          <a:pt x="253" y="59"/>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449280" y="5513400"/>
                    <a:ext cx="302040" cy="387720"/>
                  </a:xfrm>
                  <a:custGeom>
                    <a:avLst/>
                    <a:gdLst/>
                    <a:ahLst/>
                    <a:rect l="0" t="0" r="r" b="b"/>
                    <a:pathLst>
                      <a:path w="839" h="1077">
                        <a:moveTo>
                          <a:pt x="839" y="902"/>
                        </a:moveTo>
                        <a:lnTo>
                          <a:pt x="730" y="891"/>
                        </a:lnTo>
                        <a:lnTo>
                          <a:pt x="639" y="886"/>
                        </a:lnTo>
                        <a:lnTo>
                          <a:pt x="532" y="877"/>
                        </a:lnTo>
                        <a:lnTo>
                          <a:pt x="419" y="867"/>
                        </a:lnTo>
                        <a:lnTo>
                          <a:pt x="367" y="840"/>
                        </a:lnTo>
                        <a:lnTo>
                          <a:pt x="226" y="701"/>
                        </a:lnTo>
                        <a:lnTo>
                          <a:pt x="296" y="741"/>
                        </a:lnTo>
                        <a:lnTo>
                          <a:pt x="345" y="774"/>
                        </a:lnTo>
                        <a:lnTo>
                          <a:pt x="317" y="676"/>
                        </a:lnTo>
                        <a:lnTo>
                          <a:pt x="265" y="639"/>
                        </a:lnTo>
                        <a:lnTo>
                          <a:pt x="186" y="538"/>
                        </a:lnTo>
                        <a:lnTo>
                          <a:pt x="261" y="587"/>
                        </a:lnTo>
                        <a:lnTo>
                          <a:pt x="310" y="601"/>
                        </a:lnTo>
                        <a:lnTo>
                          <a:pt x="296" y="530"/>
                        </a:lnTo>
                        <a:lnTo>
                          <a:pt x="247" y="476"/>
                        </a:lnTo>
                        <a:lnTo>
                          <a:pt x="193" y="438"/>
                        </a:lnTo>
                        <a:lnTo>
                          <a:pt x="140" y="322"/>
                        </a:lnTo>
                        <a:lnTo>
                          <a:pt x="243" y="417"/>
                        </a:lnTo>
                        <a:lnTo>
                          <a:pt x="296" y="455"/>
                        </a:lnTo>
                        <a:lnTo>
                          <a:pt x="303" y="306"/>
                        </a:lnTo>
                        <a:lnTo>
                          <a:pt x="317" y="243"/>
                        </a:lnTo>
                        <a:lnTo>
                          <a:pt x="353" y="213"/>
                        </a:lnTo>
                        <a:lnTo>
                          <a:pt x="395" y="170"/>
                        </a:lnTo>
                        <a:lnTo>
                          <a:pt x="472" y="151"/>
                        </a:lnTo>
                        <a:lnTo>
                          <a:pt x="507" y="137"/>
                        </a:lnTo>
                        <a:lnTo>
                          <a:pt x="402" y="62"/>
                        </a:lnTo>
                        <a:lnTo>
                          <a:pt x="293" y="81"/>
                        </a:lnTo>
                        <a:lnTo>
                          <a:pt x="219" y="113"/>
                        </a:lnTo>
                        <a:lnTo>
                          <a:pt x="193" y="145"/>
                        </a:lnTo>
                        <a:lnTo>
                          <a:pt x="215" y="97"/>
                        </a:lnTo>
                        <a:lnTo>
                          <a:pt x="257" y="81"/>
                        </a:lnTo>
                        <a:lnTo>
                          <a:pt x="324" y="62"/>
                        </a:lnTo>
                        <a:lnTo>
                          <a:pt x="374" y="54"/>
                        </a:lnTo>
                        <a:lnTo>
                          <a:pt x="345" y="40"/>
                        </a:lnTo>
                        <a:lnTo>
                          <a:pt x="293" y="29"/>
                        </a:lnTo>
                        <a:lnTo>
                          <a:pt x="247" y="16"/>
                        </a:lnTo>
                        <a:lnTo>
                          <a:pt x="219" y="0"/>
                        </a:lnTo>
                        <a:lnTo>
                          <a:pt x="158" y="35"/>
                        </a:lnTo>
                        <a:lnTo>
                          <a:pt x="123" y="62"/>
                        </a:lnTo>
                        <a:lnTo>
                          <a:pt x="84" y="97"/>
                        </a:lnTo>
                        <a:lnTo>
                          <a:pt x="35" y="118"/>
                        </a:lnTo>
                        <a:lnTo>
                          <a:pt x="24" y="156"/>
                        </a:lnTo>
                        <a:lnTo>
                          <a:pt x="0" y="213"/>
                        </a:lnTo>
                        <a:lnTo>
                          <a:pt x="0" y="309"/>
                        </a:lnTo>
                        <a:lnTo>
                          <a:pt x="7" y="406"/>
                        </a:lnTo>
                        <a:lnTo>
                          <a:pt x="10" y="514"/>
                        </a:lnTo>
                        <a:lnTo>
                          <a:pt x="38" y="628"/>
                        </a:lnTo>
                        <a:lnTo>
                          <a:pt x="66" y="744"/>
                        </a:lnTo>
                        <a:lnTo>
                          <a:pt x="84" y="848"/>
                        </a:lnTo>
                        <a:lnTo>
                          <a:pt x="109" y="918"/>
                        </a:lnTo>
                        <a:lnTo>
                          <a:pt x="105" y="986"/>
                        </a:lnTo>
                        <a:lnTo>
                          <a:pt x="116" y="1021"/>
                        </a:lnTo>
                        <a:lnTo>
                          <a:pt x="154" y="1048"/>
                        </a:lnTo>
                        <a:lnTo>
                          <a:pt x="197" y="1072"/>
                        </a:lnTo>
                        <a:lnTo>
                          <a:pt x="261" y="1077"/>
                        </a:lnTo>
                        <a:lnTo>
                          <a:pt x="293" y="1064"/>
                        </a:lnTo>
                        <a:lnTo>
                          <a:pt x="335" y="1061"/>
                        </a:lnTo>
                        <a:lnTo>
                          <a:pt x="434" y="1045"/>
                        </a:lnTo>
                        <a:lnTo>
                          <a:pt x="391" y="1007"/>
                        </a:lnTo>
                        <a:lnTo>
                          <a:pt x="345" y="948"/>
                        </a:lnTo>
                        <a:lnTo>
                          <a:pt x="412" y="988"/>
                        </a:lnTo>
                        <a:lnTo>
                          <a:pt x="469" y="1023"/>
                        </a:lnTo>
                        <a:lnTo>
                          <a:pt x="500" y="1045"/>
                        </a:lnTo>
                        <a:lnTo>
                          <a:pt x="553" y="1064"/>
                        </a:lnTo>
                        <a:lnTo>
                          <a:pt x="610" y="1064"/>
                        </a:lnTo>
                        <a:lnTo>
                          <a:pt x="670" y="1064"/>
                        </a:lnTo>
                        <a:lnTo>
                          <a:pt x="699" y="1053"/>
                        </a:lnTo>
                        <a:lnTo>
                          <a:pt x="713" y="1040"/>
                        </a:lnTo>
                        <a:lnTo>
                          <a:pt x="642" y="1010"/>
                        </a:lnTo>
                        <a:lnTo>
                          <a:pt x="571" y="956"/>
                        </a:lnTo>
                        <a:lnTo>
                          <a:pt x="550" y="931"/>
                        </a:lnTo>
                        <a:lnTo>
                          <a:pt x="606" y="942"/>
                        </a:lnTo>
                        <a:lnTo>
                          <a:pt x="691" y="996"/>
                        </a:lnTo>
                        <a:lnTo>
                          <a:pt x="730" y="1021"/>
                        </a:lnTo>
                        <a:lnTo>
                          <a:pt x="811" y="1023"/>
                        </a:lnTo>
                        <a:lnTo>
                          <a:pt x="839" y="1013"/>
                        </a:lnTo>
                        <a:lnTo>
                          <a:pt x="839" y="986"/>
                        </a:lnTo>
                        <a:lnTo>
                          <a:pt x="839" y="902"/>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0" name=""/>
                  <p:cNvSpPr/>
                  <p:nvPr/>
                </p:nvSpPr>
                <p:spPr>
                  <a:xfrm>
                    <a:off x="473040" y="5710320"/>
                    <a:ext cx="81360" cy="174960"/>
                  </a:xfrm>
                  <a:custGeom>
                    <a:avLst/>
                    <a:gdLst/>
                    <a:ahLst/>
                    <a:rect l="0" t="0" r="r" b="b"/>
                    <a:pathLst>
                      <a:path w="226" h="486">
                        <a:moveTo>
                          <a:pt x="226" y="486"/>
                        </a:moveTo>
                        <a:lnTo>
                          <a:pt x="187" y="469"/>
                        </a:lnTo>
                        <a:lnTo>
                          <a:pt x="143" y="431"/>
                        </a:lnTo>
                        <a:lnTo>
                          <a:pt x="104" y="361"/>
                        </a:lnTo>
                        <a:lnTo>
                          <a:pt x="86" y="299"/>
                        </a:lnTo>
                        <a:lnTo>
                          <a:pt x="58" y="233"/>
                        </a:lnTo>
                        <a:lnTo>
                          <a:pt x="42" y="168"/>
                        </a:lnTo>
                        <a:lnTo>
                          <a:pt x="17" y="70"/>
                        </a:lnTo>
                        <a:lnTo>
                          <a:pt x="0" y="0"/>
                        </a:lnTo>
                        <a:lnTo>
                          <a:pt x="46" y="143"/>
                        </a:lnTo>
                        <a:lnTo>
                          <a:pt x="86" y="253"/>
                        </a:lnTo>
                        <a:lnTo>
                          <a:pt x="129" y="328"/>
                        </a:lnTo>
                        <a:lnTo>
                          <a:pt x="198" y="407"/>
                        </a:lnTo>
                        <a:lnTo>
                          <a:pt x="226" y="48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1" name=""/>
                  <p:cNvSpPr/>
                  <p:nvPr/>
                </p:nvSpPr>
                <p:spPr>
                  <a:xfrm>
                    <a:off x="566640" y="5560920"/>
                    <a:ext cx="349560" cy="267120"/>
                  </a:xfrm>
                  <a:custGeom>
                    <a:avLst/>
                    <a:gdLst/>
                    <a:ahLst/>
                    <a:rect l="0" t="0" r="r" b="b"/>
                    <a:pathLst>
                      <a:path w="971" h="742">
                        <a:moveTo>
                          <a:pt x="179" y="0"/>
                        </a:moveTo>
                        <a:lnTo>
                          <a:pt x="295" y="27"/>
                        </a:lnTo>
                        <a:lnTo>
                          <a:pt x="344" y="62"/>
                        </a:lnTo>
                        <a:lnTo>
                          <a:pt x="376" y="137"/>
                        </a:lnTo>
                        <a:lnTo>
                          <a:pt x="376" y="206"/>
                        </a:lnTo>
                        <a:lnTo>
                          <a:pt x="358" y="241"/>
                        </a:lnTo>
                        <a:lnTo>
                          <a:pt x="369" y="311"/>
                        </a:lnTo>
                        <a:lnTo>
                          <a:pt x="369" y="363"/>
                        </a:lnTo>
                        <a:lnTo>
                          <a:pt x="355" y="376"/>
                        </a:lnTo>
                        <a:lnTo>
                          <a:pt x="369" y="395"/>
                        </a:lnTo>
                        <a:lnTo>
                          <a:pt x="383" y="417"/>
                        </a:lnTo>
                        <a:lnTo>
                          <a:pt x="358" y="436"/>
                        </a:lnTo>
                        <a:lnTo>
                          <a:pt x="358" y="457"/>
                        </a:lnTo>
                        <a:lnTo>
                          <a:pt x="404" y="466"/>
                        </a:lnTo>
                        <a:lnTo>
                          <a:pt x="397" y="484"/>
                        </a:lnTo>
                        <a:lnTo>
                          <a:pt x="435" y="498"/>
                        </a:lnTo>
                        <a:lnTo>
                          <a:pt x="474" y="490"/>
                        </a:lnTo>
                        <a:lnTo>
                          <a:pt x="503" y="498"/>
                        </a:lnTo>
                        <a:lnTo>
                          <a:pt x="619" y="509"/>
                        </a:lnTo>
                        <a:lnTo>
                          <a:pt x="721" y="506"/>
                        </a:lnTo>
                        <a:lnTo>
                          <a:pt x="788" y="509"/>
                        </a:lnTo>
                        <a:lnTo>
                          <a:pt x="830" y="528"/>
                        </a:lnTo>
                        <a:lnTo>
                          <a:pt x="935" y="528"/>
                        </a:lnTo>
                        <a:lnTo>
                          <a:pt x="971" y="558"/>
                        </a:lnTo>
                        <a:lnTo>
                          <a:pt x="971" y="591"/>
                        </a:lnTo>
                        <a:lnTo>
                          <a:pt x="967" y="640"/>
                        </a:lnTo>
                        <a:lnTo>
                          <a:pt x="883" y="659"/>
                        </a:lnTo>
                        <a:lnTo>
                          <a:pt x="883" y="623"/>
                        </a:lnTo>
                        <a:lnTo>
                          <a:pt x="879" y="599"/>
                        </a:lnTo>
                        <a:lnTo>
                          <a:pt x="862" y="586"/>
                        </a:lnTo>
                        <a:lnTo>
                          <a:pt x="855" y="615"/>
                        </a:lnTo>
                        <a:lnTo>
                          <a:pt x="851" y="659"/>
                        </a:lnTo>
                        <a:lnTo>
                          <a:pt x="830" y="683"/>
                        </a:lnTo>
                        <a:lnTo>
                          <a:pt x="791" y="713"/>
                        </a:lnTo>
                        <a:lnTo>
                          <a:pt x="707" y="729"/>
                        </a:lnTo>
                        <a:lnTo>
                          <a:pt x="640" y="737"/>
                        </a:lnTo>
                        <a:lnTo>
                          <a:pt x="559" y="742"/>
                        </a:lnTo>
                        <a:lnTo>
                          <a:pt x="661" y="696"/>
                        </a:lnTo>
                        <a:lnTo>
                          <a:pt x="725" y="659"/>
                        </a:lnTo>
                        <a:lnTo>
                          <a:pt x="742" y="623"/>
                        </a:lnTo>
                        <a:lnTo>
                          <a:pt x="732" y="599"/>
                        </a:lnTo>
                        <a:lnTo>
                          <a:pt x="675" y="594"/>
                        </a:lnTo>
                        <a:lnTo>
                          <a:pt x="654" y="623"/>
                        </a:lnTo>
                        <a:lnTo>
                          <a:pt x="640" y="661"/>
                        </a:lnTo>
                        <a:lnTo>
                          <a:pt x="584" y="699"/>
                        </a:lnTo>
                        <a:lnTo>
                          <a:pt x="528" y="734"/>
                        </a:lnTo>
                        <a:lnTo>
                          <a:pt x="467" y="737"/>
                        </a:lnTo>
                        <a:lnTo>
                          <a:pt x="383" y="734"/>
                        </a:lnTo>
                        <a:lnTo>
                          <a:pt x="474" y="677"/>
                        </a:lnTo>
                        <a:lnTo>
                          <a:pt x="545" y="648"/>
                        </a:lnTo>
                        <a:lnTo>
                          <a:pt x="595" y="615"/>
                        </a:lnTo>
                        <a:lnTo>
                          <a:pt x="612" y="594"/>
                        </a:lnTo>
                        <a:lnTo>
                          <a:pt x="609" y="569"/>
                        </a:lnTo>
                        <a:lnTo>
                          <a:pt x="573" y="567"/>
                        </a:lnTo>
                        <a:lnTo>
                          <a:pt x="542" y="591"/>
                        </a:lnTo>
                        <a:lnTo>
                          <a:pt x="517" y="621"/>
                        </a:lnTo>
                        <a:lnTo>
                          <a:pt x="467" y="661"/>
                        </a:lnTo>
                        <a:lnTo>
                          <a:pt x="414" y="683"/>
                        </a:lnTo>
                        <a:lnTo>
                          <a:pt x="369" y="699"/>
                        </a:lnTo>
                        <a:lnTo>
                          <a:pt x="323" y="715"/>
                        </a:lnTo>
                        <a:lnTo>
                          <a:pt x="270" y="723"/>
                        </a:lnTo>
                        <a:lnTo>
                          <a:pt x="207" y="723"/>
                        </a:lnTo>
                        <a:lnTo>
                          <a:pt x="151" y="715"/>
                        </a:lnTo>
                        <a:lnTo>
                          <a:pt x="284" y="683"/>
                        </a:lnTo>
                        <a:lnTo>
                          <a:pt x="333" y="661"/>
                        </a:lnTo>
                        <a:lnTo>
                          <a:pt x="369" y="623"/>
                        </a:lnTo>
                        <a:lnTo>
                          <a:pt x="376" y="594"/>
                        </a:lnTo>
                        <a:lnTo>
                          <a:pt x="344" y="594"/>
                        </a:lnTo>
                        <a:lnTo>
                          <a:pt x="326" y="621"/>
                        </a:lnTo>
                        <a:lnTo>
                          <a:pt x="302" y="645"/>
                        </a:lnTo>
                        <a:lnTo>
                          <a:pt x="260" y="669"/>
                        </a:lnTo>
                        <a:lnTo>
                          <a:pt x="214" y="696"/>
                        </a:lnTo>
                        <a:lnTo>
                          <a:pt x="154" y="713"/>
                        </a:lnTo>
                        <a:lnTo>
                          <a:pt x="105" y="699"/>
                        </a:lnTo>
                        <a:lnTo>
                          <a:pt x="84" y="683"/>
                        </a:lnTo>
                        <a:lnTo>
                          <a:pt x="49" y="631"/>
                        </a:lnTo>
                        <a:lnTo>
                          <a:pt x="115" y="621"/>
                        </a:lnTo>
                        <a:lnTo>
                          <a:pt x="246" y="607"/>
                        </a:lnTo>
                        <a:lnTo>
                          <a:pt x="323" y="583"/>
                        </a:lnTo>
                        <a:lnTo>
                          <a:pt x="365" y="552"/>
                        </a:lnTo>
                        <a:lnTo>
                          <a:pt x="383" y="520"/>
                        </a:lnTo>
                        <a:lnTo>
                          <a:pt x="386" y="506"/>
                        </a:lnTo>
                        <a:lnTo>
                          <a:pt x="365" y="506"/>
                        </a:lnTo>
                        <a:lnTo>
                          <a:pt x="337" y="528"/>
                        </a:lnTo>
                        <a:lnTo>
                          <a:pt x="298" y="572"/>
                        </a:lnTo>
                        <a:lnTo>
                          <a:pt x="203" y="599"/>
                        </a:lnTo>
                        <a:lnTo>
                          <a:pt x="115" y="618"/>
                        </a:lnTo>
                        <a:lnTo>
                          <a:pt x="49" y="631"/>
                        </a:lnTo>
                        <a:lnTo>
                          <a:pt x="21" y="549"/>
                        </a:lnTo>
                        <a:lnTo>
                          <a:pt x="17" y="490"/>
                        </a:lnTo>
                        <a:lnTo>
                          <a:pt x="17" y="436"/>
                        </a:lnTo>
                        <a:lnTo>
                          <a:pt x="105" y="474"/>
                        </a:lnTo>
                        <a:lnTo>
                          <a:pt x="207" y="490"/>
                        </a:lnTo>
                        <a:lnTo>
                          <a:pt x="295" y="484"/>
                        </a:lnTo>
                        <a:lnTo>
                          <a:pt x="312" y="476"/>
                        </a:lnTo>
                        <a:lnTo>
                          <a:pt x="323" y="457"/>
                        </a:lnTo>
                        <a:lnTo>
                          <a:pt x="277" y="457"/>
                        </a:lnTo>
                        <a:lnTo>
                          <a:pt x="224" y="468"/>
                        </a:lnTo>
                        <a:lnTo>
                          <a:pt x="101" y="474"/>
                        </a:lnTo>
                        <a:lnTo>
                          <a:pt x="17" y="436"/>
                        </a:lnTo>
                        <a:lnTo>
                          <a:pt x="10" y="360"/>
                        </a:lnTo>
                        <a:lnTo>
                          <a:pt x="7" y="309"/>
                        </a:lnTo>
                        <a:lnTo>
                          <a:pt x="0" y="255"/>
                        </a:lnTo>
                        <a:lnTo>
                          <a:pt x="10" y="167"/>
                        </a:lnTo>
                        <a:lnTo>
                          <a:pt x="38" y="137"/>
                        </a:lnTo>
                        <a:lnTo>
                          <a:pt x="115" y="97"/>
                        </a:lnTo>
                        <a:lnTo>
                          <a:pt x="87" y="100"/>
                        </a:lnTo>
                        <a:lnTo>
                          <a:pt x="10" y="129"/>
                        </a:lnTo>
                        <a:lnTo>
                          <a:pt x="42" y="70"/>
                        </a:lnTo>
                        <a:lnTo>
                          <a:pt x="66" y="43"/>
                        </a:lnTo>
                        <a:lnTo>
                          <a:pt x="87" y="24"/>
                        </a:lnTo>
                        <a:lnTo>
                          <a:pt x="179"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2" name=""/>
                  <p:cNvSpPr/>
                  <p:nvPr/>
                </p:nvSpPr>
                <p:spPr>
                  <a:xfrm>
                    <a:off x="588960" y="5664240"/>
                    <a:ext cx="81360" cy="54360"/>
                  </a:xfrm>
                  <a:custGeom>
                    <a:avLst/>
                    <a:gdLst/>
                    <a:ahLst/>
                    <a:rect l="0" t="0" r="r" b="b"/>
                    <a:pathLst>
                      <a:path w="226" h="151">
                        <a:moveTo>
                          <a:pt x="226" y="0"/>
                        </a:moveTo>
                        <a:lnTo>
                          <a:pt x="226" y="10"/>
                        </a:lnTo>
                        <a:lnTo>
                          <a:pt x="198" y="41"/>
                        </a:lnTo>
                        <a:lnTo>
                          <a:pt x="170" y="57"/>
                        </a:lnTo>
                        <a:lnTo>
                          <a:pt x="109" y="89"/>
                        </a:lnTo>
                        <a:lnTo>
                          <a:pt x="85" y="105"/>
                        </a:lnTo>
                        <a:lnTo>
                          <a:pt x="28" y="138"/>
                        </a:lnTo>
                        <a:lnTo>
                          <a:pt x="92" y="125"/>
                        </a:lnTo>
                        <a:lnTo>
                          <a:pt x="152" y="105"/>
                        </a:lnTo>
                        <a:lnTo>
                          <a:pt x="212" y="105"/>
                        </a:lnTo>
                        <a:lnTo>
                          <a:pt x="209" y="119"/>
                        </a:lnTo>
                        <a:lnTo>
                          <a:pt x="109" y="133"/>
                        </a:lnTo>
                        <a:lnTo>
                          <a:pt x="57" y="146"/>
                        </a:lnTo>
                        <a:lnTo>
                          <a:pt x="28" y="151"/>
                        </a:lnTo>
                        <a:lnTo>
                          <a:pt x="3" y="143"/>
                        </a:lnTo>
                        <a:lnTo>
                          <a:pt x="0" y="127"/>
                        </a:lnTo>
                        <a:lnTo>
                          <a:pt x="21" y="114"/>
                        </a:lnTo>
                        <a:lnTo>
                          <a:pt x="49" y="92"/>
                        </a:lnTo>
                        <a:lnTo>
                          <a:pt x="81" y="65"/>
                        </a:lnTo>
                        <a:lnTo>
                          <a:pt x="116" y="29"/>
                        </a:lnTo>
                        <a:lnTo>
                          <a:pt x="155" y="10"/>
                        </a:lnTo>
                        <a:lnTo>
                          <a:pt x="198" y="2"/>
                        </a:lnTo>
                        <a:lnTo>
                          <a:pt x="226" y="0"/>
                        </a:lnTo>
                        <a:close/>
                      </a:path>
                    </a:pathLst>
                  </a:custGeom>
                  <a:solidFill>
                    <a:srgbClr val="c0c0c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293" name=""/>
                  <p:cNvSpPr/>
                  <p:nvPr/>
                </p:nvSpPr>
                <p:spPr>
                  <a:xfrm>
                    <a:off x="593640" y="5613480"/>
                    <a:ext cx="73440" cy="73440"/>
                  </a:xfrm>
                  <a:custGeom>
                    <a:avLst/>
                    <a:gdLst/>
                    <a:ahLst/>
                    <a:rect l="0" t="0" r="r" b="b"/>
                    <a:pathLst>
                      <a:path w="204" h="204">
                        <a:moveTo>
                          <a:pt x="165" y="0"/>
                        </a:moveTo>
                        <a:lnTo>
                          <a:pt x="194" y="2"/>
                        </a:lnTo>
                        <a:lnTo>
                          <a:pt x="204" y="21"/>
                        </a:lnTo>
                        <a:lnTo>
                          <a:pt x="201" y="37"/>
                        </a:lnTo>
                        <a:lnTo>
                          <a:pt x="187" y="60"/>
                        </a:lnTo>
                        <a:lnTo>
                          <a:pt x="162" y="65"/>
                        </a:lnTo>
                        <a:lnTo>
                          <a:pt x="114" y="90"/>
                        </a:lnTo>
                        <a:lnTo>
                          <a:pt x="72" y="114"/>
                        </a:lnTo>
                        <a:lnTo>
                          <a:pt x="42" y="152"/>
                        </a:lnTo>
                        <a:lnTo>
                          <a:pt x="10" y="191"/>
                        </a:lnTo>
                        <a:lnTo>
                          <a:pt x="0" y="204"/>
                        </a:lnTo>
                        <a:lnTo>
                          <a:pt x="10" y="158"/>
                        </a:lnTo>
                        <a:lnTo>
                          <a:pt x="14" y="117"/>
                        </a:lnTo>
                        <a:lnTo>
                          <a:pt x="32" y="82"/>
                        </a:lnTo>
                        <a:lnTo>
                          <a:pt x="61" y="48"/>
                        </a:lnTo>
                        <a:lnTo>
                          <a:pt x="136" y="5"/>
                        </a:lnTo>
                        <a:lnTo>
                          <a:pt x="165" y="0"/>
                        </a:lnTo>
                        <a:close/>
                      </a:path>
                    </a:pathLst>
                  </a:custGeom>
                  <a:solidFill>
                    <a:srgbClr val="c0c0c0"/>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294" name=""/>
                  <p:cNvSpPr/>
                  <p:nvPr/>
                </p:nvSpPr>
                <p:spPr>
                  <a:xfrm>
                    <a:off x="601560" y="5532480"/>
                    <a:ext cx="78120" cy="39960"/>
                  </a:xfrm>
                  <a:custGeom>
                    <a:avLst/>
                    <a:gdLst/>
                    <a:ahLst/>
                    <a:rect l="0" t="0" r="r" b="b"/>
                    <a:pathLst>
                      <a:path w="217" h="111">
                        <a:moveTo>
                          <a:pt x="217" y="111"/>
                        </a:moveTo>
                        <a:lnTo>
                          <a:pt x="178" y="87"/>
                        </a:lnTo>
                        <a:lnTo>
                          <a:pt x="119" y="70"/>
                        </a:lnTo>
                        <a:lnTo>
                          <a:pt x="76" y="62"/>
                        </a:lnTo>
                        <a:lnTo>
                          <a:pt x="0" y="0"/>
                        </a:lnTo>
                        <a:lnTo>
                          <a:pt x="59" y="24"/>
                        </a:lnTo>
                        <a:lnTo>
                          <a:pt x="108" y="40"/>
                        </a:lnTo>
                        <a:lnTo>
                          <a:pt x="147" y="53"/>
                        </a:lnTo>
                        <a:lnTo>
                          <a:pt x="164" y="70"/>
                        </a:lnTo>
                        <a:lnTo>
                          <a:pt x="217" y="111"/>
                        </a:lnTo>
                        <a:close/>
                      </a:path>
                    </a:pathLst>
                  </a:custGeom>
                  <a:solidFill>
                    <a:srgbClr val="e0e0e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295" name=""/>
                  <p:cNvSpPr/>
                  <p:nvPr/>
                </p:nvSpPr>
                <p:spPr>
                  <a:xfrm>
                    <a:off x="708120" y="5618160"/>
                    <a:ext cx="39960" cy="116280"/>
                  </a:xfrm>
                  <a:custGeom>
                    <a:avLst/>
                    <a:gdLst/>
                    <a:ahLst/>
                    <a:rect l="0" t="0" r="r" b="b"/>
                    <a:pathLst>
                      <a:path w="111" h="323">
                        <a:moveTo>
                          <a:pt x="111" y="323"/>
                        </a:moveTo>
                        <a:lnTo>
                          <a:pt x="57" y="323"/>
                        </a:lnTo>
                        <a:lnTo>
                          <a:pt x="35" y="318"/>
                        </a:lnTo>
                        <a:lnTo>
                          <a:pt x="35" y="304"/>
                        </a:lnTo>
                        <a:lnTo>
                          <a:pt x="24" y="296"/>
                        </a:lnTo>
                        <a:lnTo>
                          <a:pt x="7" y="282"/>
                        </a:lnTo>
                        <a:lnTo>
                          <a:pt x="17" y="271"/>
                        </a:lnTo>
                        <a:lnTo>
                          <a:pt x="17" y="257"/>
                        </a:lnTo>
                        <a:lnTo>
                          <a:pt x="3" y="234"/>
                        </a:lnTo>
                        <a:lnTo>
                          <a:pt x="3" y="215"/>
                        </a:lnTo>
                        <a:lnTo>
                          <a:pt x="10" y="190"/>
                        </a:lnTo>
                        <a:lnTo>
                          <a:pt x="10" y="141"/>
                        </a:lnTo>
                        <a:lnTo>
                          <a:pt x="0" y="94"/>
                        </a:lnTo>
                        <a:lnTo>
                          <a:pt x="3" y="60"/>
                        </a:lnTo>
                        <a:lnTo>
                          <a:pt x="3" y="0"/>
                        </a:lnTo>
                        <a:lnTo>
                          <a:pt x="35" y="89"/>
                        </a:lnTo>
                        <a:lnTo>
                          <a:pt x="68" y="174"/>
                        </a:lnTo>
                        <a:lnTo>
                          <a:pt x="89" y="263"/>
                        </a:lnTo>
                        <a:lnTo>
                          <a:pt x="111" y="323"/>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6" name=""/>
                  <p:cNvSpPr/>
                  <p:nvPr/>
                </p:nvSpPr>
                <p:spPr>
                  <a:xfrm>
                    <a:off x="595440" y="5748480"/>
                    <a:ext cx="79560" cy="25920"/>
                  </a:xfrm>
                  <a:custGeom>
                    <a:avLst/>
                    <a:gdLst/>
                    <a:ahLst/>
                    <a:rect l="0" t="0" r="r" b="b"/>
                    <a:pathLst>
                      <a:path w="221" h="72">
                        <a:moveTo>
                          <a:pt x="42" y="36"/>
                        </a:moveTo>
                        <a:lnTo>
                          <a:pt x="96" y="13"/>
                        </a:lnTo>
                        <a:lnTo>
                          <a:pt x="139" y="4"/>
                        </a:lnTo>
                        <a:lnTo>
                          <a:pt x="196" y="0"/>
                        </a:lnTo>
                        <a:lnTo>
                          <a:pt x="221" y="4"/>
                        </a:lnTo>
                        <a:lnTo>
                          <a:pt x="210" y="27"/>
                        </a:lnTo>
                        <a:lnTo>
                          <a:pt x="185" y="45"/>
                        </a:lnTo>
                        <a:lnTo>
                          <a:pt x="136" y="59"/>
                        </a:lnTo>
                        <a:lnTo>
                          <a:pt x="53" y="72"/>
                        </a:lnTo>
                        <a:lnTo>
                          <a:pt x="0" y="68"/>
                        </a:lnTo>
                        <a:lnTo>
                          <a:pt x="42" y="36"/>
                        </a:lnTo>
                        <a:close/>
                      </a:path>
                    </a:pathLst>
                  </a:custGeom>
                  <a:solidFill>
                    <a:srgbClr val="c0c0c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7" name=""/>
                  <p:cNvSpPr/>
                  <p:nvPr/>
                </p:nvSpPr>
                <p:spPr>
                  <a:xfrm>
                    <a:off x="703440" y="5761080"/>
                    <a:ext cx="43200" cy="43200"/>
                  </a:xfrm>
                  <a:custGeom>
                    <a:avLst/>
                    <a:gdLst/>
                    <a:ahLst/>
                    <a:rect l="0" t="0" r="r" b="b"/>
                    <a:pathLst>
                      <a:path w="120" h="120">
                        <a:moveTo>
                          <a:pt x="67" y="32"/>
                        </a:moveTo>
                        <a:lnTo>
                          <a:pt x="81" y="8"/>
                        </a:lnTo>
                        <a:lnTo>
                          <a:pt x="102" y="0"/>
                        </a:lnTo>
                        <a:lnTo>
                          <a:pt x="116" y="5"/>
                        </a:lnTo>
                        <a:lnTo>
                          <a:pt x="120" y="18"/>
                        </a:lnTo>
                        <a:lnTo>
                          <a:pt x="113" y="40"/>
                        </a:lnTo>
                        <a:lnTo>
                          <a:pt x="92" y="65"/>
                        </a:lnTo>
                        <a:lnTo>
                          <a:pt x="71" y="82"/>
                        </a:lnTo>
                        <a:lnTo>
                          <a:pt x="42" y="103"/>
                        </a:lnTo>
                        <a:lnTo>
                          <a:pt x="0" y="120"/>
                        </a:lnTo>
                        <a:lnTo>
                          <a:pt x="38" y="84"/>
                        </a:lnTo>
                        <a:lnTo>
                          <a:pt x="52" y="59"/>
                        </a:lnTo>
                        <a:lnTo>
                          <a:pt x="67" y="32"/>
                        </a:lnTo>
                        <a:close/>
                      </a:path>
                    </a:pathLst>
                  </a:custGeom>
                  <a:solidFill>
                    <a:srgbClr val="c0c0c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298" name=""/>
                  <p:cNvSpPr/>
                  <p:nvPr/>
                </p:nvSpPr>
                <p:spPr>
                  <a:xfrm>
                    <a:off x="539640" y="5492880"/>
                    <a:ext cx="119520" cy="54360"/>
                  </a:xfrm>
                  <a:custGeom>
                    <a:avLst/>
                    <a:gdLst/>
                    <a:ahLst/>
                    <a:rect l="0" t="0" r="r" b="b"/>
                    <a:pathLst>
                      <a:path w="332" h="151">
                        <a:moveTo>
                          <a:pt x="332" y="151"/>
                        </a:moveTo>
                        <a:lnTo>
                          <a:pt x="318" y="88"/>
                        </a:lnTo>
                        <a:lnTo>
                          <a:pt x="251" y="66"/>
                        </a:lnTo>
                        <a:lnTo>
                          <a:pt x="155" y="39"/>
                        </a:lnTo>
                        <a:lnTo>
                          <a:pt x="92" y="19"/>
                        </a:lnTo>
                        <a:lnTo>
                          <a:pt x="24" y="0"/>
                        </a:lnTo>
                        <a:lnTo>
                          <a:pt x="0" y="44"/>
                        </a:lnTo>
                        <a:lnTo>
                          <a:pt x="63" y="66"/>
                        </a:lnTo>
                        <a:lnTo>
                          <a:pt x="134" y="85"/>
                        </a:lnTo>
                        <a:lnTo>
                          <a:pt x="187" y="99"/>
                        </a:lnTo>
                        <a:lnTo>
                          <a:pt x="255" y="124"/>
                        </a:lnTo>
                        <a:lnTo>
                          <a:pt x="332" y="151"/>
                        </a:lnTo>
                        <a:close/>
                      </a:path>
                    </a:pathLst>
                  </a:custGeom>
                  <a:solidFill>
                    <a:srgbClr val="e0e0e0"/>
                  </a:solidFill>
                  <a:ln w="0">
                    <a:noFill/>
                  </a:ln>
                </p:spPr>
                <p:txBody>
                  <a:bodyPr lIns="90000" rIns="90000" tIns="9360" bIns="9360" anchor="t">
                    <a:noAutofit/>
                  </a:bodyPr>
                  <a:p>
                    <a:endParaRPr b="0" lang="en-US" sz="1800" spc="-1" strike="noStrike">
                      <a:solidFill>
                        <a:srgbClr val="000000"/>
                      </a:solidFill>
                      <a:latin typeface="Arial"/>
                    </a:endParaRPr>
                  </a:p>
                </p:txBody>
              </p:sp>
            </p:grpSp>
          </p:grpSp>
          <p:grpSp>
            <p:nvGrpSpPr>
              <p:cNvPr id="299" name=""/>
              <p:cNvGrpSpPr/>
              <p:nvPr/>
            </p:nvGrpSpPr>
            <p:grpSpPr>
              <a:xfrm>
                <a:off x="384120" y="5780160"/>
                <a:ext cx="267120" cy="276480"/>
                <a:chOff x="384120" y="5780160"/>
                <a:chExt cx="267120" cy="276480"/>
              </a:xfrm>
            </p:grpSpPr>
            <p:sp>
              <p:nvSpPr>
                <p:cNvPr id="300" name=""/>
                <p:cNvSpPr/>
                <p:nvPr/>
              </p:nvSpPr>
              <p:spPr>
                <a:xfrm>
                  <a:off x="384120" y="5780160"/>
                  <a:ext cx="267120" cy="276480"/>
                </a:xfrm>
                <a:custGeom>
                  <a:avLst/>
                  <a:gdLst/>
                  <a:ahLst/>
                  <a:rect l="0" t="0" r="r" b="b"/>
                  <a:pathLst>
                    <a:path w="742" h="768">
                      <a:moveTo>
                        <a:pt x="410" y="113"/>
                      </a:moveTo>
                      <a:lnTo>
                        <a:pt x="276" y="105"/>
                      </a:lnTo>
                      <a:lnTo>
                        <a:pt x="195" y="89"/>
                      </a:lnTo>
                      <a:lnTo>
                        <a:pt x="169" y="59"/>
                      </a:lnTo>
                      <a:lnTo>
                        <a:pt x="169" y="35"/>
                      </a:lnTo>
                      <a:lnTo>
                        <a:pt x="144" y="13"/>
                      </a:lnTo>
                      <a:lnTo>
                        <a:pt x="70" y="0"/>
                      </a:lnTo>
                      <a:lnTo>
                        <a:pt x="0" y="5"/>
                      </a:lnTo>
                      <a:lnTo>
                        <a:pt x="88" y="597"/>
                      </a:lnTo>
                      <a:lnTo>
                        <a:pt x="144" y="651"/>
                      </a:lnTo>
                      <a:lnTo>
                        <a:pt x="223" y="705"/>
                      </a:lnTo>
                      <a:lnTo>
                        <a:pt x="329" y="746"/>
                      </a:lnTo>
                      <a:lnTo>
                        <a:pt x="456" y="760"/>
                      </a:lnTo>
                      <a:lnTo>
                        <a:pt x="622" y="768"/>
                      </a:lnTo>
                      <a:lnTo>
                        <a:pt x="721" y="754"/>
                      </a:lnTo>
                      <a:lnTo>
                        <a:pt x="742" y="714"/>
                      </a:lnTo>
                      <a:lnTo>
                        <a:pt x="728" y="659"/>
                      </a:lnTo>
                      <a:lnTo>
                        <a:pt x="661" y="494"/>
                      </a:lnTo>
                      <a:lnTo>
                        <a:pt x="601" y="328"/>
                      </a:lnTo>
                      <a:lnTo>
                        <a:pt x="573" y="203"/>
                      </a:lnTo>
                      <a:lnTo>
                        <a:pt x="573" y="170"/>
                      </a:lnTo>
                      <a:lnTo>
                        <a:pt x="537" y="124"/>
                      </a:lnTo>
                      <a:lnTo>
                        <a:pt x="491" y="113"/>
                      </a:lnTo>
                      <a:lnTo>
                        <a:pt x="410" y="113"/>
                      </a:lnTo>
                      <a:close/>
                    </a:path>
                  </a:pathLst>
                </a:custGeom>
                <a:solidFill>
                  <a:srgbClr val="404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399960" y="5792760"/>
                  <a:ext cx="217800" cy="244800"/>
                </a:xfrm>
                <a:custGeom>
                  <a:avLst/>
                  <a:gdLst/>
                  <a:ahLst/>
                  <a:rect l="0" t="0" r="r" b="b"/>
                  <a:pathLst>
                    <a:path w="605" h="680">
                      <a:moveTo>
                        <a:pt x="397" y="135"/>
                      </a:moveTo>
                      <a:lnTo>
                        <a:pt x="280" y="132"/>
                      </a:lnTo>
                      <a:lnTo>
                        <a:pt x="165" y="116"/>
                      </a:lnTo>
                      <a:lnTo>
                        <a:pt x="94" y="89"/>
                      </a:lnTo>
                      <a:lnTo>
                        <a:pt x="52" y="64"/>
                      </a:lnTo>
                      <a:lnTo>
                        <a:pt x="0" y="0"/>
                      </a:lnTo>
                      <a:lnTo>
                        <a:pt x="77" y="525"/>
                      </a:lnTo>
                      <a:lnTo>
                        <a:pt x="126" y="571"/>
                      </a:lnTo>
                      <a:lnTo>
                        <a:pt x="186" y="617"/>
                      </a:lnTo>
                      <a:lnTo>
                        <a:pt x="256" y="647"/>
                      </a:lnTo>
                      <a:lnTo>
                        <a:pt x="320" y="663"/>
                      </a:lnTo>
                      <a:lnTo>
                        <a:pt x="397" y="671"/>
                      </a:lnTo>
                      <a:lnTo>
                        <a:pt x="468" y="680"/>
                      </a:lnTo>
                      <a:lnTo>
                        <a:pt x="548" y="680"/>
                      </a:lnTo>
                      <a:lnTo>
                        <a:pt x="584" y="671"/>
                      </a:lnTo>
                      <a:lnTo>
                        <a:pt x="605" y="647"/>
                      </a:lnTo>
                      <a:lnTo>
                        <a:pt x="594" y="609"/>
                      </a:lnTo>
                      <a:lnTo>
                        <a:pt x="545" y="517"/>
                      </a:lnTo>
                      <a:lnTo>
                        <a:pt x="457" y="205"/>
                      </a:lnTo>
                      <a:lnTo>
                        <a:pt x="440" y="159"/>
                      </a:lnTo>
                      <a:lnTo>
                        <a:pt x="397" y="135"/>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302" name=""/>
            <p:cNvGrpSpPr/>
            <p:nvPr/>
          </p:nvGrpSpPr>
          <p:grpSpPr>
            <a:xfrm>
              <a:off x="2655720" y="5121360"/>
              <a:ext cx="1122480" cy="777960"/>
              <a:chOff x="2655720" y="5121360"/>
              <a:chExt cx="1122480" cy="777960"/>
            </a:xfrm>
          </p:grpSpPr>
          <p:sp>
            <p:nvSpPr>
              <p:cNvPr id="303" name=""/>
              <p:cNvSpPr txBox="1"/>
              <p:nvPr/>
            </p:nvSpPr>
            <p:spPr>
              <a:xfrm>
                <a:off x="2655720" y="5381640"/>
                <a:ext cx="1122480" cy="517680"/>
              </a:xfrm>
              <a:prstGeom prst="rect">
                <a:avLst/>
              </a:prstGeom>
              <a:noFill/>
              <a:ln w="0">
                <a:noFill/>
              </a:ln>
            </p:spPr>
            <p:txBody>
              <a:bodyPr lIns="0" rIns="0" tIns="0" bIns="0" anchor="t">
                <a:noAutofit/>
              </a:bodyPr>
              <a:p>
                <a:pPr algn="ctr">
                  <a:lnSpc>
                    <a:spcPct val="100000"/>
                  </a:lnSpc>
                </a:pPr>
                <a:r>
                  <a:rPr b="1" lang="en-US" sz="1400" spc="-1" strike="noStrike">
                    <a:solidFill>
                      <a:srgbClr val="fc0128"/>
                    </a:solidFill>
                    <a:latin typeface="Arial"/>
                    <a:ea typeface="Arial"/>
                  </a:rPr>
                  <a:t>Production</a:t>
                </a:r>
                <a:br>
                  <a:rPr sz="1400"/>
                </a:br>
                <a:r>
                  <a:rPr b="1" lang="en-US" sz="1400" spc="-1" strike="noStrike">
                    <a:solidFill>
                      <a:srgbClr val="fc0128"/>
                    </a:solidFill>
                    <a:latin typeface="Arial"/>
                    <a:ea typeface="Arial"/>
                  </a:rPr>
                  <a:t>Database</a:t>
                </a:r>
                <a:endParaRPr b="0" lang="en-US" sz="1400" spc="-1" strike="noStrike">
                  <a:solidFill>
                    <a:srgbClr val="000000"/>
                  </a:solidFill>
                  <a:latin typeface="Arial"/>
                </a:endParaRPr>
              </a:p>
            </p:txBody>
          </p:sp>
          <p:sp>
            <p:nvSpPr>
              <p:cNvPr id="304" name=""/>
              <p:cNvSpPr txBox="1"/>
              <p:nvPr/>
            </p:nvSpPr>
            <p:spPr>
              <a:xfrm>
                <a:off x="2771640" y="5121360"/>
                <a:ext cx="885960" cy="304920"/>
              </a:xfrm>
              <a:prstGeom prst="rect">
                <a:avLst/>
              </a:prstGeom>
              <a:noFill/>
              <a:ln w="0">
                <a:noFill/>
              </a:ln>
            </p:spPr>
            <p:txBody>
              <a:bodyPr lIns="0" rIns="0" tIns="0" bIns="0" anchor="t">
                <a:noAutofit/>
              </a:bodyPr>
              <a:p>
                <a:pPr algn="ctr">
                  <a:lnSpc>
                    <a:spcPct val="100000"/>
                  </a:lnSpc>
                </a:pPr>
                <a:r>
                  <a:rPr b="1" lang="en-US" sz="1400" spc="-1" strike="noStrike">
                    <a:solidFill>
                      <a:srgbClr val="fc0128"/>
                    </a:solidFill>
                    <a:latin typeface="Arial"/>
                    <a:ea typeface="Arial"/>
                  </a:rPr>
                  <a:t>Oracle8</a:t>
                </a:r>
                <a:r>
                  <a:rPr b="1" i="1" lang="en-US" sz="1400" spc="-1" strike="noStrike">
                    <a:solidFill>
                      <a:srgbClr val="fc0128"/>
                    </a:solidFill>
                    <a:latin typeface="Arial"/>
                    <a:ea typeface="Arial"/>
                  </a:rPr>
                  <a:t>i</a:t>
                </a:r>
                <a:endParaRPr b="0" lang="en-US" sz="1400" spc="-1" strike="noStrike">
                  <a:solidFill>
                    <a:srgbClr val="000000"/>
                  </a:solidFill>
                  <a:latin typeface="Arial"/>
                </a:endParaRPr>
              </a:p>
            </p:txBody>
          </p:sp>
        </p:grpSp>
      </p:grpSp>
      <p:grpSp>
        <p:nvGrpSpPr>
          <p:cNvPr id="305" name=""/>
          <p:cNvGrpSpPr/>
          <p:nvPr/>
        </p:nvGrpSpPr>
        <p:grpSpPr>
          <a:xfrm>
            <a:off x="2517840" y="3854520"/>
            <a:ext cx="1393920" cy="981000"/>
            <a:chOff x="2517840" y="3854520"/>
            <a:chExt cx="1393920" cy="981000"/>
          </a:xfrm>
        </p:grpSpPr>
        <p:sp>
          <p:nvSpPr>
            <p:cNvPr id="306" name=""/>
            <p:cNvSpPr/>
            <p:nvPr/>
          </p:nvSpPr>
          <p:spPr>
            <a:xfrm>
              <a:off x="2517840" y="3995640"/>
              <a:ext cx="1393920" cy="700200"/>
            </a:xfrm>
            <a:prstGeom prst="rect">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2517840" y="4556160"/>
              <a:ext cx="1393920" cy="27936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2517840" y="3854520"/>
              <a:ext cx="1393920" cy="28116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09" name=""/>
          <p:cNvGrpSpPr/>
          <p:nvPr/>
        </p:nvGrpSpPr>
        <p:grpSpPr>
          <a:xfrm>
            <a:off x="384120" y="3711600"/>
            <a:ext cx="1950120" cy="781560"/>
            <a:chOff x="384120" y="3711600"/>
            <a:chExt cx="1950120" cy="781560"/>
          </a:xfrm>
        </p:grpSpPr>
        <p:sp>
          <p:nvSpPr>
            <p:cNvPr id="310" name=""/>
            <p:cNvSpPr/>
            <p:nvPr/>
          </p:nvSpPr>
          <p:spPr>
            <a:xfrm>
              <a:off x="1773360" y="3979800"/>
              <a:ext cx="560880" cy="267120"/>
            </a:xfrm>
            <a:custGeom>
              <a:avLst/>
              <a:gdLst/>
              <a:ahLst/>
              <a:rect l="0" t="0" r="r" b="b"/>
              <a:pathLst>
                <a:path fill="none" w="1558" h="742">
                  <a:moveTo>
                    <a:pt x="1558" y="247"/>
                  </a:moveTo>
                  <a:lnTo>
                    <a:pt x="1558" y="494"/>
                  </a:lnTo>
                  <a:lnTo>
                    <a:pt x="467" y="494"/>
                  </a:lnTo>
                  <a:lnTo>
                    <a:pt x="467" y="742"/>
                  </a:lnTo>
                  <a:lnTo>
                    <a:pt x="0" y="371"/>
                  </a:lnTo>
                  <a:lnTo>
                    <a:pt x="467" y="0"/>
                  </a:lnTo>
                  <a:lnTo>
                    <a:pt x="467" y="247"/>
                  </a:lnTo>
                  <a:lnTo>
                    <a:pt x="1558" y="2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11" name=""/>
            <p:cNvGrpSpPr/>
            <p:nvPr/>
          </p:nvGrpSpPr>
          <p:grpSpPr>
            <a:xfrm>
              <a:off x="384120" y="3711600"/>
              <a:ext cx="1222920" cy="781560"/>
              <a:chOff x="384120" y="3711600"/>
              <a:chExt cx="1222920" cy="781560"/>
            </a:xfrm>
          </p:grpSpPr>
          <p:grpSp>
            <p:nvGrpSpPr>
              <p:cNvPr id="312" name=""/>
              <p:cNvGrpSpPr/>
              <p:nvPr/>
            </p:nvGrpSpPr>
            <p:grpSpPr>
              <a:xfrm>
                <a:off x="782640" y="3771720"/>
                <a:ext cx="824400" cy="443520"/>
                <a:chOff x="782640" y="3771720"/>
                <a:chExt cx="824400" cy="443520"/>
              </a:xfrm>
            </p:grpSpPr>
            <p:grpSp>
              <p:nvGrpSpPr>
                <p:cNvPr id="313" name=""/>
                <p:cNvGrpSpPr/>
                <p:nvPr/>
              </p:nvGrpSpPr>
              <p:grpSpPr>
                <a:xfrm>
                  <a:off x="969840" y="3771720"/>
                  <a:ext cx="637200" cy="400680"/>
                  <a:chOff x="969840" y="3771720"/>
                  <a:chExt cx="637200" cy="400680"/>
                </a:xfrm>
              </p:grpSpPr>
              <p:grpSp>
                <p:nvGrpSpPr>
                  <p:cNvPr id="314" name=""/>
                  <p:cNvGrpSpPr/>
                  <p:nvPr/>
                </p:nvGrpSpPr>
                <p:grpSpPr>
                  <a:xfrm>
                    <a:off x="969840" y="3771720"/>
                    <a:ext cx="637200" cy="400680"/>
                    <a:chOff x="969840" y="3771720"/>
                    <a:chExt cx="637200" cy="400680"/>
                  </a:xfrm>
                </p:grpSpPr>
                <p:grpSp>
                  <p:nvGrpSpPr>
                    <p:cNvPr id="315" name=""/>
                    <p:cNvGrpSpPr/>
                    <p:nvPr/>
                  </p:nvGrpSpPr>
                  <p:grpSpPr>
                    <a:xfrm>
                      <a:off x="969840" y="3995640"/>
                      <a:ext cx="637200" cy="176760"/>
                      <a:chOff x="969840" y="3995640"/>
                      <a:chExt cx="637200" cy="176760"/>
                    </a:xfrm>
                  </p:grpSpPr>
                  <p:sp>
                    <p:nvSpPr>
                      <p:cNvPr id="316" name=""/>
                      <p:cNvSpPr/>
                      <p:nvPr/>
                    </p:nvSpPr>
                    <p:spPr>
                      <a:xfrm>
                        <a:off x="969840" y="3997440"/>
                        <a:ext cx="365400" cy="174960"/>
                      </a:xfrm>
                      <a:custGeom>
                        <a:avLst/>
                        <a:gdLst/>
                        <a:ahLst/>
                        <a:rect l="0" t="0" r="r" b="b"/>
                        <a:pathLst>
                          <a:path w="1015" h="486">
                            <a:moveTo>
                              <a:pt x="1015" y="146"/>
                            </a:moveTo>
                            <a:lnTo>
                              <a:pt x="1015" y="486"/>
                            </a:lnTo>
                            <a:lnTo>
                              <a:pt x="0" y="235"/>
                            </a:lnTo>
                            <a:lnTo>
                              <a:pt x="0" y="0"/>
                            </a:lnTo>
                            <a:lnTo>
                              <a:pt x="1015" y="146"/>
                            </a:lnTo>
                            <a:close/>
                          </a:path>
                        </a:pathLst>
                      </a:custGeom>
                      <a:solidFill>
                        <a:srgbClr val="a0a0a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335240" y="4038480"/>
                        <a:ext cx="271800" cy="133560"/>
                      </a:xfrm>
                      <a:custGeom>
                        <a:avLst/>
                        <a:gdLst/>
                        <a:ahLst/>
                        <a:rect l="0" t="0" r="r" b="b"/>
                        <a:pathLst>
                          <a:path w="755" h="371">
                            <a:moveTo>
                              <a:pt x="0" y="32"/>
                            </a:moveTo>
                            <a:lnTo>
                              <a:pt x="0" y="371"/>
                            </a:lnTo>
                            <a:lnTo>
                              <a:pt x="755" y="287"/>
                            </a:lnTo>
                            <a:lnTo>
                              <a:pt x="755" y="0"/>
                            </a:lnTo>
                            <a:lnTo>
                              <a:pt x="0" y="32"/>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969840" y="3995640"/>
                        <a:ext cx="636840" cy="52920"/>
                      </a:xfrm>
                      <a:custGeom>
                        <a:avLst/>
                        <a:gdLst/>
                        <a:ahLst/>
                        <a:rect l="0" t="0" r="r" b="b"/>
                        <a:pathLst>
                          <a:path w="1769" h="147">
                            <a:moveTo>
                              <a:pt x="1769" y="115"/>
                            </a:moveTo>
                            <a:lnTo>
                              <a:pt x="1006" y="147"/>
                            </a:lnTo>
                            <a:lnTo>
                              <a:pt x="0" y="0"/>
                            </a:lnTo>
                            <a:lnTo>
                              <a:pt x="741" y="0"/>
                            </a:lnTo>
                            <a:lnTo>
                              <a:pt x="1769" y="115"/>
                            </a:lnTo>
                            <a:close/>
                          </a:path>
                        </a:pathLst>
                      </a:custGeom>
                      <a:solidFill>
                        <a:srgbClr val="c0c0c0"/>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sp>
                  <p:nvSpPr>
                    <p:cNvPr id="319" name=""/>
                    <p:cNvSpPr/>
                    <p:nvPr/>
                  </p:nvSpPr>
                  <p:spPr>
                    <a:xfrm>
                      <a:off x="1168560" y="3983040"/>
                      <a:ext cx="230400" cy="49680"/>
                    </a:xfrm>
                    <a:custGeom>
                      <a:avLst/>
                      <a:gdLst/>
                      <a:ahLst/>
                      <a:rect l="0" t="0" r="r" b="b"/>
                      <a:pathLst>
                        <a:path w="640" h="138">
                          <a:moveTo>
                            <a:pt x="640" y="78"/>
                          </a:moveTo>
                          <a:lnTo>
                            <a:pt x="640" y="125"/>
                          </a:lnTo>
                          <a:lnTo>
                            <a:pt x="341" y="138"/>
                          </a:lnTo>
                          <a:lnTo>
                            <a:pt x="0" y="89"/>
                          </a:lnTo>
                          <a:lnTo>
                            <a:pt x="0" y="0"/>
                          </a:lnTo>
                          <a:lnTo>
                            <a:pt x="640" y="78"/>
                          </a:lnTo>
                          <a:close/>
                        </a:path>
                      </a:pathLst>
                    </a:custGeom>
                    <a:solidFill>
                      <a:srgbClr val="606060"/>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nvGrpSpPr>
                    <p:cNvPr id="320" name=""/>
                    <p:cNvGrpSpPr/>
                    <p:nvPr/>
                  </p:nvGrpSpPr>
                  <p:grpSpPr>
                    <a:xfrm>
                      <a:off x="1042920" y="3771720"/>
                      <a:ext cx="514800" cy="249840"/>
                      <a:chOff x="1042920" y="3771720"/>
                      <a:chExt cx="514800" cy="249840"/>
                    </a:xfrm>
                  </p:grpSpPr>
                  <p:sp>
                    <p:nvSpPr>
                      <p:cNvPr id="321" name=""/>
                      <p:cNvSpPr/>
                      <p:nvPr/>
                    </p:nvSpPr>
                    <p:spPr>
                      <a:xfrm>
                        <a:off x="1042920" y="3771720"/>
                        <a:ext cx="295560" cy="243360"/>
                      </a:xfrm>
                      <a:custGeom>
                        <a:avLst/>
                        <a:gdLst/>
                        <a:ahLst/>
                        <a:rect l="0" t="0" r="r" b="b"/>
                        <a:pathLst>
                          <a:path w="821" h="676">
                            <a:moveTo>
                              <a:pt x="705" y="676"/>
                            </a:moveTo>
                            <a:lnTo>
                              <a:pt x="821" y="21"/>
                            </a:lnTo>
                            <a:lnTo>
                              <a:pt x="112" y="0"/>
                            </a:lnTo>
                            <a:lnTo>
                              <a:pt x="0" y="584"/>
                            </a:lnTo>
                            <a:lnTo>
                              <a:pt x="705" y="676"/>
                            </a:lnTo>
                            <a:close/>
                          </a:path>
                        </a:pathLst>
                      </a:custGeom>
                      <a:solidFill>
                        <a:srgbClr val="a0a0a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1297080" y="3780000"/>
                        <a:ext cx="260640" cy="241560"/>
                      </a:xfrm>
                      <a:custGeom>
                        <a:avLst/>
                        <a:gdLst/>
                        <a:ahLst/>
                        <a:rect l="0" t="0" r="r" b="b"/>
                        <a:pathLst>
                          <a:path w="724" h="671">
                            <a:moveTo>
                              <a:pt x="115" y="0"/>
                            </a:moveTo>
                            <a:lnTo>
                              <a:pt x="724" y="148"/>
                            </a:lnTo>
                            <a:lnTo>
                              <a:pt x="636" y="671"/>
                            </a:lnTo>
                            <a:lnTo>
                              <a:pt x="0" y="655"/>
                            </a:lnTo>
                            <a:lnTo>
                              <a:pt x="115"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076400" y="3794040"/>
                        <a:ext cx="213120" cy="184680"/>
                      </a:xfrm>
                      <a:custGeom>
                        <a:avLst/>
                        <a:gdLst/>
                        <a:ahLst/>
                        <a:rect l="0" t="0" r="r" b="b"/>
                        <a:pathLst>
                          <a:path w="592" h="513">
                            <a:moveTo>
                              <a:pt x="592" y="21"/>
                            </a:moveTo>
                            <a:lnTo>
                              <a:pt x="507" y="513"/>
                            </a:lnTo>
                            <a:lnTo>
                              <a:pt x="0" y="456"/>
                            </a:lnTo>
                            <a:lnTo>
                              <a:pt x="84" y="0"/>
                            </a:lnTo>
                            <a:lnTo>
                              <a:pt x="592" y="21"/>
                            </a:lnTo>
                            <a:close/>
                          </a:path>
                        </a:pathLst>
                      </a:custGeom>
                      <a:solidFill>
                        <a:srgbClr val="0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24" name=""/>
                  <p:cNvGrpSpPr/>
                  <p:nvPr/>
                </p:nvGrpSpPr>
                <p:grpSpPr>
                  <a:xfrm>
                    <a:off x="992160" y="4016520"/>
                    <a:ext cx="211320" cy="114840"/>
                    <a:chOff x="992160" y="4016520"/>
                    <a:chExt cx="211320" cy="114840"/>
                  </a:xfrm>
                </p:grpSpPr>
                <p:sp>
                  <p:nvSpPr>
                    <p:cNvPr id="325" name=""/>
                    <p:cNvSpPr/>
                    <p:nvPr/>
                  </p:nvSpPr>
                  <p:spPr>
                    <a:xfrm>
                      <a:off x="993600" y="4016520"/>
                      <a:ext cx="209880" cy="114840"/>
                    </a:xfrm>
                    <a:custGeom>
                      <a:avLst/>
                      <a:gdLst/>
                      <a:ahLst/>
                      <a:rect l="0" t="0" r="r" b="b"/>
                      <a:pathLst>
                        <a:path w="583" h="319">
                          <a:moveTo>
                            <a:pt x="0" y="0"/>
                          </a:moveTo>
                          <a:lnTo>
                            <a:pt x="583" y="95"/>
                          </a:lnTo>
                          <a:lnTo>
                            <a:pt x="583" y="319"/>
                          </a:lnTo>
                          <a:lnTo>
                            <a:pt x="0" y="180"/>
                          </a:lnTo>
                          <a:lnTo>
                            <a:pt x="0" y="0"/>
                          </a:lnTo>
                          <a:close/>
                        </a:path>
                      </a:pathLst>
                    </a:custGeom>
                    <a:solidFill>
                      <a:srgbClr val="404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H="1" flipV="1">
                      <a:off x="1011240" y="4043520"/>
                      <a:ext cx="55440" cy="9360"/>
                    </a:xfrm>
                    <a:prstGeom prst="line">
                      <a:avLst/>
                    </a:prstGeom>
                    <a:ln w="12600">
                      <a:solidFill>
                        <a:srgbClr val="000000"/>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327" name=""/>
                    <p:cNvSpPr/>
                    <p:nvPr/>
                  </p:nvSpPr>
                  <p:spPr>
                    <a:xfrm>
                      <a:off x="1095480" y="4059360"/>
                      <a:ext cx="7308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328" name=""/>
                    <p:cNvSpPr/>
                    <p:nvPr/>
                  </p:nvSpPr>
                  <p:spPr>
                    <a:xfrm>
                      <a:off x="1082520" y="4027320"/>
                      <a:ext cx="0" cy="74880"/>
                    </a:xfrm>
                    <a:prstGeom prst="line">
                      <a:avLst/>
                    </a:prstGeom>
                    <a:ln w="12600">
                      <a:solidFill>
                        <a:srgbClr val="000000"/>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
                  <p:nvSpPr>
                    <p:cNvPr id="329" name=""/>
                    <p:cNvSpPr/>
                    <p:nvPr/>
                  </p:nvSpPr>
                  <p:spPr>
                    <a:xfrm>
                      <a:off x="1182600" y="4046400"/>
                      <a:ext cx="0" cy="79560"/>
                    </a:xfrm>
                    <a:prstGeom prst="line">
                      <a:avLst/>
                    </a:prstGeom>
                    <a:ln w="12600">
                      <a:solidFill>
                        <a:srgbClr val="000000"/>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330" name=""/>
                    <p:cNvSpPr/>
                    <p:nvPr/>
                  </p:nvSpPr>
                  <p:spPr>
                    <a:xfrm>
                      <a:off x="993600" y="4043520"/>
                      <a:ext cx="18900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331" name=""/>
                    <p:cNvSpPr/>
                    <p:nvPr/>
                  </p:nvSpPr>
                  <p:spPr>
                    <a:xfrm flipH="1" flipV="1">
                      <a:off x="992160" y="4033800"/>
                      <a:ext cx="19044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332" name=""/>
                <p:cNvGrpSpPr/>
                <p:nvPr/>
              </p:nvGrpSpPr>
              <p:grpSpPr>
                <a:xfrm>
                  <a:off x="782640" y="4019400"/>
                  <a:ext cx="497160" cy="195840"/>
                  <a:chOff x="782640" y="4019400"/>
                  <a:chExt cx="497160" cy="195840"/>
                </a:xfrm>
              </p:grpSpPr>
              <p:grpSp>
                <p:nvGrpSpPr>
                  <p:cNvPr id="333" name=""/>
                  <p:cNvGrpSpPr/>
                  <p:nvPr/>
                </p:nvGrpSpPr>
                <p:grpSpPr>
                  <a:xfrm>
                    <a:off x="1166760" y="4125960"/>
                    <a:ext cx="83160" cy="45000"/>
                    <a:chOff x="1166760" y="4125960"/>
                    <a:chExt cx="83160" cy="45000"/>
                  </a:xfrm>
                </p:grpSpPr>
                <p:sp>
                  <p:nvSpPr>
                    <p:cNvPr id="334" name=""/>
                    <p:cNvSpPr/>
                    <p:nvPr/>
                  </p:nvSpPr>
                  <p:spPr>
                    <a:xfrm>
                      <a:off x="1224000" y="4125960"/>
                      <a:ext cx="25920" cy="44640"/>
                    </a:xfrm>
                    <a:custGeom>
                      <a:avLst/>
                      <a:gdLst/>
                      <a:ahLst/>
                      <a:rect l="0" t="0" r="r" b="b"/>
                      <a:pathLst>
                        <a:path w="72" h="124">
                          <a:moveTo>
                            <a:pt x="51" y="0"/>
                          </a:moveTo>
                          <a:lnTo>
                            <a:pt x="72" y="116"/>
                          </a:lnTo>
                          <a:lnTo>
                            <a:pt x="20" y="124"/>
                          </a:lnTo>
                          <a:lnTo>
                            <a:pt x="0" y="5"/>
                          </a:lnTo>
                          <a:lnTo>
                            <a:pt x="51" y="0"/>
                          </a:lnTo>
                          <a:close/>
                        </a:path>
                      </a:pathLst>
                    </a:custGeom>
                    <a:solidFill>
                      <a:srgbClr val="606060"/>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335" name=""/>
                    <p:cNvSpPr/>
                    <p:nvPr/>
                  </p:nvSpPr>
                  <p:spPr>
                    <a:xfrm>
                      <a:off x="1166760" y="4132440"/>
                      <a:ext cx="63720" cy="38520"/>
                    </a:xfrm>
                    <a:custGeom>
                      <a:avLst/>
                      <a:gdLst/>
                      <a:ahLst/>
                      <a:rect l="0" t="0" r="r" b="b"/>
                      <a:pathLst>
                        <a:path w="177" h="107">
                          <a:moveTo>
                            <a:pt x="163" y="2"/>
                          </a:moveTo>
                          <a:lnTo>
                            <a:pt x="177" y="107"/>
                          </a:lnTo>
                          <a:lnTo>
                            <a:pt x="0" y="52"/>
                          </a:lnTo>
                          <a:lnTo>
                            <a:pt x="70" y="37"/>
                          </a:lnTo>
                          <a:lnTo>
                            <a:pt x="131" y="60"/>
                          </a:lnTo>
                          <a:lnTo>
                            <a:pt x="113" y="0"/>
                          </a:lnTo>
                          <a:lnTo>
                            <a:pt x="163" y="2"/>
                          </a:lnTo>
                          <a:close/>
                        </a:path>
                      </a:pathLst>
                    </a:custGeom>
                    <a:solidFill>
                      <a:srgbClr val="404040"/>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336" name=""/>
                  <p:cNvGrpSpPr/>
                  <p:nvPr/>
                </p:nvGrpSpPr>
                <p:grpSpPr>
                  <a:xfrm>
                    <a:off x="782640" y="4019400"/>
                    <a:ext cx="497160" cy="195840"/>
                    <a:chOff x="782640" y="4019400"/>
                    <a:chExt cx="497160" cy="195840"/>
                  </a:xfrm>
                </p:grpSpPr>
                <p:sp>
                  <p:nvSpPr>
                    <p:cNvPr id="337" name=""/>
                    <p:cNvSpPr/>
                    <p:nvPr/>
                  </p:nvSpPr>
                  <p:spPr>
                    <a:xfrm>
                      <a:off x="782640" y="4019400"/>
                      <a:ext cx="489240" cy="171720"/>
                    </a:xfrm>
                    <a:custGeom>
                      <a:avLst/>
                      <a:gdLst/>
                      <a:ahLst/>
                      <a:rect l="0" t="0" r="r" b="b"/>
                      <a:pathLst>
                        <a:path w="1359" h="477">
                          <a:moveTo>
                            <a:pt x="1359" y="201"/>
                          </a:moveTo>
                          <a:lnTo>
                            <a:pt x="708" y="477"/>
                          </a:lnTo>
                          <a:lnTo>
                            <a:pt x="0" y="207"/>
                          </a:lnTo>
                          <a:lnTo>
                            <a:pt x="541" y="0"/>
                          </a:lnTo>
                          <a:lnTo>
                            <a:pt x="1359" y="201"/>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1035000" y="4091040"/>
                      <a:ext cx="244800" cy="122760"/>
                    </a:xfrm>
                    <a:custGeom>
                      <a:avLst/>
                      <a:gdLst/>
                      <a:ahLst/>
                      <a:rect l="0" t="0" r="r" b="b"/>
                      <a:pathLst>
                        <a:path w="680" h="341">
                          <a:moveTo>
                            <a:pt x="655" y="0"/>
                          </a:moveTo>
                          <a:lnTo>
                            <a:pt x="0" y="281"/>
                          </a:lnTo>
                          <a:lnTo>
                            <a:pt x="17" y="341"/>
                          </a:lnTo>
                          <a:lnTo>
                            <a:pt x="680" y="54"/>
                          </a:lnTo>
                          <a:lnTo>
                            <a:pt x="655" y="0"/>
                          </a:lnTo>
                          <a:close/>
                        </a:path>
                      </a:pathLst>
                    </a:custGeom>
                    <a:solidFill>
                      <a:srgbClr val="606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782640" y="4094280"/>
                      <a:ext cx="260640" cy="120960"/>
                    </a:xfrm>
                    <a:custGeom>
                      <a:avLst/>
                      <a:gdLst/>
                      <a:ahLst/>
                      <a:rect l="0" t="0" r="r" b="b"/>
                      <a:pathLst>
                        <a:path w="724" h="336">
                          <a:moveTo>
                            <a:pt x="724" y="336"/>
                          </a:moveTo>
                          <a:lnTo>
                            <a:pt x="703" y="273"/>
                          </a:lnTo>
                          <a:lnTo>
                            <a:pt x="0" y="0"/>
                          </a:lnTo>
                          <a:lnTo>
                            <a:pt x="24" y="49"/>
                          </a:lnTo>
                          <a:lnTo>
                            <a:pt x="724" y="336"/>
                          </a:lnTo>
                          <a:close/>
                        </a:path>
                      </a:pathLst>
                    </a:custGeom>
                    <a:solidFill>
                      <a:srgbClr val="404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988920" y="4100400"/>
                      <a:ext cx="186120" cy="68760"/>
                    </a:xfrm>
                    <a:custGeom>
                      <a:avLst/>
                      <a:gdLst/>
                      <a:ahLst/>
                      <a:rect l="0" t="0" r="r" b="b"/>
                      <a:pathLst>
                        <a:path w="517" h="191">
                          <a:moveTo>
                            <a:pt x="517" y="49"/>
                          </a:moveTo>
                          <a:lnTo>
                            <a:pt x="340" y="0"/>
                          </a:lnTo>
                          <a:lnTo>
                            <a:pt x="0" y="133"/>
                          </a:lnTo>
                          <a:lnTo>
                            <a:pt x="170" y="191"/>
                          </a:lnTo>
                          <a:lnTo>
                            <a:pt x="517" y="49"/>
                          </a:lnTo>
                          <a:close/>
                        </a:path>
                      </a:pathLst>
                    </a:custGeom>
                    <a:solidFill>
                      <a:srgbClr val="a0a0a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341" name=""/>
                    <p:cNvSpPr/>
                    <p:nvPr/>
                  </p:nvSpPr>
                  <p:spPr>
                    <a:xfrm>
                      <a:off x="817560" y="4046400"/>
                      <a:ext cx="278280" cy="95760"/>
                    </a:xfrm>
                    <a:custGeom>
                      <a:avLst/>
                      <a:gdLst/>
                      <a:ahLst/>
                      <a:rect l="0" t="0" r="r" b="b"/>
                      <a:pathLst>
                        <a:path w="773" h="266">
                          <a:moveTo>
                            <a:pt x="773" y="129"/>
                          </a:moveTo>
                          <a:lnTo>
                            <a:pt x="434" y="266"/>
                          </a:lnTo>
                          <a:lnTo>
                            <a:pt x="0" y="115"/>
                          </a:lnTo>
                          <a:lnTo>
                            <a:pt x="318" y="0"/>
                          </a:lnTo>
                          <a:lnTo>
                            <a:pt x="773" y="129"/>
                          </a:lnTo>
                          <a:close/>
                        </a:path>
                      </a:pathLst>
                    </a:custGeom>
                    <a:solidFill>
                      <a:srgbClr val="a0a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a:off x="938160" y="4024440"/>
                      <a:ext cx="308160" cy="86040"/>
                    </a:xfrm>
                    <a:custGeom>
                      <a:avLst/>
                      <a:gdLst/>
                      <a:ahLst/>
                      <a:rect l="0" t="0" r="r" b="b"/>
                      <a:pathLst>
                        <a:path w="856" h="239">
                          <a:moveTo>
                            <a:pt x="679" y="239"/>
                          </a:moveTo>
                          <a:lnTo>
                            <a:pt x="856" y="171"/>
                          </a:lnTo>
                          <a:lnTo>
                            <a:pt x="137" y="0"/>
                          </a:lnTo>
                          <a:lnTo>
                            <a:pt x="0" y="48"/>
                          </a:lnTo>
                          <a:lnTo>
                            <a:pt x="679" y="239"/>
                          </a:lnTo>
                          <a:close/>
                        </a:path>
                      </a:pathLst>
                    </a:custGeom>
                    <a:solidFill>
                      <a:srgbClr val="a0a0a0"/>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343" name=""/>
                    <p:cNvSpPr/>
                    <p:nvPr/>
                  </p:nvSpPr>
                  <p:spPr>
                    <a:xfrm flipH="1" flipV="1">
                      <a:off x="961920" y="4027320"/>
                      <a:ext cx="276480" cy="73080"/>
                    </a:xfrm>
                    <a:prstGeom prst="line">
                      <a:avLst/>
                    </a:prstGeom>
                    <a:ln w="12600">
                      <a:solidFill>
                        <a:srgbClr val="80808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344" name=""/>
                    <p:cNvSpPr/>
                    <p:nvPr/>
                  </p:nvSpPr>
                  <p:spPr>
                    <a:xfrm flipH="1" flipV="1">
                      <a:off x="949320" y="4032360"/>
                      <a:ext cx="264960" cy="73080"/>
                    </a:xfrm>
                    <a:prstGeom prst="line">
                      <a:avLst/>
                    </a:prstGeom>
                    <a:ln w="12600">
                      <a:solidFill>
                        <a:srgbClr val="80808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345" name=""/>
                    <p:cNvSpPr/>
                    <p:nvPr/>
                  </p:nvSpPr>
                  <p:spPr>
                    <a:xfrm flipH="1" flipV="1">
                      <a:off x="938160" y="4038480"/>
                      <a:ext cx="260280" cy="76320"/>
                    </a:xfrm>
                    <a:prstGeom prst="line">
                      <a:avLst/>
                    </a:prstGeom>
                    <a:ln w="12600">
                      <a:solidFill>
                        <a:srgbClr val="80808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46" name=""/>
                    <p:cNvSpPr/>
                    <p:nvPr/>
                  </p:nvSpPr>
                  <p:spPr>
                    <a:xfrm flipH="1" flipV="1">
                      <a:off x="909720" y="4051440"/>
                      <a:ext cx="250920" cy="77760"/>
                    </a:xfrm>
                    <a:prstGeom prst="line">
                      <a:avLst/>
                    </a:prstGeom>
                    <a:ln w="12600">
                      <a:solidFill>
                        <a:srgbClr val="80808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347" name=""/>
                    <p:cNvSpPr/>
                    <p:nvPr/>
                  </p:nvSpPr>
                  <p:spPr>
                    <a:xfrm flipH="1" flipV="1">
                      <a:off x="890640" y="4059360"/>
                      <a:ext cx="249120" cy="79200"/>
                    </a:xfrm>
                    <a:prstGeom prst="line">
                      <a:avLst/>
                    </a:prstGeom>
                    <a:ln w="12600">
                      <a:solidFill>
                        <a:srgbClr val="808080"/>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348" name=""/>
                    <p:cNvSpPr/>
                    <p:nvPr/>
                  </p:nvSpPr>
                  <p:spPr>
                    <a:xfrm flipH="1" flipV="1">
                      <a:off x="884160" y="4070520"/>
                      <a:ext cx="228600" cy="75960"/>
                    </a:xfrm>
                    <a:prstGeom prst="line">
                      <a:avLst/>
                    </a:prstGeom>
                    <a:ln w="12600">
                      <a:solidFill>
                        <a:srgbClr val="80808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49" name=""/>
                    <p:cNvSpPr/>
                    <p:nvPr/>
                  </p:nvSpPr>
                  <p:spPr>
                    <a:xfrm flipH="1" flipV="1">
                      <a:off x="866880" y="4078440"/>
                      <a:ext cx="220680" cy="74520"/>
                    </a:xfrm>
                    <a:prstGeom prst="line">
                      <a:avLst/>
                    </a:prstGeom>
                    <a:ln w="12600">
                      <a:solidFill>
                        <a:srgbClr val="80808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350" name=""/>
                    <p:cNvSpPr/>
                    <p:nvPr/>
                  </p:nvSpPr>
                  <p:spPr>
                    <a:xfrm flipH="1" flipV="1">
                      <a:off x="846000" y="4087800"/>
                      <a:ext cx="216000" cy="74520"/>
                    </a:xfrm>
                    <a:prstGeom prst="line">
                      <a:avLst/>
                    </a:prstGeom>
                    <a:ln w="12600">
                      <a:solidFill>
                        <a:srgbClr val="80808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351" name=""/>
                    <p:cNvSpPr/>
                    <p:nvPr/>
                  </p:nvSpPr>
                  <p:spPr>
                    <a:xfrm flipH="1">
                      <a:off x="1020600" y="4111560"/>
                      <a:ext cx="130320" cy="57240"/>
                    </a:xfrm>
                    <a:prstGeom prst="line">
                      <a:avLst/>
                    </a:prstGeom>
                    <a:ln w="12600">
                      <a:solidFill>
                        <a:srgbClr val="808080"/>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352" name=""/>
                    <p:cNvSpPr/>
                    <p:nvPr/>
                  </p:nvSpPr>
                  <p:spPr>
                    <a:xfrm flipH="1">
                      <a:off x="995400" y="4105440"/>
                      <a:ext cx="129960" cy="55440"/>
                    </a:xfrm>
                    <a:prstGeom prst="line">
                      <a:avLst/>
                    </a:prstGeom>
                    <a:ln w="12600">
                      <a:solidFill>
                        <a:srgbClr val="80808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353" name=""/>
                    <p:cNvSpPr/>
                    <p:nvPr/>
                  </p:nvSpPr>
                  <p:spPr>
                    <a:xfrm flipH="1">
                      <a:off x="941400" y="4087800"/>
                      <a:ext cx="127080" cy="52560"/>
                    </a:xfrm>
                    <a:prstGeom prst="line">
                      <a:avLst/>
                    </a:prstGeom>
                    <a:ln w="12600">
                      <a:solidFill>
                        <a:srgbClr val="808080"/>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354" name=""/>
                    <p:cNvSpPr/>
                    <p:nvPr/>
                  </p:nvSpPr>
                  <p:spPr>
                    <a:xfrm flipH="1">
                      <a:off x="914400" y="4079880"/>
                      <a:ext cx="122400" cy="52560"/>
                    </a:xfrm>
                    <a:prstGeom prst="line">
                      <a:avLst/>
                    </a:prstGeom>
                    <a:ln w="12600">
                      <a:solidFill>
                        <a:srgbClr val="808080"/>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355" name=""/>
                    <p:cNvSpPr/>
                    <p:nvPr/>
                  </p:nvSpPr>
                  <p:spPr>
                    <a:xfrm flipH="1">
                      <a:off x="885960" y="4071960"/>
                      <a:ext cx="122040" cy="50760"/>
                    </a:xfrm>
                    <a:prstGeom prst="line">
                      <a:avLst/>
                    </a:prstGeom>
                    <a:ln w="12600">
                      <a:solidFill>
                        <a:srgbClr val="80808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356" name=""/>
                    <p:cNvSpPr/>
                    <p:nvPr/>
                  </p:nvSpPr>
                  <p:spPr>
                    <a:xfrm flipH="1">
                      <a:off x="861840" y="4064040"/>
                      <a:ext cx="119160" cy="49320"/>
                    </a:xfrm>
                    <a:prstGeom prst="line">
                      <a:avLst/>
                    </a:prstGeom>
                    <a:ln w="12600">
                      <a:solidFill>
                        <a:srgbClr val="80808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357" name=""/>
                    <p:cNvSpPr/>
                    <p:nvPr/>
                  </p:nvSpPr>
                  <p:spPr>
                    <a:xfrm flipH="1">
                      <a:off x="836640" y="4054320"/>
                      <a:ext cx="120600" cy="47880"/>
                    </a:xfrm>
                    <a:prstGeom prst="line">
                      <a:avLst/>
                    </a:prstGeom>
                    <a:ln w="12600">
                      <a:solidFill>
                        <a:srgbClr val="808080"/>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358" name=""/>
                    <p:cNvSpPr/>
                    <p:nvPr/>
                  </p:nvSpPr>
                  <p:spPr>
                    <a:xfrm flipH="1">
                      <a:off x="1144440" y="4079880"/>
                      <a:ext cx="63720" cy="25560"/>
                    </a:xfrm>
                    <a:prstGeom prst="line">
                      <a:avLst/>
                    </a:prstGeom>
                    <a:ln w="12600">
                      <a:solidFill>
                        <a:srgbClr val="80808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359" name=""/>
                    <p:cNvSpPr/>
                    <p:nvPr/>
                  </p:nvSpPr>
                  <p:spPr>
                    <a:xfrm flipH="1">
                      <a:off x="1104840" y="4068720"/>
                      <a:ext cx="61920" cy="27000"/>
                    </a:xfrm>
                    <a:prstGeom prst="line">
                      <a:avLst/>
                    </a:prstGeom>
                    <a:ln w="12600">
                      <a:solidFill>
                        <a:srgbClr val="80808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360" name=""/>
                    <p:cNvSpPr/>
                    <p:nvPr/>
                  </p:nvSpPr>
                  <p:spPr>
                    <a:xfrm flipH="1">
                      <a:off x="1066680" y="4062240"/>
                      <a:ext cx="61920" cy="24120"/>
                    </a:xfrm>
                    <a:prstGeom prst="line">
                      <a:avLst/>
                    </a:prstGeom>
                    <a:ln w="12600">
                      <a:solidFill>
                        <a:srgbClr val="808080"/>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361" name=""/>
                    <p:cNvSpPr/>
                    <p:nvPr/>
                  </p:nvSpPr>
                  <p:spPr>
                    <a:xfrm flipH="1">
                      <a:off x="1033560" y="4051440"/>
                      <a:ext cx="60120" cy="21960"/>
                    </a:xfrm>
                    <a:prstGeom prst="line">
                      <a:avLst/>
                    </a:prstGeom>
                    <a:ln w="12600">
                      <a:solidFill>
                        <a:srgbClr val="80808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362" name=""/>
                    <p:cNvSpPr/>
                    <p:nvPr/>
                  </p:nvSpPr>
                  <p:spPr>
                    <a:xfrm flipH="1">
                      <a:off x="998640" y="4041720"/>
                      <a:ext cx="56880" cy="22320"/>
                    </a:xfrm>
                    <a:prstGeom prst="line">
                      <a:avLst/>
                    </a:prstGeom>
                    <a:ln w="12600">
                      <a:solidFill>
                        <a:srgbClr val="808080"/>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363" name=""/>
                    <p:cNvSpPr/>
                    <p:nvPr/>
                  </p:nvSpPr>
                  <p:spPr>
                    <a:xfrm flipH="1">
                      <a:off x="960480" y="4032360"/>
                      <a:ext cx="54000" cy="20520"/>
                    </a:xfrm>
                    <a:prstGeom prst="line">
                      <a:avLst/>
                    </a:prstGeom>
                    <a:ln w="12600">
                      <a:solidFill>
                        <a:srgbClr val="808080"/>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grpSp>
            </p:grpSp>
          </p:grpSp>
          <p:grpSp>
            <p:nvGrpSpPr>
              <p:cNvPr id="364" name=""/>
              <p:cNvGrpSpPr/>
              <p:nvPr/>
            </p:nvGrpSpPr>
            <p:grpSpPr>
              <a:xfrm>
                <a:off x="431640" y="3711600"/>
                <a:ext cx="690480" cy="781560"/>
                <a:chOff x="431640" y="3711600"/>
                <a:chExt cx="690480" cy="781560"/>
              </a:xfrm>
            </p:grpSpPr>
            <p:grpSp>
              <p:nvGrpSpPr>
                <p:cNvPr id="365" name=""/>
                <p:cNvGrpSpPr/>
                <p:nvPr/>
              </p:nvGrpSpPr>
              <p:grpSpPr>
                <a:xfrm>
                  <a:off x="458640" y="4272120"/>
                  <a:ext cx="643320" cy="221040"/>
                  <a:chOff x="458640" y="4272120"/>
                  <a:chExt cx="643320" cy="221040"/>
                </a:xfrm>
              </p:grpSpPr>
              <p:sp>
                <p:nvSpPr>
                  <p:cNvPr id="366" name=""/>
                  <p:cNvSpPr/>
                  <p:nvPr/>
                </p:nvSpPr>
                <p:spPr>
                  <a:xfrm>
                    <a:off x="458640" y="4272120"/>
                    <a:ext cx="643320" cy="221040"/>
                  </a:xfrm>
                  <a:custGeom>
                    <a:avLst/>
                    <a:gdLst/>
                    <a:ahLst/>
                    <a:rect l="0" t="0" r="r" b="b"/>
                    <a:pathLst>
                      <a:path w="1787" h="614">
                        <a:moveTo>
                          <a:pt x="1632" y="612"/>
                        </a:moveTo>
                        <a:lnTo>
                          <a:pt x="1784" y="598"/>
                        </a:lnTo>
                        <a:lnTo>
                          <a:pt x="1787" y="459"/>
                        </a:lnTo>
                        <a:lnTo>
                          <a:pt x="1780" y="356"/>
                        </a:lnTo>
                        <a:lnTo>
                          <a:pt x="1703" y="293"/>
                        </a:lnTo>
                        <a:lnTo>
                          <a:pt x="1607" y="255"/>
                        </a:lnTo>
                        <a:lnTo>
                          <a:pt x="1396" y="196"/>
                        </a:lnTo>
                        <a:lnTo>
                          <a:pt x="1081" y="138"/>
                        </a:lnTo>
                        <a:lnTo>
                          <a:pt x="1017" y="132"/>
                        </a:lnTo>
                        <a:lnTo>
                          <a:pt x="978" y="138"/>
                        </a:lnTo>
                        <a:lnTo>
                          <a:pt x="968" y="124"/>
                        </a:lnTo>
                        <a:lnTo>
                          <a:pt x="950" y="111"/>
                        </a:lnTo>
                        <a:lnTo>
                          <a:pt x="929" y="113"/>
                        </a:lnTo>
                        <a:lnTo>
                          <a:pt x="901" y="116"/>
                        </a:lnTo>
                        <a:lnTo>
                          <a:pt x="890" y="92"/>
                        </a:lnTo>
                        <a:lnTo>
                          <a:pt x="865" y="78"/>
                        </a:lnTo>
                        <a:lnTo>
                          <a:pt x="841" y="75"/>
                        </a:lnTo>
                        <a:lnTo>
                          <a:pt x="809" y="75"/>
                        </a:lnTo>
                        <a:lnTo>
                          <a:pt x="816" y="54"/>
                        </a:lnTo>
                        <a:lnTo>
                          <a:pt x="777" y="0"/>
                        </a:lnTo>
                        <a:lnTo>
                          <a:pt x="42" y="16"/>
                        </a:lnTo>
                        <a:lnTo>
                          <a:pt x="45" y="73"/>
                        </a:lnTo>
                        <a:lnTo>
                          <a:pt x="31" y="124"/>
                        </a:lnTo>
                        <a:lnTo>
                          <a:pt x="21" y="163"/>
                        </a:lnTo>
                        <a:lnTo>
                          <a:pt x="7" y="209"/>
                        </a:lnTo>
                        <a:lnTo>
                          <a:pt x="0" y="283"/>
                        </a:lnTo>
                        <a:lnTo>
                          <a:pt x="10" y="326"/>
                        </a:lnTo>
                        <a:lnTo>
                          <a:pt x="31" y="369"/>
                        </a:lnTo>
                        <a:lnTo>
                          <a:pt x="56" y="402"/>
                        </a:lnTo>
                        <a:lnTo>
                          <a:pt x="91" y="415"/>
                        </a:lnTo>
                        <a:lnTo>
                          <a:pt x="144" y="429"/>
                        </a:lnTo>
                        <a:lnTo>
                          <a:pt x="215" y="445"/>
                        </a:lnTo>
                        <a:lnTo>
                          <a:pt x="247" y="473"/>
                        </a:lnTo>
                        <a:lnTo>
                          <a:pt x="285" y="498"/>
                        </a:lnTo>
                        <a:lnTo>
                          <a:pt x="345" y="520"/>
                        </a:lnTo>
                        <a:lnTo>
                          <a:pt x="412" y="536"/>
                        </a:lnTo>
                        <a:lnTo>
                          <a:pt x="526" y="547"/>
                        </a:lnTo>
                        <a:lnTo>
                          <a:pt x="622" y="547"/>
                        </a:lnTo>
                        <a:lnTo>
                          <a:pt x="692" y="541"/>
                        </a:lnTo>
                        <a:lnTo>
                          <a:pt x="759" y="536"/>
                        </a:lnTo>
                        <a:lnTo>
                          <a:pt x="809" y="557"/>
                        </a:lnTo>
                        <a:lnTo>
                          <a:pt x="904" y="552"/>
                        </a:lnTo>
                        <a:lnTo>
                          <a:pt x="1289" y="595"/>
                        </a:lnTo>
                        <a:lnTo>
                          <a:pt x="1459" y="614"/>
                        </a:lnTo>
                        <a:lnTo>
                          <a:pt x="1632" y="612"/>
                        </a:lnTo>
                        <a:close/>
                      </a:path>
                    </a:pathLst>
                  </a:custGeom>
                  <a:solidFill>
                    <a:srgbClr val="606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77720" y="4294080"/>
                    <a:ext cx="622800" cy="187560"/>
                  </a:xfrm>
                  <a:custGeom>
                    <a:avLst/>
                    <a:gdLst/>
                    <a:ahLst/>
                    <a:rect l="0" t="0" r="r" b="b"/>
                    <a:pathLst>
                      <a:path w="1730" h="521">
                        <a:moveTo>
                          <a:pt x="60" y="18"/>
                        </a:moveTo>
                        <a:lnTo>
                          <a:pt x="56" y="53"/>
                        </a:lnTo>
                        <a:lnTo>
                          <a:pt x="35" y="40"/>
                        </a:lnTo>
                        <a:lnTo>
                          <a:pt x="10" y="124"/>
                        </a:lnTo>
                        <a:lnTo>
                          <a:pt x="0" y="221"/>
                        </a:lnTo>
                        <a:lnTo>
                          <a:pt x="45" y="321"/>
                        </a:lnTo>
                        <a:lnTo>
                          <a:pt x="152" y="346"/>
                        </a:lnTo>
                        <a:lnTo>
                          <a:pt x="141" y="321"/>
                        </a:lnTo>
                        <a:lnTo>
                          <a:pt x="197" y="356"/>
                        </a:lnTo>
                        <a:lnTo>
                          <a:pt x="250" y="391"/>
                        </a:lnTo>
                        <a:lnTo>
                          <a:pt x="360" y="429"/>
                        </a:lnTo>
                        <a:lnTo>
                          <a:pt x="499" y="440"/>
                        </a:lnTo>
                        <a:lnTo>
                          <a:pt x="665" y="445"/>
                        </a:lnTo>
                        <a:lnTo>
                          <a:pt x="736" y="440"/>
                        </a:lnTo>
                        <a:lnTo>
                          <a:pt x="672" y="421"/>
                        </a:lnTo>
                        <a:lnTo>
                          <a:pt x="644" y="367"/>
                        </a:lnTo>
                        <a:lnTo>
                          <a:pt x="693" y="413"/>
                        </a:lnTo>
                        <a:lnTo>
                          <a:pt x="757" y="437"/>
                        </a:lnTo>
                        <a:lnTo>
                          <a:pt x="814" y="459"/>
                        </a:lnTo>
                        <a:lnTo>
                          <a:pt x="870" y="453"/>
                        </a:lnTo>
                        <a:lnTo>
                          <a:pt x="831" y="432"/>
                        </a:lnTo>
                        <a:lnTo>
                          <a:pt x="792" y="410"/>
                        </a:lnTo>
                        <a:lnTo>
                          <a:pt x="856" y="424"/>
                        </a:lnTo>
                        <a:lnTo>
                          <a:pt x="920" y="459"/>
                        </a:lnTo>
                        <a:lnTo>
                          <a:pt x="1118" y="478"/>
                        </a:lnTo>
                        <a:lnTo>
                          <a:pt x="1317" y="499"/>
                        </a:lnTo>
                        <a:lnTo>
                          <a:pt x="1387" y="497"/>
                        </a:lnTo>
                        <a:lnTo>
                          <a:pt x="1313" y="467"/>
                        </a:lnTo>
                        <a:lnTo>
                          <a:pt x="1238" y="453"/>
                        </a:lnTo>
                        <a:lnTo>
                          <a:pt x="1320" y="451"/>
                        </a:lnTo>
                        <a:lnTo>
                          <a:pt x="1384" y="472"/>
                        </a:lnTo>
                        <a:lnTo>
                          <a:pt x="1461" y="510"/>
                        </a:lnTo>
                        <a:lnTo>
                          <a:pt x="1405" y="451"/>
                        </a:lnTo>
                        <a:lnTo>
                          <a:pt x="1331" y="421"/>
                        </a:lnTo>
                        <a:lnTo>
                          <a:pt x="1426" y="432"/>
                        </a:lnTo>
                        <a:lnTo>
                          <a:pt x="1476" y="480"/>
                        </a:lnTo>
                        <a:lnTo>
                          <a:pt x="1486" y="521"/>
                        </a:lnTo>
                        <a:lnTo>
                          <a:pt x="1550" y="467"/>
                        </a:lnTo>
                        <a:lnTo>
                          <a:pt x="1613" y="440"/>
                        </a:lnTo>
                        <a:lnTo>
                          <a:pt x="1578" y="470"/>
                        </a:lnTo>
                        <a:lnTo>
                          <a:pt x="1525" y="521"/>
                        </a:lnTo>
                        <a:lnTo>
                          <a:pt x="1681" y="497"/>
                        </a:lnTo>
                        <a:lnTo>
                          <a:pt x="1709" y="488"/>
                        </a:lnTo>
                        <a:lnTo>
                          <a:pt x="1730" y="424"/>
                        </a:lnTo>
                        <a:lnTo>
                          <a:pt x="1720" y="332"/>
                        </a:lnTo>
                        <a:lnTo>
                          <a:pt x="1695" y="273"/>
                        </a:lnTo>
                        <a:lnTo>
                          <a:pt x="1599" y="226"/>
                        </a:lnTo>
                        <a:lnTo>
                          <a:pt x="1479" y="186"/>
                        </a:lnTo>
                        <a:lnTo>
                          <a:pt x="1245" y="129"/>
                        </a:lnTo>
                        <a:lnTo>
                          <a:pt x="1057" y="91"/>
                        </a:lnTo>
                        <a:lnTo>
                          <a:pt x="958" y="83"/>
                        </a:lnTo>
                        <a:lnTo>
                          <a:pt x="913" y="129"/>
                        </a:lnTo>
                        <a:lnTo>
                          <a:pt x="782" y="177"/>
                        </a:lnTo>
                        <a:lnTo>
                          <a:pt x="852" y="134"/>
                        </a:lnTo>
                        <a:lnTo>
                          <a:pt x="905" y="113"/>
                        </a:lnTo>
                        <a:lnTo>
                          <a:pt x="927" y="80"/>
                        </a:lnTo>
                        <a:lnTo>
                          <a:pt x="920" y="67"/>
                        </a:lnTo>
                        <a:lnTo>
                          <a:pt x="881" y="67"/>
                        </a:lnTo>
                        <a:lnTo>
                          <a:pt x="856" y="83"/>
                        </a:lnTo>
                        <a:lnTo>
                          <a:pt x="831" y="99"/>
                        </a:lnTo>
                        <a:lnTo>
                          <a:pt x="775" y="118"/>
                        </a:lnTo>
                        <a:lnTo>
                          <a:pt x="828" y="83"/>
                        </a:lnTo>
                        <a:lnTo>
                          <a:pt x="852" y="59"/>
                        </a:lnTo>
                        <a:lnTo>
                          <a:pt x="835" y="40"/>
                        </a:lnTo>
                        <a:lnTo>
                          <a:pt x="789" y="32"/>
                        </a:lnTo>
                        <a:lnTo>
                          <a:pt x="729" y="70"/>
                        </a:lnTo>
                        <a:lnTo>
                          <a:pt x="672" y="97"/>
                        </a:lnTo>
                        <a:lnTo>
                          <a:pt x="743" y="37"/>
                        </a:lnTo>
                        <a:lnTo>
                          <a:pt x="761" y="16"/>
                        </a:lnTo>
                        <a:lnTo>
                          <a:pt x="761" y="0"/>
                        </a:lnTo>
                        <a:lnTo>
                          <a:pt x="707" y="5"/>
                        </a:lnTo>
                        <a:lnTo>
                          <a:pt x="651" y="32"/>
                        </a:lnTo>
                        <a:lnTo>
                          <a:pt x="616" y="51"/>
                        </a:lnTo>
                        <a:lnTo>
                          <a:pt x="453" y="64"/>
                        </a:lnTo>
                        <a:lnTo>
                          <a:pt x="457" y="32"/>
                        </a:lnTo>
                        <a:lnTo>
                          <a:pt x="406" y="21"/>
                        </a:lnTo>
                        <a:lnTo>
                          <a:pt x="406" y="62"/>
                        </a:lnTo>
                        <a:lnTo>
                          <a:pt x="357" y="70"/>
                        </a:lnTo>
                        <a:lnTo>
                          <a:pt x="250" y="80"/>
                        </a:lnTo>
                        <a:lnTo>
                          <a:pt x="258" y="37"/>
                        </a:lnTo>
                        <a:lnTo>
                          <a:pt x="219" y="37"/>
                        </a:lnTo>
                        <a:lnTo>
                          <a:pt x="215" y="80"/>
                        </a:lnTo>
                        <a:lnTo>
                          <a:pt x="152" y="78"/>
                        </a:lnTo>
                        <a:lnTo>
                          <a:pt x="88" y="67"/>
                        </a:lnTo>
                        <a:lnTo>
                          <a:pt x="84" y="32"/>
                        </a:lnTo>
                        <a:lnTo>
                          <a:pt x="60" y="18"/>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8" name=""/>
                  <p:cNvSpPr/>
                  <p:nvPr/>
                </p:nvSpPr>
                <p:spPr>
                  <a:xfrm>
                    <a:off x="566640" y="4363920"/>
                    <a:ext cx="76680" cy="25920"/>
                  </a:xfrm>
                  <a:custGeom>
                    <a:avLst/>
                    <a:gdLst/>
                    <a:ahLst/>
                    <a:rect l="0" t="0" r="r" b="b"/>
                    <a:pathLst>
                      <a:path w="213" h="72">
                        <a:moveTo>
                          <a:pt x="0" y="0"/>
                        </a:moveTo>
                        <a:lnTo>
                          <a:pt x="96" y="72"/>
                        </a:lnTo>
                        <a:lnTo>
                          <a:pt x="213" y="53"/>
                        </a:lnTo>
                        <a:lnTo>
                          <a:pt x="0" y="0"/>
                        </a:lnTo>
                        <a:close/>
                      </a:path>
                    </a:pathLst>
                  </a:custGeom>
                  <a:solidFill>
                    <a:srgbClr val="60606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69" name=""/>
                  <p:cNvSpPr/>
                  <p:nvPr/>
                </p:nvSpPr>
                <p:spPr>
                  <a:xfrm>
                    <a:off x="479520" y="4346640"/>
                    <a:ext cx="43200" cy="25920"/>
                  </a:xfrm>
                  <a:custGeom>
                    <a:avLst/>
                    <a:gdLst/>
                    <a:ahLst/>
                    <a:rect l="0" t="0" r="r" b="b"/>
                    <a:pathLst>
                      <a:path w="120" h="72">
                        <a:moveTo>
                          <a:pt x="0" y="0"/>
                        </a:moveTo>
                        <a:lnTo>
                          <a:pt x="31" y="40"/>
                        </a:lnTo>
                        <a:lnTo>
                          <a:pt x="120" y="72"/>
                        </a:lnTo>
                        <a:lnTo>
                          <a:pt x="28" y="72"/>
                        </a:lnTo>
                        <a:lnTo>
                          <a:pt x="0" y="0"/>
                        </a:lnTo>
                        <a:close/>
                      </a:path>
                    </a:pathLst>
                  </a:custGeom>
                  <a:solidFill>
                    <a:srgbClr val="60606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70" name=""/>
                  <p:cNvSpPr/>
                  <p:nvPr/>
                </p:nvSpPr>
                <p:spPr>
                  <a:xfrm>
                    <a:off x="698400" y="4335480"/>
                    <a:ext cx="71640" cy="25920"/>
                  </a:xfrm>
                  <a:custGeom>
                    <a:avLst/>
                    <a:gdLst/>
                    <a:ahLst/>
                    <a:rect l="0" t="0" r="r" b="b"/>
                    <a:pathLst>
                      <a:path w="199" h="72">
                        <a:moveTo>
                          <a:pt x="0" y="0"/>
                        </a:moveTo>
                        <a:lnTo>
                          <a:pt x="88" y="5"/>
                        </a:lnTo>
                        <a:lnTo>
                          <a:pt x="107" y="13"/>
                        </a:lnTo>
                        <a:lnTo>
                          <a:pt x="107" y="38"/>
                        </a:lnTo>
                        <a:lnTo>
                          <a:pt x="114" y="64"/>
                        </a:lnTo>
                        <a:lnTo>
                          <a:pt x="199" y="72"/>
                        </a:lnTo>
                        <a:lnTo>
                          <a:pt x="95" y="69"/>
                        </a:lnTo>
                        <a:lnTo>
                          <a:pt x="81" y="22"/>
                        </a:lnTo>
                        <a:lnTo>
                          <a:pt x="0" y="0"/>
                        </a:lnTo>
                        <a:close/>
                      </a:path>
                    </a:pathLst>
                  </a:custGeom>
                  <a:solidFill>
                    <a:srgbClr val="60606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71" name=""/>
                  <p:cNvSpPr/>
                  <p:nvPr/>
                </p:nvSpPr>
                <p:spPr>
                  <a:xfrm>
                    <a:off x="781200" y="4413240"/>
                    <a:ext cx="252720" cy="43200"/>
                  </a:xfrm>
                  <a:custGeom>
                    <a:avLst/>
                    <a:gdLst/>
                    <a:ahLst/>
                    <a:rect l="0" t="0" r="r" b="b"/>
                    <a:pathLst>
                      <a:path w="702" h="120">
                        <a:moveTo>
                          <a:pt x="0" y="0"/>
                        </a:moveTo>
                        <a:lnTo>
                          <a:pt x="177" y="5"/>
                        </a:lnTo>
                        <a:lnTo>
                          <a:pt x="362" y="35"/>
                        </a:lnTo>
                        <a:lnTo>
                          <a:pt x="496" y="38"/>
                        </a:lnTo>
                        <a:lnTo>
                          <a:pt x="610" y="55"/>
                        </a:lnTo>
                        <a:lnTo>
                          <a:pt x="652" y="97"/>
                        </a:lnTo>
                        <a:lnTo>
                          <a:pt x="702" y="120"/>
                        </a:lnTo>
                        <a:lnTo>
                          <a:pt x="652" y="111"/>
                        </a:lnTo>
                        <a:lnTo>
                          <a:pt x="599" y="67"/>
                        </a:lnTo>
                        <a:lnTo>
                          <a:pt x="454" y="44"/>
                        </a:lnTo>
                        <a:lnTo>
                          <a:pt x="362" y="44"/>
                        </a:lnTo>
                        <a:lnTo>
                          <a:pt x="290" y="35"/>
                        </a:lnTo>
                        <a:lnTo>
                          <a:pt x="166" y="11"/>
                        </a:lnTo>
                        <a:lnTo>
                          <a:pt x="0" y="0"/>
                        </a:lnTo>
                        <a:close/>
                      </a:path>
                    </a:pathLst>
                  </a:custGeom>
                  <a:solidFill>
                    <a:srgbClr val="606060"/>
                  </a:solidFill>
                  <a:ln w="0">
                    <a:noFill/>
                  </a:ln>
                </p:spPr>
                <p:txBody>
                  <a:bodyPr lIns="90000" rIns="90000" tIns="-1800" bIns="-1800" anchor="t">
                    <a:noAutofit/>
                  </a:bodyPr>
                  <a:p>
                    <a:endParaRPr b="0" lang="en-US" sz="1800" spc="-1" strike="noStrike">
                      <a:solidFill>
                        <a:srgbClr val="000000"/>
                      </a:solidFill>
                      <a:latin typeface="Arial"/>
                    </a:endParaRPr>
                  </a:p>
                </p:txBody>
              </p:sp>
            </p:grpSp>
            <p:grpSp>
              <p:nvGrpSpPr>
                <p:cNvPr id="372" name=""/>
                <p:cNvGrpSpPr/>
                <p:nvPr/>
              </p:nvGrpSpPr>
              <p:grpSpPr>
                <a:xfrm>
                  <a:off x="728640" y="4035600"/>
                  <a:ext cx="263880" cy="109800"/>
                  <a:chOff x="728640" y="4035600"/>
                  <a:chExt cx="263880" cy="109800"/>
                </a:xfrm>
              </p:grpSpPr>
              <p:grpSp>
                <p:nvGrpSpPr>
                  <p:cNvPr id="373" name=""/>
                  <p:cNvGrpSpPr/>
                  <p:nvPr/>
                </p:nvGrpSpPr>
                <p:grpSpPr>
                  <a:xfrm>
                    <a:off x="762120" y="4035600"/>
                    <a:ext cx="230400" cy="92520"/>
                    <a:chOff x="762120" y="4035600"/>
                    <a:chExt cx="230400" cy="92520"/>
                  </a:xfrm>
                </p:grpSpPr>
                <p:sp>
                  <p:nvSpPr>
                    <p:cNvPr id="374" name=""/>
                    <p:cNvSpPr/>
                    <p:nvPr/>
                  </p:nvSpPr>
                  <p:spPr>
                    <a:xfrm>
                      <a:off x="762120" y="4035600"/>
                      <a:ext cx="230400" cy="90720"/>
                    </a:xfrm>
                    <a:custGeom>
                      <a:avLst/>
                      <a:gdLst/>
                      <a:ahLst/>
                      <a:rect l="0" t="0" r="r" b="b"/>
                      <a:pathLst>
                        <a:path w="640" h="252">
                          <a:moveTo>
                            <a:pt x="59" y="252"/>
                          </a:moveTo>
                          <a:lnTo>
                            <a:pt x="94" y="246"/>
                          </a:lnTo>
                          <a:lnTo>
                            <a:pt x="126" y="233"/>
                          </a:lnTo>
                          <a:lnTo>
                            <a:pt x="158" y="227"/>
                          </a:lnTo>
                          <a:lnTo>
                            <a:pt x="210" y="235"/>
                          </a:lnTo>
                          <a:lnTo>
                            <a:pt x="249" y="233"/>
                          </a:lnTo>
                          <a:lnTo>
                            <a:pt x="277" y="227"/>
                          </a:lnTo>
                          <a:lnTo>
                            <a:pt x="298" y="219"/>
                          </a:lnTo>
                          <a:lnTo>
                            <a:pt x="319" y="214"/>
                          </a:lnTo>
                          <a:lnTo>
                            <a:pt x="345" y="197"/>
                          </a:lnTo>
                          <a:lnTo>
                            <a:pt x="362" y="181"/>
                          </a:lnTo>
                          <a:lnTo>
                            <a:pt x="394" y="164"/>
                          </a:lnTo>
                          <a:lnTo>
                            <a:pt x="436" y="170"/>
                          </a:lnTo>
                          <a:lnTo>
                            <a:pt x="461" y="170"/>
                          </a:lnTo>
                          <a:lnTo>
                            <a:pt x="475" y="167"/>
                          </a:lnTo>
                          <a:lnTo>
                            <a:pt x="482" y="162"/>
                          </a:lnTo>
                          <a:lnTo>
                            <a:pt x="489" y="151"/>
                          </a:lnTo>
                          <a:lnTo>
                            <a:pt x="485" y="143"/>
                          </a:lnTo>
                          <a:lnTo>
                            <a:pt x="475" y="132"/>
                          </a:lnTo>
                          <a:lnTo>
                            <a:pt x="461" y="129"/>
                          </a:lnTo>
                          <a:lnTo>
                            <a:pt x="426" y="125"/>
                          </a:lnTo>
                          <a:lnTo>
                            <a:pt x="387" y="112"/>
                          </a:lnTo>
                          <a:lnTo>
                            <a:pt x="419" y="92"/>
                          </a:lnTo>
                          <a:lnTo>
                            <a:pt x="461" y="79"/>
                          </a:lnTo>
                          <a:lnTo>
                            <a:pt x="496" y="81"/>
                          </a:lnTo>
                          <a:lnTo>
                            <a:pt x="535" y="79"/>
                          </a:lnTo>
                          <a:lnTo>
                            <a:pt x="559" y="87"/>
                          </a:lnTo>
                          <a:lnTo>
                            <a:pt x="591" y="87"/>
                          </a:lnTo>
                          <a:lnTo>
                            <a:pt x="601" y="79"/>
                          </a:lnTo>
                          <a:lnTo>
                            <a:pt x="605" y="68"/>
                          </a:lnTo>
                          <a:lnTo>
                            <a:pt x="622" y="71"/>
                          </a:lnTo>
                          <a:lnTo>
                            <a:pt x="633" y="68"/>
                          </a:lnTo>
                          <a:lnTo>
                            <a:pt x="640" y="57"/>
                          </a:lnTo>
                          <a:lnTo>
                            <a:pt x="636" y="49"/>
                          </a:lnTo>
                          <a:lnTo>
                            <a:pt x="626" y="43"/>
                          </a:lnTo>
                          <a:lnTo>
                            <a:pt x="608" y="38"/>
                          </a:lnTo>
                          <a:lnTo>
                            <a:pt x="594" y="30"/>
                          </a:lnTo>
                          <a:lnTo>
                            <a:pt x="577" y="21"/>
                          </a:lnTo>
                          <a:lnTo>
                            <a:pt x="559" y="19"/>
                          </a:lnTo>
                          <a:lnTo>
                            <a:pt x="542" y="19"/>
                          </a:lnTo>
                          <a:lnTo>
                            <a:pt x="464" y="5"/>
                          </a:lnTo>
                          <a:lnTo>
                            <a:pt x="450" y="2"/>
                          </a:lnTo>
                          <a:lnTo>
                            <a:pt x="429" y="0"/>
                          </a:lnTo>
                          <a:lnTo>
                            <a:pt x="412" y="2"/>
                          </a:lnTo>
                          <a:lnTo>
                            <a:pt x="387" y="8"/>
                          </a:lnTo>
                          <a:lnTo>
                            <a:pt x="319" y="38"/>
                          </a:lnTo>
                          <a:lnTo>
                            <a:pt x="288" y="40"/>
                          </a:lnTo>
                          <a:lnTo>
                            <a:pt x="259" y="46"/>
                          </a:lnTo>
                          <a:lnTo>
                            <a:pt x="238" y="57"/>
                          </a:lnTo>
                          <a:lnTo>
                            <a:pt x="224" y="71"/>
                          </a:lnTo>
                          <a:lnTo>
                            <a:pt x="168" y="101"/>
                          </a:lnTo>
                          <a:lnTo>
                            <a:pt x="144" y="114"/>
                          </a:lnTo>
                          <a:lnTo>
                            <a:pt x="112" y="143"/>
                          </a:lnTo>
                          <a:lnTo>
                            <a:pt x="91" y="151"/>
                          </a:lnTo>
                          <a:lnTo>
                            <a:pt x="0" y="153"/>
                          </a:lnTo>
                          <a:lnTo>
                            <a:pt x="59" y="252"/>
                          </a:lnTo>
                          <a:close/>
                        </a:path>
                      </a:pathLst>
                    </a:custGeom>
                    <a:solidFill>
                      <a:srgbClr val="ffc080"/>
                    </a:solidFill>
                    <a:ln w="12600">
                      <a:solidFill>
                        <a:srgbClr val="402000"/>
                      </a:solidFill>
                      <a:round/>
                    </a:ln>
                  </p:spPr>
                  <p:txBody>
                    <a:bodyPr lIns="96120" rIns="96120" tIns="39600" bIns="39600" anchor="t">
                      <a:noAutofit/>
                    </a:bodyPr>
                    <a:p>
                      <a:endParaRPr b="0" lang="en-US" sz="1800" spc="-1" strike="noStrike">
                        <a:solidFill>
                          <a:srgbClr val="000000"/>
                        </a:solidFill>
                        <a:latin typeface="Arial"/>
                      </a:endParaRPr>
                    </a:p>
                  </p:txBody>
                </p:sp>
                <p:sp>
                  <p:nvSpPr>
                    <p:cNvPr id="375" name=""/>
                    <p:cNvSpPr/>
                    <p:nvPr/>
                  </p:nvSpPr>
                  <p:spPr>
                    <a:xfrm>
                      <a:off x="858960" y="4073400"/>
                      <a:ext cx="44640" cy="25920"/>
                    </a:xfrm>
                    <a:custGeom>
                      <a:avLst/>
                      <a:gdLst/>
                      <a:ahLst/>
                      <a:rect l="0" t="0" r="r" b="b"/>
                      <a:pathLst>
                        <a:path w="124" h="72">
                          <a:moveTo>
                            <a:pt x="124" y="0"/>
                          </a:moveTo>
                          <a:lnTo>
                            <a:pt x="120" y="23"/>
                          </a:lnTo>
                          <a:lnTo>
                            <a:pt x="99" y="23"/>
                          </a:lnTo>
                          <a:lnTo>
                            <a:pt x="89" y="23"/>
                          </a:lnTo>
                          <a:lnTo>
                            <a:pt x="71" y="45"/>
                          </a:lnTo>
                          <a:lnTo>
                            <a:pt x="45" y="45"/>
                          </a:lnTo>
                          <a:lnTo>
                            <a:pt x="21" y="45"/>
                          </a:lnTo>
                          <a:lnTo>
                            <a:pt x="0" y="72"/>
                          </a:lnTo>
                          <a:lnTo>
                            <a:pt x="17" y="45"/>
                          </a:lnTo>
                          <a:lnTo>
                            <a:pt x="38" y="45"/>
                          </a:lnTo>
                          <a:lnTo>
                            <a:pt x="52" y="45"/>
                          </a:lnTo>
                          <a:lnTo>
                            <a:pt x="71" y="23"/>
                          </a:lnTo>
                          <a:lnTo>
                            <a:pt x="89" y="23"/>
                          </a:lnTo>
                          <a:lnTo>
                            <a:pt x="96" y="0"/>
                          </a:lnTo>
                          <a:lnTo>
                            <a:pt x="124"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376" name=""/>
                    <p:cNvSpPr/>
                    <p:nvPr/>
                  </p:nvSpPr>
                  <p:spPr>
                    <a:xfrm>
                      <a:off x="923760" y="4083120"/>
                      <a:ext cx="25920" cy="25920"/>
                    </a:xfrm>
                    <a:custGeom>
                      <a:avLst/>
                      <a:gdLst/>
                      <a:ahLst/>
                      <a:rect l="0" t="0" r="r" b="b"/>
                      <a:pathLst>
                        <a:path w="72" h="72">
                          <a:moveTo>
                            <a:pt x="45" y="0"/>
                          </a:moveTo>
                          <a:lnTo>
                            <a:pt x="23" y="0"/>
                          </a:lnTo>
                          <a:lnTo>
                            <a:pt x="45" y="36"/>
                          </a:lnTo>
                          <a:lnTo>
                            <a:pt x="72" y="72"/>
                          </a:lnTo>
                          <a:lnTo>
                            <a:pt x="23" y="36"/>
                          </a:lnTo>
                          <a:lnTo>
                            <a:pt x="0" y="36"/>
                          </a:lnTo>
                          <a:lnTo>
                            <a:pt x="45"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377" name=""/>
                    <p:cNvSpPr/>
                    <p:nvPr/>
                  </p:nvSpPr>
                  <p:spPr>
                    <a:xfrm>
                      <a:off x="958680" y="4048200"/>
                      <a:ext cx="25920" cy="25920"/>
                    </a:xfrm>
                    <a:custGeom>
                      <a:avLst/>
                      <a:gdLst/>
                      <a:ahLst/>
                      <a:rect l="0" t="0" r="r" b="b"/>
                      <a:pathLst>
                        <a:path w="72" h="72">
                          <a:moveTo>
                            <a:pt x="72" y="72"/>
                          </a:moveTo>
                          <a:lnTo>
                            <a:pt x="64" y="72"/>
                          </a:lnTo>
                          <a:lnTo>
                            <a:pt x="51" y="45"/>
                          </a:lnTo>
                          <a:lnTo>
                            <a:pt x="40" y="45"/>
                          </a:lnTo>
                          <a:lnTo>
                            <a:pt x="32" y="23"/>
                          </a:lnTo>
                          <a:lnTo>
                            <a:pt x="28" y="23"/>
                          </a:lnTo>
                          <a:lnTo>
                            <a:pt x="11" y="0"/>
                          </a:lnTo>
                          <a:lnTo>
                            <a:pt x="0" y="0"/>
                          </a:lnTo>
                          <a:lnTo>
                            <a:pt x="11" y="0"/>
                          </a:lnTo>
                          <a:lnTo>
                            <a:pt x="32" y="0"/>
                          </a:lnTo>
                          <a:lnTo>
                            <a:pt x="40" y="23"/>
                          </a:lnTo>
                          <a:lnTo>
                            <a:pt x="48" y="23"/>
                          </a:lnTo>
                          <a:lnTo>
                            <a:pt x="7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378" name=""/>
                    <p:cNvSpPr/>
                    <p:nvPr/>
                  </p:nvSpPr>
                  <p:spPr>
                    <a:xfrm>
                      <a:off x="893880" y="4043520"/>
                      <a:ext cx="39960" cy="25920"/>
                    </a:xfrm>
                    <a:custGeom>
                      <a:avLst/>
                      <a:gdLst/>
                      <a:ahLst/>
                      <a:rect l="0" t="0" r="r" b="b"/>
                      <a:pathLst>
                        <a:path w="111" h="72">
                          <a:moveTo>
                            <a:pt x="111" y="0"/>
                          </a:moveTo>
                          <a:lnTo>
                            <a:pt x="90" y="0"/>
                          </a:lnTo>
                          <a:lnTo>
                            <a:pt x="76" y="0"/>
                          </a:lnTo>
                          <a:lnTo>
                            <a:pt x="69" y="0"/>
                          </a:lnTo>
                          <a:lnTo>
                            <a:pt x="56" y="0"/>
                          </a:lnTo>
                          <a:lnTo>
                            <a:pt x="48" y="36"/>
                          </a:lnTo>
                          <a:lnTo>
                            <a:pt x="34" y="36"/>
                          </a:lnTo>
                          <a:lnTo>
                            <a:pt x="17" y="72"/>
                          </a:lnTo>
                          <a:lnTo>
                            <a:pt x="0" y="72"/>
                          </a:lnTo>
                          <a:lnTo>
                            <a:pt x="17" y="72"/>
                          </a:lnTo>
                          <a:lnTo>
                            <a:pt x="27" y="72"/>
                          </a:lnTo>
                          <a:lnTo>
                            <a:pt x="48" y="36"/>
                          </a:lnTo>
                          <a:lnTo>
                            <a:pt x="59" y="0"/>
                          </a:lnTo>
                          <a:lnTo>
                            <a:pt x="76" y="0"/>
                          </a:lnTo>
                          <a:lnTo>
                            <a:pt x="90" y="0"/>
                          </a:lnTo>
                          <a:lnTo>
                            <a:pt x="111"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379" name=""/>
                    <p:cNvSpPr/>
                    <p:nvPr/>
                  </p:nvSpPr>
                  <p:spPr>
                    <a:xfrm>
                      <a:off x="974880" y="4052880"/>
                      <a:ext cx="0" cy="25560"/>
                    </a:xfrm>
                    <a:prstGeom prst="line">
                      <a:avLst/>
                    </a:prstGeom>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380" name=""/>
                    <p:cNvSpPr/>
                    <p:nvPr/>
                  </p:nvSpPr>
                  <p:spPr>
                    <a:xfrm>
                      <a:off x="985680" y="4048200"/>
                      <a:ext cx="0" cy="25200"/>
                    </a:xfrm>
                    <a:custGeom>
                      <a:avLst/>
                      <a:gdLst/>
                      <a:ahLst/>
                      <a:rect l="0" t="0" r="r" b="b"/>
                      <a:pathLst>
                        <a:path w="0" h="70">
                          <a:moveTo>
                            <a:pt x="0" y="70"/>
                          </a:moveTo>
                          <a:lnTo>
                            <a:pt x="0" y="0"/>
                          </a:lnTo>
                          <a:lnTo>
                            <a:pt x="0" y="70"/>
                          </a:lnTo>
                          <a:close/>
                        </a:path>
                      </a:pathLst>
                    </a:custGeom>
                    <a:solidFill>
                      <a:srgbClr val="402000"/>
                    </a:solidFill>
                    <a:ln w="0">
                      <a:noFill/>
                    </a:ln>
                  </p:spPr>
                  <p:txBody>
                    <a:bodyPr lIns="90000" rIns="90000" tIns="-19800" bIns="-19800" anchor="t">
                      <a:noAutofit/>
                    </a:bodyPr>
                    <a:p>
                      <a:endParaRPr b="0" lang="en-US" sz="1800" spc="-1" strike="noStrike">
                        <a:solidFill>
                          <a:srgbClr val="ffffff"/>
                        </a:solidFill>
                        <a:latin typeface="Arial"/>
                      </a:endParaRPr>
                    </a:p>
                  </p:txBody>
                </p:sp>
                <p:sp>
                  <p:nvSpPr>
                    <p:cNvPr id="381" name=""/>
                    <p:cNvSpPr/>
                    <p:nvPr/>
                  </p:nvSpPr>
                  <p:spPr>
                    <a:xfrm>
                      <a:off x="855720" y="4059360"/>
                      <a:ext cx="25920" cy="25920"/>
                    </a:xfrm>
                    <a:custGeom>
                      <a:avLst/>
                      <a:gdLst/>
                      <a:ahLst/>
                      <a:rect l="0" t="0" r="r" b="b"/>
                      <a:pathLst>
                        <a:path w="72" h="72">
                          <a:moveTo>
                            <a:pt x="72" y="0"/>
                          </a:moveTo>
                          <a:lnTo>
                            <a:pt x="72" y="36"/>
                          </a:lnTo>
                          <a:lnTo>
                            <a:pt x="0" y="72"/>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382" name=""/>
                    <p:cNvSpPr/>
                    <p:nvPr/>
                  </p:nvSpPr>
                  <p:spPr>
                    <a:xfrm>
                      <a:off x="811080" y="4102200"/>
                      <a:ext cx="25920" cy="25920"/>
                    </a:xfrm>
                    <a:custGeom>
                      <a:avLst/>
                      <a:gdLst/>
                      <a:ahLst/>
                      <a:rect l="0" t="0" r="r" b="b"/>
                      <a:pathLst>
                        <a:path w="72" h="72">
                          <a:moveTo>
                            <a:pt x="0" y="0"/>
                          </a:moveTo>
                          <a:lnTo>
                            <a:pt x="53" y="0"/>
                          </a:lnTo>
                          <a:lnTo>
                            <a:pt x="72" y="72"/>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grpSp>
              <p:grpSp>
                <p:nvGrpSpPr>
                  <p:cNvPr id="383" name=""/>
                  <p:cNvGrpSpPr/>
                  <p:nvPr/>
                </p:nvGrpSpPr>
                <p:grpSpPr>
                  <a:xfrm>
                    <a:off x="728640" y="4083120"/>
                    <a:ext cx="66960" cy="62280"/>
                    <a:chOff x="728640" y="4083120"/>
                    <a:chExt cx="66960" cy="62280"/>
                  </a:xfrm>
                </p:grpSpPr>
                <p:sp>
                  <p:nvSpPr>
                    <p:cNvPr id="384" name=""/>
                    <p:cNvSpPr/>
                    <p:nvPr/>
                  </p:nvSpPr>
                  <p:spPr>
                    <a:xfrm>
                      <a:off x="728640" y="4083120"/>
                      <a:ext cx="66960" cy="62280"/>
                    </a:xfrm>
                    <a:custGeom>
                      <a:avLst/>
                      <a:gdLst/>
                      <a:ahLst/>
                      <a:rect l="0" t="0" r="r" b="b"/>
                      <a:pathLst>
                        <a:path w="186" h="173">
                          <a:moveTo>
                            <a:pt x="123" y="10"/>
                          </a:moveTo>
                          <a:lnTo>
                            <a:pt x="151" y="34"/>
                          </a:lnTo>
                          <a:lnTo>
                            <a:pt x="165" y="57"/>
                          </a:lnTo>
                          <a:lnTo>
                            <a:pt x="179" y="89"/>
                          </a:lnTo>
                          <a:lnTo>
                            <a:pt x="179" y="108"/>
                          </a:lnTo>
                          <a:lnTo>
                            <a:pt x="186" y="139"/>
                          </a:lnTo>
                          <a:lnTo>
                            <a:pt x="34" y="173"/>
                          </a:lnTo>
                          <a:lnTo>
                            <a:pt x="0" y="0"/>
                          </a:lnTo>
                          <a:lnTo>
                            <a:pt x="62" y="10"/>
                          </a:lnTo>
                          <a:lnTo>
                            <a:pt x="123" y="10"/>
                          </a:lnTo>
                          <a:close/>
                        </a:path>
                      </a:pathLst>
                    </a:custGeom>
                    <a:solidFill>
                      <a:srgbClr val="c0c0c0"/>
                    </a:solidFill>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85" name=""/>
                    <p:cNvSpPr/>
                    <p:nvPr/>
                  </p:nvSpPr>
                  <p:spPr>
                    <a:xfrm>
                      <a:off x="744480" y="4087800"/>
                      <a:ext cx="44640" cy="44640"/>
                    </a:xfrm>
                    <a:custGeom>
                      <a:avLst/>
                      <a:gdLst/>
                      <a:ahLst/>
                      <a:rect l="0" t="0" r="r" b="b"/>
                      <a:pathLst>
                        <a:path w="124" h="124">
                          <a:moveTo>
                            <a:pt x="75" y="5"/>
                          </a:moveTo>
                          <a:lnTo>
                            <a:pt x="96" y="24"/>
                          </a:lnTo>
                          <a:lnTo>
                            <a:pt x="117" y="53"/>
                          </a:lnTo>
                          <a:lnTo>
                            <a:pt x="117" y="70"/>
                          </a:lnTo>
                          <a:lnTo>
                            <a:pt x="124" y="97"/>
                          </a:lnTo>
                          <a:lnTo>
                            <a:pt x="24" y="124"/>
                          </a:lnTo>
                          <a:lnTo>
                            <a:pt x="0" y="0"/>
                          </a:lnTo>
                          <a:lnTo>
                            <a:pt x="38" y="8"/>
                          </a:lnTo>
                          <a:lnTo>
                            <a:pt x="75" y="5"/>
                          </a:lnTo>
                          <a:close/>
                        </a:path>
                      </a:pathLst>
                    </a:custGeom>
                    <a:solidFill>
                      <a:srgbClr val="e0e0e0"/>
                    </a:solidFill>
                    <a:ln w="0">
                      <a:noFill/>
                    </a:ln>
                  </p:spPr>
                  <p:txBody>
                    <a:bodyPr lIns="90000" rIns="90000" tIns="-360" bIns="-360" anchor="t">
                      <a:noAutofit/>
                    </a:bodyPr>
                    <a:p>
                      <a:endParaRPr b="0" lang="en-US" sz="1800" spc="-1" strike="noStrike">
                        <a:solidFill>
                          <a:srgbClr val="000000"/>
                        </a:solidFill>
                        <a:latin typeface="Arial"/>
                      </a:endParaRPr>
                    </a:p>
                  </p:txBody>
                </p:sp>
              </p:grpSp>
            </p:grpSp>
            <p:sp>
              <p:nvSpPr>
                <p:cNvPr id="386" name=""/>
                <p:cNvSpPr/>
                <p:nvPr/>
              </p:nvSpPr>
              <p:spPr>
                <a:xfrm>
                  <a:off x="509760" y="3740040"/>
                  <a:ext cx="227520" cy="189360"/>
                </a:xfrm>
                <a:custGeom>
                  <a:avLst/>
                  <a:gdLst/>
                  <a:ahLst/>
                  <a:rect l="0" t="0" r="r" b="b"/>
                  <a:pathLst>
                    <a:path w="632" h="526">
                      <a:moveTo>
                        <a:pt x="423" y="16"/>
                      </a:moveTo>
                      <a:lnTo>
                        <a:pt x="481" y="45"/>
                      </a:lnTo>
                      <a:lnTo>
                        <a:pt x="509" y="83"/>
                      </a:lnTo>
                      <a:lnTo>
                        <a:pt x="537" y="123"/>
                      </a:lnTo>
                      <a:lnTo>
                        <a:pt x="555" y="146"/>
                      </a:lnTo>
                      <a:lnTo>
                        <a:pt x="555" y="167"/>
                      </a:lnTo>
                      <a:lnTo>
                        <a:pt x="540" y="194"/>
                      </a:lnTo>
                      <a:lnTo>
                        <a:pt x="569" y="216"/>
                      </a:lnTo>
                      <a:lnTo>
                        <a:pt x="611" y="272"/>
                      </a:lnTo>
                      <a:lnTo>
                        <a:pt x="632" y="305"/>
                      </a:lnTo>
                      <a:lnTo>
                        <a:pt x="632" y="313"/>
                      </a:lnTo>
                      <a:lnTo>
                        <a:pt x="629" y="323"/>
                      </a:lnTo>
                      <a:lnTo>
                        <a:pt x="607" y="329"/>
                      </a:lnTo>
                      <a:lnTo>
                        <a:pt x="583" y="329"/>
                      </a:lnTo>
                      <a:lnTo>
                        <a:pt x="565" y="332"/>
                      </a:lnTo>
                      <a:lnTo>
                        <a:pt x="569" y="356"/>
                      </a:lnTo>
                      <a:lnTo>
                        <a:pt x="576" y="383"/>
                      </a:lnTo>
                      <a:lnTo>
                        <a:pt x="558" y="397"/>
                      </a:lnTo>
                      <a:lnTo>
                        <a:pt x="565" y="419"/>
                      </a:lnTo>
                      <a:lnTo>
                        <a:pt x="551" y="429"/>
                      </a:lnTo>
                      <a:lnTo>
                        <a:pt x="540" y="464"/>
                      </a:lnTo>
                      <a:lnTo>
                        <a:pt x="519" y="475"/>
                      </a:lnTo>
                      <a:lnTo>
                        <a:pt x="491" y="475"/>
                      </a:lnTo>
                      <a:lnTo>
                        <a:pt x="448" y="470"/>
                      </a:lnTo>
                      <a:lnTo>
                        <a:pt x="402" y="464"/>
                      </a:lnTo>
                      <a:lnTo>
                        <a:pt x="406" y="526"/>
                      </a:lnTo>
                      <a:lnTo>
                        <a:pt x="70" y="446"/>
                      </a:lnTo>
                      <a:lnTo>
                        <a:pt x="98" y="397"/>
                      </a:lnTo>
                      <a:lnTo>
                        <a:pt x="91" y="358"/>
                      </a:lnTo>
                      <a:lnTo>
                        <a:pt x="0" y="288"/>
                      </a:lnTo>
                      <a:lnTo>
                        <a:pt x="0" y="99"/>
                      </a:lnTo>
                      <a:lnTo>
                        <a:pt x="59" y="48"/>
                      </a:lnTo>
                      <a:lnTo>
                        <a:pt x="137" y="21"/>
                      </a:lnTo>
                      <a:lnTo>
                        <a:pt x="222" y="0"/>
                      </a:lnTo>
                      <a:lnTo>
                        <a:pt x="328" y="10"/>
                      </a:lnTo>
                      <a:lnTo>
                        <a:pt x="423" y="16"/>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719280" y="3849840"/>
                  <a:ext cx="25920" cy="25920"/>
                </a:xfrm>
                <a:custGeom>
                  <a:avLst/>
                  <a:gdLst/>
                  <a:ahLst/>
                  <a:rect l="0" t="0" r="r" b="b"/>
                  <a:pathLst>
                    <a:path w="72" h="72">
                      <a:moveTo>
                        <a:pt x="72" y="0"/>
                      </a:moveTo>
                      <a:lnTo>
                        <a:pt x="72" y="72"/>
                      </a:lnTo>
                      <a:lnTo>
                        <a:pt x="36" y="36"/>
                      </a:lnTo>
                      <a:lnTo>
                        <a:pt x="0" y="72"/>
                      </a:lnTo>
                      <a:lnTo>
                        <a:pt x="0" y="0"/>
                      </a:lnTo>
                      <a:lnTo>
                        <a:pt x="36" y="0"/>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388" name=""/>
                <p:cNvSpPr/>
                <p:nvPr/>
              </p:nvSpPr>
              <p:spPr>
                <a:xfrm>
                  <a:off x="712800" y="3844800"/>
                  <a:ext cx="25920" cy="25920"/>
                </a:xfrm>
                <a:custGeom>
                  <a:avLst/>
                  <a:gdLst/>
                  <a:ahLst/>
                  <a:rect l="0" t="0" r="r" b="b"/>
                  <a:pathLst>
                    <a:path w="72" h="72">
                      <a:moveTo>
                        <a:pt x="72" y="0"/>
                      </a:moveTo>
                      <a:lnTo>
                        <a:pt x="17" y="0"/>
                      </a:lnTo>
                      <a:lnTo>
                        <a:pt x="17" y="72"/>
                      </a:lnTo>
                      <a:lnTo>
                        <a:pt x="0" y="0"/>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389" name=""/>
                <p:cNvSpPr/>
                <p:nvPr/>
              </p:nvSpPr>
              <p:spPr>
                <a:xfrm>
                  <a:off x="701640" y="3822840"/>
                  <a:ext cx="25920" cy="25920"/>
                </a:xfrm>
                <a:custGeom>
                  <a:avLst/>
                  <a:gdLst/>
                  <a:ahLst/>
                  <a:rect l="0" t="0" r="r" b="b"/>
                  <a:pathLst>
                    <a:path w="72" h="72">
                      <a:moveTo>
                        <a:pt x="0" y="0"/>
                      </a:moveTo>
                      <a:lnTo>
                        <a:pt x="45" y="36"/>
                      </a:lnTo>
                      <a:lnTo>
                        <a:pt x="72" y="72"/>
                      </a:lnTo>
                      <a:lnTo>
                        <a:pt x="45" y="45"/>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390" name=""/>
                <p:cNvSpPr/>
                <p:nvPr/>
              </p:nvSpPr>
              <p:spPr>
                <a:xfrm>
                  <a:off x="682560" y="3809880"/>
                  <a:ext cx="25920" cy="25920"/>
                </a:xfrm>
                <a:custGeom>
                  <a:avLst/>
                  <a:gdLst/>
                  <a:ahLst/>
                  <a:rect l="0" t="0" r="r" b="b"/>
                  <a:pathLst>
                    <a:path w="72" h="72">
                      <a:moveTo>
                        <a:pt x="72" y="0"/>
                      </a:moveTo>
                      <a:lnTo>
                        <a:pt x="59" y="36"/>
                      </a:lnTo>
                      <a:lnTo>
                        <a:pt x="59" y="53"/>
                      </a:lnTo>
                      <a:lnTo>
                        <a:pt x="63" y="72"/>
                      </a:lnTo>
                      <a:lnTo>
                        <a:pt x="49" y="53"/>
                      </a:lnTo>
                      <a:lnTo>
                        <a:pt x="36" y="53"/>
                      </a:lnTo>
                      <a:lnTo>
                        <a:pt x="23" y="36"/>
                      </a:lnTo>
                      <a:lnTo>
                        <a:pt x="0" y="36"/>
                      </a:lnTo>
                      <a:lnTo>
                        <a:pt x="23" y="17"/>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391" name=""/>
                <p:cNvSpPr/>
                <p:nvPr/>
              </p:nvSpPr>
              <p:spPr>
                <a:xfrm>
                  <a:off x="673200" y="3789360"/>
                  <a:ext cx="32040" cy="25920"/>
                </a:xfrm>
                <a:custGeom>
                  <a:avLst/>
                  <a:gdLst/>
                  <a:ahLst/>
                  <a:rect l="0" t="0" r="r" b="b"/>
                  <a:pathLst>
                    <a:path w="89" h="72">
                      <a:moveTo>
                        <a:pt x="89" y="36"/>
                      </a:moveTo>
                      <a:lnTo>
                        <a:pt x="85" y="53"/>
                      </a:lnTo>
                      <a:lnTo>
                        <a:pt x="75" y="72"/>
                      </a:lnTo>
                      <a:lnTo>
                        <a:pt x="60" y="53"/>
                      </a:lnTo>
                      <a:lnTo>
                        <a:pt x="42" y="36"/>
                      </a:lnTo>
                      <a:lnTo>
                        <a:pt x="17" y="36"/>
                      </a:lnTo>
                      <a:lnTo>
                        <a:pt x="0" y="36"/>
                      </a:lnTo>
                      <a:lnTo>
                        <a:pt x="24" y="17"/>
                      </a:lnTo>
                      <a:lnTo>
                        <a:pt x="38" y="17"/>
                      </a:lnTo>
                      <a:lnTo>
                        <a:pt x="38" y="0"/>
                      </a:lnTo>
                      <a:lnTo>
                        <a:pt x="50" y="17"/>
                      </a:lnTo>
                      <a:lnTo>
                        <a:pt x="50" y="0"/>
                      </a:lnTo>
                      <a:lnTo>
                        <a:pt x="60" y="17"/>
                      </a:lnTo>
                      <a:lnTo>
                        <a:pt x="71" y="17"/>
                      </a:lnTo>
                      <a:lnTo>
                        <a:pt x="89" y="36"/>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392" name=""/>
                <p:cNvSpPr/>
                <p:nvPr/>
              </p:nvSpPr>
              <p:spPr>
                <a:xfrm>
                  <a:off x="598320" y="3807000"/>
                  <a:ext cx="25920" cy="30600"/>
                </a:xfrm>
                <a:custGeom>
                  <a:avLst/>
                  <a:gdLst/>
                  <a:ahLst/>
                  <a:rect l="0" t="0" r="r" b="b"/>
                  <a:pathLst>
                    <a:path w="72" h="85">
                      <a:moveTo>
                        <a:pt x="72" y="16"/>
                      </a:moveTo>
                      <a:lnTo>
                        <a:pt x="49" y="5"/>
                      </a:lnTo>
                      <a:lnTo>
                        <a:pt x="17" y="8"/>
                      </a:lnTo>
                      <a:lnTo>
                        <a:pt x="4" y="22"/>
                      </a:lnTo>
                      <a:lnTo>
                        <a:pt x="4" y="41"/>
                      </a:lnTo>
                      <a:lnTo>
                        <a:pt x="4" y="57"/>
                      </a:lnTo>
                      <a:lnTo>
                        <a:pt x="8" y="69"/>
                      </a:lnTo>
                      <a:lnTo>
                        <a:pt x="31" y="49"/>
                      </a:lnTo>
                      <a:lnTo>
                        <a:pt x="36" y="38"/>
                      </a:lnTo>
                      <a:lnTo>
                        <a:pt x="63" y="33"/>
                      </a:lnTo>
                      <a:lnTo>
                        <a:pt x="49" y="46"/>
                      </a:lnTo>
                      <a:lnTo>
                        <a:pt x="23" y="57"/>
                      </a:lnTo>
                      <a:lnTo>
                        <a:pt x="23" y="72"/>
                      </a:lnTo>
                      <a:lnTo>
                        <a:pt x="31" y="83"/>
                      </a:lnTo>
                      <a:lnTo>
                        <a:pt x="45" y="85"/>
                      </a:lnTo>
                      <a:lnTo>
                        <a:pt x="8" y="80"/>
                      </a:lnTo>
                      <a:lnTo>
                        <a:pt x="0" y="63"/>
                      </a:lnTo>
                      <a:lnTo>
                        <a:pt x="0" y="38"/>
                      </a:lnTo>
                      <a:lnTo>
                        <a:pt x="0" y="16"/>
                      </a:lnTo>
                      <a:lnTo>
                        <a:pt x="8" y="5"/>
                      </a:lnTo>
                      <a:lnTo>
                        <a:pt x="36" y="0"/>
                      </a:lnTo>
                      <a:lnTo>
                        <a:pt x="59" y="2"/>
                      </a:lnTo>
                      <a:lnTo>
                        <a:pt x="72" y="16"/>
                      </a:lnTo>
                      <a:close/>
                    </a:path>
                  </a:pathLst>
                </a:custGeom>
                <a:solidFill>
                  <a:srgbClr val="402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393" name=""/>
                <p:cNvSpPr/>
                <p:nvPr/>
              </p:nvSpPr>
              <p:spPr>
                <a:xfrm>
                  <a:off x="588960" y="3800520"/>
                  <a:ext cx="28800" cy="44640"/>
                </a:xfrm>
                <a:custGeom>
                  <a:avLst/>
                  <a:gdLst/>
                  <a:ahLst/>
                  <a:rect l="0" t="0" r="r" b="b"/>
                  <a:pathLst>
                    <a:path w="80" h="124">
                      <a:moveTo>
                        <a:pt x="80" y="30"/>
                      </a:moveTo>
                      <a:lnTo>
                        <a:pt x="66" y="11"/>
                      </a:lnTo>
                      <a:lnTo>
                        <a:pt x="45" y="5"/>
                      </a:lnTo>
                      <a:lnTo>
                        <a:pt x="20" y="8"/>
                      </a:lnTo>
                      <a:lnTo>
                        <a:pt x="13" y="22"/>
                      </a:lnTo>
                      <a:lnTo>
                        <a:pt x="3" y="39"/>
                      </a:lnTo>
                      <a:lnTo>
                        <a:pt x="3" y="53"/>
                      </a:lnTo>
                      <a:lnTo>
                        <a:pt x="10" y="65"/>
                      </a:lnTo>
                      <a:lnTo>
                        <a:pt x="10" y="79"/>
                      </a:lnTo>
                      <a:lnTo>
                        <a:pt x="13" y="99"/>
                      </a:lnTo>
                      <a:lnTo>
                        <a:pt x="31" y="116"/>
                      </a:lnTo>
                      <a:lnTo>
                        <a:pt x="42" y="116"/>
                      </a:lnTo>
                      <a:lnTo>
                        <a:pt x="56" y="116"/>
                      </a:lnTo>
                      <a:lnTo>
                        <a:pt x="45" y="124"/>
                      </a:lnTo>
                      <a:lnTo>
                        <a:pt x="34" y="121"/>
                      </a:lnTo>
                      <a:lnTo>
                        <a:pt x="17" y="116"/>
                      </a:lnTo>
                      <a:lnTo>
                        <a:pt x="3" y="102"/>
                      </a:lnTo>
                      <a:lnTo>
                        <a:pt x="3" y="71"/>
                      </a:lnTo>
                      <a:lnTo>
                        <a:pt x="0" y="50"/>
                      </a:lnTo>
                      <a:lnTo>
                        <a:pt x="0" y="33"/>
                      </a:lnTo>
                      <a:lnTo>
                        <a:pt x="6" y="19"/>
                      </a:lnTo>
                      <a:lnTo>
                        <a:pt x="13" y="5"/>
                      </a:lnTo>
                      <a:lnTo>
                        <a:pt x="34" y="0"/>
                      </a:lnTo>
                      <a:lnTo>
                        <a:pt x="66" y="5"/>
                      </a:lnTo>
                      <a:lnTo>
                        <a:pt x="76" y="11"/>
                      </a:lnTo>
                      <a:lnTo>
                        <a:pt x="80" y="30"/>
                      </a:lnTo>
                      <a:close/>
                    </a:path>
                  </a:pathLst>
                </a:custGeom>
                <a:solidFill>
                  <a:srgbClr val="402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394" name=""/>
                <p:cNvSpPr/>
                <p:nvPr/>
              </p:nvSpPr>
              <p:spPr>
                <a:xfrm>
                  <a:off x="611280" y="3854520"/>
                  <a:ext cx="27360" cy="35280"/>
                </a:xfrm>
                <a:custGeom>
                  <a:avLst/>
                  <a:gdLst/>
                  <a:ahLst/>
                  <a:rect l="0" t="0" r="r" b="b"/>
                  <a:pathLst>
                    <a:path w="76" h="98">
                      <a:moveTo>
                        <a:pt x="0" y="0"/>
                      </a:moveTo>
                      <a:lnTo>
                        <a:pt x="10" y="21"/>
                      </a:lnTo>
                      <a:lnTo>
                        <a:pt x="25" y="43"/>
                      </a:lnTo>
                      <a:lnTo>
                        <a:pt x="43" y="62"/>
                      </a:lnTo>
                      <a:lnTo>
                        <a:pt x="66" y="89"/>
                      </a:lnTo>
                      <a:lnTo>
                        <a:pt x="76" y="98"/>
                      </a:lnTo>
                      <a:lnTo>
                        <a:pt x="50" y="87"/>
                      </a:lnTo>
                      <a:lnTo>
                        <a:pt x="33" y="62"/>
                      </a:lnTo>
                      <a:lnTo>
                        <a:pt x="14" y="35"/>
                      </a:lnTo>
                      <a:lnTo>
                        <a:pt x="0" y="0"/>
                      </a:lnTo>
                      <a:close/>
                    </a:path>
                  </a:pathLst>
                </a:custGeom>
                <a:solidFill>
                  <a:srgbClr val="402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395" name=""/>
                <p:cNvSpPr/>
                <p:nvPr/>
              </p:nvSpPr>
              <p:spPr>
                <a:xfrm>
                  <a:off x="501480" y="3711600"/>
                  <a:ext cx="197280" cy="149760"/>
                </a:xfrm>
                <a:custGeom>
                  <a:avLst/>
                  <a:gdLst/>
                  <a:ahLst/>
                  <a:rect l="0" t="0" r="r" b="b"/>
                  <a:pathLst>
                    <a:path w="548" h="416">
                      <a:moveTo>
                        <a:pt x="506" y="122"/>
                      </a:moveTo>
                      <a:lnTo>
                        <a:pt x="421" y="111"/>
                      </a:lnTo>
                      <a:lnTo>
                        <a:pt x="367" y="116"/>
                      </a:lnTo>
                      <a:lnTo>
                        <a:pt x="332" y="146"/>
                      </a:lnTo>
                      <a:lnTo>
                        <a:pt x="353" y="181"/>
                      </a:lnTo>
                      <a:lnTo>
                        <a:pt x="378" y="192"/>
                      </a:lnTo>
                      <a:lnTo>
                        <a:pt x="385" y="229"/>
                      </a:lnTo>
                      <a:lnTo>
                        <a:pt x="371" y="248"/>
                      </a:lnTo>
                      <a:lnTo>
                        <a:pt x="381" y="283"/>
                      </a:lnTo>
                      <a:lnTo>
                        <a:pt x="350" y="283"/>
                      </a:lnTo>
                      <a:lnTo>
                        <a:pt x="339" y="243"/>
                      </a:lnTo>
                      <a:lnTo>
                        <a:pt x="318" y="229"/>
                      </a:lnTo>
                      <a:lnTo>
                        <a:pt x="279" y="229"/>
                      </a:lnTo>
                      <a:lnTo>
                        <a:pt x="240" y="235"/>
                      </a:lnTo>
                      <a:lnTo>
                        <a:pt x="230" y="262"/>
                      </a:lnTo>
                      <a:lnTo>
                        <a:pt x="223" y="294"/>
                      </a:lnTo>
                      <a:lnTo>
                        <a:pt x="230" y="322"/>
                      </a:lnTo>
                      <a:lnTo>
                        <a:pt x="230" y="341"/>
                      </a:lnTo>
                      <a:lnTo>
                        <a:pt x="226" y="362"/>
                      </a:lnTo>
                      <a:lnTo>
                        <a:pt x="198" y="384"/>
                      </a:lnTo>
                      <a:lnTo>
                        <a:pt x="180" y="392"/>
                      </a:lnTo>
                      <a:lnTo>
                        <a:pt x="130" y="416"/>
                      </a:lnTo>
                      <a:lnTo>
                        <a:pt x="42" y="346"/>
                      </a:lnTo>
                      <a:lnTo>
                        <a:pt x="17" y="289"/>
                      </a:lnTo>
                      <a:lnTo>
                        <a:pt x="7" y="197"/>
                      </a:lnTo>
                      <a:lnTo>
                        <a:pt x="0" y="132"/>
                      </a:lnTo>
                      <a:lnTo>
                        <a:pt x="10" y="72"/>
                      </a:lnTo>
                      <a:lnTo>
                        <a:pt x="35" y="34"/>
                      </a:lnTo>
                      <a:lnTo>
                        <a:pt x="91" y="13"/>
                      </a:lnTo>
                      <a:lnTo>
                        <a:pt x="138" y="5"/>
                      </a:lnTo>
                      <a:lnTo>
                        <a:pt x="237" y="0"/>
                      </a:lnTo>
                      <a:lnTo>
                        <a:pt x="325" y="2"/>
                      </a:lnTo>
                      <a:lnTo>
                        <a:pt x="446" y="18"/>
                      </a:lnTo>
                      <a:lnTo>
                        <a:pt x="495" y="37"/>
                      </a:lnTo>
                      <a:lnTo>
                        <a:pt x="520" y="59"/>
                      </a:lnTo>
                      <a:lnTo>
                        <a:pt x="548" y="86"/>
                      </a:lnTo>
                      <a:lnTo>
                        <a:pt x="541" y="102"/>
                      </a:lnTo>
                      <a:lnTo>
                        <a:pt x="506" y="122"/>
                      </a:lnTo>
                      <a:close/>
                    </a:path>
                  </a:pathLst>
                </a:custGeom>
                <a:solidFill>
                  <a:srgbClr val="603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6" name=""/>
                <p:cNvSpPr/>
                <p:nvPr/>
              </p:nvSpPr>
              <p:spPr>
                <a:xfrm>
                  <a:off x="504720" y="3713040"/>
                  <a:ext cx="186120" cy="144720"/>
                </a:xfrm>
                <a:custGeom>
                  <a:avLst/>
                  <a:gdLst/>
                  <a:ahLst/>
                  <a:rect l="0" t="0" r="r" b="b"/>
                  <a:pathLst>
                    <a:path w="517" h="402">
                      <a:moveTo>
                        <a:pt x="433" y="24"/>
                      </a:moveTo>
                      <a:lnTo>
                        <a:pt x="479" y="37"/>
                      </a:lnTo>
                      <a:lnTo>
                        <a:pt x="496" y="62"/>
                      </a:lnTo>
                      <a:lnTo>
                        <a:pt x="510" y="75"/>
                      </a:lnTo>
                      <a:lnTo>
                        <a:pt x="517" y="84"/>
                      </a:lnTo>
                      <a:lnTo>
                        <a:pt x="507" y="94"/>
                      </a:lnTo>
                      <a:lnTo>
                        <a:pt x="486" y="105"/>
                      </a:lnTo>
                      <a:lnTo>
                        <a:pt x="429" y="97"/>
                      </a:lnTo>
                      <a:lnTo>
                        <a:pt x="390" y="97"/>
                      </a:lnTo>
                      <a:lnTo>
                        <a:pt x="357" y="86"/>
                      </a:lnTo>
                      <a:lnTo>
                        <a:pt x="319" y="78"/>
                      </a:lnTo>
                      <a:lnTo>
                        <a:pt x="283" y="75"/>
                      </a:lnTo>
                      <a:lnTo>
                        <a:pt x="237" y="78"/>
                      </a:lnTo>
                      <a:lnTo>
                        <a:pt x="301" y="84"/>
                      </a:lnTo>
                      <a:lnTo>
                        <a:pt x="333" y="92"/>
                      </a:lnTo>
                      <a:lnTo>
                        <a:pt x="354" y="97"/>
                      </a:lnTo>
                      <a:lnTo>
                        <a:pt x="357" y="100"/>
                      </a:lnTo>
                      <a:lnTo>
                        <a:pt x="347" y="105"/>
                      </a:lnTo>
                      <a:lnTo>
                        <a:pt x="333" y="116"/>
                      </a:lnTo>
                      <a:lnTo>
                        <a:pt x="311" y="105"/>
                      </a:lnTo>
                      <a:lnTo>
                        <a:pt x="290" y="100"/>
                      </a:lnTo>
                      <a:lnTo>
                        <a:pt x="255" y="94"/>
                      </a:lnTo>
                      <a:lnTo>
                        <a:pt x="241" y="94"/>
                      </a:lnTo>
                      <a:lnTo>
                        <a:pt x="280" y="108"/>
                      </a:lnTo>
                      <a:lnTo>
                        <a:pt x="308" y="116"/>
                      </a:lnTo>
                      <a:lnTo>
                        <a:pt x="322" y="124"/>
                      </a:lnTo>
                      <a:lnTo>
                        <a:pt x="311" y="132"/>
                      </a:lnTo>
                      <a:lnTo>
                        <a:pt x="280" y="124"/>
                      </a:lnTo>
                      <a:lnTo>
                        <a:pt x="255" y="124"/>
                      </a:lnTo>
                      <a:lnTo>
                        <a:pt x="301" y="140"/>
                      </a:lnTo>
                      <a:lnTo>
                        <a:pt x="315" y="149"/>
                      </a:lnTo>
                      <a:lnTo>
                        <a:pt x="322" y="165"/>
                      </a:lnTo>
                      <a:lnTo>
                        <a:pt x="329" y="176"/>
                      </a:lnTo>
                      <a:lnTo>
                        <a:pt x="301" y="165"/>
                      </a:lnTo>
                      <a:lnTo>
                        <a:pt x="276" y="159"/>
                      </a:lnTo>
                      <a:lnTo>
                        <a:pt x="234" y="159"/>
                      </a:lnTo>
                      <a:lnTo>
                        <a:pt x="294" y="173"/>
                      </a:lnTo>
                      <a:lnTo>
                        <a:pt x="336" y="181"/>
                      </a:lnTo>
                      <a:lnTo>
                        <a:pt x="357" y="192"/>
                      </a:lnTo>
                      <a:lnTo>
                        <a:pt x="361" y="209"/>
                      </a:lnTo>
                      <a:lnTo>
                        <a:pt x="333" y="197"/>
                      </a:lnTo>
                      <a:lnTo>
                        <a:pt x="290" y="187"/>
                      </a:lnTo>
                      <a:lnTo>
                        <a:pt x="273" y="187"/>
                      </a:lnTo>
                      <a:lnTo>
                        <a:pt x="315" y="197"/>
                      </a:lnTo>
                      <a:lnTo>
                        <a:pt x="354" y="212"/>
                      </a:lnTo>
                      <a:lnTo>
                        <a:pt x="364" y="223"/>
                      </a:lnTo>
                      <a:lnTo>
                        <a:pt x="357" y="231"/>
                      </a:lnTo>
                      <a:lnTo>
                        <a:pt x="333" y="226"/>
                      </a:lnTo>
                      <a:lnTo>
                        <a:pt x="304" y="215"/>
                      </a:lnTo>
                      <a:lnTo>
                        <a:pt x="251" y="215"/>
                      </a:lnTo>
                      <a:lnTo>
                        <a:pt x="230" y="215"/>
                      </a:lnTo>
                      <a:lnTo>
                        <a:pt x="181" y="217"/>
                      </a:lnTo>
                      <a:lnTo>
                        <a:pt x="120" y="212"/>
                      </a:lnTo>
                      <a:lnTo>
                        <a:pt x="160" y="223"/>
                      </a:lnTo>
                      <a:lnTo>
                        <a:pt x="220" y="228"/>
                      </a:lnTo>
                      <a:lnTo>
                        <a:pt x="205" y="245"/>
                      </a:lnTo>
                      <a:lnTo>
                        <a:pt x="163" y="236"/>
                      </a:lnTo>
                      <a:lnTo>
                        <a:pt x="116" y="226"/>
                      </a:lnTo>
                      <a:lnTo>
                        <a:pt x="91" y="215"/>
                      </a:lnTo>
                      <a:lnTo>
                        <a:pt x="145" y="245"/>
                      </a:lnTo>
                      <a:lnTo>
                        <a:pt x="177" y="253"/>
                      </a:lnTo>
                      <a:lnTo>
                        <a:pt x="205" y="261"/>
                      </a:lnTo>
                      <a:lnTo>
                        <a:pt x="205" y="277"/>
                      </a:lnTo>
                      <a:lnTo>
                        <a:pt x="163" y="272"/>
                      </a:lnTo>
                      <a:lnTo>
                        <a:pt x="127" y="264"/>
                      </a:lnTo>
                      <a:lnTo>
                        <a:pt x="149" y="277"/>
                      </a:lnTo>
                      <a:lnTo>
                        <a:pt x="184" y="280"/>
                      </a:lnTo>
                      <a:lnTo>
                        <a:pt x="205" y="282"/>
                      </a:lnTo>
                      <a:lnTo>
                        <a:pt x="205" y="320"/>
                      </a:lnTo>
                      <a:lnTo>
                        <a:pt x="163" y="307"/>
                      </a:lnTo>
                      <a:lnTo>
                        <a:pt x="135" y="299"/>
                      </a:lnTo>
                      <a:lnTo>
                        <a:pt x="167" y="318"/>
                      </a:lnTo>
                      <a:lnTo>
                        <a:pt x="209" y="329"/>
                      </a:lnTo>
                      <a:lnTo>
                        <a:pt x="205" y="348"/>
                      </a:lnTo>
                      <a:lnTo>
                        <a:pt x="181" y="367"/>
                      </a:lnTo>
                      <a:lnTo>
                        <a:pt x="163" y="345"/>
                      </a:lnTo>
                      <a:lnTo>
                        <a:pt x="135" y="320"/>
                      </a:lnTo>
                      <a:lnTo>
                        <a:pt x="113" y="293"/>
                      </a:lnTo>
                      <a:lnTo>
                        <a:pt x="135" y="331"/>
                      </a:lnTo>
                      <a:lnTo>
                        <a:pt x="149" y="348"/>
                      </a:lnTo>
                      <a:lnTo>
                        <a:pt x="177" y="375"/>
                      </a:lnTo>
                      <a:lnTo>
                        <a:pt x="160" y="391"/>
                      </a:lnTo>
                      <a:lnTo>
                        <a:pt x="123" y="372"/>
                      </a:lnTo>
                      <a:lnTo>
                        <a:pt x="98" y="345"/>
                      </a:lnTo>
                      <a:lnTo>
                        <a:pt x="77" y="318"/>
                      </a:lnTo>
                      <a:lnTo>
                        <a:pt x="95" y="358"/>
                      </a:lnTo>
                      <a:lnTo>
                        <a:pt x="116" y="377"/>
                      </a:lnTo>
                      <a:lnTo>
                        <a:pt x="142" y="394"/>
                      </a:lnTo>
                      <a:lnTo>
                        <a:pt x="120" y="402"/>
                      </a:lnTo>
                      <a:lnTo>
                        <a:pt x="77" y="375"/>
                      </a:lnTo>
                      <a:lnTo>
                        <a:pt x="38" y="329"/>
                      </a:lnTo>
                      <a:lnTo>
                        <a:pt x="24" y="299"/>
                      </a:lnTo>
                      <a:lnTo>
                        <a:pt x="14" y="239"/>
                      </a:lnTo>
                      <a:lnTo>
                        <a:pt x="7" y="197"/>
                      </a:lnTo>
                      <a:lnTo>
                        <a:pt x="0" y="149"/>
                      </a:lnTo>
                      <a:lnTo>
                        <a:pt x="42" y="159"/>
                      </a:lnTo>
                      <a:lnTo>
                        <a:pt x="95" y="173"/>
                      </a:lnTo>
                      <a:lnTo>
                        <a:pt x="167" y="184"/>
                      </a:lnTo>
                      <a:lnTo>
                        <a:pt x="98" y="165"/>
                      </a:lnTo>
                      <a:lnTo>
                        <a:pt x="77" y="154"/>
                      </a:lnTo>
                      <a:lnTo>
                        <a:pt x="31" y="140"/>
                      </a:lnTo>
                      <a:lnTo>
                        <a:pt x="7" y="138"/>
                      </a:lnTo>
                      <a:lnTo>
                        <a:pt x="7" y="113"/>
                      </a:lnTo>
                      <a:lnTo>
                        <a:pt x="10" y="78"/>
                      </a:lnTo>
                      <a:lnTo>
                        <a:pt x="70" y="86"/>
                      </a:lnTo>
                      <a:lnTo>
                        <a:pt x="106" y="94"/>
                      </a:lnTo>
                      <a:lnTo>
                        <a:pt x="156" y="113"/>
                      </a:lnTo>
                      <a:lnTo>
                        <a:pt x="109" y="86"/>
                      </a:lnTo>
                      <a:lnTo>
                        <a:pt x="63" y="75"/>
                      </a:lnTo>
                      <a:lnTo>
                        <a:pt x="14" y="67"/>
                      </a:lnTo>
                      <a:lnTo>
                        <a:pt x="24" y="43"/>
                      </a:lnTo>
                      <a:lnTo>
                        <a:pt x="38" y="27"/>
                      </a:lnTo>
                      <a:lnTo>
                        <a:pt x="84" y="18"/>
                      </a:lnTo>
                      <a:lnTo>
                        <a:pt x="127" y="24"/>
                      </a:lnTo>
                      <a:lnTo>
                        <a:pt x="167" y="46"/>
                      </a:lnTo>
                      <a:lnTo>
                        <a:pt x="142" y="21"/>
                      </a:lnTo>
                      <a:lnTo>
                        <a:pt x="95" y="10"/>
                      </a:lnTo>
                      <a:lnTo>
                        <a:pt x="145" y="2"/>
                      </a:lnTo>
                      <a:lnTo>
                        <a:pt x="177" y="2"/>
                      </a:lnTo>
                      <a:lnTo>
                        <a:pt x="227" y="8"/>
                      </a:lnTo>
                      <a:lnTo>
                        <a:pt x="258" y="24"/>
                      </a:lnTo>
                      <a:lnTo>
                        <a:pt x="311" y="29"/>
                      </a:lnTo>
                      <a:lnTo>
                        <a:pt x="276" y="21"/>
                      </a:lnTo>
                      <a:lnTo>
                        <a:pt x="248" y="8"/>
                      </a:lnTo>
                      <a:lnTo>
                        <a:pt x="234" y="0"/>
                      </a:lnTo>
                      <a:lnTo>
                        <a:pt x="287" y="2"/>
                      </a:lnTo>
                      <a:lnTo>
                        <a:pt x="329" y="2"/>
                      </a:lnTo>
                      <a:lnTo>
                        <a:pt x="354" y="13"/>
                      </a:lnTo>
                      <a:lnTo>
                        <a:pt x="386" y="32"/>
                      </a:lnTo>
                      <a:lnTo>
                        <a:pt x="408" y="59"/>
                      </a:lnTo>
                      <a:lnTo>
                        <a:pt x="397" y="27"/>
                      </a:lnTo>
                      <a:lnTo>
                        <a:pt x="368" y="10"/>
                      </a:lnTo>
                      <a:lnTo>
                        <a:pt x="433" y="24"/>
                      </a:lnTo>
                      <a:close/>
                    </a:path>
                  </a:pathLst>
                </a:custGeom>
                <a:solidFill>
                  <a:srgbClr val="a05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97" name=""/>
                <p:cNvGrpSpPr/>
                <p:nvPr/>
              </p:nvGrpSpPr>
              <p:grpSpPr>
                <a:xfrm>
                  <a:off x="892080" y="4097160"/>
                  <a:ext cx="230040" cy="101880"/>
                  <a:chOff x="892080" y="4097160"/>
                  <a:chExt cx="230040" cy="101880"/>
                </a:xfrm>
              </p:grpSpPr>
              <p:sp>
                <p:nvSpPr>
                  <p:cNvPr id="398" name=""/>
                  <p:cNvSpPr/>
                  <p:nvPr/>
                </p:nvSpPr>
                <p:spPr>
                  <a:xfrm>
                    <a:off x="892080" y="4097160"/>
                    <a:ext cx="214560" cy="101880"/>
                  </a:xfrm>
                  <a:custGeom>
                    <a:avLst/>
                    <a:gdLst/>
                    <a:ahLst/>
                    <a:rect l="0" t="0" r="r" b="b"/>
                    <a:pathLst>
                      <a:path w="596" h="283">
                        <a:moveTo>
                          <a:pt x="0" y="168"/>
                        </a:moveTo>
                        <a:lnTo>
                          <a:pt x="73" y="154"/>
                        </a:lnTo>
                        <a:lnTo>
                          <a:pt x="102" y="151"/>
                        </a:lnTo>
                        <a:lnTo>
                          <a:pt x="119" y="137"/>
                        </a:lnTo>
                        <a:lnTo>
                          <a:pt x="137" y="120"/>
                        </a:lnTo>
                        <a:lnTo>
                          <a:pt x="172" y="93"/>
                        </a:lnTo>
                        <a:lnTo>
                          <a:pt x="239" y="52"/>
                        </a:lnTo>
                        <a:lnTo>
                          <a:pt x="250" y="38"/>
                        </a:lnTo>
                        <a:lnTo>
                          <a:pt x="267" y="24"/>
                        </a:lnTo>
                        <a:lnTo>
                          <a:pt x="300" y="19"/>
                        </a:lnTo>
                        <a:lnTo>
                          <a:pt x="406" y="5"/>
                        </a:lnTo>
                        <a:lnTo>
                          <a:pt x="434" y="0"/>
                        </a:lnTo>
                        <a:lnTo>
                          <a:pt x="458" y="8"/>
                        </a:lnTo>
                        <a:lnTo>
                          <a:pt x="473" y="16"/>
                        </a:lnTo>
                        <a:lnTo>
                          <a:pt x="532" y="32"/>
                        </a:lnTo>
                        <a:lnTo>
                          <a:pt x="557" y="41"/>
                        </a:lnTo>
                        <a:lnTo>
                          <a:pt x="564" y="46"/>
                        </a:lnTo>
                        <a:lnTo>
                          <a:pt x="578" y="73"/>
                        </a:lnTo>
                        <a:lnTo>
                          <a:pt x="585" y="87"/>
                        </a:lnTo>
                        <a:lnTo>
                          <a:pt x="589" y="95"/>
                        </a:lnTo>
                        <a:lnTo>
                          <a:pt x="596" y="109"/>
                        </a:lnTo>
                        <a:lnTo>
                          <a:pt x="596" y="117"/>
                        </a:lnTo>
                        <a:lnTo>
                          <a:pt x="585" y="126"/>
                        </a:lnTo>
                        <a:lnTo>
                          <a:pt x="561" y="126"/>
                        </a:lnTo>
                        <a:lnTo>
                          <a:pt x="522" y="109"/>
                        </a:lnTo>
                        <a:lnTo>
                          <a:pt x="473" y="104"/>
                        </a:lnTo>
                        <a:lnTo>
                          <a:pt x="427" y="109"/>
                        </a:lnTo>
                        <a:lnTo>
                          <a:pt x="476" y="117"/>
                        </a:lnTo>
                        <a:lnTo>
                          <a:pt x="508" y="126"/>
                        </a:lnTo>
                        <a:lnTo>
                          <a:pt x="546" y="137"/>
                        </a:lnTo>
                        <a:lnTo>
                          <a:pt x="554" y="148"/>
                        </a:lnTo>
                        <a:lnTo>
                          <a:pt x="554" y="159"/>
                        </a:lnTo>
                        <a:lnTo>
                          <a:pt x="539" y="168"/>
                        </a:lnTo>
                        <a:lnTo>
                          <a:pt x="522" y="165"/>
                        </a:lnTo>
                        <a:lnTo>
                          <a:pt x="469" y="154"/>
                        </a:lnTo>
                        <a:lnTo>
                          <a:pt x="423" y="151"/>
                        </a:lnTo>
                        <a:lnTo>
                          <a:pt x="384" y="154"/>
                        </a:lnTo>
                        <a:lnTo>
                          <a:pt x="363" y="165"/>
                        </a:lnTo>
                        <a:lnTo>
                          <a:pt x="339" y="184"/>
                        </a:lnTo>
                        <a:lnTo>
                          <a:pt x="321" y="206"/>
                        </a:lnTo>
                        <a:lnTo>
                          <a:pt x="303" y="225"/>
                        </a:lnTo>
                        <a:lnTo>
                          <a:pt x="285" y="242"/>
                        </a:lnTo>
                        <a:lnTo>
                          <a:pt x="257" y="258"/>
                        </a:lnTo>
                        <a:lnTo>
                          <a:pt x="228" y="264"/>
                        </a:lnTo>
                        <a:lnTo>
                          <a:pt x="200" y="264"/>
                        </a:lnTo>
                        <a:lnTo>
                          <a:pt x="165" y="264"/>
                        </a:lnTo>
                        <a:lnTo>
                          <a:pt x="137" y="261"/>
                        </a:lnTo>
                        <a:lnTo>
                          <a:pt x="98" y="269"/>
                        </a:lnTo>
                        <a:lnTo>
                          <a:pt x="0" y="283"/>
                        </a:lnTo>
                        <a:lnTo>
                          <a:pt x="0" y="168"/>
                        </a:lnTo>
                        <a:close/>
                      </a:path>
                    </a:pathLst>
                  </a:custGeom>
                  <a:solidFill>
                    <a:srgbClr val="ffc080"/>
                  </a:solidFill>
                  <a:ln w="12600">
                    <a:solidFill>
                      <a:srgbClr val="402000"/>
                    </a:solidFill>
                    <a:round/>
                  </a:ln>
                </p:spPr>
                <p:txBody>
                  <a:bodyPr lIns="96120" rIns="96120" tIns="50760" bIns="50760" anchor="t">
                    <a:noAutofit/>
                  </a:bodyPr>
                  <a:p>
                    <a:endParaRPr b="0" lang="en-US" sz="1800" spc="-1" strike="noStrike">
                      <a:solidFill>
                        <a:srgbClr val="000000"/>
                      </a:solidFill>
                      <a:latin typeface="Arial"/>
                    </a:endParaRPr>
                  </a:p>
                </p:txBody>
              </p:sp>
              <p:sp>
                <p:nvSpPr>
                  <p:cNvPr id="399" name=""/>
                  <p:cNvSpPr/>
                  <p:nvPr/>
                </p:nvSpPr>
                <p:spPr>
                  <a:xfrm>
                    <a:off x="1038240" y="4114800"/>
                    <a:ext cx="59040" cy="25920"/>
                  </a:xfrm>
                  <a:custGeom>
                    <a:avLst/>
                    <a:gdLst/>
                    <a:ahLst/>
                    <a:rect l="0" t="0" r="r" b="b"/>
                    <a:pathLst>
                      <a:path w="164" h="72">
                        <a:moveTo>
                          <a:pt x="164" y="72"/>
                        </a:moveTo>
                        <a:lnTo>
                          <a:pt x="132" y="40"/>
                        </a:lnTo>
                        <a:lnTo>
                          <a:pt x="114" y="40"/>
                        </a:lnTo>
                        <a:lnTo>
                          <a:pt x="86" y="27"/>
                        </a:lnTo>
                        <a:lnTo>
                          <a:pt x="60" y="13"/>
                        </a:lnTo>
                        <a:lnTo>
                          <a:pt x="24" y="27"/>
                        </a:lnTo>
                        <a:lnTo>
                          <a:pt x="0" y="27"/>
                        </a:lnTo>
                        <a:lnTo>
                          <a:pt x="35" y="13"/>
                        </a:lnTo>
                        <a:lnTo>
                          <a:pt x="70" y="0"/>
                        </a:lnTo>
                        <a:lnTo>
                          <a:pt x="114" y="27"/>
                        </a:lnTo>
                        <a:lnTo>
                          <a:pt x="132" y="40"/>
                        </a:lnTo>
                        <a:lnTo>
                          <a:pt x="160" y="53"/>
                        </a:lnTo>
                        <a:lnTo>
                          <a:pt x="164"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00" name=""/>
                  <p:cNvSpPr/>
                  <p:nvPr/>
                </p:nvSpPr>
                <p:spPr>
                  <a:xfrm>
                    <a:off x="1012680" y="4102200"/>
                    <a:ext cx="47880" cy="25920"/>
                  </a:xfrm>
                  <a:custGeom>
                    <a:avLst/>
                    <a:gdLst/>
                    <a:ahLst/>
                    <a:rect l="0" t="0" r="r" b="b"/>
                    <a:pathLst>
                      <a:path w="133" h="72">
                        <a:moveTo>
                          <a:pt x="97" y="0"/>
                        </a:moveTo>
                        <a:lnTo>
                          <a:pt x="111" y="0"/>
                        </a:lnTo>
                        <a:lnTo>
                          <a:pt x="133" y="0"/>
                        </a:lnTo>
                        <a:lnTo>
                          <a:pt x="122" y="0"/>
                        </a:lnTo>
                        <a:lnTo>
                          <a:pt x="101" y="0"/>
                        </a:lnTo>
                        <a:lnTo>
                          <a:pt x="57" y="72"/>
                        </a:lnTo>
                        <a:lnTo>
                          <a:pt x="32" y="72"/>
                        </a:lnTo>
                        <a:lnTo>
                          <a:pt x="3" y="72"/>
                        </a:lnTo>
                        <a:lnTo>
                          <a:pt x="0" y="72"/>
                        </a:lnTo>
                        <a:lnTo>
                          <a:pt x="28" y="72"/>
                        </a:lnTo>
                        <a:lnTo>
                          <a:pt x="64" y="0"/>
                        </a:lnTo>
                        <a:lnTo>
                          <a:pt x="9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01" name=""/>
                  <p:cNvSpPr/>
                  <p:nvPr/>
                </p:nvSpPr>
                <p:spPr>
                  <a:xfrm>
                    <a:off x="1036800" y="4129200"/>
                    <a:ext cx="25920" cy="25920"/>
                  </a:xfrm>
                  <a:custGeom>
                    <a:avLst/>
                    <a:gdLst/>
                    <a:ahLst/>
                    <a:rect l="0" t="0" r="r" b="b"/>
                    <a:pathLst>
                      <a:path w="72" h="72">
                        <a:moveTo>
                          <a:pt x="72" y="23"/>
                        </a:moveTo>
                        <a:lnTo>
                          <a:pt x="63" y="72"/>
                        </a:lnTo>
                        <a:lnTo>
                          <a:pt x="36" y="45"/>
                        </a:lnTo>
                        <a:lnTo>
                          <a:pt x="8" y="45"/>
                        </a:lnTo>
                        <a:lnTo>
                          <a:pt x="0" y="0"/>
                        </a:lnTo>
                        <a:lnTo>
                          <a:pt x="17" y="23"/>
                        </a:lnTo>
                        <a:lnTo>
                          <a:pt x="72" y="23"/>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02" name=""/>
                  <p:cNvSpPr/>
                  <p:nvPr/>
                </p:nvSpPr>
                <p:spPr>
                  <a:xfrm>
                    <a:off x="1096920" y="4130640"/>
                    <a:ext cx="25200" cy="0"/>
                  </a:xfrm>
                  <a:custGeom>
                    <a:avLst/>
                    <a:gdLst/>
                    <a:ahLst/>
                    <a:rect l="0" t="0" r="r" b="b"/>
                    <a:pathLst>
                      <a:path w="70" h="0">
                        <a:moveTo>
                          <a:pt x="0" y="0"/>
                        </a:moveTo>
                        <a:lnTo>
                          <a:pt x="17" y="0"/>
                        </a:lnTo>
                        <a:lnTo>
                          <a:pt x="70" y="0"/>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3" name=""/>
                  <p:cNvSpPr/>
                  <p:nvPr/>
                </p:nvSpPr>
                <p:spPr>
                  <a:xfrm>
                    <a:off x="1079640" y="4143240"/>
                    <a:ext cx="25920" cy="25920"/>
                  </a:xfrm>
                  <a:custGeom>
                    <a:avLst/>
                    <a:gdLst/>
                    <a:ahLst/>
                    <a:rect l="0" t="0" r="r" b="b"/>
                    <a:pathLst>
                      <a:path w="72" h="72">
                        <a:moveTo>
                          <a:pt x="0" y="0"/>
                        </a:moveTo>
                        <a:lnTo>
                          <a:pt x="27" y="36"/>
                        </a:lnTo>
                        <a:lnTo>
                          <a:pt x="72" y="72"/>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04" name=""/>
                  <p:cNvSpPr/>
                  <p:nvPr/>
                </p:nvSpPr>
                <p:spPr>
                  <a:xfrm>
                    <a:off x="1004760" y="4121280"/>
                    <a:ext cx="25920" cy="25920"/>
                  </a:xfrm>
                  <a:custGeom>
                    <a:avLst/>
                    <a:gdLst/>
                    <a:ahLst/>
                    <a:rect l="0" t="0" r="r" b="b"/>
                    <a:pathLst>
                      <a:path w="72" h="72">
                        <a:moveTo>
                          <a:pt x="72" y="0"/>
                        </a:moveTo>
                        <a:lnTo>
                          <a:pt x="72" y="36"/>
                        </a:lnTo>
                        <a:lnTo>
                          <a:pt x="0" y="72"/>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05" name=""/>
                  <p:cNvSpPr/>
                  <p:nvPr/>
                </p:nvSpPr>
                <p:spPr>
                  <a:xfrm>
                    <a:off x="960480" y="4121280"/>
                    <a:ext cx="25920" cy="25920"/>
                  </a:xfrm>
                  <a:custGeom>
                    <a:avLst/>
                    <a:gdLst/>
                    <a:ahLst/>
                    <a:rect l="0" t="0" r="r" b="b"/>
                    <a:pathLst>
                      <a:path w="72" h="72">
                        <a:moveTo>
                          <a:pt x="72" y="0"/>
                        </a:moveTo>
                        <a:lnTo>
                          <a:pt x="57" y="23"/>
                        </a:lnTo>
                        <a:lnTo>
                          <a:pt x="45" y="41"/>
                        </a:lnTo>
                        <a:lnTo>
                          <a:pt x="0" y="72"/>
                        </a:lnTo>
                        <a:lnTo>
                          <a:pt x="41" y="34"/>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06" name=""/>
                  <p:cNvSpPr/>
                  <p:nvPr/>
                </p:nvSpPr>
                <p:spPr>
                  <a:xfrm>
                    <a:off x="941400" y="4160880"/>
                    <a:ext cx="25920" cy="25920"/>
                  </a:xfrm>
                  <a:custGeom>
                    <a:avLst/>
                    <a:gdLst/>
                    <a:ahLst/>
                    <a:rect l="0" t="0" r="r" b="b"/>
                    <a:pathLst>
                      <a:path w="72" h="72">
                        <a:moveTo>
                          <a:pt x="0" y="0"/>
                        </a:moveTo>
                        <a:lnTo>
                          <a:pt x="36" y="23"/>
                        </a:lnTo>
                        <a:lnTo>
                          <a:pt x="72" y="49"/>
                        </a:lnTo>
                        <a:lnTo>
                          <a:pt x="72" y="72"/>
                        </a:lnTo>
                        <a:lnTo>
                          <a:pt x="72" y="36"/>
                        </a:lnTo>
                        <a:lnTo>
                          <a:pt x="72" y="17"/>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07" name=""/>
                  <p:cNvSpPr/>
                  <p:nvPr/>
                </p:nvSpPr>
                <p:spPr>
                  <a:xfrm>
                    <a:off x="1015920" y="4140360"/>
                    <a:ext cx="25200" cy="0"/>
                  </a:xfrm>
                  <a:custGeom>
                    <a:avLst/>
                    <a:gdLst/>
                    <a:ahLst/>
                    <a:rect l="0" t="0" r="r" b="b"/>
                    <a:pathLst>
                      <a:path w="70" h="0">
                        <a:moveTo>
                          <a:pt x="17" y="0"/>
                        </a:moveTo>
                        <a:lnTo>
                          <a:pt x="0" y="0"/>
                        </a:lnTo>
                        <a:lnTo>
                          <a:pt x="70" y="0"/>
                        </a:lnTo>
                        <a:lnTo>
                          <a:pt x="1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408" name=""/>
                <p:cNvGrpSpPr/>
                <p:nvPr/>
              </p:nvGrpSpPr>
              <p:grpSpPr>
                <a:xfrm>
                  <a:off x="431640" y="3876840"/>
                  <a:ext cx="493920" cy="432000"/>
                  <a:chOff x="431640" y="3876840"/>
                  <a:chExt cx="493920" cy="432000"/>
                </a:xfrm>
              </p:grpSpPr>
              <p:sp>
                <p:nvSpPr>
                  <p:cNvPr id="409" name=""/>
                  <p:cNvSpPr/>
                  <p:nvPr/>
                </p:nvSpPr>
                <p:spPr>
                  <a:xfrm>
                    <a:off x="706320" y="3876840"/>
                    <a:ext cx="25920" cy="25920"/>
                  </a:xfrm>
                  <a:custGeom>
                    <a:avLst/>
                    <a:gdLst/>
                    <a:ahLst/>
                    <a:rect l="0" t="0" r="r" b="b"/>
                    <a:pathLst>
                      <a:path w="72" h="72">
                        <a:moveTo>
                          <a:pt x="72" y="0"/>
                        </a:moveTo>
                        <a:lnTo>
                          <a:pt x="53" y="0"/>
                        </a:lnTo>
                        <a:lnTo>
                          <a:pt x="36" y="0"/>
                        </a:lnTo>
                        <a:lnTo>
                          <a:pt x="17" y="72"/>
                        </a:lnTo>
                        <a:lnTo>
                          <a:pt x="0" y="72"/>
                        </a:lnTo>
                        <a:lnTo>
                          <a:pt x="17" y="72"/>
                        </a:lnTo>
                        <a:lnTo>
                          <a:pt x="53" y="72"/>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10" name=""/>
                  <p:cNvSpPr/>
                  <p:nvPr/>
                </p:nvSpPr>
                <p:spPr>
                  <a:xfrm>
                    <a:off x="708120" y="3886200"/>
                    <a:ext cx="25920" cy="25920"/>
                  </a:xfrm>
                  <a:custGeom>
                    <a:avLst/>
                    <a:gdLst/>
                    <a:ahLst/>
                    <a:rect l="0" t="0" r="r" b="b"/>
                    <a:pathLst>
                      <a:path w="72" h="72">
                        <a:moveTo>
                          <a:pt x="72" y="0"/>
                        </a:moveTo>
                        <a:lnTo>
                          <a:pt x="0" y="0"/>
                        </a:lnTo>
                        <a:lnTo>
                          <a:pt x="0" y="72"/>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11" name=""/>
                  <p:cNvSpPr/>
                  <p:nvPr/>
                </p:nvSpPr>
                <p:spPr>
                  <a:xfrm>
                    <a:off x="642960" y="3933720"/>
                    <a:ext cx="133560" cy="255960"/>
                  </a:xfrm>
                  <a:custGeom>
                    <a:avLst/>
                    <a:gdLst/>
                    <a:ahLst/>
                    <a:rect l="0" t="0" r="r" b="b"/>
                    <a:pathLst>
                      <a:path w="371" h="711">
                        <a:moveTo>
                          <a:pt x="52" y="0"/>
                        </a:moveTo>
                        <a:lnTo>
                          <a:pt x="88" y="27"/>
                        </a:lnTo>
                        <a:lnTo>
                          <a:pt x="98" y="70"/>
                        </a:lnTo>
                        <a:lnTo>
                          <a:pt x="151" y="111"/>
                        </a:lnTo>
                        <a:lnTo>
                          <a:pt x="262" y="302"/>
                        </a:lnTo>
                        <a:lnTo>
                          <a:pt x="322" y="477"/>
                        </a:lnTo>
                        <a:lnTo>
                          <a:pt x="371" y="711"/>
                        </a:lnTo>
                        <a:lnTo>
                          <a:pt x="219" y="608"/>
                        </a:lnTo>
                        <a:lnTo>
                          <a:pt x="0" y="92"/>
                        </a:lnTo>
                        <a:lnTo>
                          <a:pt x="52" y="0"/>
                        </a:lnTo>
                        <a:close/>
                      </a:path>
                    </a:pathLst>
                  </a:custGeom>
                  <a:solidFill>
                    <a:srgbClr val="4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2" name=""/>
                  <p:cNvSpPr/>
                  <p:nvPr/>
                </p:nvSpPr>
                <p:spPr>
                  <a:xfrm>
                    <a:off x="431640" y="3884760"/>
                    <a:ext cx="493920" cy="424080"/>
                  </a:xfrm>
                  <a:custGeom>
                    <a:avLst/>
                    <a:gdLst/>
                    <a:ahLst/>
                    <a:rect l="0" t="0" r="r" b="b"/>
                    <a:pathLst>
                      <a:path w="1372" h="1178">
                        <a:moveTo>
                          <a:pt x="253" y="59"/>
                        </a:moveTo>
                        <a:lnTo>
                          <a:pt x="296" y="0"/>
                        </a:lnTo>
                        <a:lnTo>
                          <a:pt x="631" y="105"/>
                        </a:lnTo>
                        <a:lnTo>
                          <a:pt x="645" y="189"/>
                        </a:lnTo>
                        <a:lnTo>
                          <a:pt x="673" y="217"/>
                        </a:lnTo>
                        <a:lnTo>
                          <a:pt x="709" y="249"/>
                        </a:lnTo>
                        <a:lnTo>
                          <a:pt x="734" y="309"/>
                        </a:lnTo>
                        <a:lnTo>
                          <a:pt x="808" y="444"/>
                        </a:lnTo>
                        <a:lnTo>
                          <a:pt x="868" y="608"/>
                        </a:lnTo>
                        <a:lnTo>
                          <a:pt x="896" y="717"/>
                        </a:lnTo>
                        <a:lnTo>
                          <a:pt x="1164" y="719"/>
                        </a:lnTo>
                        <a:lnTo>
                          <a:pt x="1206" y="741"/>
                        </a:lnTo>
                        <a:lnTo>
                          <a:pt x="1330" y="741"/>
                        </a:lnTo>
                        <a:lnTo>
                          <a:pt x="1365" y="782"/>
                        </a:lnTo>
                        <a:lnTo>
                          <a:pt x="1372" y="831"/>
                        </a:lnTo>
                        <a:lnTo>
                          <a:pt x="1358" y="877"/>
                        </a:lnTo>
                        <a:lnTo>
                          <a:pt x="1245" y="893"/>
                        </a:lnTo>
                        <a:lnTo>
                          <a:pt x="1192" y="955"/>
                        </a:lnTo>
                        <a:lnTo>
                          <a:pt x="1083" y="977"/>
                        </a:lnTo>
                        <a:lnTo>
                          <a:pt x="1005" y="977"/>
                        </a:lnTo>
                        <a:lnTo>
                          <a:pt x="910" y="988"/>
                        </a:lnTo>
                        <a:lnTo>
                          <a:pt x="907" y="1018"/>
                        </a:lnTo>
                        <a:lnTo>
                          <a:pt x="910" y="1080"/>
                        </a:lnTo>
                        <a:lnTo>
                          <a:pt x="900" y="1121"/>
                        </a:lnTo>
                        <a:lnTo>
                          <a:pt x="850" y="1126"/>
                        </a:lnTo>
                        <a:lnTo>
                          <a:pt x="794" y="1134"/>
                        </a:lnTo>
                        <a:lnTo>
                          <a:pt x="734" y="1175"/>
                        </a:lnTo>
                        <a:lnTo>
                          <a:pt x="662" y="1175"/>
                        </a:lnTo>
                        <a:lnTo>
                          <a:pt x="595" y="1170"/>
                        </a:lnTo>
                        <a:lnTo>
                          <a:pt x="500" y="1148"/>
                        </a:lnTo>
                        <a:lnTo>
                          <a:pt x="391" y="1156"/>
                        </a:lnTo>
                        <a:lnTo>
                          <a:pt x="282" y="1178"/>
                        </a:lnTo>
                        <a:lnTo>
                          <a:pt x="179" y="1162"/>
                        </a:lnTo>
                        <a:lnTo>
                          <a:pt x="112" y="1102"/>
                        </a:lnTo>
                        <a:lnTo>
                          <a:pt x="116" y="1034"/>
                        </a:lnTo>
                        <a:lnTo>
                          <a:pt x="91" y="950"/>
                        </a:lnTo>
                        <a:lnTo>
                          <a:pt x="74" y="844"/>
                        </a:lnTo>
                        <a:lnTo>
                          <a:pt x="42" y="744"/>
                        </a:lnTo>
                        <a:lnTo>
                          <a:pt x="0" y="595"/>
                        </a:lnTo>
                        <a:lnTo>
                          <a:pt x="7" y="444"/>
                        </a:lnTo>
                        <a:lnTo>
                          <a:pt x="7" y="314"/>
                        </a:lnTo>
                        <a:lnTo>
                          <a:pt x="14" y="222"/>
                        </a:lnTo>
                        <a:lnTo>
                          <a:pt x="42" y="181"/>
                        </a:lnTo>
                        <a:lnTo>
                          <a:pt x="102" y="146"/>
                        </a:lnTo>
                        <a:lnTo>
                          <a:pt x="172" y="92"/>
                        </a:lnTo>
                        <a:lnTo>
                          <a:pt x="253" y="59"/>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449280" y="3909960"/>
                    <a:ext cx="302040" cy="387720"/>
                  </a:xfrm>
                  <a:custGeom>
                    <a:avLst/>
                    <a:gdLst/>
                    <a:ahLst/>
                    <a:rect l="0" t="0" r="r" b="b"/>
                    <a:pathLst>
                      <a:path w="839" h="1077">
                        <a:moveTo>
                          <a:pt x="839" y="902"/>
                        </a:moveTo>
                        <a:lnTo>
                          <a:pt x="730" y="891"/>
                        </a:lnTo>
                        <a:lnTo>
                          <a:pt x="639" y="886"/>
                        </a:lnTo>
                        <a:lnTo>
                          <a:pt x="532" y="877"/>
                        </a:lnTo>
                        <a:lnTo>
                          <a:pt x="419" y="867"/>
                        </a:lnTo>
                        <a:lnTo>
                          <a:pt x="367" y="840"/>
                        </a:lnTo>
                        <a:lnTo>
                          <a:pt x="226" y="701"/>
                        </a:lnTo>
                        <a:lnTo>
                          <a:pt x="296" y="741"/>
                        </a:lnTo>
                        <a:lnTo>
                          <a:pt x="345" y="774"/>
                        </a:lnTo>
                        <a:lnTo>
                          <a:pt x="317" y="676"/>
                        </a:lnTo>
                        <a:lnTo>
                          <a:pt x="265" y="639"/>
                        </a:lnTo>
                        <a:lnTo>
                          <a:pt x="186" y="538"/>
                        </a:lnTo>
                        <a:lnTo>
                          <a:pt x="261" y="587"/>
                        </a:lnTo>
                        <a:lnTo>
                          <a:pt x="310" y="601"/>
                        </a:lnTo>
                        <a:lnTo>
                          <a:pt x="296" y="530"/>
                        </a:lnTo>
                        <a:lnTo>
                          <a:pt x="247" y="476"/>
                        </a:lnTo>
                        <a:lnTo>
                          <a:pt x="193" y="438"/>
                        </a:lnTo>
                        <a:lnTo>
                          <a:pt x="140" y="322"/>
                        </a:lnTo>
                        <a:lnTo>
                          <a:pt x="243" y="417"/>
                        </a:lnTo>
                        <a:lnTo>
                          <a:pt x="296" y="455"/>
                        </a:lnTo>
                        <a:lnTo>
                          <a:pt x="303" y="306"/>
                        </a:lnTo>
                        <a:lnTo>
                          <a:pt x="317" y="243"/>
                        </a:lnTo>
                        <a:lnTo>
                          <a:pt x="353" y="213"/>
                        </a:lnTo>
                        <a:lnTo>
                          <a:pt x="395" y="170"/>
                        </a:lnTo>
                        <a:lnTo>
                          <a:pt x="472" y="151"/>
                        </a:lnTo>
                        <a:lnTo>
                          <a:pt x="507" y="137"/>
                        </a:lnTo>
                        <a:lnTo>
                          <a:pt x="402" y="62"/>
                        </a:lnTo>
                        <a:lnTo>
                          <a:pt x="293" y="81"/>
                        </a:lnTo>
                        <a:lnTo>
                          <a:pt x="219" y="113"/>
                        </a:lnTo>
                        <a:lnTo>
                          <a:pt x="193" y="145"/>
                        </a:lnTo>
                        <a:lnTo>
                          <a:pt x="215" y="97"/>
                        </a:lnTo>
                        <a:lnTo>
                          <a:pt x="257" y="81"/>
                        </a:lnTo>
                        <a:lnTo>
                          <a:pt x="324" y="62"/>
                        </a:lnTo>
                        <a:lnTo>
                          <a:pt x="374" y="54"/>
                        </a:lnTo>
                        <a:lnTo>
                          <a:pt x="345" y="40"/>
                        </a:lnTo>
                        <a:lnTo>
                          <a:pt x="293" y="29"/>
                        </a:lnTo>
                        <a:lnTo>
                          <a:pt x="247" y="16"/>
                        </a:lnTo>
                        <a:lnTo>
                          <a:pt x="219" y="0"/>
                        </a:lnTo>
                        <a:lnTo>
                          <a:pt x="158" y="35"/>
                        </a:lnTo>
                        <a:lnTo>
                          <a:pt x="123" y="62"/>
                        </a:lnTo>
                        <a:lnTo>
                          <a:pt x="84" y="97"/>
                        </a:lnTo>
                        <a:lnTo>
                          <a:pt x="35" y="118"/>
                        </a:lnTo>
                        <a:lnTo>
                          <a:pt x="24" y="156"/>
                        </a:lnTo>
                        <a:lnTo>
                          <a:pt x="0" y="213"/>
                        </a:lnTo>
                        <a:lnTo>
                          <a:pt x="0" y="309"/>
                        </a:lnTo>
                        <a:lnTo>
                          <a:pt x="7" y="406"/>
                        </a:lnTo>
                        <a:lnTo>
                          <a:pt x="10" y="514"/>
                        </a:lnTo>
                        <a:lnTo>
                          <a:pt x="38" y="628"/>
                        </a:lnTo>
                        <a:lnTo>
                          <a:pt x="66" y="744"/>
                        </a:lnTo>
                        <a:lnTo>
                          <a:pt x="84" y="848"/>
                        </a:lnTo>
                        <a:lnTo>
                          <a:pt x="109" y="918"/>
                        </a:lnTo>
                        <a:lnTo>
                          <a:pt x="105" y="986"/>
                        </a:lnTo>
                        <a:lnTo>
                          <a:pt x="116" y="1021"/>
                        </a:lnTo>
                        <a:lnTo>
                          <a:pt x="154" y="1048"/>
                        </a:lnTo>
                        <a:lnTo>
                          <a:pt x="197" y="1072"/>
                        </a:lnTo>
                        <a:lnTo>
                          <a:pt x="261" y="1077"/>
                        </a:lnTo>
                        <a:lnTo>
                          <a:pt x="293" y="1064"/>
                        </a:lnTo>
                        <a:lnTo>
                          <a:pt x="335" y="1061"/>
                        </a:lnTo>
                        <a:lnTo>
                          <a:pt x="434" y="1045"/>
                        </a:lnTo>
                        <a:lnTo>
                          <a:pt x="391" y="1007"/>
                        </a:lnTo>
                        <a:lnTo>
                          <a:pt x="345" y="948"/>
                        </a:lnTo>
                        <a:lnTo>
                          <a:pt x="412" y="988"/>
                        </a:lnTo>
                        <a:lnTo>
                          <a:pt x="469" y="1023"/>
                        </a:lnTo>
                        <a:lnTo>
                          <a:pt x="500" y="1045"/>
                        </a:lnTo>
                        <a:lnTo>
                          <a:pt x="553" y="1064"/>
                        </a:lnTo>
                        <a:lnTo>
                          <a:pt x="610" y="1064"/>
                        </a:lnTo>
                        <a:lnTo>
                          <a:pt x="670" y="1064"/>
                        </a:lnTo>
                        <a:lnTo>
                          <a:pt x="699" y="1053"/>
                        </a:lnTo>
                        <a:lnTo>
                          <a:pt x="713" y="1040"/>
                        </a:lnTo>
                        <a:lnTo>
                          <a:pt x="642" y="1010"/>
                        </a:lnTo>
                        <a:lnTo>
                          <a:pt x="571" y="956"/>
                        </a:lnTo>
                        <a:lnTo>
                          <a:pt x="550" y="931"/>
                        </a:lnTo>
                        <a:lnTo>
                          <a:pt x="606" y="942"/>
                        </a:lnTo>
                        <a:lnTo>
                          <a:pt x="691" y="996"/>
                        </a:lnTo>
                        <a:lnTo>
                          <a:pt x="730" y="1021"/>
                        </a:lnTo>
                        <a:lnTo>
                          <a:pt x="811" y="1023"/>
                        </a:lnTo>
                        <a:lnTo>
                          <a:pt x="839" y="1013"/>
                        </a:lnTo>
                        <a:lnTo>
                          <a:pt x="839" y="986"/>
                        </a:lnTo>
                        <a:lnTo>
                          <a:pt x="839" y="902"/>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4" name=""/>
                  <p:cNvSpPr/>
                  <p:nvPr/>
                </p:nvSpPr>
                <p:spPr>
                  <a:xfrm>
                    <a:off x="473040" y="4106880"/>
                    <a:ext cx="81360" cy="174960"/>
                  </a:xfrm>
                  <a:custGeom>
                    <a:avLst/>
                    <a:gdLst/>
                    <a:ahLst/>
                    <a:rect l="0" t="0" r="r" b="b"/>
                    <a:pathLst>
                      <a:path w="226" h="486">
                        <a:moveTo>
                          <a:pt x="226" y="486"/>
                        </a:moveTo>
                        <a:lnTo>
                          <a:pt x="187" y="469"/>
                        </a:lnTo>
                        <a:lnTo>
                          <a:pt x="143" y="431"/>
                        </a:lnTo>
                        <a:lnTo>
                          <a:pt x="104" y="361"/>
                        </a:lnTo>
                        <a:lnTo>
                          <a:pt x="86" y="299"/>
                        </a:lnTo>
                        <a:lnTo>
                          <a:pt x="58" y="233"/>
                        </a:lnTo>
                        <a:lnTo>
                          <a:pt x="42" y="168"/>
                        </a:lnTo>
                        <a:lnTo>
                          <a:pt x="17" y="70"/>
                        </a:lnTo>
                        <a:lnTo>
                          <a:pt x="0" y="0"/>
                        </a:lnTo>
                        <a:lnTo>
                          <a:pt x="46" y="143"/>
                        </a:lnTo>
                        <a:lnTo>
                          <a:pt x="86" y="253"/>
                        </a:lnTo>
                        <a:lnTo>
                          <a:pt x="129" y="328"/>
                        </a:lnTo>
                        <a:lnTo>
                          <a:pt x="198" y="407"/>
                        </a:lnTo>
                        <a:lnTo>
                          <a:pt x="226" y="48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566640" y="3959280"/>
                    <a:ext cx="349560" cy="267120"/>
                  </a:xfrm>
                  <a:custGeom>
                    <a:avLst/>
                    <a:gdLst/>
                    <a:ahLst/>
                    <a:rect l="0" t="0" r="r" b="b"/>
                    <a:pathLst>
                      <a:path w="971" h="742">
                        <a:moveTo>
                          <a:pt x="179" y="0"/>
                        </a:moveTo>
                        <a:lnTo>
                          <a:pt x="295" y="27"/>
                        </a:lnTo>
                        <a:lnTo>
                          <a:pt x="344" y="62"/>
                        </a:lnTo>
                        <a:lnTo>
                          <a:pt x="376" y="137"/>
                        </a:lnTo>
                        <a:lnTo>
                          <a:pt x="376" y="206"/>
                        </a:lnTo>
                        <a:lnTo>
                          <a:pt x="358" y="241"/>
                        </a:lnTo>
                        <a:lnTo>
                          <a:pt x="369" y="311"/>
                        </a:lnTo>
                        <a:lnTo>
                          <a:pt x="369" y="363"/>
                        </a:lnTo>
                        <a:lnTo>
                          <a:pt x="355" y="376"/>
                        </a:lnTo>
                        <a:lnTo>
                          <a:pt x="369" y="395"/>
                        </a:lnTo>
                        <a:lnTo>
                          <a:pt x="383" y="417"/>
                        </a:lnTo>
                        <a:lnTo>
                          <a:pt x="358" y="436"/>
                        </a:lnTo>
                        <a:lnTo>
                          <a:pt x="358" y="457"/>
                        </a:lnTo>
                        <a:lnTo>
                          <a:pt x="404" y="466"/>
                        </a:lnTo>
                        <a:lnTo>
                          <a:pt x="397" y="484"/>
                        </a:lnTo>
                        <a:lnTo>
                          <a:pt x="435" y="498"/>
                        </a:lnTo>
                        <a:lnTo>
                          <a:pt x="474" y="490"/>
                        </a:lnTo>
                        <a:lnTo>
                          <a:pt x="503" y="498"/>
                        </a:lnTo>
                        <a:lnTo>
                          <a:pt x="619" y="509"/>
                        </a:lnTo>
                        <a:lnTo>
                          <a:pt x="721" y="506"/>
                        </a:lnTo>
                        <a:lnTo>
                          <a:pt x="788" y="509"/>
                        </a:lnTo>
                        <a:lnTo>
                          <a:pt x="830" y="528"/>
                        </a:lnTo>
                        <a:lnTo>
                          <a:pt x="935" y="528"/>
                        </a:lnTo>
                        <a:lnTo>
                          <a:pt x="971" y="558"/>
                        </a:lnTo>
                        <a:lnTo>
                          <a:pt x="971" y="591"/>
                        </a:lnTo>
                        <a:lnTo>
                          <a:pt x="967" y="640"/>
                        </a:lnTo>
                        <a:lnTo>
                          <a:pt x="883" y="659"/>
                        </a:lnTo>
                        <a:lnTo>
                          <a:pt x="883" y="623"/>
                        </a:lnTo>
                        <a:lnTo>
                          <a:pt x="879" y="599"/>
                        </a:lnTo>
                        <a:lnTo>
                          <a:pt x="862" y="586"/>
                        </a:lnTo>
                        <a:lnTo>
                          <a:pt x="855" y="615"/>
                        </a:lnTo>
                        <a:lnTo>
                          <a:pt x="851" y="659"/>
                        </a:lnTo>
                        <a:lnTo>
                          <a:pt x="830" y="683"/>
                        </a:lnTo>
                        <a:lnTo>
                          <a:pt x="791" y="713"/>
                        </a:lnTo>
                        <a:lnTo>
                          <a:pt x="707" y="729"/>
                        </a:lnTo>
                        <a:lnTo>
                          <a:pt x="640" y="737"/>
                        </a:lnTo>
                        <a:lnTo>
                          <a:pt x="559" y="742"/>
                        </a:lnTo>
                        <a:lnTo>
                          <a:pt x="661" y="696"/>
                        </a:lnTo>
                        <a:lnTo>
                          <a:pt x="725" y="659"/>
                        </a:lnTo>
                        <a:lnTo>
                          <a:pt x="742" y="623"/>
                        </a:lnTo>
                        <a:lnTo>
                          <a:pt x="732" y="599"/>
                        </a:lnTo>
                        <a:lnTo>
                          <a:pt x="675" y="594"/>
                        </a:lnTo>
                        <a:lnTo>
                          <a:pt x="654" y="623"/>
                        </a:lnTo>
                        <a:lnTo>
                          <a:pt x="640" y="661"/>
                        </a:lnTo>
                        <a:lnTo>
                          <a:pt x="584" y="699"/>
                        </a:lnTo>
                        <a:lnTo>
                          <a:pt x="528" y="734"/>
                        </a:lnTo>
                        <a:lnTo>
                          <a:pt x="467" y="737"/>
                        </a:lnTo>
                        <a:lnTo>
                          <a:pt x="383" y="734"/>
                        </a:lnTo>
                        <a:lnTo>
                          <a:pt x="474" y="677"/>
                        </a:lnTo>
                        <a:lnTo>
                          <a:pt x="545" y="648"/>
                        </a:lnTo>
                        <a:lnTo>
                          <a:pt x="595" y="615"/>
                        </a:lnTo>
                        <a:lnTo>
                          <a:pt x="612" y="594"/>
                        </a:lnTo>
                        <a:lnTo>
                          <a:pt x="609" y="569"/>
                        </a:lnTo>
                        <a:lnTo>
                          <a:pt x="573" y="567"/>
                        </a:lnTo>
                        <a:lnTo>
                          <a:pt x="542" y="591"/>
                        </a:lnTo>
                        <a:lnTo>
                          <a:pt x="517" y="621"/>
                        </a:lnTo>
                        <a:lnTo>
                          <a:pt x="467" y="661"/>
                        </a:lnTo>
                        <a:lnTo>
                          <a:pt x="414" y="683"/>
                        </a:lnTo>
                        <a:lnTo>
                          <a:pt x="369" y="699"/>
                        </a:lnTo>
                        <a:lnTo>
                          <a:pt x="323" y="715"/>
                        </a:lnTo>
                        <a:lnTo>
                          <a:pt x="270" y="723"/>
                        </a:lnTo>
                        <a:lnTo>
                          <a:pt x="207" y="723"/>
                        </a:lnTo>
                        <a:lnTo>
                          <a:pt x="151" y="715"/>
                        </a:lnTo>
                        <a:lnTo>
                          <a:pt x="284" y="683"/>
                        </a:lnTo>
                        <a:lnTo>
                          <a:pt x="333" y="661"/>
                        </a:lnTo>
                        <a:lnTo>
                          <a:pt x="369" y="623"/>
                        </a:lnTo>
                        <a:lnTo>
                          <a:pt x="376" y="594"/>
                        </a:lnTo>
                        <a:lnTo>
                          <a:pt x="344" y="594"/>
                        </a:lnTo>
                        <a:lnTo>
                          <a:pt x="326" y="621"/>
                        </a:lnTo>
                        <a:lnTo>
                          <a:pt x="302" y="645"/>
                        </a:lnTo>
                        <a:lnTo>
                          <a:pt x="260" y="669"/>
                        </a:lnTo>
                        <a:lnTo>
                          <a:pt x="214" y="696"/>
                        </a:lnTo>
                        <a:lnTo>
                          <a:pt x="154" y="713"/>
                        </a:lnTo>
                        <a:lnTo>
                          <a:pt x="105" y="699"/>
                        </a:lnTo>
                        <a:lnTo>
                          <a:pt x="84" y="683"/>
                        </a:lnTo>
                        <a:lnTo>
                          <a:pt x="49" y="631"/>
                        </a:lnTo>
                        <a:lnTo>
                          <a:pt x="115" y="621"/>
                        </a:lnTo>
                        <a:lnTo>
                          <a:pt x="246" y="607"/>
                        </a:lnTo>
                        <a:lnTo>
                          <a:pt x="323" y="583"/>
                        </a:lnTo>
                        <a:lnTo>
                          <a:pt x="365" y="552"/>
                        </a:lnTo>
                        <a:lnTo>
                          <a:pt x="383" y="520"/>
                        </a:lnTo>
                        <a:lnTo>
                          <a:pt x="386" y="506"/>
                        </a:lnTo>
                        <a:lnTo>
                          <a:pt x="365" y="506"/>
                        </a:lnTo>
                        <a:lnTo>
                          <a:pt x="337" y="528"/>
                        </a:lnTo>
                        <a:lnTo>
                          <a:pt x="298" y="572"/>
                        </a:lnTo>
                        <a:lnTo>
                          <a:pt x="203" y="599"/>
                        </a:lnTo>
                        <a:lnTo>
                          <a:pt x="115" y="618"/>
                        </a:lnTo>
                        <a:lnTo>
                          <a:pt x="49" y="631"/>
                        </a:lnTo>
                        <a:lnTo>
                          <a:pt x="21" y="549"/>
                        </a:lnTo>
                        <a:lnTo>
                          <a:pt x="17" y="490"/>
                        </a:lnTo>
                        <a:lnTo>
                          <a:pt x="17" y="436"/>
                        </a:lnTo>
                        <a:lnTo>
                          <a:pt x="105" y="474"/>
                        </a:lnTo>
                        <a:lnTo>
                          <a:pt x="207" y="490"/>
                        </a:lnTo>
                        <a:lnTo>
                          <a:pt x="295" y="484"/>
                        </a:lnTo>
                        <a:lnTo>
                          <a:pt x="312" y="476"/>
                        </a:lnTo>
                        <a:lnTo>
                          <a:pt x="323" y="457"/>
                        </a:lnTo>
                        <a:lnTo>
                          <a:pt x="277" y="457"/>
                        </a:lnTo>
                        <a:lnTo>
                          <a:pt x="224" y="468"/>
                        </a:lnTo>
                        <a:lnTo>
                          <a:pt x="101" y="474"/>
                        </a:lnTo>
                        <a:lnTo>
                          <a:pt x="17" y="436"/>
                        </a:lnTo>
                        <a:lnTo>
                          <a:pt x="10" y="360"/>
                        </a:lnTo>
                        <a:lnTo>
                          <a:pt x="7" y="309"/>
                        </a:lnTo>
                        <a:lnTo>
                          <a:pt x="0" y="255"/>
                        </a:lnTo>
                        <a:lnTo>
                          <a:pt x="10" y="167"/>
                        </a:lnTo>
                        <a:lnTo>
                          <a:pt x="38" y="137"/>
                        </a:lnTo>
                        <a:lnTo>
                          <a:pt x="115" y="97"/>
                        </a:lnTo>
                        <a:lnTo>
                          <a:pt x="87" y="100"/>
                        </a:lnTo>
                        <a:lnTo>
                          <a:pt x="10" y="129"/>
                        </a:lnTo>
                        <a:lnTo>
                          <a:pt x="42" y="70"/>
                        </a:lnTo>
                        <a:lnTo>
                          <a:pt x="66" y="43"/>
                        </a:lnTo>
                        <a:lnTo>
                          <a:pt x="87" y="24"/>
                        </a:lnTo>
                        <a:lnTo>
                          <a:pt x="179"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588960" y="4060800"/>
                    <a:ext cx="81360" cy="55800"/>
                  </a:xfrm>
                  <a:custGeom>
                    <a:avLst/>
                    <a:gdLst/>
                    <a:ahLst/>
                    <a:rect l="0" t="0" r="r" b="b"/>
                    <a:pathLst>
                      <a:path w="226" h="155">
                        <a:moveTo>
                          <a:pt x="226" y="0"/>
                        </a:moveTo>
                        <a:lnTo>
                          <a:pt x="226" y="11"/>
                        </a:lnTo>
                        <a:lnTo>
                          <a:pt x="198" y="41"/>
                        </a:lnTo>
                        <a:lnTo>
                          <a:pt x="170" y="57"/>
                        </a:lnTo>
                        <a:lnTo>
                          <a:pt x="109" y="91"/>
                        </a:lnTo>
                        <a:lnTo>
                          <a:pt x="85" y="108"/>
                        </a:lnTo>
                        <a:lnTo>
                          <a:pt x="28" y="141"/>
                        </a:lnTo>
                        <a:lnTo>
                          <a:pt x="92" y="127"/>
                        </a:lnTo>
                        <a:lnTo>
                          <a:pt x="152" y="108"/>
                        </a:lnTo>
                        <a:lnTo>
                          <a:pt x="212" y="108"/>
                        </a:lnTo>
                        <a:lnTo>
                          <a:pt x="209" y="122"/>
                        </a:lnTo>
                        <a:lnTo>
                          <a:pt x="109" y="136"/>
                        </a:lnTo>
                        <a:lnTo>
                          <a:pt x="57" y="149"/>
                        </a:lnTo>
                        <a:lnTo>
                          <a:pt x="28" y="155"/>
                        </a:lnTo>
                        <a:lnTo>
                          <a:pt x="3" y="147"/>
                        </a:lnTo>
                        <a:lnTo>
                          <a:pt x="0" y="130"/>
                        </a:lnTo>
                        <a:lnTo>
                          <a:pt x="21" y="116"/>
                        </a:lnTo>
                        <a:lnTo>
                          <a:pt x="49" y="94"/>
                        </a:lnTo>
                        <a:lnTo>
                          <a:pt x="81" y="66"/>
                        </a:lnTo>
                        <a:lnTo>
                          <a:pt x="116" y="30"/>
                        </a:lnTo>
                        <a:lnTo>
                          <a:pt x="155" y="11"/>
                        </a:lnTo>
                        <a:lnTo>
                          <a:pt x="198" y="2"/>
                        </a:lnTo>
                        <a:lnTo>
                          <a:pt x="226" y="0"/>
                        </a:lnTo>
                        <a:close/>
                      </a:path>
                    </a:pathLst>
                  </a:custGeom>
                  <a:solidFill>
                    <a:srgbClr val="c0c0c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17" name=""/>
                  <p:cNvSpPr/>
                  <p:nvPr/>
                </p:nvSpPr>
                <p:spPr>
                  <a:xfrm>
                    <a:off x="593640" y="4010040"/>
                    <a:ext cx="73440" cy="73440"/>
                  </a:xfrm>
                  <a:custGeom>
                    <a:avLst/>
                    <a:gdLst/>
                    <a:ahLst/>
                    <a:rect l="0" t="0" r="r" b="b"/>
                    <a:pathLst>
                      <a:path w="204" h="204">
                        <a:moveTo>
                          <a:pt x="165" y="0"/>
                        </a:moveTo>
                        <a:lnTo>
                          <a:pt x="194" y="2"/>
                        </a:lnTo>
                        <a:lnTo>
                          <a:pt x="204" y="21"/>
                        </a:lnTo>
                        <a:lnTo>
                          <a:pt x="201" y="37"/>
                        </a:lnTo>
                        <a:lnTo>
                          <a:pt x="187" y="60"/>
                        </a:lnTo>
                        <a:lnTo>
                          <a:pt x="162" y="65"/>
                        </a:lnTo>
                        <a:lnTo>
                          <a:pt x="114" y="90"/>
                        </a:lnTo>
                        <a:lnTo>
                          <a:pt x="72" y="114"/>
                        </a:lnTo>
                        <a:lnTo>
                          <a:pt x="42" y="152"/>
                        </a:lnTo>
                        <a:lnTo>
                          <a:pt x="10" y="191"/>
                        </a:lnTo>
                        <a:lnTo>
                          <a:pt x="0" y="204"/>
                        </a:lnTo>
                        <a:lnTo>
                          <a:pt x="10" y="158"/>
                        </a:lnTo>
                        <a:lnTo>
                          <a:pt x="14" y="117"/>
                        </a:lnTo>
                        <a:lnTo>
                          <a:pt x="32" y="82"/>
                        </a:lnTo>
                        <a:lnTo>
                          <a:pt x="61" y="48"/>
                        </a:lnTo>
                        <a:lnTo>
                          <a:pt x="136" y="5"/>
                        </a:lnTo>
                        <a:lnTo>
                          <a:pt x="165" y="0"/>
                        </a:lnTo>
                        <a:close/>
                      </a:path>
                    </a:pathLst>
                  </a:custGeom>
                  <a:solidFill>
                    <a:srgbClr val="c0c0c0"/>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418" name=""/>
                  <p:cNvSpPr/>
                  <p:nvPr/>
                </p:nvSpPr>
                <p:spPr>
                  <a:xfrm>
                    <a:off x="601560" y="3929040"/>
                    <a:ext cx="78120" cy="41760"/>
                  </a:xfrm>
                  <a:custGeom>
                    <a:avLst/>
                    <a:gdLst/>
                    <a:ahLst/>
                    <a:rect l="0" t="0" r="r" b="b"/>
                    <a:pathLst>
                      <a:path w="217" h="116">
                        <a:moveTo>
                          <a:pt x="217" y="116"/>
                        </a:moveTo>
                        <a:lnTo>
                          <a:pt x="178" y="91"/>
                        </a:lnTo>
                        <a:lnTo>
                          <a:pt x="119" y="73"/>
                        </a:lnTo>
                        <a:lnTo>
                          <a:pt x="76" y="65"/>
                        </a:lnTo>
                        <a:lnTo>
                          <a:pt x="0" y="0"/>
                        </a:lnTo>
                        <a:lnTo>
                          <a:pt x="59" y="25"/>
                        </a:lnTo>
                        <a:lnTo>
                          <a:pt x="108" y="42"/>
                        </a:lnTo>
                        <a:lnTo>
                          <a:pt x="147" y="56"/>
                        </a:lnTo>
                        <a:lnTo>
                          <a:pt x="164" y="73"/>
                        </a:lnTo>
                        <a:lnTo>
                          <a:pt x="217" y="116"/>
                        </a:lnTo>
                        <a:close/>
                      </a:path>
                    </a:pathLst>
                  </a:custGeom>
                  <a:solidFill>
                    <a:srgbClr val="e0e0e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19" name=""/>
                  <p:cNvSpPr/>
                  <p:nvPr/>
                </p:nvSpPr>
                <p:spPr>
                  <a:xfrm>
                    <a:off x="708120" y="4016520"/>
                    <a:ext cx="39960" cy="114840"/>
                  </a:xfrm>
                  <a:custGeom>
                    <a:avLst/>
                    <a:gdLst/>
                    <a:ahLst/>
                    <a:rect l="0" t="0" r="r" b="b"/>
                    <a:pathLst>
                      <a:path w="111" h="319">
                        <a:moveTo>
                          <a:pt x="111" y="319"/>
                        </a:moveTo>
                        <a:lnTo>
                          <a:pt x="57" y="319"/>
                        </a:lnTo>
                        <a:lnTo>
                          <a:pt x="35" y="314"/>
                        </a:lnTo>
                        <a:lnTo>
                          <a:pt x="35" y="300"/>
                        </a:lnTo>
                        <a:lnTo>
                          <a:pt x="24" y="292"/>
                        </a:lnTo>
                        <a:lnTo>
                          <a:pt x="7" y="278"/>
                        </a:lnTo>
                        <a:lnTo>
                          <a:pt x="17" y="267"/>
                        </a:lnTo>
                        <a:lnTo>
                          <a:pt x="17" y="254"/>
                        </a:lnTo>
                        <a:lnTo>
                          <a:pt x="3" y="231"/>
                        </a:lnTo>
                        <a:lnTo>
                          <a:pt x="3" y="212"/>
                        </a:lnTo>
                        <a:lnTo>
                          <a:pt x="10" y="188"/>
                        </a:lnTo>
                        <a:lnTo>
                          <a:pt x="10" y="139"/>
                        </a:lnTo>
                        <a:lnTo>
                          <a:pt x="0" y="93"/>
                        </a:lnTo>
                        <a:lnTo>
                          <a:pt x="3" y="59"/>
                        </a:lnTo>
                        <a:lnTo>
                          <a:pt x="3" y="0"/>
                        </a:lnTo>
                        <a:lnTo>
                          <a:pt x="35" y="87"/>
                        </a:lnTo>
                        <a:lnTo>
                          <a:pt x="68" y="171"/>
                        </a:lnTo>
                        <a:lnTo>
                          <a:pt x="89" y="259"/>
                        </a:lnTo>
                        <a:lnTo>
                          <a:pt x="111" y="31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0" name=""/>
                  <p:cNvSpPr/>
                  <p:nvPr/>
                </p:nvSpPr>
                <p:spPr>
                  <a:xfrm>
                    <a:off x="595440" y="4145040"/>
                    <a:ext cx="79560" cy="25920"/>
                  </a:xfrm>
                  <a:custGeom>
                    <a:avLst/>
                    <a:gdLst/>
                    <a:ahLst/>
                    <a:rect l="0" t="0" r="r" b="b"/>
                    <a:pathLst>
                      <a:path w="221" h="72">
                        <a:moveTo>
                          <a:pt x="42" y="36"/>
                        </a:moveTo>
                        <a:lnTo>
                          <a:pt x="96" y="13"/>
                        </a:lnTo>
                        <a:lnTo>
                          <a:pt x="139" y="4"/>
                        </a:lnTo>
                        <a:lnTo>
                          <a:pt x="196" y="0"/>
                        </a:lnTo>
                        <a:lnTo>
                          <a:pt x="221" y="4"/>
                        </a:lnTo>
                        <a:lnTo>
                          <a:pt x="210" y="27"/>
                        </a:lnTo>
                        <a:lnTo>
                          <a:pt x="185" y="45"/>
                        </a:lnTo>
                        <a:lnTo>
                          <a:pt x="136" y="59"/>
                        </a:lnTo>
                        <a:lnTo>
                          <a:pt x="53" y="72"/>
                        </a:lnTo>
                        <a:lnTo>
                          <a:pt x="0" y="68"/>
                        </a:lnTo>
                        <a:lnTo>
                          <a:pt x="42" y="36"/>
                        </a:lnTo>
                        <a:close/>
                      </a:path>
                    </a:pathLst>
                  </a:custGeom>
                  <a:solidFill>
                    <a:srgbClr val="c0c0c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21" name=""/>
                  <p:cNvSpPr/>
                  <p:nvPr/>
                </p:nvSpPr>
                <p:spPr>
                  <a:xfrm>
                    <a:off x="703440" y="4157640"/>
                    <a:ext cx="43200" cy="43200"/>
                  </a:xfrm>
                  <a:custGeom>
                    <a:avLst/>
                    <a:gdLst/>
                    <a:ahLst/>
                    <a:rect l="0" t="0" r="r" b="b"/>
                    <a:pathLst>
                      <a:path w="120" h="120">
                        <a:moveTo>
                          <a:pt x="67" y="32"/>
                        </a:moveTo>
                        <a:lnTo>
                          <a:pt x="81" y="8"/>
                        </a:lnTo>
                        <a:lnTo>
                          <a:pt x="102" y="0"/>
                        </a:lnTo>
                        <a:lnTo>
                          <a:pt x="116" y="5"/>
                        </a:lnTo>
                        <a:lnTo>
                          <a:pt x="120" y="18"/>
                        </a:lnTo>
                        <a:lnTo>
                          <a:pt x="113" y="40"/>
                        </a:lnTo>
                        <a:lnTo>
                          <a:pt x="92" y="65"/>
                        </a:lnTo>
                        <a:lnTo>
                          <a:pt x="71" y="82"/>
                        </a:lnTo>
                        <a:lnTo>
                          <a:pt x="42" y="103"/>
                        </a:lnTo>
                        <a:lnTo>
                          <a:pt x="0" y="120"/>
                        </a:lnTo>
                        <a:lnTo>
                          <a:pt x="38" y="84"/>
                        </a:lnTo>
                        <a:lnTo>
                          <a:pt x="52" y="59"/>
                        </a:lnTo>
                        <a:lnTo>
                          <a:pt x="67" y="32"/>
                        </a:lnTo>
                        <a:close/>
                      </a:path>
                    </a:pathLst>
                  </a:custGeom>
                  <a:solidFill>
                    <a:srgbClr val="c0c0c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422" name=""/>
                  <p:cNvSpPr/>
                  <p:nvPr/>
                </p:nvSpPr>
                <p:spPr>
                  <a:xfrm>
                    <a:off x="539640" y="3890880"/>
                    <a:ext cx="119520" cy="52920"/>
                  </a:xfrm>
                  <a:custGeom>
                    <a:avLst/>
                    <a:gdLst/>
                    <a:ahLst/>
                    <a:rect l="0" t="0" r="r" b="b"/>
                    <a:pathLst>
                      <a:path w="332" h="147">
                        <a:moveTo>
                          <a:pt x="332" y="147"/>
                        </a:moveTo>
                        <a:lnTo>
                          <a:pt x="318" y="85"/>
                        </a:lnTo>
                        <a:lnTo>
                          <a:pt x="251" y="64"/>
                        </a:lnTo>
                        <a:lnTo>
                          <a:pt x="155" y="38"/>
                        </a:lnTo>
                        <a:lnTo>
                          <a:pt x="92" y="18"/>
                        </a:lnTo>
                        <a:lnTo>
                          <a:pt x="24" y="0"/>
                        </a:lnTo>
                        <a:lnTo>
                          <a:pt x="0" y="43"/>
                        </a:lnTo>
                        <a:lnTo>
                          <a:pt x="63" y="64"/>
                        </a:lnTo>
                        <a:lnTo>
                          <a:pt x="134" y="83"/>
                        </a:lnTo>
                        <a:lnTo>
                          <a:pt x="187" y="96"/>
                        </a:lnTo>
                        <a:lnTo>
                          <a:pt x="255" y="121"/>
                        </a:lnTo>
                        <a:lnTo>
                          <a:pt x="332" y="147"/>
                        </a:lnTo>
                        <a:close/>
                      </a:path>
                    </a:pathLst>
                  </a:custGeom>
                  <a:solidFill>
                    <a:srgbClr val="e0e0e0"/>
                  </a:solidFill>
                  <a:ln w="0">
                    <a:noFill/>
                  </a:ln>
                </p:spPr>
                <p:txBody>
                  <a:bodyPr lIns="90000" rIns="90000" tIns="7920" bIns="7920" anchor="t">
                    <a:noAutofit/>
                  </a:bodyPr>
                  <a:p>
                    <a:endParaRPr b="0" lang="en-US" sz="1800" spc="-1" strike="noStrike">
                      <a:solidFill>
                        <a:srgbClr val="000000"/>
                      </a:solidFill>
                      <a:latin typeface="Arial"/>
                    </a:endParaRPr>
                  </a:p>
                </p:txBody>
              </p:sp>
            </p:grpSp>
          </p:grpSp>
          <p:grpSp>
            <p:nvGrpSpPr>
              <p:cNvPr id="423" name=""/>
              <p:cNvGrpSpPr/>
              <p:nvPr/>
            </p:nvGrpSpPr>
            <p:grpSpPr>
              <a:xfrm>
                <a:off x="384120" y="4176720"/>
                <a:ext cx="267120" cy="276480"/>
                <a:chOff x="384120" y="4176720"/>
                <a:chExt cx="267120" cy="276480"/>
              </a:xfrm>
            </p:grpSpPr>
            <p:sp>
              <p:nvSpPr>
                <p:cNvPr id="424" name=""/>
                <p:cNvSpPr/>
                <p:nvPr/>
              </p:nvSpPr>
              <p:spPr>
                <a:xfrm>
                  <a:off x="384120" y="4176720"/>
                  <a:ext cx="267120" cy="276480"/>
                </a:xfrm>
                <a:custGeom>
                  <a:avLst/>
                  <a:gdLst/>
                  <a:ahLst/>
                  <a:rect l="0" t="0" r="r" b="b"/>
                  <a:pathLst>
                    <a:path w="742" h="768">
                      <a:moveTo>
                        <a:pt x="410" y="113"/>
                      </a:moveTo>
                      <a:lnTo>
                        <a:pt x="276" y="105"/>
                      </a:lnTo>
                      <a:lnTo>
                        <a:pt x="195" y="89"/>
                      </a:lnTo>
                      <a:lnTo>
                        <a:pt x="169" y="59"/>
                      </a:lnTo>
                      <a:lnTo>
                        <a:pt x="169" y="35"/>
                      </a:lnTo>
                      <a:lnTo>
                        <a:pt x="144" y="13"/>
                      </a:lnTo>
                      <a:lnTo>
                        <a:pt x="70" y="0"/>
                      </a:lnTo>
                      <a:lnTo>
                        <a:pt x="0" y="5"/>
                      </a:lnTo>
                      <a:lnTo>
                        <a:pt x="88" y="597"/>
                      </a:lnTo>
                      <a:lnTo>
                        <a:pt x="144" y="651"/>
                      </a:lnTo>
                      <a:lnTo>
                        <a:pt x="223" y="705"/>
                      </a:lnTo>
                      <a:lnTo>
                        <a:pt x="329" y="746"/>
                      </a:lnTo>
                      <a:lnTo>
                        <a:pt x="456" y="760"/>
                      </a:lnTo>
                      <a:lnTo>
                        <a:pt x="622" y="768"/>
                      </a:lnTo>
                      <a:lnTo>
                        <a:pt x="721" y="754"/>
                      </a:lnTo>
                      <a:lnTo>
                        <a:pt x="742" y="714"/>
                      </a:lnTo>
                      <a:lnTo>
                        <a:pt x="728" y="659"/>
                      </a:lnTo>
                      <a:lnTo>
                        <a:pt x="661" y="494"/>
                      </a:lnTo>
                      <a:lnTo>
                        <a:pt x="601" y="328"/>
                      </a:lnTo>
                      <a:lnTo>
                        <a:pt x="573" y="203"/>
                      </a:lnTo>
                      <a:lnTo>
                        <a:pt x="573" y="170"/>
                      </a:lnTo>
                      <a:lnTo>
                        <a:pt x="537" y="124"/>
                      </a:lnTo>
                      <a:lnTo>
                        <a:pt x="491" y="113"/>
                      </a:lnTo>
                      <a:lnTo>
                        <a:pt x="410" y="113"/>
                      </a:lnTo>
                      <a:close/>
                    </a:path>
                  </a:pathLst>
                </a:custGeom>
                <a:solidFill>
                  <a:srgbClr val="404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399960" y="4189320"/>
                  <a:ext cx="217800" cy="244800"/>
                </a:xfrm>
                <a:custGeom>
                  <a:avLst/>
                  <a:gdLst/>
                  <a:ahLst/>
                  <a:rect l="0" t="0" r="r" b="b"/>
                  <a:pathLst>
                    <a:path w="605" h="680">
                      <a:moveTo>
                        <a:pt x="397" y="135"/>
                      </a:moveTo>
                      <a:lnTo>
                        <a:pt x="280" y="132"/>
                      </a:lnTo>
                      <a:lnTo>
                        <a:pt x="165" y="116"/>
                      </a:lnTo>
                      <a:lnTo>
                        <a:pt x="94" y="89"/>
                      </a:lnTo>
                      <a:lnTo>
                        <a:pt x="52" y="64"/>
                      </a:lnTo>
                      <a:lnTo>
                        <a:pt x="0" y="0"/>
                      </a:lnTo>
                      <a:lnTo>
                        <a:pt x="77" y="525"/>
                      </a:lnTo>
                      <a:lnTo>
                        <a:pt x="126" y="571"/>
                      </a:lnTo>
                      <a:lnTo>
                        <a:pt x="186" y="617"/>
                      </a:lnTo>
                      <a:lnTo>
                        <a:pt x="256" y="647"/>
                      </a:lnTo>
                      <a:lnTo>
                        <a:pt x="320" y="663"/>
                      </a:lnTo>
                      <a:lnTo>
                        <a:pt x="397" y="671"/>
                      </a:lnTo>
                      <a:lnTo>
                        <a:pt x="468" y="680"/>
                      </a:lnTo>
                      <a:lnTo>
                        <a:pt x="548" y="680"/>
                      </a:lnTo>
                      <a:lnTo>
                        <a:pt x="584" y="671"/>
                      </a:lnTo>
                      <a:lnTo>
                        <a:pt x="605" y="647"/>
                      </a:lnTo>
                      <a:lnTo>
                        <a:pt x="594" y="609"/>
                      </a:lnTo>
                      <a:lnTo>
                        <a:pt x="545" y="517"/>
                      </a:lnTo>
                      <a:lnTo>
                        <a:pt x="457" y="205"/>
                      </a:lnTo>
                      <a:lnTo>
                        <a:pt x="440" y="159"/>
                      </a:lnTo>
                      <a:lnTo>
                        <a:pt x="397" y="135"/>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sp>
        <p:nvSpPr>
          <p:cNvPr id="426" name=""/>
          <p:cNvSpPr txBox="1"/>
          <p:nvPr/>
        </p:nvSpPr>
        <p:spPr>
          <a:xfrm>
            <a:off x="2948040" y="3894120"/>
            <a:ext cx="530280" cy="304920"/>
          </a:xfrm>
          <a:prstGeom prst="rect">
            <a:avLst/>
          </a:prstGeom>
          <a:noFill/>
          <a:ln w="0">
            <a:noFill/>
          </a:ln>
        </p:spPr>
        <p:txBody>
          <a:bodyPr lIns="0" rIns="0" tIns="0" bIns="0" anchor="t">
            <a:noAutofit/>
          </a:bodyPr>
          <a:p>
            <a:pPr algn="ctr">
              <a:lnSpc>
                <a:spcPct val="100000"/>
              </a:lnSpc>
            </a:pPr>
            <a:r>
              <a:rPr b="1" lang="en-US" sz="1400" spc="-1" strike="noStrike">
                <a:solidFill>
                  <a:srgbClr val="fc0128"/>
                </a:solidFill>
                <a:latin typeface="Arial"/>
                <a:ea typeface="Arial"/>
              </a:rPr>
              <a:t>Rdb</a:t>
            </a:r>
            <a:endParaRPr b="0" lang="en-US" sz="1400" spc="-1" strike="noStrike">
              <a:solidFill>
                <a:srgbClr val="000000"/>
              </a:solidFill>
              <a:latin typeface="Arial"/>
            </a:endParaRPr>
          </a:p>
        </p:txBody>
      </p:sp>
      <p:sp>
        <p:nvSpPr>
          <p:cNvPr id="427" name=""/>
          <p:cNvSpPr txBox="1"/>
          <p:nvPr/>
        </p:nvSpPr>
        <p:spPr>
          <a:xfrm>
            <a:off x="2655720" y="4156200"/>
            <a:ext cx="1122480" cy="517680"/>
          </a:xfrm>
          <a:prstGeom prst="rect">
            <a:avLst/>
          </a:prstGeom>
          <a:noFill/>
          <a:ln w="0">
            <a:noFill/>
          </a:ln>
        </p:spPr>
        <p:txBody>
          <a:bodyPr lIns="0" rIns="0" tIns="0" bIns="0" anchor="t">
            <a:noAutofit/>
          </a:bodyPr>
          <a:p>
            <a:pPr algn="ctr">
              <a:lnSpc>
                <a:spcPct val="100000"/>
              </a:lnSpc>
            </a:pPr>
            <a:r>
              <a:rPr b="1" lang="en-US" sz="1400" spc="-1" strike="noStrike">
                <a:solidFill>
                  <a:srgbClr val="fc0128"/>
                </a:solidFill>
                <a:latin typeface="Arial"/>
                <a:ea typeface="Arial"/>
              </a:rPr>
              <a:t>Production</a:t>
            </a:r>
            <a:br>
              <a:rPr sz="1400"/>
            </a:br>
            <a:r>
              <a:rPr b="1" lang="en-US" sz="1400" spc="-1" strike="noStrike">
                <a:solidFill>
                  <a:srgbClr val="fc0128"/>
                </a:solidFill>
                <a:latin typeface="Arial"/>
                <a:ea typeface="Arial"/>
              </a:rPr>
              <a:t>Database</a:t>
            </a:r>
            <a:endParaRPr b="0" lang="en-US" sz="1400" spc="-1" strike="noStrike">
              <a:solidFill>
                <a:srgbClr val="000000"/>
              </a:solidFill>
              <a:latin typeface="Arial"/>
            </a:endParaRPr>
          </a:p>
        </p:txBody>
      </p:sp>
      <p:grpSp>
        <p:nvGrpSpPr>
          <p:cNvPr id="428" name=""/>
          <p:cNvGrpSpPr/>
          <p:nvPr/>
        </p:nvGrpSpPr>
        <p:grpSpPr>
          <a:xfrm>
            <a:off x="384120" y="4522680"/>
            <a:ext cx="1928880" cy="781560"/>
            <a:chOff x="384120" y="4522680"/>
            <a:chExt cx="1928880" cy="781560"/>
          </a:xfrm>
        </p:grpSpPr>
        <p:sp>
          <p:nvSpPr>
            <p:cNvPr id="429" name=""/>
            <p:cNvSpPr/>
            <p:nvPr/>
          </p:nvSpPr>
          <p:spPr>
            <a:xfrm>
              <a:off x="1818360" y="4570200"/>
              <a:ext cx="494280" cy="362160"/>
            </a:xfrm>
            <a:custGeom>
              <a:avLst/>
              <a:gdLst/>
              <a:ahLst/>
              <a:rect l="0" t="0" r="r" b="b"/>
              <a:pathLst>
                <a:path fill="none" w="1373" h="1006">
                  <a:moveTo>
                    <a:pt x="1239" y="0"/>
                  </a:moveTo>
                  <a:lnTo>
                    <a:pt x="1373" y="205"/>
                  </a:lnTo>
                  <a:lnTo>
                    <a:pt x="458" y="800"/>
                  </a:lnTo>
                  <a:lnTo>
                    <a:pt x="592" y="1006"/>
                  </a:lnTo>
                  <a:lnTo>
                    <a:pt x="0" y="951"/>
                  </a:lnTo>
                  <a:lnTo>
                    <a:pt x="191" y="387"/>
                  </a:lnTo>
                  <a:lnTo>
                    <a:pt x="324" y="594"/>
                  </a:lnTo>
                  <a:lnTo>
                    <a:pt x="123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30" name=""/>
            <p:cNvGrpSpPr/>
            <p:nvPr/>
          </p:nvGrpSpPr>
          <p:grpSpPr>
            <a:xfrm>
              <a:off x="384120" y="4522680"/>
              <a:ext cx="1222920" cy="781560"/>
              <a:chOff x="384120" y="4522680"/>
              <a:chExt cx="1222920" cy="781560"/>
            </a:xfrm>
          </p:grpSpPr>
          <p:grpSp>
            <p:nvGrpSpPr>
              <p:cNvPr id="431" name=""/>
              <p:cNvGrpSpPr/>
              <p:nvPr/>
            </p:nvGrpSpPr>
            <p:grpSpPr>
              <a:xfrm>
                <a:off x="782640" y="4581360"/>
                <a:ext cx="824400" cy="443520"/>
                <a:chOff x="782640" y="4581360"/>
                <a:chExt cx="824400" cy="443520"/>
              </a:xfrm>
            </p:grpSpPr>
            <p:grpSp>
              <p:nvGrpSpPr>
                <p:cNvPr id="432" name=""/>
                <p:cNvGrpSpPr/>
                <p:nvPr/>
              </p:nvGrpSpPr>
              <p:grpSpPr>
                <a:xfrm>
                  <a:off x="969840" y="4581360"/>
                  <a:ext cx="637200" cy="400680"/>
                  <a:chOff x="969840" y="4581360"/>
                  <a:chExt cx="637200" cy="400680"/>
                </a:xfrm>
              </p:grpSpPr>
              <p:grpSp>
                <p:nvGrpSpPr>
                  <p:cNvPr id="433" name=""/>
                  <p:cNvGrpSpPr/>
                  <p:nvPr/>
                </p:nvGrpSpPr>
                <p:grpSpPr>
                  <a:xfrm>
                    <a:off x="969840" y="4581360"/>
                    <a:ext cx="637200" cy="400680"/>
                    <a:chOff x="969840" y="4581360"/>
                    <a:chExt cx="637200" cy="400680"/>
                  </a:xfrm>
                </p:grpSpPr>
                <p:grpSp>
                  <p:nvGrpSpPr>
                    <p:cNvPr id="434" name=""/>
                    <p:cNvGrpSpPr/>
                    <p:nvPr/>
                  </p:nvGrpSpPr>
                  <p:grpSpPr>
                    <a:xfrm>
                      <a:off x="969840" y="4807080"/>
                      <a:ext cx="637200" cy="174960"/>
                      <a:chOff x="969840" y="4807080"/>
                      <a:chExt cx="637200" cy="174960"/>
                    </a:xfrm>
                  </p:grpSpPr>
                  <p:sp>
                    <p:nvSpPr>
                      <p:cNvPr id="435" name=""/>
                      <p:cNvSpPr/>
                      <p:nvPr/>
                    </p:nvSpPr>
                    <p:spPr>
                      <a:xfrm>
                        <a:off x="969840" y="4808520"/>
                        <a:ext cx="365400" cy="173520"/>
                      </a:xfrm>
                      <a:custGeom>
                        <a:avLst/>
                        <a:gdLst/>
                        <a:ahLst/>
                        <a:rect l="0" t="0" r="r" b="b"/>
                        <a:pathLst>
                          <a:path w="1015" h="482">
                            <a:moveTo>
                              <a:pt x="1015" y="146"/>
                            </a:moveTo>
                            <a:lnTo>
                              <a:pt x="1015" y="482"/>
                            </a:lnTo>
                            <a:lnTo>
                              <a:pt x="0" y="234"/>
                            </a:lnTo>
                            <a:lnTo>
                              <a:pt x="0" y="0"/>
                            </a:lnTo>
                            <a:lnTo>
                              <a:pt x="1015" y="146"/>
                            </a:lnTo>
                            <a:close/>
                          </a:path>
                        </a:pathLst>
                      </a:custGeom>
                      <a:solidFill>
                        <a:srgbClr val="a0a0a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335240" y="4849920"/>
                        <a:ext cx="271800" cy="132120"/>
                      </a:xfrm>
                      <a:custGeom>
                        <a:avLst/>
                        <a:gdLst/>
                        <a:ahLst/>
                        <a:rect l="0" t="0" r="r" b="b"/>
                        <a:pathLst>
                          <a:path w="755" h="367">
                            <a:moveTo>
                              <a:pt x="0" y="32"/>
                            </a:moveTo>
                            <a:lnTo>
                              <a:pt x="0" y="367"/>
                            </a:lnTo>
                            <a:lnTo>
                              <a:pt x="755" y="284"/>
                            </a:lnTo>
                            <a:lnTo>
                              <a:pt x="755" y="0"/>
                            </a:lnTo>
                            <a:lnTo>
                              <a:pt x="0" y="32"/>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969840" y="4807080"/>
                        <a:ext cx="636840" cy="52920"/>
                      </a:xfrm>
                      <a:custGeom>
                        <a:avLst/>
                        <a:gdLst/>
                        <a:ahLst/>
                        <a:rect l="0" t="0" r="r" b="b"/>
                        <a:pathLst>
                          <a:path w="1769" h="147">
                            <a:moveTo>
                              <a:pt x="1769" y="115"/>
                            </a:moveTo>
                            <a:lnTo>
                              <a:pt x="1006" y="147"/>
                            </a:lnTo>
                            <a:lnTo>
                              <a:pt x="0" y="0"/>
                            </a:lnTo>
                            <a:lnTo>
                              <a:pt x="741" y="0"/>
                            </a:lnTo>
                            <a:lnTo>
                              <a:pt x="1769" y="115"/>
                            </a:lnTo>
                            <a:close/>
                          </a:path>
                        </a:pathLst>
                      </a:custGeom>
                      <a:solidFill>
                        <a:srgbClr val="c0c0c0"/>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sp>
                  <p:nvSpPr>
                    <p:cNvPr id="438" name=""/>
                    <p:cNvSpPr/>
                    <p:nvPr/>
                  </p:nvSpPr>
                  <p:spPr>
                    <a:xfrm>
                      <a:off x="1168560" y="4794120"/>
                      <a:ext cx="230400" cy="49680"/>
                    </a:xfrm>
                    <a:custGeom>
                      <a:avLst/>
                      <a:gdLst/>
                      <a:ahLst/>
                      <a:rect l="0" t="0" r="r" b="b"/>
                      <a:pathLst>
                        <a:path w="640" h="138">
                          <a:moveTo>
                            <a:pt x="640" y="78"/>
                          </a:moveTo>
                          <a:lnTo>
                            <a:pt x="640" y="125"/>
                          </a:lnTo>
                          <a:lnTo>
                            <a:pt x="341" y="138"/>
                          </a:lnTo>
                          <a:lnTo>
                            <a:pt x="0" y="89"/>
                          </a:lnTo>
                          <a:lnTo>
                            <a:pt x="0" y="0"/>
                          </a:lnTo>
                          <a:lnTo>
                            <a:pt x="640" y="78"/>
                          </a:lnTo>
                          <a:close/>
                        </a:path>
                      </a:pathLst>
                    </a:custGeom>
                    <a:solidFill>
                      <a:srgbClr val="606060"/>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nvGrpSpPr>
                    <p:cNvPr id="439" name=""/>
                    <p:cNvGrpSpPr/>
                    <p:nvPr/>
                  </p:nvGrpSpPr>
                  <p:grpSpPr>
                    <a:xfrm>
                      <a:off x="1042920" y="4581360"/>
                      <a:ext cx="514800" cy="249840"/>
                      <a:chOff x="1042920" y="4581360"/>
                      <a:chExt cx="514800" cy="249840"/>
                    </a:xfrm>
                  </p:grpSpPr>
                  <p:sp>
                    <p:nvSpPr>
                      <p:cNvPr id="440" name=""/>
                      <p:cNvSpPr/>
                      <p:nvPr/>
                    </p:nvSpPr>
                    <p:spPr>
                      <a:xfrm>
                        <a:off x="1042920" y="4581360"/>
                        <a:ext cx="295560" cy="244800"/>
                      </a:xfrm>
                      <a:custGeom>
                        <a:avLst/>
                        <a:gdLst/>
                        <a:ahLst/>
                        <a:rect l="0" t="0" r="r" b="b"/>
                        <a:pathLst>
                          <a:path w="821" h="680">
                            <a:moveTo>
                              <a:pt x="705" y="680"/>
                            </a:moveTo>
                            <a:lnTo>
                              <a:pt x="821" y="21"/>
                            </a:lnTo>
                            <a:lnTo>
                              <a:pt x="112" y="0"/>
                            </a:lnTo>
                            <a:lnTo>
                              <a:pt x="0" y="587"/>
                            </a:lnTo>
                            <a:lnTo>
                              <a:pt x="705" y="680"/>
                            </a:lnTo>
                            <a:close/>
                          </a:path>
                        </a:pathLst>
                      </a:custGeom>
                      <a:solidFill>
                        <a:srgbClr val="a0a0a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1297080" y="4591080"/>
                        <a:ext cx="260640" cy="240120"/>
                      </a:xfrm>
                      <a:custGeom>
                        <a:avLst/>
                        <a:gdLst/>
                        <a:ahLst/>
                        <a:rect l="0" t="0" r="r" b="b"/>
                        <a:pathLst>
                          <a:path w="724" h="667">
                            <a:moveTo>
                              <a:pt x="115" y="0"/>
                            </a:moveTo>
                            <a:lnTo>
                              <a:pt x="724" y="147"/>
                            </a:lnTo>
                            <a:lnTo>
                              <a:pt x="636" y="667"/>
                            </a:lnTo>
                            <a:lnTo>
                              <a:pt x="0" y="651"/>
                            </a:lnTo>
                            <a:lnTo>
                              <a:pt x="115"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1076400" y="4605480"/>
                        <a:ext cx="213120" cy="184680"/>
                      </a:xfrm>
                      <a:custGeom>
                        <a:avLst/>
                        <a:gdLst/>
                        <a:ahLst/>
                        <a:rect l="0" t="0" r="r" b="b"/>
                        <a:pathLst>
                          <a:path w="592" h="513">
                            <a:moveTo>
                              <a:pt x="592" y="21"/>
                            </a:moveTo>
                            <a:lnTo>
                              <a:pt x="507" y="513"/>
                            </a:lnTo>
                            <a:lnTo>
                              <a:pt x="0" y="456"/>
                            </a:lnTo>
                            <a:lnTo>
                              <a:pt x="84" y="0"/>
                            </a:lnTo>
                            <a:lnTo>
                              <a:pt x="592" y="21"/>
                            </a:lnTo>
                            <a:close/>
                          </a:path>
                        </a:pathLst>
                      </a:custGeom>
                      <a:solidFill>
                        <a:srgbClr val="0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43" name=""/>
                  <p:cNvGrpSpPr/>
                  <p:nvPr/>
                </p:nvGrpSpPr>
                <p:grpSpPr>
                  <a:xfrm>
                    <a:off x="992160" y="4826160"/>
                    <a:ext cx="211320" cy="114840"/>
                    <a:chOff x="992160" y="4826160"/>
                    <a:chExt cx="211320" cy="114840"/>
                  </a:xfrm>
                </p:grpSpPr>
                <p:sp>
                  <p:nvSpPr>
                    <p:cNvPr id="444" name=""/>
                    <p:cNvSpPr/>
                    <p:nvPr/>
                  </p:nvSpPr>
                  <p:spPr>
                    <a:xfrm>
                      <a:off x="993600" y="4826160"/>
                      <a:ext cx="209880" cy="114840"/>
                    </a:xfrm>
                    <a:custGeom>
                      <a:avLst/>
                      <a:gdLst/>
                      <a:ahLst/>
                      <a:rect l="0" t="0" r="r" b="b"/>
                      <a:pathLst>
                        <a:path w="583" h="319">
                          <a:moveTo>
                            <a:pt x="0" y="0"/>
                          </a:moveTo>
                          <a:lnTo>
                            <a:pt x="583" y="95"/>
                          </a:lnTo>
                          <a:lnTo>
                            <a:pt x="583" y="319"/>
                          </a:lnTo>
                          <a:lnTo>
                            <a:pt x="0" y="180"/>
                          </a:lnTo>
                          <a:lnTo>
                            <a:pt x="0" y="0"/>
                          </a:lnTo>
                          <a:close/>
                        </a:path>
                      </a:pathLst>
                    </a:custGeom>
                    <a:solidFill>
                      <a:srgbClr val="404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flipH="1" flipV="1">
                      <a:off x="1011240" y="4854600"/>
                      <a:ext cx="55440" cy="9360"/>
                    </a:xfrm>
                    <a:prstGeom prst="line">
                      <a:avLst/>
                    </a:prstGeom>
                    <a:ln w="12600">
                      <a:solidFill>
                        <a:srgbClr val="000000"/>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446" name=""/>
                    <p:cNvSpPr/>
                    <p:nvPr/>
                  </p:nvSpPr>
                  <p:spPr>
                    <a:xfrm>
                      <a:off x="1095480" y="4869000"/>
                      <a:ext cx="73080" cy="12600"/>
                    </a:xfrm>
                    <a:prstGeom prst="line">
                      <a:avLst/>
                    </a:prstGeom>
                    <a:ln w="12600">
                      <a:solidFill>
                        <a:srgbClr val="000000"/>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447" name=""/>
                    <p:cNvSpPr/>
                    <p:nvPr/>
                  </p:nvSpPr>
                  <p:spPr>
                    <a:xfrm>
                      <a:off x="1082520" y="4838760"/>
                      <a:ext cx="0" cy="74520"/>
                    </a:xfrm>
                    <a:prstGeom prst="line">
                      <a:avLst/>
                    </a:prstGeom>
                    <a:ln w="12600">
                      <a:solidFill>
                        <a:srgbClr val="00000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448" name=""/>
                    <p:cNvSpPr/>
                    <p:nvPr/>
                  </p:nvSpPr>
                  <p:spPr>
                    <a:xfrm>
                      <a:off x="1182600" y="4856040"/>
                      <a:ext cx="0" cy="79560"/>
                    </a:xfrm>
                    <a:prstGeom prst="line">
                      <a:avLst/>
                    </a:prstGeom>
                    <a:ln w="12600">
                      <a:solidFill>
                        <a:srgbClr val="000000"/>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449" name=""/>
                    <p:cNvSpPr/>
                    <p:nvPr/>
                  </p:nvSpPr>
                  <p:spPr>
                    <a:xfrm>
                      <a:off x="993600" y="4853160"/>
                      <a:ext cx="18900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450" name=""/>
                    <p:cNvSpPr/>
                    <p:nvPr/>
                  </p:nvSpPr>
                  <p:spPr>
                    <a:xfrm flipH="1" flipV="1">
                      <a:off x="992160" y="4844880"/>
                      <a:ext cx="19044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451" name=""/>
                <p:cNvGrpSpPr/>
                <p:nvPr/>
              </p:nvGrpSpPr>
              <p:grpSpPr>
                <a:xfrm>
                  <a:off x="782640" y="4830840"/>
                  <a:ext cx="497160" cy="194040"/>
                  <a:chOff x="782640" y="4830840"/>
                  <a:chExt cx="497160" cy="194040"/>
                </a:xfrm>
              </p:grpSpPr>
              <p:grpSp>
                <p:nvGrpSpPr>
                  <p:cNvPr id="452" name=""/>
                  <p:cNvGrpSpPr/>
                  <p:nvPr/>
                </p:nvGrpSpPr>
                <p:grpSpPr>
                  <a:xfrm>
                    <a:off x="1166760" y="4935600"/>
                    <a:ext cx="83160" cy="46440"/>
                    <a:chOff x="1166760" y="4935600"/>
                    <a:chExt cx="83160" cy="46440"/>
                  </a:xfrm>
                </p:grpSpPr>
                <p:sp>
                  <p:nvSpPr>
                    <p:cNvPr id="453" name=""/>
                    <p:cNvSpPr/>
                    <p:nvPr/>
                  </p:nvSpPr>
                  <p:spPr>
                    <a:xfrm>
                      <a:off x="1224000" y="4935600"/>
                      <a:ext cx="25920" cy="46440"/>
                    </a:xfrm>
                    <a:custGeom>
                      <a:avLst/>
                      <a:gdLst/>
                      <a:ahLst/>
                      <a:rect l="0" t="0" r="r" b="b"/>
                      <a:pathLst>
                        <a:path w="72" h="129">
                          <a:moveTo>
                            <a:pt x="51" y="0"/>
                          </a:moveTo>
                          <a:lnTo>
                            <a:pt x="72" y="121"/>
                          </a:lnTo>
                          <a:lnTo>
                            <a:pt x="20" y="129"/>
                          </a:lnTo>
                          <a:lnTo>
                            <a:pt x="0" y="5"/>
                          </a:lnTo>
                          <a:lnTo>
                            <a:pt x="51" y="0"/>
                          </a:lnTo>
                          <a:close/>
                        </a:path>
                      </a:pathLst>
                    </a:custGeom>
                    <a:solidFill>
                      <a:srgbClr val="606060"/>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54" name=""/>
                    <p:cNvSpPr/>
                    <p:nvPr/>
                  </p:nvSpPr>
                  <p:spPr>
                    <a:xfrm>
                      <a:off x="1166760" y="4941720"/>
                      <a:ext cx="63720" cy="39960"/>
                    </a:xfrm>
                    <a:custGeom>
                      <a:avLst/>
                      <a:gdLst/>
                      <a:ahLst/>
                      <a:rect l="0" t="0" r="r" b="b"/>
                      <a:pathLst>
                        <a:path w="177" h="111">
                          <a:moveTo>
                            <a:pt x="163" y="2"/>
                          </a:moveTo>
                          <a:lnTo>
                            <a:pt x="177" y="111"/>
                          </a:lnTo>
                          <a:lnTo>
                            <a:pt x="0" y="53"/>
                          </a:lnTo>
                          <a:lnTo>
                            <a:pt x="70" y="37"/>
                          </a:lnTo>
                          <a:lnTo>
                            <a:pt x="131" y="62"/>
                          </a:lnTo>
                          <a:lnTo>
                            <a:pt x="113" y="0"/>
                          </a:lnTo>
                          <a:lnTo>
                            <a:pt x="163" y="2"/>
                          </a:lnTo>
                          <a:close/>
                        </a:path>
                      </a:pathLst>
                    </a:custGeom>
                    <a:solidFill>
                      <a:srgbClr val="404040"/>
                    </a:solidFill>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grpSp>
              <p:grpSp>
                <p:nvGrpSpPr>
                  <p:cNvPr id="455" name=""/>
                  <p:cNvGrpSpPr/>
                  <p:nvPr/>
                </p:nvGrpSpPr>
                <p:grpSpPr>
                  <a:xfrm>
                    <a:off x="782640" y="4830840"/>
                    <a:ext cx="497160" cy="194040"/>
                    <a:chOff x="782640" y="4830840"/>
                    <a:chExt cx="497160" cy="194040"/>
                  </a:xfrm>
                </p:grpSpPr>
                <p:sp>
                  <p:nvSpPr>
                    <p:cNvPr id="456" name=""/>
                    <p:cNvSpPr/>
                    <p:nvPr/>
                  </p:nvSpPr>
                  <p:spPr>
                    <a:xfrm>
                      <a:off x="782640" y="4830840"/>
                      <a:ext cx="489240" cy="171720"/>
                    </a:xfrm>
                    <a:custGeom>
                      <a:avLst/>
                      <a:gdLst/>
                      <a:ahLst/>
                      <a:rect l="0" t="0" r="r" b="b"/>
                      <a:pathLst>
                        <a:path w="1359" h="477">
                          <a:moveTo>
                            <a:pt x="1359" y="201"/>
                          </a:moveTo>
                          <a:lnTo>
                            <a:pt x="708" y="477"/>
                          </a:lnTo>
                          <a:lnTo>
                            <a:pt x="0" y="207"/>
                          </a:lnTo>
                          <a:lnTo>
                            <a:pt x="541" y="0"/>
                          </a:lnTo>
                          <a:lnTo>
                            <a:pt x="1359" y="201"/>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1035000" y="4902120"/>
                      <a:ext cx="244800" cy="122760"/>
                    </a:xfrm>
                    <a:custGeom>
                      <a:avLst/>
                      <a:gdLst/>
                      <a:ahLst/>
                      <a:rect l="0" t="0" r="r" b="b"/>
                      <a:pathLst>
                        <a:path w="680" h="341">
                          <a:moveTo>
                            <a:pt x="655" y="0"/>
                          </a:moveTo>
                          <a:lnTo>
                            <a:pt x="0" y="281"/>
                          </a:lnTo>
                          <a:lnTo>
                            <a:pt x="17" y="341"/>
                          </a:lnTo>
                          <a:lnTo>
                            <a:pt x="680" y="54"/>
                          </a:lnTo>
                          <a:lnTo>
                            <a:pt x="655" y="0"/>
                          </a:lnTo>
                          <a:close/>
                        </a:path>
                      </a:pathLst>
                    </a:custGeom>
                    <a:solidFill>
                      <a:srgbClr val="606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782640" y="4903920"/>
                      <a:ext cx="260640" cy="120960"/>
                    </a:xfrm>
                    <a:custGeom>
                      <a:avLst/>
                      <a:gdLst/>
                      <a:ahLst/>
                      <a:rect l="0" t="0" r="r" b="b"/>
                      <a:pathLst>
                        <a:path w="724" h="336">
                          <a:moveTo>
                            <a:pt x="724" y="336"/>
                          </a:moveTo>
                          <a:lnTo>
                            <a:pt x="703" y="273"/>
                          </a:lnTo>
                          <a:lnTo>
                            <a:pt x="0" y="0"/>
                          </a:lnTo>
                          <a:lnTo>
                            <a:pt x="24" y="49"/>
                          </a:lnTo>
                          <a:lnTo>
                            <a:pt x="724" y="336"/>
                          </a:lnTo>
                          <a:close/>
                        </a:path>
                      </a:pathLst>
                    </a:custGeom>
                    <a:solidFill>
                      <a:srgbClr val="404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988920" y="4910040"/>
                      <a:ext cx="186120" cy="68760"/>
                    </a:xfrm>
                    <a:custGeom>
                      <a:avLst/>
                      <a:gdLst/>
                      <a:ahLst/>
                      <a:rect l="0" t="0" r="r" b="b"/>
                      <a:pathLst>
                        <a:path w="517" h="191">
                          <a:moveTo>
                            <a:pt x="517" y="49"/>
                          </a:moveTo>
                          <a:lnTo>
                            <a:pt x="340" y="0"/>
                          </a:lnTo>
                          <a:lnTo>
                            <a:pt x="0" y="133"/>
                          </a:lnTo>
                          <a:lnTo>
                            <a:pt x="170" y="191"/>
                          </a:lnTo>
                          <a:lnTo>
                            <a:pt x="517" y="49"/>
                          </a:lnTo>
                          <a:close/>
                        </a:path>
                      </a:pathLst>
                    </a:custGeom>
                    <a:solidFill>
                      <a:srgbClr val="a0a0a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460" name=""/>
                    <p:cNvSpPr/>
                    <p:nvPr/>
                  </p:nvSpPr>
                  <p:spPr>
                    <a:xfrm>
                      <a:off x="817560" y="4856040"/>
                      <a:ext cx="278280" cy="95760"/>
                    </a:xfrm>
                    <a:custGeom>
                      <a:avLst/>
                      <a:gdLst/>
                      <a:ahLst/>
                      <a:rect l="0" t="0" r="r" b="b"/>
                      <a:pathLst>
                        <a:path w="773" h="266">
                          <a:moveTo>
                            <a:pt x="773" y="129"/>
                          </a:moveTo>
                          <a:lnTo>
                            <a:pt x="434" y="266"/>
                          </a:lnTo>
                          <a:lnTo>
                            <a:pt x="0" y="115"/>
                          </a:lnTo>
                          <a:lnTo>
                            <a:pt x="318" y="0"/>
                          </a:lnTo>
                          <a:lnTo>
                            <a:pt x="773" y="129"/>
                          </a:lnTo>
                          <a:close/>
                        </a:path>
                      </a:pathLst>
                    </a:custGeom>
                    <a:solidFill>
                      <a:srgbClr val="a0a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1" name=""/>
                    <p:cNvSpPr/>
                    <p:nvPr/>
                  </p:nvSpPr>
                  <p:spPr>
                    <a:xfrm>
                      <a:off x="938160" y="4835520"/>
                      <a:ext cx="308160" cy="84600"/>
                    </a:xfrm>
                    <a:custGeom>
                      <a:avLst/>
                      <a:gdLst/>
                      <a:ahLst/>
                      <a:rect l="0" t="0" r="r" b="b"/>
                      <a:pathLst>
                        <a:path w="856" h="235">
                          <a:moveTo>
                            <a:pt x="679" y="235"/>
                          </a:moveTo>
                          <a:lnTo>
                            <a:pt x="856" y="168"/>
                          </a:lnTo>
                          <a:lnTo>
                            <a:pt x="137" y="0"/>
                          </a:lnTo>
                          <a:lnTo>
                            <a:pt x="0" y="47"/>
                          </a:lnTo>
                          <a:lnTo>
                            <a:pt x="679" y="235"/>
                          </a:lnTo>
                          <a:close/>
                        </a:path>
                      </a:pathLst>
                    </a:custGeom>
                    <a:solidFill>
                      <a:srgbClr val="a0a0a0"/>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462" name=""/>
                    <p:cNvSpPr/>
                    <p:nvPr/>
                  </p:nvSpPr>
                  <p:spPr>
                    <a:xfrm flipH="1" flipV="1">
                      <a:off x="961920" y="4838760"/>
                      <a:ext cx="276480" cy="73080"/>
                    </a:xfrm>
                    <a:prstGeom prst="line">
                      <a:avLst/>
                    </a:prstGeom>
                    <a:ln w="12600">
                      <a:solidFill>
                        <a:srgbClr val="80808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463" name=""/>
                    <p:cNvSpPr/>
                    <p:nvPr/>
                  </p:nvSpPr>
                  <p:spPr>
                    <a:xfrm flipH="1" flipV="1">
                      <a:off x="949320" y="4842000"/>
                      <a:ext cx="264960" cy="74520"/>
                    </a:xfrm>
                    <a:prstGeom prst="line">
                      <a:avLst/>
                    </a:prstGeom>
                    <a:ln w="12600">
                      <a:solidFill>
                        <a:srgbClr val="80808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464" name=""/>
                    <p:cNvSpPr/>
                    <p:nvPr/>
                  </p:nvSpPr>
                  <p:spPr>
                    <a:xfrm flipH="1" flipV="1">
                      <a:off x="938160" y="4849920"/>
                      <a:ext cx="260280" cy="74520"/>
                    </a:xfrm>
                    <a:prstGeom prst="line">
                      <a:avLst/>
                    </a:prstGeom>
                    <a:ln w="12600">
                      <a:solidFill>
                        <a:srgbClr val="80808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465" name=""/>
                    <p:cNvSpPr/>
                    <p:nvPr/>
                  </p:nvSpPr>
                  <p:spPr>
                    <a:xfrm flipH="1" flipV="1">
                      <a:off x="909720" y="4862520"/>
                      <a:ext cx="250920" cy="77760"/>
                    </a:xfrm>
                    <a:prstGeom prst="line">
                      <a:avLst/>
                    </a:prstGeom>
                    <a:ln w="12600">
                      <a:solidFill>
                        <a:srgbClr val="80808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466" name=""/>
                    <p:cNvSpPr/>
                    <p:nvPr/>
                  </p:nvSpPr>
                  <p:spPr>
                    <a:xfrm flipH="1" flipV="1">
                      <a:off x="890640" y="4870440"/>
                      <a:ext cx="249120" cy="79560"/>
                    </a:xfrm>
                    <a:prstGeom prst="line">
                      <a:avLst/>
                    </a:prstGeom>
                    <a:ln w="12600">
                      <a:solidFill>
                        <a:srgbClr val="808080"/>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467" name=""/>
                    <p:cNvSpPr/>
                    <p:nvPr/>
                  </p:nvSpPr>
                  <p:spPr>
                    <a:xfrm flipH="1" flipV="1">
                      <a:off x="884160" y="4881600"/>
                      <a:ext cx="228600" cy="74520"/>
                    </a:xfrm>
                    <a:prstGeom prst="line">
                      <a:avLst/>
                    </a:prstGeom>
                    <a:ln w="12600">
                      <a:solidFill>
                        <a:srgbClr val="80808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468" name=""/>
                    <p:cNvSpPr/>
                    <p:nvPr/>
                  </p:nvSpPr>
                  <p:spPr>
                    <a:xfrm flipH="1" flipV="1">
                      <a:off x="866880" y="4888080"/>
                      <a:ext cx="220680" cy="75960"/>
                    </a:xfrm>
                    <a:prstGeom prst="line">
                      <a:avLst/>
                    </a:prstGeom>
                    <a:ln w="12600">
                      <a:solidFill>
                        <a:srgbClr val="80808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469" name=""/>
                    <p:cNvSpPr/>
                    <p:nvPr/>
                  </p:nvSpPr>
                  <p:spPr>
                    <a:xfrm flipH="1" flipV="1">
                      <a:off x="846000" y="4898880"/>
                      <a:ext cx="216000" cy="73080"/>
                    </a:xfrm>
                    <a:prstGeom prst="line">
                      <a:avLst/>
                    </a:prstGeom>
                    <a:ln w="12600">
                      <a:solidFill>
                        <a:srgbClr val="80808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470" name=""/>
                    <p:cNvSpPr/>
                    <p:nvPr/>
                  </p:nvSpPr>
                  <p:spPr>
                    <a:xfrm flipH="1">
                      <a:off x="1020600" y="4923000"/>
                      <a:ext cx="130320" cy="56880"/>
                    </a:xfrm>
                    <a:prstGeom prst="line">
                      <a:avLst/>
                    </a:prstGeom>
                    <a:ln w="12600">
                      <a:solidFill>
                        <a:srgbClr val="808080"/>
                      </a:solidFill>
                      <a:round/>
                    </a:ln>
                  </p:spPr>
                  <p:style>
                    <a:lnRef idx="0"/>
                    <a:fillRef idx="0"/>
                    <a:effectRef idx="0"/>
                    <a:fontRef idx="minor"/>
                  </p:style>
                  <p:txBody>
                    <a:bodyPr lIns="96120" rIns="96120" tIns="5760" bIns="5760" anchor="t">
                      <a:noAutofit/>
                    </a:bodyPr>
                    <a:p>
                      <a:endParaRPr b="0" lang="en-US" sz="1800" spc="-1" strike="noStrike">
                        <a:solidFill>
                          <a:srgbClr val="000000"/>
                        </a:solidFill>
                        <a:latin typeface="Arial"/>
                      </a:endParaRPr>
                    </a:p>
                  </p:txBody>
                </p:sp>
                <p:sp>
                  <p:nvSpPr>
                    <p:cNvPr id="471" name=""/>
                    <p:cNvSpPr/>
                    <p:nvPr/>
                  </p:nvSpPr>
                  <p:spPr>
                    <a:xfrm flipH="1">
                      <a:off x="995400" y="4915080"/>
                      <a:ext cx="129960" cy="56880"/>
                    </a:xfrm>
                    <a:prstGeom prst="line">
                      <a:avLst/>
                    </a:prstGeom>
                    <a:ln w="12600">
                      <a:solidFill>
                        <a:srgbClr val="808080"/>
                      </a:solidFill>
                      <a:round/>
                    </a:ln>
                  </p:spPr>
                  <p:style>
                    <a:lnRef idx="0"/>
                    <a:fillRef idx="0"/>
                    <a:effectRef idx="0"/>
                    <a:fontRef idx="minor"/>
                  </p:style>
                  <p:txBody>
                    <a:bodyPr lIns="96120" rIns="96120" tIns="5760" bIns="5760" anchor="t">
                      <a:noAutofit/>
                    </a:bodyPr>
                    <a:p>
                      <a:endParaRPr b="0" lang="en-US" sz="1800" spc="-1" strike="noStrike">
                        <a:solidFill>
                          <a:srgbClr val="000000"/>
                        </a:solidFill>
                        <a:latin typeface="Arial"/>
                      </a:endParaRPr>
                    </a:p>
                  </p:txBody>
                </p:sp>
                <p:sp>
                  <p:nvSpPr>
                    <p:cNvPr id="472" name=""/>
                    <p:cNvSpPr/>
                    <p:nvPr/>
                  </p:nvSpPr>
                  <p:spPr>
                    <a:xfrm flipH="1">
                      <a:off x="941400" y="4898880"/>
                      <a:ext cx="127080" cy="52560"/>
                    </a:xfrm>
                    <a:prstGeom prst="line">
                      <a:avLst/>
                    </a:prstGeom>
                    <a:ln w="12600">
                      <a:solidFill>
                        <a:srgbClr val="808080"/>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473" name=""/>
                    <p:cNvSpPr/>
                    <p:nvPr/>
                  </p:nvSpPr>
                  <p:spPr>
                    <a:xfrm flipH="1">
                      <a:off x="914400" y="4890960"/>
                      <a:ext cx="122400" cy="50760"/>
                    </a:xfrm>
                    <a:prstGeom prst="line">
                      <a:avLst/>
                    </a:prstGeom>
                    <a:ln w="12600">
                      <a:solidFill>
                        <a:srgbClr val="80808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74" name=""/>
                    <p:cNvSpPr/>
                    <p:nvPr/>
                  </p:nvSpPr>
                  <p:spPr>
                    <a:xfrm flipH="1">
                      <a:off x="885960" y="4883040"/>
                      <a:ext cx="122040" cy="50760"/>
                    </a:xfrm>
                    <a:prstGeom prst="line">
                      <a:avLst/>
                    </a:prstGeom>
                    <a:ln w="12600">
                      <a:solidFill>
                        <a:srgbClr val="80808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75" name=""/>
                    <p:cNvSpPr/>
                    <p:nvPr/>
                  </p:nvSpPr>
                  <p:spPr>
                    <a:xfrm flipH="1">
                      <a:off x="861840" y="4873680"/>
                      <a:ext cx="119160" cy="50760"/>
                    </a:xfrm>
                    <a:prstGeom prst="line">
                      <a:avLst/>
                    </a:prstGeom>
                    <a:ln w="12600">
                      <a:solidFill>
                        <a:srgbClr val="80808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76" name=""/>
                    <p:cNvSpPr/>
                    <p:nvPr/>
                  </p:nvSpPr>
                  <p:spPr>
                    <a:xfrm flipH="1">
                      <a:off x="836640" y="4865760"/>
                      <a:ext cx="120600" cy="47520"/>
                    </a:xfrm>
                    <a:prstGeom prst="line">
                      <a:avLst/>
                    </a:prstGeom>
                    <a:ln w="12600">
                      <a:solidFill>
                        <a:srgbClr val="808080"/>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477" name=""/>
                    <p:cNvSpPr/>
                    <p:nvPr/>
                  </p:nvSpPr>
                  <p:spPr>
                    <a:xfrm flipH="1">
                      <a:off x="1144440" y="4890960"/>
                      <a:ext cx="63720" cy="25560"/>
                    </a:xfrm>
                    <a:prstGeom prst="line">
                      <a:avLst/>
                    </a:prstGeom>
                    <a:ln w="12600">
                      <a:solidFill>
                        <a:srgbClr val="80808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478" name=""/>
                    <p:cNvSpPr/>
                    <p:nvPr/>
                  </p:nvSpPr>
                  <p:spPr>
                    <a:xfrm flipH="1">
                      <a:off x="1104840" y="4879800"/>
                      <a:ext cx="61920" cy="25560"/>
                    </a:xfrm>
                    <a:prstGeom prst="line">
                      <a:avLst/>
                    </a:prstGeom>
                    <a:ln w="12600">
                      <a:solidFill>
                        <a:srgbClr val="80808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479" name=""/>
                    <p:cNvSpPr/>
                    <p:nvPr/>
                  </p:nvSpPr>
                  <p:spPr>
                    <a:xfrm flipH="1">
                      <a:off x="1066680" y="4871880"/>
                      <a:ext cx="61920" cy="25560"/>
                    </a:xfrm>
                    <a:prstGeom prst="line">
                      <a:avLst/>
                    </a:prstGeom>
                    <a:ln w="12600">
                      <a:solidFill>
                        <a:srgbClr val="80808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480" name=""/>
                    <p:cNvSpPr/>
                    <p:nvPr/>
                  </p:nvSpPr>
                  <p:spPr>
                    <a:xfrm flipH="1">
                      <a:off x="1033560" y="4862520"/>
                      <a:ext cx="60120" cy="22320"/>
                    </a:xfrm>
                    <a:prstGeom prst="line">
                      <a:avLst/>
                    </a:prstGeom>
                    <a:ln w="12600">
                      <a:solidFill>
                        <a:srgbClr val="808080"/>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481" name=""/>
                    <p:cNvSpPr/>
                    <p:nvPr/>
                  </p:nvSpPr>
                  <p:spPr>
                    <a:xfrm flipH="1">
                      <a:off x="998640" y="4851360"/>
                      <a:ext cx="56880" cy="23760"/>
                    </a:xfrm>
                    <a:prstGeom prst="line">
                      <a:avLst/>
                    </a:prstGeom>
                    <a:ln w="12600">
                      <a:solidFill>
                        <a:srgbClr val="80808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482" name=""/>
                    <p:cNvSpPr/>
                    <p:nvPr/>
                  </p:nvSpPr>
                  <p:spPr>
                    <a:xfrm flipH="1">
                      <a:off x="960480" y="4842000"/>
                      <a:ext cx="54000" cy="21960"/>
                    </a:xfrm>
                    <a:prstGeom prst="line">
                      <a:avLst/>
                    </a:prstGeom>
                    <a:ln w="12600">
                      <a:solidFill>
                        <a:srgbClr val="80808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grpSp>
            </p:grpSp>
          </p:grpSp>
          <p:grpSp>
            <p:nvGrpSpPr>
              <p:cNvPr id="483" name=""/>
              <p:cNvGrpSpPr/>
              <p:nvPr/>
            </p:nvGrpSpPr>
            <p:grpSpPr>
              <a:xfrm>
                <a:off x="431640" y="4522680"/>
                <a:ext cx="690480" cy="781560"/>
                <a:chOff x="431640" y="4522680"/>
                <a:chExt cx="690480" cy="781560"/>
              </a:xfrm>
            </p:grpSpPr>
            <p:grpSp>
              <p:nvGrpSpPr>
                <p:cNvPr id="484" name=""/>
                <p:cNvGrpSpPr/>
                <p:nvPr/>
              </p:nvGrpSpPr>
              <p:grpSpPr>
                <a:xfrm>
                  <a:off x="458640" y="5083200"/>
                  <a:ext cx="643320" cy="221040"/>
                  <a:chOff x="458640" y="5083200"/>
                  <a:chExt cx="643320" cy="221040"/>
                </a:xfrm>
              </p:grpSpPr>
              <p:sp>
                <p:nvSpPr>
                  <p:cNvPr id="485" name=""/>
                  <p:cNvSpPr/>
                  <p:nvPr/>
                </p:nvSpPr>
                <p:spPr>
                  <a:xfrm>
                    <a:off x="458640" y="5083200"/>
                    <a:ext cx="643320" cy="221040"/>
                  </a:xfrm>
                  <a:custGeom>
                    <a:avLst/>
                    <a:gdLst/>
                    <a:ahLst/>
                    <a:rect l="0" t="0" r="r" b="b"/>
                    <a:pathLst>
                      <a:path w="1787" h="614">
                        <a:moveTo>
                          <a:pt x="1632" y="612"/>
                        </a:moveTo>
                        <a:lnTo>
                          <a:pt x="1784" y="598"/>
                        </a:lnTo>
                        <a:lnTo>
                          <a:pt x="1787" y="459"/>
                        </a:lnTo>
                        <a:lnTo>
                          <a:pt x="1780" y="356"/>
                        </a:lnTo>
                        <a:lnTo>
                          <a:pt x="1703" y="293"/>
                        </a:lnTo>
                        <a:lnTo>
                          <a:pt x="1607" y="255"/>
                        </a:lnTo>
                        <a:lnTo>
                          <a:pt x="1396" y="196"/>
                        </a:lnTo>
                        <a:lnTo>
                          <a:pt x="1081" y="138"/>
                        </a:lnTo>
                        <a:lnTo>
                          <a:pt x="1017" y="132"/>
                        </a:lnTo>
                        <a:lnTo>
                          <a:pt x="978" y="138"/>
                        </a:lnTo>
                        <a:lnTo>
                          <a:pt x="968" y="124"/>
                        </a:lnTo>
                        <a:lnTo>
                          <a:pt x="950" y="111"/>
                        </a:lnTo>
                        <a:lnTo>
                          <a:pt x="929" y="113"/>
                        </a:lnTo>
                        <a:lnTo>
                          <a:pt x="901" y="116"/>
                        </a:lnTo>
                        <a:lnTo>
                          <a:pt x="890" y="92"/>
                        </a:lnTo>
                        <a:lnTo>
                          <a:pt x="865" y="78"/>
                        </a:lnTo>
                        <a:lnTo>
                          <a:pt x="841" y="75"/>
                        </a:lnTo>
                        <a:lnTo>
                          <a:pt x="809" y="75"/>
                        </a:lnTo>
                        <a:lnTo>
                          <a:pt x="816" y="54"/>
                        </a:lnTo>
                        <a:lnTo>
                          <a:pt x="777" y="0"/>
                        </a:lnTo>
                        <a:lnTo>
                          <a:pt x="42" y="16"/>
                        </a:lnTo>
                        <a:lnTo>
                          <a:pt x="45" y="73"/>
                        </a:lnTo>
                        <a:lnTo>
                          <a:pt x="31" y="124"/>
                        </a:lnTo>
                        <a:lnTo>
                          <a:pt x="21" y="163"/>
                        </a:lnTo>
                        <a:lnTo>
                          <a:pt x="7" y="209"/>
                        </a:lnTo>
                        <a:lnTo>
                          <a:pt x="0" y="283"/>
                        </a:lnTo>
                        <a:lnTo>
                          <a:pt x="10" y="326"/>
                        </a:lnTo>
                        <a:lnTo>
                          <a:pt x="31" y="369"/>
                        </a:lnTo>
                        <a:lnTo>
                          <a:pt x="56" y="402"/>
                        </a:lnTo>
                        <a:lnTo>
                          <a:pt x="91" y="415"/>
                        </a:lnTo>
                        <a:lnTo>
                          <a:pt x="144" y="429"/>
                        </a:lnTo>
                        <a:lnTo>
                          <a:pt x="215" y="445"/>
                        </a:lnTo>
                        <a:lnTo>
                          <a:pt x="247" y="473"/>
                        </a:lnTo>
                        <a:lnTo>
                          <a:pt x="285" y="498"/>
                        </a:lnTo>
                        <a:lnTo>
                          <a:pt x="345" y="520"/>
                        </a:lnTo>
                        <a:lnTo>
                          <a:pt x="412" y="536"/>
                        </a:lnTo>
                        <a:lnTo>
                          <a:pt x="526" y="547"/>
                        </a:lnTo>
                        <a:lnTo>
                          <a:pt x="622" y="547"/>
                        </a:lnTo>
                        <a:lnTo>
                          <a:pt x="692" y="541"/>
                        </a:lnTo>
                        <a:lnTo>
                          <a:pt x="759" y="536"/>
                        </a:lnTo>
                        <a:lnTo>
                          <a:pt x="809" y="557"/>
                        </a:lnTo>
                        <a:lnTo>
                          <a:pt x="904" y="552"/>
                        </a:lnTo>
                        <a:lnTo>
                          <a:pt x="1289" y="595"/>
                        </a:lnTo>
                        <a:lnTo>
                          <a:pt x="1459" y="614"/>
                        </a:lnTo>
                        <a:lnTo>
                          <a:pt x="1632" y="612"/>
                        </a:lnTo>
                        <a:close/>
                      </a:path>
                    </a:pathLst>
                  </a:custGeom>
                  <a:solidFill>
                    <a:srgbClr val="606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477720" y="5105520"/>
                    <a:ext cx="622800" cy="187560"/>
                  </a:xfrm>
                  <a:custGeom>
                    <a:avLst/>
                    <a:gdLst/>
                    <a:ahLst/>
                    <a:rect l="0" t="0" r="r" b="b"/>
                    <a:pathLst>
                      <a:path w="1730" h="521">
                        <a:moveTo>
                          <a:pt x="60" y="18"/>
                        </a:moveTo>
                        <a:lnTo>
                          <a:pt x="56" y="53"/>
                        </a:lnTo>
                        <a:lnTo>
                          <a:pt x="35" y="40"/>
                        </a:lnTo>
                        <a:lnTo>
                          <a:pt x="10" y="124"/>
                        </a:lnTo>
                        <a:lnTo>
                          <a:pt x="0" y="221"/>
                        </a:lnTo>
                        <a:lnTo>
                          <a:pt x="45" y="321"/>
                        </a:lnTo>
                        <a:lnTo>
                          <a:pt x="152" y="346"/>
                        </a:lnTo>
                        <a:lnTo>
                          <a:pt x="141" y="321"/>
                        </a:lnTo>
                        <a:lnTo>
                          <a:pt x="197" y="356"/>
                        </a:lnTo>
                        <a:lnTo>
                          <a:pt x="250" y="391"/>
                        </a:lnTo>
                        <a:lnTo>
                          <a:pt x="360" y="429"/>
                        </a:lnTo>
                        <a:lnTo>
                          <a:pt x="499" y="440"/>
                        </a:lnTo>
                        <a:lnTo>
                          <a:pt x="665" y="445"/>
                        </a:lnTo>
                        <a:lnTo>
                          <a:pt x="736" y="440"/>
                        </a:lnTo>
                        <a:lnTo>
                          <a:pt x="672" y="421"/>
                        </a:lnTo>
                        <a:lnTo>
                          <a:pt x="644" y="367"/>
                        </a:lnTo>
                        <a:lnTo>
                          <a:pt x="693" y="413"/>
                        </a:lnTo>
                        <a:lnTo>
                          <a:pt x="757" y="437"/>
                        </a:lnTo>
                        <a:lnTo>
                          <a:pt x="814" y="459"/>
                        </a:lnTo>
                        <a:lnTo>
                          <a:pt x="870" y="453"/>
                        </a:lnTo>
                        <a:lnTo>
                          <a:pt x="831" y="432"/>
                        </a:lnTo>
                        <a:lnTo>
                          <a:pt x="792" y="410"/>
                        </a:lnTo>
                        <a:lnTo>
                          <a:pt x="856" y="424"/>
                        </a:lnTo>
                        <a:lnTo>
                          <a:pt x="920" y="459"/>
                        </a:lnTo>
                        <a:lnTo>
                          <a:pt x="1118" y="478"/>
                        </a:lnTo>
                        <a:lnTo>
                          <a:pt x="1317" y="499"/>
                        </a:lnTo>
                        <a:lnTo>
                          <a:pt x="1387" y="497"/>
                        </a:lnTo>
                        <a:lnTo>
                          <a:pt x="1313" y="467"/>
                        </a:lnTo>
                        <a:lnTo>
                          <a:pt x="1238" y="453"/>
                        </a:lnTo>
                        <a:lnTo>
                          <a:pt x="1320" y="451"/>
                        </a:lnTo>
                        <a:lnTo>
                          <a:pt x="1384" y="472"/>
                        </a:lnTo>
                        <a:lnTo>
                          <a:pt x="1461" y="510"/>
                        </a:lnTo>
                        <a:lnTo>
                          <a:pt x="1405" y="451"/>
                        </a:lnTo>
                        <a:lnTo>
                          <a:pt x="1331" y="421"/>
                        </a:lnTo>
                        <a:lnTo>
                          <a:pt x="1426" y="432"/>
                        </a:lnTo>
                        <a:lnTo>
                          <a:pt x="1476" y="480"/>
                        </a:lnTo>
                        <a:lnTo>
                          <a:pt x="1486" y="521"/>
                        </a:lnTo>
                        <a:lnTo>
                          <a:pt x="1550" y="467"/>
                        </a:lnTo>
                        <a:lnTo>
                          <a:pt x="1613" y="440"/>
                        </a:lnTo>
                        <a:lnTo>
                          <a:pt x="1578" y="470"/>
                        </a:lnTo>
                        <a:lnTo>
                          <a:pt x="1525" y="521"/>
                        </a:lnTo>
                        <a:lnTo>
                          <a:pt x="1681" y="497"/>
                        </a:lnTo>
                        <a:lnTo>
                          <a:pt x="1709" y="488"/>
                        </a:lnTo>
                        <a:lnTo>
                          <a:pt x="1730" y="424"/>
                        </a:lnTo>
                        <a:lnTo>
                          <a:pt x="1720" y="332"/>
                        </a:lnTo>
                        <a:lnTo>
                          <a:pt x="1695" y="273"/>
                        </a:lnTo>
                        <a:lnTo>
                          <a:pt x="1599" y="226"/>
                        </a:lnTo>
                        <a:lnTo>
                          <a:pt x="1479" y="186"/>
                        </a:lnTo>
                        <a:lnTo>
                          <a:pt x="1245" y="129"/>
                        </a:lnTo>
                        <a:lnTo>
                          <a:pt x="1057" y="91"/>
                        </a:lnTo>
                        <a:lnTo>
                          <a:pt x="958" y="83"/>
                        </a:lnTo>
                        <a:lnTo>
                          <a:pt x="913" y="129"/>
                        </a:lnTo>
                        <a:lnTo>
                          <a:pt x="782" y="177"/>
                        </a:lnTo>
                        <a:lnTo>
                          <a:pt x="852" y="134"/>
                        </a:lnTo>
                        <a:lnTo>
                          <a:pt x="905" y="113"/>
                        </a:lnTo>
                        <a:lnTo>
                          <a:pt x="927" y="80"/>
                        </a:lnTo>
                        <a:lnTo>
                          <a:pt x="920" y="67"/>
                        </a:lnTo>
                        <a:lnTo>
                          <a:pt x="881" y="67"/>
                        </a:lnTo>
                        <a:lnTo>
                          <a:pt x="856" y="83"/>
                        </a:lnTo>
                        <a:lnTo>
                          <a:pt x="831" y="99"/>
                        </a:lnTo>
                        <a:lnTo>
                          <a:pt x="775" y="118"/>
                        </a:lnTo>
                        <a:lnTo>
                          <a:pt x="828" y="83"/>
                        </a:lnTo>
                        <a:lnTo>
                          <a:pt x="852" y="59"/>
                        </a:lnTo>
                        <a:lnTo>
                          <a:pt x="835" y="40"/>
                        </a:lnTo>
                        <a:lnTo>
                          <a:pt x="789" y="32"/>
                        </a:lnTo>
                        <a:lnTo>
                          <a:pt x="729" y="70"/>
                        </a:lnTo>
                        <a:lnTo>
                          <a:pt x="672" y="97"/>
                        </a:lnTo>
                        <a:lnTo>
                          <a:pt x="743" y="37"/>
                        </a:lnTo>
                        <a:lnTo>
                          <a:pt x="761" y="16"/>
                        </a:lnTo>
                        <a:lnTo>
                          <a:pt x="761" y="0"/>
                        </a:lnTo>
                        <a:lnTo>
                          <a:pt x="707" y="5"/>
                        </a:lnTo>
                        <a:lnTo>
                          <a:pt x="651" y="32"/>
                        </a:lnTo>
                        <a:lnTo>
                          <a:pt x="616" y="51"/>
                        </a:lnTo>
                        <a:lnTo>
                          <a:pt x="453" y="64"/>
                        </a:lnTo>
                        <a:lnTo>
                          <a:pt x="457" y="32"/>
                        </a:lnTo>
                        <a:lnTo>
                          <a:pt x="406" y="21"/>
                        </a:lnTo>
                        <a:lnTo>
                          <a:pt x="406" y="62"/>
                        </a:lnTo>
                        <a:lnTo>
                          <a:pt x="357" y="70"/>
                        </a:lnTo>
                        <a:lnTo>
                          <a:pt x="250" y="80"/>
                        </a:lnTo>
                        <a:lnTo>
                          <a:pt x="258" y="37"/>
                        </a:lnTo>
                        <a:lnTo>
                          <a:pt x="219" y="37"/>
                        </a:lnTo>
                        <a:lnTo>
                          <a:pt x="215" y="80"/>
                        </a:lnTo>
                        <a:lnTo>
                          <a:pt x="152" y="78"/>
                        </a:lnTo>
                        <a:lnTo>
                          <a:pt x="88" y="67"/>
                        </a:lnTo>
                        <a:lnTo>
                          <a:pt x="84" y="32"/>
                        </a:lnTo>
                        <a:lnTo>
                          <a:pt x="60" y="18"/>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566640" y="5175360"/>
                    <a:ext cx="76680" cy="25920"/>
                  </a:xfrm>
                  <a:custGeom>
                    <a:avLst/>
                    <a:gdLst/>
                    <a:ahLst/>
                    <a:rect l="0" t="0" r="r" b="b"/>
                    <a:pathLst>
                      <a:path w="213" h="72">
                        <a:moveTo>
                          <a:pt x="0" y="0"/>
                        </a:moveTo>
                        <a:lnTo>
                          <a:pt x="96" y="72"/>
                        </a:lnTo>
                        <a:lnTo>
                          <a:pt x="213" y="53"/>
                        </a:lnTo>
                        <a:lnTo>
                          <a:pt x="0" y="0"/>
                        </a:lnTo>
                        <a:close/>
                      </a:path>
                    </a:pathLst>
                  </a:custGeom>
                  <a:solidFill>
                    <a:srgbClr val="60606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88" name=""/>
                  <p:cNvSpPr/>
                  <p:nvPr/>
                </p:nvSpPr>
                <p:spPr>
                  <a:xfrm>
                    <a:off x="479520" y="5157720"/>
                    <a:ext cx="43200" cy="25920"/>
                  </a:xfrm>
                  <a:custGeom>
                    <a:avLst/>
                    <a:gdLst/>
                    <a:ahLst/>
                    <a:rect l="0" t="0" r="r" b="b"/>
                    <a:pathLst>
                      <a:path w="120" h="72">
                        <a:moveTo>
                          <a:pt x="0" y="0"/>
                        </a:moveTo>
                        <a:lnTo>
                          <a:pt x="31" y="40"/>
                        </a:lnTo>
                        <a:lnTo>
                          <a:pt x="120" y="72"/>
                        </a:lnTo>
                        <a:lnTo>
                          <a:pt x="28" y="72"/>
                        </a:lnTo>
                        <a:lnTo>
                          <a:pt x="0" y="0"/>
                        </a:lnTo>
                        <a:close/>
                      </a:path>
                    </a:pathLst>
                  </a:custGeom>
                  <a:solidFill>
                    <a:srgbClr val="60606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89" name=""/>
                  <p:cNvSpPr/>
                  <p:nvPr/>
                </p:nvSpPr>
                <p:spPr>
                  <a:xfrm>
                    <a:off x="698400" y="5146560"/>
                    <a:ext cx="71640" cy="25920"/>
                  </a:xfrm>
                  <a:custGeom>
                    <a:avLst/>
                    <a:gdLst/>
                    <a:ahLst/>
                    <a:rect l="0" t="0" r="r" b="b"/>
                    <a:pathLst>
                      <a:path w="199" h="72">
                        <a:moveTo>
                          <a:pt x="0" y="0"/>
                        </a:moveTo>
                        <a:lnTo>
                          <a:pt x="88" y="5"/>
                        </a:lnTo>
                        <a:lnTo>
                          <a:pt x="107" y="13"/>
                        </a:lnTo>
                        <a:lnTo>
                          <a:pt x="107" y="38"/>
                        </a:lnTo>
                        <a:lnTo>
                          <a:pt x="114" y="64"/>
                        </a:lnTo>
                        <a:lnTo>
                          <a:pt x="199" y="72"/>
                        </a:lnTo>
                        <a:lnTo>
                          <a:pt x="95" y="69"/>
                        </a:lnTo>
                        <a:lnTo>
                          <a:pt x="81" y="22"/>
                        </a:lnTo>
                        <a:lnTo>
                          <a:pt x="0" y="0"/>
                        </a:lnTo>
                        <a:close/>
                      </a:path>
                    </a:pathLst>
                  </a:custGeom>
                  <a:solidFill>
                    <a:srgbClr val="60606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90" name=""/>
                  <p:cNvSpPr/>
                  <p:nvPr/>
                </p:nvSpPr>
                <p:spPr>
                  <a:xfrm>
                    <a:off x="781200" y="5224320"/>
                    <a:ext cx="252720" cy="43200"/>
                  </a:xfrm>
                  <a:custGeom>
                    <a:avLst/>
                    <a:gdLst/>
                    <a:ahLst/>
                    <a:rect l="0" t="0" r="r" b="b"/>
                    <a:pathLst>
                      <a:path w="702" h="120">
                        <a:moveTo>
                          <a:pt x="0" y="0"/>
                        </a:moveTo>
                        <a:lnTo>
                          <a:pt x="177" y="5"/>
                        </a:lnTo>
                        <a:lnTo>
                          <a:pt x="362" y="35"/>
                        </a:lnTo>
                        <a:lnTo>
                          <a:pt x="496" y="38"/>
                        </a:lnTo>
                        <a:lnTo>
                          <a:pt x="610" y="55"/>
                        </a:lnTo>
                        <a:lnTo>
                          <a:pt x="652" y="97"/>
                        </a:lnTo>
                        <a:lnTo>
                          <a:pt x="702" y="120"/>
                        </a:lnTo>
                        <a:lnTo>
                          <a:pt x="652" y="111"/>
                        </a:lnTo>
                        <a:lnTo>
                          <a:pt x="599" y="67"/>
                        </a:lnTo>
                        <a:lnTo>
                          <a:pt x="454" y="44"/>
                        </a:lnTo>
                        <a:lnTo>
                          <a:pt x="362" y="44"/>
                        </a:lnTo>
                        <a:lnTo>
                          <a:pt x="290" y="35"/>
                        </a:lnTo>
                        <a:lnTo>
                          <a:pt x="166" y="11"/>
                        </a:lnTo>
                        <a:lnTo>
                          <a:pt x="0" y="0"/>
                        </a:lnTo>
                        <a:close/>
                      </a:path>
                    </a:pathLst>
                  </a:custGeom>
                  <a:solidFill>
                    <a:srgbClr val="606060"/>
                  </a:solidFill>
                  <a:ln w="0">
                    <a:noFill/>
                  </a:ln>
                </p:spPr>
                <p:txBody>
                  <a:bodyPr lIns="90000" rIns="90000" tIns="-1800" bIns="-1800" anchor="t">
                    <a:noAutofit/>
                  </a:bodyPr>
                  <a:p>
                    <a:endParaRPr b="0" lang="en-US" sz="1800" spc="-1" strike="noStrike">
                      <a:solidFill>
                        <a:srgbClr val="000000"/>
                      </a:solidFill>
                      <a:latin typeface="Arial"/>
                    </a:endParaRPr>
                  </a:p>
                </p:txBody>
              </p:sp>
            </p:grpSp>
            <p:grpSp>
              <p:nvGrpSpPr>
                <p:cNvPr id="491" name=""/>
                <p:cNvGrpSpPr/>
                <p:nvPr/>
              </p:nvGrpSpPr>
              <p:grpSpPr>
                <a:xfrm>
                  <a:off x="728640" y="4846680"/>
                  <a:ext cx="263880" cy="109800"/>
                  <a:chOff x="728640" y="4846680"/>
                  <a:chExt cx="263880" cy="109800"/>
                </a:xfrm>
              </p:grpSpPr>
              <p:grpSp>
                <p:nvGrpSpPr>
                  <p:cNvPr id="492" name=""/>
                  <p:cNvGrpSpPr/>
                  <p:nvPr/>
                </p:nvGrpSpPr>
                <p:grpSpPr>
                  <a:xfrm>
                    <a:off x="762120" y="4846680"/>
                    <a:ext cx="230400" cy="92520"/>
                    <a:chOff x="762120" y="4846680"/>
                    <a:chExt cx="230400" cy="92520"/>
                  </a:xfrm>
                </p:grpSpPr>
                <p:sp>
                  <p:nvSpPr>
                    <p:cNvPr id="493" name=""/>
                    <p:cNvSpPr/>
                    <p:nvPr/>
                  </p:nvSpPr>
                  <p:spPr>
                    <a:xfrm>
                      <a:off x="762120" y="4846680"/>
                      <a:ext cx="230400" cy="89280"/>
                    </a:xfrm>
                    <a:custGeom>
                      <a:avLst/>
                      <a:gdLst/>
                      <a:ahLst/>
                      <a:rect l="0" t="0" r="r" b="b"/>
                      <a:pathLst>
                        <a:path w="640" h="248">
                          <a:moveTo>
                            <a:pt x="59" y="248"/>
                          </a:moveTo>
                          <a:lnTo>
                            <a:pt x="94" y="243"/>
                          </a:lnTo>
                          <a:lnTo>
                            <a:pt x="126" y="230"/>
                          </a:lnTo>
                          <a:lnTo>
                            <a:pt x="158" y="224"/>
                          </a:lnTo>
                          <a:lnTo>
                            <a:pt x="210" y="232"/>
                          </a:lnTo>
                          <a:lnTo>
                            <a:pt x="249" y="230"/>
                          </a:lnTo>
                          <a:lnTo>
                            <a:pt x="277" y="224"/>
                          </a:lnTo>
                          <a:lnTo>
                            <a:pt x="298" y="216"/>
                          </a:lnTo>
                          <a:lnTo>
                            <a:pt x="319" y="211"/>
                          </a:lnTo>
                          <a:lnTo>
                            <a:pt x="345" y="195"/>
                          </a:lnTo>
                          <a:lnTo>
                            <a:pt x="362" y="178"/>
                          </a:lnTo>
                          <a:lnTo>
                            <a:pt x="394" y="162"/>
                          </a:lnTo>
                          <a:lnTo>
                            <a:pt x="436" y="167"/>
                          </a:lnTo>
                          <a:lnTo>
                            <a:pt x="461" y="167"/>
                          </a:lnTo>
                          <a:lnTo>
                            <a:pt x="475" y="164"/>
                          </a:lnTo>
                          <a:lnTo>
                            <a:pt x="482" y="159"/>
                          </a:lnTo>
                          <a:lnTo>
                            <a:pt x="489" y="148"/>
                          </a:lnTo>
                          <a:lnTo>
                            <a:pt x="485" y="140"/>
                          </a:lnTo>
                          <a:lnTo>
                            <a:pt x="475" y="129"/>
                          </a:lnTo>
                          <a:lnTo>
                            <a:pt x="461" y="127"/>
                          </a:lnTo>
                          <a:lnTo>
                            <a:pt x="426" y="124"/>
                          </a:lnTo>
                          <a:lnTo>
                            <a:pt x="387" y="111"/>
                          </a:lnTo>
                          <a:lnTo>
                            <a:pt x="419" y="92"/>
                          </a:lnTo>
                          <a:lnTo>
                            <a:pt x="461" y="78"/>
                          </a:lnTo>
                          <a:lnTo>
                            <a:pt x="496" y="81"/>
                          </a:lnTo>
                          <a:lnTo>
                            <a:pt x="535" y="78"/>
                          </a:lnTo>
                          <a:lnTo>
                            <a:pt x="559" y="86"/>
                          </a:lnTo>
                          <a:lnTo>
                            <a:pt x="591" y="86"/>
                          </a:lnTo>
                          <a:lnTo>
                            <a:pt x="601" y="78"/>
                          </a:lnTo>
                          <a:lnTo>
                            <a:pt x="605" y="68"/>
                          </a:lnTo>
                          <a:lnTo>
                            <a:pt x="622" y="70"/>
                          </a:lnTo>
                          <a:lnTo>
                            <a:pt x="633" y="68"/>
                          </a:lnTo>
                          <a:lnTo>
                            <a:pt x="640" y="56"/>
                          </a:lnTo>
                          <a:lnTo>
                            <a:pt x="636" y="48"/>
                          </a:lnTo>
                          <a:lnTo>
                            <a:pt x="626" y="42"/>
                          </a:lnTo>
                          <a:lnTo>
                            <a:pt x="608" y="37"/>
                          </a:lnTo>
                          <a:lnTo>
                            <a:pt x="594" y="29"/>
                          </a:lnTo>
                          <a:lnTo>
                            <a:pt x="577" y="21"/>
                          </a:lnTo>
                          <a:lnTo>
                            <a:pt x="559" y="18"/>
                          </a:lnTo>
                          <a:lnTo>
                            <a:pt x="542" y="18"/>
                          </a:lnTo>
                          <a:lnTo>
                            <a:pt x="464" y="5"/>
                          </a:lnTo>
                          <a:lnTo>
                            <a:pt x="450" y="2"/>
                          </a:lnTo>
                          <a:lnTo>
                            <a:pt x="429" y="0"/>
                          </a:lnTo>
                          <a:lnTo>
                            <a:pt x="412" y="2"/>
                          </a:lnTo>
                          <a:lnTo>
                            <a:pt x="387" y="8"/>
                          </a:lnTo>
                          <a:lnTo>
                            <a:pt x="319" y="37"/>
                          </a:lnTo>
                          <a:lnTo>
                            <a:pt x="288" y="40"/>
                          </a:lnTo>
                          <a:lnTo>
                            <a:pt x="259" y="45"/>
                          </a:lnTo>
                          <a:lnTo>
                            <a:pt x="238" y="56"/>
                          </a:lnTo>
                          <a:lnTo>
                            <a:pt x="224" y="70"/>
                          </a:lnTo>
                          <a:lnTo>
                            <a:pt x="168" y="100"/>
                          </a:lnTo>
                          <a:lnTo>
                            <a:pt x="144" y="113"/>
                          </a:lnTo>
                          <a:lnTo>
                            <a:pt x="112" y="140"/>
                          </a:lnTo>
                          <a:lnTo>
                            <a:pt x="91" y="148"/>
                          </a:lnTo>
                          <a:lnTo>
                            <a:pt x="0" y="151"/>
                          </a:lnTo>
                          <a:lnTo>
                            <a:pt x="59" y="248"/>
                          </a:lnTo>
                          <a:close/>
                        </a:path>
                      </a:pathLst>
                    </a:custGeom>
                    <a:solidFill>
                      <a:srgbClr val="ffc080"/>
                    </a:solidFill>
                    <a:ln w="12600">
                      <a:solidFill>
                        <a:srgbClr val="402000"/>
                      </a:solidFill>
                      <a:round/>
                    </a:ln>
                  </p:spPr>
                  <p:txBody>
                    <a:bodyPr lIns="96120" rIns="96120" tIns="38160" bIns="38160" anchor="t">
                      <a:noAutofit/>
                    </a:bodyPr>
                    <a:p>
                      <a:endParaRPr b="0" lang="en-US" sz="1800" spc="-1" strike="noStrike">
                        <a:solidFill>
                          <a:srgbClr val="000000"/>
                        </a:solidFill>
                        <a:latin typeface="Arial"/>
                      </a:endParaRPr>
                    </a:p>
                  </p:txBody>
                </p:sp>
                <p:sp>
                  <p:nvSpPr>
                    <p:cNvPr id="494" name=""/>
                    <p:cNvSpPr/>
                    <p:nvPr/>
                  </p:nvSpPr>
                  <p:spPr>
                    <a:xfrm>
                      <a:off x="858960" y="4883040"/>
                      <a:ext cx="44640" cy="25920"/>
                    </a:xfrm>
                    <a:custGeom>
                      <a:avLst/>
                      <a:gdLst/>
                      <a:ahLst/>
                      <a:rect l="0" t="0" r="r" b="b"/>
                      <a:pathLst>
                        <a:path w="124" h="72">
                          <a:moveTo>
                            <a:pt x="124" y="0"/>
                          </a:moveTo>
                          <a:lnTo>
                            <a:pt x="120" y="23"/>
                          </a:lnTo>
                          <a:lnTo>
                            <a:pt x="99" y="23"/>
                          </a:lnTo>
                          <a:lnTo>
                            <a:pt x="89" y="23"/>
                          </a:lnTo>
                          <a:lnTo>
                            <a:pt x="71" y="45"/>
                          </a:lnTo>
                          <a:lnTo>
                            <a:pt x="45" y="45"/>
                          </a:lnTo>
                          <a:lnTo>
                            <a:pt x="21" y="45"/>
                          </a:lnTo>
                          <a:lnTo>
                            <a:pt x="0" y="72"/>
                          </a:lnTo>
                          <a:lnTo>
                            <a:pt x="17" y="45"/>
                          </a:lnTo>
                          <a:lnTo>
                            <a:pt x="38" y="45"/>
                          </a:lnTo>
                          <a:lnTo>
                            <a:pt x="52" y="45"/>
                          </a:lnTo>
                          <a:lnTo>
                            <a:pt x="71" y="23"/>
                          </a:lnTo>
                          <a:lnTo>
                            <a:pt x="89" y="23"/>
                          </a:lnTo>
                          <a:lnTo>
                            <a:pt x="96" y="0"/>
                          </a:lnTo>
                          <a:lnTo>
                            <a:pt x="124"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95" name=""/>
                    <p:cNvSpPr/>
                    <p:nvPr/>
                  </p:nvSpPr>
                  <p:spPr>
                    <a:xfrm>
                      <a:off x="923760" y="4892760"/>
                      <a:ext cx="25920" cy="25920"/>
                    </a:xfrm>
                    <a:custGeom>
                      <a:avLst/>
                      <a:gdLst/>
                      <a:ahLst/>
                      <a:rect l="0" t="0" r="r" b="b"/>
                      <a:pathLst>
                        <a:path w="72" h="72">
                          <a:moveTo>
                            <a:pt x="45" y="0"/>
                          </a:moveTo>
                          <a:lnTo>
                            <a:pt x="23" y="0"/>
                          </a:lnTo>
                          <a:lnTo>
                            <a:pt x="45" y="36"/>
                          </a:lnTo>
                          <a:lnTo>
                            <a:pt x="72" y="72"/>
                          </a:lnTo>
                          <a:lnTo>
                            <a:pt x="23" y="36"/>
                          </a:lnTo>
                          <a:lnTo>
                            <a:pt x="0" y="36"/>
                          </a:lnTo>
                          <a:lnTo>
                            <a:pt x="45"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96" name=""/>
                    <p:cNvSpPr/>
                    <p:nvPr/>
                  </p:nvSpPr>
                  <p:spPr>
                    <a:xfrm>
                      <a:off x="958680" y="4857840"/>
                      <a:ext cx="25920" cy="25920"/>
                    </a:xfrm>
                    <a:custGeom>
                      <a:avLst/>
                      <a:gdLst/>
                      <a:ahLst/>
                      <a:rect l="0" t="0" r="r" b="b"/>
                      <a:pathLst>
                        <a:path w="72" h="72">
                          <a:moveTo>
                            <a:pt x="72" y="72"/>
                          </a:moveTo>
                          <a:lnTo>
                            <a:pt x="64" y="72"/>
                          </a:lnTo>
                          <a:lnTo>
                            <a:pt x="51" y="45"/>
                          </a:lnTo>
                          <a:lnTo>
                            <a:pt x="40" y="45"/>
                          </a:lnTo>
                          <a:lnTo>
                            <a:pt x="32" y="23"/>
                          </a:lnTo>
                          <a:lnTo>
                            <a:pt x="28" y="23"/>
                          </a:lnTo>
                          <a:lnTo>
                            <a:pt x="11" y="0"/>
                          </a:lnTo>
                          <a:lnTo>
                            <a:pt x="0" y="0"/>
                          </a:lnTo>
                          <a:lnTo>
                            <a:pt x="11" y="0"/>
                          </a:lnTo>
                          <a:lnTo>
                            <a:pt x="32" y="0"/>
                          </a:lnTo>
                          <a:lnTo>
                            <a:pt x="40" y="23"/>
                          </a:lnTo>
                          <a:lnTo>
                            <a:pt x="48" y="23"/>
                          </a:lnTo>
                          <a:lnTo>
                            <a:pt x="7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97" name=""/>
                    <p:cNvSpPr/>
                    <p:nvPr/>
                  </p:nvSpPr>
                  <p:spPr>
                    <a:xfrm>
                      <a:off x="893880" y="4853160"/>
                      <a:ext cx="39960" cy="25920"/>
                    </a:xfrm>
                    <a:custGeom>
                      <a:avLst/>
                      <a:gdLst/>
                      <a:ahLst/>
                      <a:rect l="0" t="0" r="r" b="b"/>
                      <a:pathLst>
                        <a:path w="111" h="72">
                          <a:moveTo>
                            <a:pt x="111" y="0"/>
                          </a:moveTo>
                          <a:lnTo>
                            <a:pt x="90" y="0"/>
                          </a:lnTo>
                          <a:lnTo>
                            <a:pt x="76" y="0"/>
                          </a:lnTo>
                          <a:lnTo>
                            <a:pt x="69" y="0"/>
                          </a:lnTo>
                          <a:lnTo>
                            <a:pt x="56" y="0"/>
                          </a:lnTo>
                          <a:lnTo>
                            <a:pt x="48" y="36"/>
                          </a:lnTo>
                          <a:lnTo>
                            <a:pt x="34" y="36"/>
                          </a:lnTo>
                          <a:lnTo>
                            <a:pt x="17" y="72"/>
                          </a:lnTo>
                          <a:lnTo>
                            <a:pt x="0" y="72"/>
                          </a:lnTo>
                          <a:lnTo>
                            <a:pt x="17" y="72"/>
                          </a:lnTo>
                          <a:lnTo>
                            <a:pt x="27" y="72"/>
                          </a:lnTo>
                          <a:lnTo>
                            <a:pt x="48" y="36"/>
                          </a:lnTo>
                          <a:lnTo>
                            <a:pt x="59" y="0"/>
                          </a:lnTo>
                          <a:lnTo>
                            <a:pt x="76" y="0"/>
                          </a:lnTo>
                          <a:lnTo>
                            <a:pt x="90" y="0"/>
                          </a:lnTo>
                          <a:lnTo>
                            <a:pt x="111"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98" name=""/>
                    <p:cNvSpPr/>
                    <p:nvPr/>
                  </p:nvSpPr>
                  <p:spPr>
                    <a:xfrm>
                      <a:off x="974880" y="4862520"/>
                      <a:ext cx="0" cy="25560"/>
                    </a:xfrm>
                    <a:prstGeom prst="line">
                      <a:avLst/>
                    </a:prstGeom>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499" name=""/>
                    <p:cNvSpPr/>
                    <p:nvPr/>
                  </p:nvSpPr>
                  <p:spPr>
                    <a:xfrm>
                      <a:off x="985680" y="4859280"/>
                      <a:ext cx="0" cy="25200"/>
                    </a:xfrm>
                    <a:custGeom>
                      <a:avLst/>
                      <a:gdLst/>
                      <a:ahLst/>
                      <a:rect l="0" t="0" r="r" b="b"/>
                      <a:pathLst>
                        <a:path w="0" h="70">
                          <a:moveTo>
                            <a:pt x="0" y="70"/>
                          </a:moveTo>
                          <a:lnTo>
                            <a:pt x="0" y="0"/>
                          </a:lnTo>
                          <a:lnTo>
                            <a:pt x="0" y="70"/>
                          </a:lnTo>
                          <a:close/>
                        </a:path>
                      </a:pathLst>
                    </a:custGeom>
                    <a:solidFill>
                      <a:srgbClr val="402000"/>
                    </a:solidFill>
                    <a:ln w="0">
                      <a:noFill/>
                    </a:ln>
                  </p:spPr>
                  <p:txBody>
                    <a:bodyPr lIns="90000" rIns="90000" tIns="-19800" bIns="-19800" anchor="t">
                      <a:noAutofit/>
                    </a:bodyPr>
                    <a:p>
                      <a:endParaRPr b="0" lang="en-US" sz="1800" spc="-1" strike="noStrike">
                        <a:solidFill>
                          <a:srgbClr val="ffffff"/>
                        </a:solidFill>
                        <a:latin typeface="Arial"/>
                      </a:endParaRPr>
                    </a:p>
                  </p:txBody>
                </p:sp>
                <p:sp>
                  <p:nvSpPr>
                    <p:cNvPr id="500" name=""/>
                    <p:cNvSpPr/>
                    <p:nvPr/>
                  </p:nvSpPr>
                  <p:spPr>
                    <a:xfrm>
                      <a:off x="855720" y="4869000"/>
                      <a:ext cx="25920" cy="25920"/>
                    </a:xfrm>
                    <a:custGeom>
                      <a:avLst/>
                      <a:gdLst/>
                      <a:ahLst/>
                      <a:rect l="0" t="0" r="r" b="b"/>
                      <a:pathLst>
                        <a:path w="72" h="72">
                          <a:moveTo>
                            <a:pt x="72" y="0"/>
                          </a:moveTo>
                          <a:lnTo>
                            <a:pt x="72" y="36"/>
                          </a:lnTo>
                          <a:lnTo>
                            <a:pt x="0" y="72"/>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01" name=""/>
                    <p:cNvSpPr/>
                    <p:nvPr/>
                  </p:nvSpPr>
                  <p:spPr>
                    <a:xfrm>
                      <a:off x="811080" y="4913280"/>
                      <a:ext cx="25920" cy="25920"/>
                    </a:xfrm>
                    <a:custGeom>
                      <a:avLst/>
                      <a:gdLst/>
                      <a:ahLst/>
                      <a:rect l="0" t="0" r="r" b="b"/>
                      <a:pathLst>
                        <a:path w="72" h="72">
                          <a:moveTo>
                            <a:pt x="0" y="0"/>
                          </a:moveTo>
                          <a:lnTo>
                            <a:pt x="53" y="0"/>
                          </a:lnTo>
                          <a:lnTo>
                            <a:pt x="72" y="72"/>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grpSp>
              <p:grpSp>
                <p:nvGrpSpPr>
                  <p:cNvPr id="502" name=""/>
                  <p:cNvGrpSpPr/>
                  <p:nvPr/>
                </p:nvGrpSpPr>
                <p:grpSpPr>
                  <a:xfrm>
                    <a:off x="728640" y="4892760"/>
                    <a:ext cx="66960" cy="63720"/>
                    <a:chOff x="728640" y="4892760"/>
                    <a:chExt cx="66960" cy="63720"/>
                  </a:xfrm>
                </p:grpSpPr>
                <p:sp>
                  <p:nvSpPr>
                    <p:cNvPr id="503" name=""/>
                    <p:cNvSpPr/>
                    <p:nvPr/>
                  </p:nvSpPr>
                  <p:spPr>
                    <a:xfrm>
                      <a:off x="728640" y="4892760"/>
                      <a:ext cx="66960" cy="63720"/>
                    </a:xfrm>
                    <a:custGeom>
                      <a:avLst/>
                      <a:gdLst/>
                      <a:ahLst/>
                      <a:rect l="0" t="0" r="r" b="b"/>
                      <a:pathLst>
                        <a:path w="186" h="177">
                          <a:moveTo>
                            <a:pt x="123" y="11"/>
                          </a:moveTo>
                          <a:lnTo>
                            <a:pt x="151" y="35"/>
                          </a:lnTo>
                          <a:lnTo>
                            <a:pt x="165" y="57"/>
                          </a:lnTo>
                          <a:lnTo>
                            <a:pt x="179" y="91"/>
                          </a:lnTo>
                          <a:lnTo>
                            <a:pt x="179" y="111"/>
                          </a:lnTo>
                          <a:lnTo>
                            <a:pt x="186" y="141"/>
                          </a:lnTo>
                          <a:lnTo>
                            <a:pt x="34" y="177"/>
                          </a:lnTo>
                          <a:lnTo>
                            <a:pt x="0" y="0"/>
                          </a:lnTo>
                          <a:lnTo>
                            <a:pt x="62" y="11"/>
                          </a:lnTo>
                          <a:lnTo>
                            <a:pt x="123" y="11"/>
                          </a:lnTo>
                          <a:close/>
                        </a:path>
                      </a:pathLst>
                    </a:custGeom>
                    <a:solidFill>
                      <a:srgbClr val="c0c0c0"/>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504" name=""/>
                    <p:cNvSpPr/>
                    <p:nvPr/>
                  </p:nvSpPr>
                  <p:spPr>
                    <a:xfrm>
                      <a:off x="744480" y="4898880"/>
                      <a:ext cx="44640" cy="44640"/>
                    </a:xfrm>
                    <a:custGeom>
                      <a:avLst/>
                      <a:gdLst/>
                      <a:ahLst/>
                      <a:rect l="0" t="0" r="r" b="b"/>
                      <a:pathLst>
                        <a:path w="124" h="124">
                          <a:moveTo>
                            <a:pt x="75" y="5"/>
                          </a:moveTo>
                          <a:lnTo>
                            <a:pt x="96" y="24"/>
                          </a:lnTo>
                          <a:lnTo>
                            <a:pt x="117" y="53"/>
                          </a:lnTo>
                          <a:lnTo>
                            <a:pt x="117" y="70"/>
                          </a:lnTo>
                          <a:lnTo>
                            <a:pt x="124" y="97"/>
                          </a:lnTo>
                          <a:lnTo>
                            <a:pt x="24" y="124"/>
                          </a:lnTo>
                          <a:lnTo>
                            <a:pt x="0" y="0"/>
                          </a:lnTo>
                          <a:lnTo>
                            <a:pt x="38" y="8"/>
                          </a:lnTo>
                          <a:lnTo>
                            <a:pt x="75" y="5"/>
                          </a:lnTo>
                          <a:close/>
                        </a:path>
                      </a:pathLst>
                    </a:custGeom>
                    <a:solidFill>
                      <a:srgbClr val="e0e0e0"/>
                    </a:solidFill>
                    <a:ln w="0">
                      <a:noFill/>
                    </a:ln>
                  </p:spPr>
                  <p:txBody>
                    <a:bodyPr lIns="90000" rIns="90000" tIns="-360" bIns="-360" anchor="t">
                      <a:noAutofit/>
                    </a:bodyPr>
                    <a:p>
                      <a:endParaRPr b="0" lang="en-US" sz="1800" spc="-1" strike="noStrike">
                        <a:solidFill>
                          <a:srgbClr val="000000"/>
                        </a:solidFill>
                        <a:latin typeface="Arial"/>
                      </a:endParaRPr>
                    </a:p>
                  </p:txBody>
                </p:sp>
              </p:grpSp>
            </p:grpSp>
            <p:sp>
              <p:nvSpPr>
                <p:cNvPr id="505" name=""/>
                <p:cNvSpPr/>
                <p:nvPr/>
              </p:nvSpPr>
              <p:spPr>
                <a:xfrm>
                  <a:off x="509760" y="4549680"/>
                  <a:ext cx="227520" cy="190800"/>
                </a:xfrm>
                <a:custGeom>
                  <a:avLst/>
                  <a:gdLst/>
                  <a:ahLst/>
                  <a:rect l="0" t="0" r="r" b="b"/>
                  <a:pathLst>
                    <a:path w="632" h="530">
                      <a:moveTo>
                        <a:pt x="423" y="16"/>
                      </a:moveTo>
                      <a:lnTo>
                        <a:pt x="481" y="46"/>
                      </a:lnTo>
                      <a:lnTo>
                        <a:pt x="509" y="84"/>
                      </a:lnTo>
                      <a:lnTo>
                        <a:pt x="537" y="124"/>
                      </a:lnTo>
                      <a:lnTo>
                        <a:pt x="555" y="146"/>
                      </a:lnTo>
                      <a:lnTo>
                        <a:pt x="555" y="168"/>
                      </a:lnTo>
                      <a:lnTo>
                        <a:pt x="540" y="195"/>
                      </a:lnTo>
                      <a:lnTo>
                        <a:pt x="569" y="217"/>
                      </a:lnTo>
                      <a:lnTo>
                        <a:pt x="611" y="275"/>
                      </a:lnTo>
                      <a:lnTo>
                        <a:pt x="632" y="307"/>
                      </a:lnTo>
                      <a:lnTo>
                        <a:pt x="632" y="315"/>
                      </a:lnTo>
                      <a:lnTo>
                        <a:pt x="629" y="326"/>
                      </a:lnTo>
                      <a:lnTo>
                        <a:pt x="607" y="332"/>
                      </a:lnTo>
                      <a:lnTo>
                        <a:pt x="583" y="332"/>
                      </a:lnTo>
                      <a:lnTo>
                        <a:pt x="565" y="334"/>
                      </a:lnTo>
                      <a:lnTo>
                        <a:pt x="569" y="359"/>
                      </a:lnTo>
                      <a:lnTo>
                        <a:pt x="576" y="386"/>
                      </a:lnTo>
                      <a:lnTo>
                        <a:pt x="558" y="399"/>
                      </a:lnTo>
                      <a:lnTo>
                        <a:pt x="565" y="421"/>
                      </a:lnTo>
                      <a:lnTo>
                        <a:pt x="551" y="432"/>
                      </a:lnTo>
                      <a:lnTo>
                        <a:pt x="540" y="467"/>
                      </a:lnTo>
                      <a:lnTo>
                        <a:pt x="519" y="478"/>
                      </a:lnTo>
                      <a:lnTo>
                        <a:pt x="491" y="478"/>
                      </a:lnTo>
                      <a:lnTo>
                        <a:pt x="448" y="473"/>
                      </a:lnTo>
                      <a:lnTo>
                        <a:pt x="402" y="467"/>
                      </a:lnTo>
                      <a:lnTo>
                        <a:pt x="406" y="530"/>
                      </a:lnTo>
                      <a:lnTo>
                        <a:pt x="70" y="448"/>
                      </a:lnTo>
                      <a:lnTo>
                        <a:pt x="98" y="399"/>
                      </a:lnTo>
                      <a:lnTo>
                        <a:pt x="91" y="361"/>
                      </a:lnTo>
                      <a:lnTo>
                        <a:pt x="0" y="291"/>
                      </a:lnTo>
                      <a:lnTo>
                        <a:pt x="0" y="100"/>
                      </a:lnTo>
                      <a:lnTo>
                        <a:pt x="59" y="48"/>
                      </a:lnTo>
                      <a:lnTo>
                        <a:pt x="137" y="21"/>
                      </a:lnTo>
                      <a:lnTo>
                        <a:pt x="222" y="0"/>
                      </a:lnTo>
                      <a:lnTo>
                        <a:pt x="328" y="10"/>
                      </a:lnTo>
                      <a:lnTo>
                        <a:pt x="423" y="16"/>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719280" y="4659480"/>
                  <a:ext cx="25920" cy="25920"/>
                </a:xfrm>
                <a:custGeom>
                  <a:avLst/>
                  <a:gdLst/>
                  <a:ahLst/>
                  <a:rect l="0" t="0" r="r" b="b"/>
                  <a:pathLst>
                    <a:path w="72" h="72">
                      <a:moveTo>
                        <a:pt x="72" y="0"/>
                      </a:moveTo>
                      <a:lnTo>
                        <a:pt x="72" y="72"/>
                      </a:lnTo>
                      <a:lnTo>
                        <a:pt x="36" y="36"/>
                      </a:lnTo>
                      <a:lnTo>
                        <a:pt x="0" y="72"/>
                      </a:lnTo>
                      <a:lnTo>
                        <a:pt x="0" y="0"/>
                      </a:lnTo>
                      <a:lnTo>
                        <a:pt x="36" y="0"/>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07" name=""/>
                <p:cNvSpPr/>
                <p:nvPr/>
              </p:nvSpPr>
              <p:spPr>
                <a:xfrm>
                  <a:off x="712800" y="4654440"/>
                  <a:ext cx="25920" cy="25920"/>
                </a:xfrm>
                <a:custGeom>
                  <a:avLst/>
                  <a:gdLst/>
                  <a:ahLst/>
                  <a:rect l="0" t="0" r="r" b="b"/>
                  <a:pathLst>
                    <a:path w="72" h="72">
                      <a:moveTo>
                        <a:pt x="72" y="0"/>
                      </a:moveTo>
                      <a:lnTo>
                        <a:pt x="17" y="0"/>
                      </a:lnTo>
                      <a:lnTo>
                        <a:pt x="17" y="72"/>
                      </a:lnTo>
                      <a:lnTo>
                        <a:pt x="0" y="0"/>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08" name=""/>
                <p:cNvSpPr/>
                <p:nvPr/>
              </p:nvSpPr>
              <p:spPr>
                <a:xfrm>
                  <a:off x="701640" y="4632480"/>
                  <a:ext cx="25920" cy="25920"/>
                </a:xfrm>
                <a:custGeom>
                  <a:avLst/>
                  <a:gdLst/>
                  <a:ahLst/>
                  <a:rect l="0" t="0" r="r" b="b"/>
                  <a:pathLst>
                    <a:path w="72" h="72">
                      <a:moveTo>
                        <a:pt x="0" y="0"/>
                      </a:moveTo>
                      <a:lnTo>
                        <a:pt x="45" y="36"/>
                      </a:lnTo>
                      <a:lnTo>
                        <a:pt x="72" y="72"/>
                      </a:lnTo>
                      <a:lnTo>
                        <a:pt x="45" y="45"/>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09" name=""/>
                <p:cNvSpPr/>
                <p:nvPr/>
              </p:nvSpPr>
              <p:spPr>
                <a:xfrm>
                  <a:off x="682560" y="4621320"/>
                  <a:ext cx="25920" cy="25920"/>
                </a:xfrm>
                <a:custGeom>
                  <a:avLst/>
                  <a:gdLst/>
                  <a:ahLst/>
                  <a:rect l="0" t="0" r="r" b="b"/>
                  <a:pathLst>
                    <a:path w="72" h="72">
                      <a:moveTo>
                        <a:pt x="72" y="0"/>
                      </a:moveTo>
                      <a:lnTo>
                        <a:pt x="59" y="36"/>
                      </a:lnTo>
                      <a:lnTo>
                        <a:pt x="59" y="53"/>
                      </a:lnTo>
                      <a:lnTo>
                        <a:pt x="63" y="72"/>
                      </a:lnTo>
                      <a:lnTo>
                        <a:pt x="49" y="53"/>
                      </a:lnTo>
                      <a:lnTo>
                        <a:pt x="36" y="53"/>
                      </a:lnTo>
                      <a:lnTo>
                        <a:pt x="23" y="36"/>
                      </a:lnTo>
                      <a:lnTo>
                        <a:pt x="0" y="36"/>
                      </a:lnTo>
                      <a:lnTo>
                        <a:pt x="23" y="17"/>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10" name=""/>
                <p:cNvSpPr/>
                <p:nvPr/>
              </p:nvSpPr>
              <p:spPr>
                <a:xfrm>
                  <a:off x="673200" y="4600440"/>
                  <a:ext cx="32040" cy="25920"/>
                </a:xfrm>
                <a:custGeom>
                  <a:avLst/>
                  <a:gdLst/>
                  <a:ahLst/>
                  <a:rect l="0" t="0" r="r" b="b"/>
                  <a:pathLst>
                    <a:path w="89" h="72">
                      <a:moveTo>
                        <a:pt x="89" y="36"/>
                      </a:moveTo>
                      <a:lnTo>
                        <a:pt x="85" y="53"/>
                      </a:lnTo>
                      <a:lnTo>
                        <a:pt x="75" y="72"/>
                      </a:lnTo>
                      <a:lnTo>
                        <a:pt x="60" y="53"/>
                      </a:lnTo>
                      <a:lnTo>
                        <a:pt x="42" y="36"/>
                      </a:lnTo>
                      <a:lnTo>
                        <a:pt x="17" y="36"/>
                      </a:lnTo>
                      <a:lnTo>
                        <a:pt x="0" y="36"/>
                      </a:lnTo>
                      <a:lnTo>
                        <a:pt x="24" y="17"/>
                      </a:lnTo>
                      <a:lnTo>
                        <a:pt x="38" y="17"/>
                      </a:lnTo>
                      <a:lnTo>
                        <a:pt x="38" y="0"/>
                      </a:lnTo>
                      <a:lnTo>
                        <a:pt x="50" y="17"/>
                      </a:lnTo>
                      <a:lnTo>
                        <a:pt x="50" y="0"/>
                      </a:lnTo>
                      <a:lnTo>
                        <a:pt x="60" y="17"/>
                      </a:lnTo>
                      <a:lnTo>
                        <a:pt x="71" y="17"/>
                      </a:lnTo>
                      <a:lnTo>
                        <a:pt x="89" y="36"/>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11" name=""/>
                <p:cNvSpPr/>
                <p:nvPr/>
              </p:nvSpPr>
              <p:spPr>
                <a:xfrm>
                  <a:off x="598320" y="4616280"/>
                  <a:ext cx="25920" cy="32040"/>
                </a:xfrm>
                <a:custGeom>
                  <a:avLst/>
                  <a:gdLst/>
                  <a:ahLst/>
                  <a:rect l="0" t="0" r="r" b="b"/>
                  <a:pathLst>
                    <a:path w="72" h="89">
                      <a:moveTo>
                        <a:pt x="72" y="17"/>
                      </a:moveTo>
                      <a:lnTo>
                        <a:pt x="49" y="5"/>
                      </a:lnTo>
                      <a:lnTo>
                        <a:pt x="17" y="8"/>
                      </a:lnTo>
                      <a:lnTo>
                        <a:pt x="4" y="22"/>
                      </a:lnTo>
                      <a:lnTo>
                        <a:pt x="4" y="42"/>
                      </a:lnTo>
                      <a:lnTo>
                        <a:pt x="4" y="60"/>
                      </a:lnTo>
                      <a:lnTo>
                        <a:pt x="8" y="72"/>
                      </a:lnTo>
                      <a:lnTo>
                        <a:pt x="31" y="52"/>
                      </a:lnTo>
                      <a:lnTo>
                        <a:pt x="36" y="39"/>
                      </a:lnTo>
                      <a:lnTo>
                        <a:pt x="63" y="34"/>
                      </a:lnTo>
                      <a:lnTo>
                        <a:pt x="49" y="49"/>
                      </a:lnTo>
                      <a:lnTo>
                        <a:pt x="23" y="60"/>
                      </a:lnTo>
                      <a:lnTo>
                        <a:pt x="23" y="74"/>
                      </a:lnTo>
                      <a:lnTo>
                        <a:pt x="31" y="86"/>
                      </a:lnTo>
                      <a:lnTo>
                        <a:pt x="45" y="89"/>
                      </a:lnTo>
                      <a:lnTo>
                        <a:pt x="8" y="83"/>
                      </a:lnTo>
                      <a:lnTo>
                        <a:pt x="0" y="66"/>
                      </a:lnTo>
                      <a:lnTo>
                        <a:pt x="0" y="39"/>
                      </a:lnTo>
                      <a:lnTo>
                        <a:pt x="0" y="17"/>
                      </a:lnTo>
                      <a:lnTo>
                        <a:pt x="8" y="5"/>
                      </a:lnTo>
                      <a:lnTo>
                        <a:pt x="36" y="0"/>
                      </a:lnTo>
                      <a:lnTo>
                        <a:pt x="59" y="2"/>
                      </a:lnTo>
                      <a:lnTo>
                        <a:pt x="72" y="17"/>
                      </a:lnTo>
                      <a:close/>
                    </a:path>
                  </a:pathLst>
                </a:custGeom>
                <a:solidFill>
                  <a:srgbClr val="402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512" name=""/>
                <p:cNvSpPr/>
                <p:nvPr/>
              </p:nvSpPr>
              <p:spPr>
                <a:xfrm>
                  <a:off x="588960" y="4611600"/>
                  <a:ext cx="28800" cy="43200"/>
                </a:xfrm>
                <a:custGeom>
                  <a:avLst/>
                  <a:gdLst/>
                  <a:ahLst/>
                  <a:rect l="0" t="0" r="r" b="b"/>
                  <a:pathLst>
                    <a:path w="80" h="120">
                      <a:moveTo>
                        <a:pt x="80" y="29"/>
                      </a:moveTo>
                      <a:lnTo>
                        <a:pt x="66" y="10"/>
                      </a:lnTo>
                      <a:lnTo>
                        <a:pt x="45" y="5"/>
                      </a:lnTo>
                      <a:lnTo>
                        <a:pt x="20" y="8"/>
                      </a:lnTo>
                      <a:lnTo>
                        <a:pt x="13" y="21"/>
                      </a:lnTo>
                      <a:lnTo>
                        <a:pt x="3" y="37"/>
                      </a:lnTo>
                      <a:lnTo>
                        <a:pt x="3" y="51"/>
                      </a:lnTo>
                      <a:lnTo>
                        <a:pt x="10" y="63"/>
                      </a:lnTo>
                      <a:lnTo>
                        <a:pt x="10" y="76"/>
                      </a:lnTo>
                      <a:lnTo>
                        <a:pt x="13" y="95"/>
                      </a:lnTo>
                      <a:lnTo>
                        <a:pt x="31" y="111"/>
                      </a:lnTo>
                      <a:lnTo>
                        <a:pt x="42" y="111"/>
                      </a:lnTo>
                      <a:lnTo>
                        <a:pt x="56" y="111"/>
                      </a:lnTo>
                      <a:lnTo>
                        <a:pt x="45" y="120"/>
                      </a:lnTo>
                      <a:lnTo>
                        <a:pt x="34" y="117"/>
                      </a:lnTo>
                      <a:lnTo>
                        <a:pt x="17" y="111"/>
                      </a:lnTo>
                      <a:lnTo>
                        <a:pt x="3" y="98"/>
                      </a:lnTo>
                      <a:lnTo>
                        <a:pt x="3" y="68"/>
                      </a:lnTo>
                      <a:lnTo>
                        <a:pt x="0" y="48"/>
                      </a:lnTo>
                      <a:lnTo>
                        <a:pt x="0" y="32"/>
                      </a:lnTo>
                      <a:lnTo>
                        <a:pt x="6" y="18"/>
                      </a:lnTo>
                      <a:lnTo>
                        <a:pt x="13" y="5"/>
                      </a:lnTo>
                      <a:lnTo>
                        <a:pt x="34" y="0"/>
                      </a:lnTo>
                      <a:lnTo>
                        <a:pt x="66" y="5"/>
                      </a:lnTo>
                      <a:lnTo>
                        <a:pt x="76" y="10"/>
                      </a:lnTo>
                      <a:lnTo>
                        <a:pt x="80" y="29"/>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513" name=""/>
                <p:cNvSpPr/>
                <p:nvPr/>
              </p:nvSpPr>
              <p:spPr>
                <a:xfrm>
                  <a:off x="611280" y="4664160"/>
                  <a:ext cx="27360" cy="36720"/>
                </a:xfrm>
                <a:custGeom>
                  <a:avLst/>
                  <a:gdLst/>
                  <a:ahLst/>
                  <a:rect l="0" t="0" r="r" b="b"/>
                  <a:pathLst>
                    <a:path w="76" h="102">
                      <a:moveTo>
                        <a:pt x="0" y="0"/>
                      </a:moveTo>
                      <a:lnTo>
                        <a:pt x="10" y="22"/>
                      </a:lnTo>
                      <a:lnTo>
                        <a:pt x="25" y="45"/>
                      </a:lnTo>
                      <a:lnTo>
                        <a:pt x="43" y="65"/>
                      </a:lnTo>
                      <a:lnTo>
                        <a:pt x="66" y="93"/>
                      </a:lnTo>
                      <a:lnTo>
                        <a:pt x="76" y="102"/>
                      </a:lnTo>
                      <a:lnTo>
                        <a:pt x="50" y="91"/>
                      </a:lnTo>
                      <a:lnTo>
                        <a:pt x="33" y="65"/>
                      </a:lnTo>
                      <a:lnTo>
                        <a:pt x="14" y="36"/>
                      </a:lnTo>
                      <a:lnTo>
                        <a:pt x="0" y="0"/>
                      </a:lnTo>
                      <a:close/>
                    </a:path>
                  </a:pathLst>
                </a:custGeom>
                <a:solidFill>
                  <a:srgbClr val="40200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514" name=""/>
                <p:cNvSpPr/>
                <p:nvPr/>
              </p:nvSpPr>
              <p:spPr>
                <a:xfrm>
                  <a:off x="501480" y="4522680"/>
                  <a:ext cx="197280" cy="149760"/>
                </a:xfrm>
                <a:custGeom>
                  <a:avLst/>
                  <a:gdLst/>
                  <a:ahLst/>
                  <a:rect l="0" t="0" r="r" b="b"/>
                  <a:pathLst>
                    <a:path w="548" h="416">
                      <a:moveTo>
                        <a:pt x="506" y="122"/>
                      </a:moveTo>
                      <a:lnTo>
                        <a:pt x="421" y="111"/>
                      </a:lnTo>
                      <a:lnTo>
                        <a:pt x="367" y="116"/>
                      </a:lnTo>
                      <a:lnTo>
                        <a:pt x="332" y="146"/>
                      </a:lnTo>
                      <a:lnTo>
                        <a:pt x="353" y="181"/>
                      </a:lnTo>
                      <a:lnTo>
                        <a:pt x="378" y="192"/>
                      </a:lnTo>
                      <a:lnTo>
                        <a:pt x="385" y="229"/>
                      </a:lnTo>
                      <a:lnTo>
                        <a:pt x="371" y="248"/>
                      </a:lnTo>
                      <a:lnTo>
                        <a:pt x="381" y="283"/>
                      </a:lnTo>
                      <a:lnTo>
                        <a:pt x="350" y="283"/>
                      </a:lnTo>
                      <a:lnTo>
                        <a:pt x="339" y="243"/>
                      </a:lnTo>
                      <a:lnTo>
                        <a:pt x="318" y="229"/>
                      </a:lnTo>
                      <a:lnTo>
                        <a:pt x="279" y="229"/>
                      </a:lnTo>
                      <a:lnTo>
                        <a:pt x="240" y="235"/>
                      </a:lnTo>
                      <a:lnTo>
                        <a:pt x="230" y="262"/>
                      </a:lnTo>
                      <a:lnTo>
                        <a:pt x="223" y="294"/>
                      </a:lnTo>
                      <a:lnTo>
                        <a:pt x="230" y="322"/>
                      </a:lnTo>
                      <a:lnTo>
                        <a:pt x="230" y="341"/>
                      </a:lnTo>
                      <a:lnTo>
                        <a:pt x="226" y="362"/>
                      </a:lnTo>
                      <a:lnTo>
                        <a:pt x="198" y="384"/>
                      </a:lnTo>
                      <a:lnTo>
                        <a:pt x="180" y="392"/>
                      </a:lnTo>
                      <a:lnTo>
                        <a:pt x="130" y="416"/>
                      </a:lnTo>
                      <a:lnTo>
                        <a:pt x="42" y="346"/>
                      </a:lnTo>
                      <a:lnTo>
                        <a:pt x="17" y="289"/>
                      </a:lnTo>
                      <a:lnTo>
                        <a:pt x="7" y="197"/>
                      </a:lnTo>
                      <a:lnTo>
                        <a:pt x="0" y="132"/>
                      </a:lnTo>
                      <a:lnTo>
                        <a:pt x="10" y="72"/>
                      </a:lnTo>
                      <a:lnTo>
                        <a:pt x="35" y="34"/>
                      </a:lnTo>
                      <a:lnTo>
                        <a:pt x="91" y="13"/>
                      </a:lnTo>
                      <a:lnTo>
                        <a:pt x="138" y="5"/>
                      </a:lnTo>
                      <a:lnTo>
                        <a:pt x="237" y="0"/>
                      </a:lnTo>
                      <a:lnTo>
                        <a:pt x="325" y="2"/>
                      </a:lnTo>
                      <a:lnTo>
                        <a:pt x="446" y="18"/>
                      </a:lnTo>
                      <a:lnTo>
                        <a:pt x="495" y="37"/>
                      </a:lnTo>
                      <a:lnTo>
                        <a:pt x="520" y="59"/>
                      </a:lnTo>
                      <a:lnTo>
                        <a:pt x="548" y="86"/>
                      </a:lnTo>
                      <a:lnTo>
                        <a:pt x="541" y="102"/>
                      </a:lnTo>
                      <a:lnTo>
                        <a:pt x="506" y="122"/>
                      </a:lnTo>
                      <a:close/>
                    </a:path>
                  </a:pathLst>
                </a:custGeom>
                <a:solidFill>
                  <a:srgbClr val="603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5" name=""/>
                <p:cNvSpPr/>
                <p:nvPr/>
              </p:nvSpPr>
              <p:spPr>
                <a:xfrm>
                  <a:off x="504720" y="4522680"/>
                  <a:ext cx="186120" cy="146520"/>
                </a:xfrm>
                <a:custGeom>
                  <a:avLst/>
                  <a:gdLst/>
                  <a:ahLst/>
                  <a:rect l="0" t="0" r="r" b="b"/>
                  <a:pathLst>
                    <a:path w="517" h="407">
                      <a:moveTo>
                        <a:pt x="433" y="24"/>
                      </a:moveTo>
                      <a:lnTo>
                        <a:pt x="479" y="38"/>
                      </a:lnTo>
                      <a:lnTo>
                        <a:pt x="496" y="63"/>
                      </a:lnTo>
                      <a:lnTo>
                        <a:pt x="510" y="76"/>
                      </a:lnTo>
                      <a:lnTo>
                        <a:pt x="517" y="84"/>
                      </a:lnTo>
                      <a:lnTo>
                        <a:pt x="507" y="95"/>
                      </a:lnTo>
                      <a:lnTo>
                        <a:pt x="486" y="107"/>
                      </a:lnTo>
                      <a:lnTo>
                        <a:pt x="429" y="98"/>
                      </a:lnTo>
                      <a:lnTo>
                        <a:pt x="390" y="98"/>
                      </a:lnTo>
                      <a:lnTo>
                        <a:pt x="357" y="87"/>
                      </a:lnTo>
                      <a:lnTo>
                        <a:pt x="319" y="79"/>
                      </a:lnTo>
                      <a:lnTo>
                        <a:pt x="283" y="76"/>
                      </a:lnTo>
                      <a:lnTo>
                        <a:pt x="237" y="79"/>
                      </a:lnTo>
                      <a:lnTo>
                        <a:pt x="301" y="84"/>
                      </a:lnTo>
                      <a:lnTo>
                        <a:pt x="333" y="93"/>
                      </a:lnTo>
                      <a:lnTo>
                        <a:pt x="354" y="98"/>
                      </a:lnTo>
                      <a:lnTo>
                        <a:pt x="357" y="101"/>
                      </a:lnTo>
                      <a:lnTo>
                        <a:pt x="347" y="107"/>
                      </a:lnTo>
                      <a:lnTo>
                        <a:pt x="333" y="118"/>
                      </a:lnTo>
                      <a:lnTo>
                        <a:pt x="311" y="107"/>
                      </a:lnTo>
                      <a:lnTo>
                        <a:pt x="290" y="101"/>
                      </a:lnTo>
                      <a:lnTo>
                        <a:pt x="255" y="95"/>
                      </a:lnTo>
                      <a:lnTo>
                        <a:pt x="241" y="95"/>
                      </a:lnTo>
                      <a:lnTo>
                        <a:pt x="280" y="110"/>
                      </a:lnTo>
                      <a:lnTo>
                        <a:pt x="308" y="118"/>
                      </a:lnTo>
                      <a:lnTo>
                        <a:pt x="322" y="127"/>
                      </a:lnTo>
                      <a:lnTo>
                        <a:pt x="311" y="135"/>
                      </a:lnTo>
                      <a:lnTo>
                        <a:pt x="280" y="127"/>
                      </a:lnTo>
                      <a:lnTo>
                        <a:pt x="255" y="127"/>
                      </a:lnTo>
                      <a:lnTo>
                        <a:pt x="301" y="143"/>
                      </a:lnTo>
                      <a:lnTo>
                        <a:pt x="315" y="151"/>
                      </a:lnTo>
                      <a:lnTo>
                        <a:pt x="322" y="168"/>
                      </a:lnTo>
                      <a:lnTo>
                        <a:pt x="329" y="179"/>
                      </a:lnTo>
                      <a:lnTo>
                        <a:pt x="301" y="168"/>
                      </a:lnTo>
                      <a:lnTo>
                        <a:pt x="276" y="162"/>
                      </a:lnTo>
                      <a:lnTo>
                        <a:pt x="234" y="162"/>
                      </a:lnTo>
                      <a:lnTo>
                        <a:pt x="294" y="176"/>
                      </a:lnTo>
                      <a:lnTo>
                        <a:pt x="336" y="184"/>
                      </a:lnTo>
                      <a:lnTo>
                        <a:pt x="357" y="195"/>
                      </a:lnTo>
                      <a:lnTo>
                        <a:pt x="361" y="212"/>
                      </a:lnTo>
                      <a:lnTo>
                        <a:pt x="333" y="201"/>
                      </a:lnTo>
                      <a:lnTo>
                        <a:pt x="290" y="190"/>
                      </a:lnTo>
                      <a:lnTo>
                        <a:pt x="273" y="190"/>
                      </a:lnTo>
                      <a:lnTo>
                        <a:pt x="315" y="201"/>
                      </a:lnTo>
                      <a:lnTo>
                        <a:pt x="354" y="214"/>
                      </a:lnTo>
                      <a:lnTo>
                        <a:pt x="364" y="225"/>
                      </a:lnTo>
                      <a:lnTo>
                        <a:pt x="357" y="234"/>
                      </a:lnTo>
                      <a:lnTo>
                        <a:pt x="333" y="228"/>
                      </a:lnTo>
                      <a:lnTo>
                        <a:pt x="304" y="217"/>
                      </a:lnTo>
                      <a:lnTo>
                        <a:pt x="251" y="217"/>
                      </a:lnTo>
                      <a:lnTo>
                        <a:pt x="230" y="217"/>
                      </a:lnTo>
                      <a:lnTo>
                        <a:pt x="181" y="220"/>
                      </a:lnTo>
                      <a:lnTo>
                        <a:pt x="120" y="214"/>
                      </a:lnTo>
                      <a:lnTo>
                        <a:pt x="160" y="225"/>
                      </a:lnTo>
                      <a:lnTo>
                        <a:pt x="220" y="231"/>
                      </a:lnTo>
                      <a:lnTo>
                        <a:pt x="205" y="247"/>
                      </a:lnTo>
                      <a:lnTo>
                        <a:pt x="163" y="239"/>
                      </a:lnTo>
                      <a:lnTo>
                        <a:pt x="116" y="228"/>
                      </a:lnTo>
                      <a:lnTo>
                        <a:pt x="91" y="217"/>
                      </a:lnTo>
                      <a:lnTo>
                        <a:pt x="145" y="247"/>
                      </a:lnTo>
                      <a:lnTo>
                        <a:pt x="177" y="255"/>
                      </a:lnTo>
                      <a:lnTo>
                        <a:pt x="205" y="264"/>
                      </a:lnTo>
                      <a:lnTo>
                        <a:pt x="205" y="280"/>
                      </a:lnTo>
                      <a:lnTo>
                        <a:pt x="163" y="275"/>
                      </a:lnTo>
                      <a:lnTo>
                        <a:pt x="127" y="266"/>
                      </a:lnTo>
                      <a:lnTo>
                        <a:pt x="149" y="280"/>
                      </a:lnTo>
                      <a:lnTo>
                        <a:pt x="184" y="283"/>
                      </a:lnTo>
                      <a:lnTo>
                        <a:pt x="205" y="286"/>
                      </a:lnTo>
                      <a:lnTo>
                        <a:pt x="205" y="325"/>
                      </a:lnTo>
                      <a:lnTo>
                        <a:pt x="163" y="311"/>
                      </a:lnTo>
                      <a:lnTo>
                        <a:pt x="135" y="302"/>
                      </a:lnTo>
                      <a:lnTo>
                        <a:pt x="167" y="322"/>
                      </a:lnTo>
                      <a:lnTo>
                        <a:pt x="209" y="333"/>
                      </a:lnTo>
                      <a:lnTo>
                        <a:pt x="205" y="352"/>
                      </a:lnTo>
                      <a:lnTo>
                        <a:pt x="181" y="372"/>
                      </a:lnTo>
                      <a:lnTo>
                        <a:pt x="163" y="350"/>
                      </a:lnTo>
                      <a:lnTo>
                        <a:pt x="135" y="325"/>
                      </a:lnTo>
                      <a:lnTo>
                        <a:pt x="113" y="297"/>
                      </a:lnTo>
                      <a:lnTo>
                        <a:pt x="135" y="336"/>
                      </a:lnTo>
                      <a:lnTo>
                        <a:pt x="149" y="352"/>
                      </a:lnTo>
                      <a:lnTo>
                        <a:pt x="177" y="380"/>
                      </a:lnTo>
                      <a:lnTo>
                        <a:pt x="160" y="396"/>
                      </a:lnTo>
                      <a:lnTo>
                        <a:pt x="123" y="377"/>
                      </a:lnTo>
                      <a:lnTo>
                        <a:pt x="98" y="350"/>
                      </a:lnTo>
                      <a:lnTo>
                        <a:pt x="77" y="322"/>
                      </a:lnTo>
                      <a:lnTo>
                        <a:pt x="95" y="363"/>
                      </a:lnTo>
                      <a:lnTo>
                        <a:pt x="116" y="383"/>
                      </a:lnTo>
                      <a:lnTo>
                        <a:pt x="142" y="399"/>
                      </a:lnTo>
                      <a:lnTo>
                        <a:pt x="120" y="407"/>
                      </a:lnTo>
                      <a:lnTo>
                        <a:pt x="77" y="380"/>
                      </a:lnTo>
                      <a:lnTo>
                        <a:pt x="38" y="333"/>
                      </a:lnTo>
                      <a:lnTo>
                        <a:pt x="24" y="302"/>
                      </a:lnTo>
                      <a:lnTo>
                        <a:pt x="14" y="242"/>
                      </a:lnTo>
                      <a:lnTo>
                        <a:pt x="7" y="201"/>
                      </a:lnTo>
                      <a:lnTo>
                        <a:pt x="0" y="151"/>
                      </a:lnTo>
                      <a:lnTo>
                        <a:pt x="42" y="162"/>
                      </a:lnTo>
                      <a:lnTo>
                        <a:pt x="95" y="176"/>
                      </a:lnTo>
                      <a:lnTo>
                        <a:pt x="167" y="187"/>
                      </a:lnTo>
                      <a:lnTo>
                        <a:pt x="98" y="168"/>
                      </a:lnTo>
                      <a:lnTo>
                        <a:pt x="77" y="157"/>
                      </a:lnTo>
                      <a:lnTo>
                        <a:pt x="31" y="143"/>
                      </a:lnTo>
                      <a:lnTo>
                        <a:pt x="7" y="140"/>
                      </a:lnTo>
                      <a:lnTo>
                        <a:pt x="7" y="116"/>
                      </a:lnTo>
                      <a:lnTo>
                        <a:pt x="10" y="79"/>
                      </a:lnTo>
                      <a:lnTo>
                        <a:pt x="70" y="87"/>
                      </a:lnTo>
                      <a:lnTo>
                        <a:pt x="106" y="95"/>
                      </a:lnTo>
                      <a:lnTo>
                        <a:pt x="156" y="116"/>
                      </a:lnTo>
                      <a:lnTo>
                        <a:pt x="109" y="87"/>
                      </a:lnTo>
                      <a:lnTo>
                        <a:pt x="63" y="76"/>
                      </a:lnTo>
                      <a:lnTo>
                        <a:pt x="14" y="68"/>
                      </a:lnTo>
                      <a:lnTo>
                        <a:pt x="24" y="43"/>
                      </a:lnTo>
                      <a:lnTo>
                        <a:pt x="38" y="27"/>
                      </a:lnTo>
                      <a:lnTo>
                        <a:pt x="84" y="19"/>
                      </a:lnTo>
                      <a:lnTo>
                        <a:pt x="127" y="24"/>
                      </a:lnTo>
                      <a:lnTo>
                        <a:pt x="167" y="46"/>
                      </a:lnTo>
                      <a:lnTo>
                        <a:pt x="142" y="21"/>
                      </a:lnTo>
                      <a:lnTo>
                        <a:pt x="95" y="10"/>
                      </a:lnTo>
                      <a:lnTo>
                        <a:pt x="145" y="2"/>
                      </a:lnTo>
                      <a:lnTo>
                        <a:pt x="177" y="2"/>
                      </a:lnTo>
                      <a:lnTo>
                        <a:pt x="227" y="8"/>
                      </a:lnTo>
                      <a:lnTo>
                        <a:pt x="258" y="24"/>
                      </a:lnTo>
                      <a:lnTo>
                        <a:pt x="311" y="30"/>
                      </a:lnTo>
                      <a:lnTo>
                        <a:pt x="276" y="21"/>
                      </a:lnTo>
                      <a:lnTo>
                        <a:pt x="248" y="8"/>
                      </a:lnTo>
                      <a:lnTo>
                        <a:pt x="234" y="0"/>
                      </a:lnTo>
                      <a:lnTo>
                        <a:pt x="287" y="2"/>
                      </a:lnTo>
                      <a:lnTo>
                        <a:pt x="329" y="2"/>
                      </a:lnTo>
                      <a:lnTo>
                        <a:pt x="354" y="13"/>
                      </a:lnTo>
                      <a:lnTo>
                        <a:pt x="386" y="32"/>
                      </a:lnTo>
                      <a:lnTo>
                        <a:pt x="408" y="60"/>
                      </a:lnTo>
                      <a:lnTo>
                        <a:pt x="397" y="27"/>
                      </a:lnTo>
                      <a:lnTo>
                        <a:pt x="368" y="10"/>
                      </a:lnTo>
                      <a:lnTo>
                        <a:pt x="433" y="24"/>
                      </a:lnTo>
                      <a:close/>
                    </a:path>
                  </a:pathLst>
                </a:custGeom>
                <a:solidFill>
                  <a:srgbClr val="a05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16" name=""/>
                <p:cNvGrpSpPr/>
                <p:nvPr/>
              </p:nvGrpSpPr>
              <p:grpSpPr>
                <a:xfrm>
                  <a:off x="892080" y="4908600"/>
                  <a:ext cx="230040" cy="100440"/>
                  <a:chOff x="892080" y="4908600"/>
                  <a:chExt cx="230040" cy="100440"/>
                </a:xfrm>
              </p:grpSpPr>
              <p:sp>
                <p:nvSpPr>
                  <p:cNvPr id="517" name=""/>
                  <p:cNvSpPr/>
                  <p:nvPr/>
                </p:nvSpPr>
                <p:spPr>
                  <a:xfrm>
                    <a:off x="892080" y="4908600"/>
                    <a:ext cx="214560" cy="100440"/>
                  </a:xfrm>
                  <a:custGeom>
                    <a:avLst/>
                    <a:gdLst/>
                    <a:ahLst/>
                    <a:rect l="0" t="0" r="r" b="b"/>
                    <a:pathLst>
                      <a:path w="596" h="279">
                        <a:moveTo>
                          <a:pt x="0" y="165"/>
                        </a:moveTo>
                        <a:lnTo>
                          <a:pt x="73" y="152"/>
                        </a:lnTo>
                        <a:lnTo>
                          <a:pt x="102" y="149"/>
                        </a:lnTo>
                        <a:lnTo>
                          <a:pt x="119" y="135"/>
                        </a:lnTo>
                        <a:lnTo>
                          <a:pt x="137" y="119"/>
                        </a:lnTo>
                        <a:lnTo>
                          <a:pt x="172" y="92"/>
                        </a:lnTo>
                        <a:lnTo>
                          <a:pt x="239" y="51"/>
                        </a:lnTo>
                        <a:lnTo>
                          <a:pt x="250" y="37"/>
                        </a:lnTo>
                        <a:lnTo>
                          <a:pt x="267" y="24"/>
                        </a:lnTo>
                        <a:lnTo>
                          <a:pt x="300" y="18"/>
                        </a:lnTo>
                        <a:lnTo>
                          <a:pt x="406" y="5"/>
                        </a:lnTo>
                        <a:lnTo>
                          <a:pt x="434" y="0"/>
                        </a:lnTo>
                        <a:lnTo>
                          <a:pt x="458" y="8"/>
                        </a:lnTo>
                        <a:lnTo>
                          <a:pt x="473" y="16"/>
                        </a:lnTo>
                        <a:lnTo>
                          <a:pt x="532" y="32"/>
                        </a:lnTo>
                        <a:lnTo>
                          <a:pt x="557" y="40"/>
                        </a:lnTo>
                        <a:lnTo>
                          <a:pt x="564" y="45"/>
                        </a:lnTo>
                        <a:lnTo>
                          <a:pt x="578" y="73"/>
                        </a:lnTo>
                        <a:lnTo>
                          <a:pt x="585" y="87"/>
                        </a:lnTo>
                        <a:lnTo>
                          <a:pt x="589" y="95"/>
                        </a:lnTo>
                        <a:lnTo>
                          <a:pt x="596" y="108"/>
                        </a:lnTo>
                        <a:lnTo>
                          <a:pt x="596" y="116"/>
                        </a:lnTo>
                        <a:lnTo>
                          <a:pt x="585" y="125"/>
                        </a:lnTo>
                        <a:lnTo>
                          <a:pt x="561" y="125"/>
                        </a:lnTo>
                        <a:lnTo>
                          <a:pt x="522" y="108"/>
                        </a:lnTo>
                        <a:lnTo>
                          <a:pt x="473" y="103"/>
                        </a:lnTo>
                        <a:lnTo>
                          <a:pt x="427" y="108"/>
                        </a:lnTo>
                        <a:lnTo>
                          <a:pt x="476" y="116"/>
                        </a:lnTo>
                        <a:lnTo>
                          <a:pt x="508" y="125"/>
                        </a:lnTo>
                        <a:lnTo>
                          <a:pt x="546" y="135"/>
                        </a:lnTo>
                        <a:lnTo>
                          <a:pt x="554" y="146"/>
                        </a:lnTo>
                        <a:lnTo>
                          <a:pt x="554" y="157"/>
                        </a:lnTo>
                        <a:lnTo>
                          <a:pt x="539" y="165"/>
                        </a:lnTo>
                        <a:lnTo>
                          <a:pt x="522" y="162"/>
                        </a:lnTo>
                        <a:lnTo>
                          <a:pt x="469" y="152"/>
                        </a:lnTo>
                        <a:lnTo>
                          <a:pt x="423" y="149"/>
                        </a:lnTo>
                        <a:lnTo>
                          <a:pt x="384" y="152"/>
                        </a:lnTo>
                        <a:lnTo>
                          <a:pt x="363" y="162"/>
                        </a:lnTo>
                        <a:lnTo>
                          <a:pt x="339" y="181"/>
                        </a:lnTo>
                        <a:lnTo>
                          <a:pt x="321" y="203"/>
                        </a:lnTo>
                        <a:lnTo>
                          <a:pt x="303" y="223"/>
                        </a:lnTo>
                        <a:lnTo>
                          <a:pt x="285" y="239"/>
                        </a:lnTo>
                        <a:lnTo>
                          <a:pt x="257" y="255"/>
                        </a:lnTo>
                        <a:lnTo>
                          <a:pt x="228" y="260"/>
                        </a:lnTo>
                        <a:lnTo>
                          <a:pt x="200" y="260"/>
                        </a:lnTo>
                        <a:lnTo>
                          <a:pt x="165" y="260"/>
                        </a:lnTo>
                        <a:lnTo>
                          <a:pt x="137" y="258"/>
                        </a:lnTo>
                        <a:lnTo>
                          <a:pt x="98" y="266"/>
                        </a:lnTo>
                        <a:lnTo>
                          <a:pt x="0" y="279"/>
                        </a:lnTo>
                        <a:lnTo>
                          <a:pt x="0" y="165"/>
                        </a:lnTo>
                        <a:close/>
                      </a:path>
                    </a:pathLst>
                  </a:custGeom>
                  <a:solidFill>
                    <a:srgbClr val="ffc080"/>
                  </a:solidFill>
                  <a:ln w="12600">
                    <a:solidFill>
                      <a:srgbClr val="402000"/>
                    </a:solidFill>
                    <a:round/>
                  </a:ln>
                </p:spPr>
                <p:txBody>
                  <a:bodyPr lIns="96120" rIns="96120" tIns="49320" bIns="49320" anchor="t">
                    <a:noAutofit/>
                  </a:bodyPr>
                  <a:p>
                    <a:endParaRPr b="0" lang="en-US" sz="1800" spc="-1" strike="noStrike">
                      <a:solidFill>
                        <a:srgbClr val="000000"/>
                      </a:solidFill>
                      <a:latin typeface="Arial"/>
                    </a:endParaRPr>
                  </a:p>
                </p:txBody>
              </p:sp>
              <p:sp>
                <p:nvSpPr>
                  <p:cNvPr id="518" name=""/>
                  <p:cNvSpPr/>
                  <p:nvPr/>
                </p:nvSpPr>
                <p:spPr>
                  <a:xfrm>
                    <a:off x="1038240" y="4924440"/>
                    <a:ext cx="59040" cy="25920"/>
                  </a:xfrm>
                  <a:custGeom>
                    <a:avLst/>
                    <a:gdLst/>
                    <a:ahLst/>
                    <a:rect l="0" t="0" r="r" b="b"/>
                    <a:pathLst>
                      <a:path w="164" h="72">
                        <a:moveTo>
                          <a:pt x="164" y="72"/>
                        </a:moveTo>
                        <a:lnTo>
                          <a:pt x="132" y="40"/>
                        </a:lnTo>
                        <a:lnTo>
                          <a:pt x="114" y="40"/>
                        </a:lnTo>
                        <a:lnTo>
                          <a:pt x="86" y="27"/>
                        </a:lnTo>
                        <a:lnTo>
                          <a:pt x="60" y="13"/>
                        </a:lnTo>
                        <a:lnTo>
                          <a:pt x="24" y="27"/>
                        </a:lnTo>
                        <a:lnTo>
                          <a:pt x="0" y="27"/>
                        </a:lnTo>
                        <a:lnTo>
                          <a:pt x="35" y="13"/>
                        </a:lnTo>
                        <a:lnTo>
                          <a:pt x="70" y="0"/>
                        </a:lnTo>
                        <a:lnTo>
                          <a:pt x="114" y="27"/>
                        </a:lnTo>
                        <a:lnTo>
                          <a:pt x="132" y="40"/>
                        </a:lnTo>
                        <a:lnTo>
                          <a:pt x="160" y="53"/>
                        </a:lnTo>
                        <a:lnTo>
                          <a:pt x="164"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19" name=""/>
                  <p:cNvSpPr/>
                  <p:nvPr/>
                </p:nvSpPr>
                <p:spPr>
                  <a:xfrm>
                    <a:off x="1012680" y="4913280"/>
                    <a:ext cx="47880" cy="25920"/>
                  </a:xfrm>
                  <a:custGeom>
                    <a:avLst/>
                    <a:gdLst/>
                    <a:ahLst/>
                    <a:rect l="0" t="0" r="r" b="b"/>
                    <a:pathLst>
                      <a:path w="133" h="72">
                        <a:moveTo>
                          <a:pt x="97" y="0"/>
                        </a:moveTo>
                        <a:lnTo>
                          <a:pt x="111" y="0"/>
                        </a:lnTo>
                        <a:lnTo>
                          <a:pt x="133" y="0"/>
                        </a:lnTo>
                        <a:lnTo>
                          <a:pt x="122" y="0"/>
                        </a:lnTo>
                        <a:lnTo>
                          <a:pt x="101" y="0"/>
                        </a:lnTo>
                        <a:lnTo>
                          <a:pt x="57" y="72"/>
                        </a:lnTo>
                        <a:lnTo>
                          <a:pt x="32" y="72"/>
                        </a:lnTo>
                        <a:lnTo>
                          <a:pt x="3" y="72"/>
                        </a:lnTo>
                        <a:lnTo>
                          <a:pt x="0" y="72"/>
                        </a:lnTo>
                        <a:lnTo>
                          <a:pt x="28" y="72"/>
                        </a:lnTo>
                        <a:lnTo>
                          <a:pt x="64" y="0"/>
                        </a:lnTo>
                        <a:lnTo>
                          <a:pt x="9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20" name=""/>
                  <p:cNvSpPr/>
                  <p:nvPr/>
                </p:nvSpPr>
                <p:spPr>
                  <a:xfrm>
                    <a:off x="1036800" y="4940280"/>
                    <a:ext cx="25920" cy="25920"/>
                  </a:xfrm>
                  <a:custGeom>
                    <a:avLst/>
                    <a:gdLst/>
                    <a:ahLst/>
                    <a:rect l="0" t="0" r="r" b="b"/>
                    <a:pathLst>
                      <a:path w="72" h="72">
                        <a:moveTo>
                          <a:pt x="72" y="23"/>
                        </a:moveTo>
                        <a:lnTo>
                          <a:pt x="63" y="72"/>
                        </a:lnTo>
                        <a:lnTo>
                          <a:pt x="36" y="45"/>
                        </a:lnTo>
                        <a:lnTo>
                          <a:pt x="8" y="45"/>
                        </a:lnTo>
                        <a:lnTo>
                          <a:pt x="0" y="0"/>
                        </a:lnTo>
                        <a:lnTo>
                          <a:pt x="17" y="23"/>
                        </a:lnTo>
                        <a:lnTo>
                          <a:pt x="72" y="23"/>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21" name=""/>
                  <p:cNvSpPr/>
                  <p:nvPr/>
                </p:nvSpPr>
                <p:spPr>
                  <a:xfrm>
                    <a:off x="1096920" y="4940280"/>
                    <a:ext cx="25200" cy="0"/>
                  </a:xfrm>
                  <a:custGeom>
                    <a:avLst/>
                    <a:gdLst/>
                    <a:ahLst/>
                    <a:rect l="0" t="0" r="r" b="b"/>
                    <a:pathLst>
                      <a:path w="70" h="0">
                        <a:moveTo>
                          <a:pt x="0" y="0"/>
                        </a:moveTo>
                        <a:lnTo>
                          <a:pt x="17" y="0"/>
                        </a:lnTo>
                        <a:lnTo>
                          <a:pt x="70" y="0"/>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2" name=""/>
                  <p:cNvSpPr/>
                  <p:nvPr/>
                </p:nvSpPr>
                <p:spPr>
                  <a:xfrm>
                    <a:off x="1079640" y="4954680"/>
                    <a:ext cx="25920" cy="25920"/>
                  </a:xfrm>
                  <a:custGeom>
                    <a:avLst/>
                    <a:gdLst/>
                    <a:ahLst/>
                    <a:rect l="0" t="0" r="r" b="b"/>
                    <a:pathLst>
                      <a:path w="72" h="72">
                        <a:moveTo>
                          <a:pt x="0" y="0"/>
                        </a:moveTo>
                        <a:lnTo>
                          <a:pt x="27" y="36"/>
                        </a:lnTo>
                        <a:lnTo>
                          <a:pt x="72" y="72"/>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23" name=""/>
                  <p:cNvSpPr/>
                  <p:nvPr/>
                </p:nvSpPr>
                <p:spPr>
                  <a:xfrm>
                    <a:off x="1004760" y="4930920"/>
                    <a:ext cx="25920" cy="25920"/>
                  </a:xfrm>
                  <a:custGeom>
                    <a:avLst/>
                    <a:gdLst/>
                    <a:ahLst/>
                    <a:rect l="0" t="0" r="r" b="b"/>
                    <a:pathLst>
                      <a:path w="72" h="72">
                        <a:moveTo>
                          <a:pt x="72" y="0"/>
                        </a:moveTo>
                        <a:lnTo>
                          <a:pt x="72" y="36"/>
                        </a:lnTo>
                        <a:lnTo>
                          <a:pt x="0" y="72"/>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24" name=""/>
                  <p:cNvSpPr/>
                  <p:nvPr/>
                </p:nvSpPr>
                <p:spPr>
                  <a:xfrm>
                    <a:off x="960480" y="4932360"/>
                    <a:ext cx="25920" cy="25920"/>
                  </a:xfrm>
                  <a:custGeom>
                    <a:avLst/>
                    <a:gdLst/>
                    <a:ahLst/>
                    <a:rect l="0" t="0" r="r" b="b"/>
                    <a:pathLst>
                      <a:path w="72" h="72">
                        <a:moveTo>
                          <a:pt x="72" y="0"/>
                        </a:moveTo>
                        <a:lnTo>
                          <a:pt x="57" y="23"/>
                        </a:lnTo>
                        <a:lnTo>
                          <a:pt x="45" y="41"/>
                        </a:lnTo>
                        <a:lnTo>
                          <a:pt x="0" y="72"/>
                        </a:lnTo>
                        <a:lnTo>
                          <a:pt x="41" y="34"/>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25" name=""/>
                  <p:cNvSpPr/>
                  <p:nvPr/>
                </p:nvSpPr>
                <p:spPr>
                  <a:xfrm>
                    <a:off x="941400" y="4971960"/>
                    <a:ext cx="25920" cy="25920"/>
                  </a:xfrm>
                  <a:custGeom>
                    <a:avLst/>
                    <a:gdLst/>
                    <a:ahLst/>
                    <a:rect l="0" t="0" r="r" b="b"/>
                    <a:pathLst>
                      <a:path w="72" h="72">
                        <a:moveTo>
                          <a:pt x="0" y="0"/>
                        </a:moveTo>
                        <a:lnTo>
                          <a:pt x="36" y="23"/>
                        </a:lnTo>
                        <a:lnTo>
                          <a:pt x="72" y="49"/>
                        </a:lnTo>
                        <a:lnTo>
                          <a:pt x="72" y="72"/>
                        </a:lnTo>
                        <a:lnTo>
                          <a:pt x="72" y="36"/>
                        </a:lnTo>
                        <a:lnTo>
                          <a:pt x="72" y="17"/>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26" name=""/>
                  <p:cNvSpPr/>
                  <p:nvPr/>
                </p:nvSpPr>
                <p:spPr>
                  <a:xfrm>
                    <a:off x="1015920" y="4951440"/>
                    <a:ext cx="25200" cy="0"/>
                  </a:xfrm>
                  <a:custGeom>
                    <a:avLst/>
                    <a:gdLst/>
                    <a:ahLst/>
                    <a:rect l="0" t="0" r="r" b="b"/>
                    <a:pathLst>
                      <a:path w="70" h="0">
                        <a:moveTo>
                          <a:pt x="17" y="0"/>
                        </a:moveTo>
                        <a:lnTo>
                          <a:pt x="0" y="0"/>
                        </a:lnTo>
                        <a:lnTo>
                          <a:pt x="70" y="0"/>
                        </a:lnTo>
                        <a:lnTo>
                          <a:pt x="1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527" name=""/>
                <p:cNvGrpSpPr/>
                <p:nvPr/>
              </p:nvGrpSpPr>
              <p:grpSpPr>
                <a:xfrm>
                  <a:off x="431640" y="4686120"/>
                  <a:ext cx="493920" cy="432360"/>
                  <a:chOff x="431640" y="4686120"/>
                  <a:chExt cx="493920" cy="432360"/>
                </a:xfrm>
              </p:grpSpPr>
              <p:sp>
                <p:nvSpPr>
                  <p:cNvPr id="528" name=""/>
                  <p:cNvSpPr/>
                  <p:nvPr/>
                </p:nvSpPr>
                <p:spPr>
                  <a:xfrm>
                    <a:off x="706320" y="4686120"/>
                    <a:ext cx="25920" cy="25920"/>
                  </a:xfrm>
                  <a:custGeom>
                    <a:avLst/>
                    <a:gdLst/>
                    <a:ahLst/>
                    <a:rect l="0" t="0" r="r" b="b"/>
                    <a:pathLst>
                      <a:path w="72" h="72">
                        <a:moveTo>
                          <a:pt x="72" y="0"/>
                        </a:moveTo>
                        <a:lnTo>
                          <a:pt x="53" y="0"/>
                        </a:lnTo>
                        <a:lnTo>
                          <a:pt x="36" y="0"/>
                        </a:lnTo>
                        <a:lnTo>
                          <a:pt x="17" y="72"/>
                        </a:lnTo>
                        <a:lnTo>
                          <a:pt x="0" y="72"/>
                        </a:lnTo>
                        <a:lnTo>
                          <a:pt x="17" y="72"/>
                        </a:lnTo>
                        <a:lnTo>
                          <a:pt x="53" y="72"/>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29" name=""/>
                  <p:cNvSpPr/>
                  <p:nvPr/>
                </p:nvSpPr>
                <p:spPr>
                  <a:xfrm>
                    <a:off x="708120" y="4697280"/>
                    <a:ext cx="25920" cy="25920"/>
                  </a:xfrm>
                  <a:custGeom>
                    <a:avLst/>
                    <a:gdLst/>
                    <a:ahLst/>
                    <a:rect l="0" t="0" r="r" b="b"/>
                    <a:pathLst>
                      <a:path w="72" h="72">
                        <a:moveTo>
                          <a:pt x="72" y="0"/>
                        </a:moveTo>
                        <a:lnTo>
                          <a:pt x="0" y="0"/>
                        </a:lnTo>
                        <a:lnTo>
                          <a:pt x="0" y="72"/>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30" name=""/>
                  <p:cNvSpPr/>
                  <p:nvPr/>
                </p:nvSpPr>
                <p:spPr>
                  <a:xfrm>
                    <a:off x="642960" y="4745160"/>
                    <a:ext cx="133560" cy="254520"/>
                  </a:xfrm>
                  <a:custGeom>
                    <a:avLst/>
                    <a:gdLst/>
                    <a:ahLst/>
                    <a:rect l="0" t="0" r="r" b="b"/>
                    <a:pathLst>
                      <a:path w="371" h="707">
                        <a:moveTo>
                          <a:pt x="52" y="0"/>
                        </a:moveTo>
                        <a:lnTo>
                          <a:pt x="88" y="27"/>
                        </a:lnTo>
                        <a:lnTo>
                          <a:pt x="98" y="70"/>
                        </a:lnTo>
                        <a:lnTo>
                          <a:pt x="151" y="110"/>
                        </a:lnTo>
                        <a:lnTo>
                          <a:pt x="262" y="301"/>
                        </a:lnTo>
                        <a:lnTo>
                          <a:pt x="322" y="474"/>
                        </a:lnTo>
                        <a:lnTo>
                          <a:pt x="371" y="707"/>
                        </a:lnTo>
                        <a:lnTo>
                          <a:pt x="219" y="604"/>
                        </a:lnTo>
                        <a:lnTo>
                          <a:pt x="0" y="91"/>
                        </a:lnTo>
                        <a:lnTo>
                          <a:pt x="52" y="0"/>
                        </a:lnTo>
                        <a:close/>
                      </a:path>
                    </a:pathLst>
                  </a:custGeom>
                  <a:solidFill>
                    <a:srgbClr val="4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431640" y="4695840"/>
                    <a:ext cx="493920" cy="422640"/>
                  </a:xfrm>
                  <a:custGeom>
                    <a:avLst/>
                    <a:gdLst/>
                    <a:ahLst/>
                    <a:rect l="0" t="0" r="r" b="b"/>
                    <a:pathLst>
                      <a:path w="1372" h="1174">
                        <a:moveTo>
                          <a:pt x="253" y="59"/>
                        </a:moveTo>
                        <a:lnTo>
                          <a:pt x="296" y="0"/>
                        </a:lnTo>
                        <a:lnTo>
                          <a:pt x="631" y="105"/>
                        </a:lnTo>
                        <a:lnTo>
                          <a:pt x="645" y="189"/>
                        </a:lnTo>
                        <a:lnTo>
                          <a:pt x="673" y="216"/>
                        </a:lnTo>
                        <a:lnTo>
                          <a:pt x="709" y="248"/>
                        </a:lnTo>
                        <a:lnTo>
                          <a:pt x="734" y="309"/>
                        </a:lnTo>
                        <a:lnTo>
                          <a:pt x="808" y="444"/>
                        </a:lnTo>
                        <a:lnTo>
                          <a:pt x="868" y="606"/>
                        </a:lnTo>
                        <a:lnTo>
                          <a:pt x="896" y="714"/>
                        </a:lnTo>
                        <a:lnTo>
                          <a:pt x="1164" y="717"/>
                        </a:lnTo>
                        <a:lnTo>
                          <a:pt x="1206" y="738"/>
                        </a:lnTo>
                        <a:lnTo>
                          <a:pt x="1330" y="738"/>
                        </a:lnTo>
                        <a:lnTo>
                          <a:pt x="1365" y="779"/>
                        </a:lnTo>
                        <a:lnTo>
                          <a:pt x="1372" y="828"/>
                        </a:lnTo>
                        <a:lnTo>
                          <a:pt x="1358" y="873"/>
                        </a:lnTo>
                        <a:lnTo>
                          <a:pt x="1245" y="891"/>
                        </a:lnTo>
                        <a:lnTo>
                          <a:pt x="1192" y="953"/>
                        </a:lnTo>
                        <a:lnTo>
                          <a:pt x="1083" y="974"/>
                        </a:lnTo>
                        <a:lnTo>
                          <a:pt x="1005" y="974"/>
                        </a:lnTo>
                        <a:lnTo>
                          <a:pt x="910" y="985"/>
                        </a:lnTo>
                        <a:lnTo>
                          <a:pt x="907" y="1015"/>
                        </a:lnTo>
                        <a:lnTo>
                          <a:pt x="910" y="1077"/>
                        </a:lnTo>
                        <a:lnTo>
                          <a:pt x="900" y="1118"/>
                        </a:lnTo>
                        <a:lnTo>
                          <a:pt x="850" y="1123"/>
                        </a:lnTo>
                        <a:lnTo>
                          <a:pt x="794" y="1131"/>
                        </a:lnTo>
                        <a:lnTo>
                          <a:pt x="734" y="1172"/>
                        </a:lnTo>
                        <a:lnTo>
                          <a:pt x="662" y="1172"/>
                        </a:lnTo>
                        <a:lnTo>
                          <a:pt x="595" y="1166"/>
                        </a:lnTo>
                        <a:lnTo>
                          <a:pt x="500" y="1145"/>
                        </a:lnTo>
                        <a:lnTo>
                          <a:pt x="391" y="1153"/>
                        </a:lnTo>
                        <a:lnTo>
                          <a:pt x="282" y="1174"/>
                        </a:lnTo>
                        <a:lnTo>
                          <a:pt x="179" y="1158"/>
                        </a:lnTo>
                        <a:lnTo>
                          <a:pt x="112" y="1099"/>
                        </a:lnTo>
                        <a:lnTo>
                          <a:pt x="116" y="1031"/>
                        </a:lnTo>
                        <a:lnTo>
                          <a:pt x="91" y="947"/>
                        </a:lnTo>
                        <a:lnTo>
                          <a:pt x="74" y="841"/>
                        </a:lnTo>
                        <a:lnTo>
                          <a:pt x="42" y="741"/>
                        </a:lnTo>
                        <a:lnTo>
                          <a:pt x="0" y="592"/>
                        </a:lnTo>
                        <a:lnTo>
                          <a:pt x="7" y="444"/>
                        </a:lnTo>
                        <a:lnTo>
                          <a:pt x="7" y="314"/>
                        </a:lnTo>
                        <a:lnTo>
                          <a:pt x="14" y="221"/>
                        </a:lnTo>
                        <a:lnTo>
                          <a:pt x="42" y="181"/>
                        </a:lnTo>
                        <a:lnTo>
                          <a:pt x="102" y="145"/>
                        </a:lnTo>
                        <a:lnTo>
                          <a:pt x="172" y="91"/>
                        </a:lnTo>
                        <a:lnTo>
                          <a:pt x="253" y="59"/>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449280" y="4721400"/>
                    <a:ext cx="302040" cy="386280"/>
                  </a:xfrm>
                  <a:custGeom>
                    <a:avLst/>
                    <a:gdLst/>
                    <a:ahLst/>
                    <a:rect l="0" t="0" r="r" b="b"/>
                    <a:pathLst>
                      <a:path w="839" h="1073">
                        <a:moveTo>
                          <a:pt x="839" y="898"/>
                        </a:moveTo>
                        <a:lnTo>
                          <a:pt x="730" y="887"/>
                        </a:lnTo>
                        <a:lnTo>
                          <a:pt x="639" y="882"/>
                        </a:lnTo>
                        <a:lnTo>
                          <a:pt x="532" y="874"/>
                        </a:lnTo>
                        <a:lnTo>
                          <a:pt x="419" y="863"/>
                        </a:lnTo>
                        <a:lnTo>
                          <a:pt x="367" y="836"/>
                        </a:lnTo>
                        <a:lnTo>
                          <a:pt x="226" y="698"/>
                        </a:lnTo>
                        <a:lnTo>
                          <a:pt x="296" y="738"/>
                        </a:lnTo>
                        <a:lnTo>
                          <a:pt x="345" y="771"/>
                        </a:lnTo>
                        <a:lnTo>
                          <a:pt x="317" y="674"/>
                        </a:lnTo>
                        <a:lnTo>
                          <a:pt x="265" y="636"/>
                        </a:lnTo>
                        <a:lnTo>
                          <a:pt x="186" y="536"/>
                        </a:lnTo>
                        <a:lnTo>
                          <a:pt x="261" y="585"/>
                        </a:lnTo>
                        <a:lnTo>
                          <a:pt x="310" y="598"/>
                        </a:lnTo>
                        <a:lnTo>
                          <a:pt x="296" y="528"/>
                        </a:lnTo>
                        <a:lnTo>
                          <a:pt x="247" y="474"/>
                        </a:lnTo>
                        <a:lnTo>
                          <a:pt x="193" y="437"/>
                        </a:lnTo>
                        <a:lnTo>
                          <a:pt x="140" y="321"/>
                        </a:lnTo>
                        <a:lnTo>
                          <a:pt x="243" y="415"/>
                        </a:lnTo>
                        <a:lnTo>
                          <a:pt x="296" y="453"/>
                        </a:lnTo>
                        <a:lnTo>
                          <a:pt x="303" y="305"/>
                        </a:lnTo>
                        <a:lnTo>
                          <a:pt x="317" y="242"/>
                        </a:lnTo>
                        <a:lnTo>
                          <a:pt x="353" y="212"/>
                        </a:lnTo>
                        <a:lnTo>
                          <a:pt x="395" y="169"/>
                        </a:lnTo>
                        <a:lnTo>
                          <a:pt x="472" y="150"/>
                        </a:lnTo>
                        <a:lnTo>
                          <a:pt x="507" y="137"/>
                        </a:lnTo>
                        <a:lnTo>
                          <a:pt x="402" y="61"/>
                        </a:lnTo>
                        <a:lnTo>
                          <a:pt x="293" y="80"/>
                        </a:lnTo>
                        <a:lnTo>
                          <a:pt x="219" y="113"/>
                        </a:lnTo>
                        <a:lnTo>
                          <a:pt x="193" y="145"/>
                        </a:lnTo>
                        <a:lnTo>
                          <a:pt x="215" y="96"/>
                        </a:lnTo>
                        <a:lnTo>
                          <a:pt x="257" y="80"/>
                        </a:lnTo>
                        <a:lnTo>
                          <a:pt x="324" y="61"/>
                        </a:lnTo>
                        <a:lnTo>
                          <a:pt x="374" y="53"/>
                        </a:lnTo>
                        <a:lnTo>
                          <a:pt x="345" y="40"/>
                        </a:lnTo>
                        <a:lnTo>
                          <a:pt x="293" y="29"/>
                        </a:lnTo>
                        <a:lnTo>
                          <a:pt x="247" y="16"/>
                        </a:lnTo>
                        <a:lnTo>
                          <a:pt x="219" y="0"/>
                        </a:lnTo>
                        <a:lnTo>
                          <a:pt x="158" y="35"/>
                        </a:lnTo>
                        <a:lnTo>
                          <a:pt x="123" y="61"/>
                        </a:lnTo>
                        <a:lnTo>
                          <a:pt x="84" y="96"/>
                        </a:lnTo>
                        <a:lnTo>
                          <a:pt x="35" y="118"/>
                        </a:lnTo>
                        <a:lnTo>
                          <a:pt x="24" y="156"/>
                        </a:lnTo>
                        <a:lnTo>
                          <a:pt x="0" y="212"/>
                        </a:lnTo>
                        <a:lnTo>
                          <a:pt x="0" y="307"/>
                        </a:lnTo>
                        <a:lnTo>
                          <a:pt x="7" y="404"/>
                        </a:lnTo>
                        <a:lnTo>
                          <a:pt x="10" y="512"/>
                        </a:lnTo>
                        <a:lnTo>
                          <a:pt x="38" y="625"/>
                        </a:lnTo>
                        <a:lnTo>
                          <a:pt x="66" y="741"/>
                        </a:lnTo>
                        <a:lnTo>
                          <a:pt x="84" y="844"/>
                        </a:lnTo>
                        <a:lnTo>
                          <a:pt x="109" y="914"/>
                        </a:lnTo>
                        <a:lnTo>
                          <a:pt x="105" y="982"/>
                        </a:lnTo>
                        <a:lnTo>
                          <a:pt x="116" y="1017"/>
                        </a:lnTo>
                        <a:lnTo>
                          <a:pt x="154" y="1043"/>
                        </a:lnTo>
                        <a:lnTo>
                          <a:pt x="197" y="1068"/>
                        </a:lnTo>
                        <a:lnTo>
                          <a:pt x="261" y="1073"/>
                        </a:lnTo>
                        <a:lnTo>
                          <a:pt x="293" y="1060"/>
                        </a:lnTo>
                        <a:lnTo>
                          <a:pt x="335" y="1057"/>
                        </a:lnTo>
                        <a:lnTo>
                          <a:pt x="434" y="1041"/>
                        </a:lnTo>
                        <a:lnTo>
                          <a:pt x="391" y="1003"/>
                        </a:lnTo>
                        <a:lnTo>
                          <a:pt x="345" y="944"/>
                        </a:lnTo>
                        <a:lnTo>
                          <a:pt x="412" y="984"/>
                        </a:lnTo>
                        <a:lnTo>
                          <a:pt x="469" y="1019"/>
                        </a:lnTo>
                        <a:lnTo>
                          <a:pt x="500" y="1041"/>
                        </a:lnTo>
                        <a:lnTo>
                          <a:pt x="553" y="1060"/>
                        </a:lnTo>
                        <a:lnTo>
                          <a:pt x="610" y="1060"/>
                        </a:lnTo>
                        <a:lnTo>
                          <a:pt x="670" y="1060"/>
                        </a:lnTo>
                        <a:lnTo>
                          <a:pt x="699" y="1049"/>
                        </a:lnTo>
                        <a:lnTo>
                          <a:pt x="713" y="1035"/>
                        </a:lnTo>
                        <a:lnTo>
                          <a:pt x="642" y="1006"/>
                        </a:lnTo>
                        <a:lnTo>
                          <a:pt x="571" y="952"/>
                        </a:lnTo>
                        <a:lnTo>
                          <a:pt x="550" y="928"/>
                        </a:lnTo>
                        <a:lnTo>
                          <a:pt x="606" y="938"/>
                        </a:lnTo>
                        <a:lnTo>
                          <a:pt x="691" y="992"/>
                        </a:lnTo>
                        <a:lnTo>
                          <a:pt x="730" y="1017"/>
                        </a:lnTo>
                        <a:lnTo>
                          <a:pt x="811" y="1019"/>
                        </a:lnTo>
                        <a:lnTo>
                          <a:pt x="839" y="1008"/>
                        </a:lnTo>
                        <a:lnTo>
                          <a:pt x="839" y="982"/>
                        </a:lnTo>
                        <a:lnTo>
                          <a:pt x="839" y="89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3" name=""/>
                  <p:cNvSpPr/>
                  <p:nvPr/>
                </p:nvSpPr>
                <p:spPr>
                  <a:xfrm>
                    <a:off x="473040" y="4917960"/>
                    <a:ext cx="81360" cy="173520"/>
                  </a:xfrm>
                  <a:custGeom>
                    <a:avLst/>
                    <a:gdLst/>
                    <a:ahLst/>
                    <a:rect l="0" t="0" r="r" b="b"/>
                    <a:pathLst>
                      <a:path w="226" h="482">
                        <a:moveTo>
                          <a:pt x="226" y="482"/>
                        </a:moveTo>
                        <a:lnTo>
                          <a:pt x="187" y="466"/>
                        </a:lnTo>
                        <a:lnTo>
                          <a:pt x="143" y="428"/>
                        </a:lnTo>
                        <a:lnTo>
                          <a:pt x="104" y="358"/>
                        </a:lnTo>
                        <a:lnTo>
                          <a:pt x="86" y="296"/>
                        </a:lnTo>
                        <a:lnTo>
                          <a:pt x="58" y="231"/>
                        </a:lnTo>
                        <a:lnTo>
                          <a:pt x="42" y="167"/>
                        </a:lnTo>
                        <a:lnTo>
                          <a:pt x="17" y="69"/>
                        </a:lnTo>
                        <a:lnTo>
                          <a:pt x="0" y="0"/>
                        </a:lnTo>
                        <a:lnTo>
                          <a:pt x="46" y="143"/>
                        </a:lnTo>
                        <a:lnTo>
                          <a:pt x="86" y="250"/>
                        </a:lnTo>
                        <a:lnTo>
                          <a:pt x="129" y="325"/>
                        </a:lnTo>
                        <a:lnTo>
                          <a:pt x="198" y="404"/>
                        </a:lnTo>
                        <a:lnTo>
                          <a:pt x="226" y="482"/>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4" name=""/>
                  <p:cNvSpPr/>
                  <p:nvPr/>
                </p:nvSpPr>
                <p:spPr>
                  <a:xfrm>
                    <a:off x="566640" y="4768920"/>
                    <a:ext cx="349560" cy="267120"/>
                  </a:xfrm>
                  <a:custGeom>
                    <a:avLst/>
                    <a:gdLst/>
                    <a:ahLst/>
                    <a:rect l="0" t="0" r="r" b="b"/>
                    <a:pathLst>
                      <a:path w="971" h="742">
                        <a:moveTo>
                          <a:pt x="179" y="0"/>
                        </a:moveTo>
                        <a:lnTo>
                          <a:pt x="295" y="27"/>
                        </a:lnTo>
                        <a:lnTo>
                          <a:pt x="344" y="62"/>
                        </a:lnTo>
                        <a:lnTo>
                          <a:pt x="376" y="137"/>
                        </a:lnTo>
                        <a:lnTo>
                          <a:pt x="376" y="206"/>
                        </a:lnTo>
                        <a:lnTo>
                          <a:pt x="358" y="241"/>
                        </a:lnTo>
                        <a:lnTo>
                          <a:pt x="369" y="311"/>
                        </a:lnTo>
                        <a:lnTo>
                          <a:pt x="369" y="363"/>
                        </a:lnTo>
                        <a:lnTo>
                          <a:pt x="355" y="376"/>
                        </a:lnTo>
                        <a:lnTo>
                          <a:pt x="369" y="395"/>
                        </a:lnTo>
                        <a:lnTo>
                          <a:pt x="383" y="417"/>
                        </a:lnTo>
                        <a:lnTo>
                          <a:pt x="358" y="436"/>
                        </a:lnTo>
                        <a:lnTo>
                          <a:pt x="358" y="457"/>
                        </a:lnTo>
                        <a:lnTo>
                          <a:pt x="404" y="466"/>
                        </a:lnTo>
                        <a:lnTo>
                          <a:pt x="397" y="484"/>
                        </a:lnTo>
                        <a:lnTo>
                          <a:pt x="435" y="498"/>
                        </a:lnTo>
                        <a:lnTo>
                          <a:pt x="474" y="490"/>
                        </a:lnTo>
                        <a:lnTo>
                          <a:pt x="503" y="498"/>
                        </a:lnTo>
                        <a:lnTo>
                          <a:pt x="619" y="509"/>
                        </a:lnTo>
                        <a:lnTo>
                          <a:pt x="721" y="506"/>
                        </a:lnTo>
                        <a:lnTo>
                          <a:pt x="788" y="509"/>
                        </a:lnTo>
                        <a:lnTo>
                          <a:pt x="830" y="528"/>
                        </a:lnTo>
                        <a:lnTo>
                          <a:pt x="935" y="528"/>
                        </a:lnTo>
                        <a:lnTo>
                          <a:pt x="971" y="558"/>
                        </a:lnTo>
                        <a:lnTo>
                          <a:pt x="971" y="591"/>
                        </a:lnTo>
                        <a:lnTo>
                          <a:pt x="967" y="640"/>
                        </a:lnTo>
                        <a:lnTo>
                          <a:pt x="883" y="659"/>
                        </a:lnTo>
                        <a:lnTo>
                          <a:pt x="883" y="623"/>
                        </a:lnTo>
                        <a:lnTo>
                          <a:pt x="879" y="599"/>
                        </a:lnTo>
                        <a:lnTo>
                          <a:pt x="862" y="586"/>
                        </a:lnTo>
                        <a:lnTo>
                          <a:pt x="855" y="615"/>
                        </a:lnTo>
                        <a:lnTo>
                          <a:pt x="851" y="659"/>
                        </a:lnTo>
                        <a:lnTo>
                          <a:pt x="830" y="683"/>
                        </a:lnTo>
                        <a:lnTo>
                          <a:pt x="791" y="713"/>
                        </a:lnTo>
                        <a:lnTo>
                          <a:pt x="707" y="729"/>
                        </a:lnTo>
                        <a:lnTo>
                          <a:pt x="640" y="737"/>
                        </a:lnTo>
                        <a:lnTo>
                          <a:pt x="559" y="742"/>
                        </a:lnTo>
                        <a:lnTo>
                          <a:pt x="661" y="696"/>
                        </a:lnTo>
                        <a:lnTo>
                          <a:pt x="725" y="659"/>
                        </a:lnTo>
                        <a:lnTo>
                          <a:pt x="742" y="623"/>
                        </a:lnTo>
                        <a:lnTo>
                          <a:pt x="732" y="599"/>
                        </a:lnTo>
                        <a:lnTo>
                          <a:pt x="675" y="594"/>
                        </a:lnTo>
                        <a:lnTo>
                          <a:pt x="654" y="623"/>
                        </a:lnTo>
                        <a:lnTo>
                          <a:pt x="640" y="661"/>
                        </a:lnTo>
                        <a:lnTo>
                          <a:pt x="584" y="699"/>
                        </a:lnTo>
                        <a:lnTo>
                          <a:pt x="528" y="734"/>
                        </a:lnTo>
                        <a:lnTo>
                          <a:pt x="467" y="737"/>
                        </a:lnTo>
                        <a:lnTo>
                          <a:pt x="383" y="734"/>
                        </a:lnTo>
                        <a:lnTo>
                          <a:pt x="474" y="677"/>
                        </a:lnTo>
                        <a:lnTo>
                          <a:pt x="545" y="648"/>
                        </a:lnTo>
                        <a:lnTo>
                          <a:pt x="595" y="615"/>
                        </a:lnTo>
                        <a:lnTo>
                          <a:pt x="612" y="594"/>
                        </a:lnTo>
                        <a:lnTo>
                          <a:pt x="609" y="569"/>
                        </a:lnTo>
                        <a:lnTo>
                          <a:pt x="573" y="567"/>
                        </a:lnTo>
                        <a:lnTo>
                          <a:pt x="542" y="591"/>
                        </a:lnTo>
                        <a:lnTo>
                          <a:pt x="517" y="621"/>
                        </a:lnTo>
                        <a:lnTo>
                          <a:pt x="467" y="661"/>
                        </a:lnTo>
                        <a:lnTo>
                          <a:pt x="414" y="683"/>
                        </a:lnTo>
                        <a:lnTo>
                          <a:pt x="369" y="699"/>
                        </a:lnTo>
                        <a:lnTo>
                          <a:pt x="323" y="715"/>
                        </a:lnTo>
                        <a:lnTo>
                          <a:pt x="270" y="723"/>
                        </a:lnTo>
                        <a:lnTo>
                          <a:pt x="207" y="723"/>
                        </a:lnTo>
                        <a:lnTo>
                          <a:pt x="151" y="715"/>
                        </a:lnTo>
                        <a:lnTo>
                          <a:pt x="284" y="683"/>
                        </a:lnTo>
                        <a:lnTo>
                          <a:pt x="333" y="661"/>
                        </a:lnTo>
                        <a:lnTo>
                          <a:pt x="369" y="623"/>
                        </a:lnTo>
                        <a:lnTo>
                          <a:pt x="376" y="594"/>
                        </a:lnTo>
                        <a:lnTo>
                          <a:pt x="344" y="594"/>
                        </a:lnTo>
                        <a:lnTo>
                          <a:pt x="326" y="621"/>
                        </a:lnTo>
                        <a:lnTo>
                          <a:pt x="302" y="645"/>
                        </a:lnTo>
                        <a:lnTo>
                          <a:pt x="260" y="669"/>
                        </a:lnTo>
                        <a:lnTo>
                          <a:pt x="214" y="696"/>
                        </a:lnTo>
                        <a:lnTo>
                          <a:pt x="154" y="713"/>
                        </a:lnTo>
                        <a:lnTo>
                          <a:pt x="105" y="699"/>
                        </a:lnTo>
                        <a:lnTo>
                          <a:pt x="84" y="683"/>
                        </a:lnTo>
                        <a:lnTo>
                          <a:pt x="49" y="631"/>
                        </a:lnTo>
                        <a:lnTo>
                          <a:pt x="115" y="621"/>
                        </a:lnTo>
                        <a:lnTo>
                          <a:pt x="246" y="607"/>
                        </a:lnTo>
                        <a:lnTo>
                          <a:pt x="323" y="583"/>
                        </a:lnTo>
                        <a:lnTo>
                          <a:pt x="365" y="552"/>
                        </a:lnTo>
                        <a:lnTo>
                          <a:pt x="383" y="520"/>
                        </a:lnTo>
                        <a:lnTo>
                          <a:pt x="386" y="506"/>
                        </a:lnTo>
                        <a:lnTo>
                          <a:pt x="365" y="506"/>
                        </a:lnTo>
                        <a:lnTo>
                          <a:pt x="337" y="528"/>
                        </a:lnTo>
                        <a:lnTo>
                          <a:pt x="298" y="572"/>
                        </a:lnTo>
                        <a:lnTo>
                          <a:pt x="203" y="599"/>
                        </a:lnTo>
                        <a:lnTo>
                          <a:pt x="115" y="618"/>
                        </a:lnTo>
                        <a:lnTo>
                          <a:pt x="49" y="631"/>
                        </a:lnTo>
                        <a:lnTo>
                          <a:pt x="21" y="549"/>
                        </a:lnTo>
                        <a:lnTo>
                          <a:pt x="17" y="490"/>
                        </a:lnTo>
                        <a:lnTo>
                          <a:pt x="17" y="436"/>
                        </a:lnTo>
                        <a:lnTo>
                          <a:pt x="105" y="474"/>
                        </a:lnTo>
                        <a:lnTo>
                          <a:pt x="207" y="490"/>
                        </a:lnTo>
                        <a:lnTo>
                          <a:pt x="295" y="484"/>
                        </a:lnTo>
                        <a:lnTo>
                          <a:pt x="312" y="476"/>
                        </a:lnTo>
                        <a:lnTo>
                          <a:pt x="323" y="457"/>
                        </a:lnTo>
                        <a:lnTo>
                          <a:pt x="277" y="457"/>
                        </a:lnTo>
                        <a:lnTo>
                          <a:pt x="224" y="468"/>
                        </a:lnTo>
                        <a:lnTo>
                          <a:pt x="101" y="474"/>
                        </a:lnTo>
                        <a:lnTo>
                          <a:pt x="17" y="436"/>
                        </a:lnTo>
                        <a:lnTo>
                          <a:pt x="10" y="360"/>
                        </a:lnTo>
                        <a:lnTo>
                          <a:pt x="7" y="309"/>
                        </a:lnTo>
                        <a:lnTo>
                          <a:pt x="0" y="255"/>
                        </a:lnTo>
                        <a:lnTo>
                          <a:pt x="10" y="167"/>
                        </a:lnTo>
                        <a:lnTo>
                          <a:pt x="38" y="137"/>
                        </a:lnTo>
                        <a:lnTo>
                          <a:pt x="115" y="97"/>
                        </a:lnTo>
                        <a:lnTo>
                          <a:pt x="87" y="100"/>
                        </a:lnTo>
                        <a:lnTo>
                          <a:pt x="10" y="129"/>
                        </a:lnTo>
                        <a:lnTo>
                          <a:pt x="42" y="70"/>
                        </a:lnTo>
                        <a:lnTo>
                          <a:pt x="66" y="43"/>
                        </a:lnTo>
                        <a:lnTo>
                          <a:pt x="87" y="24"/>
                        </a:lnTo>
                        <a:lnTo>
                          <a:pt x="179"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5" name=""/>
                  <p:cNvSpPr/>
                  <p:nvPr/>
                </p:nvSpPr>
                <p:spPr>
                  <a:xfrm>
                    <a:off x="588960" y="4871880"/>
                    <a:ext cx="81360" cy="54360"/>
                  </a:xfrm>
                  <a:custGeom>
                    <a:avLst/>
                    <a:gdLst/>
                    <a:ahLst/>
                    <a:rect l="0" t="0" r="r" b="b"/>
                    <a:pathLst>
                      <a:path w="226" h="151">
                        <a:moveTo>
                          <a:pt x="226" y="0"/>
                        </a:moveTo>
                        <a:lnTo>
                          <a:pt x="226" y="10"/>
                        </a:lnTo>
                        <a:lnTo>
                          <a:pt x="198" y="41"/>
                        </a:lnTo>
                        <a:lnTo>
                          <a:pt x="170" y="57"/>
                        </a:lnTo>
                        <a:lnTo>
                          <a:pt x="109" y="89"/>
                        </a:lnTo>
                        <a:lnTo>
                          <a:pt x="85" y="105"/>
                        </a:lnTo>
                        <a:lnTo>
                          <a:pt x="28" y="138"/>
                        </a:lnTo>
                        <a:lnTo>
                          <a:pt x="92" y="125"/>
                        </a:lnTo>
                        <a:lnTo>
                          <a:pt x="152" y="105"/>
                        </a:lnTo>
                        <a:lnTo>
                          <a:pt x="212" y="105"/>
                        </a:lnTo>
                        <a:lnTo>
                          <a:pt x="209" y="119"/>
                        </a:lnTo>
                        <a:lnTo>
                          <a:pt x="109" y="133"/>
                        </a:lnTo>
                        <a:lnTo>
                          <a:pt x="57" y="146"/>
                        </a:lnTo>
                        <a:lnTo>
                          <a:pt x="28" y="151"/>
                        </a:lnTo>
                        <a:lnTo>
                          <a:pt x="3" y="143"/>
                        </a:lnTo>
                        <a:lnTo>
                          <a:pt x="0" y="127"/>
                        </a:lnTo>
                        <a:lnTo>
                          <a:pt x="21" y="114"/>
                        </a:lnTo>
                        <a:lnTo>
                          <a:pt x="49" y="92"/>
                        </a:lnTo>
                        <a:lnTo>
                          <a:pt x="81" y="65"/>
                        </a:lnTo>
                        <a:lnTo>
                          <a:pt x="116" y="29"/>
                        </a:lnTo>
                        <a:lnTo>
                          <a:pt x="155" y="10"/>
                        </a:lnTo>
                        <a:lnTo>
                          <a:pt x="198" y="2"/>
                        </a:lnTo>
                        <a:lnTo>
                          <a:pt x="226" y="0"/>
                        </a:lnTo>
                        <a:close/>
                      </a:path>
                    </a:pathLst>
                  </a:custGeom>
                  <a:solidFill>
                    <a:srgbClr val="c0c0c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536" name=""/>
                  <p:cNvSpPr/>
                  <p:nvPr/>
                </p:nvSpPr>
                <p:spPr>
                  <a:xfrm>
                    <a:off x="593640" y="4819680"/>
                    <a:ext cx="73440" cy="73440"/>
                  </a:xfrm>
                  <a:custGeom>
                    <a:avLst/>
                    <a:gdLst/>
                    <a:ahLst/>
                    <a:rect l="0" t="0" r="r" b="b"/>
                    <a:pathLst>
                      <a:path w="204" h="204">
                        <a:moveTo>
                          <a:pt x="165" y="0"/>
                        </a:moveTo>
                        <a:lnTo>
                          <a:pt x="194" y="2"/>
                        </a:lnTo>
                        <a:lnTo>
                          <a:pt x="204" y="21"/>
                        </a:lnTo>
                        <a:lnTo>
                          <a:pt x="201" y="37"/>
                        </a:lnTo>
                        <a:lnTo>
                          <a:pt x="187" y="60"/>
                        </a:lnTo>
                        <a:lnTo>
                          <a:pt x="162" y="65"/>
                        </a:lnTo>
                        <a:lnTo>
                          <a:pt x="114" y="90"/>
                        </a:lnTo>
                        <a:lnTo>
                          <a:pt x="72" y="114"/>
                        </a:lnTo>
                        <a:lnTo>
                          <a:pt x="42" y="152"/>
                        </a:lnTo>
                        <a:lnTo>
                          <a:pt x="10" y="191"/>
                        </a:lnTo>
                        <a:lnTo>
                          <a:pt x="0" y="204"/>
                        </a:lnTo>
                        <a:lnTo>
                          <a:pt x="10" y="158"/>
                        </a:lnTo>
                        <a:lnTo>
                          <a:pt x="14" y="117"/>
                        </a:lnTo>
                        <a:lnTo>
                          <a:pt x="32" y="82"/>
                        </a:lnTo>
                        <a:lnTo>
                          <a:pt x="61" y="48"/>
                        </a:lnTo>
                        <a:lnTo>
                          <a:pt x="136" y="5"/>
                        </a:lnTo>
                        <a:lnTo>
                          <a:pt x="165" y="0"/>
                        </a:lnTo>
                        <a:close/>
                      </a:path>
                    </a:pathLst>
                  </a:custGeom>
                  <a:solidFill>
                    <a:srgbClr val="c0c0c0"/>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537" name=""/>
                  <p:cNvSpPr/>
                  <p:nvPr/>
                </p:nvSpPr>
                <p:spPr>
                  <a:xfrm>
                    <a:off x="601560" y="4740120"/>
                    <a:ext cx="78120" cy="39960"/>
                  </a:xfrm>
                  <a:custGeom>
                    <a:avLst/>
                    <a:gdLst/>
                    <a:ahLst/>
                    <a:rect l="0" t="0" r="r" b="b"/>
                    <a:pathLst>
                      <a:path w="217" h="111">
                        <a:moveTo>
                          <a:pt x="217" y="111"/>
                        </a:moveTo>
                        <a:lnTo>
                          <a:pt x="178" y="87"/>
                        </a:lnTo>
                        <a:lnTo>
                          <a:pt x="119" y="70"/>
                        </a:lnTo>
                        <a:lnTo>
                          <a:pt x="76" y="62"/>
                        </a:lnTo>
                        <a:lnTo>
                          <a:pt x="0" y="0"/>
                        </a:lnTo>
                        <a:lnTo>
                          <a:pt x="59" y="24"/>
                        </a:lnTo>
                        <a:lnTo>
                          <a:pt x="108" y="40"/>
                        </a:lnTo>
                        <a:lnTo>
                          <a:pt x="147" y="53"/>
                        </a:lnTo>
                        <a:lnTo>
                          <a:pt x="164" y="70"/>
                        </a:lnTo>
                        <a:lnTo>
                          <a:pt x="217" y="111"/>
                        </a:lnTo>
                        <a:close/>
                      </a:path>
                    </a:pathLst>
                  </a:custGeom>
                  <a:solidFill>
                    <a:srgbClr val="e0e0e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538" name=""/>
                  <p:cNvSpPr/>
                  <p:nvPr/>
                </p:nvSpPr>
                <p:spPr>
                  <a:xfrm>
                    <a:off x="708120" y="4826160"/>
                    <a:ext cx="39960" cy="114840"/>
                  </a:xfrm>
                  <a:custGeom>
                    <a:avLst/>
                    <a:gdLst/>
                    <a:ahLst/>
                    <a:rect l="0" t="0" r="r" b="b"/>
                    <a:pathLst>
                      <a:path w="111" h="319">
                        <a:moveTo>
                          <a:pt x="111" y="319"/>
                        </a:moveTo>
                        <a:lnTo>
                          <a:pt x="57" y="319"/>
                        </a:lnTo>
                        <a:lnTo>
                          <a:pt x="35" y="314"/>
                        </a:lnTo>
                        <a:lnTo>
                          <a:pt x="35" y="300"/>
                        </a:lnTo>
                        <a:lnTo>
                          <a:pt x="24" y="292"/>
                        </a:lnTo>
                        <a:lnTo>
                          <a:pt x="7" y="278"/>
                        </a:lnTo>
                        <a:lnTo>
                          <a:pt x="17" y="267"/>
                        </a:lnTo>
                        <a:lnTo>
                          <a:pt x="17" y="254"/>
                        </a:lnTo>
                        <a:lnTo>
                          <a:pt x="3" y="231"/>
                        </a:lnTo>
                        <a:lnTo>
                          <a:pt x="3" y="212"/>
                        </a:lnTo>
                        <a:lnTo>
                          <a:pt x="10" y="188"/>
                        </a:lnTo>
                        <a:lnTo>
                          <a:pt x="10" y="139"/>
                        </a:lnTo>
                        <a:lnTo>
                          <a:pt x="0" y="93"/>
                        </a:lnTo>
                        <a:lnTo>
                          <a:pt x="3" y="59"/>
                        </a:lnTo>
                        <a:lnTo>
                          <a:pt x="3" y="0"/>
                        </a:lnTo>
                        <a:lnTo>
                          <a:pt x="35" y="87"/>
                        </a:lnTo>
                        <a:lnTo>
                          <a:pt x="68" y="171"/>
                        </a:lnTo>
                        <a:lnTo>
                          <a:pt x="89" y="259"/>
                        </a:lnTo>
                        <a:lnTo>
                          <a:pt x="111" y="31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9" name=""/>
                  <p:cNvSpPr/>
                  <p:nvPr/>
                </p:nvSpPr>
                <p:spPr>
                  <a:xfrm>
                    <a:off x="595440" y="4956120"/>
                    <a:ext cx="79560" cy="25920"/>
                  </a:xfrm>
                  <a:custGeom>
                    <a:avLst/>
                    <a:gdLst/>
                    <a:ahLst/>
                    <a:rect l="0" t="0" r="r" b="b"/>
                    <a:pathLst>
                      <a:path w="221" h="72">
                        <a:moveTo>
                          <a:pt x="42" y="36"/>
                        </a:moveTo>
                        <a:lnTo>
                          <a:pt x="96" y="13"/>
                        </a:lnTo>
                        <a:lnTo>
                          <a:pt x="139" y="4"/>
                        </a:lnTo>
                        <a:lnTo>
                          <a:pt x="196" y="0"/>
                        </a:lnTo>
                        <a:lnTo>
                          <a:pt x="221" y="4"/>
                        </a:lnTo>
                        <a:lnTo>
                          <a:pt x="210" y="27"/>
                        </a:lnTo>
                        <a:lnTo>
                          <a:pt x="185" y="45"/>
                        </a:lnTo>
                        <a:lnTo>
                          <a:pt x="136" y="59"/>
                        </a:lnTo>
                        <a:lnTo>
                          <a:pt x="53" y="72"/>
                        </a:lnTo>
                        <a:lnTo>
                          <a:pt x="0" y="68"/>
                        </a:lnTo>
                        <a:lnTo>
                          <a:pt x="42" y="36"/>
                        </a:lnTo>
                        <a:close/>
                      </a:path>
                    </a:pathLst>
                  </a:custGeom>
                  <a:solidFill>
                    <a:srgbClr val="c0c0c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540" name=""/>
                  <p:cNvSpPr/>
                  <p:nvPr/>
                </p:nvSpPr>
                <p:spPr>
                  <a:xfrm>
                    <a:off x="703440" y="4968720"/>
                    <a:ext cx="43200" cy="43200"/>
                  </a:xfrm>
                  <a:custGeom>
                    <a:avLst/>
                    <a:gdLst/>
                    <a:ahLst/>
                    <a:rect l="0" t="0" r="r" b="b"/>
                    <a:pathLst>
                      <a:path w="120" h="120">
                        <a:moveTo>
                          <a:pt x="67" y="32"/>
                        </a:moveTo>
                        <a:lnTo>
                          <a:pt x="81" y="8"/>
                        </a:lnTo>
                        <a:lnTo>
                          <a:pt x="102" y="0"/>
                        </a:lnTo>
                        <a:lnTo>
                          <a:pt x="116" y="5"/>
                        </a:lnTo>
                        <a:lnTo>
                          <a:pt x="120" y="18"/>
                        </a:lnTo>
                        <a:lnTo>
                          <a:pt x="113" y="40"/>
                        </a:lnTo>
                        <a:lnTo>
                          <a:pt x="92" y="65"/>
                        </a:lnTo>
                        <a:lnTo>
                          <a:pt x="71" y="82"/>
                        </a:lnTo>
                        <a:lnTo>
                          <a:pt x="42" y="103"/>
                        </a:lnTo>
                        <a:lnTo>
                          <a:pt x="0" y="120"/>
                        </a:lnTo>
                        <a:lnTo>
                          <a:pt x="38" y="84"/>
                        </a:lnTo>
                        <a:lnTo>
                          <a:pt x="52" y="59"/>
                        </a:lnTo>
                        <a:lnTo>
                          <a:pt x="67" y="32"/>
                        </a:lnTo>
                        <a:close/>
                      </a:path>
                    </a:pathLst>
                  </a:custGeom>
                  <a:solidFill>
                    <a:srgbClr val="c0c0c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541" name=""/>
                  <p:cNvSpPr/>
                  <p:nvPr/>
                </p:nvSpPr>
                <p:spPr>
                  <a:xfrm>
                    <a:off x="539640" y="4700520"/>
                    <a:ext cx="119520" cy="54360"/>
                  </a:xfrm>
                  <a:custGeom>
                    <a:avLst/>
                    <a:gdLst/>
                    <a:ahLst/>
                    <a:rect l="0" t="0" r="r" b="b"/>
                    <a:pathLst>
                      <a:path w="332" h="151">
                        <a:moveTo>
                          <a:pt x="332" y="151"/>
                        </a:moveTo>
                        <a:lnTo>
                          <a:pt x="318" y="88"/>
                        </a:lnTo>
                        <a:lnTo>
                          <a:pt x="251" y="66"/>
                        </a:lnTo>
                        <a:lnTo>
                          <a:pt x="155" y="39"/>
                        </a:lnTo>
                        <a:lnTo>
                          <a:pt x="92" y="19"/>
                        </a:lnTo>
                        <a:lnTo>
                          <a:pt x="24" y="0"/>
                        </a:lnTo>
                        <a:lnTo>
                          <a:pt x="0" y="44"/>
                        </a:lnTo>
                        <a:lnTo>
                          <a:pt x="63" y="66"/>
                        </a:lnTo>
                        <a:lnTo>
                          <a:pt x="134" y="85"/>
                        </a:lnTo>
                        <a:lnTo>
                          <a:pt x="187" y="99"/>
                        </a:lnTo>
                        <a:lnTo>
                          <a:pt x="255" y="124"/>
                        </a:lnTo>
                        <a:lnTo>
                          <a:pt x="332" y="151"/>
                        </a:lnTo>
                        <a:close/>
                      </a:path>
                    </a:pathLst>
                  </a:custGeom>
                  <a:solidFill>
                    <a:srgbClr val="e0e0e0"/>
                  </a:solidFill>
                  <a:ln w="0">
                    <a:noFill/>
                  </a:ln>
                </p:spPr>
                <p:txBody>
                  <a:bodyPr lIns="90000" rIns="90000" tIns="9360" bIns="9360" anchor="t">
                    <a:noAutofit/>
                  </a:bodyPr>
                  <a:p>
                    <a:endParaRPr b="0" lang="en-US" sz="1800" spc="-1" strike="noStrike">
                      <a:solidFill>
                        <a:srgbClr val="000000"/>
                      </a:solidFill>
                      <a:latin typeface="Arial"/>
                    </a:endParaRPr>
                  </a:p>
                </p:txBody>
              </p:sp>
            </p:grpSp>
          </p:grpSp>
          <p:grpSp>
            <p:nvGrpSpPr>
              <p:cNvPr id="542" name=""/>
              <p:cNvGrpSpPr/>
              <p:nvPr/>
            </p:nvGrpSpPr>
            <p:grpSpPr>
              <a:xfrm>
                <a:off x="384120" y="4987800"/>
                <a:ext cx="267120" cy="276480"/>
                <a:chOff x="384120" y="4987800"/>
                <a:chExt cx="267120" cy="276480"/>
              </a:xfrm>
            </p:grpSpPr>
            <p:sp>
              <p:nvSpPr>
                <p:cNvPr id="543" name=""/>
                <p:cNvSpPr/>
                <p:nvPr/>
              </p:nvSpPr>
              <p:spPr>
                <a:xfrm>
                  <a:off x="384120" y="4987800"/>
                  <a:ext cx="267120" cy="276480"/>
                </a:xfrm>
                <a:custGeom>
                  <a:avLst/>
                  <a:gdLst/>
                  <a:ahLst/>
                  <a:rect l="0" t="0" r="r" b="b"/>
                  <a:pathLst>
                    <a:path w="742" h="768">
                      <a:moveTo>
                        <a:pt x="410" y="113"/>
                      </a:moveTo>
                      <a:lnTo>
                        <a:pt x="276" y="105"/>
                      </a:lnTo>
                      <a:lnTo>
                        <a:pt x="195" y="89"/>
                      </a:lnTo>
                      <a:lnTo>
                        <a:pt x="169" y="59"/>
                      </a:lnTo>
                      <a:lnTo>
                        <a:pt x="169" y="35"/>
                      </a:lnTo>
                      <a:lnTo>
                        <a:pt x="144" y="13"/>
                      </a:lnTo>
                      <a:lnTo>
                        <a:pt x="70" y="0"/>
                      </a:lnTo>
                      <a:lnTo>
                        <a:pt x="0" y="5"/>
                      </a:lnTo>
                      <a:lnTo>
                        <a:pt x="88" y="597"/>
                      </a:lnTo>
                      <a:lnTo>
                        <a:pt x="144" y="651"/>
                      </a:lnTo>
                      <a:lnTo>
                        <a:pt x="223" y="705"/>
                      </a:lnTo>
                      <a:lnTo>
                        <a:pt x="329" y="746"/>
                      </a:lnTo>
                      <a:lnTo>
                        <a:pt x="456" y="760"/>
                      </a:lnTo>
                      <a:lnTo>
                        <a:pt x="622" y="768"/>
                      </a:lnTo>
                      <a:lnTo>
                        <a:pt x="721" y="754"/>
                      </a:lnTo>
                      <a:lnTo>
                        <a:pt x="742" y="714"/>
                      </a:lnTo>
                      <a:lnTo>
                        <a:pt x="728" y="659"/>
                      </a:lnTo>
                      <a:lnTo>
                        <a:pt x="661" y="494"/>
                      </a:lnTo>
                      <a:lnTo>
                        <a:pt x="601" y="328"/>
                      </a:lnTo>
                      <a:lnTo>
                        <a:pt x="573" y="203"/>
                      </a:lnTo>
                      <a:lnTo>
                        <a:pt x="573" y="170"/>
                      </a:lnTo>
                      <a:lnTo>
                        <a:pt x="537" y="124"/>
                      </a:lnTo>
                      <a:lnTo>
                        <a:pt x="491" y="113"/>
                      </a:lnTo>
                      <a:lnTo>
                        <a:pt x="410" y="113"/>
                      </a:lnTo>
                      <a:close/>
                    </a:path>
                  </a:pathLst>
                </a:custGeom>
                <a:solidFill>
                  <a:srgbClr val="404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a:off x="399960" y="5000760"/>
                  <a:ext cx="217800" cy="244800"/>
                </a:xfrm>
                <a:custGeom>
                  <a:avLst/>
                  <a:gdLst/>
                  <a:ahLst/>
                  <a:rect l="0" t="0" r="r" b="b"/>
                  <a:pathLst>
                    <a:path w="605" h="680">
                      <a:moveTo>
                        <a:pt x="397" y="135"/>
                      </a:moveTo>
                      <a:lnTo>
                        <a:pt x="280" y="132"/>
                      </a:lnTo>
                      <a:lnTo>
                        <a:pt x="165" y="116"/>
                      </a:lnTo>
                      <a:lnTo>
                        <a:pt x="94" y="89"/>
                      </a:lnTo>
                      <a:lnTo>
                        <a:pt x="52" y="64"/>
                      </a:lnTo>
                      <a:lnTo>
                        <a:pt x="0" y="0"/>
                      </a:lnTo>
                      <a:lnTo>
                        <a:pt x="77" y="525"/>
                      </a:lnTo>
                      <a:lnTo>
                        <a:pt x="126" y="571"/>
                      </a:lnTo>
                      <a:lnTo>
                        <a:pt x="186" y="617"/>
                      </a:lnTo>
                      <a:lnTo>
                        <a:pt x="256" y="647"/>
                      </a:lnTo>
                      <a:lnTo>
                        <a:pt x="320" y="663"/>
                      </a:lnTo>
                      <a:lnTo>
                        <a:pt x="397" y="671"/>
                      </a:lnTo>
                      <a:lnTo>
                        <a:pt x="468" y="680"/>
                      </a:lnTo>
                      <a:lnTo>
                        <a:pt x="548" y="680"/>
                      </a:lnTo>
                      <a:lnTo>
                        <a:pt x="584" y="671"/>
                      </a:lnTo>
                      <a:lnTo>
                        <a:pt x="605" y="647"/>
                      </a:lnTo>
                      <a:lnTo>
                        <a:pt x="594" y="609"/>
                      </a:lnTo>
                      <a:lnTo>
                        <a:pt x="545" y="517"/>
                      </a:lnTo>
                      <a:lnTo>
                        <a:pt x="457" y="205"/>
                      </a:lnTo>
                      <a:lnTo>
                        <a:pt x="440" y="159"/>
                      </a:lnTo>
                      <a:lnTo>
                        <a:pt x="397" y="135"/>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545" name=""/>
            <p:cNvSpPr/>
            <p:nvPr/>
          </p:nvSpPr>
          <p:spPr>
            <a:xfrm>
              <a:off x="1818360" y="4928040"/>
              <a:ext cx="494640" cy="363960"/>
            </a:xfrm>
            <a:custGeom>
              <a:avLst/>
              <a:gdLst/>
              <a:ahLst/>
              <a:rect l="0" t="0" r="r" b="b"/>
              <a:pathLst>
                <a:path fill="none" w="1374" h="1011">
                  <a:moveTo>
                    <a:pt x="1374" y="803"/>
                  </a:moveTo>
                  <a:lnTo>
                    <a:pt x="1239" y="1011"/>
                  </a:lnTo>
                  <a:lnTo>
                    <a:pt x="324" y="417"/>
                  </a:lnTo>
                  <a:lnTo>
                    <a:pt x="188" y="626"/>
                  </a:lnTo>
                  <a:lnTo>
                    <a:pt x="0" y="58"/>
                  </a:lnTo>
                  <a:lnTo>
                    <a:pt x="594" y="0"/>
                  </a:lnTo>
                  <a:lnTo>
                    <a:pt x="459" y="208"/>
                  </a:lnTo>
                  <a:lnTo>
                    <a:pt x="1374" y="80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46" name=""/>
          <p:cNvGrpSpPr/>
          <p:nvPr/>
        </p:nvGrpSpPr>
        <p:grpSpPr>
          <a:xfrm>
            <a:off x="5184720" y="3840120"/>
            <a:ext cx="3512160" cy="1049400"/>
            <a:chOff x="5184720" y="3840120"/>
            <a:chExt cx="3512160" cy="1049400"/>
          </a:xfrm>
        </p:grpSpPr>
        <p:grpSp>
          <p:nvGrpSpPr>
            <p:cNvPr id="547" name=""/>
            <p:cNvGrpSpPr/>
            <p:nvPr/>
          </p:nvGrpSpPr>
          <p:grpSpPr>
            <a:xfrm>
              <a:off x="5184720" y="3854520"/>
              <a:ext cx="1393920" cy="981000"/>
              <a:chOff x="5184720" y="3854520"/>
              <a:chExt cx="1393920" cy="981000"/>
            </a:xfrm>
          </p:grpSpPr>
          <p:sp>
            <p:nvSpPr>
              <p:cNvPr id="548" name=""/>
              <p:cNvSpPr/>
              <p:nvPr/>
            </p:nvSpPr>
            <p:spPr>
              <a:xfrm>
                <a:off x="5184720" y="3995640"/>
                <a:ext cx="1393920" cy="700200"/>
              </a:xfrm>
              <a:prstGeom prst="rect">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a:off x="5184720" y="4556160"/>
                <a:ext cx="1393920" cy="27936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5184720" y="3854520"/>
                <a:ext cx="1393920" cy="28116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51" name=""/>
            <p:cNvGrpSpPr/>
            <p:nvPr/>
          </p:nvGrpSpPr>
          <p:grpSpPr>
            <a:xfrm>
              <a:off x="5316480" y="3881520"/>
              <a:ext cx="1143000" cy="777960"/>
              <a:chOff x="5316480" y="3881520"/>
              <a:chExt cx="1143000" cy="777960"/>
            </a:xfrm>
          </p:grpSpPr>
          <p:sp>
            <p:nvSpPr>
              <p:cNvPr id="552" name=""/>
              <p:cNvSpPr txBox="1"/>
              <p:nvPr/>
            </p:nvSpPr>
            <p:spPr>
              <a:xfrm>
                <a:off x="5316480" y="4141800"/>
                <a:ext cx="1143000" cy="517680"/>
              </a:xfrm>
              <a:prstGeom prst="rect">
                <a:avLst/>
              </a:prstGeom>
              <a:noFill/>
              <a:ln w="0">
                <a:noFill/>
              </a:ln>
            </p:spPr>
            <p:txBody>
              <a:bodyPr lIns="0" rIns="0" tIns="0" bIns="0" anchor="t">
                <a:noAutofit/>
              </a:bodyPr>
              <a:p>
                <a:pPr algn="ctr">
                  <a:lnSpc>
                    <a:spcPct val="100000"/>
                  </a:lnSpc>
                </a:pPr>
                <a:r>
                  <a:rPr b="1" lang="en-US" sz="1400" spc="-1" strike="noStrike">
                    <a:solidFill>
                      <a:srgbClr val="fc0128"/>
                    </a:solidFill>
                    <a:latin typeface="Arial"/>
                    <a:ea typeface="Arial"/>
                  </a:rPr>
                  <a:t>Data</a:t>
                </a:r>
                <a:br>
                  <a:rPr sz="1400"/>
                </a:br>
                <a:r>
                  <a:rPr b="1" lang="en-US" sz="1400" spc="-1" strike="noStrike">
                    <a:solidFill>
                      <a:srgbClr val="fc0128"/>
                    </a:solidFill>
                    <a:latin typeface="Arial"/>
                    <a:ea typeface="Arial"/>
                  </a:rPr>
                  <a:t>Warehouse</a:t>
                </a:r>
                <a:endParaRPr b="0" lang="en-US" sz="1400" spc="-1" strike="noStrike">
                  <a:solidFill>
                    <a:srgbClr val="000000"/>
                  </a:solidFill>
                  <a:latin typeface="Arial"/>
                </a:endParaRPr>
              </a:p>
            </p:txBody>
          </p:sp>
          <p:sp>
            <p:nvSpPr>
              <p:cNvPr id="553" name=""/>
              <p:cNvSpPr txBox="1"/>
              <p:nvPr/>
            </p:nvSpPr>
            <p:spPr>
              <a:xfrm>
                <a:off x="5442120" y="3881520"/>
                <a:ext cx="885960" cy="304920"/>
              </a:xfrm>
              <a:prstGeom prst="rect">
                <a:avLst/>
              </a:prstGeom>
              <a:noFill/>
              <a:ln w="0">
                <a:noFill/>
              </a:ln>
            </p:spPr>
            <p:txBody>
              <a:bodyPr lIns="0" rIns="0" tIns="0" bIns="0" anchor="t">
                <a:noAutofit/>
              </a:bodyPr>
              <a:p>
                <a:pPr algn="ctr">
                  <a:lnSpc>
                    <a:spcPct val="100000"/>
                  </a:lnSpc>
                </a:pPr>
                <a:r>
                  <a:rPr b="1" lang="en-US" sz="1400" spc="-1" strike="noStrike">
                    <a:solidFill>
                      <a:srgbClr val="fc0128"/>
                    </a:solidFill>
                    <a:latin typeface="Arial"/>
                    <a:ea typeface="Arial"/>
                  </a:rPr>
                  <a:t>Oracle8</a:t>
                </a:r>
                <a:r>
                  <a:rPr b="1" i="1" lang="en-US" sz="1400" spc="-1" strike="noStrike">
                    <a:solidFill>
                      <a:srgbClr val="fc0128"/>
                    </a:solidFill>
                    <a:latin typeface="Arial"/>
                    <a:ea typeface="Arial"/>
                  </a:rPr>
                  <a:t>i</a:t>
                </a:r>
                <a:endParaRPr b="0" lang="en-US" sz="1400" spc="-1" strike="noStrike">
                  <a:solidFill>
                    <a:srgbClr val="000000"/>
                  </a:solidFill>
                  <a:latin typeface="Arial"/>
                </a:endParaRPr>
              </a:p>
            </p:txBody>
          </p:sp>
        </p:grpSp>
        <p:grpSp>
          <p:nvGrpSpPr>
            <p:cNvPr id="554" name=""/>
            <p:cNvGrpSpPr/>
            <p:nvPr/>
          </p:nvGrpSpPr>
          <p:grpSpPr>
            <a:xfrm>
              <a:off x="6746760" y="3840120"/>
              <a:ext cx="1950120" cy="783000"/>
              <a:chOff x="6746760" y="3840120"/>
              <a:chExt cx="1950120" cy="783000"/>
            </a:xfrm>
          </p:grpSpPr>
          <p:sp>
            <p:nvSpPr>
              <p:cNvPr id="555" name=""/>
              <p:cNvSpPr/>
              <p:nvPr/>
            </p:nvSpPr>
            <p:spPr>
              <a:xfrm>
                <a:off x="6746760" y="4108320"/>
                <a:ext cx="560880" cy="267120"/>
              </a:xfrm>
              <a:custGeom>
                <a:avLst/>
                <a:gdLst/>
                <a:ahLst/>
                <a:rect l="0" t="0" r="r" b="b"/>
                <a:pathLst>
                  <a:path fill="none" w="1558" h="742">
                    <a:moveTo>
                      <a:pt x="0" y="247"/>
                    </a:moveTo>
                    <a:lnTo>
                      <a:pt x="0" y="494"/>
                    </a:lnTo>
                    <a:lnTo>
                      <a:pt x="1090" y="494"/>
                    </a:lnTo>
                    <a:lnTo>
                      <a:pt x="1090" y="742"/>
                    </a:lnTo>
                    <a:lnTo>
                      <a:pt x="1558" y="371"/>
                    </a:lnTo>
                    <a:lnTo>
                      <a:pt x="1090" y="0"/>
                    </a:lnTo>
                    <a:lnTo>
                      <a:pt x="1090" y="247"/>
                    </a:lnTo>
                    <a:lnTo>
                      <a:pt x="0" y="2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56" name=""/>
              <p:cNvGrpSpPr/>
              <p:nvPr/>
            </p:nvGrpSpPr>
            <p:grpSpPr>
              <a:xfrm>
                <a:off x="7473960" y="3840120"/>
                <a:ext cx="1222920" cy="783000"/>
                <a:chOff x="7473960" y="3840120"/>
                <a:chExt cx="1222920" cy="783000"/>
              </a:xfrm>
            </p:grpSpPr>
            <p:grpSp>
              <p:nvGrpSpPr>
                <p:cNvPr id="557" name=""/>
                <p:cNvGrpSpPr/>
                <p:nvPr/>
              </p:nvGrpSpPr>
              <p:grpSpPr>
                <a:xfrm>
                  <a:off x="7473960" y="3900600"/>
                  <a:ext cx="824040" cy="443160"/>
                  <a:chOff x="7473960" y="3900600"/>
                  <a:chExt cx="824040" cy="443160"/>
                </a:xfrm>
              </p:grpSpPr>
              <p:grpSp>
                <p:nvGrpSpPr>
                  <p:cNvPr id="558" name=""/>
                  <p:cNvGrpSpPr/>
                  <p:nvPr/>
                </p:nvGrpSpPr>
                <p:grpSpPr>
                  <a:xfrm>
                    <a:off x="7473960" y="3900600"/>
                    <a:ext cx="636840" cy="400320"/>
                    <a:chOff x="7473960" y="3900600"/>
                    <a:chExt cx="636840" cy="400320"/>
                  </a:xfrm>
                </p:grpSpPr>
                <p:grpSp>
                  <p:nvGrpSpPr>
                    <p:cNvPr id="559" name=""/>
                    <p:cNvGrpSpPr/>
                    <p:nvPr/>
                  </p:nvGrpSpPr>
                  <p:grpSpPr>
                    <a:xfrm>
                      <a:off x="7473960" y="3900600"/>
                      <a:ext cx="636840" cy="400320"/>
                      <a:chOff x="7473960" y="3900600"/>
                      <a:chExt cx="636840" cy="400320"/>
                    </a:xfrm>
                  </p:grpSpPr>
                  <p:grpSp>
                    <p:nvGrpSpPr>
                      <p:cNvPr id="560" name=""/>
                      <p:cNvGrpSpPr/>
                      <p:nvPr/>
                    </p:nvGrpSpPr>
                    <p:grpSpPr>
                      <a:xfrm>
                        <a:off x="7473960" y="4125960"/>
                        <a:ext cx="636840" cy="174960"/>
                        <a:chOff x="7473960" y="4125960"/>
                        <a:chExt cx="636840" cy="174960"/>
                      </a:xfrm>
                    </p:grpSpPr>
                    <p:sp>
                      <p:nvSpPr>
                        <p:cNvPr id="561" name=""/>
                        <p:cNvSpPr/>
                        <p:nvPr/>
                      </p:nvSpPr>
                      <p:spPr>
                        <a:xfrm>
                          <a:off x="7745400" y="4125960"/>
                          <a:ext cx="365400" cy="174960"/>
                        </a:xfrm>
                        <a:custGeom>
                          <a:avLst/>
                          <a:gdLst/>
                          <a:ahLst/>
                          <a:rect l="0" t="0" r="r" b="b"/>
                          <a:pathLst>
                            <a:path w="1015" h="486">
                              <a:moveTo>
                                <a:pt x="0" y="145"/>
                              </a:moveTo>
                              <a:lnTo>
                                <a:pt x="0" y="486"/>
                              </a:lnTo>
                              <a:lnTo>
                                <a:pt x="1015" y="234"/>
                              </a:lnTo>
                              <a:lnTo>
                                <a:pt x="1015" y="0"/>
                              </a:lnTo>
                              <a:lnTo>
                                <a:pt x="0" y="145"/>
                              </a:lnTo>
                              <a:close/>
                            </a:path>
                          </a:pathLst>
                        </a:custGeom>
                        <a:solidFill>
                          <a:srgbClr val="a0a0a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7473960" y="4168800"/>
                          <a:ext cx="271800" cy="132120"/>
                        </a:xfrm>
                        <a:custGeom>
                          <a:avLst/>
                          <a:gdLst/>
                          <a:ahLst/>
                          <a:rect l="0" t="0" r="r" b="b"/>
                          <a:pathLst>
                            <a:path w="755" h="367">
                              <a:moveTo>
                                <a:pt x="755" y="30"/>
                              </a:moveTo>
                              <a:lnTo>
                                <a:pt x="755" y="367"/>
                              </a:lnTo>
                              <a:lnTo>
                                <a:pt x="0" y="283"/>
                              </a:lnTo>
                              <a:lnTo>
                                <a:pt x="0" y="0"/>
                              </a:lnTo>
                              <a:lnTo>
                                <a:pt x="755" y="3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7473960" y="4125960"/>
                          <a:ext cx="636840" cy="52920"/>
                        </a:xfrm>
                        <a:custGeom>
                          <a:avLst/>
                          <a:gdLst/>
                          <a:ahLst/>
                          <a:rect l="0" t="0" r="r" b="b"/>
                          <a:pathLst>
                            <a:path w="1769" h="147">
                              <a:moveTo>
                                <a:pt x="0" y="113"/>
                              </a:moveTo>
                              <a:lnTo>
                                <a:pt x="762" y="147"/>
                              </a:lnTo>
                              <a:lnTo>
                                <a:pt x="1769" y="0"/>
                              </a:lnTo>
                              <a:lnTo>
                                <a:pt x="1028" y="0"/>
                              </a:lnTo>
                              <a:lnTo>
                                <a:pt x="0" y="113"/>
                              </a:lnTo>
                              <a:close/>
                            </a:path>
                          </a:pathLst>
                        </a:custGeom>
                        <a:solidFill>
                          <a:srgbClr val="c0c0c0"/>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sp>
                    <p:nvSpPr>
                      <p:cNvPr id="564" name=""/>
                      <p:cNvSpPr/>
                      <p:nvPr/>
                    </p:nvSpPr>
                    <p:spPr>
                      <a:xfrm>
                        <a:off x="7683480" y="4111560"/>
                        <a:ext cx="230400" cy="51120"/>
                      </a:xfrm>
                      <a:custGeom>
                        <a:avLst/>
                        <a:gdLst/>
                        <a:ahLst/>
                        <a:rect l="0" t="0" r="r" b="b"/>
                        <a:pathLst>
                          <a:path w="640" h="142">
                            <a:moveTo>
                              <a:pt x="0" y="80"/>
                            </a:moveTo>
                            <a:lnTo>
                              <a:pt x="0" y="128"/>
                            </a:lnTo>
                            <a:lnTo>
                              <a:pt x="295" y="142"/>
                            </a:lnTo>
                            <a:lnTo>
                              <a:pt x="640" y="90"/>
                            </a:lnTo>
                            <a:lnTo>
                              <a:pt x="640" y="0"/>
                            </a:lnTo>
                            <a:lnTo>
                              <a:pt x="0" y="80"/>
                            </a:lnTo>
                            <a:close/>
                          </a:path>
                        </a:pathLst>
                      </a:custGeom>
                      <a:solidFill>
                        <a:srgbClr val="606060"/>
                      </a:solidFill>
                      <a:ln w="12600">
                        <a:solidFill>
                          <a:srgbClr val="000000"/>
                        </a:solidFill>
                        <a:round/>
                      </a:ln>
                    </p:spPr>
                    <p:txBody>
                      <a:bodyPr lIns="96120" rIns="96120" tIns="0" bIns="0" anchor="t">
                        <a:noAutofit/>
                      </a:bodyPr>
                      <a:p>
                        <a:endParaRPr b="0" lang="en-US" sz="1800" spc="-1" strike="noStrike">
                          <a:solidFill>
                            <a:srgbClr val="000000"/>
                          </a:solidFill>
                          <a:latin typeface="Arial"/>
                        </a:endParaRPr>
                      </a:p>
                    </p:txBody>
                  </p:sp>
                  <p:grpSp>
                    <p:nvGrpSpPr>
                      <p:cNvPr id="565" name=""/>
                      <p:cNvGrpSpPr/>
                      <p:nvPr/>
                    </p:nvGrpSpPr>
                    <p:grpSpPr>
                      <a:xfrm>
                        <a:off x="7523280" y="3900600"/>
                        <a:ext cx="514440" cy="249480"/>
                        <a:chOff x="7523280" y="3900600"/>
                        <a:chExt cx="514440" cy="249480"/>
                      </a:xfrm>
                    </p:grpSpPr>
                    <p:sp>
                      <p:nvSpPr>
                        <p:cNvPr id="566" name=""/>
                        <p:cNvSpPr/>
                        <p:nvPr/>
                      </p:nvSpPr>
                      <p:spPr>
                        <a:xfrm>
                          <a:off x="7742160" y="3900600"/>
                          <a:ext cx="295560" cy="243360"/>
                        </a:xfrm>
                        <a:custGeom>
                          <a:avLst/>
                          <a:gdLst/>
                          <a:ahLst/>
                          <a:rect l="0" t="0" r="r" b="b"/>
                          <a:pathLst>
                            <a:path w="821" h="676">
                              <a:moveTo>
                                <a:pt x="114" y="676"/>
                              </a:moveTo>
                              <a:lnTo>
                                <a:pt x="0" y="20"/>
                              </a:lnTo>
                              <a:lnTo>
                                <a:pt x="706" y="0"/>
                              </a:lnTo>
                              <a:lnTo>
                                <a:pt x="821" y="585"/>
                              </a:lnTo>
                              <a:lnTo>
                                <a:pt x="114" y="676"/>
                              </a:lnTo>
                              <a:close/>
                            </a:path>
                          </a:pathLst>
                        </a:custGeom>
                        <a:solidFill>
                          <a:srgbClr val="a0a0a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7523280" y="3908520"/>
                          <a:ext cx="260640" cy="241560"/>
                        </a:xfrm>
                        <a:custGeom>
                          <a:avLst/>
                          <a:gdLst/>
                          <a:ahLst/>
                          <a:rect l="0" t="0" r="r" b="b"/>
                          <a:pathLst>
                            <a:path w="724" h="671">
                              <a:moveTo>
                                <a:pt x="609" y="0"/>
                              </a:moveTo>
                              <a:lnTo>
                                <a:pt x="0" y="148"/>
                              </a:lnTo>
                              <a:lnTo>
                                <a:pt x="88" y="671"/>
                              </a:lnTo>
                              <a:lnTo>
                                <a:pt x="724" y="654"/>
                              </a:lnTo>
                              <a:lnTo>
                                <a:pt x="609"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7791480" y="3922560"/>
                          <a:ext cx="213120" cy="182880"/>
                        </a:xfrm>
                        <a:custGeom>
                          <a:avLst/>
                          <a:gdLst/>
                          <a:ahLst/>
                          <a:rect l="0" t="0" r="r" b="b"/>
                          <a:pathLst>
                            <a:path w="592" h="508">
                              <a:moveTo>
                                <a:pt x="0" y="23"/>
                              </a:moveTo>
                              <a:lnTo>
                                <a:pt x="83" y="508"/>
                              </a:lnTo>
                              <a:lnTo>
                                <a:pt x="592" y="454"/>
                              </a:lnTo>
                              <a:lnTo>
                                <a:pt x="504" y="0"/>
                              </a:lnTo>
                              <a:lnTo>
                                <a:pt x="0" y="23"/>
                              </a:lnTo>
                              <a:close/>
                            </a:path>
                          </a:pathLst>
                        </a:custGeom>
                        <a:solidFill>
                          <a:srgbClr val="0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569" name=""/>
                    <p:cNvGrpSpPr/>
                    <p:nvPr/>
                  </p:nvGrpSpPr>
                  <p:grpSpPr>
                    <a:xfrm>
                      <a:off x="7877160" y="4145040"/>
                      <a:ext cx="211320" cy="114840"/>
                      <a:chOff x="7877160" y="4145040"/>
                      <a:chExt cx="211320" cy="114840"/>
                    </a:xfrm>
                  </p:grpSpPr>
                  <p:sp>
                    <p:nvSpPr>
                      <p:cNvPr id="570" name=""/>
                      <p:cNvSpPr/>
                      <p:nvPr/>
                    </p:nvSpPr>
                    <p:spPr>
                      <a:xfrm>
                        <a:off x="7877160" y="4145040"/>
                        <a:ext cx="209880" cy="114840"/>
                      </a:xfrm>
                      <a:custGeom>
                        <a:avLst/>
                        <a:gdLst/>
                        <a:ahLst/>
                        <a:rect l="0" t="0" r="r" b="b"/>
                        <a:pathLst>
                          <a:path w="583" h="319">
                            <a:moveTo>
                              <a:pt x="583" y="0"/>
                            </a:moveTo>
                            <a:lnTo>
                              <a:pt x="0" y="98"/>
                            </a:lnTo>
                            <a:lnTo>
                              <a:pt x="0" y="319"/>
                            </a:lnTo>
                            <a:lnTo>
                              <a:pt x="583" y="180"/>
                            </a:lnTo>
                            <a:lnTo>
                              <a:pt x="583" y="0"/>
                            </a:lnTo>
                            <a:close/>
                          </a:path>
                        </a:pathLst>
                      </a:custGeom>
                      <a:solidFill>
                        <a:srgbClr val="404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flipV="1">
                        <a:off x="8013600" y="4173480"/>
                        <a:ext cx="55800" cy="9720"/>
                      </a:xfrm>
                      <a:prstGeom prst="line">
                        <a:avLst/>
                      </a:prstGeom>
                      <a:ln w="12600">
                        <a:solidFill>
                          <a:srgbClr val="000000"/>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572" name=""/>
                      <p:cNvSpPr/>
                      <p:nvPr/>
                    </p:nvSpPr>
                    <p:spPr>
                      <a:xfrm flipH="1">
                        <a:off x="7912080" y="4187880"/>
                        <a:ext cx="7308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573" name=""/>
                      <p:cNvSpPr/>
                      <p:nvPr/>
                    </p:nvSpPr>
                    <p:spPr>
                      <a:xfrm>
                        <a:off x="7997760" y="4157640"/>
                        <a:ext cx="0" cy="73080"/>
                      </a:xfrm>
                      <a:prstGeom prst="line">
                        <a:avLst/>
                      </a:prstGeom>
                      <a:ln w="12600">
                        <a:solidFill>
                          <a:srgbClr val="00000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574" name=""/>
                      <p:cNvSpPr/>
                      <p:nvPr/>
                    </p:nvSpPr>
                    <p:spPr>
                      <a:xfrm>
                        <a:off x="7897680" y="4175280"/>
                        <a:ext cx="0" cy="79200"/>
                      </a:xfrm>
                      <a:prstGeom prst="line">
                        <a:avLst/>
                      </a:prstGeom>
                      <a:ln w="12600">
                        <a:solidFill>
                          <a:srgbClr val="000000"/>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575" name=""/>
                      <p:cNvSpPr/>
                      <p:nvPr/>
                    </p:nvSpPr>
                    <p:spPr>
                      <a:xfrm flipH="1">
                        <a:off x="7897680" y="4172040"/>
                        <a:ext cx="18900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576" name=""/>
                      <p:cNvSpPr/>
                      <p:nvPr/>
                    </p:nvSpPr>
                    <p:spPr>
                      <a:xfrm flipV="1">
                        <a:off x="7897680" y="4162320"/>
                        <a:ext cx="19080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577" name=""/>
                  <p:cNvGrpSpPr/>
                  <p:nvPr/>
                </p:nvGrpSpPr>
                <p:grpSpPr>
                  <a:xfrm>
                    <a:off x="7800840" y="4148280"/>
                    <a:ext cx="497160" cy="195480"/>
                    <a:chOff x="7800840" y="4148280"/>
                    <a:chExt cx="497160" cy="195480"/>
                  </a:xfrm>
                </p:grpSpPr>
                <p:grpSp>
                  <p:nvGrpSpPr>
                    <p:cNvPr id="578" name=""/>
                    <p:cNvGrpSpPr/>
                    <p:nvPr/>
                  </p:nvGrpSpPr>
                  <p:grpSpPr>
                    <a:xfrm>
                      <a:off x="7831080" y="4254480"/>
                      <a:ext cx="82800" cy="45000"/>
                      <a:chOff x="7831080" y="4254480"/>
                      <a:chExt cx="82800" cy="45000"/>
                    </a:xfrm>
                  </p:grpSpPr>
                  <p:sp>
                    <p:nvSpPr>
                      <p:cNvPr id="579" name=""/>
                      <p:cNvSpPr/>
                      <p:nvPr/>
                    </p:nvSpPr>
                    <p:spPr>
                      <a:xfrm>
                        <a:off x="7831080" y="4254480"/>
                        <a:ext cx="25920" cy="44640"/>
                      </a:xfrm>
                      <a:custGeom>
                        <a:avLst/>
                        <a:gdLst/>
                        <a:ahLst/>
                        <a:rect l="0" t="0" r="r" b="b"/>
                        <a:pathLst>
                          <a:path w="72" h="124">
                            <a:moveTo>
                              <a:pt x="17" y="0"/>
                            </a:moveTo>
                            <a:lnTo>
                              <a:pt x="0" y="117"/>
                            </a:lnTo>
                            <a:lnTo>
                              <a:pt x="53" y="124"/>
                            </a:lnTo>
                            <a:lnTo>
                              <a:pt x="72" y="3"/>
                            </a:lnTo>
                            <a:lnTo>
                              <a:pt x="17" y="0"/>
                            </a:lnTo>
                            <a:close/>
                          </a:path>
                        </a:pathLst>
                      </a:custGeom>
                      <a:solidFill>
                        <a:srgbClr val="606060"/>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580" name=""/>
                      <p:cNvSpPr/>
                      <p:nvPr/>
                    </p:nvSpPr>
                    <p:spPr>
                      <a:xfrm>
                        <a:off x="7850160" y="4260960"/>
                        <a:ext cx="63720" cy="38520"/>
                      </a:xfrm>
                      <a:custGeom>
                        <a:avLst/>
                        <a:gdLst/>
                        <a:ahLst/>
                        <a:rect l="0" t="0" r="r" b="b"/>
                        <a:pathLst>
                          <a:path w="177" h="107">
                            <a:moveTo>
                              <a:pt x="13" y="3"/>
                            </a:moveTo>
                            <a:lnTo>
                              <a:pt x="0" y="107"/>
                            </a:lnTo>
                            <a:lnTo>
                              <a:pt x="177" y="53"/>
                            </a:lnTo>
                            <a:lnTo>
                              <a:pt x="106" y="37"/>
                            </a:lnTo>
                            <a:lnTo>
                              <a:pt x="44" y="60"/>
                            </a:lnTo>
                            <a:lnTo>
                              <a:pt x="61" y="0"/>
                            </a:lnTo>
                            <a:lnTo>
                              <a:pt x="13" y="3"/>
                            </a:lnTo>
                            <a:close/>
                          </a:path>
                        </a:pathLst>
                      </a:custGeom>
                      <a:solidFill>
                        <a:srgbClr val="404040"/>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581" name=""/>
                    <p:cNvGrpSpPr/>
                    <p:nvPr/>
                  </p:nvGrpSpPr>
                  <p:grpSpPr>
                    <a:xfrm>
                      <a:off x="7800840" y="4148280"/>
                      <a:ext cx="497160" cy="195480"/>
                      <a:chOff x="7800840" y="4148280"/>
                      <a:chExt cx="497160" cy="195480"/>
                    </a:xfrm>
                  </p:grpSpPr>
                  <p:sp>
                    <p:nvSpPr>
                      <p:cNvPr id="582" name=""/>
                      <p:cNvSpPr/>
                      <p:nvPr/>
                    </p:nvSpPr>
                    <p:spPr>
                      <a:xfrm>
                        <a:off x="7808760" y="4148280"/>
                        <a:ext cx="489240" cy="171720"/>
                      </a:xfrm>
                      <a:custGeom>
                        <a:avLst/>
                        <a:gdLst/>
                        <a:ahLst/>
                        <a:rect l="0" t="0" r="r" b="b"/>
                        <a:pathLst>
                          <a:path w="1359" h="477">
                            <a:moveTo>
                              <a:pt x="0" y="202"/>
                            </a:moveTo>
                            <a:lnTo>
                              <a:pt x="652" y="477"/>
                            </a:lnTo>
                            <a:lnTo>
                              <a:pt x="1359" y="206"/>
                            </a:lnTo>
                            <a:lnTo>
                              <a:pt x="816" y="0"/>
                            </a:lnTo>
                            <a:lnTo>
                              <a:pt x="0" y="202"/>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7800840" y="4219560"/>
                        <a:ext cx="244800" cy="122760"/>
                      </a:xfrm>
                      <a:custGeom>
                        <a:avLst/>
                        <a:gdLst/>
                        <a:ahLst/>
                        <a:rect l="0" t="0" r="r" b="b"/>
                        <a:pathLst>
                          <a:path w="680" h="341">
                            <a:moveTo>
                              <a:pt x="26" y="0"/>
                            </a:moveTo>
                            <a:lnTo>
                              <a:pt x="680" y="283"/>
                            </a:lnTo>
                            <a:lnTo>
                              <a:pt x="662" y="341"/>
                            </a:lnTo>
                            <a:lnTo>
                              <a:pt x="0" y="54"/>
                            </a:lnTo>
                            <a:lnTo>
                              <a:pt x="26" y="0"/>
                            </a:lnTo>
                            <a:close/>
                          </a:path>
                        </a:pathLst>
                      </a:custGeom>
                      <a:solidFill>
                        <a:srgbClr val="606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8037360" y="4222800"/>
                        <a:ext cx="260640" cy="120960"/>
                      </a:xfrm>
                      <a:custGeom>
                        <a:avLst/>
                        <a:gdLst/>
                        <a:ahLst/>
                        <a:rect l="0" t="0" r="r" b="b"/>
                        <a:pathLst>
                          <a:path w="724" h="336">
                            <a:moveTo>
                              <a:pt x="0" y="336"/>
                            </a:moveTo>
                            <a:lnTo>
                              <a:pt x="17" y="271"/>
                            </a:lnTo>
                            <a:lnTo>
                              <a:pt x="724" y="0"/>
                            </a:lnTo>
                            <a:lnTo>
                              <a:pt x="697" y="47"/>
                            </a:lnTo>
                            <a:lnTo>
                              <a:pt x="0" y="336"/>
                            </a:lnTo>
                            <a:close/>
                          </a:path>
                        </a:pathLst>
                      </a:custGeom>
                      <a:solidFill>
                        <a:srgbClr val="404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7907400" y="4228920"/>
                        <a:ext cx="186120" cy="68760"/>
                      </a:xfrm>
                      <a:custGeom>
                        <a:avLst/>
                        <a:gdLst/>
                        <a:ahLst/>
                        <a:rect l="0" t="0" r="r" b="b"/>
                        <a:pathLst>
                          <a:path w="517" h="191">
                            <a:moveTo>
                              <a:pt x="0" y="47"/>
                            </a:moveTo>
                            <a:lnTo>
                              <a:pt x="177" y="0"/>
                            </a:lnTo>
                            <a:lnTo>
                              <a:pt x="517" y="133"/>
                            </a:lnTo>
                            <a:lnTo>
                              <a:pt x="344" y="191"/>
                            </a:lnTo>
                            <a:lnTo>
                              <a:pt x="0" y="47"/>
                            </a:lnTo>
                            <a:close/>
                          </a:path>
                        </a:pathLst>
                      </a:custGeom>
                      <a:solidFill>
                        <a:srgbClr val="a0a0a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86" name=""/>
                      <p:cNvSpPr/>
                      <p:nvPr/>
                    </p:nvSpPr>
                    <p:spPr>
                      <a:xfrm>
                        <a:off x="7985160" y="4175280"/>
                        <a:ext cx="278280" cy="95760"/>
                      </a:xfrm>
                      <a:custGeom>
                        <a:avLst/>
                        <a:gdLst/>
                        <a:ahLst/>
                        <a:rect l="0" t="0" r="r" b="b"/>
                        <a:pathLst>
                          <a:path w="773" h="266">
                            <a:moveTo>
                              <a:pt x="0" y="129"/>
                            </a:moveTo>
                            <a:lnTo>
                              <a:pt x="340" y="266"/>
                            </a:lnTo>
                            <a:lnTo>
                              <a:pt x="773" y="116"/>
                            </a:lnTo>
                            <a:lnTo>
                              <a:pt x="455" y="0"/>
                            </a:lnTo>
                            <a:lnTo>
                              <a:pt x="0" y="129"/>
                            </a:lnTo>
                            <a:close/>
                          </a:path>
                        </a:pathLst>
                      </a:custGeom>
                      <a:solidFill>
                        <a:srgbClr val="a0a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7" name=""/>
                      <p:cNvSpPr/>
                      <p:nvPr/>
                    </p:nvSpPr>
                    <p:spPr>
                      <a:xfrm>
                        <a:off x="7834320" y="4152960"/>
                        <a:ext cx="308160" cy="86040"/>
                      </a:xfrm>
                      <a:custGeom>
                        <a:avLst/>
                        <a:gdLst/>
                        <a:ahLst/>
                        <a:rect l="0" t="0" r="r" b="b"/>
                        <a:pathLst>
                          <a:path w="856" h="239">
                            <a:moveTo>
                              <a:pt x="176" y="239"/>
                            </a:moveTo>
                            <a:lnTo>
                              <a:pt x="0" y="171"/>
                            </a:lnTo>
                            <a:lnTo>
                              <a:pt x="719" y="0"/>
                            </a:lnTo>
                            <a:lnTo>
                              <a:pt x="856" y="47"/>
                            </a:lnTo>
                            <a:lnTo>
                              <a:pt x="176" y="239"/>
                            </a:lnTo>
                            <a:close/>
                          </a:path>
                        </a:pathLst>
                      </a:custGeom>
                      <a:solidFill>
                        <a:srgbClr val="a0a0a0"/>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588" name=""/>
                      <p:cNvSpPr/>
                      <p:nvPr/>
                    </p:nvSpPr>
                    <p:spPr>
                      <a:xfrm flipV="1">
                        <a:off x="7842240" y="4157640"/>
                        <a:ext cx="276120" cy="73080"/>
                      </a:xfrm>
                      <a:prstGeom prst="line">
                        <a:avLst/>
                      </a:prstGeom>
                      <a:ln w="12600">
                        <a:solidFill>
                          <a:srgbClr val="80808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589" name=""/>
                      <p:cNvSpPr/>
                      <p:nvPr/>
                    </p:nvSpPr>
                    <p:spPr>
                      <a:xfrm flipV="1">
                        <a:off x="7866000" y="4160880"/>
                        <a:ext cx="265320" cy="74520"/>
                      </a:xfrm>
                      <a:prstGeom prst="line">
                        <a:avLst/>
                      </a:prstGeom>
                      <a:ln w="12600">
                        <a:solidFill>
                          <a:srgbClr val="80808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590" name=""/>
                      <p:cNvSpPr/>
                      <p:nvPr/>
                    </p:nvSpPr>
                    <p:spPr>
                      <a:xfrm flipV="1">
                        <a:off x="7881840" y="4168800"/>
                        <a:ext cx="260280" cy="74520"/>
                      </a:xfrm>
                      <a:prstGeom prst="line">
                        <a:avLst/>
                      </a:prstGeom>
                      <a:ln w="12600">
                        <a:solidFill>
                          <a:srgbClr val="80808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591" name=""/>
                      <p:cNvSpPr/>
                      <p:nvPr/>
                    </p:nvSpPr>
                    <p:spPr>
                      <a:xfrm flipV="1">
                        <a:off x="7920000" y="4179960"/>
                        <a:ext cx="250920" cy="77760"/>
                      </a:xfrm>
                      <a:prstGeom prst="line">
                        <a:avLst/>
                      </a:prstGeom>
                      <a:ln w="12600">
                        <a:solidFill>
                          <a:srgbClr val="80808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592" name=""/>
                      <p:cNvSpPr/>
                      <p:nvPr/>
                    </p:nvSpPr>
                    <p:spPr>
                      <a:xfrm flipV="1">
                        <a:off x="7940520" y="4189320"/>
                        <a:ext cx="249480" cy="77760"/>
                      </a:xfrm>
                      <a:prstGeom prst="line">
                        <a:avLst/>
                      </a:prstGeom>
                      <a:ln w="12600">
                        <a:solidFill>
                          <a:srgbClr val="80808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593" name=""/>
                      <p:cNvSpPr/>
                      <p:nvPr/>
                    </p:nvSpPr>
                    <p:spPr>
                      <a:xfrm flipV="1">
                        <a:off x="7967520" y="4199040"/>
                        <a:ext cx="228600" cy="75960"/>
                      </a:xfrm>
                      <a:prstGeom prst="line">
                        <a:avLst/>
                      </a:prstGeom>
                      <a:ln w="12600">
                        <a:solidFill>
                          <a:srgbClr val="80808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94" name=""/>
                      <p:cNvSpPr/>
                      <p:nvPr/>
                    </p:nvSpPr>
                    <p:spPr>
                      <a:xfrm flipV="1">
                        <a:off x="7993080" y="4206960"/>
                        <a:ext cx="220680" cy="75960"/>
                      </a:xfrm>
                      <a:prstGeom prst="line">
                        <a:avLst/>
                      </a:prstGeom>
                      <a:ln w="12600">
                        <a:solidFill>
                          <a:srgbClr val="80808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95" name=""/>
                      <p:cNvSpPr/>
                      <p:nvPr/>
                    </p:nvSpPr>
                    <p:spPr>
                      <a:xfrm flipV="1">
                        <a:off x="8018640" y="4216320"/>
                        <a:ext cx="215640" cy="74520"/>
                      </a:xfrm>
                      <a:prstGeom prst="line">
                        <a:avLst/>
                      </a:prstGeom>
                      <a:ln w="12600">
                        <a:solidFill>
                          <a:srgbClr val="80808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596" name=""/>
                      <p:cNvSpPr/>
                      <p:nvPr/>
                    </p:nvSpPr>
                    <p:spPr>
                      <a:xfrm>
                        <a:off x="7929720" y="4241880"/>
                        <a:ext cx="129960" cy="57240"/>
                      </a:xfrm>
                      <a:prstGeom prst="line">
                        <a:avLst/>
                      </a:prstGeom>
                      <a:ln w="12600">
                        <a:solidFill>
                          <a:srgbClr val="808080"/>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597" name=""/>
                      <p:cNvSpPr/>
                      <p:nvPr/>
                    </p:nvSpPr>
                    <p:spPr>
                      <a:xfrm>
                        <a:off x="7954920" y="4233960"/>
                        <a:ext cx="130320" cy="55440"/>
                      </a:xfrm>
                      <a:prstGeom prst="line">
                        <a:avLst/>
                      </a:prstGeom>
                      <a:ln w="12600">
                        <a:solidFill>
                          <a:srgbClr val="80808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598" name=""/>
                      <p:cNvSpPr/>
                      <p:nvPr/>
                    </p:nvSpPr>
                    <p:spPr>
                      <a:xfrm>
                        <a:off x="8012160" y="4216320"/>
                        <a:ext cx="127080" cy="52560"/>
                      </a:xfrm>
                      <a:prstGeom prst="line">
                        <a:avLst/>
                      </a:prstGeom>
                      <a:ln w="12600">
                        <a:solidFill>
                          <a:srgbClr val="808080"/>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599" name=""/>
                      <p:cNvSpPr/>
                      <p:nvPr/>
                    </p:nvSpPr>
                    <p:spPr>
                      <a:xfrm>
                        <a:off x="8043840" y="4210200"/>
                        <a:ext cx="122400" cy="50760"/>
                      </a:xfrm>
                      <a:prstGeom prst="line">
                        <a:avLst/>
                      </a:prstGeom>
                      <a:ln w="12600">
                        <a:solidFill>
                          <a:srgbClr val="80808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600" name=""/>
                      <p:cNvSpPr/>
                      <p:nvPr/>
                    </p:nvSpPr>
                    <p:spPr>
                      <a:xfrm>
                        <a:off x="8072280" y="4200480"/>
                        <a:ext cx="122400" cy="50760"/>
                      </a:xfrm>
                      <a:prstGeom prst="line">
                        <a:avLst/>
                      </a:prstGeom>
                      <a:ln w="12600">
                        <a:solidFill>
                          <a:srgbClr val="80808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601" name=""/>
                      <p:cNvSpPr/>
                      <p:nvPr/>
                    </p:nvSpPr>
                    <p:spPr>
                      <a:xfrm>
                        <a:off x="8099280" y="4192560"/>
                        <a:ext cx="119160" cy="49320"/>
                      </a:xfrm>
                      <a:prstGeom prst="line">
                        <a:avLst/>
                      </a:prstGeom>
                      <a:ln w="12600">
                        <a:solidFill>
                          <a:srgbClr val="80808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602" name=""/>
                      <p:cNvSpPr/>
                      <p:nvPr/>
                    </p:nvSpPr>
                    <p:spPr>
                      <a:xfrm>
                        <a:off x="8123400" y="4183200"/>
                        <a:ext cx="120600" cy="47520"/>
                      </a:xfrm>
                      <a:prstGeom prst="line">
                        <a:avLst/>
                      </a:prstGeom>
                      <a:ln w="12600">
                        <a:solidFill>
                          <a:srgbClr val="808080"/>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603" name=""/>
                      <p:cNvSpPr/>
                      <p:nvPr/>
                    </p:nvSpPr>
                    <p:spPr>
                      <a:xfrm>
                        <a:off x="7872480" y="4210200"/>
                        <a:ext cx="63360" cy="25200"/>
                      </a:xfrm>
                      <a:prstGeom prst="line">
                        <a:avLst/>
                      </a:prstGeom>
                      <a:ln w="12600">
                        <a:solidFill>
                          <a:srgbClr val="80808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04" name=""/>
                      <p:cNvSpPr/>
                      <p:nvPr/>
                    </p:nvSpPr>
                    <p:spPr>
                      <a:xfrm>
                        <a:off x="7913520" y="4199040"/>
                        <a:ext cx="61920" cy="25200"/>
                      </a:xfrm>
                      <a:prstGeom prst="line">
                        <a:avLst/>
                      </a:prstGeom>
                      <a:ln w="12600">
                        <a:solidFill>
                          <a:srgbClr val="80808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05" name=""/>
                      <p:cNvSpPr/>
                      <p:nvPr/>
                    </p:nvSpPr>
                    <p:spPr>
                      <a:xfrm>
                        <a:off x="7951680" y="4191120"/>
                        <a:ext cx="61920" cy="23760"/>
                      </a:xfrm>
                      <a:prstGeom prst="line">
                        <a:avLst/>
                      </a:prstGeom>
                      <a:ln w="12600">
                        <a:solidFill>
                          <a:srgbClr val="80808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06" name=""/>
                      <p:cNvSpPr/>
                      <p:nvPr/>
                    </p:nvSpPr>
                    <p:spPr>
                      <a:xfrm>
                        <a:off x="7986600" y="4179960"/>
                        <a:ext cx="60480" cy="23760"/>
                      </a:xfrm>
                      <a:prstGeom prst="line">
                        <a:avLst/>
                      </a:prstGeom>
                      <a:ln w="12600">
                        <a:solidFill>
                          <a:srgbClr val="80808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07" name=""/>
                      <p:cNvSpPr/>
                      <p:nvPr/>
                    </p:nvSpPr>
                    <p:spPr>
                      <a:xfrm>
                        <a:off x="8024760" y="4170240"/>
                        <a:ext cx="57240" cy="23760"/>
                      </a:xfrm>
                      <a:prstGeom prst="line">
                        <a:avLst/>
                      </a:prstGeom>
                      <a:ln w="12600">
                        <a:solidFill>
                          <a:srgbClr val="80808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08" name=""/>
                      <p:cNvSpPr/>
                      <p:nvPr/>
                    </p:nvSpPr>
                    <p:spPr>
                      <a:xfrm>
                        <a:off x="8066160" y="4160880"/>
                        <a:ext cx="54000" cy="22320"/>
                      </a:xfrm>
                      <a:prstGeom prst="line">
                        <a:avLst/>
                      </a:prstGeom>
                      <a:ln w="12600">
                        <a:solidFill>
                          <a:srgbClr val="808080"/>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grpSp>
              </p:grpSp>
            </p:grpSp>
            <p:grpSp>
              <p:nvGrpSpPr>
                <p:cNvPr id="609" name=""/>
                <p:cNvGrpSpPr/>
                <p:nvPr/>
              </p:nvGrpSpPr>
              <p:grpSpPr>
                <a:xfrm>
                  <a:off x="7958160" y="3840120"/>
                  <a:ext cx="690840" cy="783000"/>
                  <a:chOff x="7958160" y="3840120"/>
                  <a:chExt cx="690840" cy="783000"/>
                </a:xfrm>
              </p:grpSpPr>
              <p:grpSp>
                <p:nvGrpSpPr>
                  <p:cNvPr id="610" name=""/>
                  <p:cNvGrpSpPr/>
                  <p:nvPr/>
                </p:nvGrpSpPr>
                <p:grpSpPr>
                  <a:xfrm>
                    <a:off x="7980480" y="4402080"/>
                    <a:ext cx="643320" cy="221040"/>
                    <a:chOff x="7980480" y="4402080"/>
                    <a:chExt cx="643320" cy="221040"/>
                  </a:xfrm>
                </p:grpSpPr>
                <p:sp>
                  <p:nvSpPr>
                    <p:cNvPr id="611" name=""/>
                    <p:cNvSpPr/>
                    <p:nvPr/>
                  </p:nvSpPr>
                  <p:spPr>
                    <a:xfrm>
                      <a:off x="7980480" y="4402080"/>
                      <a:ext cx="643320" cy="221040"/>
                    </a:xfrm>
                    <a:custGeom>
                      <a:avLst/>
                      <a:gdLst/>
                      <a:ahLst/>
                      <a:rect l="0" t="0" r="r" b="b"/>
                      <a:pathLst>
                        <a:path w="1787" h="614">
                          <a:moveTo>
                            <a:pt x="154" y="611"/>
                          </a:moveTo>
                          <a:lnTo>
                            <a:pt x="0" y="598"/>
                          </a:lnTo>
                          <a:lnTo>
                            <a:pt x="0" y="458"/>
                          </a:lnTo>
                          <a:lnTo>
                            <a:pt x="4" y="353"/>
                          </a:lnTo>
                          <a:lnTo>
                            <a:pt x="83" y="292"/>
                          </a:lnTo>
                          <a:lnTo>
                            <a:pt x="176" y="254"/>
                          </a:lnTo>
                          <a:lnTo>
                            <a:pt x="388" y="194"/>
                          </a:lnTo>
                          <a:lnTo>
                            <a:pt x="706" y="135"/>
                          </a:lnTo>
                          <a:lnTo>
                            <a:pt x="768" y="132"/>
                          </a:lnTo>
                          <a:lnTo>
                            <a:pt x="807" y="135"/>
                          </a:lnTo>
                          <a:lnTo>
                            <a:pt x="816" y="121"/>
                          </a:lnTo>
                          <a:lnTo>
                            <a:pt x="834" y="108"/>
                          </a:lnTo>
                          <a:lnTo>
                            <a:pt x="856" y="111"/>
                          </a:lnTo>
                          <a:lnTo>
                            <a:pt x="882" y="115"/>
                          </a:lnTo>
                          <a:lnTo>
                            <a:pt x="896" y="91"/>
                          </a:lnTo>
                          <a:lnTo>
                            <a:pt x="918" y="77"/>
                          </a:lnTo>
                          <a:lnTo>
                            <a:pt x="944" y="74"/>
                          </a:lnTo>
                          <a:lnTo>
                            <a:pt x="975" y="74"/>
                          </a:lnTo>
                          <a:lnTo>
                            <a:pt x="971" y="54"/>
                          </a:lnTo>
                          <a:lnTo>
                            <a:pt x="1006" y="0"/>
                          </a:lnTo>
                          <a:lnTo>
                            <a:pt x="1743" y="13"/>
                          </a:lnTo>
                          <a:lnTo>
                            <a:pt x="1739" y="71"/>
                          </a:lnTo>
                          <a:lnTo>
                            <a:pt x="1752" y="121"/>
                          </a:lnTo>
                          <a:lnTo>
                            <a:pt x="1765" y="163"/>
                          </a:lnTo>
                          <a:lnTo>
                            <a:pt x="1779" y="207"/>
                          </a:lnTo>
                          <a:lnTo>
                            <a:pt x="1787" y="282"/>
                          </a:lnTo>
                          <a:lnTo>
                            <a:pt x="1774" y="326"/>
                          </a:lnTo>
                          <a:lnTo>
                            <a:pt x="1752" y="366"/>
                          </a:lnTo>
                          <a:lnTo>
                            <a:pt x="1730" y="400"/>
                          </a:lnTo>
                          <a:lnTo>
                            <a:pt x="1695" y="414"/>
                          </a:lnTo>
                          <a:lnTo>
                            <a:pt x="1642" y="427"/>
                          </a:lnTo>
                          <a:lnTo>
                            <a:pt x="1571" y="444"/>
                          </a:lnTo>
                          <a:lnTo>
                            <a:pt x="1536" y="472"/>
                          </a:lnTo>
                          <a:lnTo>
                            <a:pt x="1501" y="496"/>
                          </a:lnTo>
                          <a:lnTo>
                            <a:pt x="1439" y="516"/>
                          </a:lnTo>
                          <a:lnTo>
                            <a:pt x="1373" y="533"/>
                          </a:lnTo>
                          <a:lnTo>
                            <a:pt x="1257" y="543"/>
                          </a:lnTo>
                          <a:lnTo>
                            <a:pt x="1165" y="543"/>
                          </a:lnTo>
                          <a:lnTo>
                            <a:pt x="1094" y="540"/>
                          </a:lnTo>
                          <a:lnTo>
                            <a:pt x="1024" y="533"/>
                          </a:lnTo>
                          <a:lnTo>
                            <a:pt x="975" y="557"/>
                          </a:lnTo>
                          <a:lnTo>
                            <a:pt x="882" y="550"/>
                          </a:lnTo>
                          <a:lnTo>
                            <a:pt x="494" y="594"/>
                          </a:lnTo>
                          <a:lnTo>
                            <a:pt x="326" y="614"/>
                          </a:lnTo>
                          <a:lnTo>
                            <a:pt x="154" y="611"/>
                          </a:lnTo>
                          <a:close/>
                        </a:path>
                      </a:pathLst>
                    </a:custGeom>
                    <a:solidFill>
                      <a:srgbClr val="606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7980480" y="4424400"/>
                      <a:ext cx="622800" cy="187560"/>
                    </a:xfrm>
                    <a:custGeom>
                      <a:avLst/>
                      <a:gdLst/>
                      <a:ahLst/>
                      <a:rect l="0" t="0" r="r" b="b"/>
                      <a:pathLst>
                        <a:path w="1730" h="521">
                          <a:moveTo>
                            <a:pt x="1668" y="20"/>
                          </a:moveTo>
                          <a:lnTo>
                            <a:pt x="1673" y="54"/>
                          </a:lnTo>
                          <a:lnTo>
                            <a:pt x="1695" y="40"/>
                          </a:lnTo>
                          <a:lnTo>
                            <a:pt x="1717" y="125"/>
                          </a:lnTo>
                          <a:lnTo>
                            <a:pt x="1730" y="223"/>
                          </a:lnTo>
                          <a:lnTo>
                            <a:pt x="1682" y="321"/>
                          </a:lnTo>
                          <a:lnTo>
                            <a:pt x="1576" y="349"/>
                          </a:lnTo>
                          <a:lnTo>
                            <a:pt x="1589" y="321"/>
                          </a:lnTo>
                          <a:lnTo>
                            <a:pt x="1532" y="359"/>
                          </a:lnTo>
                          <a:lnTo>
                            <a:pt x="1479" y="392"/>
                          </a:lnTo>
                          <a:lnTo>
                            <a:pt x="1369" y="430"/>
                          </a:lnTo>
                          <a:lnTo>
                            <a:pt x="1231" y="440"/>
                          </a:lnTo>
                          <a:lnTo>
                            <a:pt x="1063" y="447"/>
                          </a:lnTo>
                          <a:lnTo>
                            <a:pt x="993" y="440"/>
                          </a:lnTo>
                          <a:lnTo>
                            <a:pt x="1054" y="423"/>
                          </a:lnTo>
                          <a:lnTo>
                            <a:pt x="1085" y="369"/>
                          </a:lnTo>
                          <a:lnTo>
                            <a:pt x="1032" y="413"/>
                          </a:lnTo>
                          <a:lnTo>
                            <a:pt x="971" y="440"/>
                          </a:lnTo>
                          <a:lnTo>
                            <a:pt x="913" y="460"/>
                          </a:lnTo>
                          <a:lnTo>
                            <a:pt x="856" y="453"/>
                          </a:lnTo>
                          <a:lnTo>
                            <a:pt x="896" y="433"/>
                          </a:lnTo>
                          <a:lnTo>
                            <a:pt x="935" y="413"/>
                          </a:lnTo>
                          <a:lnTo>
                            <a:pt x="874" y="426"/>
                          </a:lnTo>
                          <a:lnTo>
                            <a:pt x="807" y="460"/>
                          </a:lnTo>
                          <a:lnTo>
                            <a:pt x="609" y="480"/>
                          </a:lnTo>
                          <a:lnTo>
                            <a:pt x="410" y="501"/>
                          </a:lnTo>
                          <a:lnTo>
                            <a:pt x="339" y="497"/>
                          </a:lnTo>
                          <a:lnTo>
                            <a:pt x="414" y="467"/>
                          </a:lnTo>
                          <a:lnTo>
                            <a:pt x="490" y="453"/>
                          </a:lnTo>
                          <a:lnTo>
                            <a:pt x="410" y="453"/>
                          </a:lnTo>
                          <a:lnTo>
                            <a:pt x="343" y="474"/>
                          </a:lnTo>
                          <a:lnTo>
                            <a:pt x="268" y="511"/>
                          </a:lnTo>
                          <a:lnTo>
                            <a:pt x="321" y="453"/>
                          </a:lnTo>
                          <a:lnTo>
                            <a:pt x="396" y="423"/>
                          </a:lnTo>
                          <a:lnTo>
                            <a:pt x="304" y="433"/>
                          </a:lnTo>
                          <a:lnTo>
                            <a:pt x="251" y="480"/>
                          </a:lnTo>
                          <a:lnTo>
                            <a:pt x="242" y="521"/>
                          </a:lnTo>
                          <a:lnTo>
                            <a:pt x="176" y="467"/>
                          </a:lnTo>
                          <a:lnTo>
                            <a:pt x="114" y="440"/>
                          </a:lnTo>
                          <a:lnTo>
                            <a:pt x="149" y="470"/>
                          </a:lnTo>
                          <a:lnTo>
                            <a:pt x="202" y="521"/>
                          </a:lnTo>
                          <a:lnTo>
                            <a:pt x="48" y="497"/>
                          </a:lnTo>
                          <a:lnTo>
                            <a:pt x="17" y="490"/>
                          </a:lnTo>
                          <a:lnTo>
                            <a:pt x="0" y="426"/>
                          </a:lnTo>
                          <a:lnTo>
                            <a:pt x="8" y="335"/>
                          </a:lnTo>
                          <a:lnTo>
                            <a:pt x="35" y="274"/>
                          </a:lnTo>
                          <a:lnTo>
                            <a:pt x="127" y="226"/>
                          </a:lnTo>
                          <a:lnTo>
                            <a:pt x="251" y="185"/>
                          </a:lnTo>
                          <a:lnTo>
                            <a:pt x="481" y="131"/>
                          </a:lnTo>
                          <a:lnTo>
                            <a:pt x="671" y="94"/>
                          </a:lnTo>
                          <a:lnTo>
                            <a:pt x="768" y="84"/>
                          </a:lnTo>
                          <a:lnTo>
                            <a:pt x="816" y="131"/>
                          </a:lnTo>
                          <a:lnTo>
                            <a:pt x="944" y="179"/>
                          </a:lnTo>
                          <a:lnTo>
                            <a:pt x="874" y="135"/>
                          </a:lnTo>
                          <a:lnTo>
                            <a:pt x="821" y="114"/>
                          </a:lnTo>
                          <a:lnTo>
                            <a:pt x="803" y="81"/>
                          </a:lnTo>
                          <a:lnTo>
                            <a:pt x="807" y="67"/>
                          </a:lnTo>
                          <a:lnTo>
                            <a:pt x="847" y="67"/>
                          </a:lnTo>
                          <a:lnTo>
                            <a:pt x="874" y="84"/>
                          </a:lnTo>
                          <a:lnTo>
                            <a:pt x="896" y="101"/>
                          </a:lnTo>
                          <a:lnTo>
                            <a:pt x="953" y="121"/>
                          </a:lnTo>
                          <a:lnTo>
                            <a:pt x="900" y="84"/>
                          </a:lnTo>
                          <a:lnTo>
                            <a:pt x="874" y="60"/>
                          </a:lnTo>
                          <a:lnTo>
                            <a:pt x="891" y="40"/>
                          </a:lnTo>
                          <a:lnTo>
                            <a:pt x="940" y="33"/>
                          </a:lnTo>
                          <a:lnTo>
                            <a:pt x="997" y="70"/>
                          </a:lnTo>
                          <a:lnTo>
                            <a:pt x="1054" y="97"/>
                          </a:lnTo>
                          <a:lnTo>
                            <a:pt x="984" y="40"/>
                          </a:lnTo>
                          <a:lnTo>
                            <a:pt x="966" y="16"/>
                          </a:lnTo>
                          <a:lnTo>
                            <a:pt x="966" y="0"/>
                          </a:lnTo>
                          <a:lnTo>
                            <a:pt x="1019" y="6"/>
                          </a:lnTo>
                          <a:lnTo>
                            <a:pt x="1076" y="33"/>
                          </a:lnTo>
                          <a:lnTo>
                            <a:pt x="1112" y="54"/>
                          </a:lnTo>
                          <a:lnTo>
                            <a:pt x="1275" y="67"/>
                          </a:lnTo>
                          <a:lnTo>
                            <a:pt x="1271" y="33"/>
                          </a:lnTo>
                          <a:lnTo>
                            <a:pt x="1320" y="23"/>
                          </a:lnTo>
                          <a:lnTo>
                            <a:pt x="1320" y="64"/>
                          </a:lnTo>
                          <a:lnTo>
                            <a:pt x="1373" y="70"/>
                          </a:lnTo>
                          <a:lnTo>
                            <a:pt x="1479" y="81"/>
                          </a:lnTo>
                          <a:lnTo>
                            <a:pt x="1470" y="40"/>
                          </a:lnTo>
                          <a:lnTo>
                            <a:pt x="1510" y="40"/>
                          </a:lnTo>
                          <a:lnTo>
                            <a:pt x="1514" y="81"/>
                          </a:lnTo>
                          <a:lnTo>
                            <a:pt x="1576" y="81"/>
                          </a:lnTo>
                          <a:lnTo>
                            <a:pt x="1642" y="67"/>
                          </a:lnTo>
                          <a:lnTo>
                            <a:pt x="1642" y="33"/>
                          </a:lnTo>
                          <a:lnTo>
                            <a:pt x="1668" y="2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3" name=""/>
                    <p:cNvSpPr/>
                    <p:nvPr/>
                  </p:nvSpPr>
                  <p:spPr>
                    <a:xfrm>
                      <a:off x="8437680" y="4492800"/>
                      <a:ext cx="76680" cy="25920"/>
                    </a:xfrm>
                    <a:custGeom>
                      <a:avLst/>
                      <a:gdLst/>
                      <a:ahLst/>
                      <a:rect l="0" t="0" r="r" b="b"/>
                      <a:pathLst>
                        <a:path w="213" h="72">
                          <a:moveTo>
                            <a:pt x="213" y="0"/>
                          </a:moveTo>
                          <a:lnTo>
                            <a:pt x="115" y="72"/>
                          </a:lnTo>
                          <a:lnTo>
                            <a:pt x="0" y="53"/>
                          </a:lnTo>
                          <a:lnTo>
                            <a:pt x="213" y="0"/>
                          </a:lnTo>
                          <a:close/>
                        </a:path>
                      </a:pathLst>
                    </a:custGeom>
                    <a:solidFill>
                      <a:srgbClr val="60606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14" name=""/>
                    <p:cNvSpPr/>
                    <p:nvPr/>
                  </p:nvSpPr>
                  <p:spPr>
                    <a:xfrm>
                      <a:off x="8559720" y="4475160"/>
                      <a:ext cx="43200" cy="25920"/>
                    </a:xfrm>
                    <a:custGeom>
                      <a:avLst/>
                      <a:gdLst/>
                      <a:ahLst/>
                      <a:rect l="0" t="0" r="r" b="b"/>
                      <a:pathLst>
                        <a:path w="120" h="72">
                          <a:moveTo>
                            <a:pt x="120" y="0"/>
                          </a:moveTo>
                          <a:lnTo>
                            <a:pt x="84" y="40"/>
                          </a:lnTo>
                          <a:lnTo>
                            <a:pt x="0" y="72"/>
                          </a:lnTo>
                          <a:lnTo>
                            <a:pt x="89" y="72"/>
                          </a:lnTo>
                          <a:lnTo>
                            <a:pt x="120" y="0"/>
                          </a:lnTo>
                          <a:close/>
                        </a:path>
                      </a:pathLst>
                    </a:custGeom>
                    <a:solidFill>
                      <a:srgbClr val="60606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15" name=""/>
                    <p:cNvSpPr/>
                    <p:nvPr/>
                  </p:nvSpPr>
                  <p:spPr>
                    <a:xfrm>
                      <a:off x="8312040" y="4465800"/>
                      <a:ext cx="71640" cy="25920"/>
                    </a:xfrm>
                    <a:custGeom>
                      <a:avLst/>
                      <a:gdLst/>
                      <a:ahLst/>
                      <a:rect l="0" t="0" r="r" b="b"/>
                      <a:pathLst>
                        <a:path w="199" h="72">
                          <a:moveTo>
                            <a:pt x="199" y="0"/>
                          </a:moveTo>
                          <a:lnTo>
                            <a:pt x="106" y="3"/>
                          </a:lnTo>
                          <a:lnTo>
                            <a:pt x="88" y="13"/>
                          </a:lnTo>
                          <a:lnTo>
                            <a:pt x="88" y="37"/>
                          </a:lnTo>
                          <a:lnTo>
                            <a:pt x="83" y="62"/>
                          </a:lnTo>
                          <a:lnTo>
                            <a:pt x="0" y="72"/>
                          </a:lnTo>
                          <a:lnTo>
                            <a:pt x="102" y="69"/>
                          </a:lnTo>
                          <a:lnTo>
                            <a:pt x="115" y="21"/>
                          </a:lnTo>
                          <a:lnTo>
                            <a:pt x="199" y="0"/>
                          </a:lnTo>
                          <a:close/>
                        </a:path>
                      </a:pathLst>
                    </a:custGeom>
                    <a:solidFill>
                      <a:srgbClr val="60606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16" name=""/>
                    <p:cNvSpPr/>
                    <p:nvPr/>
                  </p:nvSpPr>
                  <p:spPr>
                    <a:xfrm>
                      <a:off x="8048520" y="4543560"/>
                      <a:ext cx="252720" cy="43200"/>
                    </a:xfrm>
                    <a:custGeom>
                      <a:avLst/>
                      <a:gdLst/>
                      <a:ahLst/>
                      <a:rect l="0" t="0" r="r" b="b"/>
                      <a:pathLst>
                        <a:path w="702" h="120">
                          <a:moveTo>
                            <a:pt x="702" y="0"/>
                          </a:moveTo>
                          <a:lnTo>
                            <a:pt x="521" y="6"/>
                          </a:lnTo>
                          <a:lnTo>
                            <a:pt x="339" y="34"/>
                          </a:lnTo>
                          <a:lnTo>
                            <a:pt x="202" y="37"/>
                          </a:lnTo>
                          <a:lnTo>
                            <a:pt x="88" y="54"/>
                          </a:lnTo>
                          <a:lnTo>
                            <a:pt x="48" y="96"/>
                          </a:lnTo>
                          <a:lnTo>
                            <a:pt x="0" y="120"/>
                          </a:lnTo>
                          <a:lnTo>
                            <a:pt x="48" y="109"/>
                          </a:lnTo>
                          <a:lnTo>
                            <a:pt x="101" y="65"/>
                          </a:lnTo>
                          <a:lnTo>
                            <a:pt x="246" y="44"/>
                          </a:lnTo>
                          <a:lnTo>
                            <a:pt x="339" y="44"/>
                          </a:lnTo>
                          <a:lnTo>
                            <a:pt x="411" y="34"/>
                          </a:lnTo>
                          <a:lnTo>
                            <a:pt x="534" y="10"/>
                          </a:lnTo>
                          <a:lnTo>
                            <a:pt x="702" y="0"/>
                          </a:lnTo>
                          <a:close/>
                        </a:path>
                      </a:pathLst>
                    </a:custGeom>
                    <a:solidFill>
                      <a:srgbClr val="606060"/>
                    </a:solidFill>
                    <a:ln w="0">
                      <a:noFill/>
                    </a:ln>
                  </p:spPr>
                  <p:txBody>
                    <a:bodyPr lIns="90000" rIns="90000" tIns="-1800" bIns="-1800" anchor="t">
                      <a:noAutofit/>
                    </a:bodyPr>
                    <a:p>
                      <a:endParaRPr b="0" lang="en-US" sz="1800" spc="-1" strike="noStrike">
                        <a:solidFill>
                          <a:srgbClr val="000000"/>
                        </a:solidFill>
                        <a:latin typeface="Arial"/>
                      </a:endParaRPr>
                    </a:p>
                  </p:txBody>
                </p:sp>
              </p:grpSp>
              <p:grpSp>
                <p:nvGrpSpPr>
                  <p:cNvPr id="617" name=""/>
                  <p:cNvGrpSpPr/>
                  <p:nvPr/>
                </p:nvGrpSpPr>
                <p:grpSpPr>
                  <a:xfrm>
                    <a:off x="8089920" y="4164120"/>
                    <a:ext cx="262080" cy="109800"/>
                    <a:chOff x="8089920" y="4164120"/>
                    <a:chExt cx="262080" cy="109800"/>
                  </a:xfrm>
                </p:grpSpPr>
                <p:grpSp>
                  <p:nvGrpSpPr>
                    <p:cNvPr id="618" name=""/>
                    <p:cNvGrpSpPr/>
                    <p:nvPr/>
                  </p:nvGrpSpPr>
                  <p:grpSpPr>
                    <a:xfrm>
                      <a:off x="8089920" y="4164120"/>
                      <a:ext cx="230400" cy="92520"/>
                      <a:chOff x="8089920" y="4164120"/>
                      <a:chExt cx="230400" cy="92520"/>
                    </a:xfrm>
                  </p:grpSpPr>
                  <p:sp>
                    <p:nvSpPr>
                      <p:cNvPr id="619" name=""/>
                      <p:cNvSpPr/>
                      <p:nvPr/>
                    </p:nvSpPr>
                    <p:spPr>
                      <a:xfrm>
                        <a:off x="8089920" y="4164120"/>
                        <a:ext cx="230400" cy="90720"/>
                      </a:xfrm>
                      <a:custGeom>
                        <a:avLst/>
                        <a:gdLst/>
                        <a:ahLst/>
                        <a:rect l="0" t="0" r="r" b="b"/>
                        <a:pathLst>
                          <a:path w="640" h="252">
                            <a:moveTo>
                              <a:pt x="578" y="252"/>
                            </a:moveTo>
                            <a:lnTo>
                              <a:pt x="543" y="245"/>
                            </a:lnTo>
                            <a:lnTo>
                              <a:pt x="512" y="231"/>
                            </a:lnTo>
                            <a:lnTo>
                              <a:pt x="481" y="228"/>
                            </a:lnTo>
                            <a:lnTo>
                              <a:pt x="428" y="235"/>
                            </a:lnTo>
                            <a:lnTo>
                              <a:pt x="389" y="231"/>
                            </a:lnTo>
                            <a:lnTo>
                              <a:pt x="362" y="228"/>
                            </a:lnTo>
                            <a:lnTo>
                              <a:pt x="340" y="218"/>
                            </a:lnTo>
                            <a:lnTo>
                              <a:pt x="317" y="214"/>
                            </a:lnTo>
                            <a:lnTo>
                              <a:pt x="291" y="198"/>
                            </a:lnTo>
                            <a:lnTo>
                              <a:pt x="273" y="181"/>
                            </a:lnTo>
                            <a:lnTo>
                              <a:pt x="242" y="164"/>
                            </a:lnTo>
                            <a:lnTo>
                              <a:pt x="202" y="170"/>
                            </a:lnTo>
                            <a:lnTo>
                              <a:pt x="176" y="170"/>
                            </a:lnTo>
                            <a:lnTo>
                              <a:pt x="163" y="167"/>
                            </a:lnTo>
                            <a:lnTo>
                              <a:pt x="154" y="160"/>
                            </a:lnTo>
                            <a:lnTo>
                              <a:pt x="149" y="150"/>
                            </a:lnTo>
                            <a:lnTo>
                              <a:pt x="154" y="143"/>
                            </a:lnTo>
                            <a:lnTo>
                              <a:pt x="163" y="133"/>
                            </a:lnTo>
                            <a:lnTo>
                              <a:pt x="176" y="130"/>
                            </a:lnTo>
                            <a:lnTo>
                              <a:pt x="211" y="125"/>
                            </a:lnTo>
                            <a:lnTo>
                              <a:pt x="251" y="112"/>
                            </a:lnTo>
                            <a:lnTo>
                              <a:pt x="220" y="91"/>
                            </a:lnTo>
                            <a:lnTo>
                              <a:pt x="176" y="78"/>
                            </a:lnTo>
                            <a:lnTo>
                              <a:pt x="141" y="81"/>
                            </a:lnTo>
                            <a:lnTo>
                              <a:pt x="101" y="78"/>
                            </a:lnTo>
                            <a:lnTo>
                              <a:pt x="79" y="88"/>
                            </a:lnTo>
                            <a:lnTo>
                              <a:pt x="48" y="88"/>
                            </a:lnTo>
                            <a:lnTo>
                              <a:pt x="35" y="78"/>
                            </a:lnTo>
                            <a:lnTo>
                              <a:pt x="30" y="67"/>
                            </a:lnTo>
                            <a:lnTo>
                              <a:pt x="13" y="71"/>
                            </a:lnTo>
                            <a:lnTo>
                              <a:pt x="4" y="67"/>
                            </a:lnTo>
                            <a:lnTo>
                              <a:pt x="0" y="57"/>
                            </a:lnTo>
                            <a:lnTo>
                              <a:pt x="0" y="47"/>
                            </a:lnTo>
                            <a:lnTo>
                              <a:pt x="13" y="44"/>
                            </a:lnTo>
                            <a:lnTo>
                              <a:pt x="30" y="37"/>
                            </a:lnTo>
                            <a:lnTo>
                              <a:pt x="44" y="30"/>
                            </a:lnTo>
                            <a:lnTo>
                              <a:pt x="61" y="20"/>
                            </a:lnTo>
                            <a:lnTo>
                              <a:pt x="79" y="20"/>
                            </a:lnTo>
                            <a:lnTo>
                              <a:pt x="97" y="20"/>
                            </a:lnTo>
                            <a:lnTo>
                              <a:pt x="171" y="6"/>
                            </a:lnTo>
                            <a:lnTo>
                              <a:pt x="189" y="3"/>
                            </a:lnTo>
                            <a:lnTo>
                              <a:pt x="207" y="0"/>
                            </a:lnTo>
                            <a:lnTo>
                              <a:pt x="224" y="3"/>
                            </a:lnTo>
                            <a:lnTo>
                              <a:pt x="251" y="6"/>
                            </a:lnTo>
                            <a:lnTo>
                              <a:pt x="317" y="37"/>
                            </a:lnTo>
                            <a:lnTo>
                              <a:pt x="349" y="40"/>
                            </a:lnTo>
                            <a:lnTo>
                              <a:pt x="380" y="47"/>
                            </a:lnTo>
                            <a:lnTo>
                              <a:pt x="397" y="57"/>
                            </a:lnTo>
                            <a:lnTo>
                              <a:pt x="415" y="71"/>
                            </a:lnTo>
                            <a:lnTo>
                              <a:pt x="468" y="101"/>
                            </a:lnTo>
                            <a:lnTo>
                              <a:pt x="494" y="115"/>
                            </a:lnTo>
                            <a:lnTo>
                              <a:pt x="525" y="143"/>
                            </a:lnTo>
                            <a:lnTo>
                              <a:pt x="547" y="150"/>
                            </a:lnTo>
                            <a:lnTo>
                              <a:pt x="640" y="153"/>
                            </a:lnTo>
                            <a:lnTo>
                              <a:pt x="578" y="252"/>
                            </a:lnTo>
                            <a:close/>
                          </a:path>
                        </a:pathLst>
                      </a:custGeom>
                      <a:solidFill>
                        <a:srgbClr val="ffc080"/>
                      </a:solidFill>
                      <a:ln w="12600">
                        <a:solidFill>
                          <a:srgbClr val="402000"/>
                        </a:solidFill>
                        <a:round/>
                      </a:ln>
                    </p:spPr>
                    <p:txBody>
                      <a:bodyPr lIns="96120" rIns="96120" tIns="39600" bIns="39600" anchor="t">
                        <a:noAutofit/>
                      </a:bodyPr>
                      <a:p>
                        <a:endParaRPr b="0" lang="en-US" sz="1800" spc="-1" strike="noStrike">
                          <a:solidFill>
                            <a:srgbClr val="000000"/>
                          </a:solidFill>
                          <a:latin typeface="Arial"/>
                        </a:endParaRPr>
                      </a:p>
                    </p:txBody>
                  </p:sp>
                  <p:sp>
                    <p:nvSpPr>
                      <p:cNvPr id="620" name=""/>
                      <p:cNvSpPr/>
                      <p:nvPr/>
                    </p:nvSpPr>
                    <p:spPr>
                      <a:xfrm>
                        <a:off x="8177040" y="4202280"/>
                        <a:ext cx="44640" cy="25920"/>
                      </a:xfrm>
                      <a:custGeom>
                        <a:avLst/>
                        <a:gdLst/>
                        <a:ahLst/>
                        <a:rect l="0" t="0" r="r" b="b"/>
                        <a:pathLst>
                          <a:path w="124" h="72">
                            <a:moveTo>
                              <a:pt x="0" y="0"/>
                            </a:moveTo>
                            <a:lnTo>
                              <a:pt x="0" y="23"/>
                            </a:lnTo>
                            <a:lnTo>
                              <a:pt x="22" y="23"/>
                            </a:lnTo>
                            <a:lnTo>
                              <a:pt x="35" y="23"/>
                            </a:lnTo>
                            <a:lnTo>
                              <a:pt x="52" y="45"/>
                            </a:lnTo>
                            <a:lnTo>
                              <a:pt x="75" y="45"/>
                            </a:lnTo>
                            <a:lnTo>
                              <a:pt x="102" y="45"/>
                            </a:lnTo>
                            <a:lnTo>
                              <a:pt x="124" y="72"/>
                            </a:lnTo>
                            <a:lnTo>
                              <a:pt x="106" y="45"/>
                            </a:lnTo>
                            <a:lnTo>
                              <a:pt x="84" y="45"/>
                            </a:lnTo>
                            <a:lnTo>
                              <a:pt x="71" y="45"/>
                            </a:lnTo>
                            <a:lnTo>
                              <a:pt x="52" y="23"/>
                            </a:lnTo>
                            <a:lnTo>
                              <a:pt x="35" y="23"/>
                            </a:lnTo>
                            <a:lnTo>
                              <a:pt x="26" y="0"/>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21" name=""/>
                      <p:cNvSpPr/>
                      <p:nvPr/>
                    </p:nvSpPr>
                    <p:spPr>
                      <a:xfrm>
                        <a:off x="8131320" y="4211640"/>
                        <a:ext cx="25920" cy="25920"/>
                      </a:xfrm>
                      <a:custGeom>
                        <a:avLst/>
                        <a:gdLst/>
                        <a:ahLst/>
                        <a:rect l="0" t="0" r="r" b="b"/>
                        <a:pathLst>
                          <a:path w="72" h="72">
                            <a:moveTo>
                              <a:pt x="27" y="0"/>
                            </a:moveTo>
                            <a:lnTo>
                              <a:pt x="49" y="0"/>
                            </a:lnTo>
                            <a:lnTo>
                              <a:pt x="27" y="36"/>
                            </a:lnTo>
                            <a:lnTo>
                              <a:pt x="0" y="72"/>
                            </a:lnTo>
                            <a:lnTo>
                              <a:pt x="49" y="36"/>
                            </a:lnTo>
                            <a:lnTo>
                              <a:pt x="72" y="36"/>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22" name=""/>
                      <p:cNvSpPr/>
                      <p:nvPr/>
                    </p:nvSpPr>
                    <p:spPr>
                      <a:xfrm>
                        <a:off x="8096400" y="4176720"/>
                        <a:ext cx="25920" cy="25920"/>
                      </a:xfrm>
                      <a:custGeom>
                        <a:avLst/>
                        <a:gdLst/>
                        <a:ahLst/>
                        <a:rect l="0" t="0" r="r" b="b"/>
                        <a:pathLst>
                          <a:path w="72" h="72">
                            <a:moveTo>
                              <a:pt x="0" y="72"/>
                            </a:moveTo>
                            <a:lnTo>
                              <a:pt x="8" y="72"/>
                            </a:lnTo>
                            <a:lnTo>
                              <a:pt x="17" y="45"/>
                            </a:lnTo>
                            <a:lnTo>
                              <a:pt x="31" y="45"/>
                            </a:lnTo>
                            <a:lnTo>
                              <a:pt x="40" y="23"/>
                            </a:lnTo>
                            <a:lnTo>
                              <a:pt x="45" y="23"/>
                            </a:lnTo>
                            <a:lnTo>
                              <a:pt x="59" y="0"/>
                            </a:lnTo>
                            <a:lnTo>
                              <a:pt x="72" y="0"/>
                            </a:lnTo>
                            <a:lnTo>
                              <a:pt x="59" y="0"/>
                            </a:lnTo>
                            <a:lnTo>
                              <a:pt x="40" y="0"/>
                            </a:lnTo>
                            <a:lnTo>
                              <a:pt x="31" y="23"/>
                            </a:lnTo>
                            <a:lnTo>
                              <a:pt x="23" y="23"/>
                            </a:lnTo>
                            <a:lnTo>
                              <a:pt x="0"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23" name=""/>
                      <p:cNvSpPr/>
                      <p:nvPr/>
                    </p:nvSpPr>
                    <p:spPr>
                      <a:xfrm>
                        <a:off x="8148600" y="4172040"/>
                        <a:ext cx="39960" cy="25920"/>
                      </a:xfrm>
                      <a:custGeom>
                        <a:avLst/>
                        <a:gdLst/>
                        <a:ahLst/>
                        <a:rect l="0" t="0" r="r" b="b"/>
                        <a:pathLst>
                          <a:path w="111" h="72">
                            <a:moveTo>
                              <a:pt x="0" y="0"/>
                            </a:moveTo>
                            <a:lnTo>
                              <a:pt x="17" y="0"/>
                            </a:lnTo>
                            <a:lnTo>
                              <a:pt x="30" y="0"/>
                            </a:lnTo>
                            <a:lnTo>
                              <a:pt x="39" y="0"/>
                            </a:lnTo>
                            <a:lnTo>
                              <a:pt x="52" y="0"/>
                            </a:lnTo>
                            <a:lnTo>
                              <a:pt x="62" y="36"/>
                            </a:lnTo>
                            <a:lnTo>
                              <a:pt x="75" y="36"/>
                            </a:lnTo>
                            <a:lnTo>
                              <a:pt x="93" y="72"/>
                            </a:lnTo>
                            <a:lnTo>
                              <a:pt x="111" y="72"/>
                            </a:lnTo>
                            <a:lnTo>
                              <a:pt x="93" y="72"/>
                            </a:lnTo>
                            <a:lnTo>
                              <a:pt x="80" y="72"/>
                            </a:lnTo>
                            <a:lnTo>
                              <a:pt x="62" y="36"/>
                            </a:lnTo>
                            <a:lnTo>
                              <a:pt x="48" y="0"/>
                            </a:lnTo>
                            <a:lnTo>
                              <a:pt x="30" y="0"/>
                            </a:lnTo>
                            <a:lnTo>
                              <a:pt x="17" y="0"/>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24" name=""/>
                      <p:cNvSpPr/>
                      <p:nvPr/>
                    </p:nvSpPr>
                    <p:spPr>
                      <a:xfrm>
                        <a:off x="8105760" y="4181400"/>
                        <a:ext cx="0" cy="25560"/>
                      </a:xfrm>
                      <a:prstGeom prst="line">
                        <a:avLst/>
                      </a:prstGeom>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625" name=""/>
                      <p:cNvSpPr/>
                      <p:nvPr/>
                    </p:nvSpPr>
                    <p:spPr>
                      <a:xfrm>
                        <a:off x="8094600" y="4178160"/>
                        <a:ext cx="0" cy="25200"/>
                      </a:xfrm>
                      <a:custGeom>
                        <a:avLst/>
                        <a:gdLst/>
                        <a:ahLst/>
                        <a:rect l="0" t="0" r="r" b="b"/>
                        <a:pathLst>
                          <a:path w="0" h="70">
                            <a:moveTo>
                              <a:pt x="0" y="70"/>
                            </a:moveTo>
                            <a:lnTo>
                              <a:pt x="0" y="0"/>
                            </a:lnTo>
                            <a:lnTo>
                              <a:pt x="0" y="70"/>
                            </a:lnTo>
                            <a:close/>
                          </a:path>
                        </a:pathLst>
                      </a:custGeom>
                      <a:solidFill>
                        <a:srgbClr val="402000"/>
                      </a:solidFill>
                      <a:ln w="0">
                        <a:noFill/>
                      </a:ln>
                    </p:spPr>
                    <p:txBody>
                      <a:bodyPr lIns="90000" rIns="90000" tIns="-19800" bIns="-19800" anchor="t">
                        <a:noAutofit/>
                      </a:bodyPr>
                      <a:p>
                        <a:endParaRPr b="0" lang="en-US" sz="1800" spc="-1" strike="noStrike">
                          <a:solidFill>
                            <a:srgbClr val="ffffff"/>
                          </a:solidFill>
                          <a:latin typeface="Arial"/>
                        </a:endParaRPr>
                      </a:p>
                    </p:txBody>
                  </p:sp>
                  <p:sp>
                    <p:nvSpPr>
                      <p:cNvPr id="626" name=""/>
                      <p:cNvSpPr/>
                      <p:nvPr/>
                    </p:nvSpPr>
                    <p:spPr>
                      <a:xfrm>
                        <a:off x="8199360" y="4187880"/>
                        <a:ext cx="25920" cy="25920"/>
                      </a:xfrm>
                      <a:custGeom>
                        <a:avLst/>
                        <a:gdLst/>
                        <a:ahLst/>
                        <a:rect l="0" t="0" r="r" b="b"/>
                        <a:pathLst>
                          <a:path w="72" h="72">
                            <a:moveTo>
                              <a:pt x="0" y="0"/>
                            </a:moveTo>
                            <a:lnTo>
                              <a:pt x="0" y="36"/>
                            </a:lnTo>
                            <a:lnTo>
                              <a:pt x="72" y="72"/>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27" name=""/>
                      <p:cNvSpPr/>
                      <p:nvPr/>
                    </p:nvSpPr>
                    <p:spPr>
                      <a:xfrm>
                        <a:off x="8244000" y="4230720"/>
                        <a:ext cx="25920" cy="25920"/>
                      </a:xfrm>
                      <a:custGeom>
                        <a:avLst/>
                        <a:gdLst/>
                        <a:ahLst/>
                        <a:rect l="0" t="0" r="r" b="b"/>
                        <a:pathLst>
                          <a:path w="72" h="72">
                            <a:moveTo>
                              <a:pt x="72" y="0"/>
                            </a:moveTo>
                            <a:lnTo>
                              <a:pt x="17" y="0"/>
                            </a:lnTo>
                            <a:lnTo>
                              <a:pt x="0" y="72"/>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grpSp>
                <p:grpSp>
                  <p:nvGrpSpPr>
                    <p:cNvPr id="628" name=""/>
                    <p:cNvGrpSpPr/>
                    <p:nvPr/>
                  </p:nvGrpSpPr>
                  <p:grpSpPr>
                    <a:xfrm>
                      <a:off x="8285040" y="4211640"/>
                      <a:ext cx="66960" cy="62280"/>
                      <a:chOff x="8285040" y="4211640"/>
                      <a:chExt cx="66960" cy="62280"/>
                    </a:xfrm>
                  </p:grpSpPr>
                  <p:sp>
                    <p:nvSpPr>
                      <p:cNvPr id="629" name=""/>
                      <p:cNvSpPr/>
                      <p:nvPr/>
                    </p:nvSpPr>
                    <p:spPr>
                      <a:xfrm>
                        <a:off x="8285040" y="4211640"/>
                        <a:ext cx="66960" cy="62280"/>
                      </a:xfrm>
                      <a:custGeom>
                        <a:avLst/>
                        <a:gdLst/>
                        <a:ahLst/>
                        <a:rect l="0" t="0" r="r" b="b"/>
                        <a:pathLst>
                          <a:path w="186" h="173">
                            <a:moveTo>
                              <a:pt x="61" y="10"/>
                            </a:moveTo>
                            <a:lnTo>
                              <a:pt x="35" y="33"/>
                            </a:lnTo>
                            <a:lnTo>
                              <a:pt x="17" y="54"/>
                            </a:lnTo>
                            <a:lnTo>
                              <a:pt x="4" y="88"/>
                            </a:lnTo>
                            <a:lnTo>
                              <a:pt x="4" y="105"/>
                            </a:lnTo>
                            <a:lnTo>
                              <a:pt x="0" y="136"/>
                            </a:lnTo>
                            <a:lnTo>
                              <a:pt x="150" y="173"/>
                            </a:lnTo>
                            <a:lnTo>
                              <a:pt x="186" y="0"/>
                            </a:lnTo>
                            <a:lnTo>
                              <a:pt x="120" y="10"/>
                            </a:lnTo>
                            <a:lnTo>
                              <a:pt x="61" y="10"/>
                            </a:lnTo>
                            <a:close/>
                          </a:path>
                        </a:pathLst>
                      </a:custGeom>
                      <a:solidFill>
                        <a:srgbClr val="c0c0c0"/>
                      </a:solidFill>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630" name=""/>
                      <p:cNvSpPr/>
                      <p:nvPr/>
                    </p:nvSpPr>
                    <p:spPr>
                      <a:xfrm>
                        <a:off x="8291520" y="4216320"/>
                        <a:ext cx="44640" cy="46440"/>
                      </a:xfrm>
                      <a:custGeom>
                        <a:avLst/>
                        <a:gdLst/>
                        <a:ahLst/>
                        <a:rect l="0" t="0" r="r" b="b"/>
                        <a:pathLst>
                          <a:path w="124" h="129">
                            <a:moveTo>
                              <a:pt x="48" y="3"/>
                            </a:moveTo>
                            <a:lnTo>
                              <a:pt x="26" y="24"/>
                            </a:lnTo>
                            <a:lnTo>
                              <a:pt x="4" y="56"/>
                            </a:lnTo>
                            <a:lnTo>
                              <a:pt x="4" y="70"/>
                            </a:lnTo>
                            <a:lnTo>
                              <a:pt x="0" y="98"/>
                            </a:lnTo>
                            <a:lnTo>
                              <a:pt x="98" y="129"/>
                            </a:lnTo>
                            <a:lnTo>
                              <a:pt x="124" y="0"/>
                            </a:lnTo>
                            <a:lnTo>
                              <a:pt x="84" y="6"/>
                            </a:lnTo>
                            <a:lnTo>
                              <a:pt x="48" y="3"/>
                            </a:lnTo>
                            <a:close/>
                          </a:path>
                        </a:pathLst>
                      </a:custGeom>
                      <a:solidFill>
                        <a:srgbClr val="e0e0e0"/>
                      </a:solidFill>
                      <a:ln w="0">
                        <a:noFill/>
                      </a:ln>
                    </p:spPr>
                    <p:txBody>
                      <a:bodyPr lIns="90000" rIns="90000" tIns="1440" bIns="1440" anchor="t">
                        <a:noAutofit/>
                      </a:bodyPr>
                      <a:p>
                        <a:endParaRPr b="0" lang="en-US" sz="1800" spc="-1" strike="noStrike">
                          <a:solidFill>
                            <a:srgbClr val="000000"/>
                          </a:solidFill>
                          <a:latin typeface="Arial"/>
                        </a:endParaRPr>
                      </a:p>
                    </p:txBody>
                  </p:sp>
                </p:grpSp>
              </p:grpSp>
              <p:sp>
                <p:nvSpPr>
                  <p:cNvPr id="631" name=""/>
                  <p:cNvSpPr/>
                  <p:nvPr/>
                </p:nvSpPr>
                <p:spPr>
                  <a:xfrm>
                    <a:off x="8344080" y="3868560"/>
                    <a:ext cx="227520" cy="190800"/>
                  </a:xfrm>
                  <a:custGeom>
                    <a:avLst/>
                    <a:gdLst/>
                    <a:ahLst/>
                    <a:rect l="0" t="0" r="r" b="b"/>
                    <a:pathLst>
                      <a:path w="632" h="530">
                        <a:moveTo>
                          <a:pt x="208" y="16"/>
                        </a:moveTo>
                        <a:lnTo>
                          <a:pt x="149" y="47"/>
                        </a:lnTo>
                        <a:lnTo>
                          <a:pt x="123" y="84"/>
                        </a:lnTo>
                        <a:lnTo>
                          <a:pt x="97" y="125"/>
                        </a:lnTo>
                        <a:lnTo>
                          <a:pt x="79" y="149"/>
                        </a:lnTo>
                        <a:lnTo>
                          <a:pt x="79" y="169"/>
                        </a:lnTo>
                        <a:lnTo>
                          <a:pt x="92" y="196"/>
                        </a:lnTo>
                        <a:lnTo>
                          <a:pt x="61" y="217"/>
                        </a:lnTo>
                        <a:lnTo>
                          <a:pt x="22" y="275"/>
                        </a:lnTo>
                        <a:lnTo>
                          <a:pt x="0" y="309"/>
                        </a:lnTo>
                        <a:lnTo>
                          <a:pt x="0" y="316"/>
                        </a:lnTo>
                        <a:lnTo>
                          <a:pt x="4" y="326"/>
                        </a:lnTo>
                        <a:lnTo>
                          <a:pt x="26" y="333"/>
                        </a:lnTo>
                        <a:lnTo>
                          <a:pt x="48" y="333"/>
                        </a:lnTo>
                        <a:lnTo>
                          <a:pt x="66" y="336"/>
                        </a:lnTo>
                        <a:lnTo>
                          <a:pt x="61" y="360"/>
                        </a:lnTo>
                        <a:lnTo>
                          <a:pt x="57" y="387"/>
                        </a:lnTo>
                        <a:lnTo>
                          <a:pt x="74" y="401"/>
                        </a:lnTo>
                        <a:lnTo>
                          <a:pt x="66" y="421"/>
                        </a:lnTo>
                        <a:lnTo>
                          <a:pt x="79" y="435"/>
                        </a:lnTo>
                        <a:lnTo>
                          <a:pt x="92" y="469"/>
                        </a:lnTo>
                        <a:lnTo>
                          <a:pt x="114" y="479"/>
                        </a:lnTo>
                        <a:lnTo>
                          <a:pt x="141" y="479"/>
                        </a:lnTo>
                        <a:lnTo>
                          <a:pt x="186" y="475"/>
                        </a:lnTo>
                        <a:lnTo>
                          <a:pt x="230" y="469"/>
                        </a:lnTo>
                        <a:lnTo>
                          <a:pt x="225" y="530"/>
                        </a:lnTo>
                        <a:lnTo>
                          <a:pt x="562" y="448"/>
                        </a:lnTo>
                        <a:lnTo>
                          <a:pt x="535" y="401"/>
                        </a:lnTo>
                        <a:lnTo>
                          <a:pt x="539" y="363"/>
                        </a:lnTo>
                        <a:lnTo>
                          <a:pt x="632" y="292"/>
                        </a:lnTo>
                        <a:lnTo>
                          <a:pt x="632" y="101"/>
                        </a:lnTo>
                        <a:lnTo>
                          <a:pt x="575" y="50"/>
                        </a:lnTo>
                        <a:lnTo>
                          <a:pt x="495" y="23"/>
                        </a:lnTo>
                        <a:lnTo>
                          <a:pt x="411" y="0"/>
                        </a:lnTo>
                        <a:lnTo>
                          <a:pt x="305" y="13"/>
                        </a:lnTo>
                        <a:lnTo>
                          <a:pt x="208" y="16"/>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8335800" y="3978360"/>
                    <a:ext cx="25920" cy="25920"/>
                  </a:xfrm>
                  <a:custGeom>
                    <a:avLst/>
                    <a:gdLst/>
                    <a:ahLst/>
                    <a:rect l="0" t="0" r="r" b="b"/>
                    <a:pathLst>
                      <a:path w="72" h="72">
                        <a:moveTo>
                          <a:pt x="0" y="0"/>
                        </a:moveTo>
                        <a:lnTo>
                          <a:pt x="0" y="72"/>
                        </a:lnTo>
                        <a:lnTo>
                          <a:pt x="36" y="36"/>
                        </a:lnTo>
                        <a:lnTo>
                          <a:pt x="72" y="72"/>
                        </a:lnTo>
                        <a:lnTo>
                          <a:pt x="72" y="0"/>
                        </a:lnTo>
                        <a:lnTo>
                          <a:pt x="36" y="0"/>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33" name=""/>
                  <p:cNvSpPr/>
                  <p:nvPr/>
                </p:nvSpPr>
                <p:spPr>
                  <a:xfrm>
                    <a:off x="8342280" y="3973680"/>
                    <a:ext cx="25920" cy="25920"/>
                  </a:xfrm>
                  <a:custGeom>
                    <a:avLst/>
                    <a:gdLst/>
                    <a:ahLst/>
                    <a:rect l="0" t="0" r="r" b="b"/>
                    <a:pathLst>
                      <a:path w="72" h="72">
                        <a:moveTo>
                          <a:pt x="0" y="0"/>
                        </a:moveTo>
                        <a:lnTo>
                          <a:pt x="53" y="0"/>
                        </a:lnTo>
                        <a:lnTo>
                          <a:pt x="53" y="72"/>
                        </a:lnTo>
                        <a:lnTo>
                          <a:pt x="72" y="0"/>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34" name=""/>
                  <p:cNvSpPr/>
                  <p:nvPr/>
                </p:nvSpPr>
                <p:spPr>
                  <a:xfrm>
                    <a:off x="8353440" y="3951360"/>
                    <a:ext cx="25920" cy="25920"/>
                  </a:xfrm>
                  <a:custGeom>
                    <a:avLst/>
                    <a:gdLst/>
                    <a:ahLst/>
                    <a:rect l="0" t="0" r="r" b="b"/>
                    <a:pathLst>
                      <a:path w="72" h="72">
                        <a:moveTo>
                          <a:pt x="72" y="0"/>
                        </a:moveTo>
                        <a:lnTo>
                          <a:pt x="27" y="36"/>
                        </a:lnTo>
                        <a:lnTo>
                          <a:pt x="0" y="72"/>
                        </a:lnTo>
                        <a:lnTo>
                          <a:pt x="27" y="45"/>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35" name=""/>
                  <p:cNvSpPr/>
                  <p:nvPr/>
                </p:nvSpPr>
                <p:spPr>
                  <a:xfrm>
                    <a:off x="8372520" y="3938760"/>
                    <a:ext cx="25920" cy="25920"/>
                  </a:xfrm>
                  <a:custGeom>
                    <a:avLst/>
                    <a:gdLst/>
                    <a:ahLst/>
                    <a:rect l="0" t="0" r="r" b="b"/>
                    <a:pathLst>
                      <a:path w="72" h="72">
                        <a:moveTo>
                          <a:pt x="0" y="0"/>
                        </a:moveTo>
                        <a:lnTo>
                          <a:pt x="13" y="36"/>
                        </a:lnTo>
                        <a:lnTo>
                          <a:pt x="13" y="53"/>
                        </a:lnTo>
                        <a:lnTo>
                          <a:pt x="8" y="72"/>
                        </a:lnTo>
                        <a:lnTo>
                          <a:pt x="23" y="53"/>
                        </a:lnTo>
                        <a:lnTo>
                          <a:pt x="36" y="53"/>
                        </a:lnTo>
                        <a:lnTo>
                          <a:pt x="49" y="36"/>
                        </a:lnTo>
                        <a:lnTo>
                          <a:pt x="72" y="36"/>
                        </a:lnTo>
                        <a:lnTo>
                          <a:pt x="49" y="17"/>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36" name=""/>
                  <p:cNvSpPr/>
                  <p:nvPr/>
                </p:nvSpPr>
                <p:spPr>
                  <a:xfrm>
                    <a:off x="8375760" y="3917880"/>
                    <a:ext cx="32040" cy="25920"/>
                  </a:xfrm>
                  <a:custGeom>
                    <a:avLst/>
                    <a:gdLst/>
                    <a:ahLst/>
                    <a:rect l="0" t="0" r="r" b="b"/>
                    <a:pathLst>
                      <a:path w="89" h="72">
                        <a:moveTo>
                          <a:pt x="0" y="36"/>
                        </a:moveTo>
                        <a:lnTo>
                          <a:pt x="0" y="53"/>
                        </a:lnTo>
                        <a:lnTo>
                          <a:pt x="13" y="72"/>
                        </a:lnTo>
                        <a:lnTo>
                          <a:pt x="26" y="53"/>
                        </a:lnTo>
                        <a:lnTo>
                          <a:pt x="45" y="36"/>
                        </a:lnTo>
                        <a:lnTo>
                          <a:pt x="71" y="36"/>
                        </a:lnTo>
                        <a:lnTo>
                          <a:pt x="89" y="36"/>
                        </a:lnTo>
                        <a:lnTo>
                          <a:pt x="62" y="17"/>
                        </a:lnTo>
                        <a:lnTo>
                          <a:pt x="49" y="17"/>
                        </a:lnTo>
                        <a:lnTo>
                          <a:pt x="49" y="0"/>
                        </a:lnTo>
                        <a:lnTo>
                          <a:pt x="35" y="17"/>
                        </a:lnTo>
                        <a:lnTo>
                          <a:pt x="35" y="0"/>
                        </a:lnTo>
                        <a:lnTo>
                          <a:pt x="26" y="17"/>
                        </a:lnTo>
                        <a:lnTo>
                          <a:pt x="17" y="17"/>
                        </a:lnTo>
                        <a:lnTo>
                          <a:pt x="0" y="36"/>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37" name=""/>
                  <p:cNvSpPr/>
                  <p:nvPr/>
                </p:nvSpPr>
                <p:spPr>
                  <a:xfrm>
                    <a:off x="8456760" y="3935520"/>
                    <a:ext cx="25920" cy="30600"/>
                  </a:xfrm>
                  <a:custGeom>
                    <a:avLst/>
                    <a:gdLst/>
                    <a:ahLst/>
                    <a:rect l="0" t="0" r="r" b="b"/>
                    <a:pathLst>
                      <a:path w="72" h="85">
                        <a:moveTo>
                          <a:pt x="0" y="16"/>
                        </a:moveTo>
                        <a:lnTo>
                          <a:pt x="23" y="6"/>
                        </a:lnTo>
                        <a:lnTo>
                          <a:pt x="53" y="6"/>
                        </a:lnTo>
                        <a:lnTo>
                          <a:pt x="68" y="20"/>
                        </a:lnTo>
                        <a:lnTo>
                          <a:pt x="68" y="41"/>
                        </a:lnTo>
                        <a:lnTo>
                          <a:pt x="68" y="57"/>
                        </a:lnTo>
                        <a:lnTo>
                          <a:pt x="63" y="69"/>
                        </a:lnTo>
                        <a:lnTo>
                          <a:pt x="40" y="47"/>
                        </a:lnTo>
                        <a:lnTo>
                          <a:pt x="36" y="37"/>
                        </a:lnTo>
                        <a:lnTo>
                          <a:pt x="8" y="34"/>
                        </a:lnTo>
                        <a:lnTo>
                          <a:pt x="23" y="47"/>
                        </a:lnTo>
                        <a:lnTo>
                          <a:pt x="49" y="57"/>
                        </a:lnTo>
                        <a:lnTo>
                          <a:pt x="49" y="72"/>
                        </a:lnTo>
                        <a:lnTo>
                          <a:pt x="40" y="82"/>
                        </a:lnTo>
                        <a:lnTo>
                          <a:pt x="27" y="85"/>
                        </a:lnTo>
                        <a:lnTo>
                          <a:pt x="63" y="79"/>
                        </a:lnTo>
                        <a:lnTo>
                          <a:pt x="72" y="61"/>
                        </a:lnTo>
                        <a:lnTo>
                          <a:pt x="72" y="37"/>
                        </a:lnTo>
                        <a:lnTo>
                          <a:pt x="72" y="16"/>
                        </a:lnTo>
                        <a:lnTo>
                          <a:pt x="63" y="6"/>
                        </a:lnTo>
                        <a:lnTo>
                          <a:pt x="36" y="0"/>
                        </a:lnTo>
                        <a:lnTo>
                          <a:pt x="13" y="3"/>
                        </a:lnTo>
                        <a:lnTo>
                          <a:pt x="0" y="16"/>
                        </a:lnTo>
                        <a:close/>
                      </a:path>
                    </a:pathLst>
                  </a:custGeom>
                  <a:solidFill>
                    <a:srgbClr val="402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638" name=""/>
                  <p:cNvSpPr/>
                  <p:nvPr/>
                </p:nvSpPr>
                <p:spPr>
                  <a:xfrm>
                    <a:off x="8462880" y="3929040"/>
                    <a:ext cx="28800" cy="44640"/>
                  </a:xfrm>
                  <a:custGeom>
                    <a:avLst/>
                    <a:gdLst/>
                    <a:ahLst/>
                    <a:rect l="0" t="0" r="r" b="b"/>
                    <a:pathLst>
                      <a:path w="80" h="124">
                        <a:moveTo>
                          <a:pt x="0" y="30"/>
                        </a:moveTo>
                        <a:lnTo>
                          <a:pt x="13" y="10"/>
                        </a:lnTo>
                        <a:lnTo>
                          <a:pt x="30" y="6"/>
                        </a:lnTo>
                        <a:lnTo>
                          <a:pt x="58" y="6"/>
                        </a:lnTo>
                        <a:lnTo>
                          <a:pt x="62" y="24"/>
                        </a:lnTo>
                        <a:lnTo>
                          <a:pt x="75" y="37"/>
                        </a:lnTo>
                        <a:lnTo>
                          <a:pt x="75" y="54"/>
                        </a:lnTo>
                        <a:lnTo>
                          <a:pt x="67" y="66"/>
                        </a:lnTo>
                        <a:lnTo>
                          <a:pt x="67" y="79"/>
                        </a:lnTo>
                        <a:lnTo>
                          <a:pt x="62" y="100"/>
                        </a:lnTo>
                        <a:lnTo>
                          <a:pt x="49" y="117"/>
                        </a:lnTo>
                        <a:lnTo>
                          <a:pt x="35" y="117"/>
                        </a:lnTo>
                        <a:lnTo>
                          <a:pt x="22" y="117"/>
                        </a:lnTo>
                        <a:lnTo>
                          <a:pt x="30" y="124"/>
                        </a:lnTo>
                        <a:lnTo>
                          <a:pt x="45" y="121"/>
                        </a:lnTo>
                        <a:lnTo>
                          <a:pt x="62" y="117"/>
                        </a:lnTo>
                        <a:lnTo>
                          <a:pt x="75" y="100"/>
                        </a:lnTo>
                        <a:lnTo>
                          <a:pt x="75" y="69"/>
                        </a:lnTo>
                        <a:lnTo>
                          <a:pt x="80" y="51"/>
                        </a:lnTo>
                        <a:lnTo>
                          <a:pt x="80" y="34"/>
                        </a:lnTo>
                        <a:lnTo>
                          <a:pt x="71" y="20"/>
                        </a:lnTo>
                        <a:lnTo>
                          <a:pt x="62" y="6"/>
                        </a:lnTo>
                        <a:lnTo>
                          <a:pt x="45" y="0"/>
                        </a:lnTo>
                        <a:lnTo>
                          <a:pt x="13" y="6"/>
                        </a:lnTo>
                        <a:lnTo>
                          <a:pt x="0" y="10"/>
                        </a:lnTo>
                        <a:lnTo>
                          <a:pt x="0" y="30"/>
                        </a:lnTo>
                        <a:close/>
                      </a:path>
                    </a:pathLst>
                  </a:custGeom>
                  <a:solidFill>
                    <a:srgbClr val="402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639" name=""/>
                  <p:cNvSpPr/>
                  <p:nvPr/>
                </p:nvSpPr>
                <p:spPr>
                  <a:xfrm>
                    <a:off x="8442360" y="3981600"/>
                    <a:ext cx="27360" cy="35280"/>
                  </a:xfrm>
                  <a:custGeom>
                    <a:avLst/>
                    <a:gdLst/>
                    <a:ahLst/>
                    <a:rect l="0" t="0" r="r" b="b"/>
                    <a:pathLst>
                      <a:path w="76" h="98">
                        <a:moveTo>
                          <a:pt x="76" y="0"/>
                        </a:moveTo>
                        <a:lnTo>
                          <a:pt x="68" y="23"/>
                        </a:lnTo>
                        <a:lnTo>
                          <a:pt x="49" y="43"/>
                        </a:lnTo>
                        <a:lnTo>
                          <a:pt x="31" y="64"/>
                        </a:lnTo>
                        <a:lnTo>
                          <a:pt x="13" y="91"/>
                        </a:lnTo>
                        <a:lnTo>
                          <a:pt x="0" y="98"/>
                        </a:lnTo>
                        <a:lnTo>
                          <a:pt x="27" y="87"/>
                        </a:lnTo>
                        <a:lnTo>
                          <a:pt x="45" y="64"/>
                        </a:lnTo>
                        <a:lnTo>
                          <a:pt x="63" y="36"/>
                        </a:lnTo>
                        <a:lnTo>
                          <a:pt x="76" y="0"/>
                        </a:lnTo>
                        <a:close/>
                      </a:path>
                    </a:pathLst>
                  </a:custGeom>
                  <a:solidFill>
                    <a:srgbClr val="402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640" name=""/>
                  <p:cNvSpPr/>
                  <p:nvPr/>
                </p:nvSpPr>
                <p:spPr>
                  <a:xfrm>
                    <a:off x="8381880" y="3840120"/>
                    <a:ext cx="197280" cy="151200"/>
                  </a:xfrm>
                  <a:custGeom>
                    <a:avLst/>
                    <a:gdLst/>
                    <a:ahLst/>
                    <a:rect l="0" t="0" r="r" b="b"/>
                    <a:pathLst>
                      <a:path w="548" h="420">
                        <a:moveTo>
                          <a:pt x="39" y="120"/>
                        </a:moveTo>
                        <a:lnTo>
                          <a:pt x="123" y="109"/>
                        </a:lnTo>
                        <a:lnTo>
                          <a:pt x="177" y="116"/>
                        </a:lnTo>
                        <a:lnTo>
                          <a:pt x="212" y="147"/>
                        </a:lnTo>
                        <a:lnTo>
                          <a:pt x="195" y="181"/>
                        </a:lnTo>
                        <a:lnTo>
                          <a:pt x="168" y="191"/>
                        </a:lnTo>
                        <a:lnTo>
                          <a:pt x="159" y="229"/>
                        </a:lnTo>
                        <a:lnTo>
                          <a:pt x="177" y="249"/>
                        </a:lnTo>
                        <a:lnTo>
                          <a:pt x="164" y="283"/>
                        </a:lnTo>
                        <a:lnTo>
                          <a:pt x="195" y="283"/>
                        </a:lnTo>
                        <a:lnTo>
                          <a:pt x="208" y="242"/>
                        </a:lnTo>
                        <a:lnTo>
                          <a:pt x="230" y="229"/>
                        </a:lnTo>
                        <a:lnTo>
                          <a:pt x="265" y="229"/>
                        </a:lnTo>
                        <a:lnTo>
                          <a:pt x="305" y="236"/>
                        </a:lnTo>
                        <a:lnTo>
                          <a:pt x="318" y="263"/>
                        </a:lnTo>
                        <a:lnTo>
                          <a:pt x="322" y="297"/>
                        </a:lnTo>
                        <a:lnTo>
                          <a:pt x="318" y="325"/>
                        </a:lnTo>
                        <a:lnTo>
                          <a:pt x="318" y="342"/>
                        </a:lnTo>
                        <a:lnTo>
                          <a:pt x="318" y="366"/>
                        </a:lnTo>
                        <a:lnTo>
                          <a:pt x="349" y="386"/>
                        </a:lnTo>
                        <a:lnTo>
                          <a:pt x="367" y="393"/>
                        </a:lnTo>
                        <a:lnTo>
                          <a:pt x="416" y="420"/>
                        </a:lnTo>
                        <a:lnTo>
                          <a:pt x="504" y="349"/>
                        </a:lnTo>
                        <a:lnTo>
                          <a:pt x="531" y="290"/>
                        </a:lnTo>
                        <a:lnTo>
                          <a:pt x="539" y="198"/>
                        </a:lnTo>
                        <a:lnTo>
                          <a:pt x="548" y="133"/>
                        </a:lnTo>
                        <a:lnTo>
                          <a:pt x="535" y="71"/>
                        </a:lnTo>
                        <a:lnTo>
                          <a:pt x="513" y="34"/>
                        </a:lnTo>
                        <a:lnTo>
                          <a:pt x="456" y="10"/>
                        </a:lnTo>
                        <a:lnTo>
                          <a:pt x="406" y="3"/>
                        </a:lnTo>
                        <a:lnTo>
                          <a:pt x="309" y="0"/>
                        </a:lnTo>
                        <a:lnTo>
                          <a:pt x="221" y="0"/>
                        </a:lnTo>
                        <a:lnTo>
                          <a:pt x="101" y="17"/>
                        </a:lnTo>
                        <a:lnTo>
                          <a:pt x="52" y="37"/>
                        </a:lnTo>
                        <a:lnTo>
                          <a:pt x="26" y="57"/>
                        </a:lnTo>
                        <a:lnTo>
                          <a:pt x="0" y="85"/>
                        </a:lnTo>
                        <a:lnTo>
                          <a:pt x="4" y="102"/>
                        </a:lnTo>
                        <a:lnTo>
                          <a:pt x="39" y="120"/>
                        </a:lnTo>
                        <a:close/>
                      </a:path>
                    </a:pathLst>
                  </a:custGeom>
                  <a:solidFill>
                    <a:srgbClr val="603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41" name=""/>
                  <p:cNvSpPr/>
                  <p:nvPr/>
                </p:nvSpPr>
                <p:spPr>
                  <a:xfrm>
                    <a:off x="8391600" y="3841920"/>
                    <a:ext cx="186120" cy="144720"/>
                  </a:xfrm>
                  <a:custGeom>
                    <a:avLst/>
                    <a:gdLst/>
                    <a:ahLst/>
                    <a:rect l="0" t="0" r="r" b="b"/>
                    <a:pathLst>
                      <a:path w="517" h="402">
                        <a:moveTo>
                          <a:pt x="83" y="23"/>
                        </a:moveTo>
                        <a:lnTo>
                          <a:pt x="35" y="37"/>
                        </a:lnTo>
                        <a:lnTo>
                          <a:pt x="17" y="60"/>
                        </a:lnTo>
                        <a:lnTo>
                          <a:pt x="4" y="74"/>
                        </a:lnTo>
                        <a:lnTo>
                          <a:pt x="0" y="80"/>
                        </a:lnTo>
                        <a:lnTo>
                          <a:pt x="8" y="94"/>
                        </a:lnTo>
                        <a:lnTo>
                          <a:pt x="30" y="104"/>
                        </a:lnTo>
                        <a:lnTo>
                          <a:pt x="88" y="94"/>
                        </a:lnTo>
                        <a:lnTo>
                          <a:pt x="123" y="94"/>
                        </a:lnTo>
                        <a:lnTo>
                          <a:pt x="159" y="84"/>
                        </a:lnTo>
                        <a:lnTo>
                          <a:pt x="195" y="77"/>
                        </a:lnTo>
                        <a:lnTo>
                          <a:pt x="230" y="74"/>
                        </a:lnTo>
                        <a:lnTo>
                          <a:pt x="278" y="77"/>
                        </a:lnTo>
                        <a:lnTo>
                          <a:pt x="212" y="80"/>
                        </a:lnTo>
                        <a:lnTo>
                          <a:pt x="181" y="91"/>
                        </a:lnTo>
                        <a:lnTo>
                          <a:pt x="159" y="94"/>
                        </a:lnTo>
                        <a:lnTo>
                          <a:pt x="159" y="97"/>
                        </a:lnTo>
                        <a:lnTo>
                          <a:pt x="168" y="104"/>
                        </a:lnTo>
                        <a:lnTo>
                          <a:pt x="181" y="114"/>
                        </a:lnTo>
                        <a:lnTo>
                          <a:pt x="203" y="104"/>
                        </a:lnTo>
                        <a:lnTo>
                          <a:pt x="225" y="97"/>
                        </a:lnTo>
                        <a:lnTo>
                          <a:pt x="261" y="94"/>
                        </a:lnTo>
                        <a:lnTo>
                          <a:pt x="274" y="94"/>
                        </a:lnTo>
                        <a:lnTo>
                          <a:pt x="234" y="107"/>
                        </a:lnTo>
                        <a:lnTo>
                          <a:pt x="208" y="114"/>
                        </a:lnTo>
                        <a:lnTo>
                          <a:pt x="195" y="121"/>
                        </a:lnTo>
                        <a:lnTo>
                          <a:pt x="203" y="131"/>
                        </a:lnTo>
                        <a:lnTo>
                          <a:pt x="234" y="121"/>
                        </a:lnTo>
                        <a:lnTo>
                          <a:pt x="261" y="121"/>
                        </a:lnTo>
                        <a:lnTo>
                          <a:pt x="212" y="138"/>
                        </a:lnTo>
                        <a:lnTo>
                          <a:pt x="199" y="148"/>
                        </a:lnTo>
                        <a:lnTo>
                          <a:pt x="195" y="165"/>
                        </a:lnTo>
                        <a:lnTo>
                          <a:pt x="186" y="175"/>
                        </a:lnTo>
                        <a:lnTo>
                          <a:pt x="212" y="165"/>
                        </a:lnTo>
                        <a:lnTo>
                          <a:pt x="239" y="158"/>
                        </a:lnTo>
                        <a:lnTo>
                          <a:pt x="283" y="158"/>
                        </a:lnTo>
                        <a:lnTo>
                          <a:pt x="221" y="171"/>
                        </a:lnTo>
                        <a:lnTo>
                          <a:pt x="177" y="178"/>
                        </a:lnTo>
                        <a:lnTo>
                          <a:pt x="159" y="192"/>
                        </a:lnTo>
                        <a:lnTo>
                          <a:pt x="155" y="206"/>
                        </a:lnTo>
                        <a:lnTo>
                          <a:pt x="181" y="195"/>
                        </a:lnTo>
                        <a:lnTo>
                          <a:pt x="225" y="185"/>
                        </a:lnTo>
                        <a:lnTo>
                          <a:pt x="243" y="185"/>
                        </a:lnTo>
                        <a:lnTo>
                          <a:pt x="199" y="195"/>
                        </a:lnTo>
                        <a:lnTo>
                          <a:pt x="159" y="210"/>
                        </a:lnTo>
                        <a:lnTo>
                          <a:pt x="150" y="220"/>
                        </a:lnTo>
                        <a:lnTo>
                          <a:pt x="159" y="230"/>
                        </a:lnTo>
                        <a:lnTo>
                          <a:pt x="181" y="223"/>
                        </a:lnTo>
                        <a:lnTo>
                          <a:pt x="212" y="213"/>
                        </a:lnTo>
                        <a:lnTo>
                          <a:pt x="265" y="213"/>
                        </a:lnTo>
                        <a:lnTo>
                          <a:pt x="283" y="213"/>
                        </a:lnTo>
                        <a:lnTo>
                          <a:pt x="336" y="216"/>
                        </a:lnTo>
                        <a:lnTo>
                          <a:pt x="394" y="210"/>
                        </a:lnTo>
                        <a:lnTo>
                          <a:pt x="353" y="220"/>
                        </a:lnTo>
                        <a:lnTo>
                          <a:pt x="296" y="226"/>
                        </a:lnTo>
                        <a:lnTo>
                          <a:pt x="309" y="243"/>
                        </a:lnTo>
                        <a:lnTo>
                          <a:pt x="353" y="233"/>
                        </a:lnTo>
                        <a:lnTo>
                          <a:pt x="398" y="223"/>
                        </a:lnTo>
                        <a:lnTo>
                          <a:pt x="425" y="213"/>
                        </a:lnTo>
                        <a:lnTo>
                          <a:pt x="371" y="243"/>
                        </a:lnTo>
                        <a:lnTo>
                          <a:pt x="336" y="250"/>
                        </a:lnTo>
                        <a:lnTo>
                          <a:pt x="309" y="260"/>
                        </a:lnTo>
                        <a:lnTo>
                          <a:pt x="309" y="277"/>
                        </a:lnTo>
                        <a:lnTo>
                          <a:pt x="353" y="270"/>
                        </a:lnTo>
                        <a:lnTo>
                          <a:pt x="390" y="260"/>
                        </a:lnTo>
                        <a:lnTo>
                          <a:pt x="367" y="277"/>
                        </a:lnTo>
                        <a:lnTo>
                          <a:pt x="331" y="277"/>
                        </a:lnTo>
                        <a:lnTo>
                          <a:pt x="309" y="280"/>
                        </a:lnTo>
                        <a:lnTo>
                          <a:pt x="309" y="317"/>
                        </a:lnTo>
                        <a:lnTo>
                          <a:pt x="353" y="304"/>
                        </a:lnTo>
                        <a:lnTo>
                          <a:pt x="380" y="297"/>
                        </a:lnTo>
                        <a:lnTo>
                          <a:pt x="349" y="317"/>
                        </a:lnTo>
                        <a:lnTo>
                          <a:pt x="305" y="328"/>
                        </a:lnTo>
                        <a:lnTo>
                          <a:pt x="309" y="344"/>
                        </a:lnTo>
                        <a:lnTo>
                          <a:pt x="336" y="365"/>
                        </a:lnTo>
                        <a:lnTo>
                          <a:pt x="353" y="344"/>
                        </a:lnTo>
                        <a:lnTo>
                          <a:pt x="380" y="317"/>
                        </a:lnTo>
                        <a:lnTo>
                          <a:pt x="403" y="291"/>
                        </a:lnTo>
                        <a:lnTo>
                          <a:pt x="380" y="331"/>
                        </a:lnTo>
                        <a:lnTo>
                          <a:pt x="367" y="344"/>
                        </a:lnTo>
                        <a:lnTo>
                          <a:pt x="336" y="371"/>
                        </a:lnTo>
                        <a:lnTo>
                          <a:pt x="353" y="388"/>
                        </a:lnTo>
                        <a:lnTo>
                          <a:pt x="390" y="371"/>
                        </a:lnTo>
                        <a:lnTo>
                          <a:pt x="416" y="344"/>
                        </a:lnTo>
                        <a:lnTo>
                          <a:pt x="438" y="317"/>
                        </a:lnTo>
                        <a:lnTo>
                          <a:pt x="420" y="358"/>
                        </a:lnTo>
                        <a:lnTo>
                          <a:pt x="398" y="375"/>
                        </a:lnTo>
                        <a:lnTo>
                          <a:pt x="371" y="392"/>
                        </a:lnTo>
                        <a:lnTo>
                          <a:pt x="394" y="402"/>
                        </a:lnTo>
                        <a:lnTo>
                          <a:pt x="438" y="371"/>
                        </a:lnTo>
                        <a:lnTo>
                          <a:pt x="478" y="328"/>
                        </a:lnTo>
                        <a:lnTo>
                          <a:pt x="491" y="297"/>
                        </a:lnTo>
                        <a:lnTo>
                          <a:pt x="500" y="237"/>
                        </a:lnTo>
                        <a:lnTo>
                          <a:pt x="509" y="195"/>
                        </a:lnTo>
                        <a:lnTo>
                          <a:pt x="517" y="148"/>
                        </a:lnTo>
                        <a:lnTo>
                          <a:pt x="473" y="158"/>
                        </a:lnTo>
                        <a:lnTo>
                          <a:pt x="420" y="171"/>
                        </a:lnTo>
                        <a:lnTo>
                          <a:pt x="349" y="182"/>
                        </a:lnTo>
                        <a:lnTo>
                          <a:pt x="416" y="165"/>
                        </a:lnTo>
                        <a:lnTo>
                          <a:pt x="438" y="151"/>
                        </a:lnTo>
                        <a:lnTo>
                          <a:pt x="482" y="138"/>
                        </a:lnTo>
                        <a:lnTo>
                          <a:pt x="509" y="138"/>
                        </a:lnTo>
                        <a:lnTo>
                          <a:pt x="509" y="111"/>
                        </a:lnTo>
                        <a:lnTo>
                          <a:pt x="504" y="77"/>
                        </a:lnTo>
                        <a:lnTo>
                          <a:pt x="442" y="84"/>
                        </a:lnTo>
                        <a:lnTo>
                          <a:pt x="407" y="94"/>
                        </a:lnTo>
                        <a:lnTo>
                          <a:pt x="358" y="111"/>
                        </a:lnTo>
                        <a:lnTo>
                          <a:pt x="407" y="84"/>
                        </a:lnTo>
                        <a:lnTo>
                          <a:pt x="451" y="74"/>
                        </a:lnTo>
                        <a:lnTo>
                          <a:pt x="500" y="67"/>
                        </a:lnTo>
                        <a:lnTo>
                          <a:pt x="491" y="40"/>
                        </a:lnTo>
                        <a:lnTo>
                          <a:pt x="478" y="26"/>
                        </a:lnTo>
                        <a:lnTo>
                          <a:pt x="429" y="16"/>
                        </a:lnTo>
                        <a:lnTo>
                          <a:pt x="390" y="23"/>
                        </a:lnTo>
                        <a:lnTo>
                          <a:pt x="349" y="43"/>
                        </a:lnTo>
                        <a:lnTo>
                          <a:pt x="371" y="20"/>
                        </a:lnTo>
                        <a:lnTo>
                          <a:pt x="420" y="10"/>
                        </a:lnTo>
                        <a:lnTo>
                          <a:pt x="371" y="0"/>
                        </a:lnTo>
                        <a:lnTo>
                          <a:pt x="336" y="0"/>
                        </a:lnTo>
                        <a:lnTo>
                          <a:pt x="287" y="6"/>
                        </a:lnTo>
                        <a:lnTo>
                          <a:pt x="256" y="23"/>
                        </a:lnTo>
                        <a:lnTo>
                          <a:pt x="203" y="26"/>
                        </a:lnTo>
                        <a:lnTo>
                          <a:pt x="239" y="20"/>
                        </a:lnTo>
                        <a:lnTo>
                          <a:pt x="265" y="6"/>
                        </a:lnTo>
                        <a:lnTo>
                          <a:pt x="283" y="0"/>
                        </a:lnTo>
                        <a:lnTo>
                          <a:pt x="230" y="0"/>
                        </a:lnTo>
                        <a:lnTo>
                          <a:pt x="186" y="0"/>
                        </a:lnTo>
                        <a:lnTo>
                          <a:pt x="159" y="13"/>
                        </a:lnTo>
                        <a:lnTo>
                          <a:pt x="127" y="30"/>
                        </a:lnTo>
                        <a:lnTo>
                          <a:pt x="105" y="57"/>
                        </a:lnTo>
                        <a:lnTo>
                          <a:pt x="119" y="26"/>
                        </a:lnTo>
                        <a:lnTo>
                          <a:pt x="146" y="10"/>
                        </a:lnTo>
                        <a:lnTo>
                          <a:pt x="83" y="23"/>
                        </a:lnTo>
                        <a:close/>
                      </a:path>
                    </a:pathLst>
                  </a:custGeom>
                  <a:solidFill>
                    <a:srgbClr val="a05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42" name=""/>
                  <p:cNvGrpSpPr/>
                  <p:nvPr/>
                </p:nvGrpSpPr>
                <p:grpSpPr>
                  <a:xfrm>
                    <a:off x="7958160" y="4226040"/>
                    <a:ext cx="230400" cy="101880"/>
                    <a:chOff x="7958160" y="4226040"/>
                    <a:chExt cx="230400" cy="101880"/>
                  </a:xfrm>
                </p:grpSpPr>
                <p:sp>
                  <p:nvSpPr>
                    <p:cNvPr id="643" name=""/>
                    <p:cNvSpPr/>
                    <p:nvPr/>
                  </p:nvSpPr>
                  <p:spPr>
                    <a:xfrm>
                      <a:off x="7974000" y="4226040"/>
                      <a:ext cx="214560" cy="101880"/>
                    </a:xfrm>
                    <a:custGeom>
                      <a:avLst/>
                      <a:gdLst/>
                      <a:ahLst/>
                      <a:rect l="0" t="0" r="r" b="b"/>
                      <a:pathLst>
                        <a:path w="596" h="283">
                          <a:moveTo>
                            <a:pt x="596" y="167"/>
                          </a:moveTo>
                          <a:lnTo>
                            <a:pt x="521" y="154"/>
                          </a:lnTo>
                          <a:lnTo>
                            <a:pt x="494" y="150"/>
                          </a:lnTo>
                          <a:lnTo>
                            <a:pt x="477" y="136"/>
                          </a:lnTo>
                          <a:lnTo>
                            <a:pt x="459" y="119"/>
                          </a:lnTo>
                          <a:lnTo>
                            <a:pt x="424" y="91"/>
                          </a:lnTo>
                          <a:lnTo>
                            <a:pt x="358" y="51"/>
                          </a:lnTo>
                          <a:lnTo>
                            <a:pt x="344" y="37"/>
                          </a:lnTo>
                          <a:lnTo>
                            <a:pt x="327" y="23"/>
                          </a:lnTo>
                          <a:lnTo>
                            <a:pt x="295" y="20"/>
                          </a:lnTo>
                          <a:lnTo>
                            <a:pt x="189" y="6"/>
                          </a:lnTo>
                          <a:lnTo>
                            <a:pt x="163" y="0"/>
                          </a:lnTo>
                          <a:lnTo>
                            <a:pt x="136" y="6"/>
                          </a:lnTo>
                          <a:lnTo>
                            <a:pt x="123" y="17"/>
                          </a:lnTo>
                          <a:lnTo>
                            <a:pt x="61" y="34"/>
                          </a:lnTo>
                          <a:lnTo>
                            <a:pt x="39" y="40"/>
                          </a:lnTo>
                          <a:lnTo>
                            <a:pt x="30" y="47"/>
                          </a:lnTo>
                          <a:lnTo>
                            <a:pt x="17" y="74"/>
                          </a:lnTo>
                          <a:lnTo>
                            <a:pt x="8" y="88"/>
                          </a:lnTo>
                          <a:lnTo>
                            <a:pt x="8" y="95"/>
                          </a:lnTo>
                          <a:lnTo>
                            <a:pt x="0" y="108"/>
                          </a:lnTo>
                          <a:lnTo>
                            <a:pt x="0" y="119"/>
                          </a:lnTo>
                          <a:lnTo>
                            <a:pt x="8" y="125"/>
                          </a:lnTo>
                          <a:lnTo>
                            <a:pt x="35" y="125"/>
                          </a:lnTo>
                          <a:lnTo>
                            <a:pt x="74" y="108"/>
                          </a:lnTo>
                          <a:lnTo>
                            <a:pt x="123" y="105"/>
                          </a:lnTo>
                          <a:lnTo>
                            <a:pt x="167" y="108"/>
                          </a:lnTo>
                          <a:lnTo>
                            <a:pt x="119" y="119"/>
                          </a:lnTo>
                          <a:lnTo>
                            <a:pt x="88" y="125"/>
                          </a:lnTo>
                          <a:lnTo>
                            <a:pt x="48" y="136"/>
                          </a:lnTo>
                          <a:lnTo>
                            <a:pt x="44" y="147"/>
                          </a:lnTo>
                          <a:lnTo>
                            <a:pt x="44" y="160"/>
                          </a:lnTo>
                          <a:lnTo>
                            <a:pt x="57" y="167"/>
                          </a:lnTo>
                          <a:lnTo>
                            <a:pt x="74" y="164"/>
                          </a:lnTo>
                          <a:lnTo>
                            <a:pt x="127" y="154"/>
                          </a:lnTo>
                          <a:lnTo>
                            <a:pt x="171" y="150"/>
                          </a:lnTo>
                          <a:lnTo>
                            <a:pt x="211" y="154"/>
                          </a:lnTo>
                          <a:lnTo>
                            <a:pt x="233" y="164"/>
                          </a:lnTo>
                          <a:lnTo>
                            <a:pt x="255" y="184"/>
                          </a:lnTo>
                          <a:lnTo>
                            <a:pt x="273" y="205"/>
                          </a:lnTo>
                          <a:lnTo>
                            <a:pt x="291" y="225"/>
                          </a:lnTo>
                          <a:lnTo>
                            <a:pt x="309" y="242"/>
                          </a:lnTo>
                          <a:lnTo>
                            <a:pt x="340" y="259"/>
                          </a:lnTo>
                          <a:lnTo>
                            <a:pt x="367" y="262"/>
                          </a:lnTo>
                          <a:lnTo>
                            <a:pt x="397" y="262"/>
                          </a:lnTo>
                          <a:lnTo>
                            <a:pt x="433" y="262"/>
                          </a:lnTo>
                          <a:lnTo>
                            <a:pt x="459" y="259"/>
                          </a:lnTo>
                          <a:lnTo>
                            <a:pt x="499" y="269"/>
                          </a:lnTo>
                          <a:lnTo>
                            <a:pt x="596" y="283"/>
                          </a:lnTo>
                          <a:lnTo>
                            <a:pt x="596" y="167"/>
                          </a:lnTo>
                          <a:close/>
                        </a:path>
                      </a:pathLst>
                    </a:custGeom>
                    <a:solidFill>
                      <a:srgbClr val="ffc080"/>
                    </a:solidFill>
                    <a:ln w="12600">
                      <a:solidFill>
                        <a:srgbClr val="402000"/>
                      </a:solidFill>
                      <a:round/>
                    </a:ln>
                  </p:spPr>
                  <p:txBody>
                    <a:bodyPr lIns="96120" rIns="96120" tIns="50760" bIns="50760" anchor="t">
                      <a:noAutofit/>
                    </a:bodyPr>
                    <a:p>
                      <a:endParaRPr b="0" lang="en-US" sz="1800" spc="-1" strike="noStrike">
                        <a:solidFill>
                          <a:srgbClr val="000000"/>
                        </a:solidFill>
                        <a:latin typeface="Arial"/>
                      </a:endParaRPr>
                    </a:p>
                  </p:txBody>
                </p:sp>
                <p:sp>
                  <p:nvSpPr>
                    <p:cNvPr id="644" name=""/>
                    <p:cNvSpPr/>
                    <p:nvPr/>
                  </p:nvSpPr>
                  <p:spPr>
                    <a:xfrm>
                      <a:off x="7985160" y="4243320"/>
                      <a:ext cx="59040" cy="25920"/>
                    </a:xfrm>
                    <a:custGeom>
                      <a:avLst/>
                      <a:gdLst/>
                      <a:ahLst/>
                      <a:rect l="0" t="0" r="r" b="b"/>
                      <a:pathLst>
                        <a:path w="164" h="72">
                          <a:moveTo>
                            <a:pt x="0" y="72"/>
                          </a:moveTo>
                          <a:lnTo>
                            <a:pt x="30" y="40"/>
                          </a:lnTo>
                          <a:lnTo>
                            <a:pt x="48" y="40"/>
                          </a:lnTo>
                          <a:lnTo>
                            <a:pt x="74" y="27"/>
                          </a:lnTo>
                          <a:lnTo>
                            <a:pt x="102" y="13"/>
                          </a:lnTo>
                          <a:lnTo>
                            <a:pt x="137" y="27"/>
                          </a:lnTo>
                          <a:lnTo>
                            <a:pt x="164" y="27"/>
                          </a:lnTo>
                          <a:lnTo>
                            <a:pt x="124" y="13"/>
                          </a:lnTo>
                          <a:lnTo>
                            <a:pt x="89" y="0"/>
                          </a:lnTo>
                          <a:lnTo>
                            <a:pt x="48" y="27"/>
                          </a:lnTo>
                          <a:lnTo>
                            <a:pt x="30" y="40"/>
                          </a:lnTo>
                          <a:lnTo>
                            <a:pt x="0" y="53"/>
                          </a:lnTo>
                          <a:lnTo>
                            <a:pt x="0"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45" name=""/>
                    <p:cNvSpPr/>
                    <p:nvPr/>
                  </p:nvSpPr>
                  <p:spPr>
                    <a:xfrm>
                      <a:off x="8020080" y="4230720"/>
                      <a:ext cx="47880" cy="25920"/>
                    </a:xfrm>
                    <a:custGeom>
                      <a:avLst/>
                      <a:gdLst/>
                      <a:ahLst/>
                      <a:rect l="0" t="0" r="r" b="b"/>
                      <a:pathLst>
                        <a:path w="133" h="72">
                          <a:moveTo>
                            <a:pt x="35" y="0"/>
                          </a:moveTo>
                          <a:lnTo>
                            <a:pt x="17" y="0"/>
                          </a:lnTo>
                          <a:lnTo>
                            <a:pt x="0" y="0"/>
                          </a:lnTo>
                          <a:lnTo>
                            <a:pt x="8" y="0"/>
                          </a:lnTo>
                          <a:lnTo>
                            <a:pt x="30" y="0"/>
                          </a:lnTo>
                          <a:lnTo>
                            <a:pt x="75" y="72"/>
                          </a:lnTo>
                          <a:lnTo>
                            <a:pt x="98" y="72"/>
                          </a:lnTo>
                          <a:lnTo>
                            <a:pt x="128" y="72"/>
                          </a:lnTo>
                          <a:lnTo>
                            <a:pt x="133" y="72"/>
                          </a:lnTo>
                          <a:lnTo>
                            <a:pt x="102" y="72"/>
                          </a:lnTo>
                          <a:lnTo>
                            <a:pt x="67" y="0"/>
                          </a:lnTo>
                          <a:lnTo>
                            <a:pt x="35"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46" name=""/>
                    <p:cNvSpPr/>
                    <p:nvPr/>
                  </p:nvSpPr>
                  <p:spPr>
                    <a:xfrm>
                      <a:off x="8018640" y="4257720"/>
                      <a:ext cx="25920" cy="25920"/>
                    </a:xfrm>
                    <a:custGeom>
                      <a:avLst/>
                      <a:gdLst/>
                      <a:ahLst/>
                      <a:rect l="0" t="0" r="r" b="b"/>
                      <a:pathLst>
                        <a:path w="72" h="72">
                          <a:moveTo>
                            <a:pt x="0" y="23"/>
                          </a:moveTo>
                          <a:lnTo>
                            <a:pt x="8" y="72"/>
                          </a:lnTo>
                          <a:lnTo>
                            <a:pt x="36" y="45"/>
                          </a:lnTo>
                          <a:lnTo>
                            <a:pt x="63" y="45"/>
                          </a:lnTo>
                          <a:lnTo>
                            <a:pt x="72" y="0"/>
                          </a:lnTo>
                          <a:lnTo>
                            <a:pt x="53" y="23"/>
                          </a:lnTo>
                          <a:lnTo>
                            <a:pt x="0" y="23"/>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47" name=""/>
                    <p:cNvSpPr/>
                    <p:nvPr/>
                  </p:nvSpPr>
                  <p:spPr>
                    <a:xfrm>
                      <a:off x="7958160" y="4259160"/>
                      <a:ext cx="25200" cy="0"/>
                    </a:xfrm>
                    <a:custGeom>
                      <a:avLst/>
                      <a:gdLst/>
                      <a:ahLst/>
                      <a:rect l="0" t="0" r="r" b="b"/>
                      <a:pathLst>
                        <a:path w="70" h="0">
                          <a:moveTo>
                            <a:pt x="70" y="0"/>
                          </a:moveTo>
                          <a:lnTo>
                            <a:pt x="52" y="0"/>
                          </a:lnTo>
                          <a:lnTo>
                            <a:pt x="0" y="0"/>
                          </a:lnTo>
                          <a:lnTo>
                            <a:pt x="7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48" name=""/>
                    <p:cNvSpPr/>
                    <p:nvPr/>
                  </p:nvSpPr>
                  <p:spPr>
                    <a:xfrm>
                      <a:off x="7975440" y="4272120"/>
                      <a:ext cx="25920" cy="25920"/>
                    </a:xfrm>
                    <a:custGeom>
                      <a:avLst/>
                      <a:gdLst/>
                      <a:ahLst/>
                      <a:rect l="0" t="0" r="r" b="b"/>
                      <a:pathLst>
                        <a:path w="72" h="72">
                          <a:moveTo>
                            <a:pt x="72" y="0"/>
                          </a:moveTo>
                          <a:lnTo>
                            <a:pt x="45" y="36"/>
                          </a:lnTo>
                          <a:lnTo>
                            <a:pt x="0" y="72"/>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49" name=""/>
                    <p:cNvSpPr/>
                    <p:nvPr/>
                  </p:nvSpPr>
                  <p:spPr>
                    <a:xfrm>
                      <a:off x="8050320" y="4249800"/>
                      <a:ext cx="25920" cy="25920"/>
                    </a:xfrm>
                    <a:custGeom>
                      <a:avLst/>
                      <a:gdLst/>
                      <a:ahLst/>
                      <a:rect l="0" t="0" r="r" b="b"/>
                      <a:pathLst>
                        <a:path w="72" h="72">
                          <a:moveTo>
                            <a:pt x="0" y="0"/>
                          </a:moveTo>
                          <a:lnTo>
                            <a:pt x="0" y="36"/>
                          </a:lnTo>
                          <a:lnTo>
                            <a:pt x="72" y="72"/>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50" name=""/>
                    <p:cNvSpPr/>
                    <p:nvPr/>
                  </p:nvSpPr>
                  <p:spPr>
                    <a:xfrm>
                      <a:off x="8094600" y="4251240"/>
                      <a:ext cx="25920" cy="25920"/>
                    </a:xfrm>
                    <a:custGeom>
                      <a:avLst/>
                      <a:gdLst/>
                      <a:ahLst/>
                      <a:rect l="0" t="0" r="r" b="b"/>
                      <a:pathLst>
                        <a:path w="72" h="72">
                          <a:moveTo>
                            <a:pt x="0" y="0"/>
                          </a:moveTo>
                          <a:lnTo>
                            <a:pt x="13" y="23"/>
                          </a:lnTo>
                          <a:lnTo>
                            <a:pt x="23" y="45"/>
                          </a:lnTo>
                          <a:lnTo>
                            <a:pt x="72" y="72"/>
                          </a:lnTo>
                          <a:lnTo>
                            <a:pt x="27" y="36"/>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51" name=""/>
                    <p:cNvSpPr/>
                    <p:nvPr/>
                  </p:nvSpPr>
                  <p:spPr>
                    <a:xfrm>
                      <a:off x="8113680" y="4289400"/>
                      <a:ext cx="25920" cy="25920"/>
                    </a:xfrm>
                    <a:custGeom>
                      <a:avLst/>
                      <a:gdLst/>
                      <a:ahLst/>
                      <a:rect l="0" t="0" r="r" b="b"/>
                      <a:pathLst>
                        <a:path w="72" h="72">
                          <a:moveTo>
                            <a:pt x="72" y="0"/>
                          </a:moveTo>
                          <a:lnTo>
                            <a:pt x="36" y="23"/>
                          </a:lnTo>
                          <a:lnTo>
                            <a:pt x="0" y="49"/>
                          </a:lnTo>
                          <a:lnTo>
                            <a:pt x="0" y="72"/>
                          </a:lnTo>
                          <a:lnTo>
                            <a:pt x="0" y="36"/>
                          </a:lnTo>
                          <a:lnTo>
                            <a:pt x="0" y="17"/>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52" name=""/>
                    <p:cNvSpPr/>
                    <p:nvPr/>
                  </p:nvSpPr>
                  <p:spPr>
                    <a:xfrm>
                      <a:off x="8039160" y="4268880"/>
                      <a:ext cx="25200" cy="0"/>
                    </a:xfrm>
                    <a:custGeom>
                      <a:avLst/>
                      <a:gdLst/>
                      <a:ahLst/>
                      <a:rect l="0" t="0" r="r" b="b"/>
                      <a:pathLst>
                        <a:path w="70" h="0">
                          <a:moveTo>
                            <a:pt x="52" y="0"/>
                          </a:moveTo>
                          <a:lnTo>
                            <a:pt x="70" y="0"/>
                          </a:lnTo>
                          <a:lnTo>
                            <a:pt x="0" y="0"/>
                          </a:lnTo>
                          <a:lnTo>
                            <a:pt x="5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653" name=""/>
                  <p:cNvGrpSpPr/>
                  <p:nvPr/>
                </p:nvGrpSpPr>
                <p:grpSpPr>
                  <a:xfrm>
                    <a:off x="8155080" y="4005360"/>
                    <a:ext cx="493920" cy="432000"/>
                    <a:chOff x="8155080" y="4005360"/>
                    <a:chExt cx="493920" cy="432000"/>
                  </a:xfrm>
                </p:grpSpPr>
                <p:sp>
                  <p:nvSpPr>
                    <p:cNvPr id="654" name=""/>
                    <p:cNvSpPr/>
                    <p:nvPr/>
                  </p:nvSpPr>
                  <p:spPr>
                    <a:xfrm>
                      <a:off x="8348760" y="4005360"/>
                      <a:ext cx="25920" cy="25920"/>
                    </a:xfrm>
                    <a:custGeom>
                      <a:avLst/>
                      <a:gdLst/>
                      <a:ahLst/>
                      <a:rect l="0" t="0" r="r" b="b"/>
                      <a:pathLst>
                        <a:path w="72" h="72">
                          <a:moveTo>
                            <a:pt x="0" y="0"/>
                          </a:moveTo>
                          <a:lnTo>
                            <a:pt x="17" y="0"/>
                          </a:lnTo>
                          <a:lnTo>
                            <a:pt x="36" y="0"/>
                          </a:lnTo>
                          <a:lnTo>
                            <a:pt x="53" y="72"/>
                          </a:lnTo>
                          <a:lnTo>
                            <a:pt x="72" y="72"/>
                          </a:lnTo>
                          <a:lnTo>
                            <a:pt x="53" y="72"/>
                          </a:lnTo>
                          <a:lnTo>
                            <a:pt x="17" y="72"/>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55" name=""/>
                    <p:cNvSpPr/>
                    <p:nvPr/>
                  </p:nvSpPr>
                  <p:spPr>
                    <a:xfrm>
                      <a:off x="8346960" y="4016520"/>
                      <a:ext cx="25920" cy="25920"/>
                    </a:xfrm>
                    <a:custGeom>
                      <a:avLst/>
                      <a:gdLst/>
                      <a:ahLst/>
                      <a:rect l="0" t="0" r="r" b="b"/>
                      <a:pathLst>
                        <a:path w="72" h="72">
                          <a:moveTo>
                            <a:pt x="0" y="0"/>
                          </a:moveTo>
                          <a:lnTo>
                            <a:pt x="72" y="0"/>
                          </a:lnTo>
                          <a:lnTo>
                            <a:pt x="72" y="72"/>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56" name=""/>
                    <p:cNvSpPr/>
                    <p:nvPr/>
                  </p:nvSpPr>
                  <p:spPr>
                    <a:xfrm>
                      <a:off x="8304120" y="4064040"/>
                      <a:ext cx="133560" cy="254520"/>
                    </a:xfrm>
                    <a:custGeom>
                      <a:avLst/>
                      <a:gdLst/>
                      <a:ahLst/>
                      <a:rect l="0" t="0" r="r" b="b"/>
                      <a:pathLst>
                        <a:path w="371" h="707">
                          <a:moveTo>
                            <a:pt x="318" y="0"/>
                          </a:moveTo>
                          <a:lnTo>
                            <a:pt x="283" y="27"/>
                          </a:lnTo>
                          <a:lnTo>
                            <a:pt x="269" y="70"/>
                          </a:lnTo>
                          <a:lnTo>
                            <a:pt x="217" y="111"/>
                          </a:lnTo>
                          <a:lnTo>
                            <a:pt x="105" y="301"/>
                          </a:lnTo>
                          <a:lnTo>
                            <a:pt x="48" y="473"/>
                          </a:lnTo>
                          <a:lnTo>
                            <a:pt x="0" y="707"/>
                          </a:lnTo>
                          <a:lnTo>
                            <a:pt x="149" y="602"/>
                          </a:lnTo>
                          <a:lnTo>
                            <a:pt x="371" y="91"/>
                          </a:lnTo>
                          <a:lnTo>
                            <a:pt x="318" y="0"/>
                          </a:lnTo>
                          <a:close/>
                        </a:path>
                      </a:pathLst>
                    </a:custGeom>
                    <a:solidFill>
                      <a:srgbClr val="4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57" name=""/>
                    <p:cNvSpPr/>
                    <p:nvPr/>
                  </p:nvSpPr>
                  <p:spPr>
                    <a:xfrm>
                      <a:off x="8155080" y="4013280"/>
                      <a:ext cx="493920" cy="424080"/>
                    </a:xfrm>
                    <a:custGeom>
                      <a:avLst/>
                      <a:gdLst/>
                      <a:ahLst/>
                      <a:rect l="0" t="0" r="r" b="b"/>
                      <a:pathLst>
                        <a:path w="1372" h="1178">
                          <a:moveTo>
                            <a:pt x="1121" y="60"/>
                          </a:moveTo>
                          <a:lnTo>
                            <a:pt x="1076" y="0"/>
                          </a:lnTo>
                          <a:lnTo>
                            <a:pt x="741" y="104"/>
                          </a:lnTo>
                          <a:lnTo>
                            <a:pt x="728" y="189"/>
                          </a:lnTo>
                          <a:lnTo>
                            <a:pt x="697" y="216"/>
                          </a:lnTo>
                          <a:lnTo>
                            <a:pt x="661" y="250"/>
                          </a:lnTo>
                          <a:lnTo>
                            <a:pt x="639" y="307"/>
                          </a:lnTo>
                          <a:lnTo>
                            <a:pt x="564" y="446"/>
                          </a:lnTo>
                          <a:lnTo>
                            <a:pt x="502" y="609"/>
                          </a:lnTo>
                          <a:lnTo>
                            <a:pt x="476" y="718"/>
                          </a:lnTo>
                          <a:lnTo>
                            <a:pt x="207" y="718"/>
                          </a:lnTo>
                          <a:lnTo>
                            <a:pt x="167" y="741"/>
                          </a:lnTo>
                          <a:lnTo>
                            <a:pt x="44" y="741"/>
                          </a:lnTo>
                          <a:lnTo>
                            <a:pt x="8" y="782"/>
                          </a:lnTo>
                          <a:lnTo>
                            <a:pt x="0" y="829"/>
                          </a:lnTo>
                          <a:lnTo>
                            <a:pt x="13" y="877"/>
                          </a:lnTo>
                          <a:lnTo>
                            <a:pt x="127" y="894"/>
                          </a:lnTo>
                          <a:lnTo>
                            <a:pt x="180" y="955"/>
                          </a:lnTo>
                          <a:lnTo>
                            <a:pt x="291" y="978"/>
                          </a:lnTo>
                          <a:lnTo>
                            <a:pt x="366" y="978"/>
                          </a:lnTo>
                          <a:lnTo>
                            <a:pt x="463" y="988"/>
                          </a:lnTo>
                          <a:lnTo>
                            <a:pt x="467" y="1019"/>
                          </a:lnTo>
                          <a:lnTo>
                            <a:pt x="463" y="1080"/>
                          </a:lnTo>
                          <a:lnTo>
                            <a:pt x="471" y="1120"/>
                          </a:lnTo>
                          <a:lnTo>
                            <a:pt x="520" y="1127"/>
                          </a:lnTo>
                          <a:lnTo>
                            <a:pt x="577" y="1134"/>
                          </a:lnTo>
                          <a:lnTo>
                            <a:pt x="639" y="1175"/>
                          </a:lnTo>
                          <a:lnTo>
                            <a:pt x="710" y="1175"/>
                          </a:lnTo>
                          <a:lnTo>
                            <a:pt x="777" y="1171"/>
                          </a:lnTo>
                          <a:lnTo>
                            <a:pt x="874" y="1147"/>
                          </a:lnTo>
                          <a:lnTo>
                            <a:pt x="979" y="1158"/>
                          </a:lnTo>
                          <a:lnTo>
                            <a:pt x="1090" y="1178"/>
                          </a:lnTo>
                          <a:lnTo>
                            <a:pt x="1191" y="1161"/>
                          </a:lnTo>
                          <a:lnTo>
                            <a:pt x="1262" y="1103"/>
                          </a:lnTo>
                          <a:lnTo>
                            <a:pt x="1257" y="1036"/>
                          </a:lnTo>
                          <a:lnTo>
                            <a:pt x="1279" y="951"/>
                          </a:lnTo>
                          <a:lnTo>
                            <a:pt x="1297" y="843"/>
                          </a:lnTo>
                          <a:lnTo>
                            <a:pt x="1332" y="745"/>
                          </a:lnTo>
                          <a:lnTo>
                            <a:pt x="1372" y="596"/>
                          </a:lnTo>
                          <a:lnTo>
                            <a:pt x="1368" y="446"/>
                          </a:lnTo>
                          <a:lnTo>
                            <a:pt x="1368" y="314"/>
                          </a:lnTo>
                          <a:lnTo>
                            <a:pt x="1359" y="223"/>
                          </a:lnTo>
                          <a:lnTo>
                            <a:pt x="1332" y="182"/>
                          </a:lnTo>
                          <a:lnTo>
                            <a:pt x="1271" y="145"/>
                          </a:lnTo>
                          <a:lnTo>
                            <a:pt x="1200" y="91"/>
                          </a:lnTo>
                          <a:lnTo>
                            <a:pt x="1121" y="60"/>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8329680" y="4038480"/>
                      <a:ext cx="302040" cy="387720"/>
                    </a:xfrm>
                    <a:custGeom>
                      <a:avLst/>
                      <a:gdLst/>
                      <a:ahLst/>
                      <a:rect l="0" t="0" r="r" b="b"/>
                      <a:pathLst>
                        <a:path w="839" h="1077">
                          <a:moveTo>
                            <a:pt x="0" y="902"/>
                          </a:moveTo>
                          <a:lnTo>
                            <a:pt x="110" y="891"/>
                          </a:lnTo>
                          <a:lnTo>
                            <a:pt x="202" y="885"/>
                          </a:lnTo>
                          <a:lnTo>
                            <a:pt x="305" y="878"/>
                          </a:lnTo>
                          <a:lnTo>
                            <a:pt x="419" y="868"/>
                          </a:lnTo>
                          <a:lnTo>
                            <a:pt x="472" y="841"/>
                          </a:lnTo>
                          <a:lnTo>
                            <a:pt x="613" y="701"/>
                          </a:lnTo>
                          <a:lnTo>
                            <a:pt x="543" y="741"/>
                          </a:lnTo>
                          <a:lnTo>
                            <a:pt x="494" y="775"/>
                          </a:lnTo>
                          <a:lnTo>
                            <a:pt x="521" y="677"/>
                          </a:lnTo>
                          <a:lnTo>
                            <a:pt x="574" y="640"/>
                          </a:lnTo>
                          <a:lnTo>
                            <a:pt x="654" y="538"/>
                          </a:lnTo>
                          <a:lnTo>
                            <a:pt x="578" y="586"/>
                          </a:lnTo>
                          <a:lnTo>
                            <a:pt x="530" y="599"/>
                          </a:lnTo>
                          <a:lnTo>
                            <a:pt x="543" y="532"/>
                          </a:lnTo>
                          <a:lnTo>
                            <a:pt x="591" y="478"/>
                          </a:lnTo>
                          <a:lnTo>
                            <a:pt x="645" y="437"/>
                          </a:lnTo>
                          <a:lnTo>
                            <a:pt x="698" y="322"/>
                          </a:lnTo>
                          <a:lnTo>
                            <a:pt x="596" y="417"/>
                          </a:lnTo>
                          <a:lnTo>
                            <a:pt x="543" y="454"/>
                          </a:lnTo>
                          <a:lnTo>
                            <a:pt x="534" y="305"/>
                          </a:lnTo>
                          <a:lnTo>
                            <a:pt x="521" y="243"/>
                          </a:lnTo>
                          <a:lnTo>
                            <a:pt x="486" y="213"/>
                          </a:lnTo>
                          <a:lnTo>
                            <a:pt x="446" y="169"/>
                          </a:lnTo>
                          <a:lnTo>
                            <a:pt x="367" y="152"/>
                          </a:lnTo>
                          <a:lnTo>
                            <a:pt x="331" y="138"/>
                          </a:lnTo>
                          <a:lnTo>
                            <a:pt x="437" y="60"/>
                          </a:lnTo>
                          <a:lnTo>
                            <a:pt x="547" y="81"/>
                          </a:lnTo>
                          <a:lnTo>
                            <a:pt x="622" y="115"/>
                          </a:lnTo>
                          <a:lnTo>
                            <a:pt x="645" y="145"/>
                          </a:lnTo>
                          <a:lnTo>
                            <a:pt x="622" y="98"/>
                          </a:lnTo>
                          <a:lnTo>
                            <a:pt x="583" y="81"/>
                          </a:lnTo>
                          <a:lnTo>
                            <a:pt x="516" y="60"/>
                          </a:lnTo>
                          <a:lnTo>
                            <a:pt x="464" y="54"/>
                          </a:lnTo>
                          <a:lnTo>
                            <a:pt x="494" y="40"/>
                          </a:lnTo>
                          <a:lnTo>
                            <a:pt x="547" y="30"/>
                          </a:lnTo>
                          <a:lnTo>
                            <a:pt x="591" y="16"/>
                          </a:lnTo>
                          <a:lnTo>
                            <a:pt x="622" y="0"/>
                          </a:lnTo>
                          <a:lnTo>
                            <a:pt x="681" y="33"/>
                          </a:lnTo>
                          <a:lnTo>
                            <a:pt x="716" y="60"/>
                          </a:lnTo>
                          <a:lnTo>
                            <a:pt x="756" y="98"/>
                          </a:lnTo>
                          <a:lnTo>
                            <a:pt x="804" y="118"/>
                          </a:lnTo>
                          <a:lnTo>
                            <a:pt x="813" y="155"/>
                          </a:lnTo>
                          <a:lnTo>
                            <a:pt x="839" y="213"/>
                          </a:lnTo>
                          <a:lnTo>
                            <a:pt x="839" y="308"/>
                          </a:lnTo>
                          <a:lnTo>
                            <a:pt x="831" y="407"/>
                          </a:lnTo>
                          <a:lnTo>
                            <a:pt x="831" y="515"/>
                          </a:lnTo>
                          <a:lnTo>
                            <a:pt x="800" y="626"/>
                          </a:lnTo>
                          <a:lnTo>
                            <a:pt x="773" y="745"/>
                          </a:lnTo>
                          <a:lnTo>
                            <a:pt x="756" y="847"/>
                          </a:lnTo>
                          <a:lnTo>
                            <a:pt x="729" y="918"/>
                          </a:lnTo>
                          <a:lnTo>
                            <a:pt x="734" y="986"/>
                          </a:lnTo>
                          <a:lnTo>
                            <a:pt x="725" y="1020"/>
                          </a:lnTo>
                          <a:lnTo>
                            <a:pt x="685" y="1047"/>
                          </a:lnTo>
                          <a:lnTo>
                            <a:pt x="641" y="1071"/>
                          </a:lnTo>
                          <a:lnTo>
                            <a:pt x="578" y="1077"/>
                          </a:lnTo>
                          <a:lnTo>
                            <a:pt x="547" y="1064"/>
                          </a:lnTo>
                          <a:lnTo>
                            <a:pt x="503" y="1061"/>
                          </a:lnTo>
                          <a:lnTo>
                            <a:pt x="406" y="1044"/>
                          </a:lnTo>
                          <a:lnTo>
                            <a:pt x="446" y="1006"/>
                          </a:lnTo>
                          <a:lnTo>
                            <a:pt x="494" y="949"/>
                          </a:lnTo>
                          <a:lnTo>
                            <a:pt x="428" y="989"/>
                          </a:lnTo>
                          <a:lnTo>
                            <a:pt x="371" y="1023"/>
                          </a:lnTo>
                          <a:lnTo>
                            <a:pt x="340" y="1044"/>
                          </a:lnTo>
                          <a:lnTo>
                            <a:pt x="287" y="1064"/>
                          </a:lnTo>
                          <a:lnTo>
                            <a:pt x="230" y="1064"/>
                          </a:lnTo>
                          <a:lnTo>
                            <a:pt x="167" y="1064"/>
                          </a:lnTo>
                          <a:lnTo>
                            <a:pt x="141" y="1054"/>
                          </a:lnTo>
                          <a:lnTo>
                            <a:pt x="127" y="1040"/>
                          </a:lnTo>
                          <a:lnTo>
                            <a:pt x="198" y="1010"/>
                          </a:lnTo>
                          <a:lnTo>
                            <a:pt x="269" y="956"/>
                          </a:lnTo>
                          <a:lnTo>
                            <a:pt x="287" y="932"/>
                          </a:lnTo>
                          <a:lnTo>
                            <a:pt x="234" y="942"/>
                          </a:lnTo>
                          <a:lnTo>
                            <a:pt x="149" y="996"/>
                          </a:lnTo>
                          <a:lnTo>
                            <a:pt x="110" y="1020"/>
                          </a:lnTo>
                          <a:lnTo>
                            <a:pt x="26" y="1023"/>
                          </a:lnTo>
                          <a:lnTo>
                            <a:pt x="0" y="1013"/>
                          </a:lnTo>
                          <a:lnTo>
                            <a:pt x="0" y="986"/>
                          </a:lnTo>
                          <a:lnTo>
                            <a:pt x="0" y="902"/>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9" name=""/>
                    <p:cNvSpPr/>
                    <p:nvPr/>
                  </p:nvSpPr>
                  <p:spPr>
                    <a:xfrm>
                      <a:off x="8526600" y="4235400"/>
                      <a:ext cx="81360" cy="174960"/>
                    </a:xfrm>
                    <a:custGeom>
                      <a:avLst/>
                      <a:gdLst/>
                      <a:ahLst/>
                      <a:rect l="0" t="0" r="r" b="b"/>
                      <a:pathLst>
                        <a:path w="226" h="486">
                          <a:moveTo>
                            <a:pt x="0" y="486"/>
                          </a:moveTo>
                          <a:lnTo>
                            <a:pt x="39" y="469"/>
                          </a:lnTo>
                          <a:lnTo>
                            <a:pt x="84" y="431"/>
                          </a:lnTo>
                          <a:lnTo>
                            <a:pt x="124" y="360"/>
                          </a:lnTo>
                          <a:lnTo>
                            <a:pt x="142" y="299"/>
                          </a:lnTo>
                          <a:lnTo>
                            <a:pt x="168" y="234"/>
                          </a:lnTo>
                          <a:lnTo>
                            <a:pt x="182" y="166"/>
                          </a:lnTo>
                          <a:lnTo>
                            <a:pt x="209" y="71"/>
                          </a:lnTo>
                          <a:lnTo>
                            <a:pt x="226" y="0"/>
                          </a:lnTo>
                          <a:lnTo>
                            <a:pt x="182" y="142"/>
                          </a:lnTo>
                          <a:lnTo>
                            <a:pt x="142" y="252"/>
                          </a:lnTo>
                          <a:lnTo>
                            <a:pt x="98" y="330"/>
                          </a:lnTo>
                          <a:lnTo>
                            <a:pt x="30" y="408"/>
                          </a:lnTo>
                          <a:lnTo>
                            <a:pt x="0" y="48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0" name=""/>
                    <p:cNvSpPr/>
                    <p:nvPr/>
                  </p:nvSpPr>
                  <p:spPr>
                    <a:xfrm>
                      <a:off x="8164440" y="4087800"/>
                      <a:ext cx="349560" cy="267120"/>
                    </a:xfrm>
                    <a:custGeom>
                      <a:avLst/>
                      <a:gdLst/>
                      <a:ahLst/>
                      <a:rect l="0" t="0" r="r" b="b"/>
                      <a:pathLst>
                        <a:path w="971" h="742">
                          <a:moveTo>
                            <a:pt x="790" y="0"/>
                          </a:moveTo>
                          <a:lnTo>
                            <a:pt x="675" y="23"/>
                          </a:lnTo>
                          <a:lnTo>
                            <a:pt x="627" y="60"/>
                          </a:lnTo>
                          <a:lnTo>
                            <a:pt x="596" y="135"/>
                          </a:lnTo>
                          <a:lnTo>
                            <a:pt x="596" y="203"/>
                          </a:lnTo>
                          <a:lnTo>
                            <a:pt x="613" y="241"/>
                          </a:lnTo>
                          <a:lnTo>
                            <a:pt x="600" y="308"/>
                          </a:lnTo>
                          <a:lnTo>
                            <a:pt x="600" y="362"/>
                          </a:lnTo>
                          <a:lnTo>
                            <a:pt x="613" y="376"/>
                          </a:lnTo>
                          <a:lnTo>
                            <a:pt x="600" y="393"/>
                          </a:lnTo>
                          <a:lnTo>
                            <a:pt x="587" y="417"/>
                          </a:lnTo>
                          <a:lnTo>
                            <a:pt x="613" y="433"/>
                          </a:lnTo>
                          <a:lnTo>
                            <a:pt x="613" y="457"/>
                          </a:lnTo>
                          <a:lnTo>
                            <a:pt x="565" y="464"/>
                          </a:lnTo>
                          <a:lnTo>
                            <a:pt x="574" y="484"/>
                          </a:lnTo>
                          <a:lnTo>
                            <a:pt x="534" y="498"/>
                          </a:lnTo>
                          <a:lnTo>
                            <a:pt x="494" y="488"/>
                          </a:lnTo>
                          <a:lnTo>
                            <a:pt x="467" y="498"/>
                          </a:lnTo>
                          <a:lnTo>
                            <a:pt x="352" y="508"/>
                          </a:lnTo>
                          <a:lnTo>
                            <a:pt x="251" y="505"/>
                          </a:lnTo>
                          <a:lnTo>
                            <a:pt x="180" y="508"/>
                          </a:lnTo>
                          <a:lnTo>
                            <a:pt x="141" y="525"/>
                          </a:lnTo>
                          <a:lnTo>
                            <a:pt x="35" y="525"/>
                          </a:lnTo>
                          <a:lnTo>
                            <a:pt x="0" y="555"/>
                          </a:lnTo>
                          <a:lnTo>
                            <a:pt x="0" y="590"/>
                          </a:lnTo>
                          <a:lnTo>
                            <a:pt x="4" y="637"/>
                          </a:lnTo>
                          <a:lnTo>
                            <a:pt x="88" y="658"/>
                          </a:lnTo>
                          <a:lnTo>
                            <a:pt x="88" y="621"/>
                          </a:lnTo>
                          <a:lnTo>
                            <a:pt x="92" y="597"/>
                          </a:lnTo>
                          <a:lnTo>
                            <a:pt x="110" y="583"/>
                          </a:lnTo>
                          <a:lnTo>
                            <a:pt x="114" y="614"/>
                          </a:lnTo>
                          <a:lnTo>
                            <a:pt x="119" y="658"/>
                          </a:lnTo>
                          <a:lnTo>
                            <a:pt x="141" y="681"/>
                          </a:lnTo>
                          <a:lnTo>
                            <a:pt x="180" y="712"/>
                          </a:lnTo>
                          <a:lnTo>
                            <a:pt x="264" y="729"/>
                          </a:lnTo>
                          <a:lnTo>
                            <a:pt x="330" y="736"/>
                          </a:lnTo>
                          <a:lnTo>
                            <a:pt x="410" y="742"/>
                          </a:lnTo>
                          <a:lnTo>
                            <a:pt x="308" y="695"/>
                          </a:lnTo>
                          <a:lnTo>
                            <a:pt x="246" y="658"/>
                          </a:lnTo>
                          <a:lnTo>
                            <a:pt x="229" y="621"/>
                          </a:lnTo>
                          <a:lnTo>
                            <a:pt x="238" y="597"/>
                          </a:lnTo>
                          <a:lnTo>
                            <a:pt x="295" y="593"/>
                          </a:lnTo>
                          <a:lnTo>
                            <a:pt x="317" y="621"/>
                          </a:lnTo>
                          <a:lnTo>
                            <a:pt x="330" y="661"/>
                          </a:lnTo>
                          <a:lnTo>
                            <a:pt x="388" y="698"/>
                          </a:lnTo>
                          <a:lnTo>
                            <a:pt x="440" y="732"/>
                          </a:lnTo>
                          <a:lnTo>
                            <a:pt x="503" y="736"/>
                          </a:lnTo>
                          <a:lnTo>
                            <a:pt x="587" y="732"/>
                          </a:lnTo>
                          <a:lnTo>
                            <a:pt x="494" y="675"/>
                          </a:lnTo>
                          <a:lnTo>
                            <a:pt x="423" y="648"/>
                          </a:lnTo>
                          <a:lnTo>
                            <a:pt x="374" y="614"/>
                          </a:lnTo>
                          <a:lnTo>
                            <a:pt x="357" y="593"/>
                          </a:lnTo>
                          <a:lnTo>
                            <a:pt x="361" y="566"/>
                          </a:lnTo>
                          <a:lnTo>
                            <a:pt x="396" y="566"/>
                          </a:lnTo>
                          <a:lnTo>
                            <a:pt x="427" y="590"/>
                          </a:lnTo>
                          <a:lnTo>
                            <a:pt x="454" y="621"/>
                          </a:lnTo>
                          <a:lnTo>
                            <a:pt x="503" y="661"/>
                          </a:lnTo>
                          <a:lnTo>
                            <a:pt x="556" y="681"/>
                          </a:lnTo>
                          <a:lnTo>
                            <a:pt x="600" y="698"/>
                          </a:lnTo>
                          <a:lnTo>
                            <a:pt x="649" y="715"/>
                          </a:lnTo>
                          <a:lnTo>
                            <a:pt x="702" y="722"/>
                          </a:lnTo>
                          <a:lnTo>
                            <a:pt x="763" y="722"/>
                          </a:lnTo>
                          <a:lnTo>
                            <a:pt x="821" y="715"/>
                          </a:lnTo>
                          <a:lnTo>
                            <a:pt x="684" y="681"/>
                          </a:lnTo>
                          <a:lnTo>
                            <a:pt x="636" y="661"/>
                          </a:lnTo>
                          <a:lnTo>
                            <a:pt x="600" y="621"/>
                          </a:lnTo>
                          <a:lnTo>
                            <a:pt x="596" y="593"/>
                          </a:lnTo>
                          <a:lnTo>
                            <a:pt x="627" y="593"/>
                          </a:lnTo>
                          <a:lnTo>
                            <a:pt x="644" y="621"/>
                          </a:lnTo>
                          <a:lnTo>
                            <a:pt x="666" y="644"/>
                          </a:lnTo>
                          <a:lnTo>
                            <a:pt x="710" y="668"/>
                          </a:lnTo>
                          <a:lnTo>
                            <a:pt x="755" y="695"/>
                          </a:lnTo>
                          <a:lnTo>
                            <a:pt x="816" y="712"/>
                          </a:lnTo>
                          <a:lnTo>
                            <a:pt x="865" y="698"/>
                          </a:lnTo>
                          <a:lnTo>
                            <a:pt x="887" y="681"/>
                          </a:lnTo>
                          <a:lnTo>
                            <a:pt x="922" y="631"/>
                          </a:lnTo>
                          <a:lnTo>
                            <a:pt x="856" y="621"/>
                          </a:lnTo>
                          <a:lnTo>
                            <a:pt x="724" y="607"/>
                          </a:lnTo>
                          <a:lnTo>
                            <a:pt x="649" y="580"/>
                          </a:lnTo>
                          <a:lnTo>
                            <a:pt x="605" y="552"/>
                          </a:lnTo>
                          <a:lnTo>
                            <a:pt x="587" y="518"/>
                          </a:lnTo>
                          <a:lnTo>
                            <a:pt x="583" y="505"/>
                          </a:lnTo>
                          <a:lnTo>
                            <a:pt x="605" y="505"/>
                          </a:lnTo>
                          <a:lnTo>
                            <a:pt x="631" y="525"/>
                          </a:lnTo>
                          <a:lnTo>
                            <a:pt x="671" y="570"/>
                          </a:lnTo>
                          <a:lnTo>
                            <a:pt x="768" y="597"/>
                          </a:lnTo>
                          <a:lnTo>
                            <a:pt x="856" y="617"/>
                          </a:lnTo>
                          <a:lnTo>
                            <a:pt x="922" y="631"/>
                          </a:lnTo>
                          <a:lnTo>
                            <a:pt x="949" y="549"/>
                          </a:lnTo>
                          <a:lnTo>
                            <a:pt x="953" y="488"/>
                          </a:lnTo>
                          <a:lnTo>
                            <a:pt x="953" y="433"/>
                          </a:lnTo>
                          <a:lnTo>
                            <a:pt x="865" y="471"/>
                          </a:lnTo>
                          <a:lnTo>
                            <a:pt x="763" y="488"/>
                          </a:lnTo>
                          <a:lnTo>
                            <a:pt x="675" y="484"/>
                          </a:lnTo>
                          <a:lnTo>
                            <a:pt x="658" y="474"/>
                          </a:lnTo>
                          <a:lnTo>
                            <a:pt x="649" y="457"/>
                          </a:lnTo>
                          <a:lnTo>
                            <a:pt x="693" y="457"/>
                          </a:lnTo>
                          <a:lnTo>
                            <a:pt x="746" y="467"/>
                          </a:lnTo>
                          <a:lnTo>
                            <a:pt x="869" y="471"/>
                          </a:lnTo>
                          <a:lnTo>
                            <a:pt x="953" y="433"/>
                          </a:lnTo>
                          <a:lnTo>
                            <a:pt x="962" y="359"/>
                          </a:lnTo>
                          <a:lnTo>
                            <a:pt x="962" y="308"/>
                          </a:lnTo>
                          <a:lnTo>
                            <a:pt x="971" y="254"/>
                          </a:lnTo>
                          <a:lnTo>
                            <a:pt x="962" y="165"/>
                          </a:lnTo>
                          <a:lnTo>
                            <a:pt x="931" y="135"/>
                          </a:lnTo>
                          <a:lnTo>
                            <a:pt x="856" y="94"/>
                          </a:lnTo>
                          <a:lnTo>
                            <a:pt x="882" y="98"/>
                          </a:lnTo>
                          <a:lnTo>
                            <a:pt x="962" y="128"/>
                          </a:lnTo>
                          <a:lnTo>
                            <a:pt x="927" y="67"/>
                          </a:lnTo>
                          <a:lnTo>
                            <a:pt x="904" y="40"/>
                          </a:lnTo>
                          <a:lnTo>
                            <a:pt x="882" y="23"/>
                          </a:lnTo>
                          <a:lnTo>
                            <a:pt x="790"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1" name=""/>
                    <p:cNvSpPr/>
                    <p:nvPr/>
                  </p:nvSpPr>
                  <p:spPr>
                    <a:xfrm>
                      <a:off x="8412120" y="4189320"/>
                      <a:ext cx="81360" cy="55800"/>
                    </a:xfrm>
                    <a:custGeom>
                      <a:avLst/>
                      <a:gdLst/>
                      <a:ahLst/>
                      <a:rect l="0" t="0" r="r" b="b"/>
                      <a:pathLst>
                        <a:path w="226" h="155">
                          <a:moveTo>
                            <a:pt x="0" y="0"/>
                          </a:moveTo>
                          <a:lnTo>
                            <a:pt x="0" y="13"/>
                          </a:lnTo>
                          <a:lnTo>
                            <a:pt x="26" y="43"/>
                          </a:lnTo>
                          <a:lnTo>
                            <a:pt x="52" y="57"/>
                          </a:lnTo>
                          <a:lnTo>
                            <a:pt x="115" y="91"/>
                          </a:lnTo>
                          <a:lnTo>
                            <a:pt x="137" y="108"/>
                          </a:lnTo>
                          <a:lnTo>
                            <a:pt x="196" y="138"/>
                          </a:lnTo>
                          <a:lnTo>
                            <a:pt x="133" y="125"/>
                          </a:lnTo>
                          <a:lnTo>
                            <a:pt x="71" y="108"/>
                          </a:lnTo>
                          <a:lnTo>
                            <a:pt x="13" y="108"/>
                          </a:lnTo>
                          <a:lnTo>
                            <a:pt x="13" y="121"/>
                          </a:lnTo>
                          <a:lnTo>
                            <a:pt x="115" y="135"/>
                          </a:lnTo>
                          <a:lnTo>
                            <a:pt x="168" y="148"/>
                          </a:lnTo>
                          <a:lnTo>
                            <a:pt x="196" y="155"/>
                          </a:lnTo>
                          <a:lnTo>
                            <a:pt x="222" y="145"/>
                          </a:lnTo>
                          <a:lnTo>
                            <a:pt x="226" y="128"/>
                          </a:lnTo>
                          <a:lnTo>
                            <a:pt x="204" y="115"/>
                          </a:lnTo>
                          <a:lnTo>
                            <a:pt x="173" y="94"/>
                          </a:lnTo>
                          <a:lnTo>
                            <a:pt x="142" y="67"/>
                          </a:lnTo>
                          <a:lnTo>
                            <a:pt x="106" y="30"/>
                          </a:lnTo>
                          <a:lnTo>
                            <a:pt x="67" y="13"/>
                          </a:lnTo>
                          <a:lnTo>
                            <a:pt x="26" y="3"/>
                          </a:lnTo>
                          <a:lnTo>
                            <a:pt x="0" y="0"/>
                          </a:lnTo>
                          <a:close/>
                        </a:path>
                      </a:pathLst>
                    </a:custGeom>
                    <a:solidFill>
                      <a:srgbClr val="c0c0c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662" name=""/>
                    <p:cNvSpPr/>
                    <p:nvPr/>
                  </p:nvSpPr>
                  <p:spPr>
                    <a:xfrm>
                      <a:off x="8413920" y="4138560"/>
                      <a:ext cx="73440" cy="73440"/>
                    </a:xfrm>
                    <a:custGeom>
                      <a:avLst/>
                      <a:gdLst/>
                      <a:ahLst/>
                      <a:rect l="0" t="0" r="r" b="b"/>
                      <a:pathLst>
                        <a:path w="204" h="204">
                          <a:moveTo>
                            <a:pt x="35" y="0"/>
                          </a:moveTo>
                          <a:lnTo>
                            <a:pt x="8" y="3"/>
                          </a:lnTo>
                          <a:lnTo>
                            <a:pt x="0" y="23"/>
                          </a:lnTo>
                          <a:lnTo>
                            <a:pt x="0" y="40"/>
                          </a:lnTo>
                          <a:lnTo>
                            <a:pt x="17" y="61"/>
                          </a:lnTo>
                          <a:lnTo>
                            <a:pt x="39" y="68"/>
                          </a:lnTo>
                          <a:lnTo>
                            <a:pt x="89" y="92"/>
                          </a:lnTo>
                          <a:lnTo>
                            <a:pt x="128" y="115"/>
                          </a:lnTo>
                          <a:lnTo>
                            <a:pt x="160" y="154"/>
                          </a:lnTo>
                          <a:lnTo>
                            <a:pt x="191" y="191"/>
                          </a:lnTo>
                          <a:lnTo>
                            <a:pt x="204" y="204"/>
                          </a:lnTo>
                          <a:lnTo>
                            <a:pt x="191" y="160"/>
                          </a:lnTo>
                          <a:lnTo>
                            <a:pt x="187" y="119"/>
                          </a:lnTo>
                          <a:lnTo>
                            <a:pt x="169" y="82"/>
                          </a:lnTo>
                          <a:lnTo>
                            <a:pt x="142" y="50"/>
                          </a:lnTo>
                          <a:lnTo>
                            <a:pt x="67" y="6"/>
                          </a:lnTo>
                          <a:lnTo>
                            <a:pt x="35" y="0"/>
                          </a:lnTo>
                          <a:close/>
                        </a:path>
                      </a:pathLst>
                    </a:custGeom>
                    <a:solidFill>
                      <a:srgbClr val="c0c0c0"/>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663" name=""/>
                    <p:cNvSpPr/>
                    <p:nvPr/>
                  </p:nvSpPr>
                  <p:spPr>
                    <a:xfrm>
                      <a:off x="8402760" y="4059360"/>
                      <a:ext cx="78120" cy="39960"/>
                    </a:xfrm>
                    <a:custGeom>
                      <a:avLst/>
                      <a:gdLst/>
                      <a:ahLst/>
                      <a:rect l="0" t="0" r="r" b="b"/>
                      <a:pathLst>
                        <a:path w="217" h="111">
                          <a:moveTo>
                            <a:pt x="0" y="111"/>
                          </a:moveTo>
                          <a:lnTo>
                            <a:pt x="35" y="87"/>
                          </a:lnTo>
                          <a:lnTo>
                            <a:pt x="97" y="71"/>
                          </a:lnTo>
                          <a:lnTo>
                            <a:pt x="137" y="61"/>
                          </a:lnTo>
                          <a:lnTo>
                            <a:pt x="217" y="0"/>
                          </a:lnTo>
                          <a:lnTo>
                            <a:pt x="155" y="23"/>
                          </a:lnTo>
                          <a:lnTo>
                            <a:pt x="105" y="40"/>
                          </a:lnTo>
                          <a:lnTo>
                            <a:pt x="66" y="53"/>
                          </a:lnTo>
                          <a:lnTo>
                            <a:pt x="48" y="71"/>
                          </a:lnTo>
                          <a:lnTo>
                            <a:pt x="0" y="111"/>
                          </a:lnTo>
                          <a:close/>
                        </a:path>
                      </a:pathLst>
                    </a:custGeom>
                    <a:solidFill>
                      <a:srgbClr val="e0e0e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664" name=""/>
                    <p:cNvSpPr/>
                    <p:nvPr/>
                  </p:nvSpPr>
                  <p:spPr>
                    <a:xfrm>
                      <a:off x="8332920" y="4145040"/>
                      <a:ext cx="39960" cy="114840"/>
                    </a:xfrm>
                    <a:custGeom>
                      <a:avLst/>
                      <a:gdLst/>
                      <a:ahLst/>
                      <a:rect l="0" t="0" r="r" b="b"/>
                      <a:pathLst>
                        <a:path w="111" h="319">
                          <a:moveTo>
                            <a:pt x="0" y="319"/>
                          </a:moveTo>
                          <a:lnTo>
                            <a:pt x="52" y="319"/>
                          </a:lnTo>
                          <a:lnTo>
                            <a:pt x="75" y="316"/>
                          </a:lnTo>
                          <a:lnTo>
                            <a:pt x="75" y="302"/>
                          </a:lnTo>
                          <a:lnTo>
                            <a:pt x="84" y="292"/>
                          </a:lnTo>
                          <a:lnTo>
                            <a:pt x="102" y="278"/>
                          </a:lnTo>
                          <a:lnTo>
                            <a:pt x="93" y="268"/>
                          </a:lnTo>
                          <a:lnTo>
                            <a:pt x="93" y="255"/>
                          </a:lnTo>
                          <a:lnTo>
                            <a:pt x="106" y="234"/>
                          </a:lnTo>
                          <a:lnTo>
                            <a:pt x="106" y="213"/>
                          </a:lnTo>
                          <a:lnTo>
                            <a:pt x="102" y="190"/>
                          </a:lnTo>
                          <a:lnTo>
                            <a:pt x="102" y="139"/>
                          </a:lnTo>
                          <a:lnTo>
                            <a:pt x="111" y="95"/>
                          </a:lnTo>
                          <a:lnTo>
                            <a:pt x="106" y="60"/>
                          </a:lnTo>
                          <a:lnTo>
                            <a:pt x="106" y="0"/>
                          </a:lnTo>
                          <a:lnTo>
                            <a:pt x="75" y="88"/>
                          </a:lnTo>
                          <a:lnTo>
                            <a:pt x="44" y="173"/>
                          </a:lnTo>
                          <a:lnTo>
                            <a:pt x="22" y="262"/>
                          </a:lnTo>
                          <a:lnTo>
                            <a:pt x="0" y="31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5" name=""/>
                    <p:cNvSpPr/>
                    <p:nvPr/>
                  </p:nvSpPr>
                  <p:spPr>
                    <a:xfrm>
                      <a:off x="8405640" y="4273560"/>
                      <a:ext cx="79560" cy="25920"/>
                    </a:xfrm>
                    <a:custGeom>
                      <a:avLst/>
                      <a:gdLst/>
                      <a:ahLst/>
                      <a:rect l="0" t="0" r="r" b="b"/>
                      <a:pathLst>
                        <a:path w="221" h="72">
                          <a:moveTo>
                            <a:pt x="177" y="36"/>
                          </a:moveTo>
                          <a:lnTo>
                            <a:pt x="124" y="13"/>
                          </a:lnTo>
                          <a:lnTo>
                            <a:pt x="83" y="4"/>
                          </a:lnTo>
                          <a:lnTo>
                            <a:pt x="26" y="0"/>
                          </a:lnTo>
                          <a:lnTo>
                            <a:pt x="0" y="4"/>
                          </a:lnTo>
                          <a:lnTo>
                            <a:pt x="8" y="27"/>
                          </a:lnTo>
                          <a:lnTo>
                            <a:pt x="35" y="45"/>
                          </a:lnTo>
                          <a:lnTo>
                            <a:pt x="83" y="59"/>
                          </a:lnTo>
                          <a:lnTo>
                            <a:pt x="168" y="72"/>
                          </a:lnTo>
                          <a:lnTo>
                            <a:pt x="221" y="68"/>
                          </a:lnTo>
                          <a:lnTo>
                            <a:pt x="177" y="36"/>
                          </a:lnTo>
                          <a:close/>
                        </a:path>
                      </a:pathLst>
                    </a:custGeom>
                    <a:solidFill>
                      <a:srgbClr val="c0c0c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66" name=""/>
                    <p:cNvSpPr/>
                    <p:nvPr/>
                  </p:nvSpPr>
                  <p:spPr>
                    <a:xfrm>
                      <a:off x="8335800" y="4287960"/>
                      <a:ext cx="43200" cy="41760"/>
                    </a:xfrm>
                    <a:custGeom>
                      <a:avLst/>
                      <a:gdLst/>
                      <a:ahLst/>
                      <a:rect l="0" t="0" r="r" b="b"/>
                      <a:pathLst>
                        <a:path w="120" h="116">
                          <a:moveTo>
                            <a:pt x="48" y="30"/>
                          </a:moveTo>
                          <a:lnTo>
                            <a:pt x="35" y="6"/>
                          </a:lnTo>
                          <a:lnTo>
                            <a:pt x="13" y="0"/>
                          </a:lnTo>
                          <a:lnTo>
                            <a:pt x="0" y="3"/>
                          </a:lnTo>
                          <a:lnTo>
                            <a:pt x="0" y="16"/>
                          </a:lnTo>
                          <a:lnTo>
                            <a:pt x="4" y="37"/>
                          </a:lnTo>
                          <a:lnTo>
                            <a:pt x="26" y="63"/>
                          </a:lnTo>
                          <a:lnTo>
                            <a:pt x="48" y="76"/>
                          </a:lnTo>
                          <a:lnTo>
                            <a:pt x="75" y="100"/>
                          </a:lnTo>
                          <a:lnTo>
                            <a:pt x="120" y="116"/>
                          </a:lnTo>
                          <a:lnTo>
                            <a:pt x="80" y="79"/>
                          </a:lnTo>
                          <a:lnTo>
                            <a:pt x="67" y="56"/>
                          </a:lnTo>
                          <a:lnTo>
                            <a:pt x="48" y="30"/>
                          </a:lnTo>
                          <a:close/>
                        </a:path>
                      </a:pathLst>
                    </a:custGeom>
                    <a:solidFill>
                      <a:srgbClr val="c0c0c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667" name=""/>
                    <p:cNvSpPr/>
                    <p:nvPr/>
                  </p:nvSpPr>
                  <p:spPr>
                    <a:xfrm>
                      <a:off x="8423280" y="4019400"/>
                      <a:ext cx="119520" cy="54360"/>
                    </a:xfrm>
                    <a:custGeom>
                      <a:avLst/>
                      <a:gdLst/>
                      <a:ahLst/>
                      <a:rect l="0" t="0" r="r" b="b"/>
                      <a:pathLst>
                        <a:path w="332" h="151">
                          <a:moveTo>
                            <a:pt x="0" y="151"/>
                          </a:moveTo>
                          <a:lnTo>
                            <a:pt x="13" y="89"/>
                          </a:lnTo>
                          <a:lnTo>
                            <a:pt x="79" y="69"/>
                          </a:lnTo>
                          <a:lnTo>
                            <a:pt x="172" y="41"/>
                          </a:lnTo>
                          <a:lnTo>
                            <a:pt x="239" y="20"/>
                          </a:lnTo>
                          <a:lnTo>
                            <a:pt x="306" y="0"/>
                          </a:lnTo>
                          <a:lnTo>
                            <a:pt x="332" y="45"/>
                          </a:lnTo>
                          <a:lnTo>
                            <a:pt x="266" y="69"/>
                          </a:lnTo>
                          <a:lnTo>
                            <a:pt x="195" y="86"/>
                          </a:lnTo>
                          <a:lnTo>
                            <a:pt x="142" y="99"/>
                          </a:lnTo>
                          <a:lnTo>
                            <a:pt x="74" y="124"/>
                          </a:lnTo>
                          <a:lnTo>
                            <a:pt x="0" y="151"/>
                          </a:lnTo>
                          <a:close/>
                        </a:path>
                      </a:pathLst>
                    </a:custGeom>
                    <a:solidFill>
                      <a:srgbClr val="e0e0e0"/>
                    </a:solidFill>
                    <a:ln w="0">
                      <a:noFill/>
                    </a:ln>
                  </p:spPr>
                  <p:txBody>
                    <a:bodyPr lIns="90000" rIns="90000" tIns="9360" bIns="9360" anchor="t">
                      <a:noAutofit/>
                    </a:bodyPr>
                    <a:p>
                      <a:endParaRPr b="0" lang="en-US" sz="1800" spc="-1" strike="noStrike">
                        <a:solidFill>
                          <a:srgbClr val="000000"/>
                        </a:solidFill>
                        <a:latin typeface="Arial"/>
                      </a:endParaRPr>
                    </a:p>
                  </p:txBody>
                </p:sp>
              </p:grpSp>
            </p:grpSp>
            <p:grpSp>
              <p:nvGrpSpPr>
                <p:cNvPr id="668" name=""/>
                <p:cNvGrpSpPr/>
                <p:nvPr/>
              </p:nvGrpSpPr>
              <p:grpSpPr>
                <a:xfrm>
                  <a:off x="8429760" y="4305240"/>
                  <a:ext cx="267120" cy="276480"/>
                  <a:chOff x="8429760" y="4305240"/>
                  <a:chExt cx="267120" cy="276480"/>
                </a:xfrm>
              </p:grpSpPr>
              <p:sp>
                <p:nvSpPr>
                  <p:cNvPr id="669" name=""/>
                  <p:cNvSpPr/>
                  <p:nvPr/>
                </p:nvSpPr>
                <p:spPr>
                  <a:xfrm>
                    <a:off x="8429760" y="4305240"/>
                    <a:ext cx="267120" cy="276480"/>
                  </a:xfrm>
                  <a:custGeom>
                    <a:avLst/>
                    <a:gdLst/>
                    <a:ahLst/>
                    <a:rect l="0" t="0" r="r" b="b"/>
                    <a:pathLst>
                      <a:path w="742" h="768">
                        <a:moveTo>
                          <a:pt x="331" y="114"/>
                        </a:moveTo>
                        <a:lnTo>
                          <a:pt x="468" y="104"/>
                        </a:lnTo>
                        <a:lnTo>
                          <a:pt x="547" y="87"/>
                        </a:lnTo>
                        <a:lnTo>
                          <a:pt x="575" y="60"/>
                        </a:lnTo>
                        <a:lnTo>
                          <a:pt x="575" y="33"/>
                        </a:lnTo>
                        <a:lnTo>
                          <a:pt x="597" y="13"/>
                        </a:lnTo>
                        <a:lnTo>
                          <a:pt x="672" y="0"/>
                        </a:lnTo>
                        <a:lnTo>
                          <a:pt x="742" y="6"/>
                        </a:lnTo>
                        <a:lnTo>
                          <a:pt x="654" y="595"/>
                        </a:lnTo>
                        <a:lnTo>
                          <a:pt x="597" y="649"/>
                        </a:lnTo>
                        <a:lnTo>
                          <a:pt x="521" y="704"/>
                        </a:lnTo>
                        <a:lnTo>
                          <a:pt x="415" y="744"/>
                        </a:lnTo>
                        <a:lnTo>
                          <a:pt x="287" y="758"/>
                        </a:lnTo>
                        <a:lnTo>
                          <a:pt x="119" y="768"/>
                        </a:lnTo>
                        <a:lnTo>
                          <a:pt x="22" y="754"/>
                        </a:lnTo>
                        <a:lnTo>
                          <a:pt x="0" y="714"/>
                        </a:lnTo>
                        <a:lnTo>
                          <a:pt x="13" y="660"/>
                        </a:lnTo>
                        <a:lnTo>
                          <a:pt x="79" y="494"/>
                        </a:lnTo>
                        <a:lnTo>
                          <a:pt x="141" y="327"/>
                        </a:lnTo>
                        <a:lnTo>
                          <a:pt x="167" y="202"/>
                        </a:lnTo>
                        <a:lnTo>
                          <a:pt x="167" y="169"/>
                        </a:lnTo>
                        <a:lnTo>
                          <a:pt x="203" y="125"/>
                        </a:lnTo>
                        <a:lnTo>
                          <a:pt x="252" y="114"/>
                        </a:lnTo>
                        <a:lnTo>
                          <a:pt x="331" y="114"/>
                        </a:lnTo>
                        <a:close/>
                      </a:path>
                    </a:pathLst>
                  </a:custGeom>
                  <a:solidFill>
                    <a:srgbClr val="404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8464680" y="4319640"/>
                    <a:ext cx="217800" cy="244800"/>
                  </a:xfrm>
                  <a:custGeom>
                    <a:avLst/>
                    <a:gdLst/>
                    <a:ahLst/>
                    <a:rect l="0" t="0" r="r" b="b"/>
                    <a:pathLst>
                      <a:path w="605" h="680">
                        <a:moveTo>
                          <a:pt x="202" y="135"/>
                        </a:moveTo>
                        <a:lnTo>
                          <a:pt x="322" y="131"/>
                        </a:lnTo>
                        <a:lnTo>
                          <a:pt x="437" y="114"/>
                        </a:lnTo>
                        <a:lnTo>
                          <a:pt x="508" y="87"/>
                        </a:lnTo>
                        <a:lnTo>
                          <a:pt x="552" y="64"/>
                        </a:lnTo>
                        <a:lnTo>
                          <a:pt x="605" y="0"/>
                        </a:lnTo>
                        <a:lnTo>
                          <a:pt x="525" y="524"/>
                        </a:lnTo>
                        <a:lnTo>
                          <a:pt x="477" y="571"/>
                        </a:lnTo>
                        <a:lnTo>
                          <a:pt x="415" y="615"/>
                        </a:lnTo>
                        <a:lnTo>
                          <a:pt x="344" y="646"/>
                        </a:lnTo>
                        <a:lnTo>
                          <a:pt x="282" y="663"/>
                        </a:lnTo>
                        <a:lnTo>
                          <a:pt x="202" y="669"/>
                        </a:lnTo>
                        <a:lnTo>
                          <a:pt x="136" y="680"/>
                        </a:lnTo>
                        <a:lnTo>
                          <a:pt x="52" y="680"/>
                        </a:lnTo>
                        <a:lnTo>
                          <a:pt x="17" y="669"/>
                        </a:lnTo>
                        <a:lnTo>
                          <a:pt x="0" y="646"/>
                        </a:lnTo>
                        <a:lnTo>
                          <a:pt x="8" y="609"/>
                        </a:lnTo>
                        <a:lnTo>
                          <a:pt x="57" y="517"/>
                        </a:lnTo>
                        <a:lnTo>
                          <a:pt x="145" y="206"/>
                        </a:lnTo>
                        <a:lnTo>
                          <a:pt x="163" y="158"/>
                        </a:lnTo>
                        <a:lnTo>
                          <a:pt x="202" y="135"/>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sp>
          <p:nvSpPr>
            <p:cNvPr id="671" name=""/>
            <p:cNvSpPr txBox="1"/>
            <p:nvPr/>
          </p:nvSpPr>
          <p:spPr>
            <a:xfrm>
              <a:off x="6918480" y="4371840"/>
              <a:ext cx="925560" cy="51768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Arial"/>
                  <a:ea typeface="Arial"/>
                </a:rPr>
                <a:t>Decision</a:t>
              </a:r>
              <a:br>
                <a:rPr sz="1400"/>
              </a:br>
              <a:r>
                <a:rPr b="1" lang="en-US" sz="1400" spc="-1" strike="noStrike">
                  <a:solidFill>
                    <a:srgbClr val="ffffff"/>
                  </a:solidFill>
                  <a:latin typeface="Arial"/>
                  <a:ea typeface="Arial"/>
                </a:rPr>
                <a:t>Support</a:t>
              </a:r>
              <a:endParaRPr b="0" lang="en-US" sz="1400" spc="-1" strike="noStrike">
                <a:solidFill>
                  <a:srgbClr val="000000"/>
                </a:solidFill>
                <a:latin typeface="Arial"/>
              </a:endParaRPr>
            </a:p>
          </p:txBody>
        </p:sp>
      </p:grpSp>
      <p:grpSp>
        <p:nvGrpSpPr>
          <p:cNvPr id="672" name=""/>
          <p:cNvGrpSpPr/>
          <p:nvPr/>
        </p:nvGrpSpPr>
        <p:grpSpPr>
          <a:xfrm>
            <a:off x="3981600" y="4110120"/>
            <a:ext cx="1159200" cy="380880"/>
            <a:chOff x="3981600" y="4110120"/>
            <a:chExt cx="1159200" cy="380880"/>
          </a:xfrm>
        </p:grpSpPr>
        <p:sp>
          <p:nvSpPr>
            <p:cNvPr id="673" name=""/>
            <p:cNvSpPr/>
            <p:nvPr/>
          </p:nvSpPr>
          <p:spPr>
            <a:xfrm>
              <a:off x="3997440" y="4110120"/>
              <a:ext cx="1143360" cy="370080"/>
            </a:xfrm>
            <a:custGeom>
              <a:avLst/>
              <a:gdLst/>
              <a:ahLst/>
              <a:rect l="0" t="0" r="r" b="b"/>
              <a:pathLst>
                <a:path fill="none" w="3176" h="1028">
                  <a:moveTo>
                    <a:pt x="3176" y="342"/>
                  </a:moveTo>
                  <a:lnTo>
                    <a:pt x="3176" y="685"/>
                  </a:lnTo>
                  <a:lnTo>
                    <a:pt x="952" y="685"/>
                  </a:lnTo>
                  <a:lnTo>
                    <a:pt x="952" y="1028"/>
                  </a:lnTo>
                  <a:lnTo>
                    <a:pt x="0" y="513"/>
                  </a:lnTo>
                  <a:lnTo>
                    <a:pt x="952" y="0"/>
                  </a:lnTo>
                  <a:lnTo>
                    <a:pt x="952" y="342"/>
                  </a:lnTo>
                  <a:lnTo>
                    <a:pt x="3176" y="34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4" name=""/>
            <p:cNvSpPr txBox="1"/>
            <p:nvPr/>
          </p:nvSpPr>
          <p:spPr>
            <a:xfrm>
              <a:off x="3981600" y="4186080"/>
              <a:ext cx="98424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ogMiner</a:t>
              </a:r>
              <a:endParaRPr b="0" lang="en-US" sz="1400" spc="-1" strike="noStrike">
                <a:solidFill>
                  <a:srgbClr val="000000"/>
                </a:solidFill>
                <a:latin typeface="Arial"/>
              </a:endParaRPr>
            </a:p>
          </p:txBody>
        </p:sp>
      </p:grpSp>
      <p:grpSp>
        <p:nvGrpSpPr>
          <p:cNvPr id="675" name=""/>
          <p:cNvGrpSpPr/>
          <p:nvPr/>
        </p:nvGrpSpPr>
        <p:grpSpPr>
          <a:xfrm>
            <a:off x="5184720" y="5065560"/>
            <a:ext cx="3512160" cy="997200"/>
            <a:chOff x="5184720" y="5065560"/>
            <a:chExt cx="3512160" cy="997200"/>
          </a:xfrm>
        </p:grpSpPr>
        <p:grpSp>
          <p:nvGrpSpPr>
            <p:cNvPr id="676" name=""/>
            <p:cNvGrpSpPr/>
            <p:nvPr/>
          </p:nvGrpSpPr>
          <p:grpSpPr>
            <a:xfrm>
              <a:off x="5184720" y="5081760"/>
              <a:ext cx="1393920" cy="981000"/>
              <a:chOff x="5184720" y="5081760"/>
              <a:chExt cx="1393920" cy="981000"/>
            </a:xfrm>
          </p:grpSpPr>
          <p:sp>
            <p:nvSpPr>
              <p:cNvPr id="677" name=""/>
              <p:cNvSpPr/>
              <p:nvPr/>
            </p:nvSpPr>
            <p:spPr>
              <a:xfrm>
                <a:off x="5184720" y="5221440"/>
                <a:ext cx="1393920" cy="701640"/>
              </a:xfrm>
              <a:prstGeom prst="rect">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8" name=""/>
              <p:cNvSpPr/>
              <p:nvPr/>
            </p:nvSpPr>
            <p:spPr>
              <a:xfrm>
                <a:off x="5184720" y="5783400"/>
                <a:ext cx="1393920" cy="27936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a:off x="5184720" y="5081760"/>
                <a:ext cx="1393920" cy="28116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80" name=""/>
            <p:cNvGrpSpPr/>
            <p:nvPr/>
          </p:nvGrpSpPr>
          <p:grpSpPr>
            <a:xfrm>
              <a:off x="5416560" y="5121360"/>
              <a:ext cx="974880" cy="777960"/>
              <a:chOff x="5416560" y="5121360"/>
              <a:chExt cx="974880" cy="777960"/>
            </a:xfrm>
          </p:grpSpPr>
          <p:sp>
            <p:nvSpPr>
              <p:cNvPr id="681" name=""/>
              <p:cNvSpPr txBox="1"/>
              <p:nvPr/>
            </p:nvSpPr>
            <p:spPr>
              <a:xfrm>
                <a:off x="5416560" y="5381640"/>
                <a:ext cx="974880" cy="517680"/>
              </a:xfrm>
              <a:prstGeom prst="rect">
                <a:avLst/>
              </a:prstGeom>
              <a:noFill/>
              <a:ln w="0">
                <a:noFill/>
              </a:ln>
            </p:spPr>
            <p:txBody>
              <a:bodyPr lIns="0" rIns="0" tIns="0" bIns="0" anchor="t">
                <a:noAutofit/>
              </a:bodyPr>
              <a:p>
                <a:pPr algn="ctr">
                  <a:lnSpc>
                    <a:spcPct val="100000"/>
                  </a:lnSpc>
                </a:pPr>
                <a:r>
                  <a:rPr b="1" lang="en-US" sz="1400" spc="-1" strike="noStrike">
                    <a:solidFill>
                      <a:srgbClr val="fc0128"/>
                    </a:solidFill>
                    <a:latin typeface="Arial"/>
                    <a:ea typeface="Arial"/>
                  </a:rPr>
                  <a:t>Web App</a:t>
                </a:r>
                <a:br>
                  <a:rPr sz="1400"/>
                </a:br>
                <a:r>
                  <a:rPr b="1" lang="en-US" sz="1400" spc="-1" strike="noStrike">
                    <a:solidFill>
                      <a:srgbClr val="fc0128"/>
                    </a:solidFill>
                    <a:latin typeface="Arial"/>
                    <a:ea typeface="Arial"/>
                  </a:rPr>
                  <a:t>Database</a:t>
                </a:r>
                <a:endParaRPr b="0" lang="en-US" sz="1400" spc="-1" strike="noStrike">
                  <a:solidFill>
                    <a:srgbClr val="000000"/>
                  </a:solidFill>
                  <a:latin typeface="Arial"/>
                </a:endParaRPr>
              </a:p>
            </p:txBody>
          </p:sp>
          <p:sp>
            <p:nvSpPr>
              <p:cNvPr id="682" name=""/>
              <p:cNvSpPr txBox="1"/>
              <p:nvPr/>
            </p:nvSpPr>
            <p:spPr>
              <a:xfrm>
                <a:off x="5459400" y="5121360"/>
                <a:ext cx="885960" cy="304920"/>
              </a:xfrm>
              <a:prstGeom prst="rect">
                <a:avLst/>
              </a:prstGeom>
              <a:noFill/>
              <a:ln w="0">
                <a:noFill/>
              </a:ln>
            </p:spPr>
            <p:txBody>
              <a:bodyPr lIns="0" rIns="0" tIns="0" bIns="0" anchor="t">
                <a:noAutofit/>
              </a:bodyPr>
              <a:p>
                <a:pPr algn="ctr">
                  <a:lnSpc>
                    <a:spcPct val="100000"/>
                  </a:lnSpc>
                </a:pPr>
                <a:r>
                  <a:rPr b="1" lang="en-US" sz="1400" spc="-1" strike="noStrike">
                    <a:solidFill>
                      <a:srgbClr val="fc0128"/>
                    </a:solidFill>
                    <a:latin typeface="Arial"/>
                    <a:ea typeface="Arial"/>
                  </a:rPr>
                  <a:t>Oracle8</a:t>
                </a:r>
                <a:r>
                  <a:rPr b="1" i="1" lang="en-US" sz="1400" spc="-1" strike="noStrike">
                    <a:solidFill>
                      <a:srgbClr val="fc0128"/>
                    </a:solidFill>
                    <a:latin typeface="Arial"/>
                    <a:ea typeface="Arial"/>
                  </a:rPr>
                  <a:t>i</a:t>
                </a:r>
                <a:endParaRPr b="0" lang="en-US" sz="1400" spc="-1" strike="noStrike">
                  <a:solidFill>
                    <a:srgbClr val="000000"/>
                  </a:solidFill>
                  <a:latin typeface="Arial"/>
                </a:endParaRPr>
              </a:p>
            </p:txBody>
          </p:sp>
        </p:grpSp>
        <p:grpSp>
          <p:nvGrpSpPr>
            <p:cNvPr id="683" name=""/>
            <p:cNvGrpSpPr/>
            <p:nvPr/>
          </p:nvGrpSpPr>
          <p:grpSpPr>
            <a:xfrm>
              <a:off x="6746760" y="5065560"/>
              <a:ext cx="1950120" cy="783000"/>
              <a:chOff x="6746760" y="5065560"/>
              <a:chExt cx="1950120" cy="783000"/>
            </a:xfrm>
          </p:grpSpPr>
          <p:sp>
            <p:nvSpPr>
              <p:cNvPr id="684" name=""/>
              <p:cNvSpPr/>
              <p:nvPr/>
            </p:nvSpPr>
            <p:spPr>
              <a:xfrm>
                <a:off x="6746760" y="5334120"/>
                <a:ext cx="560880" cy="267120"/>
              </a:xfrm>
              <a:custGeom>
                <a:avLst/>
                <a:gdLst/>
                <a:ahLst/>
                <a:rect l="0" t="0" r="r" b="b"/>
                <a:pathLst>
                  <a:path fill="none" w="1558" h="742">
                    <a:moveTo>
                      <a:pt x="0" y="247"/>
                    </a:moveTo>
                    <a:lnTo>
                      <a:pt x="0" y="494"/>
                    </a:lnTo>
                    <a:lnTo>
                      <a:pt x="1090" y="494"/>
                    </a:lnTo>
                    <a:lnTo>
                      <a:pt x="1090" y="742"/>
                    </a:lnTo>
                    <a:lnTo>
                      <a:pt x="1558" y="371"/>
                    </a:lnTo>
                    <a:lnTo>
                      <a:pt x="1090" y="0"/>
                    </a:lnTo>
                    <a:lnTo>
                      <a:pt x="1090" y="247"/>
                    </a:lnTo>
                    <a:lnTo>
                      <a:pt x="0" y="2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85" name=""/>
              <p:cNvGrpSpPr/>
              <p:nvPr/>
            </p:nvGrpSpPr>
            <p:grpSpPr>
              <a:xfrm>
                <a:off x="7473960" y="5065560"/>
                <a:ext cx="1222920" cy="783000"/>
                <a:chOff x="7473960" y="5065560"/>
                <a:chExt cx="1222920" cy="783000"/>
              </a:xfrm>
            </p:grpSpPr>
            <p:grpSp>
              <p:nvGrpSpPr>
                <p:cNvPr id="686" name=""/>
                <p:cNvGrpSpPr/>
                <p:nvPr/>
              </p:nvGrpSpPr>
              <p:grpSpPr>
                <a:xfrm>
                  <a:off x="7473960" y="5126040"/>
                  <a:ext cx="824040" cy="443160"/>
                  <a:chOff x="7473960" y="5126040"/>
                  <a:chExt cx="824040" cy="443160"/>
                </a:xfrm>
              </p:grpSpPr>
              <p:grpSp>
                <p:nvGrpSpPr>
                  <p:cNvPr id="687" name=""/>
                  <p:cNvGrpSpPr/>
                  <p:nvPr/>
                </p:nvGrpSpPr>
                <p:grpSpPr>
                  <a:xfrm>
                    <a:off x="7473960" y="5126040"/>
                    <a:ext cx="636840" cy="400680"/>
                    <a:chOff x="7473960" y="5126040"/>
                    <a:chExt cx="636840" cy="400680"/>
                  </a:xfrm>
                </p:grpSpPr>
                <p:grpSp>
                  <p:nvGrpSpPr>
                    <p:cNvPr id="688" name=""/>
                    <p:cNvGrpSpPr/>
                    <p:nvPr/>
                  </p:nvGrpSpPr>
                  <p:grpSpPr>
                    <a:xfrm>
                      <a:off x="7473960" y="5126040"/>
                      <a:ext cx="636840" cy="400680"/>
                      <a:chOff x="7473960" y="5126040"/>
                      <a:chExt cx="636840" cy="400680"/>
                    </a:xfrm>
                  </p:grpSpPr>
                  <p:grpSp>
                    <p:nvGrpSpPr>
                      <p:cNvPr id="689" name=""/>
                      <p:cNvGrpSpPr/>
                      <p:nvPr/>
                    </p:nvGrpSpPr>
                    <p:grpSpPr>
                      <a:xfrm>
                        <a:off x="7473960" y="5351400"/>
                        <a:ext cx="636840" cy="175320"/>
                        <a:chOff x="7473960" y="5351400"/>
                        <a:chExt cx="636840" cy="175320"/>
                      </a:xfrm>
                    </p:grpSpPr>
                    <p:sp>
                      <p:nvSpPr>
                        <p:cNvPr id="690" name=""/>
                        <p:cNvSpPr/>
                        <p:nvPr/>
                      </p:nvSpPr>
                      <p:spPr>
                        <a:xfrm>
                          <a:off x="7745400" y="5353200"/>
                          <a:ext cx="365400" cy="173520"/>
                        </a:xfrm>
                        <a:custGeom>
                          <a:avLst/>
                          <a:gdLst/>
                          <a:ahLst/>
                          <a:rect l="0" t="0" r="r" b="b"/>
                          <a:pathLst>
                            <a:path w="1015" h="482">
                              <a:moveTo>
                                <a:pt x="0" y="145"/>
                              </a:moveTo>
                              <a:lnTo>
                                <a:pt x="0" y="482"/>
                              </a:lnTo>
                              <a:lnTo>
                                <a:pt x="1015" y="232"/>
                              </a:lnTo>
                              <a:lnTo>
                                <a:pt x="1015" y="0"/>
                              </a:lnTo>
                              <a:lnTo>
                                <a:pt x="0" y="145"/>
                              </a:lnTo>
                              <a:close/>
                            </a:path>
                          </a:pathLst>
                        </a:custGeom>
                        <a:solidFill>
                          <a:srgbClr val="a0a0a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1" name=""/>
                        <p:cNvSpPr/>
                        <p:nvPr/>
                      </p:nvSpPr>
                      <p:spPr>
                        <a:xfrm>
                          <a:off x="7473960" y="5394240"/>
                          <a:ext cx="271800" cy="132120"/>
                        </a:xfrm>
                        <a:custGeom>
                          <a:avLst/>
                          <a:gdLst/>
                          <a:ahLst/>
                          <a:rect l="0" t="0" r="r" b="b"/>
                          <a:pathLst>
                            <a:path w="755" h="367">
                              <a:moveTo>
                                <a:pt x="755" y="30"/>
                              </a:moveTo>
                              <a:lnTo>
                                <a:pt x="755" y="367"/>
                              </a:lnTo>
                              <a:lnTo>
                                <a:pt x="0" y="283"/>
                              </a:lnTo>
                              <a:lnTo>
                                <a:pt x="0" y="0"/>
                              </a:lnTo>
                              <a:lnTo>
                                <a:pt x="755" y="3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2" name=""/>
                        <p:cNvSpPr/>
                        <p:nvPr/>
                      </p:nvSpPr>
                      <p:spPr>
                        <a:xfrm>
                          <a:off x="7473960" y="5351400"/>
                          <a:ext cx="636840" cy="52920"/>
                        </a:xfrm>
                        <a:custGeom>
                          <a:avLst/>
                          <a:gdLst/>
                          <a:ahLst/>
                          <a:rect l="0" t="0" r="r" b="b"/>
                          <a:pathLst>
                            <a:path w="1769" h="147">
                              <a:moveTo>
                                <a:pt x="0" y="113"/>
                              </a:moveTo>
                              <a:lnTo>
                                <a:pt x="762" y="147"/>
                              </a:lnTo>
                              <a:lnTo>
                                <a:pt x="1769" y="0"/>
                              </a:lnTo>
                              <a:lnTo>
                                <a:pt x="1028" y="0"/>
                              </a:lnTo>
                              <a:lnTo>
                                <a:pt x="0" y="113"/>
                              </a:lnTo>
                              <a:close/>
                            </a:path>
                          </a:pathLst>
                        </a:custGeom>
                        <a:solidFill>
                          <a:srgbClr val="c0c0c0"/>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sp>
                    <p:nvSpPr>
                      <p:cNvPr id="693" name=""/>
                      <p:cNvSpPr/>
                      <p:nvPr/>
                    </p:nvSpPr>
                    <p:spPr>
                      <a:xfrm>
                        <a:off x="7683480" y="5337000"/>
                        <a:ext cx="230400" cy="51120"/>
                      </a:xfrm>
                      <a:custGeom>
                        <a:avLst/>
                        <a:gdLst/>
                        <a:ahLst/>
                        <a:rect l="0" t="0" r="r" b="b"/>
                        <a:pathLst>
                          <a:path w="640" h="142">
                            <a:moveTo>
                              <a:pt x="0" y="80"/>
                            </a:moveTo>
                            <a:lnTo>
                              <a:pt x="0" y="128"/>
                            </a:lnTo>
                            <a:lnTo>
                              <a:pt x="295" y="142"/>
                            </a:lnTo>
                            <a:lnTo>
                              <a:pt x="640" y="90"/>
                            </a:lnTo>
                            <a:lnTo>
                              <a:pt x="640" y="0"/>
                            </a:lnTo>
                            <a:lnTo>
                              <a:pt x="0" y="80"/>
                            </a:lnTo>
                            <a:close/>
                          </a:path>
                        </a:pathLst>
                      </a:custGeom>
                      <a:solidFill>
                        <a:srgbClr val="606060"/>
                      </a:solidFill>
                      <a:ln w="12600">
                        <a:solidFill>
                          <a:srgbClr val="000000"/>
                        </a:solidFill>
                        <a:round/>
                      </a:ln>
                    </p:spPr>
                    <p:txBody>
                      <a:bodyPr lIns="96120" rIns="96120" tIns="0" bIns="0" anchor="t">
                        <a:noAutofit/>
                      </a:bodyPr>
                      <a:p>
                        <a:endParaRPr b="0" lang="en-US" sz="1800" spc="-1" strike="noStrike">
                          <a:solidFill>
                            <a:srgbClr val="000000"/>
                          </a:solidFill>
                          <a:latin typeface="Arial"/>
                        </a:endParaRPr>
                      </a:p>
                    </p:txBody>
                  </p:sp>
                  <p:grpSp>
                    <p:nvGrpSpPr>
                      <p:cNvPr id="694" name=""/>
                      <p:cNvGrpSpPr/>
                      <p:nvPr/>
                    </p:nvGrpSpPr>
                    <p:grpSpPr>
                      <a:xfrm>
                        <a:off x="7523280" y="5126040"/>
                        <a:ext cx="514440" cy="249480"/>
                        <a:chOff x="7523280" y="5126040"/>
                        <a:chExt cx="514440" cy="249480"/>
                      </a:xfrm>
                    </p:grpSpPr>
                    <p:sp>
                      <p:nvSpPr>
                        <p:cNvPr id="695" name=""/>
                        <p:cNvSpPr/>
                        <p:nvPr/>
                      </p:nvSpPr>
                      <p:spPr>
                        <a:xfrm>
                          <a:off x="7742160" y="5126040"/>
                          <a:ext cx="295560" cy="243360"/>
                        </a:xfrm>
                        <a:custGeom>
                          <a:avLst/>
                          <a:gdLst/>
                          <a:ahLst/>
                          <a:rect l="0" t="0" r="r" b="b"/>
                          <a:pathLst>
                            <a:path w="821" h="676">
                              <a:moveTo>
                                <a:pt x="114" y="676"/>
                              </a:moveTo>
                              <a:lnTo>
                                <a:pt x="0" y="20"/>
                              </a:lnTo>
                              <a:lnTo>
                                <a:pt x="706" y="0"/>
                              </a:lnTo>
                              <a:lnTo>
                                <a:pt x="821" y="585"/>
                              </a:lnTo>
                              <a:lnTo>
                                <a:pt x="114" y="676"/>
                              </a:lnTo>
                              <a:close/>
                            </a:path>
                          </a:pathLst>
                        </a:custGeom>
                        <a:solidFill>
                          <a:srgbClr val="a0a0a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6" name=""/>
                        <p:cNvSpPr/>
                        <p:nvPr/>
                      </p:nvSpPr>
                      <p:spPr>
                        <a:xfrm>
                          <a:off x="7523280" y="5133960"/>
                          <a:ext cx="260640" cy="241560"/>
                        </a:xfrm>
                        <a:custGeom>
                          <a:avLst/>
                          <a:gdLst/>
                          <a:ahLst/>
                          <a:rect l="0" t="0" r="r" b="b"/>
                          <a:pathLst>
                            <a:path w="724" h="671">
                              <a:moveTo>
                                <a:pt x="609" y="0"/>
                              </a:moveTo>
                              <a:lnTo>
                                <a:pt x="0" y="148"/>
                              </a:lnTo>
                              <a:lnTo>
                                <a:pt x="88" y="671"/>
                              </a:lnTo>
                              <a:lnTo>
                                <a:pt x="724" y="654"/>
                              </a:lnTo>
                              <a:lnTo>
                                <a:pt x="609"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7791480" y="5148360"/>
                          <a:ext cx="213120" cy="184680"/>
                        </a:xfrm>
                        <a:custGeom>
                          <a:avLst/>
                          <a:gdLst/>
                          <a:ahLst/>
                          <a:rect l="0" t="0" r="r" b="b"/>
                          <a:pathLst>
                            <a:path w="592" h="513">
                              <a:moveTo>
                                <a:pt x="0" y="23"/>
                              </a:moveTo>
                              <a:lnTo>
                                <a:pt x="83" y="513"/>
                              </a:lnTo>
                              <a:lnTo>
                                <a:pt x="592" y="459"/>
                              </a:lnTo>
                              <a:lnTo>
                                <a:pt x="504" y="0"/>
                              </a:lnTo>
                              <a:lnTo>
                                <a:pt x="0" y="23"/>
                              </a:lnTo>
                              <a:close/>
                            </a:path>
                          </a:pathLst>
                        </a:custGeom>
                        <a:solidFill>
                          <a:srgbClr val="0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98" name=""/>
                    <p:cNvGrpSpPr/>
                    <p:nvPr/>
                  </p:nvGrpSpPr>
                  <p:grpSpPr>
                    <a:xfrm>
                      <a:off x="7877160" y="5370480"/>
                      <a:ext cx="211320" cy="114840"/>
                      <a:chOff x="7877160" y="5370480"/>
                      <a:chExt cx="211320" cy="114840"/>
                    </a:xfrm>
                  </p:grpSpPr>
                  <p:sp>
                    <p:nvSpPr>
                      <p:cNvPr id="699" name=""/>
                      <p:cNvSpPr/>
                      <p:nvPr/>
                    </p:nvSpPr>
                    <p:spPr>
                      <a:xfrm>
                        <a:off x="7877160" y="5370480"/>
                        <a:ext cx="209880" cy="114840"/>
                      </a:xfrm>
                      <a:custGeom>
                        <a:avLst/>
                        <a:gdLst/>
                        <a:ahLst/>
                        <a:rect l="0" t="0" r="r" b="b"/>
                        <a:pathLst>
                          <a:path w="583" h="319">
                            <a:moveTo>
                              <a:pt x="583" y="0"/>
                            </a:moveTo>
                            <a:lnTo>
                              <a:pt x="0" y="98"/>
                            </a:lnTo>
                            <a:lnTo>
                              <a:pt x="0" y="319"/>
                            </a:lnTo>
                            <a:lnTo>
                              <a:pt x="583" y="180"/>
                            </a:lnTo>
                            <a:lnTo>
                              <a:pt x="583" y="0"/>
                            </a:lnTo>
                            <a:close/>
                          </a:path>
                        </a:pathLst>
                      </a:custGeom>
                      <a:solidFill>
                        <a:srgbClr val="404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flipV="1">
                        <a:off x="8013600" y="5398920"/>
                        <a:ext cx="55800" cy="9720"/>
                      </a:xfrm>
                      <a:prstGeom prst="line">
                        <a:avLst/>
                      </a:prstGeom>
                      <a:ln w="12600">
                        <a:solidFill>
                          <a:srgbClr val="000000"/>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701" name=""/>
                      <p:cNvSpPr/>
                      <p:nvPr/>
                    </p:nvSpPr>
                    <p:spPr>
                      <a:xfrm flipH="1">
                        <a:off x="7912080" y="5413320"/>
                        <a:ext cx="73080" cy="12600"/>
                      </a:xfrm>
                      <a:prstGeom prst="line">
                        <a:avLst/>
                      </a:prstGeom>
                      <a:ln w="12600">
                        <a:solidFill>
                          <a:srgbClr val="000000"/>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702" name=""/>
                      <p:cNvSpPr/>
                      <p:nvPr/>
                    </p:nvSpPr>
                    <p:spPr>
                      <a:xfrm>
                        <a:off x="7997760" y="5383080"/>
                        <a:ext cx="0" cy="73080"/>
                      </a:xfrm>
                      <a:prstGeom prst="line">
                        <a:avLst/>
                      </a:prstGeom>
                      <a:ln w="12600">
                        <a:solidFill>
                          <a:srgbClr val="00000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703" name=""/>
                      <p:cNvSpPr/>
                      <p:nvPr/>
                    </p:nvSpPr>
                    <p:spPr>
                      <a:xfrm>
                        <a:off x="7897680" y="5400720"/>
                        <a:ext cx="0" cy="79200"/>
                      </a:xfrm>
                      <a:prstGeom prst="line">
                        <a:avLst/>
                      </a:prstGeom>
                      <a:ln w="12600">
                        <a:solidFill>
                          <a:srgbClr val="000000"/>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704" name=""/>
                      <p:cNvSpPr/>
                      <p:nvPr/>
                    </p:nvSpPr>
                    <p:spPr>
                      <a:xfrm flipH="1">
                        <a:off x="7897680" y="5397480"/>
                        <a:ext cx="18900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05" name=""/>
                      <p:cNvSpPr/>
                      <p:nvPr/>
                    </p:nvSpPr>
                    <p:spPr>
                      <a:xfrm flipV="1">
                        <a:off x="7897680" y="5389560"/>
                        <a:ext cx="19080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706" name=""/>
                  <p:cNvGrpSpPr/>
                  <p:nvPr/>
                </p:nvGrpSpPr>
                <p:grpSpPr>
                  <a:xfrm>
                    <a:off x="7800840" y="5373720"/>
                    <a:ext cx="497160" cy="195480"/>
                    <a:chOff x="7800840" y="5373720"/>
                    <a:chExt cx="497160" cy="195480"/>
                  </a:xfrm>
                </p:grpSpPr>
                <p:grpSp>
                  <p:nvGrpSpPr>
                    <p:cNvPr id="707" name=""/>
                    <p:cNvGrpSpPr/>
                    <p:nvPr/>
                  </p:nvGrpSpPr>
                  <p:grpSpPr>
                    <a:xfrm>
                      <a:off x="7831080" y="5479920"/>
                      <a:ext cx="82800" cy="45000"/>
                      <a:chOff x="7831080" y="5479920"/>
                      <a:chExt cx="82800" cy="45000"/>
                    </a:xfrm>
                  </p:grpSpPr>
                  <p:sp>
                    <p:nvSpPr>
                      <p:cNvPr id="708" name=""/>
                      <p:cNvSpPr/>
                      <p:nvPr/>
                    </p:nvSpPr>
                    <p:spPr>
                      <a:xfrm>
                        <a:off x="7831080" y="5479920"/>
                        <a:ext cx="25920" cy="44640"/>
                      </a:xfrm>
                      <a:custGeom>
                        <a:avLst/>
                        <a:gdLst/>
                        <a:ahLst/>
                        <a:rect l="0" t="0" r="r" b="b"/>
                        <a:pathLst>
                          <a:path w="72" h="124">
                            <a:moveTo>
                              <a:pt x="17" y="0"/>
                            </a:moveTo>
                            <a:lnTo>
                              <a:pt x="0" y="117"/>
                            </a:lnTo>
                            <a:lnTo>
                              <a:pt x="53" y="124"/>
                            </a:lnTo>
                            <a:lnTo>
                              <a:pt x="72" y="3"/>
                            </a:lnTo>
                            <a:lnTo>
                              <a:pt x="17" y="0"/>
                            </a:lnTo>
                            <a:close/>
                          </a:path>
                        </a:pathLst>
                      </a:custGeom>
                      <a:solidFill>
                        <a:srgbClr val="606060"/>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709" name=""/>
                      <p:cNvSpPr/>
                      <p:nvPr/>
                    </p:nvSpPr>
                    <p:spPr>
                      <a:xfrm>
                        <a:off x="7850160" y="5486400"/>
                        <a:ext cx="63720" cy="38520"/>
                      </a:xfrm>
                      <a:custGeom>
                        <a:avLst/>
                        <a:gdLst/>
                        <a:ahLst/>
                        <a:rect l="0" t="0" r="r" b="b"/>
                        <a:pathLst>
                          <a:path w="177" h="107">
                            <a:moveTo>
                              <a:pt x="13" y="3"/>
                            </a:moveTo>
                            <a:lnTo>
                              <a:pt x="0" y="107"/>
                            </a:lnTo>
                            <a:lnTo>
                              <a:pt x="177" y="53"/>
                            </a:lnTo>
                            <a:lnTo>
                              <a:pt x="106" y="37"/>
                            </a:lnTo>
                            <a:lnTo>
                              <a:pt x="44" y="60"/>
                            </a:lnTo>
                            <a:lnTo>
                              <a:pt x="61" y="0"/>
                            </a:lnTo>
                            <a:lnTo>
                              <a:pt x="13" y="3"/>
                            </a:lnTo>
                            <a:close/>
                          </a:path>
                        </a:pathLst>
                      </a:custGeom>
                      <a:solidFill>
                        <a:srgbClr val="404040"/>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710" name=""/>
                    <p:cNvGrpSpPr/>
                    <p:nvPr/>
                  </p:nvGrpSpPr>
                  <p:grpSpPr>
                    <a:xfrm>
                      <a:off x="7800840" y="5373720"/>
                      <a:ext cx="497160" cy="195480"/>
                      <a:chOff x="7800840" y="5373720"/>
                      <a:chExt cx="497160" cy="195480"/>
                    </a:xfrm>
                  </p:grpSpPr>
                  <p:sp>
                    <p:nvSpPr>
                      <p:cNvPr id="711" name=""/>
                      <p:cNvSpPr/>
                      <p:nvPr/>
                    </p:nvSpPr>
                    <p:spPr>
                      <a:xfrm>
                        <a:off x="7808760" y="5373720"/>
                        <a:ext cx="489240" cy="171720"/>
                      </a:xfrm>
                      <a:custGeom>
                        <a:avLst/>
                        <a:gdLst/>
                        <a:ahLst/>
                        <a:rect l="0" t="0" r="r" b="b"/>
                        <a:pathLst>
                          <a:path w="1359" h="477">
                            <a:moveTo>
                              <a:pt x="0" y="202"/>
                            </a:moveTo>
                            <a:lnTo>
                              <a:pt x="652" y="477"/>
                            </a:lnTo>
                            <a:lnTo>
                              <a:pt x="1359" y="206"/>
                            </a:lnTo>
                            <a:lnTo>
                              <a:pt x="816" y="0"/>
                            </a:lnTo>
                            <a:lnTo>
                              <a:pt x="0" y="202"/>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a:off x="7800840" y="5446800"/>
                        <a:ext cx="244800" cy="120960"/>
                      </a:xfrm>
                      <a:custGeom>
                        <a:avLst/>
                        <a:gdLst/>
                        <a:ahLst/>
                        <a:rect l="0" t="0" r="r" b="b"/>
                        <a:pathLst>
                          <a:path w="680" h="336">
                            <a:moveTo>
                              <a:pt x="26" y="0"/>
                            </a:moveTo>
                            <a:lnTo>
                              <a:pt x="680" y="279"/>
                            </a:lnTo>
                            <a:lnTo>
                              <a:pt x="662" y="336"/>
                            </a:lnTo>
                            <a:lnTo>
                              <a:pt x="0" y="53"/>
                            </a:lnTo>
                            <a:lnTo>
                              <a:pt x="26" y="0"/>
                            </a:lnTo>
                            <a:close/>
                          </a:path>
                        </a:pathLst>
                      </a:custGeom>
                      <a:solidFill>
                        <a:srgbClr val="606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8037360" y="5448240"/>
                        <a:ext cx="260640" cy="120960"/>
                      </a:xfrm>
                      <a:custGeom>
                        <a:avLst/>
                        <a:gdLst/>
                        <a:ahLst/>
                        <a:rect l="0" t="0" r="r" b="b"/>
                        <a:pathLst>
                          <a:path w="724" h="336">
                            <a:moveTo>
                              <a:pt x="0" y="336"/>
                            </a:moveTo>
                            <a:lnTo>
                              <a:pt x="17" y="271"/>
                            </a:lnTo>
                            <a:lnTo>
                              <a:pt x="724" y="0"/>
                            </a:lnTo>
                            <a:lnTo>
                              <a:pt x="697" y="47"/>
                            </a:lnTo>
                            <a:lnTo>
                              <a:pt x="0" y="336"/>
                            </a:lnTo>
                            <a:close/>
                          </a:path>
                        </a:pathLst>
                      </a:custGeom>
                      <a:solidFill>
                        <a:srgbClr val="404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7907400" y="5454720"/>
                        <a:ext cx="186120" cy="68760"/>
                      </a:xfrm>
                      <a:custGeom>
                        <a:avLst/>
                        <a:gdLst/>
                        <a:ahLst/>
                        <a:rect l="0" t="0" r="r" b="b"/>
                        <a:pathLst>
                          <a:path w="517" h="191">
                            <a:moveTo>
                              <a:pt x="0" y="47"/>
                            </a:moveTo>
                            <a:lnTo>
                              <a:pt x="177" y="0"/>
                            </a:lnTo>
                            <a:lnTo>
                              <a:pt x="517" y="133"/>
                            </a:lnTo>
                            <a:lnTo>
                              <a:pt x="344" y="191"/>
                            </a:lnTo>
                            <a:lnTo>
                              <a:pt x="0" y="47"/>
                            </a:lnTo>
                            <a:close/>
                          </a:path>
                        </a:pathLst>
                      </a:custGeom>
                      <a:solidFill>
                        <a:srgbClr val="a0a0a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715" name=""/>
                      <p:cNvSpPr/>
                      <p:nvPr/>
                    </p:nvSpPr>
                    <p:spPr>
                      <a:xfrm>
                        <a:off x="7985160" y="5400720"/>
                        <a:ext cx="278280" cy="95760"/>
                      </a:xfrm>
                      <a:custGeom>
                        <a:avLst/>
                        <a:gdLst/>
                        <a:ahLst/>
                        <a:rect l="0" t="0" r="r" b="b"/>
                        <a:pathLst>
                          <a:path w="773" h="266">
                            <a:moveTo>
                              <a:pt x="0" y="129"/>
                            </a:moveTo>
                            <a:lnTo>
                              <a:pt x="340" y="266"/>
                            </a:lnTo>
                            <a:lnTo>
                              <a:pt x="773" y="116"/>
                            </a:lnTo>
                            <a:lnTo>
                              <a:pt x="455" y="0"/>
                            </a:lnTo>
                            <a:lnTo>
                              <a:pt x="0" y="129"/>
                            </a:lnTo>
                            <a:close/>
                          </a:path>
                        </a:pathLst>
                      </a:custGeom>
                      <a:solidFill>
                        <a:srgbClr val="a0a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6" name=""/>
                      <p:cNvSpPr/>
                      <p:nvPr/>
                    </p:nvSpPr>
                    <p:spPr>
                      <a:xfrm>
                        <a:off x="7834320" y="5378400"/>
                        <a:ext cx="308160" cy="86040"/>
                      </a:xfrm>
                      <a:custGeom>
                        <a:avLst/>
                        <a:gdLst/>
                        <a:ahLst/>
                        <a:rect l="0" t="0" r="r" b="b"/>
                        <a:pathLst>
                          <a:path w="856" h="239">
                            <a:moveTo>
                              <a:pt x="176" y="239"/>
                            </a:moveTo>
                            <a:lnTo>
                              <a:pt x="0" y="171"/>
                            </a:lnTo>
                            <a:lnTo>
                              <a:pt x="719" y="0"/>
                            </a:lnTo>
                            <a:lnTo>
                              <a:pt x="856" y="47"/>
                            </a:lnTo>
                            <a:lnTo>
                              <a:pt x="176" y="239"/>
                            </a:lnTo>
                            <a:close/>
                          </a:path>
                        </a:pathLst>
                      </a:custGeom>
                      <a:solidFill>
                        <a:srgbClr val="a0a0a0"/>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717" name=""/>
                      <p:cNvSpPr/>
                      <p:nvPr/>
                    </p:nvSpPr>
                    <p:spPr>
                      <a:xfrm flipV="1">
                        <a:off x="7842240" y="5383080"/>
                        <a:ext cx="276120" cy="73080"/>
                      </a:xfrm>
                      <a:prstGeom prst="line">
                        <a:avLst/>
                      </a:prstGeom>
                      <a:ln w="12600">
                        <a:solidFill>
                          <a:srgbClr val="80808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718" name=""/>
                      <p:cNvSpPr/>
                      <p:nvPr/>
                    </p:nvSpPr>
                    <p:spPr>
                      <a:xfrm flipV="1">
                        <a:off x="7866000" y="5386320"/>
                        <a:ext cx="265320" cy="74520"/>
                      </a:xfrm>
                      <a:prstGeom prst="line">
                        <a:avLst/>
                      </a:prstGeom>
                      <a:ln w="12600">
                        <a:solidFill>
                          <a:srgbClr val="80808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719" name=""/>
                      <p:cNvSpPr/>
                      <p:nvPr/>
                    </p:nvSpPr>
                    <p:spPr>
                      <a:xfrm flipV="1">
                        <a:off x="7881840" y="5394240"/>
                        <a:ext cx="260280" cy="74520"/>
                      </a:xfrm>
                      <a:prstGeom prst="line">
                        <a:avLst/>
                      </a:prstGeom>
                      <a:ln w="12600">
                        <a:solidFill>
                          <a:srgbClr val="80808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720" name=""/>
                      <p:cNvSpPr/>
                      <p:nvPr/>
                    </p:nvSpPr>
                    <p:spPr>
                      <a:xfrm flipV="1">
                        <a:off x="7920000" y="5405400"/>
                        <a:ext cx="250920" cy="77760"/>
                      </a:xfrm>
                      <a:prstGeom prst="line">
                        <a:avLst/>
                      </a:prstGeom>
                      <a:ln w="12600">
                        <a:solidFill>
                          <a:srgbClr val="80808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721" name=""/>
                      <p:cNvSpPr/>
                      <p:nvPr/>
                    </p:nvSpPr>
                    <p:spPr>
                      <a:xfrm flipV="1">
                        <a:off x="7940520" y="5415120"/>
                        <a:ext cx="249480" cy="77760"/>
                      </a:xfrm>
                      <a:prstGeom prst="line">
                        <a:avLst/>
                      </a:prstGeom>
                      <a:ln w="12600">
                        <a:solidFill>
                          <a:srgbClr val="80808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722" name=""/>
                      <p:cNvSpPr/>
                      <p:nvPr/>
                    </p:nvSpPr>
                    <p:spPr>
                      <a:xfrm flipV="1">
                        <a:off x="7967520" y="5425920"/>
                        <a:ext cx="228600" cy="74880"/>
                      </a:xfrm>
                      <a:prstGeom prst="line">
                        <a:avLst/>
                      </a:prstGeom>
                      <a:ln w="12600">
                        <a:solidFill>
                          <a:srgbClr val="808080"/>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
                    <p:nvSpPr>
                      <p:cNvPr id="723" name=""/>
                      <p:cNvSpPr/>
                      <p:nvPr/>
                    </p:nvSpPr>
                    <p:spPr>
                      <a:xfrm flipV="1">
                        <a:off x="7993080" y="5432400"/>
                        <a:ext cx="220680" cy="76320"/>
                      </a:xfrm>
                      <a:prstGeom prst="line">
                        <a:avLst/>
                      </a:prstGeom>
                      <a:ln w="12600">
                        <a:solidFill>
                          <a:srgbClr val="80808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24" name=""/>
                      <p:cNvSpPr/>
                      <p:nvPr/>
                    </p:nvSpPr>
                    <p:spPr>
                      <a:xfrm flipV="1">
                        <a:off x="8018640" y="5442120"/>
                        <a:ext cx="215640" cy="74520"/>
                      </a:xfrm>
                      <a:prstGeom prst="line">
                        <a:avLst/>
                      </a:prstGeom>
                      <a:ln w="12600">
                        <a:solidFill>
                          <a:srgbClr val="80808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725" name=""/>
                      <p:cNvSpPr/>
                      <p:nvPr/>
                    </p:nvSpPr>
                    <p:spPr>
                      <a:xfrm>
                        <a:off x="7929720" y="5467320"/>
                        <a:ext cx="129960" cy="57240"/>
                      </a:xfrm>
                      <a:prstGeom prst="line">
                        <a:avLst/>
                      </a:prstGeom>
                      <a:ln w="12600">
                        <a:solidFill>
                          <a:srgbClr val="808080"/>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726" name=""/>
                      <p:cNvSpPr/>
                      <p:nvPr/>
                    </p:nvSpPr>
                    <p:spPr>
                      <a:xfrm>
                        <a:off x="7954920" y="5459400"/>
                        <a:ext cx="130320" cy="55440"/>
                      </a:xfrm>
                      <a:prstGeom prst="line">
                        <a:avLst/>
                      </a:prstGeom>
                      <a:ln w="12600">
                        <a:solidFill>
                          <a:srgbClr val="80808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727" name=""/>
                      <p:cNvSpPr/>
                      <p:nvPr/>
                    </p:nvSpPr>
                    <p:spPr>
                      <a:xfrm>
                        <a:off x="8012160" y="5442120"/>
                        <a:ext cx="127080" cy="52200"/>
                      </a:xfrm>
                      <a:prstGeom prst="line">
                        <a:avLst/>
                      </a:prstGeom>
                      <a:ln w="12600">
                        <a:solidFill>
                          <a:srgbClr val="808080"/>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sp>
                    <p:nvSpPr>
                      <p:cNvPr id="728" name=""/>
                      <p:cNvSpPr/>
                      <p:nvPr/>
                    </p:nvSpPr>
                    <p:spPr>
                      <a:xfrm>
                        <a:off x="8043840" y="5435640"/>
                        <a:ext cx="122400" cy="50760"/>
                      </a:xfrm>
                      <a:prstGeom prst="line">
                        <a:avLst/>
                      </a:prstGeom>
                      <a:ln w="12600">
                        <a:solidFill>
                          <a:srgbClr val="80808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729" name=""/>
                      <p:cNvSpPr/>
                      <p:nvPr/>
                    </p:nvSpPr>
                    <p:spPr>
                      <a:xfrm>
                        <a:off x="8072280" y="5425920"/>
                        <a:ext cx="122400" cy="52560"/>
                      </a:xfrm>
                      <a:prstGeom prst="line">
                        <a:avLst/>
                      </a:prstGeom>
                      <a:ln w="12600">
                        <a:solidFill>
                          <a:srgbClr val="808080"/>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730" name=""/>
                      <p:cNvSpPr/>
                      <p:nvPr/>
                    </p:nvSpPr>
                    <p:spPr>
                      <a:xfrm>
                        <a:off x="8099280" y="5418000"/>
                        <a:ext cx="119160" cy="49320"/>
                      </a:xfrm>
                      <a:prstGeom prst="line">
                        <a:avLst/>
                      </a:prstGeom>
                      <a:ln w="12600">
                        <a:solidFill>
                          <a:srgbClr val="80808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731" name=""/>
                      <p:cNvSpPr/>
                      <p:nvPr/>
                    </p:nvSpPr>
                    <p:spPr>
                      <a:xfrm>
                        <a:off x="8123400" y="5410080"/>
                        <a:ext cx="120600" cy="46080"/>
                      </a:xfrm>
                      <a:prstGeom prst="line">
                        <a:avLst/>
                      </a:prstGeom>
                      <a:ln w="12600">
                        <a:solidFill>
                          <a:srgbClr val="808080"/>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732" name=""/>
                      <p:cNvSpPr/>
                      <p:nvPr/>
                    </p:nvSpPr>
                    <p:spPr>
                      <a:xfrm>
                        <a:off x="7872480" y="5435640"/>
                        <a:ext cx="63360" cy="25200"/>
                      </a:xfrm>
                      <a:prstGeom prst="line">
                        <a:avLst/>
                      </a:prstGeom>
                      <a:ln w="12600">
                        <a:solidFill>
                          <a:srgbClr val="80808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733" name=""/>
                      <p:cNvSpPr/>
                      <p:nvPr/>
                    </p:nvSpPr>
                    <p:spPr>
                      <a:xfrm>
                        <a:off x="7913520" y="5424480"/>
                        <a:ext cx="61920" cy="25560"/>
                      </a:xfrm>
                      <a:prstGeom prst="line">
                        <a:avLst/>
                      </a:prstGeom>
                      <a:ln w="12600">
                        <a:solidFill>
                          <a:srgbClr val="80808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734" name=""/>
                      <p:cNvSpPr/>
                      <p:nvPr/>
                    </p:nvSpPr>
                    <p:spPr>
                      <a:xfrm>
                        <a:off x="7951680" y="5416560"/>
                        <a:ext cx="61920" cy="25560"/>
                      </a:xfrm>
                      <a:prstGeom prst="line">
                        <a:avLst/>
                      </a:prstGeom>
                      <a:ln w="12600">
                        <a:solidFill>
                          <a:srgbClr val="80808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735" name=""/>
                      <p:cNvSpPr/>
                      <p:nvPr/>
                    </p:nvSpPr>
                    <p:spPr>
                      <a:xfrm>
                        <a:off x="7986600" y="5405400"/>
                        <a:ext cx="60480" cy="23760"/>
                      </a:xfrm>
                      <a:prstGeom prst="line">
                        <a:avLst/>
                      </a:prstGeom>
                      <a:ln w="12600">
                        <a:solidFill>
                          <a:srgbClr val="80808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36" name=""/>
                      <p:cNvSpPr/>
                      <p:nvPr/>
                    </p:nvSpPr>
                    <p:spPr>
                      <a:xfrm>
                        <a:off x="8024760" y="5396040"/>
                        <a:ext cx="57240" cy="23760"/>
                      </a:xfrm>
                      <a:prstGeom prst="line">
                        <a:avLst/>
                      </a:prstGeom>
                      <a:ln w="12600">
                        <a:solidFill>
                          <a:srgbClr val="80808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37" name=""/>
                      <p:cNvSpPr/>
                      <p:nvPr/>
                    </p:nvSpPr>
                    <p:spPr>
                      <a:xfrm>
                        <a:off x="8066160" y="5386320"/>
                        <a:ext cx="54000" cy="22320"/>
                      </a:xfrm>
                      <a:prstGeom prst="line">
                        <a:avLst/>
                      </a:prstGeom>
                      <a:ln w="12600">
                        <a:solidFill>
                          <a:srgbClr val="808080"/>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grpSp>
              </p:grpSp>
            </p:grpSp>
            <p:grpSp>
              <p:nvGrpSpPr>
                <p:cNvPr id="738" name=""/>
                <p:cNvGrpSpPr/>
                <p:nvPr/>
              </p:nvGrpSpPr>
              <p:grpSpPr>
                <a:xfrm>
                  <a:off x="7958160" y="5065560"/>
                  <a:ext cx="690840" cy="783000"/>
                  <a:chOff x="7958160" y="5065560"/>
                  <a:chExt cx="690840" cy="783000"/>
                </a:xfrm>
              </p:grpSpPr>
              <p:grpSp>
                <p:nvGrpSpPr>
                  <p:cNvPr id="739" name=""/>
                  <p:cNvGrpSpPr/>
                  <p:nvPr/>
                </p:nvGrpSpPr>
                <p:grpSpPr>
                  <a:xfrm>
                    <a:off x="7980480" y="5627520"/>
                    <a:ext cx="643320" cy="221040"/>
                    <a:chOff x="7980480" y="5627520"/>
                    <a:chExt cx="643320" cy="221040"/>
                  </a:xfrm>
                </p:grpSpPr>
                <p:sp>
                  <p:nvSpPr>
                    <p:cNvPr id="740" name=""/>
                    <p:cNvSpPr/>
                    <p:nvPr/>
                  </p:nvSpPr>
                  <p:spPr>
                    <a:xfrm>
                      <a:off x="7980480" y="5627520"/>
                      <a:ext cx="643320" cy="221040"/>
                    </a:xfrm>
                    <a:custGeom>
                      <a:avLst/>
                      <a:gdLst/>
                      <a:ahLst/>
                      <a:rect l="0" t="0" r="r" b="b"/>
                      <a:pathLst>
                        <a:path w="1787" h="614">
                          <a:moveTo>
                            <a:pt x="154" y="611"/>
                          </a:moveTo>
                          <a:lnTo>
                            <a:pt x="0" y="598"/>
                          </a:lnTo>
                          <a:lnTo>
                            <a:pt x="0" y="458"/>
                          </a:lnTo>
                          <a:lnTo>
                            <a:pt x="4" y="353"/>
                          </a:lnTo>
                          <a:lnTo>
                            <a:pt x="83" y="292"/>
                          </a:lnTo>
                          <a:lnTo>
                            <a:pt x="176" y="254"/>
                          </a:lnTo>
                          <a:lnTo>
                            <a:pt x="388" y="194"/>
                          </a:lnTo>
                          <a:lnTo>
                            <a:pt x="706" y="135"/>
                          </a:lnTo>
                          <a:lnTo>
                            <a:pt x="768" y="132"/>
                          </a:lnTo>
                          <a:lnTo>
                            <a:pt x="807" y="135"/>
                          </a:lnTo>
                          <a:lnTo>
                            <a:pt x="816" y="121"/>
                          </a:lnTo>
                          <a:lnTo>
                            <a:pt x="834" y="108"/>
                          </a:lnTo>
                          <a:lnTo>
                            <a:pt x="856" y="111"/>
                          </a:lnTo>
                          <a:lnTo>
                            <a:pt x="882" y="115"/>
                          </a:lnTo>
                          <a:lnTo>
                            <a:pt x="896" y="91"/>
                          </a:lnTo>
                          <a:lnTo>
                            <a:pt x="918" y="77"/>
                          </a:lnTo>
                          <a:lnTo>
                            <a:pt x="944" y="74"/>
                          </a:lnTo>
                          <a:lnTo>
                            <a:pt x="975" y="74"/>
                          </a:lnTo>
                          <a:lnTo>
                            <a:pt x="971" y="54"/>
                          </a:lnTo>
                          <a:lnTo>
                            <a:pt x="1006" y="0"/>
                          </a:lnTo>
                          <a:lnTo>
                            <a:pt x="1743" y="13"/>
                          </a:lnTo>
                          <a:lnTo>
                            <a:pt x="1739" y="71"/>
                          </a:lnTo>
                          <a:lnTo>
                            <a:pt x="1752" y="121"/>
                          </a:lnTo>
                          <a:lnTo>
                            <a:pt x="1765" y="163"/>
                          </a:lnTo>
                          <a:lnTo>
                            <a:pt x="1779" y="207"/>
                          </a:lnTo>
                          <a:lnTo>
                            <a:pt x="1787" y="282"/>
                          </a:lnTo>
                          <a:lnTo>
                            <a:pt x="1774" y="326"/>
                          </a:lnTo>
                          <a:lnTo>
                            <a:pt x="1752" y="366"/>
                          </a:lnTo>
                          <a:lnTo>
                            <a:pt x="1730" y="400"/>
                          </a:lnTo>
                          <a:lnTo>
                            <a:pt x="1695" y="414"/>
                          </a:lnTo>
                          <a:lnTo>
                            <a:pt x="1642" y="427"/>
                          </a:lnTo>
                          <a:lnTo>
                            <a:pt x="1571" y="444"/>
                          </a:lnTo>
                          <a:lnTo>
                            <a:pt x="1536" y="472"/>
                          </a:lnTo>
                          <a:lnTo>
                            <a:pt x="1501" y="496"/>
                          </a:lnTo>
                          <a:lnTo>
                            <a:pt x="1439" y="516"/>
                          </a:lnTo>
                          <a:lnTo>
                            <a:pt x="1373" y="533"/>
                          </a:lnTo>
                          <a:lnTo>
                            <a:pt x="1257" y="543"/>
                          </a:lnTo>
                          <a:lnTo>
                            <a:pt x="1165" y="543"/>
                          </a:lnTo>
                          <a:lnTo>
                            <a:pt x="1094" y="540"/>
                          </a:lnTo>
                          <a:lnTo>
                            <a:pt x="1024" y="533"/>
                          </a:lnTo>
                          <a:lnTo>
                            <a:pt x="975" y="557"/>
                          </a:lnTo>
                          <a:lnTo>
                            <a:pt x="882" y="550"/>
                          </a:lnTo>
                          <a:lnTo>
                            <a:pt x="494" y="594"/>
                          </a:lnTo>
                          <a:lnTo>
                            <a:pt x="326" y="614"/>
                          </a:lnTo>
                          <a:lnTo>
                            <a:pt x="154" y="611"/>
                          </a:lnTo>
                          <a:close/>
                        </a:path>
                      </a:pathLst>
                    </a:custGeom>
                    <a:solidFill>
                      <a:srgbClr val="606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7980480" y="5649840"/>
                      <a:ext cx="622800" cy="187560"/>
                    </a:xfrm>
                    <a:custGeom>
                      <a:avLst/>
                      <a:gdLst/>
                      <a:ahLst/>
                      <a:rect l="0" t="0" r="r" b="b"/>
                      <a:pathLst>
                        <a:path w="1730" h="521">
                          <a:moveTo>
                            <a:pt x="1668" y="20"/>
                          </a:moveTo>
                          <a:lnTo>
                            <a:pt x="1673" y="54"/>
                          </a:lnTo>
                          <a:lnTo>
                            <a:pt x="1695" y="40"/>
                          </a:lnTo>
                          <a:lnTo>
                            <a:pt x="1717" y="125"/>
                          </a:lnTo>
                          <a:lnTo>
                            <a:pt x="1730" y="223"/>
                          </a:lnTo>
                          <a:lnTo>
                            <a:pt x="1682" y="321"/>
                          </a:lnTo>
                          <a:lnTo>
                            <a:pt x="1576" y="349"/>
                          </a:lnTo>
                          <a:lnTo>
                            <a:pt x="1589" y="321"/>
                          </a:lnTo>
                          <a:lnTo>
                            <a:pt x="1532" y="359"/>
                          </a:lnTo>
                          <a:lnTo>
                            <a:pt x="1479" y="392"/>
                          </a:lnTo>
                          <a:lnTo>
                            <a:pt x="1369" y="430"/>
                          </a:lnTo>
                          <a:lnTo>
                            <a:pt x="1231" y="440"/>
                          </a:lnTo>
                          <a:lnTo>
                            <a:pt x="1063" y="447"/>
                          </a:lnTo>
                          <a:lnTo>
                            <a:pt x="993" y="440"/>
                          </a:lnTo>
                          <a:lnTo>
                            <a:pt x="1054" y="423"/>
                          </a:lnTo>
                          <a:lnTo>
                            <a:pt x="1085" y="369"/>
                          </a:lnTo>
                          <a:lnTo>
                            <a:pt x="1032" y="413"/>
                          </a:lnTo>
                          <a:lnTo>
                            <a:pt x="971" y="440"/>
                          </a:lnTo>
                          <a:lnTo>
                            <a:pt x="913" y="460"/>
                          </a:lnTo>
                          <a:lnTo>
                            <a:pt x="856" y="453"/>
                          </a:lnTo>
                          <a:lnTo>
                            <a:pt x="896" y="433"/>
                          </a:lnTo>
                          <a:lnTo>
                            <a:pt x="935" y="413"/>
                          </a:lnTo>
                          <a:lnTo>
                            <a:pt x="874" y="426"/>
                          </a:lnTo>
                          <a:lnTo>
                            <a:pt x="807" y="460"/>
                          </a:lnTo>
                          <a:lnTo>
                            <a:pt x="609" y="480"/>
                          </a:lnTo>
                          <a:lnTo>
                            <a:pt x="410" y="501"/>
                          </a:lnTo>
                          <a:lnTo>
                            <a:pt x="339" y="497"/>
                          </a:lnTo>
                          <a:lnTo>
                            <a:pt x="414" y="467"/>
                          </a:lnTo>
                          <a:lnTo>
                            <a:pt x="490" y="453"/>
                          </a:lnTo>
                          <a:lnTo>
                            <a:pt x="410" y="453"/>
                          </a:lnTo>
                          <a:lnTo>
                            <a:pt x="343" y="474"/>
                          </a:lnTo>
                          <a:lnTo>
                            <a:pt x="268" y="511"/>
                          </a:lnTo>
                          <a:lnTo>
                            <a:pt x="321" y="453"/>
                          </a:lnTo>
                          <a:lnTo>
                            <a:pt x="396" y="423"/>
                          </a:lnTo>
                          <a:lnTo>
                            <a:pt x="304" y="433"/>
                          </a:lnTo>
                          <a:lnTo>
                            <a:pt x="251" y="480"/>
                          </a:lnTo>
                          <a:lnTo>
                            <a:pt x="242" y="521"/>
                          </a:lnTo>
                          <a:lnTo>
                            <a:pt x="176" y="467"/>
                          </a:lnTo>
                          <a:lnTo>
                            <a:pt x="114" y="440"/>
                          </a:lnTo>
                          <a:lnTo>
                            <a:pt x="149" y="470"/>
                          </a:lnTo>
                          <a:lnTo>
                            <a:pt x="202" y="521"/>
                          </a:lnTo>
                          <a:lnTo>
                            <a:pt x="48" y="497"/>
                          </a:lnTo>
                          <a:lnTo>
                            <a:pt x="17" y="490"/>
                          </a:lnTo>
                          <a:lnTo>
                            <a:pt x="0" y="426"/>
                          </a:lnTo>
                          <a:lnTo>
                            <a:pt x="8" y="335"/>
                          </a:lnTo>
                          <a:lnTo>
                            <a:pt x="35" y="274"/>
                          </a:lnTo>
                          <a:lnTo>
                            <a:pt x="127" y="226"/>
                          </a:lnTo>
                          <a:lnTo>
                            <a:pt x="251" y="185"/>
                          </a:lnTo>
                          <a:lnTo>
                            <a:pt x="481" y="131"/>
                          </a:lnTo>
                          <a:lnTo>
                            <a:pt x="671" y="94"/>
                          </a:lnTo>
                          <a:lnTo>
                            <a:pt x="768" y="84"/>
                          </a:lnTo>
                          <a:lnTo>
                            <a:pt x="816" y="131"/>
                          </a:lnTo>
                          <a:lnTo>
                            <a:pt x="944" y="179"/>
                          </a:lnTo>
                          <a:lnTo>
                            <a:pt x="874" y="135"/>
                          </a:lnTo>
                          <a:lnTo>
                            <a:pt x="821" y="114"/>
                          </a:lnTo>
                          <a:lnTo>
                            <a:pt x="803" y="81"/>
                          </a:lnTo>
                          <a:lnTo>
                            <a:pt x="807" y="67"/>
                          </a:lnTo>
                          <a:lnTo>
                            <a:pt x="847" y="67"/>
                          </a:lnTo>
                          <a:lnTo>
                            <a:pt x="874" y="84"/>
                          </a:lnTo>
                          <a:lnTo>
                            <a:pt x="896" y="101"/>
                          </a:lnTo>
                          <a:lnTo>
                            <a:pt x="953" y="121"/>
                          </a:lnTo>
                          <a:lnTo>
                            <a:pt x="900" y="84"/>
                          </a:lnTo>
                          <a:lnTo>
                            <a:pt x="874" y="60"/>
                          </a:lnTo>
                          <a:lnTo>
                            <a:pt x="891" y="40"/>
                          </a:lnTo>
                          <a:lnTo>
                            <a:pt x="940" y="33"/>
                          </a:lnTo>
                          <a:lnTo>
                            <a:pt x="997" y="70"/>
                          </a:lnTo>
                          <a:lnTo>
                            <a:pt x="1054" y="97"/>
                          </a:lnTo>
                          <a:lnTo>
                            <a:pt x="984" y="40"/>
                          </a:lnTo>
                          <a:lnTo>
                            <a:pt x="966" y="16"/>
                          </a:lnTo>
                          <a:lnTo>
                            <a:pt x="966" y="0"/>
                          </a:lnTo>
                          <a:lnTo>
                            <a:pt x="1019" y="6"/>
                          </a:lnTo>
                          <a:lnTo>
                            <a:pt x="1076" y="33"/>
                          </a:lnTo>
                          <a:lnTo>
                            <a:pt x="1112" y="54"/>
                          </a:lnTo>
                          <a:lnTo>
                            <a:pt x="1275" y="67"/>
                          </a:lnTo>
                          <a:lnTo>
                            <a:pt x="1271" y="33"/>
                          </a:lnTo>
                          <a:lnTo>
                            <a:pt x="1320" y="23"/>
                          </a:lnTo>
                          <a:lnTo>
                            <a:pt x="1320" y="64"/>
                          </a:lnTo>
                          <a:lnTo>
                            <a:pt x="1373" y="70"/>
                          </a:lnTo>
                          <a:lnTo>
                            <a:pt x="1479" y="81"/>
                          </a:lnTo>
                          <a:lnTo>
                            <a:pt x="1470" y="40"/>
                          </a:lnTo>
                          <a:lnTo>
                            <a:pt x="1510" y="40"/>
                          </a:lnTo>
                          <a:lnTo>
                            <a:pt x="1514" y="81"/>
                          </a:lnTo>
                          <a:lnTo>
                            <a:pt x="1576" y="81"/>
                          </a:lnTo>
                          <a:lnTo>
                            <a:pt x="1642" y="67"/>
                          </a:lnTo>
                          <a:lnTo>
                            <a:pt x="1642" y="33"/>
                          </a:lnTo>
                          <a:lnTo>
                            <a:pt x="1668" y="2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2" name=""/>
                    <p:cNvSpPr/>
                    <p:nvPr/>
                  </p:nvSpPr>
                  <p:spPr>
                    <a:xfrm>
                      <a:off x="8437680" y="5718240"/>
                      <a:ext cx="76680" cy="25920"/>
                    </a:xfrm>
                    <a:custGeom>
                      <a:avLst/>
                      <a:gdLst/>
                      <a:ahLst/>
                      <a:rect l="0" t="0" r="r" b="b"/>
                      <a:pathLst>
                        <a:path w="213" h="72">
                          <a:moveTo>
                            <a:pt x="213" y="0"/>
                          </a:moveTo>
                          <a:lnTo>
                            <a:pt x="115" y="72"/>
                          </a:lnTo>
                          <a:lnTo>
                            <a:pt x="0" y="53"/>
                          </a:lnTo>
                          <a:lnTo>
                            <a:pt x="213" y="0"/>
                          </a:lnTo>
                          <a:close/>
                        </a:path>
                      </a:pathLst>
                    </a:custGeom>
                    <a:solidFill>
                      <a:srgbClr val="60606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43" name=""/>
                    <p:cNvSpPr/>
                    <p:nvPr/>
                  </p:nvSpPr>
                  <p:spPr>
                    <a:xfrm>
                      <a:off x="8559720" y="5702400"/>
                      <a:ext cx="43200" cy="25920"/>
                    </a:xfrm>
                    <a:custGeom>
                      <a:avLst/>
                      <a:gdLst/>
                      <a:ahLst/>
                      <a:rect l="0" t="0" r="r" b="b"/>
                      <a:pathLst>
                        <a:path w="120" h="72">
                          <a:moveTo>
                            <a:pt x="120" y="0"/>
                          </a:moveTo>
                          <a:lnTo>
                            <a:pt x="84" y="40"/>
                          </a:lnTo>
                          <a:lnTo>
                            <a:pt x="0" y="72"/>
                          </a:lnTo>
                          <a:lnTo>
                            <a:pt x="89" y="72"/>
                          </a:lnTo>
                          <a:lnTo>
                            <a:pt x="120" y="0"/>
                          </a:lnTo>
                          <a:close/>
                        </a:path>
                      </a:pathLst>
                    </a:custGeom>
                    <a:solidFill>
                      <a:srgbClr val="60606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44" name=""/>
                    <p:cNvSpPr/>
                    <p:nvPr/>
                  </p:nvSpPr>
                  <p:spPr>
                    <a:xfrm>
                      <a:off x="8312040" y="5691240"/>
                      <a:ext cx="71640" cy="25920"/>
                    </a:xfrm>
                    <a:custGeom>
                      <a:avLst/>
                      <a:gdLst/>
                      <a:ahLst/>
                      <a:rect l="0" t="0" r="r" b="b"/>
                      <a:pathLst>
                        <a:path w="199" h="72">
                          <a:moveTo>
                            <a:pt x="199" y="0"/>
                          </a:moveTo>
                          <a:lnTo>
                            <a:pt x="106" y="3"/>
                          </a:lnTo>
                          <a:lnTo>
                            <a:pt x="88" y="13"/>
                          </a:lnTo>
                          <a:lnTo>
                            <a:pt x="88" y="37"/>
                          </a:lnTo>
                          <a:lnTo>
                            <a:pt x="83" y="62"/>
                          </a:lnTo>
                          <a:lnTo>
                            <a:pt x="0" y="72"/>
                          </a:lnTo>
                          <a:lnTo>
                            <a:pt x="102" y="69"/>
                          </a:lnTo>
                          <a:lnTo>
                            <a:pt x="115" y="21"/>
                          </a:lnTo>
                          <a:lnTo>
                            <a:pt x="199" y="0"/>
                          </a:lnTo>
                          <a:close/>
                        </a:path>
                      </a:pathLst>
                    </a:custGeom>
                    <a:solidFill>
                      <a:srgbClr val="60606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45" name=""/>
                    <p:cNvSpPr/>
                    <p:nvPr/>
                  </p:nvSpPr>
                  <p:spPr>
                    <a:xfrm>
                      <a:off x="8048520" y="5769000"/>
                      <a:ext cx="252720" cy="43200"/>
                    </a:xfrm>
                    <a:custGeom>
                      <a:avLst/>
                      <a:gdLst/>
                      <a:ahLst/>
                      <a:rect l="0" t="0" r="r" b="b"/>
                      <a:pathLst>
                        <a:path w="702" h="120">
                          <a:moveTo>
                            <a:pt x="702" y="0"/>
                          </a:moveTo>
                          <a:lnTo>
                            <a:pt x="521" y="6"/>
                          </a:lnTo>
                          <a:lnTo>
                            <a:pt x="339" y="34"/>
                          </a:lnTo>
                          <a:lnTo>
                            <a:pt x="202" y="37"/>
                          </a:lnTo>
                          <a:lnTo>
                            <a:pt x="88" y="54"/>
                          </a:lnTo>
                          <a:lnTo>
                            <a:pt x="48" y="96"/>
                          </a:lnTo>
                          <a:lnTo>
                            <a:pt x="0" y="120"/>
                          </a:lnTo>
                          <a:lnTo>
                            <a:pt x="48" y="109"/>
                          </a:lnTo>
                          <a:lnTo>
                            <a:pt x="101" y="65"/>
                          </a:lnTo>
                          <a:lnTo>
                            <a:pt x="246" y="44"/>
                          </a:lnTo>
                          <a:lnTo>
                            <a:pt x="339" y="44"/>
                          </a:lnTo>
                          <a:lnTo>
                            <a:pt x="411" y="34"/>
                          </a:lnTo>
                          <a:lnTo>
                            <a:pt x="534" y="10"/>
                          </a:lnTo>
                          <a:lnTo>
                            <a:pt x="702" y="0"/>
                          </a:lnTo>
                          <a:close/>
                        </a:path>
                      </a:pathLst>
                    </a:custGeom>
                    <a:solidFill>
                      <a:srgbClr val="606060"/>
                    </a:solidFill>
                    <a:ln w="0">
                      <a:noFill/>
                    </a:ln>
                  </p:spPr>
                  <p:txBody>
                    <a:bodyPr lIns="90000" rIns="90000" tIns="-1800" bIns="-1800" anchor="t">
                      <a:noAutofit/>
                    </a:bodyPr>
                    <a:p>
                      <a:endParaRPr b="0" lang="en-US" sz="1800" spc="-1" strike="noStrike">
                        <a:solidFill>
                          <a:srgbClr val="000000"/>
                        </a:solidFill>
                        <a:latin typeface="Arial"/>
                      </a:endParaRPr>
                    </a:p>
                  </p:txBody>
                </p:sp>
              </p:grpSp>
              <p:grpSp>
                <p:nvGrpSpPr>
                  <p:cNvPr id="746" name=""/>
                  <p:cNvGrpSpPr/>
                  <p:nvPr/>
                </p:nvGrpSpPr>
                <p:grpSpPr>
                  <a:xfrm>
                    <a:off x="8089920" y="5389560"/>
                    <a:ext cx="262080" cy="109800"/>
                    <a:chOff x="8089920" y="5389560"/>
                    <a:chExt cx="262080" cy="109800"/>
                  </a:xfrm>
                </p:grpSpPr>
                <p:grpSp>
                  <p:nvGrpSpPr>
                    <p:cNvPr id="747" name=""/>
                    <p:cNvGrpSpPr/>
                    <p:nvPr/>
                  </p:nvGrpSpPr>
                  <p:grpSpPr>
                    <a:xfrm>
                      <a:off x="8089920" y="5389560"/>
                      <a:ext cx="230400" cy="92520"/>
                      <a:chOff x="8089920" y="5389560"/>
                      <a:chExt cx="230400" cy="92520"/>
                    </a:xfrm>
                  </p:grpSpPr>
                  <p:sp>
                    <p:nvSpPr>
                      <p:cNvPr id="748" name=""/>
                      <p:cNvSpPr/>
                      <p:nvPr/>
                    </p:nvSpPr>
                    <p:spPr>
                      <a:xfrm>
                        <a:off x="8089920" y="5389560"/>
                        <a:ext cx="230400" cy="90720"/>
                      </a:xfrm>
                      <a:custGeom>
                        <a:avLst/>
                        <a:gdLst/>
                        <a:ahLst/>
                        <a:rect l="0" t="0" r="r" b="b"/>
                        <a:pathLst>
                          <a:path w="640" h="252">
                            <a:moveTo>
                              <a:pt x="578" y="252"/>
                            </a:moveTo>
                            <a:lnTo>
                              <a:pt x="543" y="245"/>
                            </a:lnTo>
                            <a:lnTo>
                              <a:pt x="512" y="231"/>
                            </a:lnTo>
                            <a:lnTo>
                              <a:pt x="481" y="228"/>
                            </a:lnTo>
                            <a:lnTo>
                              <a:pt x="428" y="235"/>
                            </a:lnTo>
                            <a:lnTo>
                              <a:pt x="389" y="231"/>
                            </a:lnTo>
                            <a:lnTo>
                              <a:pt x="362" y="228"/>
                            </a:lnTo>
                            <a:lnTo>
                              <a:pt x="340" y="218"/>
                            </a:lnTo>
                            <a:lnTo>
                              <a:pt x="317" y="214"/>
                            </a:lnTo>
                            <a:lnTo>
                              <a:pt x="291" y="198"/>
                            </a:lnTo>
                            <a:lnTo>
                              <a:pt x="273" y="181"/>
                            </a:lnTo>
                            <a:lnTo>
                              <a:pt x="242" y="164"/>
                            </a:lnTo>
                            <a:lnTo>
                              <a:pt x="202" y="170"/>
                            </a:lnTo>
                            <a:lnTo>
                              <a:pt x="176" y="170"/>
                            </a:lnTo>
                            <a:lnTo>
                              <a:pt x="163" y="167"/>
                            </a:lnTo>
                            <a:lnTo>
                              <a:pt x="154" y="160"/>
                            </a:lnTo>
                            <a:lnTo>
                              <a:pt x="149" y="150"/>
                            </a:lnTo>
                            <a:lnTo>
                              <a:pt x="154" y="143"/>
                            </a:lnTo>
                            <a:lnTo>
                              <a:pt x="163" y="133"/>
                            </a:lnTo>
                            <a:lnTo>
                              <a:pt x="176" y="130"/>
                            </a:lnTo>
                            <a:lnTo>
                              <a:pt x="211" y="125"/>
                            </a:lnTo>
                            <a:lnTo>
                              <a:pt x="251" y="112"/>
                            </a:lnTo>
                            <a:lnTo>
                              <a:pt x="220" y="91"/>
                            </a:lnTo>
                            <a:lnTo>
                              <a:pt x="176" y="78"/>
                            </a:lnTo>
                            <a:lnTo>
                              <a:pt x="141" y="81"/>
                            </a:lnTo>
                            <a:lnTo>
                              <a:pt x="101" y="78"/>
                            </a:lnTo>
                            <a:lnTo>
                              <a:pt x="79" y="88"/>
                            </a:lnTo>
                            <a:lnTo>
                              <a:pt x="48" y="88"/>
                            </a:lnTo>
                            <a:lnTo>
                              <a:pt x="35" y="78"/>
                            </a:lnTo>
                            <a:lnTo>
                              <a:pt x="30" y="67"/>
                            </a:lnTo>
                            <a:lnTo>
                              <a:pt x="13" y="71"/>
                            </a:lnTo>
                            <a:lnTo>
                              <a:pt x="4" y="67"/>
                            </a:lnTo>
                            <a:lnTo>
                              <a:pt x="0" y="57"/>
                            </a:lnTo>
                            <a:lnTo>
                              <a:pt x="0" y="47"/>
                            </a:lnTo>
                            <a:lnTo>
                              <a:pt x="13" y="44"/>
                            </a:lnTo>
                            <a:lnTo>
                              <a:pt x="30" y="37"/>
                            </a:lnTo>
                            <a:lnTo>
                              <a:pt x="44" y="30"/>
                            </a:lnTo>
                            <a:lnTo>
                              <a:pt x="61" y="20"/>
                            </a:lnTo>
                            <a:lnTo>
                              <a:pt x="79" y="20"/>
                            </a:lnTo>
                            <a:lnTo>
                              <a:pt x="97" y="20"/>
                            </a:lnTo>
                            <a:lnTo>
                              <a:pt x="171" y="6"/>
                            </a:lnTo>
                            <a:lnTo>
                              <a:pt x="189" y="3"/>
                            </a:lnTo>
                            <a:lnTo>
                              <a:pt x="207" y="0"/>
                            </a:lnTo>
                            <a:lnTo>
                              <a:pt x="224" y="3"/>
                            </a:lnTo>
                            <a:lnTo>
                              <a:pt x="251" y="6"/>
                            </a:lnTo>
                            <a:lnTo>
                              <a:pt x="317" y="37"/>
                            </a:lnTo>
                            <a:lnTo>
                              <a:pt x="349" y="40"/>
                            </a:lnTo>
                            <a:lnTo>
                              <a:pt x="380" y="47"/>
                            </a:lnTo>
                            <a:lnTo>
                              <a:pt x="397" y="57"/>
                            </a:lnTo>
                            <a:lnTo>
                              <a:pt x="415" y="71"/>
                            </a:lnTo>
                            <a:lnTo>
                              <a:pt x="468" y="101"/>
                            </a:lnTo>
                            <a:lnTo>
                              <a:pt x="494" y="115"/>
                            </a:lnTo>
                            <a:lnTo>
                              <a:pt x="525" y="143"/>
                            </a:lnTo>
                            <a:lnTo>
                              <a:pt x="547" y="150"/>
                            </a:lnTo>
                            <a:lnTo>
                              <a:pt x="640" y="153"/>
                            </a:lnTo>
                            <a:lnTo>
                              <a:pt x="578" y="252"/>
                            </a:lnTo>
                            <a:close/>
                          </a:path>
                        </a:pathLst>
                      </a:custGeom>
                      <a:solidFill>
                        <a:srgbClr val="ffc080"/>
                      </a:solidFill>
                      <a:ln w="12600">
                        <a:solidFill>
                          <a:srgbClr val="402000"/>
                        </a:solidFill>
                        <a:round/>
                      </a:ln>
                    </p:spPr>
                    <p:txBody>
                      <a:bodyPr lIns="96120" rIns="96120" tIns="39600" bIns="39600" anchor="t">
                        <a:noAutofit/>
                      </a:bodyPr>
                      <a:p>
                        <a:endParaRPr b="0" lang="en-US" sz="1800" spc="-1" strike="noStrike">
                          <a:solidFill>
                            <a:srgbClr val="000000"/>
                          </a:solidFill>
                          <a:latin typeface="Arial"/>
                        </a:endParaRPr>
                      </a:p>
                    </p:txBody>
                  </p:sp>
                  <p:sp>
                    <p:nvSpPr>
                      <p:cNvPr id="749" name=""/>
                      <p:cNvSpPr/>
                      <p:nvPr/>
                    </p:nvSpPr>
                    <p:spPr>
                      <a:xfrm>
                        <a:off x="8177040" y="5427720"/>
                        <a:ext cx="44640" cy="25920"/>
                      </a:xfrm>
                      <a:custGeom>
                        <a:avLst/>
                        <a:gdLst/>
                        <a:ahLst/>
                        <a:rect l="0" t="0" r="r" b="b"/>
                        <a:pathLst>
                          <a:path w="124" h="72">
                            <a:moveTo>
                              <a:pt x="0" y="0"/>
                            </a:moveTo>
                            <a:lnTo>
                              <a:pt x="0" y="23"/>
                            </a:lnTo>
                            <a:lnTo>
                              <a:pt x="22" y="23"/>
                            </a:lnTo>
                            <a:lnTo>
                              <a:pt x="35" y="23"/>
                            </a:lnTo>
                            <a:lnTo>
                              <a:pt x="52" y="45"/>
                            </a:lnTo>
                            <a:lnTo>
                              <a:pt x="75" y="45"/>
                            </a:lnTo>
                            <a:lnTo>
                              <a:pt x="102" y="45"/>
                            </a:lnTo>
                            <a:lnTo>
                              <a:pt x="124" y="72"/>
                            </a:lnTo>
                            <a:lnTo>
                              <a:pt x="106" y="45"/>
                            </a:lnTo>
                            <a:lnTo>
                              <a:pt x="84" y="45"/>
                            </a:lnTo>
                            <a:lnTo>
                              <a:pt x="71" y="45"/>
                            </a:lnTo>
                            <a:lnTo>
                              <a:pt x="52" y="23"/>
                            </a:lnTo>
                            <a:lnTo>
                              <a:pt x="35" y="23"/>
                            </a:lnTo>
                            <a:lnTo>
                              <a:pt x="26" y="0"/>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50" name=""/>
                      <p:cNvSpPr/>
                      <p:nvPr/>
                    </p:nvSpPr>
                    <p:spPr>
                      <a:xfrm>
                        <a:off x="8131320" y="5437080"/>
                        <a:ext cx="25920" cy="25920"/>
                      </a:xfrm>
                      <a:custGeom>
                        <a:avLst/>
                        <a:gdLst/>
                        <a:ahLst/>
                        <a:rect l="0" t="0" r="r" b="b"/>
                        <a:pathLst>
                          <a:path w="72" h="72">
                            <a:moveTo>
                              <a:pt x="27" y="0"/>
                            </a:moveTo>
                            <a:lnTo>
                              <a:pt x="49" y="0"/>
                            </a:lnTo>
                            <a:lnTo>
                              <a:pt x="27" y="36"/>
                            </a:lnTo>
                            <a:lnTo>
                              <a:pt x="0" y="72"/>
                            </a:lnTo>
                            <a:lnTo>
                              <a:pt x="49" y="36"/>
                            </a:lnTo>
                            <a:lnTo>
                              <a:pt x="72" y="36"/>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51" name=""/>
                      <p:cNvSpPr/>
                      <p:nvPr/>
                    </p:nvSpPr>
                    <p:spPr>
                      <a:xfrm>
                        <a:off x="8096400" y="5402160"/>
                        <a:ext cx="25920" cy="25920"/>
                      </a:xfrm>
                      <a:custGeom>
                        <a:avLst/>
                        <a:gdLst/>
                        <a:ahLst/>
                        <a:rect l="0" t="0" r="r" b="b"/>
                        <a:pathLst>
                          <a:path w="72" h="72">
                            <a:moveTo>
                              <a:pt x="0" y="72"/>
                            </a:moveTo>
                            <a:lnTo>
                              <a:pt x="8" y="72"/>
                            </a:lnTo>
                            <a:lnTo>
                              <a:pt x="17" y="45"/>
                            </a:lnTo>
                            <a:lnTo>
                              <a:pt x="31" y="45"/>
                            </a:lnTo>
                            <a:lnTo>
                              <a:pt x="40" y="23"/>
                            </a:lnTo>
                            <a:lnTo>
                              <a:pt x="45" y="23"/>
                            </a:lnTo>
                            <a:lnTo>
                              <a:pt x="59" y="0"/>
                            </a:lnTo>
                            <a:lnTo>
                              <a:pt x="72" y="0"/>
                            </a:lnTo>
                            <a:lnTo>
                              <a:pt x="59" y="0"/>
                            </a:lnTo>
                            <a:lnTo>
                              <a:pt x="40" y="0"/>
                            </a:lnTo>
                            <a:lnTo>
                              <a:pt x="31" y="23"/>
                            </a:lnTo>
                            <a:lnTo>
                              <a:pt x="23" y="23"/>
                            </a:lnTo>
                            <a:lnTo>
                              <a:pt x="0"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52" name=""/>
                      <p:cNvSpPr/>
                      <p:nvPr/>
                    </p:nvSpPr>
                    <p:spPr>
                      <a:xfrm>
                        <a:off x="8148600" y="5397480"/>
                        <a:ext cx="39960" cy="25920"/>
                      </a:xfrm>
                      <a:custGeom>
                        <a:avLst/>
                        <a:gdLst/>
                        <a:ahLst/>
                        <a:rect l="0" t="0" r="r" b="b"/>
                        <a:pathLst>
                          <a:path w="111" h="72">
                            <a:moveTo>
                              <a:pt x="0" y="0"/>
                            </a:moveTo>
                            <a:lnTo>
                              <a:pt x="17" y="0"/>
                            </a:lnTo>
                            <a:lnTo>
                              <a:pt x="30" y="0"/>
                            </a:lnTo>
                            <a:lnTo>
                              <a:pt x="39" y="0"/>
                            </a:lnTo>
                            <a:lnTo>
                              <a:pt x="52" y="0"/>
                            </a:lnTo>
                            <a:lnTo>
                              <a:pt x="62" y="36"/>
                            </a:lnTo>
                            <a:lnTo>
                              <a:pt x="75" y="36"/>
                            </a:lnTo>
                            <a:lnTo>
                              <a:pt x="93" y="72"/>
                            </a:lnTo>
                            <a:lnTo>
                              <a:pt x="111" y="72"/>
                            </a:lnTo>
                            <a:lnTo>
                              <a:pt x="93" y="72"/>
                            </a:lnTo>
                            <a:lnTo>
                              <a:pt x="80" y="72"/>
                            </a:lnTo>
                            <a:lnTo>
                              <a:pt x="62" y="36"/>
                            </a:lnTo>
                            <a:lnTo>
                              <a:pt x="48" y="0"/>
                            </a:lnTo>
                            <a:lnTo>
                              <a:pt x="30" y="0"/>
                            </a:lnTo>
                            <a:lnTo>
                              <a:pt x="17" y="0"/>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53" name=""/>
                      <p:cNvSpPr/>
                      <p:nvPr/>
                    </p:nvSpPr>
                    <p:spPr>
                      <a:xfrm>
                        <a:off x="8105760" y="5407200"/>
                        <a:ext cx="0" cy="25200"/>
                      </a:xfrm>
                      <a:prstGeom prst="line">
                        <a:avLst/>
                      </a:prstGeom>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54" name=""/>
                      <p:cNvSpPr/>
                      <p:nvPr/>
                    </p:nvSpPr>
                    <p:spPr>
                      <a:xfrm>
                        <a:off x="8094600" y="5403960"/>
                        <a:ext cx="0" cy="25200"/>
                      </a:xfrm>
                      <a:custGeom>
                        <a:avLst/>
                        <a:gdLst/>
                        <a:ahLst/>
                        <a:rect l="0" t="0" r="r" b="b"/>
                        <a:pathLst>
                          <a:path w="0" h="70">
                            <a:moveTo>
                              <a:pt x="0" y="70"/>
                            </a:moveTo>
                            <a:lnTo>
                              <a:pt x="0" y="0"/>
                            </a:lnTo>
                            <a:lnTo>
                              <a:pt x="0" y="70"/>
                            </a:lnTo>
                            <a:close/>
                          </a:path>
                        </a:pathLst>
                      </a:custGeom>
                      <a:solidFill>
                        <a:srgbClr val="402000"/>
                      </a:solidFill>
                      <a:ln w="0">
                        <a:noFill/>
                      </a:ln>
                    </p:spPr>
                    <p:txBody>
                      <a:bodyPr lIns="90000" rIns="90000" tIns="-19800" bIns="-19800" anchor="t">
                        <a:noAutofit/>
                      </a:bodyPr>
                      <a:p>
                        <a:endParaRPr b="0" lang="en-US" sz="1800" spc="-1" strike="noStrike">
                          <a:solidFill>
                            <a:srgbClr val="ffffff"/>
                          </a:solidFill>
                          <a:latin typeface="Arial"/>
                        </a:endParaRPr>
                      </a:p>
                    </p:txBody>
                  </p:sp>
                  <p:sp>
                    <p:nvSpPr>
                      <p:cNvPr id="755" name=""/>
                      <p:cNvSpPr/>
                      <p:nvPr/>
                    </p:nvSpPr>
                    <p:spPr>
                      <a:xfrm>
                        <a:off x="8199360" y="5413320"/>
                        <a:ext cx="25920" cy="25920"/>
                      </a:xfrm>
                      <a:custGeom>
                        <a:avLst/>
                        <a:gdLst/>
                        <a:ahLst/>
                        <a:rect l="0" t="0" r="r" b="b"/>
                        <a:pathLst>
                          <a:path w="72" h="72">
                            <a:moveTo>
                              <a:pt x="0" y="0"/>
                            </a:moveTo>
                            <a:lnTo>
                              <a:pt x="0" y="36"/>
                            </a:lnTo>
                            <a:lnTo>
                              <a:pt x="72" y="72"/>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56" name=""/>
                      <p:cNvSpPr/>
                      <p:nvPr/>
                    </p:nvSpPr>
                    <p:spPr>
                      <a:xfrm>
                        <a:off x="8244000" y="5456160"/>
                        <a:ext cx="25920" cy="25920"/>
                      </a:xfrm>
                      <a:custGeom>
                        <a:avLst/>
                        <a:gdLst/>
                        <a:ahLst/>
                        <a:rect l="0" t="0" r="r" b="b"/>
                        <a:pathLst>
                          <a:path w="72" h="72">
                            <a:moveTo>
                              <a:pt x="72" y="0"/>
                            </a:moveTo>
                            <a:lnTo>
                              <a:pt x="17" y="0"/>
                            </a:lnTo>
                            <a:lnTo>
                              <a:pt x="0" y="72"/>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grpSp>
                <p:grpSp>
                  <p:nvGrpSpPr>
                    <p:cNvPr id="757" name=""/>
                    <p:cNvGrpSpPr/>
                    <p:nvPr/>
                  </p:nvGrpSpPr>
                  <p:grpSpPr>
                    <a:xfrm>
                      <a:off x="8285040" y="5437080"/>
                      <a:ext cx="66960" cy="62280"/>
                      <a:chOff x="8285040" y="5437080"/>
                      <a:chExt cx="66960" cy="62280"/>
                    </a:xfrm>
                  </p:grpSpPr>
                  <p:sp>
                    <p:nvSpPr>
                      <p:cNvPr id="758" name=""/>
                      <p:cNvSpPr/>
                      <p:nvPr/>
                    </p:nvSpPr>
                    <p:spPr>
                      <a:xfrm>
                        <a:off x="8285040" y="5437080"/>
                        <a:ext cx="66960" cy="62280"/>
                      </a:xfrm>
                      <a:custGeom>
                        <a:avLst/>
                        <a:gdLst/>
                        <a:ahLst/>
                        <a:rect l="0" t="0" r="r" b="b"/>
                        <a:pathLst>
                          <a:path w="186" h="173">
                            <a:moveTo>
                              <a:pt x="61" y="10"/>
                            </a:moveTo>
                            <a:lnTo>
                              <a:pt x="35" y="33"/>
                            </a:lnTo>
                            <a:lnTo>
                              <a:pt x="17" y="54"/>
                            </a:lnTo>
                            <a:lnTo>
                              <a:pt x="4" y="88"/>
                            </a:lnTo>
                            <a:lnTo>
                              <a:pt x="4" y="105"/>
                            </a:lnTo>
                            <a:lnTo>
                              <a:pt x="0" y="136"/>
                            </a:lnTo>
                            <a:lnTo>
                              <a:pt x="150" y="173"/>
                            </a:lnTo>
                            <a:lnTo>
                              <a:pt x="186" y="0"/>
                            </a:lnTo>
                            <a:lnTo>
                              <a:pt x="120" y="10"/>
                            </a:lnTo>
                            <a:lnTo>
                              <a:pt x="61" y="10"/>
                            </a:lnTo>
                            <a:close/>
                          </a:path>
                        </a:pathLst>
                      </a:custGeom>
                      <a:solidFill>
                        <a:srgbClr val="c0c0c0"/>
                      </a:solidFill>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759" name=""/>
                      <p:cNvSpPr/>
                      <p:nvPr/>
                    </p:nvSpPr>
                    <p:spPr>
                      <a:xfrm>
                        <a:off x="8291520" y="5442120"/>
                        <a:ext cx="44640" cy="46440"/>
                      </a:xfrm>
                      <a:custGeom>
                        <a:avLst/>
                        <a:gdLst/>
                        <a:ahLst/>
                        <a:rect l="0" t="0" r="r" b="b"/>
                        <a:pathLst>
                          <a:path w="124" h="129">
                            <a:moveTo>
                              <a:pt x="48" y="3"/>
                            </a:moveTo>
                            <a:lnTo>
                              <a:pt x="26" y="24"/>
                            </a:lnTo>
                            <a:lnTo>
                              <a:pt x="4" y="56"/>
                            </a:lnTo>
                            <a:lnTo>
                              <a:pt x="4" y="70"/>
                            </a:lnTo>
                            <a:lnTo>
                              <a:pt x="0" y="98"/>
                            </a:lnTo>
                            <a:lnTo>
                              <a:pt x="98" y="129"/>
                            </a:lnTo>
                            <a:lnTo>
                              <a:pt x="124" y="0"/>
                            </a:lnTo>
                            <a:lnTo>
                              <a:pt x="84" y="6"/>
                            </a:lnTo>
                            <a:lnTo>
                              <a:pt x="48" y="3"/>
                            </a:lnTo>
                            <a:close/>
                          </a:path>
                        </a:pathLst>
                      </a:custGeom>
                      <a:solidFill>
                        <a:srgbClr val="e0e0e0"/>
                      </a:solidFill>
                      <a:ln w="0">
                        <a:noFill/>
                      </a:ln>
                    </p:spPr>
                    <p:txBody>
                      <a:bodyPr lIns="90000" rIns="90000" tIns="1440" bIns="1440" anchor="t">
                        <a:noAutofit/>
                      </a:bodyPr>
                      <a:p>
                        <a:endParaRPr b="0" lang="en-US" sz="1800" spc="-1" strike="noStrike">
                          <a:solidFill>
                            <a:srgbClr val="000000"/>
                          </a:solidFill>
                          <a:latin typeface="Arial"/>
                        </a:endParaRPr>
                      </a:p>
                    </p:txBody>
                  </p:sp>
                </p:grpSp>
              </p:grpSp>
              <p:sp>
                <p:nvSpPr>
                  <p:cNvPr id="760" name=""/>
                  <p:cNvSpPr/>
                  <p:nvPr/>
                </p:nvSpPr>
                <p:spPr>
                  <a:xfrm>
                    <a:off x="8344080" y="5094360"/>
                    <a:ext cx="227520" cy="190800"/>
                  </a:xfrm>
                  <a:custGeom>
                    <a:avLst/>
                    <a:gdLst/>
                    <a:ahLst/>
                    <a:rect l="0" t="0" r="r" b="b"/>
                    <a:pathLst>
                      <a:path w="632" h="530">
                        <a:moveTo>
                          <a:pt x="208" y="16"/>
                        </a:moveTo>
                        <a:lnTo>
                          <a:pt x="149" y="47"/>
                        </a:lnTo>
                        <a:lnTo>
                          <a:pt x="123" y="84"/>
                        </a:lnTo>
                        <a:lnTo>
                          <a:pt x="97" y="125"/>
                        </a:lnTo>
                        <a:lnTo>
                          <a:pt x="79" y="149"/>
                        </a:lnTo>
                        <a:lnTo>
                          <a:pt x="79" y="169"/>
                        </a:lnTo>
                        <a:lnTo>
                          <a:pt x="92" y="196"/>
                        </a:lnTo>
                        <a:lnTo>
                          <a:pt x="61" y="217"/>
                        </a:lnTo>
                        <a:lnTo>
                          <a:pt x="22" y="275"/>
                        </a:lnTo>
                        <a:lnTo>
                          <a:pt x="0" y="309"/>
                        </a:lnTo>
                        <a:lnTo>
                          <a:pt x="0" y="316"/>
                        </a:lnTo>
                        <a:lnTo>
                          <a:pt x="4" y="326"/>
                        </a:lnTo>
                        <a:lnTo>
                          <a:pt x="26" y="333"/>
                        </a:lnTo>
                        <a:lnTo>
                          <a:pt x="48" y="333"/>
                        </a:lnTo>
                        <a:lnTo>
                          <a:pt x="66" y="336"/>
                        </a:lnTo>
                        <a:lnTo>
                          <a:pt x="61" y="360"/>
                        </a:lnTo>
                        <a:lnTo>
                          <a:pt x="57" y="387"/>
                        </a:lnTo>
                        <a:lnTo>
                          <a:pt x="74" y="401"/>
                        </a:lnTo>
                        <a:lnTo>
                          <a:pt x="66" y="421"/>
                        </a:lnTo>
                        <a:lnTo>
                          <a:pt x="79" y="435"/>
                        </a:lnTo>
                        <a:lnTo>
                          <a:pt x="92" y="469"/>
                        </a:lnTo>
                        <a:lnTo>
                          <a:pt x="114" y="479"/>
                        </a:lnTo>
                        <a:lnTo>
                          <a:pt x="141" y="479"/>
                        </a:lnTo>
                        <a:lnTo>
                          <a:pt x="186" y="475"/>
                        </a:lnTo>
                        <a:lnTo>
                          <a:pt x="230" y="469"/>
                        </a:lnTo>
                        <a:lnTo>
                          <a:pt x="225" y="530"/>
                        </a:lnTo>
                        <a:lnTo>
                          <a:pt x="562" y="448"/>
                        </a:lnTo>
                        <a:lnTo>
                          <a:pt x="535" y="401"/>
                        </a:lnTo>
                        <a:lnTo>
                          <a:pt x="539" y="363"/>
                        </a:lnTo>
                        <a:lnTo>
                          <a:pt x="632" y="292"/>
                        </a:lnTo>
                        <a:lnTo>
                          <a:pt x="632" y="101"/>
                        </a:lnTo>
                        <a:lnTo>
                          <a:pt x="575" y="50"/>
                        </a:lnTo>
                        <a:lnTo>
                          <a:pt x="495" y="23"/>
                        </a:lnTo>
                        <a:lnTo>
                          <a:pt x="411" y="0"/>
                        </a:lnTo>
                        <a:lnTo>
                          <a:pt x="305" y="13"/>
                        </a:lnTo>
                        <a:lnTo>
                          <a:pt x="208" y="16"/>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p:nvPr/>
                </p:nvSpPr>
                <p:spPr>
                  <a:xfrm>
                    <a:off x="8335800" y="5203800"/>
                    <a:ext cx="25920" cy="25920"/>
                  </a:xfrm>
                  <a:custGeom>
                    <a:avLst/>
                    <a:gdLst/>
                    <a:ahLst/>
                    <a:rect l="0" t="0" r="r" b="b"/>
                    <a:pathLst>
                      <a:path w="72" h="72">
                        <a:moveTo>
                          <a:pt x="0" y="0"/>
                        </a:moveTo>
                        <a:lnTo>
                          <a:pt x="0" y="72"/>
                        </a:lnTo>
                        <a:lnTo>
                          <a:pt x="36" y="36"/>
                        </a:lnTo>
                        <a:lnTo>
                          <a:pt x="72" y="72"/>
                        </a:lnTo>
                        <a:lnTo>
                          <a:pt x="72" y="0"/>
                        </a:lnTo>
                        <a:lnTo>
                          <a:pt x="36" y="0"/>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62" name=""/>
                  <p:cNvSpPr/>
                  <p:nvPr/>
                </p:nvSpPr>
                <p:spPr>
                  <a:xfrm>
                    <a:off x="8342280" y="5199120"/>
                    <a:ext cx="25920" cy="25920"/>
                  </a:xfrm>
                  <a:custGeom>
                    <a:avLst/>
                    <a:gdLst/>
                    <a:ahLst/>
                    <a:rect l="0" t="0" r="r" b="b"/>
                    <a:pathLst>
                      <a:path w="72" h="72">
                        <a:moveTo>
                          <a:pt x="0" y="0"/>
                        </a:moveTo>
                        <a:lnTo>
                          <a:pt x="53" y="0"/>
                        </a:lnTo>
                        <a:lnTo>
                          <a:pt x="53" y="72"/>
                        </a:lnTo>
                        <a:lnTo>
                          <a:pt x="72" y="0"/>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63" name=""/>
                  <p:cNvSpPr/>
                  <p:nvPr/>
                </p:nvSpPr>
                <p:spPr>
                  <a:xfrm>
                    <a:off x="8353440" y="5176800"/>
                    <a:ext cx="25920" cy="25920"/>
                  </a:xfrm>
                  <a:custGeom>
                    <a:avLst/>
                    <a:gdLst/>
                    <a:ahLst/>
                    <a:rect l="0" t="0" r="r" b="b"/>
                    <a:pathLst>
                      <a:path w="72" h="72">
                        <a:moveTo>
                          <a:pt x="72" y="0"/>
                        </a:moveTo>
                        <a:lnTo>
                          <a:pt x="27" y="36"/>
                        </a:lnTo>
                        <a:lnTo>
                          <a:pt x="0" y="72"/>
                        </a:lnTo>
                        <a:lnTo>
                          <a:pt x="27" y="45"/>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64" name=""/>
                  <p:cNvSpPr/>
                  <p:nvPr/>
                </p:nvSpPr>
                <p:spPr>
                  <a:xfrm>
                    <a:off x="8372520" y="5164200"/>
                    <a:ext cx="25920" cy="25920"/>
                  </a:xfrm>
                  <a:custGeom>
                    <a:avLst/>
                    <a:gdLst/>
                    <a:ahLst/>
                    <a:rect l="0" t="0" r="r" b="b"/>
                    <a:pathLst>
                      <a:path w="72" h="72">
                        <a:moveTo>
                          <a:pt x="0" y="0"/>
                        </a:moveTo>
                        <a:lnTo>
                          <a:pt x="13" y="36"/>
                        </a:lnTo>
                        <a:lnTo>
                          <a:pt x="13" y="53"/>
                        </a:lnTo>
                        <a:lnTo>
                          <a:pt x="8" y="72"/>
                        </a:lnTo>
                        <a:lnTo>
                          <a:pt x="23" y="53"/>
                        </a:lnTo>
                        <a:lnTo>
                          <a:pt x="36" y="53"/>
                        </a:lnTo>
                        <a:lnTo>
                          <a:pt x="49" y="36"/>
                        </a:lnTo>
                        <a:lnTo>
                          <a:pt x="72" y="36"/>
                        </a:lnTo>
                        <a:lnTo>
                          <a:pt x="49" y="17"/>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65" name=""/>
                  <p:cNvSpPr/>
                  <p:nvPr/>
                </p:nvSpPr>
                <p:spPr>
                  <a:xfrm>
                    <a:off x="8375760" y="5143320"/>
                    <a:ext cx="32040" cy="25920"/>
                  </a:xfrm>
                  <a:custGeom>
                    <a:avLst/>
                    <a:gdLst/>
                    <a:ahLst/>
                    <a:rect l="0" t="0" r="r" b="b"/>
                    <a:pathLst>
                      <a:path w="89" h="72">
                        <a:moveTo>
                          <a:pt x="0" y="36"/>
                        </a:moveTo>
                        <a:lnTo>
                          <a:pt x="0" y="53"/>
                        </a:lnTo>
                        <a:lnTo>
                          <a:pt x="13" y="72"/>
                        </a:lnTo>
                        <a:lnTo>
                          <a:pt x="26" y="53"/>
                        </a:lnTo>
                        <a:lnTo>
                          <a:pt x="45" y="36"/>
                        </a:lnTo>
                        <a:lnTo>
                          <a:pt x="71" y="36"/>
                        </a:lnTo>
                        <a:lnTo>
                          <a:pt x="89" y="36"/>
                        </a:lnTo>
                        <a:lnTo>
                          <a:pt x="62" y="17"/>
                        </a:lnTo>
                        <a:lnTo>
                          <a:pt x="49" y="17"/>
                        </a:lnTo>
                        <a:lnTo>
                          <a:pt x="49" y="0"/>
                        </a:lnTo>
                        <a:lnTo>
                          <a:pt x="35" y="17"/>
                        </a:lnTo>
                        <a:lnTo>
                          <a:pt x="35" y="0"/>
                        </a:lnTo>
                        <a:lnTo>
                          <a:pt x="26" y="17"/>
                        </a:lnTo>
                        <a:lnTo>
                          <a:pt x="17" y="17"/>
                        </a:lnTo>
                        <a:lnTo>
                          <a:pt x="0" y="36"/>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66" name=""/>
                  <p:cNvSpPr/>
                  <p:nvPr/>
                </p:nvSpPr>
                <p:spPr>
                  <a:xfrm>
                    <a:off x="8456760" y="5160960"/>
                    <a:ext cx="25920" cy="30600"/>
                  </a:xfrm>
                  <a:custGeom>
                    <a:avLst/>
                    <a:gdLst/>
                    <a:ahLst/>
                    <a:rect l="0" t="0" r="r" b="b"/>
                    <a:pathLst>
                      <a:path w="72" h="85">
                        <a:moveTo>
                          <a:pt x="0" y="16"/>
                        </a:moveTo>
                        <a:lnTo>
                          <a:pt x="23" y="6"/>
                        </a:lnTo>
                        <a:lnTo>
                          <a:pt x="53" y="6"/>
                        </a:lnTo>
                        <a:lnTo>
                          <a:pt x="68" y="20"/>
                        </a:lnTo>
                        <a:lnTo>
                          <a:pt x="68" y="41"/>
                        </a:lnTo>
                        <a:lnTo>
                          <a:pt x="68" y="57"/>
                        </a:lnTo>
                        <a:lnTo>
                          <a:pt x="63" y="69"/>
                        </a:lnTo>
                        <a:lnTo>
                          <a:pt x="40" y="47"/>
                        </a:lnTo>
                        <a:lnTo>
                          <a:pt x="36" y="37"/>
                        </a:lnTo>
                        <a:lnTo>
                          <a:pt x="8" y="34"/>
                        </a:lnTo>
                        <a:lnTo>
                          <a:pt x="23" y="47"/>
                        </a:lnTo>
                        <a:lnTo>
                          <a:pt x="49" y="57"/>
                        </a:lnTo>
                        <a:lnTo>
                          <a:pt x="49" y="72"/>
                        </a:lnTo>
                        <a:lnTo>
                          <a:pt x="40" y="82"/>
                        </a:lnTo>
                        <a:lnTo>
                          <a:pt x="27" y="85"/>
                        </a:lnTo>
                        <a:lnTo>
                          <a:pt x="63" y="79"/>
                        </a:lnTo>
                        <a:lnTo>
                          <a:pt x="72" y="61"/>
                        </a:lnTo>
                        <a:lnTo>
                          <a:pt x="72" y="37"/>
                        </a:lnTo>
                        <a:lnTo>
                          <a:pt x="72" y="16"/>
                        </a:lnTo>
                        <a:lnTo>
                          <a:pt x="63" y="6"/>
                        </a:lnTo>
                        <a:lnTo>
                          <a:pt x="36" y="0"/>
                        </a:lnTo>
                        <a:lnTo>
                          <a:pt x="13" y="3"/>
                        </a:lnTo>
                        <a:lnTo>
                          <a:pt x="0" y="16"/>
                        </a:lnTo>
                        <a:close/>
                      </a:path>
                    </a:pathLst>
                  </a:custGeom>
                  <a:solidFill>
                    <a:srgbClr val="402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767" name=""/>
                  <p:cNvSpPr/>
                  <p:nvPr/>
                </p:nvSpPr>
                <p:spPr>
                  <a:xfrm>
                    <a:off x="8462880" y="5154480"/>
                    <a:ext cx="28800" cy="44640"/>
                  </a:xfrm>
                  <a:custGeom>
                    <a:avLst/>
                    <a:gdLst/>
                    <a:ahLst/>
                    <a:rect l="0" t="0" r="r" b="b"/>
                    <a:pathLst>
                      <a:path w="80" h="124">
                        <a:moveTo>
                          <a:pt x="0" y="30"/>
                        </a:moveTo>
                        <a:lnTo>
                          <a:pt x="13" y="10"/>
                        </a:lnTo>
                        <a:lnTo>
                          <a:pt x="30" y="6"/>
                        </a:lnTo>
                        <a:lnTo>
                          <a:pt x="58" y="6"/>
                        </a:lnTo>
                        <a:lnTo>
                          <a:pt x="62" y="24"/>
                        </a:lnTo>
                        <a:lnTo>
                          <a:pt x="75" y="37"/>
                        </a:lnTo>
                        <a:lnTo>
                          <a:pt x="75" y="54"/>
                        </a:lnTo>
                        <a:lnTo>
                          <a:pt x="67" y="66"/>
                        </a:lnTo>
                        <a:lnTo>
                          <a:pt x="67" y="79"/>
                        </a:lnTo>
                        <a:lnTo>
                          <a:pt x="62" y="100"/>
                        </a:lnTo>
                        <a:lnTo>
                          <a:pt x="49" y="117"/>
                        </a:lnTo>
                        <a:lnTo>
                          <a:pt x="35" y="117"/>
                        </a:lnTo>
                        <a:lnTo>
                          <a:pt x="22" y="117"/>
                        </a:lnTo>
                        <a:lnTo>
                          <a:pt x="30" y="124"/>
                        </a:lnTo>
                        <a:lnTo>
                          <a:pt x="45" y="121"/>
                        </a:lnTo>
                        <a:lnTo>
                          <a:pt x="62" y="117"/>
                        </a:lnTo>
                        <a:lnTo>
                          <a:pt x="75" y="100"/>
                        </a:lnTo>
                        <a:lnTo>
                          <a:pt x="75" y="69"/>
                        </a:lnTo>
                        <a:lnTo>
                          <a:pt x="80" y="51"/>
                        </a:lnTo>
                        <a:lnTo>
                          <a:pt x="80" y="34"/>
                        </a:lnTo>
                        <a:lnTo>
                          <a:pt x="71" y="20"/>
                        </a:lnTo>
                        <a:lnTo>
                          <a:pt x="62" y="6"/>
                        </a:lnTo>
                        <a:lnTo>
                          <a:pt x="45" y="0"/>
                        </a:lnTo>
                        <a:lnTo>
                          <a:pt x="13" y="6"/>
                        </a:lnTo>
                        <a:lnTo>
                          <a:pt x="0" y="10"/>
                        </a:lnTo>
                        <a:lnTo>
                          <a:pt x="0" y="30"/>
                        </a:lnTo>
                        <a:close/>
                      </a:path>
                    </a:pathLst>
                  </a:custGeom>
                  <a:solidFill>
                    <a:srgbClr val="402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768" name=""/>
                  <p:cNvSpPr/>
                  <p:nvPr/>
                </p:nvSpPr>
                <p:spPr>
                  <a:xfrm>
                    <a:off x="8442360" y="5207040"/>
                    <a:ext cx="27360" cy="36720"/>
                  </a:xfrm>
                  <a:custGeom>
                    <a:avLst/>
                    <a:gdLst/>
                    <a:ahLst/>
                    <a:rect l="0" t="0" r="r" b="b"/>
                    <a:pathLst>
                      <a:path w="76" h="102">
                        <a:moveTo>
                          <a:pt x="76" y="0"/>
                        </a:moveTo>
                        <a:lnTo>
                          <a:pt x="68" y="24"/>
                        </a:lnTo>
                        <a:lnTo>
                          <a:pt x="49" y="45"/>
                        </a:lnTo>
                        <a:lnTo>
                          <a:pt x="31" y="67"/>
                        </a:lnTo>
                        <a:lnTo>
                          <a:pt x="13" y="95"/>
                        </a:lnTo>
                        <a:lnTo>
                          <a:pt x="0" y="102"/>
                        </a:lnTo>
                        <a:lnTo>
                          <a:pt x="27" y="91"/>
                        </a:lnTo>
                        <a:lnTo>
                          <a:pt x="45" y="67"/>
                        </a:lnTo>
                        <a:lnTo>
                          <a:pt x="63" y="38"/>
                        </a:lnTo>
                        <a:lnTo>
                          <a:pt x="76" y="0"/>
                        </a:lnTo>
                        <a:close/>
                      </a:path>
                    </a:pathLst>
                  </a:custGeom>
                  <a:solidFill>
                    <a:srgbClr val="40200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769" name=""/>
                  <p:cNvSpPr/>
                  <p:nvPr/>
                </p:nvSpPr>
                <p:spPr>
                  <a:xfrm>
                    <a:off x="8381880" y="5065560"/>
                    <a:ext cx="197280" cy="151200"/>
                  </a:xfrm>
                  <a:custGeom>
                    <a:avLst/>
                    <a:gdLst/>
                    <a:ahLst/>
                    <a:rect l="0" t="0" r="r" b="b"/>
                    <a:pathLst>
                      <a:path w="548" h="420">
                        <a:moveTo>
                          <a:pt x="39" y="120"/>
                        </a:moveTo>
                        <a:lnTo>
                          <a:pt x="123" y="109"/>
                        </a:lnTo>
                        <a:lnTo>
                          <a:pt x="177" y="116"/>
                        </a:lnTo>
                        <a:lnTo>
                          <a:pt x="212" y="147"/>
                        </a:lnTo>
                        <a:lnTo>
                          <a:pt x="195" y="181"/>
                        </a:lnTo>
                        <a:lnTo>
                          <a:pt x="168" y="191"/>
                        </a:lnTo>
                        <a:lnTo>
                          <a:pt x="159" y="229"/>
                        </a:lnTo>
                        <a:lnTo>
                          <a:pt x="177" y="249"/>
                        </a:lnTo>
                        <a:lnTo>
                          <a:pt x="164" y="283"/>
                        </a:lnTo>
                        <a:lnTo>
                          <a:pt x="195" y="283"/>
                        </a:lnTo>
                        <a:lnTo>
                          <a:pt x="208" y="242"/>
                        </a:lnTo>
                        <a:lnTo>
                          <a:pt x="230" y="229"/>
                        </a:lnTo>
                        <a:lnTo>
                          <a:pt x="265" y="229"/>
                        </a:lnTo>
                        <a:lnTo>
                          <a:pt x="305" y="236"/>
                        </a:lnTo>
                        <a:lnTo>
                          <a:pt x="318" y="263"/>
                        </a:lnTo>
                        <a:lnTo>
                          <a:pt x="322" y="297"/>
                        </a:lnTo>
                        <a:lnTo>
                          <a:pt x="318" y="325"/>
                        </a:lnTo>
                        <a:lnTo>
                          <a:pt x="318" y="342"/>
                        </a:lnTo>
                        <a:lnTo>
                          <a:pt x="318" y="366"/>
                        </a:lnTo>
                        <a:lnTo>
                          <a:pt x="349" y="386"/>
                        </a:lnTo>
                        <a:lnTo>
                          <a:pt x="367" y="393"/>
                        </a:lnTo>
                        <a:lnTo>
                          <a:pt x="416" y="420"/>
                        </a:lnTo>
                        <a:lnTo>
                          <a:pt x="504" y="349"/>
                        </a:lnTo>
                        <a:lnTo>
                          <a:pt x="531" y="290"/>
                        </a:lnTo>
                        <a:lnTo>
                          <a:pt x="539" y="198"/>
                        </a:lnTo>
                        <a:lnTo>
                          <a:pt x="548" y="133"/>
                        </a:lnTo>
                        <a:lnTo>
                          <a:pt x="535" y="71"/>
                        </a:lnTo>
                        <a:lnTo>
                          <a:pt x="513" y="34"/>
                        </a:lnTo>
                        <a:lnTo>
                          <a:pt x="456" y="10"/>
                        </a:lnTo>
                        <a:lnTo>
                          <a:pt x="406" y="3"/>
                        </a:lnTo>
                        <a:lnTo>
                          <a:pt x="309" y="0"/>
                        </a:lnTo>
                        <a:lnTo>
                          <a:pt x="221" y="0"/>
                        </a:lnTo>
                        <a:lnTo>
                          <a:pt x="101" y="17"/>
                        </a:lnTo>
                        <a:lnTo>
                          <a:pt x="52" y="37"/>
                        </a:lnTo>
                        <a:lnTo>
                          <a:pt x="26" y="57"/>
                        </a:lnTo>
                        <a:lnTo>
                          <a:pt x="0" y="85"/>
                        </a:lnTo>
                        <a:lnTo>
                          <a:pt x="4" y="102"/>
                        </a:lnTo>
                        <a:lnTo>
                          <a:pt x="39" y="120"/>
                        </a:lnTo>
                        <a:close/>
                      </a:path>
                    </a:pathLst>
                  </a:custGeom>
                  <a:solidFill>
                    <a:srgbClr val="603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0" name=""/>
                  <p:cNvSpPr/>
                  <p:nvPr/>
                </p:nvSpPr>
                <p:spPr>
                  <a:xfrm>
                    <a:off x="8391600" y="5067360"/>
                    <a:ext cx="186120" cy="144720"/>
                  </a:xfrm>
                  <a:custGeom>
                    <a:avLst/>
                    <a:gdLst/>
                    <a:ahLst/>
                    <a:rect l="0" t="0" r="r" b="b"/>
                    <a:pathLst>
                      <a:path w="517" h="402">
                        <a:moveTo>
                          <a:pt x="83" y="23"/>
                        </a:moveTo>
                        <a:lnTo>
                          <a:pt x="35" y="37"/>
                        </a:lnTo>
                        <a:lnTo>
                          <a:pt x="17" y="60"/>
                        </a:lnTo>
                        <a:lnTo>
                          <a:pt x="4" y="74"/>
                        </a:lnTo>
                        <a:lnTo>
                          <a:pt x="0" y="80"/>
                        </a:lnTo>
                        <a:lnTo>
                          <a:pt x="8" y="94"/>
                        </a:lnTo>
                        <a:lnTo>
                          <a:pt x="30" y="104"/>
                        </a:lnTo>
                        <a:lnTo>
                          <a:pt x="88" y="94"/>
                        </a:lnTo>
                        <a:lnTo>
                          <a:pt x="123" y="94"/>
                        </a:lnTo>
                        <a:lnTo>
                          <a:pt x="159" y="84"/>
                        </a:lnTo>
                        <a:lnTo>
                          <a:pt x="195" y="77"/>
                        </a:lnTo>
                        <a:lnTo>
                          <a:pt x="230" y="74"/>
                        </a:lnTo>
                        <a:lnTo>
                          <a:pt x="278" y="77"/>
                        </a:lnTo>
                        <a:lnTo>
                          <a:pt x="212" y="80"/>
                        </a:lnTo>
                        <a:lnTo>
                          <a:pt x="181" y="91"/>
                        </a:lnTo>
                        <a:lnTo>
                          <a:pt x="159" y="94"/>
                        </a:lnTo>
                        <a:lnTo>
                          <a:pt x="159" y="97"/>
                        </a:lnTo>
                        <a:lnTo>
                          <a:pt x="168" y="104"/>
                        </a:lnTo>
                        <a:lnTo>
                          <a:pt x="181" y="114"/>
                        </a:lnTo>
                        <a:lnTo>
                          <a:pt x="203" y="104"/>
                        </a:lnTo>
                        <a:lnTo>
                          <a:pt x="225" y="97"/>
                        </a:lnTo>
                        <a:lnTo>
                          <a:pt x="261" y="94"/>
                        </a:lnTo>
                        <a:lnTo>
                          <a:pt x="274" y="94"/>
                        </a:lnTo>
                        <a:lnTo>
                          <a:pt x="234" y="107"/>
                        </a:lnTo>
                        <a:lnTo>
                          <a:pt x="208" y="114"/>
                        </a:lnTo>
                        <a:lnTo>
                          <a:pt x="195" y="121"/>
                        </a:lnTo>
                        <a:lnTo>
                          <a:pt x="203" y="131"/>
                        </a:lnTo>
                        <a:lnTo>
                          <a:pt x="234" y="121"/>
                        </a:lnTo>
                        <a:lnTo>
                          <a:pt x="261" y="121"/>
                        </a:lnTo>
                        <a:lnTo>
                          <a:pt x="212" y="138"/>
                        </a:lnTo>
                        <a:lnTo>
                          <a:pt x="199" y="148"/>
                        </a:lnTo>
                        <a:lnTo>
                          <a:pt x="195" y="165"/>
                        </a:lnTo>
                        <a:lnTo>
                          <a:pt x="186" y="175"/>
                        </a:lnTo>
                        <a:lnTo>
                          <a:pt x="212" y="165"/>
                        </a:lnTo>
                        <a:lnTo>
                          <a:pt x="239" y="158"/>
                        </a:lnTo>
                        <a:lnTo>
                          <a:pt x="283" y="158"/>
                        </a:lnTo>
                        <a:lnTo>
                          <a:pt x="221" y="171"/>
                        </a:lnTo>
                        <a:lnTo>
                          <a:pt x="177" y="178"/>
                        </a:lnTo>
                        <a:lnTo>
                          <a:pt x="159" y="192"/>
                        </a:lnTo>
                        <a:lnTo>
                          <a:pt x="155" y="206"/>
                        </a:lnTo>
                        <a:lnTo>
                          <a:pt x="181" y="195"/>
                        </a:lnTo>
                        <a:lnTo>
                          <a:pt x="225" y="185"/>
                        </a:lnTo>
                        <a:lnTo>
                          <a:pt x="243" y="185"/>
                        </a:lnTo>
                        <a:lnTo>
                          <a:pt x="199" y="195"/>
                        </a:lnTo>
                        <a:lnTo>
                          <a:pt x="159" y="210"/>
                        </a:lnTo>
                        <a:lnTo>
                          <a:pt x="150" y="220"/>
                        </a:lnTo>
                        <a:lnTo>
                          <a:pt x="159" y="230"/>
                        </a:lnTo>
                        <a:lnTo>
                          <a:pt x="181" y="223"/>
                        </a:lnTo>
                        <a:lnTo>
                          <a:pt x="212" y="213"/>
                        </a:lnTo>
                        <a:lnTo>
                          <a:pt x="265" y="213"/>
                        </a:lnTo>
                        <a:lnTo>
                          <a:pt x="283" y="213"/>
                        </a:lnTo>
                        <a:lnTo>
                          <a:pt x="336" y="216"/>
                        </a:lnTo>
                        <a:lnTo>
                          <a:pt x="394" y="210"/>
                        </a:lnTo>
                        <a:lnTo>
                          <a:pt x="353" y="220"/>
                        </a:lnTo>
                        <a:lnTo>
                          <a:pt x="296" y="226"/>
                        </a:lnTo>
                        <a:lnTo>
                          <a:pt x="309" y="243"/>
                        </a:lnTo>
                        <a:lnTo>
                          <a:pt x="353" y="233"/>
                        </a:lnTo>
                        <a:lnTo>
                          <a:pt x="398" y="223"/>
                        </a:lnTo>
                        <a:lnTo>
                          <a:pt x="425" y="213"/>
                        </a:lnTo>
                        <a:lnTo>
                          <a:pt x="371" y="243"/>
                        </a:lnTo>
                        <a:lnTo>
                          <a:pt x="336" y="250"/>
                        </a:lnTo>
                        <a:lnTo>
                          <a:pt x="309" y="260"/>
                        </a:lnTo>
                        <a:lnTo>
                          <a:pt x="309" y="277"/>
                        </a:lnTo>
                        <a:lnTo>
                          <a:pt x="353" y="270"/>
                        </a:lnTo>
                        <a:lnTo>
                          <a:pt x="390" y="260"/>
                        </a:lnTo>
                        <a:lnTo>
                          <a:pt x="367" y="277"/>
                        </a:lnTo>
                        <a:lnTo>
                          <a:pt x="331" y="277"/>
                        </a:lnTo>
                        <a:lnTo>
                          <a:pt x="309" y="280"/>
                        </a:lnTo>
                        <a:lnTo>
                          <a:pt x="309" y="317"/>
                        </a:lnTo>
                        <a:lnTo>
                          <a:pt x="353" y="304"/>
                        </a:lnTo>
                        <a:lnTo>
                          <a:pt x="380" y="297"/>
                        </a:lnTo>
                        <a:lnTo>
                          <a:pt x="349" y="317"/>
                        </a:lnTo>
                        <a:lnTo>
                          <a:pt x="305" y="328"/>
                        </a:lnTo>
                        <a:lnTo>
                          <a:pt x="309" y="344"/>
                        </a:lnTo>
                        <a:lnTo>
                          <a:pt x="336" y="365"/>
                        </a:lnTo>
                        <a:lnTo>
                          <a:pt x="353" y="344"/>
                        </a:lnTo>
                        <a:lnTo>
                          <a:pt x="380" y="317"/>
                        </a:lnTo>
                        <a:lnTo>
                          <a:pt x="403" y="291"/>
                        </a:lnTo>
                        <a:lnTo>
                          <a:pt x="380" y="331"/>
                        </a:lnTo>
                        <a:lnTo>
                          <a:pt x="367" y="344"/>
                        </a:lnTo>
                        <a:lnTo>
                          <a:pt x="336" y="371"/>
                        </a:lnTo>
                        <a:lnTo>
                          <a:pt x="353" y="388"/>
                        </a:lnTo>
                        <a:lnTo>
                          <a:pt x="390" y="371"/>
                        </a:lnTo>
                        <a:lnTo>
                          <a:pt x="416" y="344"/>
                        </a:lnTo>
                        <a:lnTo>
                          <a:pt x="438" y="317"/>
                        </a:lnTo>
                        <a:lnTo>
                          <a:pt x="420" y="358"/>
                        </a:lnTo>
                        <a:lnTo>
                          <a:pt x="398" y="375"/>
                        </a:lnTo>
                        <a:lnTo>
                          <a:pt x="371" y="392"/>
                        </a:lnTo>
                        <a:lnTo>
                          <a:pt x="394" y="402"/>
                        </a:lnTo>
                        <a:lnTo>
                          <a:pt x="438" y="371"/>
                        </a:lnTo>
                        <a:lnTo>
                          <a:pt x="478" y="328"/>
                        </a:lnTo>
                        <a:lnTo>
                          <a:pt x="491" y="297"/>
                        </a:lnTo>
                        <a:lnTo>
                          <a:pt x="500" y="237"/>
                        </a:lnTo>
                        <a:lnTo>
                          <a:pt x="509" y="195"/>
                        </a:lnTo>
                        <a:lnTo>
                          <a:pt x="517" y="148"/>
                        </a:lnTo>
                        <a:lnTo>
                          <a:pt x="473" y="158"/>
                        </a:lnTo>
                        <a:lnTo>
                          <a:pt x="420" y="171"/>
                        </a:lnTo>
                        <a:lnTo>
                          <a:pt x="349" y="182"/>
                        </a:lnTo>
                        <a:lnTo>
                          <a:pt x="416" y="165"/>
                        </a:lnTo>
                        <a:lnTo>
                          <a:pt x="438" y="151"/>
                        </a:lnTo>
                        <a:lnTo>
                          <a:pt x="482" y="138"/>
                        </a:lnTo>
                        <a:lnTo>
                          <a:pt x="509" y="138"/>
                        </a:lnTo>
                        <a:lnTo>
                          <a:pt x="509" y="111"/>
                        </a:lnTo>
                        <a:lnTo>
                          <a:pt x="504" y="77"/>
                        </a:lnTo>
                        <a:lnTo>
                          <a:pt x="442" y="84"/>
                        </a:lnTo>
                        <a:lnTo>
                          <a:pt x="407" y="94"/>
                        </a:lnTo>
                        <a:lnTo>
                          <a:pt x="358" y="111"/>
                        </a:lnTo>
                        <a:lnTo>
                          <a:pt x="407" y="84"/>
                        </a:lnTo>
                        <a:lnTo>
                          <a:pt x="451" y="74"/>
                        </a:lnTo>
                        <a:lnTo>
                          <a:pt x="500" y="67"/>
                        </a:lnTo>
                        <a:lnTo>
                          <a:pt x="491" y="40"/>
                        </a:lnTo>
                        <a:lnTo>
                          <a:pt x="478" y="26"/>
                        </a:lnTo>
                        <a:lnTo>
                          <a:pt x="429" y="16"/>
                        </a:lnTo>
                        <a:lnTo>
                          <a:pt x="390" y="23"/>
                        </a:lnTo>
                        <a:lnTo>
                          <a:pt x="349" y="43"/>
                        </a:lnTo>
                        <a:lnTo>
                          <a:pt x="371" y="20"/>
                        </a:lnTo>
                        <a:lnTo>
                          <a:pt x="420" y="10"/>
                        </a:lnTo>
                        <a:lnTo>
                          <a:pt x="371" y="0"/>
                        </a:lnTo>
                        <a:lnTo>
                          <a:pt x="336" y="0"/>
                        </a:lnTo>
                        <a:lnTo>
                          <a:pt x="287" y="6"/>
                        </a:lnTo>
                        <a:lnTo>
                          <a:pt x="256" y="23"/>
                        </a:lnTo>
                        <a:lnTo>
                          <a:pt x="203" y="26"/>
                        </a:lnTo>
                        <a:lnTo>
                          <a:pt x="239" y="20"/>
                        </a:lnTo>
                        <a:lnTo>
                          <a:pt x="265" y="6"/>
                        </a:lnTo>
                        <a:lnTo>
                          <a:pt x="283" y="0"/>
                        </a:lnTo>
                        <a:lnTo>
                          <a:pt x="230" y="0"/>
                        </a:lnTo>
                        <a:lnTo>
                          <a:pt x="186" y="0"/>
                        </a:lnTo>
                        <a:lnTo>
                          <a:pt x="159" y="13"/>
                        </a:lnTo>
                        <a:lnTo>
                          <a:pt x="127" y="30"/>
                        </a:lnTo>
                        <a:lnTo>
                          <a:pt x="105" y="57"/>
                        </a:lnTo>
                        <a:lnTo>
                          <a:pt x="119" y="26"/>
                        </a:lnTo>
                        <a:lnTo>
                          <a:pt x="146" y="10"/>
                        </a:lnTo>
                        <a:lnTo>
                          <a:pt x="83" y="23"/>
                        </a:lnTo>
                        <a:close/>
                      </a:path>
                    </a:pathLst>
                  </a:custGeom>
                  <a:solidFill>
                    <a:srgbClr val="a05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71" name=""/>
                  <p:cNvGrpSpPr/>
                  <p:nvPr/>
                </p:nvGrpSpPr>
                <p:grpSpPr>
                  <a:xfrm>
                    <a:off x="7958160" y="5451480"/>
                    <a:ext cx="230400" cy="101880"/>
                    <a:chOff x="7958160" y="5451480"/>
                    <a:chExt cx="230400" cy="101880"/>
                  </a:xfrm>
                </p:grpSpPr>
                <p:sp>
                  <p:nvSpPr>
                    <p:cNvPr id="772" name=""/>
                    <p:cNvSpPr/>
                    <p:nvPr/>
                  </p:nvSpPr>
                  <p:spPr>
                    <a:xfrm>
                      <a:off x="7974000" y="5451480"/>
                      <a:ext cx="214560" cy="101880"/>
                    </a:xfrm>
                    <a:custGeom>
                      <a:avLst/>
                      <a:gdLst/>
                      <a:ahLst/>
                      <a:rect l="0" t="0" r="r" b="b"/>
                      <a:pathLst>
                        <a:path w="596" h="283">
                          <a:moveTo>
                            <a:pt x="596" y="167"/>
                          </a:moveTo>
                          <a:lnTo>
                            <a:pt x="521" y="154"/>
                          </a:lnTo>
                          <a:lnTo>
                            <a:pt x="494" y="150"/>
                          </a:lnTo>
                          <a:lnTo>
                            <a:pt x="477" y="136"/>
                          </a:lnTo>
                          <a:lnTo>
                            <a:pt x="459" y="119"/>
                          </a:lnTo>
                          <a:lnTo>
                            <a:pt x="424" y="91"/>
                          </a:lnTo>
                          <a:lnTo>
                            <a:pt x="358" y="51"/>
                          </a:lnTo>
                          <a:lnTo>
                            <a:pt x="344" y="37"/>
                          </a:lnTo>
                          <a:lnTo>
                            <a:pt x="327" y="23"/>
                          </a:lnTo>
                          <a:lnTo>
                            <a:pt x="295" y="20"/>
                          </a:lnTo>
                          <a:lnTo>
                            <a:pt x="189" y="6"/>
                          </a:lnTo>
                          <a:lnTo>
                            <a:pt x="163" y="0"/>
                          </a:lnTo>
                          <a:lnTo>
                            <a:pt x="136" y="6"/>
                          </a:lnTo>
                          <a:lnTo>
                            <a:pt x="123" y="17"/>
                          </a:lnTo>
                          <a:lnTo>
                            <a:pt x="61" y="34"/>
                          </a:lnTo>
                          <a:lnTo>
                            <a:pt x="39" y="40"/>
                          </a:lnTo>
                          <a:lnTo>
                            <a:pt x="30" y="47"/>
                          </a:lnTo>
                          <a:lnTo>
                            <a:pt x="17" y="74"/>
                          </a:lnTo>
                          <a:lnTo>
                            <a:pt x="8" y="88"/>
                          </a:lnTo>
                          <a:lnTo>
                            <a:pt x="8" y="95"/>
                          </a:lnTo>
                          <a:lnTo>
                            <a:pt x="0" y="108"/>
                          </a:lnTo>
                          <a:lnTo>
                            <a:pt x="0" y="119"/>
                          </a:lnTo>
                          <a:lnTo>
                            <a:pt x="8" y="125"/>
                          </a:lnTo>
                          <a:lnTo>
                            <a:pt x="35" y="125"/>
                          </a:lnTo>
                          <a:lnTo>
                            <a:pt x="74" y="108"/>
                          </a:lnTo>
                          <a:lnTo>
                            <a:pt x="123" y="105"/>
                          </a:lnTo>
                          <a:lnTo>
                            <a:pt x="167" y="108"/>
                          </a:lnTo>
                          <a:lnTo>
                            <a:pt x="119" y="119"/>
                          </a:lnTo>
                          <a:lnTo>
                            <a:pt x="88" y="125"/>
                          </a:lnTo>
                          <a:lnTo>
                            <a:pt x="48" y="136"/>
                          </a:lnTo>
                          <a:lnTo>
                            <a:pt x="44" y="147"/>
                          </a:lnTo>
                          <a:lnTo>
                            <a:pt x="44" y="160"/>
                          </a:lnTo>
                          <a:lnTo>
                            <a:pt x="57" y="167"/>
                          </a:lnTo>
                          <a:lnTo>
                            <a:pt x="74" y="164"/>
                          </a:lnTo>
                          <a:lnTo>
                            <a:pt x="127" y="154"/>
                          </a:lnTo>
                          <a:lnTo>
                            <a:pt x="171" y="150"/>
                          </a:lnTo>
                          <a:lnTo>
                            <a:pt x="211" y="154"/>
                          </a:lnTo>
                          <a:lnTo>
                            <a:pt x="233" y="164"/>
                          </a:lnTo>
                          <a:lnTo>
                            <a:pt x="255" y="184"/>
                          </a:lnTo>
                          <a:lnTo>
                            <a:pt x="273" y="205"/>
                          </a:lnTo>
                          <a:lnTo>
                            <a:pt x="291" y="225"/>
                          </a:lnTo>
                          <a:lnTo>
                            <a:pt x="309" y="242"/>
                          </a:lnTo>
                          <a:lnTo>
                            <a:pt x="340" y="259"/>
                          </a:lnTo>
                          <a:lnTo>
                            <a:pt x="367" y="262"/>
                          </a:lnTo>
                          <a:lnTo>
                            <a:pt x="397" y="262"/>
                          </a:lnTo>
                          <a:lnTo>
                            <a:pt x="433" y="262"/>
                          </a:lnTo>
                          <a:lnTo>
                            <a:pt x="459" y="259"/>
                          </a:lnTo>
                          <a:lnTo>
                            <a:pt x="499" y="269"/>
                          </a:lnTo>
                          <a:lnTo>
                            <a:pt x="596" y="283"/>
                          </a:lnTo>
                          <a:lnTo>
                            <a:pt x="596" y="167"/>
                          </a:lnTo>
                          <a:close/>
                        </a:path>
                      </a:pathLst>
                    </a:custGeom>
                    <a:solidFill>
                      <a:srgbClr val="ffc080"/>
                    </a:solidFill>
                    <a:ln w="12600">
                      <a:solidFill>
                        <a:srgbClr val="402000"/>
                      </a:solidFill>
                      <a:round/>
                    </a:ln>
                  </p:spPr>
                  <p:txBody>
                    <a:bodyPr lIns="96120" rIns="96120" tIns="50760" bIns="50760" anchor="t">
                      <a:noAutofit/>
                    </a:bodyPr>
                    <a:p>
                      <a:endParaRPr b="0" lang="en-US" sz="1800" spc="-1" strike="noStrike">
                        <a:solidFill>
                          <a:srgbClr val="000000"/>
                        </a:solidFill>
                        <a:latin typeface="Arial"/>
                      </a:endParaRPr>
                    </a:p>
                  </p:txBody>
                </p:sp>
                <p:sp>
                  <p:nvSpPr>
                    <p:cNvPr id="773" name=""/>
                    <p:cNvSpPr/>
                    <p:nvPr/>
                  </p:nvSpPr>
                  <p:spPr>
                    <a:xfrm>
                      <a:off x="7985160" y="5468760"/>
                      <a:ext cx="59040" cy="25920"/>
                    </a:xfrm>
                    <a:custGeom>
                      <a:avLst/>
                      <a:gdLst/>
                      <a:ahLst/>
                      <a:rect l="0" t="0" r="r" b="b"/>
                      <a:pathLst>
                        <a:path w="164" h="72">
                          <a:moveTo>
                            <a:pt x="0" y="72"/>
                          </a:moveTo>
                          <a:lnTo>
                            <a:pt x="30" y="40"/>
                          </a:lnTo>
                          <a:lnTo>
                            <a:pt x="48" y="40"/>
                          </a:lnTo>
                          <a:lnTo>
                            <a:pt x="74" y="27"/>
                          </a:lnTo>
                          <a:lnTo>
                            <a:pt x="102" y="13"/>
                          </a:lnTo>
                          <a:lnTo>
                            <a:pt x="137" y="27"/>
                          </a:lnTo>
                          <a:lnTo>
                            <a:pt x="164" y="27"/>
                          </a:lnTo>
                          <a:lnTo>
                            <a:pt x="124" y="13"/>
                          </a:lnTo>
                          <a:lnTo>
                            <a:pt x="89" y="0"/>
                          </a:lnTo>
                          <a:lnTo>
                            <a:pt x="48" y="27"/>
                          </a:lnTo>
                          <a:lnTo>
                            <a:pt x="30" y="40"/>
                          </a:lnTo>
                          <a:lnTo>
                            <a:pt x="0" y="53"/>
                          </a:lnTo>
                          <a:lnTo>
                            <a:pt x="0"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74" name=""/>
                    <p:cNvSpPr/>
                    <p:nvPr/>
                  </p:nvSpPr>
                  <p:spPr>
                    <a:xfrm>
                      <a:off x="8020080" y="5456160"/>
                      <a:ext cx="47880" cy="25920"/>
                    </a:xfrm>
                    <a:custGeom>
                      <a:avLst/>
                      <a:gdLst/>
                      <a:ahLst/>
                      <a:rect l="0" t="0" r="r" b="b"/>
                      <a:pathLst>
                        <a:path w="133" h="72">
                          <a:moveTo>
                            <a:pt x="35" y="0"/>
                          </a:moveTo>
                          <a:lnTo>
                            <a:pt x="17" y="0"/>
                          </a:lnTo>
                          <a:lnTo>
                            <a:pt x="0" y="0"/>
                          </a:lnTo>
                          <a:lnTo>
                            <a:pt x="8" y="0"/>
                          </a:lnTo>
                          <a:lnTo>
                            <a:pt x="30" y="0"/>
                          </a:lnTo>
                          <a:lnTo>
                            <a:pt x="75" y="72"/>
                          </a:lnTo>
                          <a:lnTo>
                            <a:pt x="98" y="72"/>
                          </a:lnTo>
                          <a:lnTo>
                            <a:pt x="128" y="72"/>
                          </a:lnTo>
                          <a:lnTo>
                            <a:pt x="133" y="72"/>
                          </a:lnTo>
                          <a:lnTo>
                            <a:pt x="102" y="72"/>
                          </a:lnTo>
                          <a:lnTo>
                            <a:pt x="67" y="0"/>
                          </a:lnTo>
                          <a:lnTo>
                            <a:pt x="35"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75" name=""/>
                    <p:cNvSpPr/>
                    <p:nvPr/>
                  </p:nvSpPr>
                  <p:spPr>
                    <a:xfrm>
                      <a:off x="8018640" y="5483160"/>
                      <a:ext cx="25920" cy="25920"/>
                    </a:xfrm>
                    <a:custGeom>
                      <a:avLst/>
                      <a:gdLst/>
                      <a:ahLst/>
                      <a:rect l="0" t="0" r="r" b="b"/>
                      <a:pathLst>
                        <a:path w="72" h="72">
                          <a:moveTo>
                            <a:pt x="0" y="23"/>
                          </a:moveTo>
                          <a:lnTo>
                            <a:pt x="8" y="72"/>
                          </a:lnTo>
                          <a:lnTo>
                            <a:pt x="36" y="45"/>
                          </a:lnTo>
                          <a:lnTo>
                            <a:pt x="63" y="45"/>
                          </a:lnTo>
                          <a:lnTo>
                            <a:pt x="72" y="0"/>
                          </a:lnTo>
                          <a:lnTo>
                            <a:pt x="53" y="23"/>
                          </a:lnTo>
                          <a:lnTo>
                            <a:pt x="0" y="23"/>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76" name=""/>
                    <p:cNvSpPr/>
                    <p:nvPr/>
                  </p:nvSpPr>
                  <p:spPr>
                    <a:xfrm>
                      <a:off x="7958160" y="5484960"/>
                      <a:ext cx="25200" cy="0"/>
                    </a:xfrm>
                    <a:custGeom>
                      <a:avLst/>
                      <a:gdLst/>
                      <a:ahLst/>
                      <a:rect l="0" t="0" r="r" b="b"/>
                      <a:pathLst>
                        <a:path w="70" h="0">
                          <a:moveTo>
                            <a:pt x="70" y="0"/>
                          </a:moveTo>
                          <a:lnTo>
                            <a:pt x="52" y="0"/>
                          </a:lnTo>
                          <a:lnTo>
                            <a:pt x="0" y="0"/>
                          </a:lnTo>
                          <a:lnTo>
                            <a:pt x="7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7" name=""/>
                    <p:cNvSpPr/>
                    <p:nvPr/>
                  </p:nvSpPr>
                  <p:spPr>
                    <a:xfrm>
                      <a:off x="7975440" y="5499000"/>
                      <a:ext cx="25920" cy="25920"/>
                    </a:xfrm>
                    <a:custGeom>
                      <a:avLst/>
                      <a:gdLst/>
                      <a:ahLst/>
                      <a:rect l="0" t="0" r="r" b="b"/>
                      <a:pathLst>
                        <a:path w="72" h="72">
                          <a:moveTo>
                            <a:pt x="72" y="0"/>
                          </a:moveTo>
                          <a:lnTo>
                            <a:pt x="45" y="36"/>
                          </a:lnTo>
                          <a:lnTo>
                            <a:pt x="0" y="72"/>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78" name=""/>
                    <p:cNvSpPr/>
                    <p:nvPr/>
                  </p:nvSpPr>
                  <p:spPr>
                    <a:xfrm>
                      <a:off x="8050320" y="5475240"/>
                      <a:ext cx="25920" cy="25920"/>
                    </a:xfrm>
                    <a:custGeom>
                      <a:avLst/>
                      <a:gdLst/>
                      <a:ahLst/>
                      <a:rect l="0" t="0" r="r" b="b"/>
                      <a:pathLst>
                        <a:path w="72" h="72">
                          <a:moveTo>
                            <a:pt x="0" y="0"/>
                          </a:moveTo>
                          <a:lnTo>
                            <a:pt x="0" y="36"/>
                          </a:lnTo>
                          <a:lnTo>
                            <a:pt x="72" y="72"/>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79" name=""/>
                    <p:cNvSpPr/>
                    <p:nvPr/>
                  </p:nvSpPr>
                  <p:spPr>
                    <a:xfrm>
                      <a:off x="8094600" y="5477040"/>
                      <a:ext cx="25920" cy="25920"/>
                    </a:xfrm>
                    <a:custGeom>
                      <a:avLst/>
                      <a:gdLst/>
                      <a:ahLst/>
                      <a:rect l="0" t="0" r="r" b="b"/>
                      <a:pathLst>
                        <a:path w="72" h="72">
                          <a:moveTo>
                            <a:pt x="0" y="0"/>
                          </a:moveTo>
                          <a:lnTo>
                            <a:pt x="13" y="23"/>
                          </a:lnTo>
                          <a:lnTo>
                            <a:pt x="23" y="45"/>
                          </a:lnTo>
                          <a:lnTo>
                            <a:pt x="72" y="72"/>
                          </a:lnTo>
                          <a:lnTo>
                            <a:pt x="27" y="36"/>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80" name=""/>
                    <p:cNvSpPr/>
                    <p:nvPr/>
                  </p:nvSpPr>
                  <p:spPr>
                    <a:xfrm>
                      <a:off x="8113680" y="5514840"/>
                      <a:ext cx="25920" cy="25920"/>
                    </a:xfrm>
                    <a:custGeom>
                      <a:avLst/>
                      <a:gdLst/>
                      <a:ahLst/>
                      <a:rect l="0" t="0" r="r" b="b"/>
                      <a:pathLst>
                        <a:path w="72" h="72">
                          <a:moveTo>
                            <a:pt x="72" y="0"/>
                          </a:moveTo>
                          <a:lnTo>
                            <a:pt x="36" y="23"/>
                          </a:lnTo>
                          <a:lnTo>
                            <a:pt x="0" y="49"/>
                          </a:lnTo>
                          <a:lnTo>
                            <a:pt x="0" y="72"/>
                          </a:lnTo>
                          <a:lnTo>
                            <a:pt x="0" y="36"/>
                          </a:lnTo>
                          <a:lnTo>
                            <a:pt x="0" y="17"/>
                          </a:lnTo>
                          <a:lnTo>
                            <a:pt x="72"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81" name=""/>
                    <p:cNvSpPr/>
                    <p:nvPr/>
                  </p:nvSpPr>
                  <p:spPr>
                    <a:xfrm>
                      <a:off x="8039160" y="5494320"/>
                      <a:ext cx="25200" cy="0"/>
                    </a:xfrm>
                    <a:custGeom>
                      <a:avLst/>
                      <a:gdLst/>
                      <a:ahLst/>
                      <a:rect l="0" t="0" r="r" b="b"/>
                      <a:pathLst>
                        <a:path w="70" h="0">
                          <a:moveTo>
                            <a:pt x="52" y="0"/>
                          </a:moveTo>
                          <a:lnTo>
                            <a:pt x="70" y="0"/>
                          </a:lnTo>
                          <a:lnTo>
                            <a:pt x="0" y="0"/>
                          </a:lnTo>
                          <a:lnTo>
                            <a:pt x="5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782" name=""/>
                  <p:cNvGrpSpPr/>
                  <p:nvPr/>
                </p:nvGrpSpPr>
                <p:grpSpPr>
                  <a:xfrm>
                    <a:off x="8155080" y="5230800"/>
                    <a:ext cx="493920" cy="432000"/>
                    <a:chOff x="8155080" y="5230800"/>
                    <a:chExt cx="493920" cy="432000"/>
                  </a:xfrm>
                </p:grpSpPr>
                <p:sp>
                  <p:nvSpPr>
                    <p:cNvPr id="783" name=""/>
                    <p:cNvSpPr/>
                    <p:nvPr/>
                  </p:nvSpPr>
                  <p:spPr>
                    <a:xfrm>
                      <a:off x="8348760" y="5230800"/>
                      <a:ext cx="25920" cy="25920"/>
                    </a:xfrm>
                    <a:custGeom>
                      <a:avLst/>
                      <a:gdLst/>
                      <a:ahLst/>
                      <a:rect l="0" t="0" r="r" b="b"/>
                      <a:pathLst>
                        <a:path w="72" h="72">
                          <a:moveTo>
                            <a:pt x="0" y="0"/>
                          </a:moveTo>
                          <a:lnTo>
                            <a:pt x="17" y="0"/>
                          </a:lnTo>
                          <a:lnTo>
                            <a:pt x="36" y="0"/>
                          </a:lnTo>
                          <a:lnTo>
                            <a:pt x="53" y="72"/>
                          </a:lnTo>
                          <a:lnTo>
                            <a:pt x="72" y="72"/>
                          </a:lnTo>
                          <a:lnTo>
                            <a:pt x="53" y="72"/>
                          </a:lnTo>
                          <a:lnTo>
                            <a:pt x="17" y="72"/>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84" name=""/>
                    <p:cNvSpPr/>
                    <p:nvPr/>
                  </p:nvSpPr>
                  <p:spPr>
                    <a:xfrm>
                      <a:off x="8346960" y="5241960"/>
                      <a:ext cx="25920" cy="25920"/>
                    </a:xfrm>
                    <a:custGeom>
                      <a:avLst/>
                      <a:gdLst/>
                      <a:ahLst/>
                      <a:rect l="0" t="0" r="r" b="b"/>
                      <a:pathLst>
                        <a:path w="72" h="72">
                          <a:moveTo>
                            <a:pt x="0" y="0"/>
                          </a:moveTo>
                          <a:lnTo>
                            <a:pt x="72" y="0"/>
                          </a:lnTo>
                          <a:lnTo>
                            <a:pt x="72" y="72"/>
                          </a:lnTo>
                          <a:lnTo>
                            <a:pt x="0"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85" name=""/>
                    <p:cNvSpPr/>
                    <p:nvPr/>
                  </p:nvSpPr>
                  <p:spPr>
                    <a:xfrm>
                      <a:off x="8304120" y="5289480"/>
                      <a:ext cx="133560" cy="254520"/>
                    </a:xfrm>
                    <a:custGeom>
                      <a:avLst/>
                      <a:gdLst/>
                      <a:ahLst/>
                      <a:rect l="0" t="0" r="r" b="b"/>
                      <a:pathLst>
                        <a:path w="371" h="707">
                          <a:moveTo>
                            <a:pt x="318" y="0"/>
                          </a:moveTo>
                          <a:lnTo>
                            <a:pt x="283" y="27"/>
                          </a:lnTo>
                          <a:lnTo>
                            <a:pt x="269" y="70"/>
                          </a:lnTo>
                          <a:lnTo>
                            <a:pt x="217" y="111"/>
                          </a:lnTo>
                          <a:lnTo>
                            <a:pt x="105" y="301"/>
                          </a:lnTo>
                          <a:lnTo>
                            <a:pt x="48" y="473"/>
                          </a:lnTo>
                          <a:lnTo>
                            <a:pt x="0" y="707"/>
                          </a:lnTo>
                          <a:lnTo>
                            <a:pt x="149" y="602"/>
                          </a:lnTo>
                          <a:lnTo>
                            <a:pt x="371" y="91"/>
                          </a:lnTo>
                          <a:lnTo>
                            <a:pt x="318" y="0"/>
                          </a:lnTo>
                          <a:close/>
                        </a:path>
                      </a:pathLst>
                    </a:custGeom>
                    <a:solidFill>
                      <a:srgbClr val="4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6" name=""/>
                    <p:cNvSpPr/>
                    <p:nvPr/>
                  </p:nvSpPr>
                  <p:spPr>
                    <a:xfrm>
                      <a:off x="8155080" y="5238720"/>
                      <a:ext cx="493920" cy="424080"/>
                    </a:xfrm>
                    <a:custGeom>
                      <a:avLst/>
                      <a:gdLst/>
                      <a:ahLst/>
                      <a:rect l="0" t="0" r="r" b="b"/>
                      <a:pathLst>
                        <a:path w="1372" h="1178">
                          <a:moveTo>
                            <a:pt x="1121" y="60"/>
                          </a:moveTo>
                          <a:lnTo>
                            <a:pt x="1076" y="0"/>
                          </a:lnTo>
                          <a:lnTo>
                            <a:pt x="741" y="104"/>
                          </a:lnTo>
                          <a:lnTo>
                            <a:pt x="728" y="189"/>
                          </a:lnTo>
                          <a:lnTo>
                            <a:pt x="697" y="216"/>
                          </a:lnTo>
                          <a:lnTo>
                            <a:pt x="661" y="250"/>
                          </a:lnTo>
                          <a:lnTo>
                            <a:pt x="639" y="307"/>
                          </a:lnTo>
                          <a:lnTo>
                            <a:pt x="564" y="446"/>
                          </a:lnTo>
                          <a:lnTo>
                            <a:pt x="502" y="609"/>
                          </a:lnTo>
                          <a:lnTo>
                            <a:pt x="476" y="718"/>
                          </a:lnTo>
                          <a:lnTo>
                            <a:pt x="207" y="718"/>
                          </a:lnTo>
                          <a:lnTo>
                            <a:pt x="167" y="741"/>
                          </a:lnTo>
                          <a:lnTo>
                            <a:pt x="44" y="741"/>
                          </a:lnTo>
                          <a:lnTo>
                            <a:pt x="8" y="782"/>
                          </a:lnTo>
                          <a:lnTo>
                            <a:pt x="0" y="829"/>
                          </a:lnTo>
                          <a:lnTo>
                            <a:pt x="13" y="877"/>
                          </a:lnTo>
                          <a:lnTo>
                            <a:pt x="127" y="894"/>
                          </a:lnTo>
                          <a:lnTo>
                            <a:pt x="180" y="955"/>
                          </a:lnTo>
                          <a:lnTo>
                            <a:pt x="291" y="978"/>
                          </a:lnTo>
                          <a:lnTo>
                            <a:pt x="366" y="978"/>
                          </a:lnTo>
                          <a:lnTo>
                            <a:pt x="463" y="988"/>
                          </a:lnTo>
                          <a:lnTo>
                            <a:pt x="467" y="1019"/>
                          </a:lnTo>
                          <a:lnTo>
                            <a:pt x="463" y="1080"/>
                          </a:lnTo>
                          <a:lnTo>
                            <a:pt x="471" y="1120"/>
                          </a:lnTo>
                          <a:lnTo>
                            <a:pt x="520" y="1127"/>
                          </a:lnTo>
                          <a:lnTo>
                            <a:pt x="577" y="1134"/>
                          </a:lnTo>
                          <a:lnTo>
                            <a:pt x="639" y="1175"/>
                          </a:lnTo>
                          <a:lnTo>
                            <a:pt x="710" y="1175"/>
                          </a:lnTo>
                          <a:lnTo>
                            <a:pt x="777" y="1171"/>
                          </a:lnTo>
                          <a:lnTo>
                            <a:pt x="874" y="1147"/>
                          </a:lnTo>
                          <a:lnTo>
                            <a:pt x="979" y="1158"/>
                          </a:lnTo>
                          <a:lnTo>
                            <a:pt x="1090" y="1178"/>
                          </a:lnTo>
                          <a:lnTo>
                            <a:pt x="1191" y="1161"/>
                          </a:lnTo>
                          <a:lnTo>
                            <a:pt x="1262" y="1103"/>
                          </a:lnTo>
                          <a:lnTo>
                            <a:pt x="1257" y="1036"/>
                          </a:lnTo>
                          <a:lnTo>
                            <a:pt x="1279" y="951"/>
                          </a:lnTo>
                          <a:lnTo>
                            <a:pt x="1297" y="843"/>
                          </a:lnTo>
                          <a:lnTo>
                            <a:pt x="1332" y="745"/>
                          </a:lnTo>
                          <a:lnTo>
                            <a:pt x="1372" y="596"/>
                          </a:lnTo>
                          <a:lnTo>
                            <a:pt x="1368" y="446"/>
                          </a:lnTo>
                          <a:lnTo>
                            <a:pt x="1368" y="314"/>
                          </a:lnTo>
                          <a:lnTo>
                            <a:pt x="1359" y="223"/>
                          </a:lnTo>
                          <a:lnTo>
                            <a:pt x="1332" y="182"/>
                          </a:lnTo>
                          <a:lnTo>
                            <a:pt x="1271" y="145"/>
                          </a:lnTo>
                          <a:lnTo>
                            <a:pt x="1200" y="91"/>
                          </a:lnTo>
                          <a:lnTo>
                            <a:pt x="1121" y="60"/>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8329680" y="5264280"/>
                      <a:ext cx="302040" cy="387720"/>
                    </a:xfrm>
                    <a:custGeom>
                      <a:avLst/>
                      <a:gdLst/>
                      <a:ahLst/>
                      <a:rect l="0" t="0" r="r" b="b"/>
                      <a:pathLst>
                        <a:path w="839" h="1077">
                          <a:moveTo>
                            <a:pt x="0" y="902"/>
                          </a:moveTo>
                          <a:lnTo>
                            <a:pt x="110" y="891"/>
                          </a:lnTo>
                          <a:lnTo>
                            <a:pt x="202" y="885"/>
                          </a:lnTo>
                          <a:lnTo>
                            <a:pt x="305" y="878"/>
                          </a:lnTo>
                          <a:lnTo>
                            <a:pt x="419" y="868"/>
                          </a:lnTo>
                          <a:lnTo>
                            <a:pt x="472" y="841"/>
                          </a:lnTo>
                          <a:lnTo>
                            <a:pt x="613" y="701"/>
                          </a:lnTo>
                          <a:lnTo>
                            <a:pt x="543" y="741"/>
                          </a:lnTo>
                          <a:lnTo>
                            <a:pt x="494" y="775"/>
                          </a:lnTo>
                          <a:lnTo>
                            <a:pt x="521" y="677"/>
                          </a:lnTo>
                          <a:lnTo>
                            <a:pt x="574" y="640"/>
                          </a:lnTo>
                          <a:lnTo>
                            <a:pt x="654" y="538"/>
                          </a:lnTo>
                          <a:lnTo>
                            <a:pt x="578" y="586"/>
                          </a:lnTo>
                          <a:lnTo>
                            <a:pt x="530" y="599"/>
                          </a:lnTo>
                          <a:lnTo>
                            <a:pt x="543" y="532"/>
                          </a:lnTo>
                          <a:lnTo>
                            <a:pt x="591" y="478"/>
                          </a:lnTo>
                          <a:lnTo>
                            <a:pt x="645" y="437"/>
                          </a:lnTo>
                          <a:lnTo>
                            <a:pt x="698" y="322"/>
                          </a:lnTo>
                          <a:lnTo>
                            <a:pt x="596" y="417"/>
                          </a:lnTo>
                          <a:lnTo>
                            <a:pt x="543" y="454"/>
                          </a:lnTo>
                          <a:lnTo>
                            <a:pt x="534" y="305"/>
                          </a:lnTo>
                          <a:lnTo>
                            <a:pt x="521" y="243"/>
                          </a:lnTo>
                          <a:lnTo>
                            <a:pt x="486" y="213"/>
                          </a:lnTo>
                          <a:lnTo>
                            <a:pt x="446" y="169"/>
                          </a:lnTo>
                          <a:lnTo>
                            <a:pt x="367" y="152"/>
                          </a:lnTo>
                          <a:lnTo>
                            <a:pt x="331" y="138"/>
                          </a:lnTo>
                          <a:lnTo>
                            <a:pt x="437" y="60"/>
                          </a:lnTo>
                          <a:lnTo>
                            <a:pt x="547" y="81"/>
                          </a:lnTo>
                          <a:lnTo>
                            <a:pt x="622" y="115"/>
                          </a:lnTo>
                          <a:lnTo>
                            <a:pt x="645" y="145"/>
                          </a:lnTo>
                          <a:lnTo>
                            <a:pt x="622" y="98"/>
                          </a:lnTo>
                          <a:lnTo>
                            <a:pt x="583" y="81"/>
                          </a:lnTo>
                          <a:lnTo>
                            <a:pt x="516" y="60"/>
                          </a:lnTo>
                          <a:lnTo>
                            <a:pt x="464" y="54"/>
                          </a:lnTo>
                          <a:lnTo>
                            <a:pt x="494" y="40"/>
                          </a:lnTo>
                          <a:lnTo>
                            <a:pt x="547" y="30"/>
                          </a:lnTo>
                          <a:lnTo>
                            <a:pt x="591" y="16"/>
                          </a:lnTo>
                          <a:lnTo>
                            <a:pt x="622" y="0"/>
                          </a:lnTo>
                          <a:lnTo>
                            <a:pt x="681" y="33"/>
                          </a:lnTo>
                          <a:lnTo>
                            <a:pt x="716" y="60"/>
                          </a:lnTo>
                          <a:lnTo>
                            <a:pt x="756" y="98"/>
                          </a:lnTo>
                          <a:lnTo>
                            <a:pt x="804" y="118"/>
                          </a:lnTo>
                          <a:lnTo>
                            <a:pt x="813" y="155"/>
                          </a:lnTo>
                          <a:lnTo>
                            <a:pt x="839" y="213"/>
                          </a:lnTo>
                          <a:lnTo>
                            <a:pt x="839" y="308"/>
                          </a:lnTo>
                          <a:lnTo>
                            <a:pt x="831" y="407"/>
                          </a:lnTo>
                          <a:lnTo>
                            <a:pt x="831" y="515"/>
                          </a:lnTo>
                          <a:lnTo>
                            <a:pt x="800" y="626"/>
                          </a:lnTo>
                          <a:lnTo>
                            <a:pt x="773" y="745"/>
                          </a:lnTo>
                          <a:lnTo>
                            <a:pt x="756" y="847"/>
                          </a:lnTo>
                          <a:lnTo>
                            <a:pt x="729" y="918"/>
                          </a:lnTo>
                          <a:lnTo>
                            <a:pt x="734" y="986"/>
                          </a:lnTo>
                          <a:lnTo>
                            <a:pt x="725" y="1020"/>
                          </a:lnTo>
                          <a:lnTo>
                            <a:pt x="685" y="1047"/>
                          </a:lnTo>
                          <a:lnTo>
                            <a:pt x="641" y="1071"/>
                          </a:lnTo>
                          <a:lnTo>
                            <a:pt x="578" y="1077"/>
                          </a:lnTo>
                          <a:lnTo>
                            <a:pt x="547" y="1064"/>
                          </a:lnTo>
                          <a:lnTo>
                            <a:pt x="503" y="1061"/>
                          </a:lnTo>
                          <a:lnTo>
                            <a:pt x="406" y="1044"/>
                          </a:lnTo>
                          <a:lnTo>
                            <a:pt x="446" y="1006"/>
                          </a:lnTo>
                          <a:lnTo>
                            <a:pt x="494" y="949"/>
                          </a:lnTo>
                          <a:lnTo>
                            <a:pt x="428" y="989"/>
                          </a:lnTo>
                          <a:lnTo>
                            <a:pt x="371" y="1023"/>
                          </a:lnTo>
                          <a:lnTo>
                            <a:pt x="340" y="1044"/>
                          </a:lnTo>
                          <a:lnTo>
                            <a:pt x="287" y="1064"/>
                          </a:lnTo>
                          <a:lnTo>
                            <a:pt x="230" y="1064"/>
                          </a:lnTo>
                          <a:lnTo>
                            <a:pt x="167" y="1064"/>
                          </a:lnTo>
                          <a:lnTo>
                            <a:pt x="141" y="1054"/>
                          </a:lnTo>
                          <a:lnTo>
                            <a:pt x="127" y="1040"/>
                          </a:lnTo>
                          <a:lnTo>
                            <a:pt x="198" y="1010"/>
                          </a:lnTo>
                          <a:lnTo>
                            <a:pt x="269" y="956"/>
                          </a:lnTo>
                          <a:lnTo>
                            <a:pt x="287" y="932"/>
                          </a:lnTo>
                          <a:lnTo>
                            <a:pt x="234" y="942"/>
                          </a:lnTo>
                          <a:lnTo>
                            <a:pt x="149" y="996"/>
                          </a:lnTo>
                          <a:lnTo>
                            <a:pt x="110" y="1020"/>
                          </a:lnTo>
                          <a:lnTo>
                            <a:pt x="26" y="1023"/>
                          </a:lnTo>
                          <a:lnTo>
                            <a:pt x="0" y="1013"/>
                          </a:lnTo>
                          <a:lnTo>
                            <a:pt x="0" y="986"/>
                          </a:lnTo>
                          <a:lnTo>
                            <a:pt x="0" y="902"/>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8" name=""/>
                    <p:cNvSpPr/>
                    <p:nvPr/>
                  </p:nvSpPr>
                  <p:spPr>
                    <a:xfrm>
                      <a:off x="8526600" y="5462640"/>
                      <a:ext cx="81360" cy="173520"/>
                    </a:xfrm>
                    <a:custGeom>
                      <a:avLst/>
                      <a:gdLst/>
                      <a:ahLst/>
                      <a:rect l="0" t="0" r="r" b="b"/>
                      <a:pathLst>
                        <a:path w="226" h="482">
                          <a:moveTo>
                            <a:pt x="0" y="482"/>
                          </a:moveTo>
                          <a:lnTo>
                            <a:pt x="39" y="465"/>
                          </a:lnTo>
                          <a:lnTo>
                            <a:pt x="84" y="428"/>
                          </a:lnTo>
                          <a:lnTo>
                            <a:pt x="124" y="357"/>
                          </a:lnTo>
                          <a:lnTo>
                            <a:pt x="142" y="296"/>
                          </a:lnTo>
                          <a:lnTo>
                            <a:pt x="168" y="232"/>
                          </a:lnTo>
                          <a:lnTo>
                            <a:pt x="182" y="165"/>
                          </a:lnTo>
                          <a:lnTo>
                            <a:pt x="209" y="70"/>
                          </a:lnTo>
                          <a:lnTo>
                            <a:pt x="226" y="0"/>
                          </a:lnTo>
                          <a:lnTo>
                            <a:pt x="182" y="142"/>
                          </a:lnTo>
                          <a:lnTo>
                            <a:pt x="142" y="249"/>
                          </a:lnTo>
                          <a:lnTo>
                            <a:pt x="98" y="327"/>
                          </a:lnTo>
                          <a:lnTo>
                            <a:pt x="30" y="405"/>
                          </a:lnTo>
                          <a:lnTo>
                            <a:pt x="0" y="482"/>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9" name=""/>
                    <p:cNvSpPr/>
                    <p:nvPr/>
                  </p:nvSpPr>
                  <p:spPr>
                    <a:xfrm>
                      <a:off x="8164440" y="5313240"/>
                      <a:ext cx="349560" cy="267120"/>
                    </a:xfrm>
                    <a:custGeom>
                      <a:avLst/>
                      <a:gdLst/>
                      <a:ahLst/>
                      <a:rect l="0" t="0" r="r" b="b"/>
                      <a:pathLst>
                        <a:path w="971" h="742">
                          <a:moveTo>
                            <a:pt x="790" y="0"/>
                          </a:moveTo>
                          <a:lnTo>
                            <a:pt x="675" y="23"/>
                          </a:lnTo>
                          <a:lnTo>
                            <a:pt x="627" y="60"/>
                          </a:lnTo>
                          <a:lnTo>
                            <a:pt x="596" y="135"/>
                          </a:lnTo>
                          <a:lnTo>
                            <a:pt x="596" y="203"/>
                          </a:lnTo>
                          <a:lnTo>
                            <a:pt x="613" y="241"/>
                          </a:lnTo>
                          <a:lnTo>
                            <a:pt x="600" y="308"/>
                          </a:lnTo>
                          <a:lnTo>
                            <a:pt x="600" y="362"/>
                          </a:lnTo>
                          <a:lnTo>
                            <a:pt x="613" y="376"/>
                          </a:lnTo>
                          <a:lnTo>
                            <a:pt x="600" y="393"/>
                          </a:lnTo>
                          <a:lnTo>
                            <a:pt x="587" y="417"/>
                          </a:lnTo>
                          <a:lnTo>
                            <a:pt x="613" y="433"/>
                          </a:lnTo>
                          <a:lnTo>
                            <a:pt x="613" y="457"/>
                          </a:lnTo>
                          <a:lnTo>
                            <a:pt x="565" y="464"/>
                          </a:lnTo>
                          <a:lnTo>
                            <a:pt x="574" y="484"/>
                          </a:lnTo>
                          <a:lnTo>
                            <a:pt x="534" y="498"/>
                          </a:lnTo>
                          <a:lnTo>
                            <a:pt x="494" y="488"/>
                          </a:lnTo>
                          <a:lnTo>
                            <a:pt x="467" y="498"/>
                          </a:lnTo>
                          <a:lnTo>
                            <a:pt x="352" y="508"/>
                          </a:lnTo>
                          <a:lnTo>
                            <a:pt x="251" y="505"/>
                          </a:lnTo>
                          <a:lnTo>
                            <a:pt x="180" y="508"/>
                          </a:lnTo>
                          <a:lnTo>
                            <a:pt x="141" y="525"/>
                          </a:lnTo>
                          <a:lnTo>
                            <a:pt x="35" y="525"/>
                          </a:lnTo>
                          <a:lnTo>
                            <a:pt x="0" y="555"/>
                          </a:lnTo>
                          <a:lnTo>
                            <a:pt x="0" y="590"/>
                          </a:lnTo>
                          <a:lnTo>
                            <a:pt x="4" y="637"/>
                          </a:lnTo>
                          <a:lnTo>
                            <a:pt x="88" y="658"/>
                          </a:lnTo>
                          <a:lnTo>
                            <a:pt x="88" y="621"/>
                          </a:lnTo>
                          <a:lnTo>
                            <a:pt x="92" y="597"/>
                          </a:lnTo>
                          <a:lnTo>
                            <a:pt x="110" y="583"/>
                          </a:lnTo>
                          <a:lnTo>
                            <a:pt x="114" y="614"/>
                          </a:lnTo>
                          <a:lnTo>
                            <a:pt x="119" y="658"/>
                          </a:lnTo>
                          <a:lnTo>
                            <a:pt x="141" y="681"/>
                          </a:lnTo>
                          <a:lnTo>
                            <a:pt x="180" y="712"/>
                          </a:lnTo>
                          <a:lnTo>
                            <a:pt x="264" y="729"/>
                          </a:lnTo>
                          <a:lnTo>
                            <a:pt x="330" y="736"/>
                          </a:lnTo>
                          <a:lnTo>
                            <a:pt x="410" y="742"/>
                          </a:lnTo>
                          <a:lnTo>
                            <a:pt x="308" y="695"/>
                          </a:lnTo>
                          <a:lnTo>
                            <a:pt x="246" y="658"/>
                          </a:lnTo>
                          <a:lnTo>
                            <a:pt x="229" y="621"/>
                          </a:lnTo>
                          <a:lnTo>
                            <a:pt x="238" y="597"/>
                          </a:lnTo>
                          <a:lnTo>
                            <a:pt x="295" y="593"/>
                          </a:lnTo>
                          <a:lnTo>
                            <a:pt x="317" y="621"/>
                          </a:lnTo>
                          <a:lnTo>
                            <a:pt x="330" y="661"/>
                          </a:lnTo>
                          <a:lnTo>
                            <a:pt x="388" y="698"/>
                          </a:lnTo>
                          <a:lnTo>
                            <a:pt x="440" y="732"/>
                          </a:lnTo>
                          <a:lnTo>
                            <a:pt x="503" y="736"/>
                          </a:lnTo>
                          <a:lnTo>
                            <a:pt x="587" y="732"/>
                          </a:lnTo>
                          <a:lnTo>
                            <a:pt x="494" y="675"/>
                          </a:lnTo>
                          <a:lnTo>
                            <a:pt x="423" y="648"/>
                          </a:lnTo>
                          <a:lnTo>
                            <a:pt x="374" y="614"/>
                          </a:lnTo>
                          <a:lnTo>
                            <a:pt x="357" y="593"/>
                          </a:lnTo>
                          <a:lnTo>
                            <a:pt x="361" y="566"/>
                          </a:lnTo>
                          <a:lnTo>
                            <a:pt x="396" y="566"/>
                          </a:lnTo>
                          <a:lnTo>
                            <a:pt x="427" y="590"/>
                          </a:lnTo>
                          <a:lnTo>
                            <a:pt x="454" y="621"/>
                          </a:lnTo>
                          <a:lnTo>
                            <a:pt x="503" y="661"/>
                          </a:lnTo>
                          <a:lnTo>
                            <a:pt x="556" y="681"/>
                          </a:lnTo>
                          <a:lnTo>
                            <a:pt x="600" y="698"/>
                          </a:lnTo>
                          <a:lnTo>
                            <a:pt x="649" y="715"/>
                          </a:lnTo>
                          <a:lnTo>
                            <a:pt x="702" y="722"/>
                          </a:lnTo>
                          <a:lnTo>
                            <a:pt x="763" y="722"/>
                          </a:lnTo>
                          <a:lnTo>
                            <a:pt x="821" y="715"/>
                          </a:lnTo>
                          <a:lnTo>
                            <a:pt x="684" y="681"/>
                          </a:lnTo>
                          <a:lnTo>
                            <a:pt x="636" y="661"/>
                          </a:lnTo>
                          <a:lnTo>
                            <a:pt x="600" y="621"/>
                          </a:lnTo>
                          <a:lnTo>
                            <a:pt x="596" y="593"/>
                          </a:lnTo>
                          <a:lnTo>
                            <a:pt x="627" y="593"/>
                          </a:lnTo>
                          <a:lnTo>
                            <a:pt x="644" y="621"/>
                          </a:lnTo>
                          <a:lnTo>
                            <a:pt x="666" y="644"/>
                          </a:lnTo>
                          <a:lnTo>
                            <a:pt x="710" y="668"/>
                          </a:lnTo>
                          <a:lnTo>
                            <a:pt x="755" y="695"/>
                          </a:lnTo>
                          <a:lnTo>
                            <a:pt x="816" y="712"/>
                          </a:lnTo>
                          <a:lnTo>
                            <a:pt x="865" y="698"/>
                          </a:lnTo>
                          <a:lnTo>
                            <a:pt x="887" y="681"/>
                          </a:lnTo>
                          <a:lnTo>
                            <a:pt x="922" y="631"/>
                          </a:lnTo>
                          <a:lnTo>
                            <a:pt x="856" y="621"/>
                          </a:lnTo>
                          <a:lnTo>
                            <a:pt x="724" y="607"/>
                          </a:lnTo>
                          <a:lnTo>
                            <a:pt x="649" y="580"/>
                          </a:lnTo>
                          <a:lnTo>
                            <a:pt x="605" y="552"/>
                          </a:lnTo>
                          <a:lnTo>
                            <a:pt x="587" y="518"/>
                          </a:lnTo>
                          <a:lnTo>
                            <a:pt x="583" y="505"/>
                          </a:lnTo>
                          <a:lnTo>
                            <a:pt x="605" y="505"/>
                          </a:lnTo>
                          <a:lnTo>
                            <a:pt x="631" y="525"/>
                          </a:lnTo>
                          <a:lnTo>
                            <a:pt x="671" y="570"/>
                          </a:lnTo>
                          <a:lnTo>
                            <a:pt x="768" y="597"/>
                          </a:lnTo>
                          <a:lnTo>
                            <a:pt x="856" y="617"/>
                          </a:lnTo>
                          <a:lnTo>
                            <a:pt x="922" y="631"/>
                          </a:lnTo>
                          <a:lnTo>
                            <a:pt x="949" y="549"/>
                          </a:lnTo>
                          <a:lnTo>
                            <a:pt x="953" y="488"/>
                          </a:lnTo>
                          <a:lnTo>
                            <a:pt x="953" y="433"/>
                          </a:lnTo>
                          <a:lnTo>
                            <a:pt x="865" y="471"/>
                          </a:lnTo>
                          <a:lnTo>
                            <a:pt x="763" y="488"/>
                          </a:lnTo>
                          <a:lnTo>
                            <a:pt x="675" y="484"/>
                          </a:lnTo>
                          <a:lnTo>
                            <a:pt x="658" y="474"/>
                          </a:lnTo>
                          <a:lnTo>
                            <a:pt x="649" y="457"/>
                          </a:lnTo>
                          <a:lnTo>
                            <a:pt x="693" y="457"/>
                          </a:lnTo>
                          <a:lnTo>
                            <a:pt x="746" y="467"/>
                          </a:lnTo>
                          <a:lnTo>
                            <a:pt x="869" y="471"/>
                          </a:lnTo>
                          <a:lnTo>
                            <a:pt x="953" y="433"/>
                          </a:lnTo>
                          <a:lnTo>
                            <a:pt x="962" y="359"/>
                          </a:lnTo>
                          <a:lnTo>
                            <a:pt x="962" y="308"/>
                          </a:lnTo>
                          <a:lnTo>
                            <a:pt x="971" y="254"/>
                          </a:lnTo>
                          <a:lnTo>
                            <a:pt x="962" y="165"/>
                          </a:lnTo>
                          <a:lnTo>
                            <a:pt x="931" y="135"/>
                          </a:lnTo>
                          <a:lnTo>
                            <a:pt x="856" y="94"/>
                          </a:lnTo>
                          <a:lnTo>
                            <a:pt x="882" y="98"/>
                          </a:lnTo>
                          <a:lnTo>
                            <a:pt x="962" y="128"/>
                          </a:lnTo>
                          <a:lnTo>
                            <a:pt x="927" y="67"/>
                          </a:lnTo>
                          <a:lnTo>
                            <a:pt x="904" y="40"/>
                          </a:lnTo>
                          <a:lnTo>
                            <a:pt x="882" y="23"/>
                          </a:lnTo>
                          <a:lnTo>
                            <a:pt x="790"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0" name=""/>
                    <p:cNvSpPr/>
                    <p:nvPr/>
                  </p:nvSpPr>
                  <p:spPr>
                    <a:xfrm>
                      <a:off x="8412120" y="5415120"/>
                      <a:ext cx="81360" cy="55800"/>
                    </a:xfrm>
                    <a:custGeom>
                      <a:avLst/>
                      <a:gdLst/>
                      <a:ahLst/>
                      <a:rect l="0" t="0" r="r" b="b"/>
                      <a:pathLst>
                        <a:path w="226" h="155">
                          <a:moveTo>
                            <a:pt x="0" y="0"/>
                          </a:moveTo>
                          <a:lnTo>
                            <a:pt x="0" y="13"/>
                          </a:lnTo>
                          <a:lnTo>
                            <a:pt x="26" y="43"/>
                          </a:lnTo>
                          <a:lnTo>
                            <a:pt x="52" y="57"/>
                          </a:lnTo>
                          <a:lnTo>
                            <a:pt x="115" y="91"/>
                          </a:lnTo>
                          <a:lnTo>
                            <a:pt x="137" y="108"/>
                          </a:lnTo>
                          <a:lnTo>
                            <a:pt x="196" y="138"/>
                          </a:lnTo>
                          <a:lnTo>
                            <a:pt x="133" y="125"/>
                          </a:lnTo>
                          <a:lnTo>
                            <a:pt x="71" y="108"/>
                          </a:lnTo>
                          <a:lnTo>
                            <a:pt x="13" y="108"/>
                          </a:lnTo>
                          <a:lnTo>
                            <a:pt x="13" y="121"/>
                          </a:lnTo>
                          <a:lnTo>
                            <a:pt x="115" y="135"/>
                          </a:lnTo>
                          <a:lnTo>
                            <a:pt x="168" y="148"/>
                          </a:lnTo>
                          <a:lnTo>
                            <a:pt x="196" y="155"/>
                          </a:lnTo>
                          <a:lnTo>
                            <a:pt x="222" y="145"/>
                          </a:lnTo>
                          <a:lnTo>
                            <a:pt x="226" y="128"/>
                          </a:lnTo>
                          <a:lnTo>
                            <a:pt x="204" y="115"/>
                          </a:lnTo>
                          <a:lnTo>
                            <a:pt x="173" y="94"/>
                          </a:lnTo>
                          <a:lnTo>
                            <a:pt x="142" y="67"/>
                          </a:lnTo>
                          <a:lnTo>
                            <a:pt x="106" y="30"/>
                          </a:lnTo>
                          <a:lnTo>
                            <a:pt x="67" y="13"/>
                          </a:lnTo>
                          <a:lnTo>
                            <a:pt x="26" y="3"/>
                          </a:lnTo>
                          <a:lnTo>
                            <a:pt x="0" y="0"/>
                          </a:lnTo>
                          <a:close/>
                        </a:path>
                      </a:pathLst>
                    </a:custGeom>
                    <a:solidFill>
                      <a:srgbClr val="c0c0c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791" name=""/>
                    <p:cNvSpPr/>
                    <p:nvPr/>
                  </p:nvSpPr>
                  <p:spPr>
                    <a:xfrm>
                      <a:off x="8413920" y="5364000"/>
                      <a:ext cx="73440" cy="73440"/>
                    </a:xfrm>
                    <a:custGeom>
                      <a:avLst/>
                      <a:gdLst/>
                      <a:ahLst/>
                      <a:rect l="0" t="0" r="r" b="b"/>
                      <a:pathLst>
                        <a:path w="204" h="204">
                          <a:moveTo>
                            <a:pt x="35" y="0"/>
                          </a:moveTo>
                          <a:lnTo>
                            <a:pt x="8" y="3"/>
                          </a:lnTo>
                          <a:lnTo>
                            <a:pt x="0" y="23"/>
                          </a:lnTo>
                          <a:lnTo>
                            <a:pt x="0" y="40"/>
                          </a:lnTo>
                          <a:lnTo>
                            <a:pt x="17" y="61"/>
                          </a:lnTo>
                          <a:lnTo>
                            <a:pt x="39" y="68"/>
                          </a:lnTo>
                          <a:lnTo>
                            <a:pt x="89" y="92"/>
                          </a:lnTo>
                          <a:lnTo>
                            <a:pt x="128" y="115"/>
                          </a:lnTo>
                          <a:lnTo>
                            <a:pt x="160" y="154"/>
                          </a:lnTo>
                          <a:lnTo>
                            <a:pt x="191" y="191"/>
                          </a:lnTo>
                          <a:lnTo>
                            <a:pt x="204" y="204"/>
                          </a:lnTo>
                          <a:lnTo>
                            <a:pt x="191" y="160"/>
                          </a:lnTo>
                          <a:lnTo>
                            <a:pt x="187" y="119"/>
                          </a:lnTo>
                          <a:lnTo>
                            <a:pt x="169" y="82"/>
                          </a:lnTo>
                          <a:lnTo>
                            <a:pt x="142" y="50"/>
                          </a:lnTo>
                          <a:lnTo>
                            <a:pt x="67" y="6"/>
                          </a:lnTo>
                          <a:lnTo>
                            <a:pt x="35" y="0"/>
                          </a:lnTo>
                          <a:close/>
                        </a:path>
                      </a:pathLst>
                    </a:custGeom>
                    <a:solidFill>
                      <a:srgbClr val="c0c0c0"/>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792" name=""/>
                    <p:cNvSpPr/>
                    <p:nvPr/>
                  </p:nvSpPr>
                  <p:spPr>
                    <a:xfrm>
                      <a:off x="8402760" y="5284800"/>
                      <a:ext cx="78120" cy="39960"/>
                    </a:xfrm>
                    <a:custGeom>
                      <a:avLst/>
                      <a:gdLst/>
                      <a:ahLst/>
                      <a:rect l="0" t="0" r="r" b="b"/>
                      <a:pathLst>
                        <a:path w="217" h="111">
                          <a:moveTo>
                            <a:pt x="0" y="111"/>
                          </a:moveTo>
                          <a:lnTo>
                            <a:pt x="35" y="87"/>
                          </a:lnTo>
                          <a:lnTo>
                            <a:pt x="97" y="71"/>
                          </a:lnTo>
                          <a:lnTo>
                            <a:pt x="137" y="61"/>
                          </a:lnTo>
                          <a:lnTo>
                            <a:pt x="217" y="0"/>
                          </a:lnTo>
                          <a:lnTo>
                            <a:pt x="155" y="23"/>
                          </a:lnTo>
                          <a:lnTo>
                            <a:pt x="105" y="40"/>
                          </a:lnTo>
                          <a:lnTo>
                            <a:pt x="66" y="53"/>
                          </a:lnTo>
                          <a:lnTo>
                            <a:pt x="48" y="71"/>
                          </a:lnTo>
                          <a:lnTo>
                            <a:pt x="0" y="111"/>
                          </a:lnTo>
                          <a:close/>
                        </a:path>
                      </a:pathLst>
                    </a:custGeom>
                    <a:solidFill>
                      <a:srgbClr val="e0e0e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793" name=""/>
                    <p:cNvSpPr/>
                    <p:nvPr/>
                  </p:nvSpPr>
                  <p:spPr>
                    <a:xfrm>
                      <a:off x="8332920" y="5370480"/>
                      <a:ext cx="39960" cy="114840"/>
                    </a:xfrm>
                    <a:custGeom>
                      <a:avLst/>
                      <a:gdLst/>
                      <a:ahLst/>
                      <a:rect l="0" t="0" r="r" b="b"/>
                      <a:pathLst>
                        <a:path w="111" h="319">
                          <a:moveTo>
                            <a:pt x="0" y="319"/>
                          </a:moveTo>
                          <a:lnTo>
                            <a:pt x="52" y="319"/>
                          </a:lnTo>
                          <a:lnTo>
                            <a:pt x="75" y="316"/>
                          </a:lnTo>
                          <a:lnTo>
                            <a:pt x="75" y="302"/>
                          </a:lnTo>
                          <a:lnTo>
                            <a:pt x="84" y="292"/>
                          </a:lnTo>
                          <a:lnTo>
                            <a:pt x="102" y="278"/>
                          </a:lnTo>
                          <a:lnTo>
                            <a:pt x="93" y="268"/>
                          </a:lnTo>
                          <a:lnTo>
                            <a:pt x="93" y="255"/>
                          </a:lnTo>
                          <a:lnTo>
                            <a:pt x="106" y="234"/>
                          </a:lnTo>
                          <a:lnTo>
                            <a:pt x="106" y="213"/>
                          </a:lnTo>
                          <a:lnTo>
                            <a:pt x="102" y="190"/>
                          </a:lnTo>
                          <a:lnTo>
                            <a:pt x="102" y="139"/>
                          </a:lnTo>
                          <a:lnTo>
                            <a:pt x="111" y="95"/>
                          </a:lnTo>
                          <a:lnTo>
                            <a:pt x="106" y="60"/>
                          </a:lnTo>
                          <a:lnTo>
                            <a:pt x="106" y="0"/>
                          </a:lnTo>
                          <a:lnTo>
                            <a:pt x="75" y="88"/>
                          </a:lnTo>
                          <a:lnTo>
                            <a:pt x="44" y="173"/>
                          </a:lnTo>
                          <a:lnTo>
                            <a:pt x="22" y="262"/>
                          </a:lnTo>
                          <a:lnTo>
                            <a:pt x="0" y="31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4" name=""/>
                    <p:cNvSpPr/>
                    <p:nvPr/>
                  </p:nvSpPr>
                  <p:spPr>
                    <a:xfrm>
                      <a:off x="8405640" y="5499000"/>
                      <a:ext cx="79560" cy="25920"/>
                    </a:xfrm>
                    <a:custGeom>
                      <a:avLst/>
                      <a:gdLst/>
                      <a:ahLst/>
                      <a:rect l="0" t="0" r="r" b="b"/>
                      <a:pathLst>
                        <a:path w="221" h="72">
                          <a:moveTo>
                            <a:pt x="177" y="36"/>
                          </a:moveTo>
                          <a:lnTo>
                            <a:pt x="124" y="13"/>
                          </a:lnTo>
                          <a:lnTo>
                            <a:pt x="83" y="4"/>
                          </a:lnTo>
                          <a:lnTo>
                            <a:pt x="26" y="0"/>
                          </a:lnTo>
                          <a:lnTo>
                            <a:pt x="0" y="4"/>
                          </a:lnTo>
                          <a:lnTo>
                            <a:pt x="8" y="27"/>
                          </a:lnTo>
                          <a:lnTo>
                            <a:pt x="35" y="45"/>
                          </a:lnTo>
                          <a:lnTo>
                            <a:pt x="83" y="59"/>
                          </a:lnTo>
                          <a:lnTo>
                            <a:pt x="168" y="72"/>
                          </a:lnTo>
                          <a:lnTo>
                            <a:pt x="221" y="68"/>
                          </a:lnTo>
                          <a:lnTo>
                            <a:pt x="177" y="36"/>
                          </a:lnTo>
                          <a:close/>
                        </a:path>
                      </a:pathLst>
                    </a:custGeom>
                    <a:solidFill>
                      <a:srgbClr val="c0c0c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95" name=""/>
                    <p:cNvSpPr/>
                    <p:nvPr/>
                  </p:nvSpPr>
                  <p:spPr>
                    <a:xfrm>
                      <a:off x="8335800" y="5513400"/>
                      <a:ext cx="43200" cy="43200"/>
                    </a:xfrm>
                    <a:custGeom>
                      <a:avLst/>
                      <a:gdLst/>
                      <a:ahLst/>
                      <a:rect l="0" t="0" r="r" b="b"/>
                      <a:pathLst>
                        <a:path w="120" h="120">
                          <a:moveTo>
                            <a:pt x="48" y="30"/>
                          </a:moveTo>
                          <a:lnTo>
                            <a:pt x="35" y="6"/>
                          </a:lnTo>
                          <a:lnTo>
                            <a:pt x="13" y="0"/>
                          </a:lnTo>
                          <a:lnTo>
                            <a:pt x="0" y="3"/>
                          </a:lnTo>
                          <a:lnTo>
                            <a:pt x="0" y="17"/>
                          </a:lnTo>
                          <a:lnTo>
                            <a:pt x="4" y="37"/>
                          </a:lnTo>
                          <a:lnTo>
                            <a:pt x="26" y="65"/>
                          </a:lnTo>
                          <a:lnTo>
                            <a:pt x="48" y="79"/>
                          </a:lnTo>
                          <a:lnTo>
                            <a:pt x="75" y="103"/>
                          </a:lnTo>
                          <a:lnTo>
                            <a:pt x="120" y="120"/>
                          </a:lnTo>
                          <a:lnTo>
                            <a:pt x="80" y="82"/>
                          </a:lnTo>
                          <a:lnTo>
                            <a:pt x="67" y="57"/>
                          </a:lnTo>
                          <a:lnTo>
                            <a:pt x="48" y="30"/>
                          </a:lnTo>
                          <a:close/>
                        </a:path>
                      </a:pathLst>
                    </a:custGeom>
                    <a:solidFill>
                      <a:srgbClr val="c0c0c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796" name=""/>
                    <p:cNvSpPr/>
                    <p:nvPr/>
                  </p:nvSpPr>
                  <p:spPr>
                    <a:xfrm>
                      <a:off x="8423280" y="5245200"/>
                      <a:ext cx="119520" cy="54360"/>
                    </a:xfrm>
                    <a:custGeom>
                      <a:avLst/>
                      <a:gdLst/>
                      <a:ahLst/>
                      <a:rect l="0" t="0" r="r" b="b"/>
                      <a:pathLst>
                        <a:path w="332" h="151">
                          <a:moveTo>
                            <a:pt x="0" y="151"/>
                          </a:moveTo>
                          <a:lnTo>
                            <a:pt x="13" y="89"/>
                          </a:lnTo>
                          <a:lnTo>
                            <a:pt x="79" y="69"/>
                          </a:lnTo>
                          <a:lnTo>
                            <a:pt x="172" y="41"/>
                          </a:lnTo>
                          <a:lnTo>
                            <a:pt x="239" y="20"/>
                          </a:lnTo>
                          <a:lnTo>
                            <a:pt x="306" y="0"/>
                          </a:lnTo>
                          <a:lnTo>
                            <a:pt x="332" y="45"/>
                          </a:lnTo>
                          <a:lnTo>
                            <a:pt x="266" y="69"/>
                          </a:lnTo>
                          <a:lnTo>
                            <a:pt x="195" y="86"/>
                          </a:lnTo>
                          <a:lnTo>
                            <a:pt x="142" y="99"/>
                          </a:lnTo>
                          <a:lnTo>
                            <a:pt x="74" y="124"/>
                          </a:lnTo>
                          <a:lnTo>
                            <a:pt x="0" y="151"/>
                          </a:lnTo>
                          <a:close/>
                        </a:path>
                      </a:pathLst>
                    </a:custGeom>
                    <a:solidFill>
                      <a:srgbClr val="e0e0e0"/>
                    </a:solidFill>
                    <a:ln w="0">
                      <a:noFill/>
                    </a:ln>
                  </p:spPr>
                  <p:txBody>
                    <a:bodyPr lIns="90000" rIns="90000" tIns="9360" bIns="9360" anchor="t">
                      <a:noAutofit/>
                    </a:bodyPr>
                    <a:p>
                      <a:endParaRPr b="0" lang="en-US" sz="1800" spc="-1" strike="noStrike">
                        <a:solidFill>
                          <a:srgbClr val="000000"/>
                        </a:solidFill>
                        <a:latin typeface="Arial"/>
                      </a:endParaRPr>
                    </a:p>
                  </p:txBody>
                </p:sp>
              </p:grpSp>
            </p:grpSp>
            <p:grpSp>
              <p:nvGrpSpPr>
                <p:cNvPr id="797" name=""/>
                <p:cNvGrpSpPr/>
                <p:nvPr/>
              </p:nvGrpSpPr>
              <p:grpSpPr>
                <a:xfrm>
                  <a:off x="8429760" y="5530680"/>
                  <a:ext cx="267120" cy="276480"/>
                  <a:chOff x="8429760" y="5530680"/>
                  <a:chExt cx="267120" cy="276480"/>
                </a:xfrm>
              </p:grpSpPr>
              <p:sp>
                <p:nvSpPr>
                  <p:cNvPr id="798" name=""/>
                  <p:cNvSpPr/>
                  <p:nvPr/>
                </p:nvSpPr>
                <p:spPr>
                  <a:xfrm>
                    <a:off x="8429760" y="5530680"/>
                    <a:ext cx="267120" cy="276480"/>
                  </a:xfrm>
                  <a:custGeom>
                    <a:avLst/>
                    <a:gdLst/>
                    <a:ahLst/>
                    <a:rect l="0" t="0" r="r" b="b"/>
                    <a:pathLst>
                      <a:path w="742" h="768">
                        <a:moveTo>
                          <a:pt x="331" y="114"/>
                        </a:moveTo>
                        <a:lnTo>
                          <a:pt x="468" y="104"/>
                        </a:lnTo>
                        <a:lnTo>
                          <a:pt x="547" y="87"/>
                        </a:lnTo>
                        <a:lnTo>
                          <a:pt x="575" y="60"/>
                        </a:lnTo>
                        <a:lnTo>
                          <a:pt x="575" y="33"/>
                        </a:lnTo>
                        <a:lnTo>
                          <a:pt x="597" y="13"/>
                        </a:lnTo>
                        <a:lnTo>
                          <a:pt x="672" y="0"/>
                        </a:lnTo>
                        <a:lnTo>
                          <a:pt x="742" y="6"/>
                        </a:lnTo>
                        <a:lnTo>
                          <a:pt x="654" y="595"/>
                        </a:lnTo>
                        <a:lnTo>
                          <a:pt x="597" y="649"/>
                        </a:lnTo>
                        <a:lnTo>
                          <a:pt x="521" y="704"/>
                        </a:lnTo>
                        <a:lnTo>
                          <a:pt x="415" y="744"/>
                        </a:lnTo>
                        <a:lnTo>
                          <a:pt x="287" y="758"/>
                        </a:lnTo>
                        <a:lnTo>
                          <a:pt x="119" y="768"/>
                        </a:lnTo>
                        <a:lnTo>
                          <a:pt x="22" y="754"/>
                        </a:lnTo>
                        <a:lnTo>
                          <a:pt x="0" y="714"/>
                        </a:lnTo>
                        <a:lnTo>
                          <a:pt x="13" y="660"/>
                        </a:lnTo>
                        <a:lnTo>
                          <a:pt x="79" y="494"/>
                        </a:lnTo>
                        <a:lnTo>
                          <a:pt x="141" y="327"/>
                        </a:lnTo>
                        <a:lnTo>
                          <a:pt x="167" y="202"/>
                        </a:lnTo>
                        <a:lnTo>
                          <a:pt x="167" y="169"/>
                        </a:lnTo>
                        <a:lnTo>
                          <a:pt x="203" y="125"/>
                        </a:lnTo>
                        <a:lnTo>
                          <a:pt x="252" y="114"/>
                        </a:lnTo>
                        <a:lnTo>
                          <a:pt x="331" y="114"/>
                        </a:lnTo>
                        <a:close/>
                      </a:path>
                    </a:pathLst>
                  </a:custGeom>
                  <a:solidFill>
                    <a:srgbClr val="404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8464680" y="5545080"/>
                    <a:ext cx="217800" cy="244800"/>
                  </a:xfrm>
                  <a:custGeom>
                    <a:avLst/>
                    <a:gdLst/>
                    <a:ahLst/>
                    <a:rect l="0" t="0" r="r" b="b"/>
                    <a:pathLst>
                      <a:path w="605" h="680">
                        <a:moveTo>
                          <a:pt x="202" y="135"/>
                        </a:moveTo>
                        <a:lnTo>
                          <a:pt x="322" y="131"/>
                        </a:lnTo>
                        <a:lnTo>
                          <a:pt x="437" y="114"/>
                        </a:lnTo>
                        <a:lnTo>
                          <a:pt x="508" y="87"/>
                        </a:lnTo>
                        <a:lnTo>
                          <a:pt x="552" y="64"/>
                        </a:lnTo>
                        <a:lnTo>
                          <a:pt x="605" y="0"/>
                        </a:lnTo>
                        <a:lnTo>
                          <a:pt x="525" y="524"/>
                        </a:lnTo>
                        <a:lnTo>
                          <a:pt x="477" y="571"/>
                        </a:lnTo>
                        <a:lnTo>
                          <a:pt x="415" y="615"/>
                        </a:lnTo>
                        <a:lnTo>
                          <a:pt x="344" y="646"/>
                        </a:lnTo>
                        <a:lnTo>
                          <a:pt x="282" y="663"/>
                        </a:lnTo>
                        <a:lnTo>
                          <a:pt x="202" y="669"/>
                        </a:lnTo>
                        <a:lnTo>
                          <a:pt x="136" y="680"/>
                        </a:lnTo>
                        <a:lnTo>
                          <a:pt x="52" y="680"/>
                        </a:lnTo>
                        <a:lnTo>
                          <a:pt x="17" y="669"/>
                        </a:lnTo>
                        <a:lnTo>
                          <a:pt x="0" y="646"/>
                        </a:lnTo>
                        <a:lnTo>
                          <a:pt x="8" y="609"/>
                        </a:lnTo>
                        <a:lnTo>
                          <a:pt x="57" y="517"/>
                        </a:lnTo>
                        <a:lnTo>
                          <a:pt x="145" y="206"/>
                        </a:lnTo>
                        <a:lnTo>
                          <a:pt x="163" y="158"/>
                        </a:lnTo>
                        <a:lnTo>
                          <a:pt x="202" y="135"/>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sp>
          <p:nvSpPr>
            <p:cNvPr id="800" name=""/>
            <p:cNvSpPr txBox="1"/>
            <p:nvPr/>
          </p:nvSpPr>
          <p:spPr>
            <a:xfrm>
              <a:off x="6748560" y="5545080"/>
              <a:ext cx="1251000" cy="51768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Arial"/>
                  <a:ea typeface="Arial"/>
                </a:rPr>
                <a:t>Web</a:t>
              </a:r>
              <a:br>
                <a:rPr sz="1400"/>
              </a:br>
              <a:r>
                <a:rPr b="1" lang="en-US" sz="1400" spc="-1" strike="noStrike">
                  <a:solidFill>
                    <a:srgbClr val="ffffff"/>
                  </a:solidFill>
                  <a:latin typeface="Arial"/>
                  <a:ea typeface="Arial"/>
                </a:rPr>
                <a:t>Applications</a:t>
              </a:r>
              <a:endParaRPr b="0" lang="en-US" sz="1400" spc="-1" strike="noStrike">
                <a:solidFill>
                  <a:srgbClr val="000000"/>
                </a:solidFill>
                <a:latin typeface="Arial"/>
              </a:endParaRPr>
            </a:p>
          </p:txBody>
        </p:sp>
      </p:grpSp>
      <p:grpSp>
        <p:nvGrpSpPr>
          <p:cNvPr id="801" name=""/>
          <p:cNvGrpSpPr/>
          <p:nvPr/>
        </p:nvGrpSpPr>
        <p:grpSpPr>
          <a:xfrm>
            <a:off x="4001400" y="4653000"/>
            <a:ext cx="1114920" cy="540360"/>
            <a:chOff x="4001400" y="4653000"/>
            <a:chExt cx="1114920" cy="540360"/>
          </a:xfrm>
        </p:grpSpPr>
        <p:sp>
          <p:nvSpPr>
            <p:cNvPr id="802" name=""/>
            <p:cNvSpPr/>
            <p:nvPr/>
          </p:nvSpPr>
          <p:spPr>
            <a:xfrm>
              <a:off x="4001400" y="4653000"/>
              <a:ext cx="1078200" cy="540360"/>
            </a:xfrm>
            <a:custGeom>
              <a:avLst/>
              <a:gdLst/>
              <a:ahLst/>
              <a:rect l="0" t="0" r="r" b="b"/>
              <a:pathLst>
                <a:path fill="none" w="2995" h="1501">
                  <a:moveTo>
                    <a:pt x="0" y="314"/>
                  </a:moveTo>
                  <a:lnTo>
                    <a:pt x="133" y="0"/>
                  </a:lnTo>
                  <a:lnTo>
                    <a:pt x="2183" y="870"/>
                  </a:lnTo>
                  <a:lnTo>
                    <a:pt x="2318" y="554"/>
                  </a:lnTo>
                  <a:lnTo>
                    <a:pt x="2995" y="1401"/>
                  </a:lnTo>
                  <a:lnTo>
                    <a:pt x="1915" y="1501"/>
                  </a:lnTo>
                  <a:lnTo>
                    <a:pt x="2049" y="1186"/>
                  </a:lnTo>
                  <a:lnTo>
                    <a:pt x="0" y="31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txBox="1"/>
            <p:nvPr/>
          </p:nvSpPr>
          <p:spPr>
            <a:xfrm>
              <a:off x="4309920" y="4862520"/>
              <a:ext cx="80640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DBLink</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4" name=""/>
          <p:cNvGrpSpPr/>
          <p:nvPr/>
        </p:nvGrpSpPr>
        <p:grpSpPr>
          <a:xfrm>
            <a:off x="5048280" y="2247840"/>
            <a:ext cx="4122720" cy="3116520"/>
            <a:chOff x="5048280" y="2247840"/>
            <a:chExt cx="4122720" cy="3116520"/>
          </a:xfrm>
        </p:grpSpPr>
        <p:grpSp>
          <p:nvGrpSpPr>
            <p:cNvPr id="805" name=""/>
            <p:cNvGrpSpPr/>
            <p:nvPr/>
          </p:nvGrpSpPr>
          <p:grpSpPr>
            <a:xfrm>
              <a:off x="7391520" y="2247840"/>
              <a:ext cx="1779480" cy="3116520"/>
              <a:chOff x="7391520" y="2247840"/>
              <a:chExt cx="1779480" cy="3116520"/>
            </a:xfrm>
          </p:grpSpPr>
          <p:sp>
            <p:nvSpPr>
              <p:cNvPr id="806" name=""/>
              <p:cNvSpPr/>
              <p:nvPr/>
            </p:nvSpPr>
            <p:spPr>
              <a:xfrm>
                <a:off x="7427880" y="4218120"/>
                <a:ext cx="1562040" cy="1146240"/>
              </a:xfrm>
              <a:prstGeom prst="roundRect">
                <a:avLst/>
              </a:prstGeom>
              <a:gradFill rotWithShape="0">
                <a:gsLst>
                  <a:gs pos="0">
                    <a:srgbClr val="ffffff"/>
                  </a:gs>
                  <a:gs pos="100000">
                    <a:srgbClr val="ad6900"/>
                  </a:gs>
                </a:gsLst>
                <a:lin ang="5400000"/>
              </a:gradFill>
              <a:ln w="12600">
                <a:solidFill>
                  <a:srgbClr val="2323dc"/>
                </a:solidFill>
                <a:round/>
              </a:ln>
            </p:spPr>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8055000" y="2922480"/>
                <a:ext cx="600120" cy="343080"/>
              </a:xfrm>
              <a:prstGeom prst="rect">
                <a:avLst/>
              </a:prstGeom>
              <a:solidFill>
                <a:srgbClr val="95a7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8" name=""/>
              <p:cNvSpPr txBox="1"/>
              <p:nvPr/>
            </p:nvSpPr>
            <p:spPr>
              <a:xfrm>
                <a:off x="7469280" y="4213080"/>
                <a:ext cx="1477800" cy="255600"/>
              </a:xfrm>
              <a:prstGeom prst="rect">
                <a:avLst/>
              </a:prstGeom>
              <a:noFill/>
              <a:ln w="0">
                <a:noFill/>
              </a:ln>
            </p:spPr>
            <p:txBody>
              <a:bodyPr lIns="0" rIns="0" tIns="0" bIns="0" anchor="t">
                <a:noAutofit/>
              </a:bodyPr>
              <a:p>
                <a:pPr algn="ctr">
                  <a:lnSpc>
                    <a:spcPct val="90000"/>
                  </a:lnSpc>
                  <a:spcBef>
                    <a:spcPts val="1199"/>
                  </a:spcBef>
                </a:pPr>
                <a:r>
                  <a:rPr b="1" lang="en-US" sz="1100" spc="-1" strike="noStrike">
                    <a:solidFill>
                      <a:srgbClr val="fafd00"/>
                    </a:solidFill>
                    <a:latin typeface="Arial"/>
                    <a:ea typeface="Arial"/>
                  </a:rPr>
                  <a:t>Node A Memory</a:t>
                </a:r>
                <a:endParaRPr b="0" lang="en-US" sz="1100" spc="-1" strike="noStrike">
                  <a:solidFill>
                    <a:srgbClr val="000000"/>
                  </a:solidFill>
                  <a:latin typeface="Arial"/>
                </a:endParaRPr>
              </a:p>
            </p:txBody>
          </p:sp>
          <p:sp>
            <p:nvSpPr>
              <p:cNvPr id="809" name=""/>
              <p:cNvSpPr/>
              <p:nvPr/>
            </p:nvSpPr>
            <p:spPr>
              <a:xfrm>
                <a:off x="7427880" y="2247840"/>
                <a:ext cx="1562040" cy="345960"/>
              </a:xfrm>
              <a:prstGeom prst="rect">
                <a:avLst/>
              </a:prstGeom>
              <a:gradFill rotWithShape="0">
                <a:gsLst>
                  <a:gs pos="0">
                    <a:srgbClr val="ffffff"/>
                  </a:gs>
                  <a:gs pos="100000">
                    <a:srgbClr val="3f8078"/>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0" name=""/>
              <p:cNvSpPr txBox="1"/>
              <p:nvPr/>
            </p:nvSpPr>
            <p:spPr>
              <a:xfrm>
                <a:off x="7758000" y="2279520"/>
                <a:ext cx="888840" cy="366840"/>
              </a:xfrm>
              <a:prstGeom prst="rect">
                <a:avLst/>
              </a:prstGeom>
              <a:noFill/>
              <a:ln w="0">
                <a:noFill/>
              </a:ln>
            </p:spPr>
            <p:txBody>
              <a:bodyPr lIns="0" rIns="0" tIns="0" bIns="0" anchor="t">
                <a:noAutofit/>
              </a:bodyPr>
              <a:p>
                <a:pPr>
                  <a:lnSpc>
                    <a:spcPct val="90000"/>
                  </a:lnSpc>
                  <a:spcBef>
                    <a:spcPts val="1199"/>
                  </a:spcBef>
                </a:pPr>
                <a:r>
                  <a:rPr b="1" lang="en-US" sz="2000" spc="-1" strike="noStrike">
                    <a:solidFill>
                      <a:srgbClr val="ffffff"/>
                    </a:solidFill>
                    <a:latin typeface="Arial"/>
                    <a:ea typeface="Arial"/>
                  </a:rPr>
                  <a:t>Node A</a:t>
                </a:r>
                <a:endParaRPr b="0" lang="en-US" sz="2000" spc="-1" strike="noStrike">
                  <a:solidFill>
                    <a:srgbClr val="000000"/>
                  </a:solidFill>
                  <a:latin typeface="Arial"/>
                </a:endParaRPr>
              </a:p>
            </p:txBody>
          </p:sp>
          <p:sp>
            <p:nvSpPr>
              <p:cNvPr id="811" name=""/>
              <p:cNvSpPr txBox="1"/>
              <p:nvPr/>
            </p:nvSpPr>
            <p:spPr>
              <a:xfrm>
                <a:off x="7415280" y="2571840"/>
                <a:ext cx="1300320" cy="687240"/>
              </a:xfrm>
              <a:prstGeom prst="rect">
                <a:avLst/>
              </a:prstGeom>
              <a:solidFill>
                <a:srgbClr val="335b2a"/>
              </a:solidFill>
              <a:ln w="0">
                <a:noFill/>
              </a:ln>
              <a:effectLst>
                <a:outerShdw dist="0" dir="0" blurRad="0" rotWithShape="0">
                  <a:srgbClr val="ffffff"/>
                </a:outerShdw>
              </a:effectLst>
            </p:spPr>
            <p:txBody>
              <a:bodyPr lIns="0" rIns="0" tIns="0" bIns="0" anchor="t">
                <a:noAutofit/>
              </a:bodyPr>
              <a:p>
                <a:pPr algn="ctr">
                  <a:lnSpc>
                    <a:spcPct val="130000"/>
                  </a:lnSpc>
                </a:pPr>
                <a:r>
                  <a:rPr b="1" lang="en-US" sz="1700" spc="-1" strike="noStrike">
                    <a:solidFill>
                      <a:srgbClr val="ffffff"/>
                    </a:solidFill>
                    <a:latin typeface="Arial"/>
                    <a:ea typeface="Arial"/>
                  </a:rPr>
                  <a:t>CPUs</a:t>
                </a:r>
                <a:endParaRPr b="0" lang="en-US" sz="1700" spc="-1" strike="noStrike">
                  <a:solidFill>
                    <a:srgbClr val="000000"/>
                  </a:solidFill>
                  <a:latin typeface="Arial"/>
                </a:endParaRPr>
              </a:p>
              <a:p>
                <a:pPr algn="ctr">
                  <a:lnSpc>
                    <a:spcPct val="130000"/>
                  </a:lnSpc>
                </a:pPr>
                <a:r>
                  <a:rPr b="1" lang="en-US" sz="1700" spc="-1" strike="noStrike">
                    <a:solidFill>
                      <a:srgbClr val="ffffff"/>
                    </a:solidFill>
                    <a:latin typeface="Arial"/>
                    <a:ea typeface="Arial"/>
                  </a:rPr>
                  <a:t>0  1   2   3</a:t>
                </a:r>
                <a:endParaRPr b="0" lang="en-US" sz="1700" spc="-1" strike="noStrike">
                  <a:solidFill>
                    <a:srgbClr val="000000"/>
                  </a:solidFill>
                  <a:latin typeface="Arial"/>
                </a:endParaRPr>
              </a:p>
            </p:txBody>
          </p:sp>
          <p:sp>
            <p:nvSpPr>
              <p:cNvPr id="812" name=""/>
              <p:cNvSpPr/>
              <p:nvPr/>
            </p:nvSpPr>
            <p:spPr>
              <a:xfrm>
                <a:off x="8744040" y="2571840"/>
                <a:ext cx="241200" cy="687240"/>
              </a:xfrm>
              <a:prstGeom prst="rect">
                <a:avLst/>
              </a:prstGeom>
              <a:gradFill rotWithShape="0">
                <a:gsLst>
                  <a:gs pos="0">
                    <a:srgbClr val="896ad9"/>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3" name=""/>
              <p:cNvSpPr txBox="1"/>
              <p:nvPr/>
            </p:nvSpPr>
            <p:spPr>
              <a:xfrm>
                <a:off x="8659800" y="2685960"/>
                <a:ext cx="511200" cy="325440"/>
              </a:xfrm>
              <a:prstGeom prst="rect">
                <a:avLst/>
              </a:prstGeom>
              <a:noFill/>
              <a:ln w="0">
                <a:noFill/>
              </a:ln>
            </p:spPr>
            <p:txBody>
              <a:bodyPr lIns="0" rIns="0" tIns="0" bIns="0" anchor="t">
                <a:noAutofit/>
              </a:bodyPr>
              <a:p>
                <a:pPr>
                  <a:lnSpc>
                    <a:spcPct val="90000"/>
                  </a:lnSpc>
                  <a:spcBef>
                    <a:spcPts val="1199"/>
                  </a:spcBef>
                </a:pPr>
                <a:r>
                  <a:rPr b="0" lang="en-US" sz="1600" spc="-1" strike="noStrike">
                    <a:solidFill>
                      <a:srgbClr val="ffffff"/>
                    </a:solidFill>
                    <a:latin typeface="Arial Black"/>
                    <a:ea typeface="Arial Black"/>
                  </a:rPr>
                  <a:t>I/O</a:t>
                </a:r>
                <a:endParaRPr b="0" lang="en-US" sz="1600" spc="-1" strike="noStrike">
                  <a:solidFill>
                    <a:srgbClr val="000000"/>
                  </a:solidFill>
                  <a:latin typeface="Arial"/>
                </a:endParaRPr>
              </a:p>
            </p:txBody>
          </p:sp>
          <p:sp>
            <p:nvSpPr>
              <p:cNvPr id="814" name=""/>
              <p:cNvSpPr/>
              <p:nvPr/>
            </p:nvSpPr>
            <p:spPr>
              <a:xfrm>
                <a:off x="7989840" y="3305160"/>
                <a:ext cx="433800" cy="892440"/>
              </a:xfrm>
              <a:custGeom>
                <a:avLst/>
                <a:gdLst/>
                <a:ahLst/>
                <a:rect l="0" t="0" r="r" b="b"/>
                <a:pathLst>
                  <a:path w="1205" h="2479">
                    <a:moveTo>
                      <a:pt x="319" y="1837"/>
                    </a:moveTo>
                    <a:lnTo>
                      <a:pt x="0" y="1822"/>
                    </a:lnTo>
                    <a:lnTo>
                      <a:pt x="617" y="2479"/>
                    </a:lnTo>
                    <a:lnTo>
                      <a:pt x="1205" y="1822"/>
                    </a:lnTo>
                    <a:lnTo>
                      <a:pt x="912" y="1802"/>
                    </a:lnTo>
                    <a:lnTo>
                      <a:pt x="912" y="612"/>
                    </a:lnTo>
                    <a:lnTo>
                      <a:pt x="1205" y="632"/>
                    </a:lnTo>
                    <a:lnTo>
                      <a:pt x="617" y="0"/>
                    </a:lnTo>
                    <a:lnTo>
                      <a:pt x="34" y="612"/>
                    </a:lnTo>
                    <a:lnTo>
                      <a:pt x="329" y="612"/>
                    </a:lnTo>
                    <a:lnTo>
                      <a:pt x="319" y="1837"/>
                    </a:lnTo>
                    <a:close/>
                  </a:path>
                </a:pathLst>
              </a:custGeom>
              <a:gradFill rotWithShape="0">
                <a:gsLst>
                  <a:gs pos="0">
                    <a:srgbClr val="ffffff"/>
                  </a:gs>
                  <a:gs pos="50000">
                    <a:srgbClr val="ef9100"/>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5" name=""/>
              <p:cNvSpPr/>
              <p:nvPr/>
            </p:nvSpPr>
            <p:spPr>
              <a:xfrm>
                <a:off x="7480440" y="4737240"/>
                <a:ext cx="1457280" cy="461880"/>
              </a:xfrm>
              <a:prstGeom prst="rect">
                <a:avLst/>
              </a:prstGeom>
              <a:gradFill rotWithShape="0">
                <a:gsLst>
                  <a:gs pos="0">
                    <a:srgbClr val="1e0071"/>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6" name=""/>
              <p:cNvSpPr txBox="1"/>
              <p:nvPr/>
            </p:nvSpPr>
            <p:spPr>
              <a:xfrm>
                <a:off x="7391520" y="4789440"/>
                <a:ext cx="1641600" cy="255600"/>
              </a:xfrm>
              <a:prstGeom prst="rect">
                <a:avLst/>
              </a:prstGeom>
              <a:noFill/>
              <a:ln w="0">
                <a:noFill/>
              </a:ln>
            </p:spPr>
            <p:txBody>
              <a:bodyPr lIns="0" rIns="0" tIns="0" bIns="0" anchor="t">
                <a:noAutofit/>
              </a:bodyPr>
              <a:p>
                <a:pPr algn="ctr">
                  <a:lnSpc>
                    <a:spcPct val="90000"/>
                  </a:lnSpc>
                  <a:spcBef>
                    <a:spcPts val="1199"/>
                  </a:spcBef>
                </a:pPr>
                <a:r>
                  <a:rPr b="1" lang="en-US" sz="1100" spc="-1" strike="noStrike">
                    <a:solidFill>
                      <a:srgbClr val="fafd00"/>
                    </a:solidFill>
                    <a:latin typeface="Arial"/>
                    <a:ea typeface="Arial"/>
                  </a:rPr>
                  <a:t>Rdb Row Cache</a:t>
                </a:r>
                <a:endParaRPr b="0" lang="en-US" sz="1100" spc="-1" strike="noStrike">
                  <a:solidFill>
                    <a:srgbClr val="000000"/>
                  </a:solidFill>
                  <a:latin typeface="Arial"/>
                </a:endParaRPr>
              </a:p>
            </p:txBody>
          </p:sp>
        </p:grpSp>
        <p:grpSp>
          <p:nvGrpSpPr>
            <p:cNvPr id="817" name=""/>
            <p:cNvGrpSpPr/>
            <p:nvPr/>
          </p:nvGrpSpPr>
          <p:grpSpPr>
            <a:xfrm>
              <a:off x="5048280" y="3298680"/>
              <a:ext cx="1568520" cy="1438560"/>
              <a:chOff x="5048280" y="3298680"/>
              <a:chExt cx="1568520" cy="1438560"/>
            </a:xfrm>
          </p:grpSpPr>
          <p:sp>
            <p:nvSpPr>
              <p:cNvPr id="818" name=""/>
              <p:cNvSpPr/>
              <p:nvPr/>
            </p:nvSpPr>
            <p:spPr>
              <a:xfrm>
                <a:off x="5048280" y="3503520"/>
                <a:ext cx="1568520" cy="1028880"/>
              </a:xfrm>
              <a:prstGeom prst="rect">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5048280" y="4327560"/>
                <a:ext cx="1568520" cy="40968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5048280" y="3298680"/>
                <a:ext cx="1568520" cy="40968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21" name=""/>
            <p:cNvSpPr txBox="1"/>
            <p:nvPr/>
          </p:nvSpPr>
          <p:spPr>
            <a:xfrm>
              <a:off x="5530680" y="3355920"/>
              <a:ext cx="601560" cy="349200"/>
            </a:xfrm>
            <a:prstGeom prst="rect">
              <a:avLst/>
            </a:prstGeom>
            <a:noFill/>
            <a:ln w="0">
              <a:noFill/>
            </a:ln>
          </p:spPr>
          <p:txBody>
            <a:bodyPr lIns="0" rIns="0" tIns="0" bIns="0" anchor="t">
              <a:noAutofit/>
            </a:bodyPr>
            <a:p>
              <a:pPr algn="ctr">
                <a:lnSpc>
                  <a:spcPct val="100000"/>
                </a:lnSpc>
              </a:pPr>
              <a:r>
                <a:rPr b="1" lang="en-US" sz="1600" spc="-1" strike="noStrike">
                  <a:solidFill>
                    <a:srgbClr val="fc0128"/>
                  </a:solidFill>
                  <a:latin typeface="Arial"/>
                  <a:ea typeface="Arial"/>
                </a:rPr>
                <a:t>Rdb</a:t>
              </a:r>
              <a:endParaRPr b="0" lang="en-US" sz="1600" spc="-1" strike="noStrike">
                <a:solidFill>
                  <a:srgbClr val="000000"/>
                </a:solidFill>
                <a:latin typeface="Arial"/>
              </a:endParaRPr>
            </a:p>
          </p:txBody>
        </p:sp>
        <p:sp>
          <p:nvSpPr>
            <p:cNvPr id="822" name=""/>
            <p:cNvSpPr/>
            <p:nvPr/>
          </p:nvSpPr>
          <p:spPr>
            <a:xfrm>
              <a:off x="5834160" y="4025880"/>
              <a:ext cx="728640" cy="231840"/>
            </a:xfrm>
            <a:prstGeom prst="rect">
              <a:avLst/>
            </a:prstGeom>
            <a:gradFill rotWithShape="0">
              <a:gsLst>
                <a:gs pos="0">
                  <a:srgbClr val="1e0071"/>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6583320" y="4251240"/>
              <a:ext cx="879480" cy="495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24" name=""/>
          <p:cNvSpPr txBox="1"/>
          <p:nvPr/>
        </p:nvSpPr>
        <p:spPr>
          <a:xfrm>
            <a:off x="685800" y="533520"/>
            <a:ext cx="7467480" cy="588240"/>
          </a:xfrm>
          <a:prstGeom prst="rect">
            <a:avLst/>
          </a:prstGeom>
          <a:noFill/>
          <a:ln w="0">
            <a:noFill/>
          </a:ln>
        </p:spPr>
        <p:txBody>
          <a:bodyPr lIns="0" rIns="0" tIns="0" bIns="0" anchor="t">
            <a:noAutofit/>
          </a:bodyPr>
          <a:p>
            <a:pPr>
              <a:lnSpc>
                <a:spcPct val="85000"/>
              </a:lnSpc>
            </a:pPr>
            <a:r>
              <a:rPr b="1" lang="en-US" sz="4000" spc="-1" strike="noStrike">
                <a:solidFill>
                  <a:srgbClr val="ffffff"/>
                </a:solidFill>
                <a:latin typeface="Univers"/>
                <a:ea typeface="Univers"/>
              </a:rPr>
              <a:t>Row Cache</a:t>
            </a:r>
            <a:endParaRPr b="0" lang="en-US" sz="4000" spc="-1" strike="noStrike">
              <a:solidFill>
                <a:srgbClr val="000000"/>
              </a:solidFill>
              <a:latin typeface="Arial"/>
            </a:endParaRPr>
          </a:p>
        </p:txBody>
      </p:sp>
      <p:sp>
        <p:nvSpPr>
          <p:cNvPr id="825" name=""/>
          <p:cNvSpPr txBox="1"/>
          <p:nvPr/>
        </p:nvSpPr>
        <p:spPr>
          <a:xfrm>
            <a:off x="609480" y="1752480"/>
            <a:ext cx="4343400" cy="407664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45000"/>
              <a:buFont typeface="Wingdings"/>
              <a:buChar char=""/>
            </a:pPr>
            <a:r>
              <a:rPr b="0" lang="en-US" sz="2400" spc="-1" strike="noStrike">
                <a:solidFill>
                  <a:srgbClr val="ffffff"/>
                </a:solidFill>
                <a:latin typeface="Univers"/>
                <a:ea typeface="Univers"/>
              </a:rPr>
              <a:t>Dramatically improves read and write performance by servicing requests in memory</a:t>
            </a:r>
            <a:endParaRPr b="0" lang="en-US" sz="2400" spc="-1" strike="noStrike">
              <a:solidFill>
                <a:srgbClr val="000000"/>
              </a:solidFill>
              <a:latin typeface="Arial"/>
            </a:endParaRPr>
          </a:p>
          <a:p>
            <a:pPr marL="343080" indent="-343080">
              <a:lnSpc>
                <a:spcPct val="100000"/>
              </a:lnSpc>
              <a:spcBef>
                <a:spcPts val="479"/>
              </a:spcBef>
              <a:buClr>
                <a:srgbClr val="cc0000"/>
              </a:buClr>
              <a:buSzPct val="45000"/>
              <a:buFont typeface="Wingdings"/>
              <a:buChar char=""/>
            </a:pPr>
            <a:r>
              <a:rPr b="0" lang="en-US" sz="2400" spc="-1" strike="noStrike">
                <a:solidFill>
                  <a:srgbClr val="ffffff"/>
                </a:solidFill>
                <a:latin typeface="Univers"/>
                <a:ea typeface="Univers"/>
              </a:rPr>
              <a:t>Improves write performance by eliminating Page Lock confli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orm lastovica</dc:creator>
  <dc:description/>
  <dc:language>en-US</dc:language>
  <cp:lastModifiedBy>norm lastovica</cp:lastModifiedBy>
  <cp:revision>0</cp:revision>
  <dc:subject/>
  <dc:title>Oracle Rdb LogMiner</dc:title>
</cp:coreProperties>
</file>